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gif" ContentType="image/gif"/>
  <Override PartName="/ppt/media/image3.jpeg" ContentType="image/jpeg"/>
  <Override PartName="/ppt/media/image1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8775-DF04-49AE-9CD1-E3CC850E8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C9DD-47E7-4133-B901-BF3F7D25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B0E6-54A3-47DC-8BB8-F1496ADB6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21F8-4E17-4C4F-B9E3-65B406DB6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6EF2-F477-4157-AE16-D05FB645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B617-A2A0-47AF-B43D-E7FB1B37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7D8A-B1D9-48CC-8501-07DBD26A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D948-E414-426A-8A35-36AFB11F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072C-EE95-49ED-8828-FE26CCE2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12A0-8DBD-41E9-B9C9-5DD33875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F3FB-2443-4A59-A054-2134CCAD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7842-067D-46D9-A40E-9CC0B1E3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4D87-372B-48CB-8D9E-F6A6C67C4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268,13,&#24187;&#28783;&#29255; 13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269,13,&#21313;&#24180;&#26641;&#26408;  &#30334;&#24180;&#26641;&#20154;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{666D0D88-ADB4-4A21-BA06-638257A34245}0"/>
          <p:cNvPicPr/>
          <p:nvPr/>
        </p:nvPicPr>
        <p:blipFill>
          <a:blip r:embed="rId1"/>
          <a:srcRect l="0" t="0" r="0" b="9054"/>
          <a:stretch/>
        </p:blipFill>
        <p:spPr>
          <a:xfrm>
            <a:off x="-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3322080" y="1303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北师大版四年级语文上册第一单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82840" y="1557360"/>
            <a:ext cx="26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《师恩难忘》公开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864f17478b49f250e1f800d0ae3a9aa1"/>
          <p:cNvPicPr/>
          <p:nvPr/>
        </p:nvPicPr>
        <p:blipFill>
          <a:blip r:embed="rId2"/>
          <a:stretch/>
        </p:blipFill>
        <p:spPr>
          <a:xfrm>
            <a:off x="611280" y="765000"/>
            <a:ext cx="4211640" cy="2678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2008082111574032"/>
          <p:cNvPicPr/>
          <p:nvPr/>
        </p:nvPicPr>
        <p:blipFill>
          <a:blip r:embed="rId3"/>
          <a:stretch/>
        </p:blipFill>
        <p:spPr>
          <a:xfrm>
            <a:off x="1332000" y="3429000"/>
            <a:ext cx="2663640" cy="2664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8110b758cb83940c2934f075"/>
          <p:cNvPicPr/>
          <p:nvPr/>
        </p:nvPicPr>
        <p:blipFill>
          <a:blip r:embed="rId4"/>
          <a:stretch/>
        </p:blipFill>
        <p:spPr>
          <a:xfrm>
            <a:off x="4859280" y="1052640"/>
            <a:ext cx="374508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8110b758cb83940c2934f075"/>
          <p:cNvPicPr/>
          <p:nvPr/>
        </p:nvPicPr>
        <p:blipFill>
          <a:blip r:embed="rId1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5597640" y="622800"/>
            <a:ext cx="2557440" cy="54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ff33cc"/>
                </a:solidFill>
                <a:latin typeface="Arial"/>
              </a:rPr>
              <a:t>再见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8720" y="458136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6FFF-ACEE-4521-A2A9-C6C59107A5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12c93788af3d71910f2444f0"/>
          <p:cNvPicPr/>
          <p:nvPr/>
        </p:nvPicPr>
        <p:blipFill>
          <a:blip r:embed="rId1"/>
          <a:srcRect l="0" t="0" r="0" b="64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324000" y="2427480"/>
            <a:ext cx="5832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刘绍棠，中国当代著名作家。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岁开始就发表作品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岁成为中国作家协会最年轻的会员，被誉为中国文坛的“神童作家”。长篇小说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京门脸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获北京优秀长篇小说奖。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敬柳亭说书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获首届中国大众文学奖。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蒲柳人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获全国优秀中篇小说奖。多部中、短篇小说被译成英、法、德、俄、日、西班牙、泰国、孟加拉、阿尔巴尼亚文出版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Wa0314280C"/>
          <p:cNvPicPr/>
          <p:nvPr/>
        </p:nvPicPr>
        <p:blipFill>
          <a:blip r:embed="rId2"/>
          <a:stretch/>
        </p:blipFill>
        <p:spPr>
          <a:xfrm>
            <a:off x="6659640" y="765000"/>
            <a:ext cx="1946160" cy="171936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8"/>
          <p:cNvSpPr/>
          <p:nvPr/>
        </p:nvSpPr>
        <p:spPr>
          <a:xfrm>
            <a:off x="6877080" y="5877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8d354654f46895e6b745aefe"/>
          <p:cNvPicPr/>
          <p:nvPr/>
        </p:nvPicPr>
        <p:blipFill>
          <a:blip r:embed="rId1"/>
          <a:srcRect l="0" t="0" r="-81" b="3387"/>
          <a:stretch/>
        </p:blipFill>
        <p:spPr>
          <a:xfrm>
            <a:off x="0" y="0"/>
            <a:ext cx="9468000" cy="68547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十年树木  百年树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0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11280" y="2122200"/>
            <a:ext cx="8207280" cy="1800360"/>
          </a:xfrm>
          <a:prstGeom prst="rect">
            <a:avLst/>
          </a:prstGeom>
          <a:solidFill>
            <a:srgbClr val="bbe0e3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故 事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】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春秋时期政治家管仲任齐国丞相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40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多年，帮助齐桓公在经济、政治、军事等方面进行改革，使齐国成为“春秋五霸”之首。他的人才观是：“一年之计，莫如树谷；十年之计，莫如树木；终身之计，莫如树人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原 文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】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一年之计，莫如树谷；十年之计，莫如树木；终身之计，莫如树人。一树一获者，谷也；一树十获者，木也；一树百获者，人也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611280" y="5276520"/>
            <a:ext cx="8207280" cy="426960"/>
          </a:xfrm>
          <a:prstGeom prst="rect">
            <a:avLst/>
          </a:prstGeom>
          <a:solidFill>
            <a:srgbClr val="99cc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99"/>
                </a:solidFill>
                <a:latin typeface="黑体"/>
                <a:ea typeface="黑体"/>
              </a:rPr>
              <a:t>从小树到苍天大树，需要十年时间，而培养一个人才，则需要百年时间。比喻培养人才是长久之计，也比喻培养人才很不容易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7740720" y="63723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6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AAGCG48KA1I4JDI406"/>
          <p:cNvPicPr/>
          <p:nvPr/>
        </p:nvPicPr>
        <p:blipFill>
          <a:blip r:embed="rId1"/>
          <a:srcRect l="0" t="0" r="247" b="313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437480" y="-235080"/>
            <a:ext cx="341748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ff33cc"/>
                </a:solidFill>
                <a:uFillTx/>
                <a:latin typeface="Arial"/>
              </a:rPr>
              <a:t>过关测试</a:t>
            </a:r>
            <a:r>
              <a:rPr b="0" lang="zh-CN" sz="4800" spc="-1" strike="noStrike">
                <a:solidFill>
                  <a:srgbClr val="ff33cc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的作者是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师恩难忘是什么意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AAGCG48KA1I4JDI406"/>
          <p:cNvPicPr/>
          <p:nvPr/>
        </p:nvPicPr>
        <p:blipFill>
          <a:blip r:embed="rId1"/>
          <a:srcRect l="0" t="0" r="247" b="313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2043000" y="2975040"/>
            <a:ext cx="51184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（因为田老师给小时候的作者讲了上千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故事，在作者的心田播下了文学的种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所以作者永远忘不了这份恩情！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437480" y="-235080"/>
            <a:ext cx="341748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ff33cc"/>
                </a:solidFill>
                <a:uFillTx/>
                <a:latin typeface="Arial"/>
              </a:rPr>
              <a:t>过关测试</a:t>
            </a:r>
            <a:r>
              <a:rPr b="0" lang="zh-CN" sz="4800" spc="-1" strike="noStrike">
                <a:solidFill>
                  <a:srgbClr val="ff33cc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的作者是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师恩难忘是什么意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5672880" y="1073160"/>
            <a:ext cx="1095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刘绍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725501ebfc19bef6d439c9b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"/>
          <p:cNvSpPr/>
          <p:nvPr/>
        </p:nvSpPr>
        <p:spPr>
          <a:xfrm>
            <a:off x="0" y="177336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ff33cc"/>
                </a:solidFill>
                <a:uFillTx/>
                <a:latin typeface="Arial"/>
              </a:rPr>
              <a:t>过关测试</a:t>
            </a:r>
            <a:r>
              <a:rPr b="0" lang="zh-CN" sz="4800" spc="-1" strike="noStrike">
                <a:solidFill>
                  <a:srgbClr val="ff33cc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哪些词语说了田老师的故事讲得好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4511880" y="5229360"/>
            <a:ext cx="64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cc"/>
                </a:solidFill>
                <a:latin typeface="Arial"/>
              </a:rPr>
              <a:t>娓娓动听、身临其境、引人入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01d4fc9a394f6f90c8eaf41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2"/>
          <p:cNvSpPr/>
          <p:nvPr/>
        </p:nvSpPr>
        <p:spPr>
          <a:xfrm>
            <a:off x="2381400" y="1165320"/>
            <a:ext cx="4679280" cy="26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333399"/>
                </a:solidFill>
                <a:uFillTx/>
                <a:latin typeface="Arial"/>
              </a:rPr>
              <a:t>过关测试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宋体"/>
                <a:hlinkClick r:id="rId2"/>
              </a:rPr>
              <a:t>十年树木，百年树人”赞颂了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971640" y="3789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你还能说出赞颂老师的名言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324000" y="4724280"/>
            <a:ext cx="8496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黑体"/>
                <a:ea typeface="黑体"/>
              </a:rPr>
              <a:t>*</a:t>
            </a:r>
            <a:r>
              <a:rPr b="0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老师像蜡烛，燃烧了自己，照亮了别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*</a:t>
            </a:r>
            <a:r>
              <a:rPr b="0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春蚕到死丝方尽，蜡炬成灰泪始干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图片习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"/>
          <p:cNvSpPr/>
          <p:nvPr/>
        </p:nvSpPr>
        <p:spPr>
          <a:xfrm>
            <a:off x="0" y="1052640"/>
            <a:ext cx="9144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ff3300"/>
                </a:solidFill>
                <a:uFillTx/>
                <a:latin typeface="宋体"/>
              </a:rPr>
              <a:t>过关测试</a:t>
            </a:r>
            <a:r>
              <a:rPr b="0" lang="zh-CN" sz="4800" spc="-1" strike="noStrike">
                <a:solidFill>
                  <a:srgbClr val="ff3300"/>
                </a:solidFill>
                <a:latin typeface="宋体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6.“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谈起往事，我深深感念他在我那幼小的心田上，播下文学的种子。”谈谈你对这句话的理解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{666D0D88-ADB4-4A21-BA06-638257A34245}0"/>
          <p:cNvPicPr/>
          <p:nvPr/>
        </p:nvPicPr>
        <p:blipFill>
          <a:blip r:embed="rId1"/>
          <a:srcRect l="0" t="0" r="0" b="905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"/>
          <p:cNvSpPr/>
          <p:nvPr/>
        </p:nvSpPr>
        <p:spPr>
          <a:xfrm>
            <a:off x="3780000" y="98100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田老师上课时讲的上千个生动的故事，在作者的心田上播下了文学的种子，促进作者成了作家，所以作者永远忘不了老师的恩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1380600" y="157320"/>
            <a:ext cx="35636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3300"/>
                </a:solidFill>
                <a:uFillTx/>
                <a:latin typeface="Arial"/>
              </a:rPr>
              <a:t>过关测试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括中心思想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图片7"/>
          <p:cNvPicPr/>
          <p:nvPr/>
        </p:nvPicPr>
        <p:blipFill>
          <a:blip r:embed="rId1"/>
          <a:stretch/>
        </p:blipFill>
        <p:spPr>
          <a:xfrm>
            <a:off x="6443640" y="620640"/>
            <a:ext cx="2165400" cy="23767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971640" y="3141720"/>
            <a:ext cx="66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ff33cc"/>
                </a:solidFill>
                <a:latin typeface="Arial"/>
              </a:rPr>
              <a:t>通过作者回忆童年时田老师上课时讲故事的情景，抒发了作者深深的感激和怀念之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8"/>
          <p:cNvSpPr/>
          <p:nvPr/>
        </p:nvSpPr>
        <p:spPr>
          <a:xfrm>
            <a:off x="2916360" y="1773360"/>
            <a:ext cx="5616360" cy="2663640"/>
          </a:xfrm>
          <a:prstGeom prst="cloudCallout">
            <a:avLst>
              <a:gd name="adj1" fmla="val -63791"/>
              <a:gd name="adj2" fmla="val 143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916000" y="2133720"/>
            <a:ext cx="59036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学了这篇课文，你有什么想对你的老师说的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图片5"/>
          <p:cNvPicPr/>
          <p:nvPr/>
        </p:nvPicPr>
        <p:blipFill>
          <a:blip r:embed="rId1"/>
          <a:stretch/>
        </p:blipFill>
        <p:spPr>
          <a:xfrm>
            <a:off x="395280" y="333360"/>
            <a:ext cx="1474920" cy="1246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复件 小女孩"/>
          <p:cNvPicPr/>
          <p:nvPr/>
        </p:nvPicPr>
        <p:blipFill>
          <a:blip r:embed="rId2"/>
          <a:stretch/>
        </p:blipFill>
        <p:spPr>
          <a:xfrm>
            <a:off x="539640" y="2133720"/>
            <a:ext cx="2571840" cy="4287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图片4"/>
          <p:cNvPicPr/>
          <p:nvPr/>
        </p:nvPicPr>
        <p:blipFill>
          <a:blip r:embed="rId3"/>
          <a:stretch/>
        </p:blipFill>
        <p:spPr>
          <a:xfrm>
            <a:off x="3132000" y="404640"/>
            <a:ext cx="3527640" cy="8780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03-01-01T05:25:5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2:08:08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