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1.png" ContentType="image/png"/>
  <Override PartName="/ppt/media/image10.png" ContentType="image/png"/>
  <Override PartName="/ppt/media/image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075-2031-475B-A38E-FC0D809C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86E-D3E5-407B-9032-53CCD90B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C9D-E618-4991-88C9-46523B4B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80E-F0C6-41D0-B8B7-10968900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566-1246-4DF9-9C0B-D957574E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E5E-D5C7-48D6-8955-26EDB666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D92-D1E4-43B5-A380-F8A89789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562-C1C6-41C4-9263-9A55D3E6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14B-4012-4406-A14F-069FB8F6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593-1AD9-450B-8276-5C1B8F7D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BB4-97BA-4B66-948E-586A5A5D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707-676A-46B8-A1BA-FB1AA59E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E11F-F597-425D-8A1D-82768A1E9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10"/>
          <p:cNvGraphicFramePr/>
          <p:nvPr/>
        </p:nvGraphicFramePr>
        <p:xfrm>
          <a:off x="611280" y="2233440"/>
          <a:ext cx="7734240" cy="3932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33440"/>
                    <a:ext cx="773424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81880" y="765000"/>
            <a:ext cx="29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《三个儿子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chinaps_net_06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0948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5800" y="190512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14400" y="16002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另一个孩子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跑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到妈妈跟前，接过妈妈手里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沉甸甸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的水桶，提着走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chinaps_net_03"/>
          <p:cNvPicPr/>
          <p:nvPr/>
        </p:nvPicPr>
        <p:blipFill>
          <a:blip r:embed="rId1"/>
          <a:stretch/>
        </p:blipFill>
        <p:spPr>
          <a:xfrm>
            <a:off x="0" y="0"/>
            <a:ext cx="924876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1447560" cy="2590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838080" y="685800"/>
            <a:ext cx="861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个儿子？”老爷爷说，“不对吧，我可只看见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个儿子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5943600" y="3124080"/>
            <a:ext cx="19051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方正舒体"/>
              </a:rPr>
              <a:t>？</a:t>
            </a:r>
            <a:endParaRPr b="1" lang="en-US" sz="8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</p:spTree>
  </p:cSld>
  <p:transition spd="med">
    <p:pull dir="r"/>
    <p:sndAc>
      <p:stSnd>
        <p:snd r:embed="rId3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chinaps_net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5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10666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4"/>
          <p:cNvSpPr/>
          <p:nvPr/>
        </p:nvSpPr>
        <p:spPr>
          <a:xfrm>
            <a:off x="6516720" y="3573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942640" y="14526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对于老爷爷来说只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1692360" y="3284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780000" y="2637000"/>
            <a:ext cx="448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的儿子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才是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2754000" y="371628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正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的儿子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1908000" y="24922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孝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chinaps_net_16"/>
          <p:cNvPicPr/>
          <p:nvPr/>
        </p:nvPicPr>
        <p:blipFill>
          <a:blip r:embed="rId1"/>
          <a:stretch/>
        </p:blipFill>
        <p:spPr>
          <a:xfrm>
            <a:off x="0" y="0"/>
            <a:ext cx="9448920" cy="69454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914400" y="76212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cap="rnd" w="9360">
                  <a:solidFill>
                    <a:srgbClr val="00cc99"/>
                  </a:solidFill>
                  <a:custDash>
                    <a:ds d="100000" sp="1000"/>
                  </a:custDash>
                  <a:miter/>
                </a:ln>
                <a:solidFill>
                  <a:srgbClr val="3333cc"/>
                </a:solidFill>
                <a:latin typeface="华文彩云"/>
              </a:rPr>
              <a:t>练一练：</a:t>
            </a:r>
            <a:endParaRPr b="0" lang="en-US" sz="4800" spc="-1" strike="noStrike">
              <a:ln cap="rnd" w="9360">
                <a:solidFill>
                  <a:srgbClr val="00cc99"/>
                </a:solidFill>
                <a:custDash>
                  <a:ds d="100000" sp="1000"/>
                </a:custDash>
                <a:miter/>
              </a:ln>
              <a:solidFill>
                <a:srgbClr val="3333cc"/>
              </a:solidFill>
              <a:latin typeface="华文彩云"/>
              <a:ea typeface="华文彩云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14400" y="17938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朋友们面对妈妈手中沉甸甸的水桶  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力气大的孩子只顾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嗓音好的孩子只顾着 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只有那个“没什么特别地方”的儿子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跑到妈妈跟前                 妈妈手里沉甸甸的水桶，提着走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6804000" y="285264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987640" y="44370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5508720" y="342900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804000" y="2276640"/>
            <a:ext cx="172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</a:rPr>
              <a:t>翻跟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96000" y="2852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</a:rPr>
              <a:t>唱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3059280" y="3933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</a:rPr>
              <a:t>接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chinaps_net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18"/>
          <p:cNvSpPr txBox="1"/>
          <p:nvPr/>
        </p:nvSpPr>
        <p:spPr>
          <a:xfrm>
            <a:off x="971640" y="692280"/>
            <a:ext cx="24145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说一说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095480" y="229716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想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3132000" y="299736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1403280" y="400536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969160" y="2289240"/>
            <a:ext cx="118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说：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7376040" y="333072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Fr6032"/>
          <p:cNvPicPr/>
          <p:nvPr/>
        </p:nvPicPr>
        <p:blipFill>
          <a:blip r:embed="rId1"/>
          <a:stretch/>
        </p:blipFill>
        <p:spPr>
          <a:xfrm>
            <a:off x="-216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02920" y="1143000"/>
            <a:ext cx="6481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学了这篇课文，我有很多想法，我要把它写进我的日记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倡议：从现在起，每天至少为长辈做一件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4800600" y="531504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快乐作业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1116000" y="112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chinaps_net_03"/>
          <p:cNvPicPr/>
          <p:nvPr/>
        </p:nvPicPr>
        <p:blipFill>
          <a:blip r:embed="rId1"/>
          <a:stretch/>
        </p:blipFill>
        <p:spPr>
          <a:xfrm>
            <a:off x="0" y="0"/>
            <a:ext cx="924876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3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1447560" cy="2590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838080" y="685800"/>
            <a:ext cx="861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个儿子？”老爷爷说，“不对吧，我可只看见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个儿子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5943600" y="3124080"/>
            <a:ext cx="19051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方正舒体"/>
              </a:rPr>
              <a:t>？</a:t>
            </a:r>
            <a:endParaRPr b="1" lang="en-US" sz="8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</p:spTree>
  </p:cSld>
  <p:transition spd="med">
    <p:pull dir="r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PM_009"/>
          <p:cNvPicPr/>
          <p:nvPr/>
        </p:nvPicPr>
        <p:blipFill>
          <a:blip r:embed="rId1"/>
          <a:stretch/>
        </p:blipFill>
        <p:spPr>
          <a:xfrm>
            <a:off x="-838080" y="0"/>
            <a:ext cx="11582280" cy="762012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4495680" y="685800"/>
            <a:ext cx="3200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2f005e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请你这样做</a:t>
            </a:r>
            <a:endParaRPr b="1" lang="en-US" sz="2400" spc="1" strike="noStrike">
              <a:ln w="126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2f005e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默读课文（不出声，不指读），用直线画出三位妈妈说自己儿子的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角色练读：注意三位妈妈说话时语气（语速、语调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样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454-B1D6-478D-9AEC-0891D31246D7}" type="slidenum">
              <a:t>4</a:t>
            </a:fld>
          </a:p>
        </p:txBody>
      </p:sp>
    </p:spTree>
  </p:cSld>
  <p:transition spd="med">
    <p:pull dir="r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090318"/>
          <p:cNvPicPr/>
          <p:nvPr/>
        </p:nvPicPr>
        <p:blipFill>
          <a:blip r:embed="rId1"/>
          <a:stretch/>
        </p:blipFill>
        <p:spPr>
          <a:xfrm>
            <a:off x="-380880" y="-1447920"/>
            <a:ext cx="11125080" cy="8610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286000" y="1143000"/>
            <a:ext cx="4267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66ff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66680" y="-387360"/>
            <a:ext cx="8077320" cy="54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我的儿子既聪明又有力气，谁也比不过他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“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我的儿子唱起歌来好听极了，谁都没有他那样的好嗓子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“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有什么可说的，他没         有什么特别的地方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0" y="-149400"/>
            <a:ext cx="9677520" cy="7121520"/>
            <a:chOff x="0" y="-149400"/>
            <a:chExt cx="9677520" cy="7121520"/>
          </a:xfrm>
        </p:grpSpPr>
        <p:pic>
          <p:nvPicPr>
            <p:cNvPr id="65" name="Picture 3" descr="chinaps_net_05"/>
            <p:cNvPicPr/>
            <p:nvPr/>
          </p:nvPicPr>
          <p:blipFill>
            <a:blip r:embed="rId1"/>
            <a:stretch/>
          </p:blipFill>
          <p:spPr>
            <a:xfrm>
              <a:off x="0" y="-149400"/>
              <a:ext cx="9144000" cy="712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685800" y="1143000"/>
              <a:ext cx="8991720" cy="42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5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桶水可重啦！水直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晃荡，三个妈妈走走停停，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5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胳膊都痛了，腰也酸了。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971640" y="3789360"/>
            <a:ext cx="949320" cy="203040"/>
            <a:chOff x="971640" y="3789360"/>
            <a:chExt cx="949320" cy="203040"/>
          </a:xfrm>
        </p:grpSpPr>
        <p:sp>
          <p:nvSpPr>
            <p:cNvPr id="68" name="AutoShape 6"/>
            <p:cNvSpPr/>
            <p:nvPr/>
          </p:nvSpPr>
          <p:spPr>
            <a:xfrm>
              <a:off x="971640" y="3789360"/>
              <a:ext cx="228600" cy="203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1692360" y="3789360"/>
              <a:ext cx="228600" cy="203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AutoShape 9"/>
          <p:cNvSpPr/>
          <p:nvPr/>
        </p:nvSpPr>
        <p:spPr>
          <a:xfrm>
            <a:off x="6588000" y="5373720"/>
            <a:ext cx="22860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5076720" y="1989000"/>
            <a:ext cx="22860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6"/>
          <p:cNvGrpSpPr/>
          <p:nvPr/>
        </p:nvGrpSpPr>
        <p:grpSpPr>
          <a:xfrm>
            <a:off x="6012000" y="3716280"/>
            <a:ext cx="2317680" cy="203040"/>
            <a:chOff x="6012000" y="3716280"/>
            <a:chExt cx="2317680" cy="203040"/>
          </a:xfrm>
        </p:grpSpPr>
        <p:sp>
          <p:nvSpPr>
            <p:cNvPr id="73" name="AutoShape 8"/>
            <p:cNvSpPr/>
            <p:nvPr/>
          </p:nvSpPr>
          <p:spPr>
            <a:xfrm>
              <a:off x="6012000" y="3716280"/>
              <a:ext cx="228600" cy="203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>
              <a:off x="6732720" y="3716280"/>
              <a:ext cx="228600" cy="203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13"/>
            <p:cNvSpPr/>
            <p:nvPr/>
          </p:nvSpPr>
          <p:spPr>
            <a:xfrm>
              <a:off x="7452000" y="3716280"/>
              <a:ext cx="228600" cy="203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14"/>
            <p:cNvSpPr/>
            <p:nvPr/>
          </p:nvSpPr>
          <p:spPr>
            <a:xfrm>
              <a:off x="8101080" y="3716280"/>
              <a:ext cx="228600" cy="2030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AutoShape 15"/>
          <p:cNvSpPr/>
          <p:nvPr/>
        </p:nvSpPr>
        <p:spPr>
          <a:xfrm>
            <a:off x="3132000" y="5373720"/>
            <a:ext cx="22860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838080" y="83808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315200" y="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99"/>
                </a:solidFill>
                <a:latin typeface="Times New Roman"/>
                <a:ea typeface="华文彩云"/>
              </a:rPr>
              <a:t>我会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80880" y="19810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ff"/>
                </a:solidFill>
                <a:latin typeface="Times New Roman"/>
              </a:rPr>
              <a:t>       </a:t>
            </a:r>
            <a:r>
              <a:rPr b="1" i="1" lang="zh-CN" sz="6000" spc="-1" strike="noStrike">
                <a:solidFill>
                  <a:srgbClr val="cc00ff"/>
                </a:solidFill>
                <a:latin typeface="Times New Roman"/>
              </a:rPr>
              <a:t>面对沉甸甸的水桶</a:t>
            </a:r>
            <a:r>
              <a:rPr b="1" i="1" lang="en-US" sz="6000" spc="-1" strike="noStrike">
                <a:solidFill>
                  <a:srgbClr val="cc00ff"/>
                </a:solidFill>
                <a:latin typeface="Times New Roman"/>
              </a:rPr>
              <a:t>,</a:t>
            </a:r>
            <a:r>
              <a:rPr b="1" i="1" lang="zh-CN" sz="6000" spc="-1" strike="noStrike">
                <a:solidFill>
                  <a:srgbClr val="cc00ff"/>
                </a:solidFill>
                <a:latin typeface="Times New Roman"/>
              </a:rPr>
              <a:t>三个孩子是怎么做的呢</a:t>
            </a:r>
            <a:r>
              <a:rPr b="1" i="1" lang="en-US" sz="6000" spc="-1" strike="noStrike">
                <a:solidFill>
                  <a:srgbClr val="cc00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N_178"/>
          <p:cNvPicPr/>
          <p:nvPr/>
        </p:nvPicPr>
        <p:blipFill>
          <a:blip r:embed="rId2"/>
          <a:stretch/>
        </p:blipFill>
        <p:spPr>
          <a:xfrm>
            <a:off x="1371600" y="762120"/>
            <a:ext cx="1324080" cy="1447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979640" y="4149720"/>
            <a:ext cx="53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找出相关的句子，画上～～～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3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chinaps_net_22"/>
          <p:cNvPicPr/>
          <p:nvPr/>
        </p:nvPicPr>
        <p:blipFill>
          <a:blip r:embed="rId1"/>
          <a:stretch/>
        </p:blipFill>
        <p:spPr>
          <a:xfrm>
            <a:off x="-533520" y="-15840"/>
            <a:ext cx="9677520" cy="6873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143000" y="7621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95280" y="22050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个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孩子唱着歌，歌声真好听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4000" y="62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个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孩子翻着跟头，像车轮在转，真好看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24000" y="37162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另一个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孩子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跑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到妈妈跟前，接过妈妈手里沉甸甸的水桶，提着走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chinaps_net_22"/>
          <p:cNvPicPr/>
          <p:nvPr/>
        </p:nvPicPr>
        <p:blipFill>
          <a:blip r:embed="rId1"/>
          <a:stretch/>
        </p:blipFill>
        <p:spPr>
          <a:xfrm>
            <a:off x="0" y="-15840"/>
            <a:ext cx="9677520" cy="6873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143000" y="7621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19320" y="22860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14400" y="9144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另一个孩子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跑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到妈妈跟前，接过妈妈手里沉甸甸的水桶，提着走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838080" y="358128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另一个孩子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走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到妈妈跟前，接过妈妈手里沉甸甸的水桶，提着走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8:57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58:31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