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3ED-A3D6-4EB8-A1D6-6C39D93E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833-F8A4-49BA-B28D-079E844C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5E6-EB65-4138-9D2D-EAA30F29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C44-6A57-44DB-ADAA-18BFECA3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BBFF-FA5B-4DCC-A575-5B111A81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6CF-29C1-4AD5-B053-B8EC206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5C01-2385-4E6E-B889-411427B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198E-8DC9-434B-AA72-7599FDD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C78B-D7AA-4082-9965-D268CD61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073-3472-4A44-852A-382D2A7C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C5B-F152-4715-8BC9-548E689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BC9-A7B3-40EA-A026-D5B9F107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22B-CC79-4AAE-BD3C-EC10177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9F6-781F-4F5D-87D9-982E2E5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352-6822-4455-9A54-7CC63DA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3DAA-F5C7-414A-A1A0-410F8354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0443-788A-4BCA-944F-795CE8A3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BF2-4406-40A3-A2D1-AF1E6042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62F-8B91-4570-939B-569E43AB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EBC-4F79-4B1F-8510-E719654D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EB6-BDD1-4F04-89E7-38C6158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F16-6C6B-4EE3-BC6F-9398DE1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1E7-B745-4954-8276-A236022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D97-3D3D-4401-B553-8E9742F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6F4D-27EB-4EBC-BC54-00B92976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B029-5F12-45DA-8FD9-440655DA4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70680" y="119700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生命教学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20051027112239966"/>
          <p:cNvPicPr/>
          <p:nvPr/>
        </p:nvPicPr>
        <p:blipFill>
          <a:blip r:embed="rId2"/>
          <a:stretch/>
        </p:blipFill>
        <p:spPr>
          <a:xfrm>
            <a:off x="0" y="0"/>
            <a:ext cx="9468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68000" y="1371600"/>
            <a:ext cx="669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这就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生命，单单属于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0051018195601909"/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576360" y="2349360"/>
            <a:ext cx="83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可以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好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使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也可以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白白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糟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20051018195601909"/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987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对自己负责，就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920" y="90360"/>
            <a:ext cx="60199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杏林子简介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43280" y="981000"/>
            <a:ext cx="612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杏林子，台湾作家，本名刘侠，十二岁患类风湿性关节炎，１７岁那年开始写作生涯。身怀残疾的杏林子写作时，弯着腰、弓着背，辛苦数倍于正常人。但她对写作一往情深，以非凡的意志力，用双手写下不少励志作品，鼓舞着许许多多的人们鼓足劲儿面对生活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她在作品中处处流露对人、对社会的关爱之情，讴歌天地间种种的美，抒发她对生命的欣赏与喜悦，以过人的毅力和爱心，在繁杂晦暗的社会中透出温暖的亮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xinglinzi"/>
          <p:cNvPicPr/>
          <p:nvPr/>
        </p:nvPicPr>
        <p:blipFill>
          <a:blip r:embed="rId3"/>
          <a:stretch/>
        </p:blipFill>
        <p:spPr>
          <a:xfrm>
            <a:off x="0" y="1771560"/>
            <a:ext cx="3160800" cy="4321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生命短暂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，我们却可以让有限的生命体现出无限的价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3w4246367xz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生命短暂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我们却可以让有限的生命体现出无限的价值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于是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我下定决心，一定要珍惜生命，决不让它白白流失，使自己活得更加光彩有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00000" y="27162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于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684360" y="2490120"/>
            <a:ext cx="7559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的生命是有限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可是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人民服务是无限的。我要把有限的生命投入到无限的为人民服务之中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84360" y="2459880"/>
            <a:ext cx="75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人生在世界是短暂的，对这短暂的人生，我们最好的报答就是工作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爱迪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303-D3C3-48D6-9AE8-6288729FD8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87640" y="333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8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骚扰    动弹    挣扎    欲望   震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2637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砖缝    听诊器     震撼     糟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0920" y="4005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短暂     有限     茁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68360" y="537372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屈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539640" y="105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人生的道路上，谁都会遇到困难和挫折，就看你能不能战胜它，战胜了，你就是英雄，你就是生活的强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1280" y="33577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即使跌倒一百次，也要一百零一次站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124000" y="5373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张海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20051018195643398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619280" y="2708280"/>
            <a:ext cx="6553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了这篇课文，我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感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2560" y="63817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754200" y="1557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趁它在停下的时候，我一伸手捉住了它。只要我的手指稍一用力，它就不能动弹了。但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挣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着，极力鼓动双翅，我感到一股生命的力量在我手中跃动，那样强烈！那样鲜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1476360" y="763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826920" y="292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飞蛾拼命地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挣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ēng)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想从作者手中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挣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g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546200" y="1341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夜晚，我在灯下写稿，一只飞蛾不停地在我头顶上飞来飞去，骚扰着我。 趁它在停下的时候，我一伸手捉住了它。只要我的手指稍一用力，它就不能动弹了。但它挣扎着，极力鼓动双翅，我感到一股生命的力量在我手中跃动，那样强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样鲜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飞蛾那种求生的欲望令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震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我忍不住放了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79280" y="170028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</a:rPr>
              <a:t>叙述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</a:rPr>
              <a:t>娓娓道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8000" y="342900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ff"/>
                </a:solidFill>
                <a:uFillTx/>
                <a:latin typeface="Arial"/>
              </a:rPr>
              <a:t>声音轻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ff"/>
                </a:solidFill>
                <a:uFillTx/>
                <a:latin typeface="Arial"/>
              </a:rPr>
              <a:t>读出脆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50920" y="522936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感情充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读出震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843280" y="549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学第二个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39640" y="1341360"/>
            <a:ext cx="8064720" cy="5112000"/>
          </a:xfrm>
          <a:prstGeom prst="horizont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547640" y="242100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默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843280" y="321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213080" y="414972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012000" y="501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朗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900000" y="2133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墙角的砖缝中掉进一粒香瓜子，过了几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竟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冒出一截小瓜苗。那小小的种子里，包含着多么强的生命力啊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使它可以冲破坚硬的外壳，在没有泥土的砖缝中，不屈向上，茁壮生长，即使它仅仅只活了几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20051018195643398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0060307195916484"/>
          <p:cNvPicPr/>
          <p:nvPr/>
        </p:nvPicPr>
        <p:blipFill>
          <a:blip r:embed="rId3"/>
          <a:srcRect l="2167" t="11838" r="4953" b="8282"/>
          <a:stretch/>
        </p:blipFill>
        <p:spPr>
          <a:xfrm>
            <a:off x="1116000" y="1197000"/>
            <a:ext cx="6192720" cy="388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042920" y="2924280"/>
            <a:ext cx="69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震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震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4:18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6:21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