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147-BB3F-4D9E-9DC1-A0FCEEFA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4E2-1E64-4172-9A88-9575C53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AD4-F053-4CD3-9701-52E1B29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7B6-2E10-4529-8D9A-45D2B38E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C70-3478-455F-AD2C-3FBB8416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5CC-9903-4810-9C9F-C3E25EED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6EB-D0CA-4A30-8497-AB2D3FD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5CE-A956-441C-A5BE-AA8F568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5D8-8623-4E83-83F4-92FFCCC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1D9-A836-4B74-8A33-59C7FAE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7DD-A728-40AA-88F1-62C488F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786-A680-4F2E-BF78-F2CFD5C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2326-6EE9-4F89-8C6B-C0569880B7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4AB-1296-444E-864D-F8248AB103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8560" y="1390680"/>
            <a:ext cx="19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商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46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49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52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9AE-7943-4D86-A18B-CC5C425D6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41200" y="2647800"/>
            <a:ext cx="866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    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（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www.1ppt.com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），成立于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2005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年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5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月，最早网站名为 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中国  是国内最早一批从事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模板下载服务的专业网站，经过多年的运营和发展，原网站技术架构和网站目录已经不能适应新的发展趋势，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2012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年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6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月进行改版，并更名为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，取消了网站内收费项目，目前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站内所有资源均为免费下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    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建设目的：是为广大中国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爱好者，提供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模板下载、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教程、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素材等，建设中国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爱好者的网上家园，立志成为最大最权威的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中文网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47:2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