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4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6AF-815E-4A40-8FE9-6F0BCF4B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3FA-9340-4B82-A0A9-2838626B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1AB-787C-4678-B885-5D955959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BBF-9404-493C-BC52-958BF1A3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99B-5475-4D17-A937-58DF750E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FE7-F410-4D61-9E7F-B073C819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C51-FC8D-4EF5-92C4-8108FA01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CD2-23F7-422C-989F-D0D3FCD5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1BC-CB31-4F98-8D18-3A682784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5E5-E97D-46B2-A927-84A0B24D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92F-902B-4548-AB34-F8ACDA92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D07-3AA3-469F-B9D5-8154D48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5AFD-93D6-4B05-AB70-06323D992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2130120"/>
            <a:ext cx="49528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包怡君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6880" y="1523880"/>
            <a:ext cx="28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数星星的孩子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580920" y="27432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爷爷还教孩子认识北极星、织女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发现了北斗星围绕着北极星在移动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14600" y="1904760"/>
            <a:ext cx="41911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从小张衡身上你学到了什么？在学习上和生活上要怎样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完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星星的孩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我知道了因为张衡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所以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6176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ff00"/>
                </a:solidFill>
                <a:latin typeface="Arial"/>
              </a:rPr>
              <a:t>课堂作业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你想向星星提问吗？请写下来在写话本上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CD9-609F-4F1A-9170-68054268AC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33920" y="12189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再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打一物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点点银花天上开，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白天不开晚上开，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要问银花有多少，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没人能够数出来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71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美丽的星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IF000"/>
          <p:cNvPicPr/>
          <p:nvPr/>
        </p:nvPicPr>
        <p:blipFill>
          <a:blip r:embed="rId2"/>
          <a:stretch/>
        </p:blipFill>
        <p:spPr>
          <a:xfrm>
            <a:off x="3886200" y="4572000"/>
            <a:ext cx="115236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64771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晚上，满天的星星像无数颗珍珠撒在碧玉盘里。  一个孩子跟爷爷坐在院子里，仰着头，一颗一颗数星星，一直数到几百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67652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722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3657600" y="23623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480" y="2895480"/>
            <a:ext cx="60199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2209320"/>
            <a:ext cx="617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最喜欢的句子读两遍。想一想为什么喜欢读这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）天空中有无数颗星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）满天的星星像无数珍珠撒在碧玉盘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爷爷说：“星星那么多，一闪一闪的，你能数得清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说：“能看见，就应当能数得清。我怕数重了，所以数得很慢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爷爷说：“我们的祖先把星星分成一组一组的，给它们起了名字。要是一组一组地数，就不容易数重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对话里，你看出张衡是个怎样的孩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0T06:37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53:1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