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A9F1-29AC-4D84-BE53-DD4DBECE8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598C-E0CF-480B-AA72-8E14D6C7D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5427-6F59-425E-ABA3-006E5B6A7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0428-421B-4E08-97EE-821565202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3056-94A3-427E-89A4-640603873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DB22-0C27-4360-A6E2-3DF528EDB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5B36-1769-4CBC-9AB0-EA741E73C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C14D-6AF0-4475-A159-1DE273003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3697-303C-4D28-AC08-54AC1B19A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C99E-035D-47CD-9A4E-D68983C17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49DD-2110-406A-BECF-6918C4D97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0226-978D-49C8-97D1-EEBC22860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291B8-FDF3-40FE-889B-F1369EB205C3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3F0A2-C0D0-4C05-BC40-1AAB5E6976B3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zhongguofeng/" TargetMode="External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2" descr=""/>
          <p:cNvPicPr/>
          <p:nvPr/>
        </p:nvPicPr>
        <p:blipFill>
          <a:blip r:embed="rId1"/>
          <a:stretch/>
        </p:blipFill>
        <p:spPr>
          <a:xfrm>
            <a:off x="0" y="-2556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42" name="矩形 6"/>
          <p:cNvSpPr/>
          <p:nvPr/>
        </p:nvSpPr>
        <p:spPr>
          <a:xfrm>
            <a:off x="2771640" y="9837720"/>
            <a:ext cx="4032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一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网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下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1ppt.com/sucai/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3" descr="E:\PPT背景\03.png"/>
          <p:cNvPicPr/>
          <p:nvPr/>
        </p:nvPicPr>
        <p:blipFill>
          <a:blip r:embed="rId2"/>
          <a:stretch/>
        </p:blipFill>
        <p:spPr>
          <a:xfrm>
            <a:off x="0" y="2328840"/>
            <a:ext cx="9144000" cy="365040"/>
          </a:xfrm>
          <a:prstGeom prst="rect">
            <a:avLst/>
          </a:prstGeom>
          <a:ln w="0">
            <a:noFill/>
          </a:ln>
        </p:spPr>
      </p:pic>
      <p:grpSp>
        <p:nvGrpSpPr>
          <p:cNvPr id="44" name="组合 18"/>
          <p:cNvGrpSpPr/>
          <p:nvPr/>
        </p:nvGrpSpPr>
        <p:grpSpPr>
          <a:xfrm>
            <a:off x="136800" y="1571760"/>
            <a:ext cx="8594640" cy="3762000"/>
            <a:chOff x="136800" y="1571760"/>
            <a:chExt cx="8594640" cy="3762000"/>
          </a:xfrm>
        </p:grpSpPr>
        <p:pic>
          <p:nvPicPr>
            <p:cNvPr id="45" name="Picture 5" descr="E:\PPT背景\05.png"/>
            <p:cNvPicPr/>
            <p:nvPr/>
          </p:nvPicPr>
          <p:blipFill>
            <a:blip r:embed="rId3"/>
            <a:stretch/>
          </p:blipFill>
          <p:spPr>
            <a:xfrm rot="1516800">
              <a:off x="684000" y="1910160"/>
              <a:ext cx="2274840" cy="307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icture 5" descr="E:\PPT背景\05.png"/>
            <p:cNvPicPr/>
            <p:nvPr/>
          </p:nvPicPr>
          <p:blipFill>
            <a:blip r:embed="rId4"/>
            <a:stretch/>
          </p:blipFill>
          <p:spPr>
            <a:xfrm rot="21018600">
              <a:off x="3379680" y="2089800"/>
              <a:ext cx="2274840" cy="307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Picture 5" descr="E:\PPT背景\05.png"/>
            <p:cNvPicPr/>
            <p:nvPr/>
          </p:nvPicPr>
          <p:blipFill>
            <a:blip r:embed="rId5"/>
            <a:stretch/>
          </p:blipFill>
          <p:spPr>
            <a:xfrm rot="841800">
              <a:off x="6117840" y="1898640"/>
              <a:ext cx="2274840" cy="307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TextBox 22"/>
          <p:cNvSpPr/>
          <p:nvPr/>
        </p:nvSpPr>
        <p:spPr>
          <a:xfrm rot="1137000">
            <a:off x="6429960" y="2962440"/>
            <a:ext cx="18147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您的内容打在这里或者通过复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23"/>
          <p:cNvSpPr/>
          <p:nvPr/>
        </p:nvSpPr>
        <p:spPr>
          <a:xfrm rot="1496400">
            <a:off x="953640" y="2940480"/>
            <a:ext cx="181440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您的内容打在这里或者通过复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24"/>
          <p:cNvSpPr/>
          <p:nvPr/>
        </p:nvSpPr>
        <p:spPr>
          <a:xfrm rot="21091200">
            <a:off x="3609360" y="3222720"/>
            <a:ext cx="181440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您的内容打在这里或者通过复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25"/>
          <p:cNvSpPr/>
          <p:nvPr/>
        </p:nvSpPr>
        <p:spPr>
          <a:xfrm rot="21091200">
            <a:off x="4094280" y="3889440"/>
            <a:ext cx="143820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您的内容打在这里或者通过复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26"/>
          <p:cNvSpPr/>
          <p:nvPr/>
        </p:nvSpPr>
        <p:spPr>
          <a:xfrm rot="1214400">
            <a:off x="6551640" y="3711600"/>
            <a:ext cx="143820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您的内容打在这里或者通过复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27"/>
          <p:cNvSpPr/>
          <p:nvPr/>
        </p:nvSpPr>
        <p:spPr>
          <a:xfrm rot="1496400">
            <a:off x="992880" y="3668040"/>
            <a:ext cx="14385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您的内容打在这里或者通过复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8000" y="6093000"/>
            <a:ext cx="202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-131760" y="0"/>
            <a:ext cx="4762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文本框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素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16000" y="3645000"/>
            <a:ext cx="76881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中国风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zhongguofen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4800-B7EC-4D6E-AF41-2ACDA4CD79E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05:37:0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4T08:36:22Z</dcterms:modified>
  <cp:revision>97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Presentation">
    <vt:lpwstr>锐普图表</vt:lpwstr>
  </property>
</Properties>
</file>