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5.png" ContentType="image/png"/>
  <Override PartName="/ppt/media/image54.png" ContentType="image/png"/>
  <Override PartName="/ppt/media/image53.png" ContentType="image/png"/>
  <Override PartName="/ppt/media/image56.jpeg" ContentType="image/jpeg"/>
  <Override PartName="/ppt/media/image52.png" ContentType="image/png"/>
  <Override PartName="/ppt/media/image51.png" ContentType="image/png"/>
  <Override PartName="/ppt/media/image50.png" ContentType="image/png"/>
  <Override PartName="/ppt/media/image48.jpeg" ContentType="image/jpe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9.jpeg" ContentType="image/jpe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23.png" ContentType="image/png"/>
  <Override PartName="/ppt/media/image60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4F4B-2A2C-4F05-B82C-31FE1388B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48EB-4709-450A-979E-29D853AA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4F10-0F8A-43B4-AB85-7EA42A4D9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626D-65B5-4A16-9B73-67F9886EA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E301-E942-4914-865B-44367337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2528-7742-4E24-BDE7-33064920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07CA-9F7E-4497-A25A-702D4C94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6021-B23A-45BC-89EA-A6FB476A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549C-6727-4994-B04D-E7C6C194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EA15-D83A-494E-9429-917FC108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2F1B-1A41-41F0-9E0D-828769E3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E6F7-802D-46E4-B688-764844F2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C696E1-E67C-4737-95F8-F29A058EC857}" type="datetime">
              <a:rPr b="0" lang="nb-NO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55F3F2-3098-4A87-A8AD-CD9954C160FF}" type="slidenum">
              <a:rPr b="0" lang="nb-N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image" Target="../media/image71.png"/><Relationship Id="rId6" Type="http://schemas.openxmlformats.org/officeDocument/2006/relationships/image" Target="../media/image69.png"/><Relationship Id="rId7" Type="http://schemas.openxmlformats.org/officeDocument/2006/relationships/image" Target="../media/image69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1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image" Target="../media/image33.png"/><Relationship Id="rId16" Type="http://schemas.openxmlformats.org/officeDocument/2006/relationships/image" Target="../media/image34.png"/><Relationship Id="rId17" Type="http://schemas.openxmlformats.org/officeDocument/2006/relationships/image" Target="../media/image35.png"/><Relationship Id="rId18" Type="http://schemas.openxmlformats.org/officeDocument/2006/relationships/image" Target="../media/image36.png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hyperlink" Target="http://www.eeppt.com/tubiao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jpeg"/><Relationship Id="rId5" Type="http://schemas.openxmlformats.org/officeDocument/2006/relationships/image" Target="../media/image57.png"/><Relationship Id="rId6" Type="http://schemas.openxmlformats.org/officeDocument/2006/relationships/image" Target="../media/image56.jpeg"/><Relationship Id="rId7" Type="http://schemas.openxmlformats.org/officeDocument/2006/relationships/image" Target="../media/image57.png"/><Relationship Id="rId8" Type="http://schemas.openxmlformats.org/officeDocument/2006/relationships/image" Target="../media/image56.jpeg"/><Relationship Id="rId9" Type="http://schemas.openxmlformats.org/officeDocument/2006/relationships/image" Target="../media/image58.png"/><Relationship Id="rId10" Type="http://schemas.openxmlformats.org/officeDocument/2006/relationships/image" Target="../media/image56.jpeg"/><Relationship Id="rId11" Type="http://schemas.openxmlformats.org/officeDocument/2006/relationships/image" Target="../media/image59.png"/><Relationship Id="rId12" Type="http://schemas.openxmlformats.org/officeDocument/2006/relationships/image" Target="../media/image56.jpeg"/><Relationship Id="rId13" Type="http://schemas.openxmlformats.org/officeDocument/2006/relationships/image" Target="../media/image60.png"/><Relationship Id="rId14" Type="http://schemas.openxmlformats.org/officeDocument/2006/relationships/image" Target="../media/image56.jpeg"/><Relationship Id="rId15" Type="http://schemas.openxmlformats.org/officeDocument/2006/relationships/image" Target="../media/image61.png"/><Relationship Id="rId16" Type="http://schemas.openxmlformats.org/officeDocument/2006/relationships/image" Target="../media/image56.jpeg"/><Relationship Id="rId17" Type="http://schemas.openxmlformats.org/officeDocument/2006/relationships/image" Target="../media/image62.png"/><Relationship Id="rId18" Type="http://schemas.openxmlformats.org/officeDocument/2006/relationships/image" Target="../media/image56.jpeg"/><Relationship Id="rId19" Type="http://schemas.openxmlformats.org/officeDocument/2006/relationships/image" Target="../media/image62.png"/><Relationship Id="rId20" Type="http://schemas.openxmlformats.org/officeDocument/2006/relationships/image" Target="../media/image56.jpeg"/><Relationship Id="rId21" Type="http://schemas.openxmlformats.org/officeDocument/2006/relationships/image" Target="../media/image63.png"/><Relationship Id="rId22" Type="http://schemas.openxmlformats.org/officeDocument/2006/relationships/image" Target="../media/image56.jpeg"/><Relationship Id="rId23" Type="http://schemas.openxmlformats.org/officeDocument/2006/relationships/image" Target="../media/image64.png"/><Relationship Id="rId24" Type="http://schemas.openxmlformats.org/officeDocument/2006/relationships/image" Target="../media/image56.jpeg"/><Relationship Id="rId25" Type="http://schemas.openxmlformats.org/officeDocument/2006/relationships/image" Target="../media/image56.jpeg"/><Relationship Id="rId26" Type="http://schemas.openxmlformats.org/officeDocument/2006/relationships/image" Target="../media/image65.png"/><Relationship Id="rId27" Type="http://schemas.openxmlformats.org/officeDocument/2006/relationships/image" Target="../media/image66.png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rc 16"/>
          <p:cNvSpPr/>
          <p:nvPr/>
        </p:nvSpPr>
        <p:spPr>
          <a:xfrm>
            <a:off x="-9156600" y="3009960"/>
            <a:ext cx="18300600" cy="7715160"/>
          </a:xfrm>
          <a:custGeom>
            <a:avLst/>
            <a:gdLst>
              <a:gd name="textAreaLeft" fmla="*/ 9147600 w 18300600"/>
              <a:gd name="textAreaRight" fmla="*/ 18300960 w 18300600"/>
              <a:gd name="textAreaTop" fmla="*/ 0 h 7715160"/>
              <a:gd name="textAreaBottom" fmla="*/ 3878640 h 7715160"/>
            </a:gdLst>
            <a:ahLst/>
            <a:rect l="textAreaLeft" t="textAreaTop" r="textAreaRight" b="textAreaBottom"/>
            <a:pathLst>
              <a:path stroke="0" w="18300700" h="7715250">
                <a:moveTo>
                  <a:pt x="9147715" y="0"/>
                </a:moveTo>
                <a:lnTo>
                  <a:pt x="9147715" y="0"/>
                </a:lnTo>
                <a:arcTo wR="9150350" hR="3857625" stAng="-5402348" swAng="5410301"/>
                <a:lnTo>
                  <a:pt x="9150350" y="3857625"/>
                </a:lnTo>
                <a:close/>
              </a:path>
              <a:path fill="none" w="18300700" h="7715250">
                <a:moveTo>
                  <a:pt x="9147715" y="0"/>
                </a:moveTo>
                <a:lnTo>
                  <a:pt x="9147715" y="0"/>
                </a:lnTo>
                <a:arcTo wR="9150350" hR="3857625" stAng="-5402348" swAng="5410301"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rc 17"/>
          <p:cNvSpPr/>
          <p:nvPr/>
        </p:nvSpPr>
        <p:spPr>
          <a:xfrm>
            <a:off x="-5448240" y="3187800"/>
            <a:ext cx="10896480" cy="7340400"/>
          </a:xfrm>
          <a:custGeom>
            <a:avLst/>
            <a:gdLst>
              <a:gd name="textAreaLeft" fmla="*/ 5449320 w 10896480"/>
              <a:gd name="textAreaRight" fmla="*/ 10896840 w 10896480"/>
              <a:gd name="textAreaTop" fmla="*/ 0 h 7340400"/>
              <a:gd name="textAreaBottom" fmla="*/ 3681360 h 7340400"/>
            </a:gdLst>
            <a:ahLst/>
            <a:rect l="textAreaLeft" t="textAreaTop" r="textAreaRight" b="textAreaBottom"/>
            <a:pathLst>
              <a:path stroke="0" w="10896600" h="7340600">
                <a:moveTo>
                  <a:pt x="5449449" y="0"/>
                </a:moveTo>
                <a:lnTo>
                  <a:pt x="5449449" y="0"/>
                </a:lnTo>
                <a:arcTo wR="5448300" hR="3670300" stAng="-5398924" swAng="5406057"/>
                <a:lnTo>
                  <a:pt x="5448300" y="3670300"/>
                </a:lnTo>
                <a:close/>
              </a:path>
              <a:path fill="none" w="10896600" h="7340600">
                <a:moveTo>
                  <a:pt x="5449449" y="0"/>
                </a:moveTo>
                <a:lnTo>
                  <a:pt x="5449449" y="0"/>
                </a:lnTo>
                <a:arcTo wR="5448300" hR="3670300" stAng="-5398924" swAng="5406057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4"/>
          <p:cNvSpPr/>
          <p:nvPr/>
        </p:nvSpPr>
        <p:spPr>
          <a:xfrm>
            <a:off x="457200" y="822240"/>
            <a:ext cx="7581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500" spc="-1" strike="noStrike">
                <a:solidFill>
                  <a:srgbClr val="262626"/>
                </a:solidFill>
                <a:latin typeface="Calibri"/>
              </a:rPr>
              <a:t>外国精美</a:t>
            </a:r>
            <a:r>
              <a:rPr b="1" lang="nb-NO" sz="4500" spc="-1" strike="noStrike">
                <a:solidFill>
                  <a:srgbClr val="262626"/>
                </a:solidFill>
                <a:latin typeface="Calibri"/>
              </a:rPr>
              <a:t>21</a:t>
            </a:r>
            <a:r>
              <a:rPr b="1" lang="nb-NO" sz="4500" spc="-1" strike="noStrike">
                <a:solidFill>
                  <a:srgbClr val="262626"/>
                </a:solidFill>
                <a:latin typeface="Calibri"/>
              </a:rPr>
              <a:t>张</a:t>
            </a:r>
            <a:r>
              <a:rPr b="1" lang="nb-NO" sz="4500" spc="-1" strike="noStrike">
                <a:solidFill>
                  <a:srgbClr val="262626"/>
                </a:solidFill>
                <a:latin typeface="Calibri"/>
              </a:rPr>
              <a:t>PPT</a:t>
            </a:r>
            <a:r>
              <a:rPr b="1" lang="nb-NO" sz="4500" spc="-1" strike="noStrike">
                <a:solidFill>
                  <a:srgbClr val="262626"/>
                </a:solidFill>
                <a:latin typeface="Calibri"/>
              </a:rPr>
              <a:t>图表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9" descr="Flowchart-Visual-l.jpg"/>
          <p:cNvPicPr/>
          <p:nvPr/>
        </p:nvPicPr>
        <p:blipFill>
          <a:blip r:embed="rId1"/>
          <a:stretch/>
        </p:blipFill>
        <p:spPr>
          <a:xfrm>
            <a:off x="2127240" y="2419200"/>
            <a:ext cx="1152360" cy="1714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0" descr="SWOT-l.jpg"/>
          <p:cNvPicPr/>
          <p:nvPr/>
        </p:nvPicPr>
        <p:blipFill>
          <a:blip r:embed="rId2"/>
          <a:stretch/>
        </p:blipFill>
        <p:spPr>
          <a:xfrm>
            <a:off x="2335320" y="2475000"/>
            <a:ext cx="1182600" cy="1749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1" descr="Objectives-Star-Icons-l.jpg"/>
          <p:cNvPicPr/>
          <p:nvPr/>
        </p:nvPicPr>
        <p:blipFill>
          <a:blip r:embed="rId3"/>
          <a:stretch/>
        </p:blipFill>
        <p:spPr>
          <a:xfrm>
            <a:off x="2584440" y="2505240"/>
            <a:ext cx="1281240" cy="1895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2" descr="Fishbone-l.jpg"/>
          <p:cNvPicPr/>
          <p:nvPr/>
        </p:nvPicPr>
        <p:blipFill>
          <a:blip r:embed="rId4"/>
          <a:stretch/>
        </p:blipFill>
        <p:spPr>
          <a:xfrm>
            <a:off x="2925720" y="2567160"/>
            <a:ext cx="1341360" cy="1992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3" descr="3D-Blocks-l.jpg"/>
          <p:cNvPicPr/>
          <p:nvPr/>
        </p:nvPicPr>
        <p:blipFill>
          <a:blip r:embed="rId5"/>
          <a:stretch/>
        </p:blipFill>
        <p:spPr>
          <a:xfrm>
            <a:off x="3249720" y="2664000"/>
            <a:ext cx="1461960" cy="2176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4" descr="Corporate-Responsibility-l.jpg"/>
          <p:cNvPicPr/>
          <p:nvPr/>
        </p:nvPicPr>
        <p:blipFill>
          <a:blip r:embed="rId6"/>
          <a:stretch/>
        </p:blipFill>
        <p:spPr>
          <a:xfrm>
            <a:off x="3724200" y="2773440"/>
            <a:ext cx="1689120" cy="2517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5" descr="Agenda-Green-l.jpg"/>
          <p:cNvPicPr/>
          <p:nvPr/>
        </p:nvPicPr>
        <p:blipFill>
          <a:blip r:embed="rId7"/>
          <a:stretch/>
        </p:blipFill>
        <p:spPr>
          <a:xfrm>
            <a:off x="4248000" y="2968560"/>
            <a:ext cx="1908360" cy="2835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6" descr="Flowchart-Visual-l.jpg"/>
          <p:cNvPicPr/>
          <p:nvPr/>
        </p:nvPicPr>
        <p:blipFill>
          <a:blip r:embed="rId8"/>
          <a:stretch/>
        </p:blipFill>
        <p:spPr>
          <a:xfrm>
            <a:off x="4809960" y="3395520"/>
            <a:ext cx="2108520" cy="3151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7" descr="7S-Model-l.jpg"/>
          <p:cNvPicPr/>
          <p:nvPr/>
        </p:nvPicPr>
        <p:blipFill>
          <a:blip r:embed="rId9"/>
          <a:stretch/>
        </p:blipFill>
        <p:spPr>
          <a:xfrm>
            <a:off x="5334120" y="4071960"/>
            <a:ext cx="2444760" cy="3651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04680" y="1773360"/>
            <a:ext cx="33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ktangel 3"/>
          <p:cNvSpPr/>
          <p:nvPr/>
        </p:nvSpPr>
        <p:spPr>
          <a:xfrm flipV="1" rot="10800000">
            <a:off x="0" y="-1080"/>
            <a:ext cx="9144000" cy="519588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bfbfbf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80808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Group 4297"/>
          <p:cNvGrpSpPr/>
          <p:nvPr/>
        </p:nvGrpSpPr>
        <p:grpSpPr>
          <a:xfrm>
            <a:off x="1143000" y="1371600"/>
            <a:ext cx="2743200" cy="2690640"/>
            <a:chOff x="1143000" y="1371600"/>
            <a:chExt cx="2743200" cy="2690640"/>
          </a:xfrm>
        </p:grpSpPr>
        <p:pic>
          <p:nvPicPr>
            <p:cNvPr id="506" name="Group 1137" descr=""/>
            <p:cNvPicPr/>
            <p:nvPr/>
          </p:nvPicPr>
          <p:blipFill>
            <a:blip r:embed="rId1"/>
            <a:stretch/>
          </p:blipFill>
          <p:spPr>
            <a:xfrm>
              <a:off x="3251520" y="3225240"/>
              <a:ext cx="634680" cy="83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Gruppe 112" descr=""/>
            <p:cNvPicPr/>
            <p:nvPr/>
          </p:nvPicPr>
          <p:blipFill>
            <a:blip r:embed="rId2"/>
            <a:stretch/>
          </p:blipFill>
          <p:spPr>
            <a:xfrm>
              <a:off x="1143000" y="1371600"/>
              <a:ext cx="1994760" cy="196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8" name="Rektangel 510"/>
          <p:cNvSpPr/>
          <p:nvPr/>
        </p:nvSpPr>
        <p:spPr>
          <a:xfrm>
            <a:off x="3276720" y="3124080"/>
            <a:ext cx="65232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9"/>
          <p:cNvSpPr/>
          <p:nvPr/>
        </p:nvSpPr>
        <p:spPr>
          <a:xfrm>
            <a:off x="4737240" y="3265560"/>
            <a:ext cx="1420560" cy="1587600"/>
          </a:xfrm>
          <a:custGeom>
            <a:avLst/>
            <a:gdLst>
              <a:gd name="textAreaLeft" fmla="*/ 0 w 1420560"/>
              <a:gd name="textAreaRight" fmla="*/ 1420920 w 1420560"/>
              <a:gd name="textAreaTop" fmla="*/ 0 h 1587600"/>
              <a:gd name="textAreaBottom" fmla="*/ 1587960 h 1587600"/>
            </a:gdLst>
            <a:ahLst/>
            <a:rect l="textAreaLeft" t="textAreaTop" r="textAreaRight" b="textAreaBottom"/>
            <a:pathLst>
              <a:path w="1037" h="1158">
                <a:moveTo>
                  <a:pt x="977" y="0"/>
                </a:moveTo>
                <a:lnTo>
                  <a:pt x="979" y="2"/>
                </a:lnTo>
                <a:lnTo>
                  <a:pt x="979" y="14"/>
                </a:lnTo>
                <a:lnTo>
                  <a:pt x="978" y="25"/>
                </a:lnTo>
                <a:lnTo>
                  <a:pt x="973" y="36"/>
                </a:lnTo>
                <a:lnTo>
                  <a:pt x="969" y="42"/>
                </a:lnTo>
                <a:lnTo>
                  <a:pt x="965" y="47"/>
                </a:lnTo>
                <a:lnTo>
                  <a:pt x="963" y="52"/>
                </a:lnTo>
                <a:lnTo>
                  <a:pt x="955" y="62"/>
                </a:lnTo>
                <a:lnTo>
                  <a:pt x="953" y="67"/>
                </a:lnTo>
                <a:lnTo>
                  <a:pt x="953" y="71"/>
                </a:lnTo>
                <a:lnTo>
                  <a:pt x="952" y="73"/>
                </a:lnTo>
                <a:lnTo>
                  <a:pt x="949" y="74"/>
                </a:lnTo>
                <a:lnTo>
                  <a:pt x="947" y="77"/>
                </a:lnTo>
                <a:lnTo>
                  <a:pt x="943" y="79"/>
                </a:lnTo>
                <a:lnTo>
                  <a:pt x="936" y="82"/>
                </a:lnTo>
                <a:lnTo>
                  <a:pt x="931" y="84"/>
                </a:lnTo>
                <a:lnTo>
                  <a:pt x="930" y="85"/>
                </a:lnTo>
                <a:lnTo>
                  <a:pt x="930" y="86"/>
                </a:lnTo>
                <a:lnTo>
                  <a:pt x="931" y="89"/>
                </a:lnTo>
                <a:lnTo>
                  <a:pt x="937" y="95"/>
                </a:lnTo>
                <a:lnTo>
                  <a:pt x="941" y="97"/>
                </a:lnTo>
                <a:lnTo>
                  <a:pt x="943" y="98"/>
                </a:lnTo>
                <a:lnTo>
                  <a:pt x="946" y="98"/>
                </a:lnTo>
                <a:lnTo>
                  <a:pt x="948" y="96"/>
                </a:lnTo>
                <a:lnTo>
                  <a:pt x="952" y="90"/>
                </a:lnTo>
                <a:lnTo>
                  <a:pt x="961" y="76"/>
                </a:lnTo>
                <a:lnTo>
                  <a:pt x="966" y="70"/>
                </a:lnTo>
                <a:lnTo>
                  <a:pt x="967" y="68"/>
                </a:lnTo>
                <a:lnTo>
                  <a:pt x="969" y="70"/>
                </a:lnTo>
                <a:lnTo>
                  <a:pt x="970" y="72"/>
                </a:lnTo>
                <a:lnTo>
                  <a:pt x="972" y="73"/>
                </a:lnTo>
                <a:lnTo>
                  <a:pt x="975" y="78"/>
                </a:lnTo>
                <a:lnTo>
                  <a:pt x="977" y="79"/>
                </a:lnTo>
                <a:lnTo>
                  <a:pt x="979" y="77"/>
                </a:lnTo>
                <a:lnTo>
                  <a:pt x="981" y="74"/>
                </a:lnTo>
                <a:lnTo>
                  <a:pt x="981" y="72"/>
                </a:lnTo>
                <a:lnTo>
                  <a:pt x="982" y="71"/>
                </a:lnTo>
                <a:lnTo>
                  <a:pt x="985" y="71"/>
                </a:lnTo>
                <a:lnTo>
                  <a:pt x="988" y="73"/>
                </a:lnTo>
                <a:lnTo>
                  <a:pt x="989" y="76"/>
                </a:lnTo>
                <a:lnTo>
                  <a:pt x="989" y="80"/>
                </a:lnTo>
                <a:lnTo>
                  <a:pt x="990" y="82"/>
                </a:lnTo>
                <a:lnTo>
                  <a:pt x="991" y="84"/>
                </a:lnTo>
                <a:lnTo>
                  <a:pt x="994" y="85"/>
                </a:lnTo>
                <a:lnTo>
                  <a:pt x="999" y="86"/>
                </a:lnTo>
                <a:lnTo>
                  <a:pt x="1002" y="88"/>
                </a:lnTo>
                <a:lnTo>
                  <a:pt x="1005" y="89"/>
                </a:lnTo>
                <a:lnTo>
                  <a:pt x="1007" y="94"/>
                </a:lnTo>
                <a:lnTo>
                  <a:pt x="1006" y="96"/>
                </a:lnTo>
                <a:lnTo>
                  <a:pt x="1002" y="100"/>
                </a:lnTo>
                <a:lnTo>
                  <a:pt x="999" y="100"/>
                </a:lnTo>
                <a:lnTo>
                  <a:pt x="997" y="101"/>
                </a:lnTo>
                <a:lnTo>
                  <a:pt x="996" y="101"/>
                </a:lnTo>
                <a:lnTo>
                  <a:pt x="996" y="104"/>
                </a:lnTo>
                <a:lnTo>
                  <a:pt x="997" y="107"/>
                </a:lnTo>
                <a:lnTo>
                  <a:pt x="1002" y="114"/>
                </a:lnTo>
                <a:lnTo>
                  <a:pt x="1008" y="120"/>
                </a:lnTo>
                <a:lnTo>
                  <a:pt x="1012" y="126"/>
                </a:lnTo>
                <a:lnTo>
                  <a:pt x="1009" y="132"/>
                </a:lnTo>
                <a:lnTo>
                  <a:pt x="1007" y="134"/>
                </a:lnTo>
                <a:lnTo>
                  <a:pt x="1006" y="137"/>
                </a:lnTo>
                <a:lnTo>
                  <a:pt x="1005" y="138"/>
                </a:lnTo>
                <a:lnTo>
                  <a:pt x="1003" y="138"/>
                </a:lnTo>
                <a:lnTo>
                  <a:pt x="1001" y="140"/>
                </a:lnTo>
                <a:lnTo>
                  <a:pt x="999" y="142"/>
                </a:lnTo>
                <a:lnTo>
                  <a:pt x="997" y="144"/>
                </a:lnTo>
                <a:lnTo>
                  <a:pt x="996" y="148"/>
                </a:lnTo>
                <a:lnTo>
                  <a:pt x="994" y="151"/>
                </a:lnTo>
                <a:lnTo>
                  <a:pt x="991" y="156"/>
                </a:lnTo>
                <a:lnTo>
                  <a:pt x="991" y="161"/>
                </a:lnTo>
                <a:lnTo>
                  <a:pt x="996" y="161"/>
                </a:lnTo>
                <a:lnTo>
                  <a:pt x="999" y="162"/>
                </a:lnTo>
                <a:lnTo>
                  <a:pt x="1000" y="163"/>
                </a:lnTo>
                <a:lnTo>
                  <a:pt x="1001" y="166"/>
                </a:lnTo>
                <a:lnTo>
                  <a:pt x="1003" y="168"/>
                </a:lnTo>
                <a:lnTo>
                  <a:pt x="1007" y="168"/>
                </a:lnTo>
                <a:lnTo>
                  <a:pt x="1011" y="167"/>
                </a:lnTo>
                <a:lnTo>
                  <a:pt x="1018" y="163"/>
                </a:lnTo>
                <a:lnTo>
                  <a:pt x="1020" y="161"/>
                </a:lnTo>
                <a:lnTo>
                  <a:pt x="1024" y="150"/>
                </a:lnTo>
                <a:lnTo>
                  <a:pt x="1025" y="148"/>
                </a:lnTo>
                <a:lnTo>
                  <a:pt x="1026" y="146"/>
                </a:lnTo>
                <a:lnTo>
                  <a:pt x="1029" y="146"/>
                </a:lnTo>
                <a:lnTo>
                  <a:pt x="1033" y="149"/>
                </a:lnTo>
                <a:lnTo>
                  <a:pt x="1035" y="151"/>
                </a:lnTo>
                <a:lnTo>
                  <a:pt x="1036" y="152"/>
                </a:lnTo>
                <a:lnTo>
                  <a:pt x="1037" y="155"/>
                </a:lnTo>
                <a:lnTo>
                  <a:pt x="1037" y="157"/>
                </a:lnTo>
                <a:lnTo>
                  <a:pt x="1035" y="160"/>
                </a:lnTo>
                <a:lnTo>
                  <a:pt x="1031" y="161"/>
                </a:lnTo>
                <a:lnTo>
                  <a:pt x="1026" y="163"/>
                </a:lnTo>
                <a:lnTo>
                  <a:pt x="1024" y="166"/>
                </a:lnTo>
                <a:lnTo>
                  <a:pt x="1025" y="167"/>
                </a:lnTo>
                <a:lnTo>
                  <a:pt x="1031" y="167"/>
                </a:lnTo>
                <a:lnTo>
                  <a:pt x="1032" y="166"/>
                </a:lnTo>
                <a:lnTo>
                  <a:pt x="1036" y="166"/>
                </a:lnTo>
                <a:lnTo>
                  <a:pt x="1036" y="168"/>
                </a:lnTo>
                <a:lnTo>
                  <a:pt x="1035" y="170"/>
                </a:lnTo>
                <a:lnTo>
                  <a:pt x="1035" y="174"/>
                </a:lnTo>
                <a:lnTo>
                  <a:pt x="1033" y="178"/>
                </a:lnTo>
                <a:lnTo>
                  <a:pt x="1032" y="180"/>
                </a:lnTo>
                <a:lnTo>
                  <a:pt x="1030" y="184"/>
                </a:lnTo>
                <a:lnTo>
                  <a:pt x="1026" y="185"/>
                </a:lnTo>
                <a:lnTo>
                  <a:pt x="1024" y="185"/>
                </a:lnTo>
                <a:lnTo>
                  <a:pt x="1021" y="184"/>
                </a:lnTo>
                <a:lnTo>
                  <a:pt x="1017" y="179"/>
                </a:lnTo>
                <a:lnTo>
                  <a:pt x="1015" y="180"/>
                </a:lnTo>
                <a:lnTo>
                  <a:pt x="1013" y="181"/>
                </a:lnTo>
                <a:lnTo>
                  <a:pt x="1012" y="184"/>
                </a:lnTo>
                <a:lnTo>
                  <a:pt x="1009" y="190"/>
                </a:lnTo>
                <a:lnTo>
                  <a:pt x="1009" y="206"/>
                </a:lnTo>
                <a:lnTo>
                  <a:pt x="1006" y="210"/>
                </a:lnTo>
                <a:lnTo>
                  <a:pt x="1002" y="211"/>
                </a:lnTo>
                <a:lnTo>
                  <a:pt x="996" y="217"/>
                </a:lnTo>
                <a:lnTo>
                  <a:pt x="995" y="221"/>
                </a:lnTo>
                <a:lnTo>
                  <a:pt x="993" y="224"/>
                </a:lnTo>
                <a:lnTo>
                  <a:pt x="990" y="232"/>
                </a:lnTo>
                <a:lnTo>
                  <a:pt x="989" y="238"/>
                </a:lnTo>
                <a:lnTo>
                  <a:pt x="988" y="246"/>
                </a:lnTo>
                <a:lnTo>
                  <a:pt x="987" y="250"/>
                </a:lnTo>
                <a:lnTo>
                  <a:pt x="984" y="253"/>
                </a:lnTo>
                <a:lnTo>
                  <a:pt x="982" y="254"/>
                </a:lnTo>
                <a:lnTo>
                  <a:pt x="978" y="258"/>
                </a:lnTo>
                <a:lnTo>
                  <a:pt x="978" y="264"/>
                </a:lnTo>
                <a:lnTo>
                  <a:pt x="979" y="266"/>
                </a:lnTo>
                <a:lnTo>
                  <a:pt x="979" y="270"/>
                </a:lnTo>
                <a:lnTo>
                  <a:pt x="981" y="272"/>
                </a:lnTo>
                <a:lnTo>
                  <a:pt x="983" y="275"/>
                </a:lnTo>
                <a:lnTo>
                  <a:pt x="988" y="281"/>
                </a:lnTo>
                <a:lnTo>
                  <a:pt x="991" y="288"/>
                </a:lnTo>
                <a:lnTo>
                  <a:pt x="990" y="296"/>
                </a:lnTo>
                <a:lnTo>
                  <a:pt x="988" y="304"/>
                </a:lnTo>
                <a:lnTo>
                  <a:pt x="984" y="316"/>
                </a:lnTo>
                <a:lnTo>
                  <a:pt x="981" y="329"/>
                </a:lnTo>
                <a:lnTo>
                  <a:pt x="976" y="340"/>
                </a:lnTo>
                <a:lnTo>
                  <a:pt x="971" y="344"/>
                </a:lnTo>
                <a:lnTo>
                  <a:pt x="961" y="349"/>
                </a:lnTo>
                <a:lnTo>
                  <a:pt x="959" y="349"/>
                </a:lnTo>
                <a:lnTo>
                  <a:pt x="958" y="348"/>
                </a:lnTo>
                <a:lnTo>
                  <a:pt x="958" y="342"/>
                </a:lnTo>
                <a:lnTo>
                  <a:pt x="960" y="332"/>
                </a:lnTo>
                <a:lnTo>
                  <a:pt x="963" y="325"/>
                </a:lnTo>
                <a:lnTo>
                  <a:pt x="965" y="320"/>
                </a:lnTo>
                <a:lnTo>
                  <a:pt x="964" y="317"/>
                </a:lnTo>
                <a:lnTo>
                  <a:pt x="961" y="317"/>
                </a:lnTo>
                <a:lnTo>
                  <a:pt x="955" y="323"/>
                </a:lnTo>
                <a:lnTo>
                  <a:pt x="952" y="324"/>
                </a:lnTo>
                <a:lnTo>
                  <a:pt x="947" y="326"/>
                </a:lnTo>
                <a:lnTo>
                  <a:pt x="945" y="326"/>
                </a:lnTo>
                <a:lnTo>
                  <a:pt x="943" y="328"/>
                </a:lnTo>
                <a:lnTo>
                  <a:pt x="941" y="325"/>
                </a:lnTo>
                <a:lnTo>
                  <a:pt x="940" y="326"/>
                </a:lnTo>
                <a:lnTo>
                  <a:pt x="937" y="332"/>
                </a:lnTo>
                <a:lnTo>
                  <a:pt x="934" y="341"/>
                </a:lnTo>
                <a:lnTo>
                  <a:pt x="931" y="352"/>
                </a:lnTo>
                <a:lnTo>
                  <a:pt x="928" y="360"/>
                </a:lnTo>
                <a:lnTo>
                  <a:pt x="925" y="366"/>
                </a:lnTo>
                <a:lnTo>
                  <a:pt x="924" y="367"/>
                </a:lnTo>
                <a:lnTo>
                  <a:pt x="923" y="364"/>
                </a:lnTo>
                <a:lnTo>
                  <a:pt x="922" y="358"/>
                </a:lnTo>
                <a:lnTo>
                  <a:pt x="923" y="352"/>
                </a:lnTo>
                <a:lnTo>
                  <a:pt x="923" y="343"/>
                </a:lnTo>
                <a:lnTo>
                  <a:pt x="922" y="341"/>
                </a:lnTo>
                <a:lnTo>
                  <a:pt x="922" y="338"/>
                </a:lnTo>
                <a:lnTo>
                  <a:pt x="921" y="337"/>
                </a:lnTo>
                <a:lnTo>
                  <a:pt x="919" y="335"/>
                </a:lnTo>
                <a:lnTo>
                  <a:pt x="918" y="335"/>
                </a:lnTo>
                <a:lnTo>
                  <a:pt x="916" y="336"/>
                </a:lnTo>
                <a:lnTo>
                  <a:pt x="912" y="341"/>
                </a:lnTo>
                <a:lnTo>
                  <a:pt x="911" y="347"/>
                </a:lnTo>
                <a:lnTo>
                  <a:pt x="911" y="356"/>
                </a:lnTo>
                <a:lnTo>
                  <a:pt x="910" y="359"/>
                </a:lnTo>
                <a:lnTo>
                  <a:pt x="909" y="362"/>
                </a:lnTo>
                <a:lnTo>
                  <a:pt x="907" y="365"/>
                </a:lnTo>
                <a:lnTo>
                  <a:pt x="904" y="368"/>
                </a:lnTo>
                <a:lnTo>
                  <a:pt x="893" y="368"/>
                </a:lnTo>
                <a:lnTo>
                  <a:pt x="893" y="365"/>
                </a:lnTo>
                <a:lnTo>
                  <a:pt x="895" y="360"/>
                </a:lnTo>
                <a:lnTo>
                  <a:pt x="899" y="355"/>
                </a:lnTo>
                <a:lnTo>
                  <a:pt x="901" y="349"/>
                </a:lnTo>
                <a:lnTo>
                  <a:pt x="903" y="346"/>
                </a:lnTo>
                <a:lnTo>
                  <a:pt x="901" y="343"/>
                </a:lnTo>
                <a:lnTo>
                  <a:pt x="897" y="342"/>
                </a:lnTo>
                <a:lnTo>
                  <a:pt x="888" y="342"/>
                </a:lnTo>
                <a:lnTo>
                  <a:pt x="880" y="343"/>
                </a:lnTo>
                <a:lnTo>
                  <a:pt x="873" y="346"/>
                </a:lnTo>
                <a:lnTo>
                  <a:pt x="868" y="350"/>
                </a:lnTo>
                <a:lnTo>
                  <a:pt x="865" y="356"/>
                </a:lnTo>
                <a:lnTo>
                  <a:pt x="864" y="365"/>
                </a:lnTo>
                <a:lnTo>
                  <a:pt x="863" y="372"/>
                </a:lnTo>
                <a:lnTo>
                  <a:pt x="863" y="378"/>
                </a:lnTo>
                <a:lnTo>
                  <a:pt x="867" y="379"/>
                </a:lnTo>
                <a:lnTo>
                  <a:pt x="871" y="377"/>
                </a:lnTo>
                <a:lnTo>
                  <a:pt x="883" y="372"/>
                </a:lnTo>
                <a:lnTo>
                  <a:pt x="887" y="373"/>
                </a:lnTo>
                <a:lnTo>
                  <a:pt x="889" y="378"/>
                </a:lnTo>
                <a:lnTo>
                  <a:pt x="889" y="382"/>
                </a:lnTo>
                <a:lnTo>
                  <a:pt x="891" y="383"/>
                </a:lnTo>
                <a:lnTo>
                  <a:pt x="891" y="384"/>
                </a:lnTo>
                <a:lnTo>
                  <a:pt x="888" y="384"/>
                </a:lnTo>
                <a:lnTo>
                  <a:pt x="887" y="385"/>
                </a:lnTo>
                <a:lnTo>
                  <a:pt x="885" y="386"/>
                </a:lnTo>
                <a:lnTo>
                  <a:pt x="885" y="390"/>
                </a:lnTo>
                <a:lnTo>
                  <a:pt x="889" y="395"/>
                </a:lnTo>
                <a:lnTo>
                  <a:pt x="892" y="401"/>
                </a:lnTo>
                <a:lnTo>
                  <a:pt x="893" y="407"/>
                </a:lnTo>
                <a:lnTo>
                  <a:pt x="889" y="410"/>
                </a:lnTo>
                <a:lnTo>
                  <a:pt x="886" y="412"/>
                </a:lnTo>
                <a:lnTo>
                  <a:pt x="882" y="412"/>
                </a:lnTo>
                <a:lnTo>
                  <a:pt x="879" y="413"/>
                </a:lnTo>
                <a:lnTo>
                  <a:pt x="876" y="414"/>
                </a:lnTo>
                <a:lnTo>
                  <a:pt x="874" y="419"/>
                </a:lnTo>
                <a:lnTo>
                  <a:pt x="874" y="421"/>
                </a:lnTo>
                <a:lnTo>
                  <a:pt x="873" y="424"/>
                </a:lnTo>
                <a:lnTo>
                  <a:pt x="873" y="430"/>
                </a:lnTo>
                <a:lnTo>
                  <a:pt x="875" y="434"/>
                </a:lnTo>
                <a:lnTo>
                  <a:pt x="876" y="436"/>
                </a:lnTo>
                <a:lnTo>
                  <a:pt x="880" y="436"/>
                </a:lnTo>
                <a:lnTo>
                  <a:pt x="886" y="437"/>
                </a:lnTo>
                <a:lnTo>
                  <a:pt x="889" y="438"/>
                </a:lnTo>
                <a:lnTo>
                  <a:pt x="893" y="440"/>
                </a:lnTo>
                <a:lnTo>
                  <a:pt x="895" y="443"/>
                </a:lnTo>
                <a:lnTo>
                  <a:pt x="895" y="446"/>
                </a:lnTo>
                <a:lnTo>
                  <a:pt x="897" y="448"/>
                </a:lnTo>
                <a:lnTo>
                  <a:pt x="897" y="449"/>
                </a:lnTo>
                <a:lnTo>
                  <a:pt x="898" y="449"/>
                </a:lnTo>
                <a:lnTo>
                  <a:pt x="899" y="450"/>
                </a:lnTo>
                <a:lnTo>
                  <a:pt x="901" y="450"/>
                </a:lnTo>
                <a:lnTo>
                  <a:pt x="900" y="451"/>
                </a:lnTo>
                <a:lnTo>
                  <a:pt x="899" y="454"/>
                </a:lnTo>
                <a:lnTo>
                  <a:pt x="897" y="456"/>
                </a:lnTo>
                <a:lnTo>
                  <a:pt x="894" y="460"/>
                </a:lnTo>
                <a:lnTo>
                  <a:pt x="892" y="462"/>
                </a:lnTo>
                <a:lnTo>
                  <a:pt x="892" y="467"/>
                </a:lnTo>
                <a:lnTo>
                  <a:pt x="893" y="469"/>
                </a:lnTo>
                <a:lnTo>
                  <a:pt x="895" y="470"/>
                </a:lnTo>
                <a:lnTo>
                  <a:pt x="898" y="470"/>
                </a:lnTo>
                <a:lnTo>
                  <a:pt x="903" y="468"/>
                </a:lnTo>
                <a:lnTo>
                  <a:pt x="904" y="467"/>
                </a:lnTo>
                <a:lnTo>
                  <a:pt x="905" y="464"/>
                </a:lnTo>
                <a:lnTo>
                  <a:pt x="906" y="463"/>
                </a:lnTo>
                <a:lnTo>
                  <a:pt x="909" y="463"/>
                </a:lnTo>
                <a:lnTo>
                  <a:pt x="911" y="464"/>
                </a:lnTo>
                <a:lnTo>
                  <a:pt x="915" y="466"/>
                </a:lnTo>
                <a:lnTo>
                  <a:pt x="917" y="468"/>
                </a:lnTo>
                <a:lnTo>
                  <a:pt x="921" y="470"/>
                </a:lnTo>
                <a:lnTo>
                  <a:pt x="925" y="475"/>
                </a:lnTo>
                <a:lnTo>
                  <a:pt x="927" y="478"/>
                </a:lnTo>
                <a:lnTo>
                  <a:pt x="927" y="487"/>
                </a:lnTo>
                <a:lnTo>
                  <a:pt x="925" y="493"/>
                </a:lnTo>
                <a:lnTo>
                  <a:pt x="923" y="508"/>
                </a:lnTo>
                <a:lnTo>
                  <a:pt x="923" y="514"/>
                </a:lnTo>
                <a:lnTo>
                  <a:pt x="925" y="517"/>
                </a:lnTo>
                <a:lnTo>
                  <a:pt x="930" y="520"/>
                </a:lnTo>
                <a:lnTo>
                  <a:pt x="940" y="521"/>
                </a:lnTo>
                <a:lnTo>
                  <a:pt x="953" y="521"/>
                </a:lnTo>
                <a:lnTo>
                  <a:pt x="951" y="528"/>
                </a:lnTo>
                <a:lnTo>
                  <a:pt x="949" y="536"/>
                </a:lnTo>
                <a:lnTo>
                  <a:pt x="946" y="545"/>
                </a:lnTo>
                <a:lnTo>
                  <a:pt x="940" y="547"/>
                </a:lnTo>
                <a:lnTo>
                  <a:pt x="923" y="550"/>
                </a:lnTo>
                <a:lnTo>
                  <a:pt x="917" y="553"/>
                </a:lnTo>
                <a:lnTo>
                  <a:pt x="912" y="559"/>
                </a:lnTo>
                <a:lnTo>
                  <a:pt x="909" y="566"/>
                </a:lnTo>
                <a:lnTo>
                  <a:pt x="903" y="572"/>
                </a:lnTo>
                <a:lnTo>
                  <a:pt x="893" y="580"/>
                </a:lnTo>
                <a:lnTo>
                  <a:pt x="883" y="590"/>
                </a:lnTo>
                <a:lnTo>
                  <a:pt x="876" y="602"/>
                </a:lnTo>
                <a:lnTo>
                  <a:pt x="873" y="614"/>
                </a:lnTo>
                <a:lnTo>
                  <a:pt x="870" y="622"/>
                </a:lnTo>
                <a:lnTo>
                  <a:pt x="865" y="625"/>
                </a:lnTo>
                <a:lnTo>
                  <a:pt x="858" y="628"/>
                </a:lnTo>
                <a:lnTo>
                  <a:pt x="851" y="628"/>
                </a:lnTo>
                <a:lnTo>
                  <a:pt x="841" y="629"/>
                </a:lnTo>
                <a:lnTo>
                  <a:pt x="833" y="632"/>
                </a:lnTo>
                <a:lnTo>
                  <a:pt x="828" y="638"/>
                </a:lnTo>
                <a:lnTo>
                  <a:pt x="825" y="644"/>
                </a:lnTo>
                <a:lnTo>
                  <a:pt x="821" y="652"/>
                </a:lnTo>
                <a:lnTo>
                  <a:pt x="815" y="658"/>
                </a:lnTo>
                <a:lnTo>
                  <a:pt x="805" y="662"/>
                </a:lnTo>
                <a:lnTo>
                  <a:pt x="792" y="666"/>
                </a:lnTo>
                <a:lnTo>
                  <a:pt x="778" y="667"/>
                </a:lnTo>
                <a:lnTo>
                  <a:pt x="765" y="668"/>
                </a:lnTo>
                <a:lnTo>
                  <a:pt x="755" y="671"/>
                </a:lnTo>
                <a:lnTo>
                  <a:pt x="748" y="674"/>
                </a:lnTo>
                <a:lnTo>
                  <a:pt x="744" y="680"/>
                </a:lnTo>
                <a:lnTo>
                  <a:pt x="743" y="688"/>
                </a:lnTo>
                <a:lnTo>
                  <a:pt x="743" y="697"/>
                </a:lnTo>
                <a:lnTo>
                  <a:pt x="739" y="708"/>
                </a:lnTo>
                <a:lnTo>
                  <a:pt x="733" y="716"/>
                </a:lnTo>
                <a:lnTo>
                  <a:pt x="726" y="722"/>
                </a:lnTo>
                <a:lnTo>
                  <a:pt x="718" y="725"/>
                </a:lnTo>
                <a:lnTo>
                  <a:pt x="706" y="725"/>
                </a:lnTo>
                <a:lnTo>
                  <a:pt x="700" y="726"/>
                </a:lnTo>
                <a:lnTo>
                  <a:pt x="694" y="728"/>
                </a:lnTo>
                <a:lnTo>
                  <a:pt x="689" y="734"/>
                </a:lnTo>
                <a:lnTo>
                  <a:pt x="688" y="743"/>
                </a:lnTo>
                <a:lnTo>
                  <a:pt x="685" y="754"/>
                </a:lnTo>
                <a:lnTo>
                  <a:pt x="681" y="761"/>
                </a:lnTo>
                <a:lnTo>
                  <a:pt x="675" y="764"/>
                </a:lnTo>
                <a:lnTo>
                  <a:pt x="667" y="766"/>
                </a:lnTo>
                <a:lnTo>
                  <a:pt x="661" y="767"/>
                </a:lnTo>
                <a:lnTo>
                  <a:pt x="654" y="772"/>
                </a:lnTo>
                <a:lnTo>
                  <a:pt x="648" y="780"/>
                </a:lnTo>
                <a:lnTo>
                  <a:pt x="645" y="790"/>
                </a:lnTo>
                <a:lnTo>
                  <a:pt x="640" y="800"/>
                </a:lnTo>
                <a:lnTo>
                  <a:pt x="639" y="804"/>
                </a:lnTo>
                <a:lnTo>
                  <a:pt x="636" y="806"/>
                </a:lnTo>
                <a:lnTo>
                  <a:pt x="634" y="806"/>
                </a:lnTo>
                <a:lnTo>
                  <a:pt x="631" y="804"/>
                </a:lnTo>
                <a:lnTo>
                  <a:pt x="630" y="802"/>
                </a:lnTo>
                <a:lnTo>
                  <a:pt x="625" y="799"/>
                </a:lnTo>
                <a:lnTo>
                  <a:pt x="623" y="799"/>
                </a:lnTo>
                <a:lnTo>
                  <a:pt x="617" y="802"/>
                </a:lnTo>
                <a:lnTo>
                  <a:pt x="612" y="809"/>
                </a:lnTo>
                <a:lnTo>
                  <a:pt x="606" y="817"/>
                </a:lnTo>
                <a:lnTo>
                  <a:pt x="600" y="824"/>
                </a:lnTo>
                <a:lnTo>
                  <a:pt x="592" y="828"/>
                </a:lnTo>
                <a:lnTo>
                  <a:pt x="582" y="833"/>
                </a:lnTo>
                <a:lnTo>
                  <a:pt x="574" y="841"/>
                </a:lnTo>
                <a:lnTo>
                  <a:pt x="567" y="853"/>
                </a:lnTo>
                <a:lnTo>
                  <a:pt x="561" y="864"/>
                </a:lnTo>
                <a:lnTo>
                  <a:pt x="555" y="874"/>
                </a:lnTo>
                <a:lnTo>
                  <a:pt x="550" y="878"/>
                </a:lnTo>
                <a:lnTo>
                  <a:pt x="545" y="878"/>
                </a:lnTo>
                <a:lnTo>
                  <a:pt x="540" y="876"/>
                </a:lnTo>
                <a:lnTo>
                  <a:pt x="534" y="874"/>
                </a:lnTo>
                <a:lnTo>
                  <a:pt x="528" y="874"/>
                </a:lnTo>
                <a:lnTo>
                  <a:pt x="521" y="877"/>
                </a:lnTo>
                <a:lnTo>
                  <a:pt x="517" y="882"/>
                </a:lnTo>
                <a:lnTo>
                  <a:pt x="510" y="894"/>
                </a:lnTo>
                <a:lnTo>
                  <a:pt x="504" y="899"/>
                </a:lnTo>
                <a:lnTo>
                  <a:pt x="495" y="901"/>
                </a:lnTo>
                <a:lnTo>
                  <a:pt x="473" y="906"/>
                </a:lnTo>
                <a:lnTo>
                  <a:pt x="465" y="910"/>
                </a:lnTo>
                <a:lnTo>
                  <a:pt x="457" y="916"/>
                </a:lnTo>
                <a:lnTo>
                  <a:pt x="449" y="923"/>
                </a:lnTo>
                <a:lnTo>
                  <a:pt x="441" y="929"/>
                </a:lnTo>
                <a:lnTo>
                  <a:pt x="435" y="934"/>
                </a:lnTo>
                <a:lnTo>
                  <a:pt x="433" y="938"/>
                </a:lnTo>
                <a:lnTo>
                  <a:pt x="436" y="948"/>
                </a:lnTo>
                <a:lnTo>
                  <a:pt x="435" y="950"/>
                </a:lnTo>
                <a:lnTo>
                  <a:pt x="424" y="961"/>
                </a:lnTo>
                <a:lnTo>
                  <a:pt x="420" y="968"/>
                </a:lnTo>
                <a:lnTo>
                  <a:pt x="418" y="978"/>
                </a:lnTo>
                <a:lnTo>
                  <a:pt x="417" y="984"/>
                </a:lnTo>
                <a:lnTo>
                  <a:pt x="413" y="988"/>
                </a:lnTo>
                <a:lnTo>
                  <a:pt x="403" y="992"/>
                </a:lnTo>
                <a:lnTo>
                  <a:pt x="401" y="997"/>
                </a:lnTo>
                <a:lnTo>
                  <a:pt x="399" y="1001"/>
                </a:lnTo>
                <a:lnTo>
                  <a:pt x="389" y="1003"/>
                </a:lnTo>
                <a:lnTo>
                  <a:pt x="384" y="1006"/>
                </a:lnTo>
                <a:lnTo>
                  <a:pt x="381" y="1009"/>
                </a:lnTo>
                <a:lnTo>
                  <a:pt x="371" y="1024"/>
                </a:lnTo>
                <a:lnTo>
                  <a:pt x="359" y="1040"/>
                </a:lnTo>
                <a:lnTo>
                  <a:pt x="354" y="1044"/>
                </a:lnTo>
                <a:lnTo>
                  <a:pt x="348" y="1045"/>
                </a:lnTo>
                <a:lnTo>
                  <a:pt x="342" y="1045"/>
                </a:lnTo>
                <a:lnTo>
                  <a:pt x="336" y="1044"/>
                </a:lnTo>
                <a:lnTo>
                  <a:pt x="330" y="1044"/>
                </a:lnTo>
                <a:lnTo>
                  <a:pt x="328" y="1046"/>
                </a:lnTo>
                <a:lnTo>
                  <a:pt x="324" y="1055"/>
                </a:lnTo>
                <a:lnTo>
                  <a:pt x="317" y="1060"/>
                </a:lnTo>
                <a:lnTo>
                  <a:pt x="306" y="1062"/>
                </a:lnTo>
                <a:lnTo>
                  <a:pt x="293" y="1060"/>
                </a:lnTo>
                <a:lnTo>
                  <a:pt x="267" y="1045"/>
                </a:lnTo>
                <a:lnTo>
                  <a:pt x="259" y="1044"/>
                </a:lnTo>
                <a:lnTo>
                  <a:pt x="255" y="1045"/>
                </a:lnTo>
                <a:lnTo>
                  <a:pt x="250" y="1049"/>
                </a:lnTo>
                <a:lnTo>
                  <a:pt x="245" y="1050"/>
                </a:lnTo>
                <a:lnTo>
                  <a:pt x="239" y="1049"/>
                </a:lnTo>
                <a:lnTo>
                  <a:pt x="231" y="1045"/>
                </a:lnTo>
                <a:lnTo>
                  <a:pt x="215" y="1045"/>
                </a:lnTo>
                <a:lnTo>
                  <a:pt x="207" y="1046"/>
                </a:lnTo>
                <a:lnTo>
                  <a:pt x="198" y="1049"/>
                </a:lnTo>
                <a:lnTo>
                  <a:pt x="189" y="1055"/>
                </a:lnTo>
                <a:lnTo>
                  <a:pt x="181" y="1061"/>
                </a:lnTo>
                <a:lnTo>
                  <a:pt x="174" y="1064"/>
                </a:lnTo>
                <a:lnTo>
                  <a:pt x="168" y="1067"/>
                </a:lnTo>
                <a:lnTo>
                  <a:pt x="156" y="1079"/>
                </a:lnTo>
                <a:lnTo>
                  <a:pt x="145" y="1087"/>
                </a:lnTo>
                <a:lnTo>
                  <a:pt x="139" y="1094"/>
                </a:lnTo>
                <a:lnTo>
                  <a:pt x="137" y="1100"/>
                </a:lnTo>
                <a:lnTo>
                  <a:pt x="136" y="1106"/>
                </a:lnTo>
                <a:lnTo>
                  <a:pt x="136" y="1111"/>
                </a:lnTo>
                <a:lnTo>
                  <a:pt x="132" y="1117"/>
                </a:lnTo>
                <a:lnTo>
                  <a:pt x="130" y="1123"/>
                </a:lnTo>
                <a:lnTo>
                  <a:pt x="130" y="1136"/>
                </a:lnTo>
                <a:lnTo>
                  <a:pt x="127" y="1142"/>
                </a:lnTo>
                <a:lnTo>
                  <a:pt x="120" y="1148"/>
                </a:lnTo>
                <a:lnTo>
                  <a:pt x="109" y="1150"/>
                </a:lnTo>
                <a:lnTo>
                  <a:pt x="97" y="1148"/>
                </a:lnTo>
                <a:lnTo>
                  <a:pt x="85" y="1145"/>
                </a:lnTo>
                <a:lnTo>
                  <a:pt x="75" y="1140"/>
                </a:lnTo>
                <a:lnTo>
                  <a:pt x="60" y="1136"/>
                </a:lnTo>
                <a:lnTo>
                  <a:pt x="58" y="1138"/>
                </a:lnTo>
                <a:lnTo>
                  <a:pt x="57" y="1139"/>
                </a:lnTo>
                <a:lnTo>
                  <a:pt x="57" y="1140"/>
                </a:lnTo>
                <a:lnTo>
                  <a:pt x="55" y="1142"/>
                </a:lnTo>
                <a:lnTo>
                  <a:pt x="55" y="1147"/>
                </a:lnTo>
                <a:lnTo>
                  <a:pt x="54" y="1151"/>
                </a:lnTo>
                <a:lnTo>
                  <a:pt x="47" y="1158"/>
                </a:lnTo>
                <a:lnTo>
                  <a:pt x="45" y="1154"/>
                </a:lnTo>
                <a:lnTo>
                  <a:pt x="40" y="1150"/>
                </a:lnTo>
                <a:lnTo>
                  <a:pt x="36" y="1148"/>
                </a:lnTo>
                <a:lnTo>
                  <a:pt x="28" y="1148"/>
                </a:lnTo>
                <a:lnTo>
                  <a:pt x="22" y="1152"/>
                </a:lnTo>
                <a:lnTo>
                  <a:pt x="15" y="1154"/>
                </a:lnTo>
                <a:lnTo>
                  <a:pt x="6" y="1154"/>
                </a:lnTo>
                <a:lnTo>
                  <a:pt x="4" y="1153"/>
                </a:lnTo>
                <a:lnTo>
                  <a:pt x="3" y="1152"/>
                </a:lnTo>
                <a:lnTo>
                  <a:pt x="0" y="1151"/>
                </a:lnTo>
                <a:lnTo>
                  <a:pt x="6" y="1147"/>
                </a:lnTo>
                <a:lnTo>
                  <a:pt x="13" y="1142"/>
                </a:lnTo>
                <a:lnTo>
                  <a:pt x="21" y="1134"/>
                </a:lnTo>
                <a:lnTo>
                  <a:pt x="27" y="1122"/>
                </a:lnTo>
                <a:lnTo>
                  <a:pt x="31" y="1111"/>
                </a:lnTo>
                <a:lnTo>
                  <a:pt x="36" y="1104"/>
                </a:lnTo>
                <a:lnTo>
                  <a:pt x="41" y="1100"/>
                </a:lnTo>
                <a:lnTo>
                  <a:pt x="48" y="1094"/>
                </a:lnTo>
                <a:lnTo>
                  <a:pt x="58" y="1088"/>
                </a:lnTo>
                <a:lnTo>
                  <a:pt x="69" y="1082"/>
                </a:lnTo>
                <a:lnTo>
                  <a:pt x="78" y="1078"/>
                </a:lnTo>
                <a:lnTo>
                  <a:pt x="84" y="1074"/>
                </a:lnTo>
                <a:lnTo>
                  <a:pt x="91" y="1074"/>
                </a:lnTo>
                <a:lnTo>
                  <a:pt x="100" y="1078"/>
                </a:lnTo>
                <a:lnTo>
                  <a:pt x="109" y="1081"/>
                </a:lnTo>
                <a:lnTo>
                  <a:pt x="117" y="1084"/>
                </a:lnTo>
                <a:lnTo>
                  <a:pt x="121" y="1081"/>
                </a:lnTo>
                <a:lnTo>
                  <a:pt x="130" y="1076"/>
                </a:lnTo>
                <a:lnTo>
                  <a:pt x="139" y="1069"/>
                </a:lnTo>
                <a:lnTo>
                  <a:pt x="161" y="1052"/>
                </a:lnTo>
                <a:lnTo>
                  <a:pt x="171" y="1045"/>
                </a:lnTo>
                <a:lnTo>
                  <a:pt x="178" y="1038"/>
                </a:lnTo>
                <a:lnTo>
                  <a:pt x="183" y="1034"/>
                </a:lnTo>
                <a:lnTo>
                  <a:pt x="187" y="1028"/>
                </a:lnTo>
                <a:lnTo>
                  <a:pt x="191" y="1019"/>
                </a:lnTo>
                <a:lnTo>
                  <a:pt x="197" y="1009"/>
                </a:lnTo>
                <a:lnTo>
                  <a:pt x="204" y="1001"/>
                </a:lnTo>
                <a:lnTo>
                  <a:pt x="215" y="994"/>
                </a:lnTo>
                <a:lnTo>
                  <a:pt x="231" y="988"/>
                </a:lnTo>
                <a:lnTo>
                  <a:pt x="250" y="978"/>
                </a:lnTo>
                <a:lnTo>
                  <a:pt x="270" y="966"/>
                </a:lnTo>
                <a:lnTo>
                  <a:pt x="285" y="955"/>
                </a:lnTo>
                <a:lnTo>
                  <a:pt x="300" y="943"/>
                </a:lnTo>
                <a:lnTo>
                  <a:pt x="315" y="930"/>
                </a:lnTo>
                <a:lnTo>
                  <a:pt x="328" y="918"/>
                </a:lnTo>
                <a:lnTo>
                  <a:pt x="336" y="908"/>
                </a:lnTo>
                <a:lnTo>
                  <a:pt x="342" y="900"/>
                </a:lnTo>
                <a:lnTo>
                  <a:pt x="348" y="893"/>
                </a:lnTo>
                <a:lnTo>
                  <a:pt x="358" y="889"/>
                </a:lnTo>
                <a:lnTo>
                  <a:pt x="369" y="887"/>
                </a:lnTo>
                <a:lnTo>
                  <a:pt x="379" y="886"/>
                </a:lnTo>
                <a:lnTo>
                  <a:pt x="387" y="882"/>
                </a:lnTo>
                <a:lnTo>
                  <a:pt x="391" y="876"/>
                </a:lnTo>
                <a:lnTo>
                  <a:pt x="396" y="862"/>
                </a:lnTo>
                <a:lnTo>
                  <a:pt x="399" y="856"/>
                </a:lnTo>
                <a:lnTo>
                  <a:pt x="403" y="851"/>
                </a:lnTo>
                <a:lnTo>
                  <a:pt x="409" y="846"/>
                </a:lnTo>
                <a:lnTo>
                  <a:pt x="415" y="838"/>
                </a:lnTo>
                <a:lnTo>
                  <a:pt x="430" y="821"/>
                </a:lnTo>
                <a:lnTo>
                  <a:pt x="436" y="812"/>
                </a:lnTo>
                <a:lnTo>
                  <a:pt x="439" y="806"/>
                </a:lnTo>
                <a:lnTo>
                  <a:pt x="445" y="802"/>
                </a:lnTo>
                <a:lnTo>
                  <a:pt x="453" y="799"/>
                </a:lnTo>
                <a:lnTo>
                  <a:pt x="461" y="797"/>
                </a:lnTo>
                <a:lnTo>
                  <a:pt x="468" y="793"/>
                </a:lnTo>
                <a:lnTo>
                  <a:pt x="474" y="788"/>
                </a:lnTo>
                <a:lnTo>
                  <a:pt x="483" y="782"/>
                </a:lnTo>
                <a:lnTo>
                  <a:pt x="502" y="768"/>
                </a:lnTo>
                <a:lnTo>
                  <a:pt x="510" y="762"/>
                </a:lnTo>
                <a:lnTo>
                  <a:pt x="523" y="749"/>
                </a:lnTo>
                <a:lnTo>
                  <a:pt x="535" y="739"/>
                </a:lnTo>
                <a:lnTo>
                  <a:pt x="547" y="732"/>
                </a:lnTo>
                <a:lnTo>
                  <a:pt x="553" y="727"/>
                </a:lnTo>
                <a:lnTo>
                  <a:pt x="561" y="718"/>
                </a:lnTo>
                <a:lnTo>
                  <a:pt x="570" y="706"/>
                </a:lnTo>
                <a:lnTo>
                  <a:pt x="595" y="666"/>
                </a:lnTo>
                <a:lnTo>
                  <a:pt x="603" y="656"/>
                </a:lnTo>
                <a:lnTo>
                  <a:pt x="609" y="648"/>
                </a:lnTo>
                <a:lnTo>
                  <a:pt x="617" y="636"/>
                </a:lnTo>
                <a:lnTo>
                  <a:pt x="625" y="620"/>
                </a:lnTo>
                <a:lnTo>
                  <a:pt x="635" y="605"/>
                </a:lnTo>
                <a:lnTo>
                  <a:pt x="645" y="588"/>
                </a:lnTo>
                <a:lnTo>
                  <a:pt x="653" y="572"/>
                </a:lnTo>
                <a:lnTo>
                  <a:pt x="660" y="558"/>
                </a:lnTo>
                <a:lnTo>
                  <a:pt x="667" y="547"/>
                </a:lnTo>
                <a:lnTo>
                  <a:pt x="671" y="541"/>
                </a:lnTo>
                <a:lnTo>
                  <a:pt x="675" y="533"/>
                </a:lnTo>
                <a:lnTo>
                  <a:pt x="679" y="518"/>
                </a:lnTo>
                <a:lnTo>
                  <a:pt x="687" y="482"/>
                </a:lnTo>
                <a:lnTo>
                  <a:pt x="691" y="466"/>
                </a:lnTo>
                <a:lnTo>
                  <a:pt x="695" y="452"/>
                </a:lnTo>
                <a:lnTo>
                  <a:pt x="700" y="436"/>
                </a:lnTo>
                <a:lnTo>
                  <a:pt x="701" y="424"/>
                </a:lnTo>
                <a:lnTo>
                  <a:pt x="701" y="379"/>
                </a:lnTo>
                <a:lnTo>
                  <a:pt x="705" y="377"/>
                </a:lnTo>
                <a:lnTo>
                  <a:pt x="713" y="373"/>
                </a:lnTo>
                <a:lnTo>
                  <a:pt x="725" y="371"/>
                </a:lnTo>
                <a:lnTo>
                  <a:pt x="739" y="368"/>
                </a:lnTo>
                <a:lnTo>
                  <a:pt x="753" y="367"/>
                </a:lnTo>
                <a:lnTo>
                  <a:pt x="763" y="365"/>
                </a:lnTo>
                <a:lnTo>
                  <a:pt x="769" y="364"/>
                </a:lnTo>
                <a:lnTo>
                  <a:pt x="775" y="359"/>
                </a:lnTo>
                <a:lnTo>
                  <a:pt x="781" y="349"/>
                </a:lnTo>
                <a:lnTo>
                  <a:pt x="793" y="325"/>
                </a:lnTo>
                <a:lnTo>
                  <a:pt x="799" y="314"/>
                </a:lnTo>
                <a:lnTo>
                  <a:pt x="803" y="307"/>
                </a:lnTo>
                <a:lnTo>
                  <a:pt x="807" y="302"/>
                </a:lnTo>
                <a:lnTo>
                  <a:pt x="813" y="294"/>
                </a:lnTo>
                <a:lnTo>
                  <a:pt x="821" y="283"/>
                </a:lnTo>
                <a:lnTo>
                  <a:pt x="828" y="271"/>
                </a:lnTo>
                <a:lnTo>
                  <a:pt x="837" y="259"/>
                </a:lnTo>
                <a:lnTo>
                  <a:pt x="844" y="248"/>
                </a:lnTo>
                <a:lnTo>
                  <a:pt x="849" y="239"/>
                </a:lnTo>
                <a:lnTo>
                  <a:pt x="852" y="228"/>
                </a:lnTo>
                <a:lnTo>
                  <a:pt x="853" y="212"/>
                </a:lnTo>
                <a:lnTo>
                  <a:pt x="853" y="194"/>
                </a:lnTo>
                <a:lnTo>
                  <a:pt x="852" y="175"/>
                </a:lnTo>
                <a:lnTo>
                  <a:pt x="851" y="158"/>
                </a:lnTo>
                <a:lnTo>
                  <a:pt x="850" y="144"/>
                </a:lnTo>
                <a:lnTo>
                  <a:pt x="850" y="134"/>
                </a:lnTo>
                <a:lnTo>
                  <a:pt x="852" y="127"/>
                </a:lnTo>
                <a:lnTo>
                  <a:pt x="857" y="118"/>
                </a:lnTo>
                <a:lnTo>
                  <a:pt x="864" y="106"/>
                </a:lnTo>
                <a:lnTo>
                  <a:pt x="893" y="66"/>
                </a:lnTo>
                <a:lnTo>
                  <a:pt x="901" y="54"/>
                </a:lnTo>
                <a:lnTo>
                  <a:pt x="909" y="46"/>
                </a:lnTo>
                <a:lnTo>
                  <a:pt x="913" y="40"/>
                </a:lnTo>
                <a:lnTo>
                  <a:pt x="922" y="31"/>
                </a:lnTo>
                <a:lnTo>
                  <a:pt x="931" y="23"/>
                </a:lnTo>
                <a:lnTo>
                  <a:pt x="941" y="17"/>
                </a:lnTo>
                <a:lnTo>
                  <a:pt x="946" y="12"/>
                </a:lnTo>
                <a:lnTo>
                  <a:pt x="947" y="12"/>
                </a:lnTo>
                <a:lnTo>
                  <a:pt x="947" y="19"/>
                </a:lnTo>
                <a:lnTo>
                  <a:pt x="948" y="20"/>
                </a:lnTo>
                <a:lnTo>
                  <a:pt x="948" y="23"/>
                </a:lnTo>
                <a:lnTo>
                  <a:pt x="951" y="25"/>
                </a:lnTo>
                <a:lnTo>
                  <a:pt x="953" y="25"/>
                </a:lnTo>
                <a:lnTo>
                  <a:pt x="957" y="24"/>
                </a:lnTo>
                <a:lnTo>
                  <a:pt x="963" y="20"/>
                </a:lnTo>
                <a:lnTo>
                  <a:pt x="966" y="18"/>
                </a:lnTo>
                <a:lnTo>
                  <a:pt x="969" y="16"/>
                </a:lnTo>
                <a:lnTo>
                  <a:pt x="970" y="13"/>
                </a:lnTo>
                <a:lnTo>
                  <a:pt x="970" y="11"/>
                </a:lnTo>
                <a:lnTo>
                  <a:pt x="964" y="5"/>
                </a:lnTo>
                <a:lnTo>
                  <a:pt x="964" y="4"/>
                </a:lnTo>
                <a:lnTo>
                  <a:pt x="969" y="2"/>
                </a:lnTo>
                <a:lnTo>
                  <a:pt x="972" y="2"/>
                </a:lnTo>
                <a:lnTo>
                  <a:pt x="977" y="0"/>
                </a:lnTo>
                <a:close/>
              </a:path>
            </a:pathLst>
          </a:custGeom>
          <a:solidFill>
            <a:srgbClr val="7f7f7f"/>
          </a:solidFill>
          <a:ln w="0">
            <a:solidFill>
              <a:srgbClr val="adada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733"/>
          <p:cNvSpPr/>
          <p:nvPr/>
        </p:nvSpPr>
        <p:spPr>
          <a:xfrm>
            <a:off x="5918040" y="3255840"/>
            <a:ext cx="360360" cy="727200"/>
          </a:xfrm>
          <a:custGeom>
            <a:avLst/>
            <a:gdLst>
              <a:gd name="textAreaLeft" fmla="*/ 0 w 360360"/>
              <a:gd name="textAreaRight" fmla="*/ 360720 w 360360"/>
              <a:gd name="textAreaTop" fmla="*/ 0 h 727200"/>
              <a:gd name="textAreaBottom" fmla="*/ 727560 h 727200"/>
            </a:gdLst>
            <a:ahLst/>
            <a:rect l="textAreaLeft" t="textAreaTop" r="textAreaRight" b="textAreaBottom"/>
            <a:pathLst>
              <a:path w="264" h="531">
                <a:moveTo>
                  <a:pt x="113" y="0"/>
                </a:moveTo>
                <a:lnTo>
                  <a:pt x="151" y="0"/>
                </a:lnTo>
                <a:lnTo>
                  <a:pt x="163" y="2"/>
                </a:lnTo>
                <a:lnTo>
                  <a:pt x="181" y="2"/>
                </a:lnTo>
                <a:lnTo>
                  <a:pt x="184" y="3"/>
                </a:lnTo>
                <a:lnTo>
                  <a:pt x="181" y="4"/>
                </a:lnTo>
                <a:lnTo>
                  <a:pt x="176" y="5"/>
                </a:lnTo>
                <a:lnTo>
                  <a:pt x="169" y="8"/>
                </a:lnTo>
                <a:lnTo>
                  <a:pt x="161" y="9"/>
                </a:lnTo>
                <a:lnTo>
                  <a:pt x="154" y="11"/>
                </a:lnTo>
                <a:lnTo>
                  <a:pt x="143" y="17"/>
                </a:lnTo>
                <a:lnTo>
                  <a:pt x="132" y="26"/>
                </a:lnTo>
                <a:lnTo>
                  <a:pt x="125" y="36"/>
                </a:lnTo>
                <a:lnTo>
                  <a:pt x="121" y="50"/>
                </a:lnTo>
                <a:lnTo>
                  <a:pt x="124" y="60"/>
                </a:lnTo>
                <a:lnTo>
                  <a:pt x="128" y="70"/>
                </a:lnTo>
                <a:lnTo>
                  <a:pt x="133" y="78"/>
                </a:lnTo>
                <a:lnTo>
                  <a:pt x="138" y="84"/>
                </a:lnTo>
                <a:lnTo>
                  <a:pt x="140" y="89"/>
                </a:lnTo>
                <a:lnTo>
                  <a:pt x="145" y="94"/>
                </a:lnTo>
                <a:lnTo>
                  <a:pt x="164" y="99"/>
                </a:lnTo>
                <a:lnTo>
                  <a:pt x="173" y="100"/>
                </a:lnTo>
                <a:lnTo>
                  <a:pt x="178" y="99"/>
                </a:lnTo>
                <a:lnTo>
                  <a:pt x="182" y="96"/>
                </a:lnTo>
                <a:lnTo>
                  <a:pt x="186" y="95"/>
                </a:lnTo>
                <a:lnTo>
                  <a:pt x="188" y="93"/>
                </a:lnTo>
                <a:lnTo>
                  <a:pt x="191" y="94"/>
                </a:lnTo>
                <a:lnTo>
                  <a:pt x="194" y="99"/>
                </a:lnTo>
                <a:lnTo>
                  <a:pt x="198" y="105"/>
                </a:lnTo>
                <a:lnTo>
                  <a:pt x="202" y="112"/>
                </a:lnTo>
                <a:lnTo>
                  <a:pt x="205" y="117"/>
                </a:lnTo>
                <a:lnTo>
                  <a:pt x="208" y="122"/>
                </a:lnTo>
                <a:lnTo>
                  <a:pt x="209" y="131"/>
                </a:lnTo>
                <a:lnTo>
                  <a:pt x="209" y="140"/>
                </a:lnTo>
                <a:lnTo>
                  <a:pt x="206" y="147"/>
                </a:lnTo>
                <a:lnTo>
                  <a:pt x="202" y="150"/>
                </a:lnTo>
                <a:lnTo>
                  <a:pt x="198" y="152"/>
                </a:lnTo>
                <a:lnTo>
                  <a:pt x="197" y="156"/>
                </a:lnTo>
                <a:lnTo>
                  <a:pt x="197" y="164"/>
                </a:lnTo>
                <a:lnTo>
                  <a:pt x="198" y="171"/>
                </a:lnTo>
                <a:lnTo>
                  <a:pt x="200" y="178"/>
                </a:lnTo>
                <a:lnTo>
                  <a:pt x="204" y="191"/>
                </a:lnTo>
                <a:lnTo>
                  <a:pt x="205" y="203"/>
                </a:lnTo>
                <a:lnTo>
                  <a:pt x="208" y="214"/>
                </a:lnTo>
                <a:lnTo>
                  <a:pt x="210" y="221"/>
                </a:lnTo>
                <a:lnTo>
                  <a:pt x="210" y="233"/>
                </a:lnTo>
                <a:lnTo>
                  <a:pt x="212" y="240"/>
                </a:lnTo>
                <a:lnTo>
                  <a:pt x="217" y="244"/>
                </a:lnTo>
                <a:lnTo>
                  <a:pt x="226" y="246"/>
                </a:lnTo>
                <a:lnTo>
                  <a:pt x="235" y="248"/>
                </a:lnTo>
                <a:lnTo>
                  <a:pt x="236" y="254"/>
                </a:lnTo>
                <a:lnTo>
                  <a:pt x="238" y="258"/>
                </a:lnTo>
                <a:lnTo>
                  <a:pt x="238" y="263"/>
                </a:lnTo>
                <a:lnTo>
                  <a:pt x="239" y="266"/>
                </a:lnTo>
                <a:lnTo>
                  <a:pt x="242" y="268"/>
                </a:lnTo>
                <a:lnTo>
                  <a:pt x="248" y="269"/>
                </a:lnTo>
                <a:lnTo>
                  <a:pt x="256" y="269"/>
                </a:lnTo>
                <a:lnTo>
                  <a:pt x="260" y="270"/>
                </a:lnTo>
                <a:lnTo>
                  <a:pt x="263" y="272"/>
                </a:lnTo>
                <a:lnTo>
                  <a:pt x="264" y="273"/>
                </a:lnTo>
                <a:lnTo>
                  <a:pt x="264" y="276"/>
                </a:lnTo>
                <a:lnTo>
                  <a:pt x="260" y="278"/>
                </a:lnTo>
                <a:lnTo>
                  <a:pt x="257" y="278"/>
                </a:lnTo>
                <a:lnTo>
                  <a:pt x="253" y="279"/>
                </a:lnTo>
                <a:lnTo>
                  <a:pt x="248" y="279"/>
                </a:lnTo>
                <a:lnTo>
                  <a:pt x="246" y="281"/>
                </a:lnTo>
                <a:lnTo>
                  <a:pt x="242" y="282"/>
                </a:lnTo>
                <a:lnTo>
                  <a:pt x="240" y="285"/>
                </a:lnTo>
                <a:lnTo>
                  <a:pt x="238" y="286"/>
                </a:lnTo>
                <a:lnTo>
                  <a:pt x="235" y="286"/>
                </a:lnTo>
                <a:lnTo>
                  <a:pt x="233" y="285"/>
                </a:lnTo>
                <a:lnTo>
                  <a:pt x="232" y="284"/>
                </a:lnTo>
                <a:lnTo>
                  <a:pt x="229" y="282"/>
                </a:lnTo>
                <a:lnTo>
                  <a:pt x="227" y="284"/>
                </a:lnTo>
                <a:lnTo>
                  <a:pt x="226" y="285"/>
                </a:lnTo>
                <a:lnTo>
                  <a:pt x="226" y="288"/>
                </a:lnTo>
                <a:lnTo>
                  <a:pt x="228" y="293"/>
                </a:lnTo>
                <a:lnTo>
                  <a:pt x="228" y="298"/>
                </a:lnTo>
                <a:lnTo>
                  <a:pt x="227" y="298"/>
                </a:lnTo>
                <a:lnTo>
                  <a:pt x="226" y="297"/>
                </a:lnTo>
                <a:lnTo>
                  <a:pt x="226" y="294"/>
                </a:lnTo>
                <a:lnTo>
                  <a:pt x="223" y="293"/>
                </a:lnTo>
                <a:lnTo>
                  <a:pt x="222" y="291"/>
                </a:lnTo>
                <a:lnTo>
                  <a:pt x="218" y="291"/>
                </a:lnTo>
                <a:lnTo>
                  <a:pt x="217" y="292"/>
                </a:lnTo>
                <a:lnTo>
                  <a:pt x="215" y="297"/>
                </a:lnTo>
                <a:lnTo>
                  <a:pt x="215" y="299"/>
                </a:lnTo>
                <a:lnTo>
                  <a:pt x="210" y="304"/>
                </a:lnTo>
                <a:lnTo>
                  <a:pt x="208" y="304"/>
                </a:lnTo>
                <a:lnTo>
                  <a:pt x="208" y="291"/>
                </a:lnTo>
                <a:lnTo>
                  <a:pt x="206" y="290"/>
                </a:lnTo>
                <a:lnTo>
                  <a:pt x="206" y="288"/>
                </a:lnTo>
                <a:lnTo>
                  <a:pt x="204" y="288"/>
                </a:lnTo>
                <a:lnTo>
                  <a:pt x="202" y="290"/>
                </a:lnTo>
                <a:lnTo>
                  <a:pt x="196" y="294"/>
                </a:lnTo>
                <a:lnTo>
                  <a:pt x="192" y="300"/>
                </a:lnTo>
                <a:lnTo>
                  <a:pt x="190" y="306"/>
                </a:lnTo>
                <a:lnTo>
                  <a:pt x="185" y="316"/>
                </a:lnTo>
                <a:lnTo>
                  <a:pt x="179" y="329"/>
                </a:lnTo>
                <a:lnTo>
                  <a:pt x="176" y="340"/>
                </a:lnTo>
                <a:lnTo>
                  <a:pt x="179" y="353"/>
                </a:lnTo>
                <a:lnTo>
                  <a:pt x="182" y="363"/>
                </a:lnTo>
                <a:lnTo>
                  <a:pt x="185" y="372"/>
                </a:lnTo>
                <a:lnTo>
                  <a:pt x="186" y="378"/>
                </a:lnTo>
                <a:lnTo>
                  <a:pt x="184" y="383"/>
                </a:lnTo>
                <a:lnTo>
                  <a:pt x="179" y="389"/>
                </a:lnTo>
                <a:lnTo>
                  <a:pt x="175" y="401"/>
                </a:lnTo>
                <a:lnTo>
                  <a:pt x="174" y="417"/>
                </a:lnTo>
                <a:lnTo>
                  <a:pt x="173" y="425"/>
                </a:lnTo>
                <a:lnTo>
                  <a:pt x="169" y="429"/>
                </a:lnTo>
                <a:lnTo>
                  <a:pt x="160" y="431"/>
                </a:lnTo>
                <a:lnTo>
                  <a:pt x="154" y="432"/>
                </a:lnTo>
                <a:lnTo>
                  <a:pt x="146" y="438"/>
                </a:lnTo>
                <a:lnTo>
                  <a:pt x="143" y="448"/>
                </a:lnTo>
                <a:lnTo>
                  <a:pt x="140" y="465"/>
                </a:lnTo>
                <a:lnTo>
                  <a:pt x="138" y="472"/>
                </a:lnTo>
                <a:lnTo>
                  <a:pt x="133" y="476"/>
                </a:lnTo>
                <a:lnTo>
                  <a:pt x="125" y="476"/>
                </a:lnTo>
                <a:lnTo>
                  <a:pt x="122" y="477"/>
                </a:lnTo>
                <a:lnTo>
                  <a:pt x="121" y="482"/>
                </a:lnTo>
                <a:lnTo>
                  <a:pt x="120" y="494"/>
                </a:lnTo>
                <a:lnTo>
                  <a:pt x="113" y="504"/>
                </a:lnTo>
                <a:lnTo>
                  <a:pt x="102" y="515"/>
                </a:lnTo>
                <a:lnTo>
                  <a:pt x="97" y="519"/>
                </a:lnTo>
                <a:lnTo>
                  <a:pt x="94" y="522"/>
                </a:lnTo>
                <a:lnTo>
                  <a:pt x="92" y="526"/>
                </a:lnTo>
                <a:lnTo>
                  <a:pt x="90" y="531"/>
                </a:lnTo>
                <a:lnTo>
                  <a:pt x="77" y="531"/>
                </a:lnTo>
                <a:lnTo>
                  <a:pt x="67" y="530"/>
                </a:lnTo>
                <a:lnTo>
                  <a:pt x="62" y="527"/>
                </a:lnTo>
                <a:lnTo>
                  <a:pt x="60" y="524"/>
                </a:lnTo>
                <a:lnTo>
                  <a:pt x="60" y="518"/>
                </a:lnTo>
                <a:lnTo>
                  <a:pt x="62" y="503"/>
                </a:lnTo>
                <a:lnTo>
                  <a:pt x="64" y="497"/>
                </a:lnTo>
                <a:lnTo>
                  <a:pt x="64" y="488"/>
                </a:lnTo>
                <a:lnTo>
                  <a:pt x="62" y="485"/>
                </a:lnTo>
                <a:lnTo>
                  <a:pt x="58" y="480"/>
                </a:lnTo>
                <a:lnTo>
                  <a:pt x="54" y="478"/>
                </a:lnTo>
                <a:lnTo>
                  <a:pt x="52" y="476"/>
                </a:lnTo>
                <a:lnTo>
                  <a:pt x="48" y="474"/>
                </a:lnTo>
                <a:lnTo>
                  <a:pt x="46" y="473"/>
                </a:lnTo>
                <a:lnTo>
                  <a:pt x="43" y="473"/>
                </a:lnTo>
                <a:lnTo>
                  <a:pt x="42" y="474"/>
                </a:lnTo>
                <a:lnTo>
                  <a:pt x="41" y="477"/>
                </a:lnTo>
                <a:lnTo>
                  <a:pt x="40" y="478"/>
                </a:lnTo>
                <a:lnTo>
                  <a:pt x="35" y="480"/>
                </a:lnTo>
                <a:lnTo>
                  <a:pt x="32" y="480"/>
                </a:lnTo>
                <a:lnTo>
                  <a:pt x="30" y="479"/>
                </a:lnTo>
                <a:lnTo>
                  <a:pt x="29" y="477"/>
                </a:lnTo>
                <a:lnTo>
                  <a:pt x="29" y="472"/>
                </a:lnTo>
                <a:lnTo>
                  <a:pt x="31" y="470"/>
                </a:lnTo>
                <a:lnTo>
                  <a:pt x="34" y="466"/>
                </a:lnTo>
                <a:lnTo>
                  <a:pt x="36" y="464"/>
                </a:lnTo>
                <a:lnTo>
                  <a:pt x="37" y="461"/>
                </a:lnTo>
                <a:lnTo>
                  <a:pt x="38" y="460"/>
                </a:lnTo>
                <a:lnTo>
                  <a:pt x="36" y="460"/>
                </a:lnTo>
                <a:lnTo>
                  <a:pt x="35" y="459"/>
                </a:lnTo>
                <a:lnTo>
                  <a:pt x="34" y="459"/>
                </a:lnTo>
                <a:lnTo>
                  <a:pt x="34" y="458"/>
                </a:lnTo>
                <a:lnTo>
                  <a:pt x="32" y="456"/>
                </a:lnTo>
                <a:lnTo>
                  <a:pt x="32" y="453"/>
                </a:lnTo>
                <a:lnTo>
                  <a:pt x="30" y="450"/>
                </a:lnTo>
                <a:lnTo>
                  <a:pt x="26" y="448"/>
                </a:lnTo>
                <a:lnTo>
                  <a:pt x="23" y="447"/>
                </a:lnTo>
                <a:lnTo>
                  <a:pt x="17" y="446"/>
                </a:lnTo>
                <a:lnTo>
                  <a:pt x="13" y="446"/>
                </a:lnTo>
                <a:lnTo>
                  <a:pt x="12" y="444"/>
                </a:lnTo>
                <a:lnTo>
                  <a:pt x="10" y="440"/>
                </a:lnTo>
                <a:lnTo>
                  <a:pt x="10" y="434"/>
                </a:lnTo>
                <a:lnTo>
                  <a:pt x="11" y="431"/>
                </a:lnTo>
                <a:lnTo>
                  <a:pt x="11" y="429"/>
                </a:lnTo>
                <a:lnTo>
                  <a:pt x="13" y="424"/>
                </a:lnTo>
                <a:lnTo>
                  <a:pt x="16" y="423"/>
                </a:lnTo>
                <a:lnTo>
                  <a:pt x="19" y="422"/>
                </a:lnTo>
                <a:lnTo>
                  <a:pt x="23" y="422"/>
                </a:lnTo>
                <a:lnTo>
                  <a:pt x="26" y="420"/>
                </a:lnTo>
                <a:lnTo>
                  <a:pt x="30" y="417"/>
                </a:lnTo>
                <a:lnTo>
                  <a:pt x="29" y="411"/>
                </a:lnTo>
                <a:lnTo>
                  <a:pt x="26" y="405"/>
                </a:lnTo>
                <a:lnTo>
                  <a:pt x="22" y="400"/>
                </a:lnTo>
                <a:lnTo>
                  <a:pt x="22" y="396"/>
                </a:lnTo>
                <a:lnTo>
                  <a:pt x="24" y="395"/>
                </a:lnTo>
                <a:lnTo>
                  <a:pt x="25" y="394"/>
                </a:lnTo>
                <a:lnTo>
                  <a:pt x="28" y="394"/>
                </a:lnTo>
                <a:lnTo>
                  <a:pt x="29" y="396"/>
                </a:lnTo>
                <a:lnTo>
                  <a:pt x="30" y="396"/>
                </a:lnTo>
                <a:lnTo>
                  <a:pt x="30" y="395"/>
                </a:lnTo>
                <a:lnTo>
                  <a:pt x="29" y="394"/>
                </a:lnTo>
                <a:lnTo>
                  <a:pt x="28" y="394"/>
                </a:lnTo>
                <a:lnTo>
                  <a:pt x="28" y="393"/>
                </a:lnTo>
                <a:lnTo>
                  <a:pt x="26" y="392"/>
                </a:lnTo>
                <a:lnTo>
                  <a:pt x="26" y="388"/>
                </a:lnTo>
                <a:lnTo>
                  <a:pt x="24" y="383"/>
                </a:lnTo>
                <a:lnTo>
                  <a:pt x="20" y="382"/>
                </a:lnTo>
                <a:lnTo>
                  <a:pt x="8" y="387"/>
                </a:lnTo>
                <a:lnTo>
                  <a:pt x="4" y="389"/>
                </a:lnTo>
                <a:lnTo>
                  <a:pt x="0" y="388"/>
                </a:lnTo>
                <a:lnTo>
                  <a:pt x="0" y="382"/>
                </a:lnTo>
                <a:lnTo>
                  <a:pt x="1" y="375"/>
                </a:lnTo>
                <a:lnTo>
                  <a:pt x="2" y="366"/>
                </a:lnTo>
                <a:lnTo>
                  <a:pt x="5" y="360"/>
                </a:lnTo>
                <a:lnTo>
                  <a:pt x="10" y="356"/>
                </a:lnTo>
                <a:lnTo>
                  <a:pt x="17" y="353"/>
                </a:lnTo>
                <a:lnTo>
                  <a:pt x="25" y="352"/>
                </a:lnTo>
                <a:lnTo>
                  <a:pt x="34" y="352"/>
                </a:lnTo>
                <a:lnTo>
                  <a:pt x="38" y="353"/>
                </a:lnTo>
                <a:lnTo>
                  <a:pt x="40" y="356"/>
                </a:lnTo>
                <a:lnTo>
                  <a:pt x="38" y="359"/>
                </a:lnTo>
                <a:lnTo>
                  <a:pt x="36" y="365"/>
                </a:lnTo>
                <a:lnTo>
                  <a:pt x="32" y="370"/>
                </a:lnTo>
                <a:lnTo>
                  <a:pt x="30" y="375"/>
                </a:lnTo>
                <a:lnTo>
                  <a:pt x="30" y="378"/>
                </a:lnTo>
                <a:lnTo>
                  <a:pt x="41" y="378"/>
                </a:lnTo>
                <a:lnTo>
                  <a:pt x="44" y="375"/>
                </a:lnTo>
                <a:lnTo>
                  <a:pt x="46" y="372"/>
                </a:lnTo>
                <a:lnTo>
                  <a:pt x="47" y="369"/>
                </a:lnTo>
                <a:lnTo>
                  <a:pt x="48" y="366"/>
                </a:lnTo>
                <a:lnTo>
                  <a:pt x="48" y="357"/>
                </a:lnTo>
                <a:lnTo>
                  <a:pt x="49" y="351"/>
                </a:lnTo>
                <a:lnTo>
                  <a:pt x="53" y="346"/>
                </a:lnTo>
                <a:lnTo>
                  <a:pt x="55" y="345"/>
                </a:lnTo>
                <a:lnTo>
                  <a:pt x="56" y="345"/>
                </a:lnTo>
                <a:lnTo>
                  <a:pt x="58" y="347"/>
                </a:lnTo>
                <a:lnTo>
                  <a:pt x="59" y="348"/>
                </a:lnTo>
                <a:lnTo>
                  <a:pt x="59" y="351"/>
                </a:lnTo>
                <a:lnTo>
                  <a:pt x="60" y="353"/>
                </a:lnTo>
                <a:lnTo>
                  <a:pt x="60" y="362"/>
                </a:lnTo>
                <a:lnTo>
                  <a:pt x="59" y="368"/>
                </a:lnTo>
                <a:lnTo>
                  <a:pt x="60" y="374"/>
                </a:lnTo>
                <a:lnTo>
                  <a:pt x="61" y="377"/>
                </a:lnTo>
                <a:lnTo>
                  <a:pt x="62" y="376"/>
                </a:lnTo>
                <a:lnTo>
                  <a:pt x="65" y="370"/>
                </a:lnTo>
                <a:lnTo>
                  <a:pt x="68" y="362"/>
                </a:lnTo>
                <a:lnTo>
                  <a:pt x="71" y="351"/>
                </a:lnTo>
                <a:lnTo>
                  <a:pt x="74" y="342"/>
                </a:lnTo>
                <a:lnTo>
                  <a:pt x="77" y="336"/>
                </a:lnTo>
                <a:lnTo>
                  <a:pt x="78" y="335"/>
                </a:lnTo>
                <a:lnTo>
                  <a:pt x="80" y="338"/>
                </a:lnTo>
                <a:lnTo>
                  <a:pt x="82" y="336"/>
                </a:lnTo>
                <a:lnTo>
                  <a:pt x="84" y="336"/>
                </a:lnTo>
                <a:lnTo>
                  <a:pt x="89" y="334"/>
                </a:lnTo>
                <a:lnTo>
                  <a:pt x="92" y="333"/>
                </a:lnTo>
                <a:lnTo>
                  <a:pt x="98" y="327"/>
                </a:lnTo>
                <a:lnTo>
                  <a:pt x="101" y="327"/>
                </a:lnTo>
                <a:lnTo>
                  <a:pt x="102" y="330"/>
                </a:lnTo>
                <a:lnTo>
                  <a:pt x="100" y="335"/>
                </a:lnTo>
                <a:lnTo>
                  <a:pt x="97" y="342"/>
                </a:lnTo>
                <a:lnTo>
                  <a:pt x="95" y="352"/>
                </a:lnTo>
                <a:lnTo>
                  <a:pt x="95" y="358"/>
                </a:lnTo>
                <a:lnTo>
                  <a:pt x="96" y="359"/>
                </a:lnTo>
                <a:lnTo>
                  <a:pt x="98" y="359"/>
                </a:lnTo>
                <a:lnTo>
                  <a:pt x="108" y="354"/>
                </a:lnTo>
                <a:lnTo>
                  <a:pt x="113" y="350"/>
                </a:lnTo>
                <a:lnTo>
                  <a:pt x="118" y="339"/>
                </a:lnTo>
                <a:lnTo>
                  <a:pt x="121" y="326"/>
                </a:lnTo>
                <a:lnTo>
                  <a:pt x="125" y="314"/>
                </a:lnTo>
                <a:lnTo>
                  <a:pt x="127" y="306"/>
                </a:lnTo>
                <a:lnTo>
                  <a:pt x="128" y="298"/>
                </a:lnTo>
                <a:lnTo>
                  <a:pt x="125" y="291"/>
                </a:lnTo>
                <a:lnTo>
                  <a:pt x="120" y="285"/>
                </a:lnTo>
                <a:lnTo>
                  <a:pt x="118" y="282"/>
                </a:lnTo>
                <a:lnTo>
                  <a:pt x="116" y="280"/>
                </a:lnTo>
                <a:lnTo>
                  <a:pt x="116" y="276"/>
                </a:lnTo>
                <a:lnTo>
                  <a:pt x="115" y="274"/>
                </a:lnTo>
                <a:lnTo>
                  <a:pt x="115" y="268"/>
                </a:lnTo>
                <a:lnTo>
                  <a:pt x="119" y="264"/>
                </a:lnTo>
                <a:lnTo>
                  <a:pt x="121" y="263"/>
                </a:lnTo>
                <a:lnTo>
                  <a:pt x="124" y="260"/>
                </a:lnTo>
                <a:lnTo>
                  <a:pt x="125" y="256"/>
                </a:lnTo>
                <a:lnTo>
                  <a:pt x="126" y="248"/>
                </a:lnTo>
                <a:lnTo>
                  <a:pt x="127" y="242"/>
                </a:lnTo>
                <a:lnTo>
                  <a:pt x="130" y="234"/>
                </a:lnTo>
                <a:lnTo>
                  <a:pt x="132" y="231"/>
                </a:lnTo>
                <a:lnTo>
                  <a:pt x="133" y="227"/>
                </a:lnTo>
                <a:lnTo>
                  <a:pt x="139" y="221"/>
                </a:lnTo>
                <a:lnTo>
                  <a:pt x="143" y="220"/>
                </a:lnTo>
                <a:lnTo>
                  <a:pt x="146" y="216"/>
                </a:lnTo>
                <a:lnTo>
                  <a:pt x="146" y="200"/>
                </a:lnTo>
                <a:lnTo>
                  <a:pt x="149" y="194"/>
                </a:lnTo>
                <a:lnTo>
                  <a:pt x="150" y="191"/>
                </a:lnTo>
                <a:lnTo>
                  <a:pt x="152" y="190"/>
                </a:lnTo>
                <a:lnTo>
                  <a:pt x="154" y="189"/>
                </a:lnTo>
                <a:lnTo>
                  <a:pt x="158" y="194"/>
                </a:lnTo>
                <a:lnTo>
                  <a:pt x="161" y="195"/>
                </a:lnTo>
                <a:lnTo>
                  <a:pt x="163" y="195"/>
                </a:lnTo>
                <a:lnTo>
                  <a:pt x="167" y="194"/>
                </a:lnTo>
                <a:lnTo>
                  <a:pt x="169" y="190"/>
                </a:lnTo>
                <a:lnTo>
                  <a:pt x="170" y="188"/>
                </a:lnTo>
                <a:lnTo>
                  <a:pt x="172" y="184"/>
                </a:lnTo>
                <a:lnTo>
                  <a:pt x="172" y="180"/>
                </a:lnTo>
                <a:lnTo>
                  <a:pt x="173" y="178"/>
                </a:lnTo>
                <a:lnTo>
                  <a:pt x="173" y="176"/>
                </a:lnTo>
                <a:lnTo>
                  <a:pt x="169" y="176"/>
                </a:lnTo>
                <a:lnTo>
                  <a:pt x="168" y="177"/>
                </a:lnTo>
                <a:lnTo>
                  <a:pt x="162" y="177"/>
                </a:lnTo>
                <a:lnTo>
                  <a:pt x="161" y="176"/>
                </a:lnTo>
                <a:lnTo>
                  <a:pt x="163" y="173"/>
                </a:lnTo>
                <a:lnTo>
                  <a:pt x="168" y="171"/>
                </a:lnTo>
                <a:lnTo>
                  <a:pt x="172" y="170"/>
                </a:lnTo>
                <a:lnTo>
                  <a:pt x="174" y="167"/>
                </a:lnTo>
                <a:lnTo>
                  <a:pt x="174" y="165"/>
                </a:lnTo>
                <a:lnTo>
                  <a:pt x="173" y="162"/>
                </a:lnTo>
                <a:lnTo>
                  <a:pt x="172" y="161"/>
                </a:lnTo>
                <a:lnTo>
                  <a:pt x="170" y="159"/>
                </a:lnTo>
                <a:lnTo>
                  <a:pt x="166" y="156"/>
                </a:lnTo>
                <a:lnTo>
                  <a:pt x="163" y="156"/>
                </a:lnTo>
                <a:lnTo>
                  <a:pt x="162" y="158"/>
                </a:lnTo>
                <a:lnTo>
                  <a:pt x="161" y="160"/>
                </a:lnTo>
                <a:lnTo>
                  <a:pt x="157" y="171"/>
                </a:lnTo>
                <a:lnTo>
                  <a:pt x="155" y="173"/>
                </a:lnTo>
                <a:lnTo>
                  <a:pt x="148" y="177"/>
                </a:lnTo>
                <a:lnTo>
                  <a:pt x="144" y="178"/>
                </a:lnTo>
                <a:lnTo>
                  <a:pt x="140" y="178"/>
                </a:lnTo>
                <a:lnTo>
                  <a:pt x="138" y="176"/>
                </a:lnTo>
                <a:lnTo>
                  <a:pt x="137" y="173"/>
                </a:lnTo>
                <a:lnTo>
                  <a:pt x="136" y="172"/>
                </a:lnTo>
                <a:lnTo>
                  <a:pt x="133" y="171"/>
                </a:lnTo>
                <a:lnTo>
                  <a:pt x="128" y="171"/>
                </a:lnTo>
                <a:lnTo>
                  <a:pt x="128" y="166"/>
                </a:lnTo>
                <a:lnTo>
                  <a:pt x="131" y="161"/>
                </a:lnTo>
                <a:lnTo>
                  <a:pt x="133" y="158"/>
                </a:lnTo>
                <a:lnTo>
                  <a:pt x="134" y="154"/>
                </a:lnTo>
                <a:lnTo>
                  <a:pt x="136" y="152"/>
                </a:lnTo>
                <a:lnTo>
                  <a:pt x="138" y="150"/>
                </a:lnTo>
                <a:lnTo>
                  <a:pt x="140" y="148"/>
                </a:lnTo>
                <a:lnTo>
                  <a:pt x="142" y="148"/>
                </a:lnTo>
                <a:lnTo>
                  <a:pt x="143" y="147"/>
                </a:lnTo>
                <a:lnTo>
                  <a:pt x="144" y="144"/>
                </a:lnTo>
                <a:lnTo>
                  <a:pt x="146" y="142"/>
                </a:lnTo>
                <a:lnTo>
                  <a:pt x="149" y="136"/>
                </a:lnTo>
                <a:lnTo>
                  <a:pt x="145" y="130"/>
                </a:lnTo>
                <a:lnTo>
                  <a:pt x="139" y="124"/>
                </a:lnTo>
                <a:lnTo>
                  <a:pt x="134" y="117"/>
                </a:lnTo>
                <a:lnTo>
                  <a:pt x="133" y="114"/>
                </a:lnTo>
                <a:lnTo>
                  <a:pt x="133" y="111"/>
                </a:lnTo>
                <a:lnTo>
                  <a:pt x="134" y="111"/>
                </a:lnTo>
                <a:lnTo>
                  <a:pt x="136" y="110"/>
                </a:lnTo>
                <a:lnTo>
                  <a:pt x="139" y="110"/>
                </a:lnTo>
                <a:lnTo>
                  <a:pt x="143" y="106"/>
                </a:lnTo>
                <a:lnTo>
                  <a:pt x="144" y="104"/>
                </a:lnTo>
                <a:lnTo>
                  <a:pt x="142" y="99"/>
                </a:lnTo>
                <a:lnTo>
                  <a:pt x="139" y="98"/>
                </a:lnTo>
                <a:lnTo>
                  <a:pt x="136" y="96"/>
                </a:lnTo>
                <a:lnTo>
                  <a:pt x="131" y="95"/>
                </a:lnTo>
                <a:lnTo>
                  <a:pt x="128" y="94"/>
                </a:lnTo>
                <a:lnTo>
                  <a:pt x="127" y="92"/>
                </a:lnTo>
                <a:lnTo>
                  <a:pt x="126" y="90"/>
                </a:lnTo>
                <a:lnTo>
                  <a:pt x="126" y="86"/>
                </a:lnTo>
                <a:lnTo>
                  <a:pt x="125" y="83"/>
                </a:lnTo>
                <a:lnTo>
                  <a:pt x="122" y="81"/>
                </a:lnTo>
                <a:lnTo>
                  <a:pt x="119" y="81"/>
                </a:lnTo>
                <a:lnTo>
                  <a:pt x="118" y="82"/>
                </a:lnTo>
                <a:lnTo>
                  <a:pt x="118" y="84"/>
                </a:lnTo>
                <a:lnTo>
                  <a:pt x="116" y="87"/>
                </a:lnTo>
                <a:lnTo>
                  <a:pt x="114" y="89"/>
                </a:lnTo>
                <a:lnTo>
                  <a:pt x="112" y="88"/>
                </a:lnTo>
                <a:lnTo>
                  <a:pt x="109" y="83"/>
                </a:lnTo>
                <a:lnTo>
                  <a:pt x="107" y="82"/>
                </a:lnTo>
                <a:lnTo>
                  <a:pt x="106" y="80"/>
                </a:lnTo>
                <a:lnTo>
                  <a:pt x="104" y="78"/>
                </a:lnTo>
                <a:lnTo>
                  <a:pt x="103" y="80"/>
                </a:lnTo>
                <a:lnTo>
                  <a:pt x="98" y="86"/>
                </a:lnTo>
                <a:lnTo>
                  <a:pt x="89" y="100"/>
                </a:lnTo>
                <a:lnTo>
                  <a:pt x="85" y="106"/>
                </a:lnTo>
                <a:lnTo>
                  <a:pt x="83" y="108"/>
                </a:lnTo>
                <a:lnTo>
                  <a:pt x="80" y="108"/>
                </a:lnTo>
                <a:lnTo>
                  <a:pt x="78" y="107"/>
                </a:lnTo>
                <a:lnTo>
                  <a:pt x="74" y="105"/>
                </a:lnTo>
                <a:lnTo>
                  <a:pt x="68" y="99"/>
                </a:lnTo>
                <a:lnTo>
                  <a:pt x="67" y="96"/>
                </a:lnTo>
                <a:lnTo>
                  <a:pt x="67" y="95"/>
                </a:lnTo>
                <a:lnTo>
                  <a:pt x="68" y="94"/>
                </a:lnTo>
                <a:lnTo>
                  <a:pt x="73" y="92"/>
                </a:lnTo>
                <a:lnTo>
                  <a:pt x="80" y="89"/>
                </a:lnTo>
                <a:lnTo>
                  <a:pt x="84" y="87"/>
                </a:lnTo>
                <a:lnTo>
                  <a:pt x="86" y="84"/>
                </a:lnTo>
                <a:lnTo>
                  <a:pt x="89" y="83"/>
                </a:lnTo>
                <a:lnTo>
                  <a:pt x="90" y="81"/>
                </a:lnTo>
                <a:lnTo>
                  <a:pt x="90" y="77"/>
                </a:lnTo>
                <a:lnTo>
                  <a:pt x="92" y="72"/>
                </a:lnTo>
                <a:lnTo>
                  <a:pt x="100" y="62"/>
                </a:lnTo>
                <a:lnTo>
                  <a:pt x="102" y="57"/>
                </a:lnTo>
                <a:lnTo>
                  <a:pt x="106" y="52"/>
                </a:lnTo>
                <a:lnTo>
                  <a:pt x="110" y="46"/>
                </a:lnTo>
                <a:lnTo>
                  <a:pt x="115" y="35"/>
                </a:lnTo>
                <a:lnTo>
                  <a:pt x="116" y="24"/>
                </a:lnTo>
                <a:lnTo>
                  <a:pt x="116" y="12"/>
                </a:lnTo>
                <a:lnTo>
                  <a:pt x="114" y="10"/>
                </a:lnTo>
                <a:lnTo>
                  <a:pt x="109" y="12"/>
                </a:lnTo>
                <a:lnTo>
                  <a:pt x="106" y="12"/>
                </a:lnTo>
                <a:lnTo>
                  <a:pt x="101" y="14"/>
                </a:lnTo>
                <a:lnTo>
                  <a:pt x="98" y="11"/>
                </a:lnTo>
                <a:lnTo>
                  <a:pt x="97" y="9"/>
                </a:lnTo>
                <a:lnTo>
                  <a:pt x="97" y="6"/>
                </a:lnTo>
                <a:lnTo>
                  <a:pt x="100" y="5"/>
                </a:lnTo>
                <a:lnTo>
                  <a:pt x="102" y="3"/>
                </a:lnTo>
                <a:lnTo>
                  <a:pt x="106" y="2"/>
                </a:lnTo>
                <a:lnTo>
                  <a:pt x="113" y="0"/>
                </a:lnTo>
                <a:close/>
              </a:path>
            </a:pathLst>
          </a:custGeom>
          <a:solidFill>
            <a:srgbClr val="7f7f7f"/>
          </a:solidFill>
          <a:ln w="0">
            <a:solidFill>
              <a:srgbClr val="adada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1133"/>
          <p:cNvSpPr/>
          <p:nvPr/>
        </p:nvSpPr>
        <p:spPr>
          <a:xfrm>
            <a:off x="5116680" y="3807000"/>
            <a:ext cx="1415880" cy="1388880"/>
          </a:xfrm>
          <a:custGeom>
            <a:avLst/>
            <a:gdLst>
              <a:gd name="textAreaLeft" fmla="*/ 0 w 1415880"/>
              <a:gd name="textAreaRight" fmla="*/ 1416240 w 1415880"/>
              <a:gd name="textAreaTop" fmla="*/ 0 h 1388880"/>
              <a:gd name="textAreaBottom" fmla="*/ 1389240 h 1388880"/>
            </a:gdLst>
            <a:ahLst/>
            <a:rect l="textAreaLeft" t="textAreaTop" r="textAreaRight" b="textAreaBottom"/>
            <a:pathLst>
              <a:path w="1033" h="1013">
                <a:moveTo>
                  <a:pt x="950" y="0"/>
                </a:moveTo>
                <a:lnTo>
                  <a:pt x="952" y="0"/>
                </a:lnTo>
                <a:lnTo>
                  <a:pt x="953" y="2"/>
                </a:lnTo>
                <a:lnTo>
                  <a:pt x="953" y="4"/>
                </a:lnTo>
                <a:lnTo>
                  <a:pt x="954" y="6"/>
                </a:lnTo>
                <a:lnTo>
                  <a:pt x="954" y="10"/>
                </a:lnTo>
                <a:lnTo>
                  <a:pt x="955" y="12"/>
                </a:lnTo>
                <a:lnTo>
                  <a:pt x="958" y="14"/>
                </a:lnTo>
                <a:lnTo>
                  <a:pt x="960" y="16"/>
                </a:lnTo>
                <a:lnTo>
                  <a:pt x="964" y="14"/>
                </a:lnTo>
                <a:lnTo>
                  <a:pt x="972" y="11"/>
                </a:lnTo>
                <a:lnTo>
                  <a:pt x="982" y="6"/>
                </a:lnTo>
                <a:lnTo>
                  <a:pt x="989" y="1"/>
                </a:lnTo>
                <a:lnTo>
                  <a:pt x="995" y="0"/>
                </a:lnTo>
                <a:lnTo>
                  <a:pt x="997" y="0"/>
                </a:lnTo>
                <a:lnTo>
                  <a:pt x="1003" y="6"/>
                </a:lnTo>
                <a:lnTo>
                  <a:pt x="1004" y="8"/>
                </a:lnTo>
                <a:lnTo>
                  <a:pt x="1007" y="11"/>
                </a:lnTo>
                <a:lnTo>
                  <a:pt x="1009" y="12"/>
                </a:lnTo>
                <a:lnTo>
                  <a:pt x="1025" y="12"/>
                </a:lnTo>
                <a:lnTo>
                  <a:pt x="1033" y="13"/>
                </a:lnTo>
                <a:lnTo>
                  <a:pt x="1031" y="18"/>
                </a:lnTo>
                <a:lnTo>
                  <a:pt x="1028" y="28"/>
                </a:lnTo>
                <a:lnTo>
                  <a:pt x="1022" y="40"/>
                </a:lnTo>
                <a:lnTo>
                  <a:pt x="1014" y="53"/>
                </a:lnTo>
                <a:lnTo>
                  <a:pt x="1004" y="65"/>
                </a:lnTo>
                <a:lnTo>
                  <a:pt x="996" y="73"/>
                </a:lnTo>
                <a:lnTo>
                  <a:pt x="991" y="80"/>
                </a:lnTo>
                <a:lnTo>
                  <a:pt x="989" y="86"/>
                </a:lnTo>
                <a:lnTo>
                  <a:pt x="989" y="94"/>
                </a:lnTo>
                <a:lnTo>
                  <a:pt x="986" y="102"/>
                </a:lnTo>
                <a:lnTo>
                  <a:pt x="982" y="112"/>
                </a:lnTo>
                <a:lnTo>
                  <a:pt x="974" y="122"/>
                </a:lnTo>
                <a:lnTo>
                  <a:pt x="967" y="132"/>
                </a:lnTo>
                <a:lnTo>
                  <a:pt x="960" y="139"/>
                </a:lnTo>
                <a:lnTo>
                  <a:pt x="953" y="149"/>
                </a:lnTo>
                <a:lnTo>
                  <a:pt x="936" y="182"/>
                </a:lnTo>
                <a:lnTo>
                  <a:pt x="932" y="186"/>
                </a:lnTo>
                <a:lnTo>
                  <a:pt x="929" y="187"/>
                </a:lnTo>
                <a:lnTo>
                  <a:pt x="924" y="188"/>
                </a:lnTo>
                <a:lnTo>
                  <a:pt x="918" y="191"/>
                </a:lnTo>
                <a:lnTo>
                  <a:pt x="910" y="196"/>
                </a:lnTo>
                <a:lnTo>
                  <a:pt x="904" y="203"/>
                </a:lnTo>
                <a:lnTo>
                  <a:pt x="895" y="215"/>
                </a:lnTo>
                <a:lnTo>
                  <a:pt x="877" y="251"/>
                </a:lnTo>
                <a:lnTo>
                  <a:pt x="858" y="292"/>
                </a:lnTo>
                <a:lnTo>
                  <a:pt x="848" y="311"/>
                </a:lnTo>
                <a:lnTo>
                  <a:pt x="841" y="328"/>
                </a:lnTo>
                <a:lnTo>
                  <a:pt x="835" y="340"/>
                </a:lnTo>
                <a:lnTo>
                  <a:pt x="830" y="346"/>
                </a:lnTo>
                <a:lnTo>
                  <a:pt x="818" y="355"/>
                </a:lnTo>
                <a:lnTo>
                  <a:pt x="805" y="361"/>
                </a:lnTo>
                <a:lnTo>
                  <a:pt x="794" y="367"/>
                </a:lnTo>
                <a:lnTo>
                  <a:pt x="770" y="391"/>
                </a:lnTo>
                <a:lnTo>
                  <a:pt x="761" y="400"/>
                </a:lnTo>
                <a:lnTo>
                  <a:pt x="744" y="412"/>
                </a:lnTo>
                <a:lnTo>
                  <a:pt x="739" y="419"/>
                </a:lnTo>
                <a:lnTo>
                  <a:pt x="737" y="426"/>
                </a:lnTo>
                <a:lnTo>
                  <a:pt x="736" y="433"/>
                </a:lnTo>
                <a:lnTo>
                  <a:pt x="733" y="439"/>
                </a:lnTo>
                <a:lnTo>
                  <a:pt x="728" y="448"/>
                </a:lnTo>
                <a:lnTo>
                  <a:pt x="716" y="469"/>
                </a:lnTo>
                <a:lnTo>
                  <a:pt x="710" y="479"/>
                </a:lnTo>
                <a:lnTo>
                  <a:pt x="706" y="487"/>
                </a:lnTo>
                <a:lnTo>
                  <a:pt x="704" y="493"/>
                </a:lnTo>
                <a:lnTo>
                  <a:pt x="706" y="500"/>
                </a:lnTo>
                <a:lnTo>
                  <a:pt x="710" y="508"/>
                </a:lnTo>
                <a:lnTo>
                  <a:pt x="715" y="514"/>
                </a:lnTo>
                <a:lnTo>
                  <a:pt x="716" y="518"/>
                </a:lnTo>
                <a:lnTo>
                  <a:pt x="716" y="523"/>
                </a:lnTo>
                <a:lnTo>
                  <a:pt x="721" y="530"/>
                </a:lnTo>
                <a:lnTo>
                  <a:pt x="725" y="535"/>
                </a:lnTo>
                <a:lnTo>
                  <a:pt x="726" y="538"/>
                </a:lnTo>
                <a:lnTo>
                  <a:pt x="726" y="541"/>
                </a:lnTo>
                <a:lnTo>
                  <a:pt x="719" y="545"/>
                </a:lnTo>
                <a:lnTo>
                  <a:pt x="715" y="546"/>
                </a:lnTo>
                <a:lnTo>
                  <a:pt x="713" y="547"/>
                </a:lnTo>
                <a:lnTo>
                  <a:pt x="708" y="552"/>
                </a:lnTo>
                <a:lnTo>
                  <a:pt x="707" y="554"/>
                </a:lnTo>
                <a:lnTo>
                  <a:pt x="706" y="558"/>
                </a:lnTo>
                <a:lnTo>
                  <a:pt x="708" y="563"/>
                </a:lnTo>
                <a:lnTo>
                  <a:pt x="710" y="565"/>
                </a:lnTo>
                <a:lnTo>
                  <a:pt x="718" y="568"/>
                </a:lnTo>
                <a:lnTo>
                  <a:pt x="727" y="570"/>
                </a:lnTo>
                <a:lnTo>
                  <a:pt x="737" y="571"/>
                </a:lnTo>
                <a:lnTo>
                  <a:pt x="740" y="569"/>
                </a:lnTo>
                <a:lnTo>
                  <a:pt x="743" y="564"/>
                </a:lnTo>
                <a:lnTo>
                  <a:pt x="743" y="557"/>
                </a:lnTo>
                <a:lnTo>
                  <a:pt x="745" y="552"/>
                </a:lnTo>
                <a:lnTo>
                  <a:pt x="749" y="550"/>
                </a:lnTo>
                <a:lnTo>
                  <a:pt x="752" y="552"/>
                </a:lnTo>
                <a:lnTo>
                  <a:pt x="754" y="556"/>
                </a:lnTo>
                <a:lnTo>
                  <a:pt x="754" y="569"/>
                </a:lnTo>
                <a:lnTo>
                  <a:pt x="756" y="575"/>
                </a:lnTo>
                <a:lnTo>
                  <a:pt x="758" y="577"/>
                </a:lnTo>
                <a:lnTo>
                  <a:pt x="760" y="577"/>
                </a:lnTo>
                <a:lnTo>
                  <a:pt x="762" y="575"/>
                </a:lnTo>
                <a:lnTo>
                  <a:pt x="763" y="572"/>
                </a:lnTo>
                <a:lnTo>
                  <a:pt x="763" y="571"/>
                </a:lnTo>
                <a:lnTo>
                  <a:pt x="764" y="569"/>
                </a:lnTo>
                <a:lnTo>
                  <a:pt x="764" y="566"/>
                </a:lnTo>
                <a:lnTo>
                  <a:pt x="766" y="565"/>
                </a:lnTo>
                <a:lnTo>
                  <a:pt x="769" y="563"/>
                </a:lnTo>
                <a:lnTo>
                  <a:pt x="779" y="563"/>
                </a:lnTo>
                <a:lnTo>
                  <a:pt x="786" y="566"/>
                </a:lnTo>
                <a:lnTo>
                  <a:pt x="792" y="572"/>
                </a:lnTo>
                <a:lnTo>
                  <a:pt x="794" y="581"/>
                </a:lnTo>
                <a:lnTo>
                  <a:pt x="794" y="590"/>
                </a:lnTo>
                <a:lnTo>
                  <a:pt x="793" y="600"/>
                </a:lnTo>
                <a:lnTo>
                  <a:pt x="792" y="608"/>
                </a:lnTo>
                <a:lnTo>
                  <a:pt x="787" y="617"/>
                </a:lnTo>
                <a:lnTo>
                  <a:pt x="778" y="624"/>
                </a:lnTo>
                <a:lnTo>
                  <a:pt x="770" y="629"/>
                </a:lnTo>
                <a:lnTo>
                  <a:pt x="768" y="628"/>
                </a:lnTo>
                <a:lnTo>
                  <a:pt x="766" y="622"/>
                </a:lnTo>
                <a:lnTo>
                  <a:pt x="764" y="614"/>
                </a:lnTo>
                <a:lnTo>
                  <a:pt x="762" y="606"/>
                </a:lnTo>
                <a:lnTo>
                  <a:pt x="761" y="598"/>
                </a:lnTo>
                <a:lnTo>
                  <a:pt x="758" y="594"/>
                </a:lnTo>
                <a:lnTo>
                  <a:pt x="756" y="595"/>
                </a:lnTo>
                <a:lnTo>
                  <a:pt x="754" y="601"/>
                </a:lnTo>
                <a:lnTo>
                  <a:pt x="751" y="618"/>
                </a:lnTo>
                <a:lnTo>
                  <a:pt x="750" y="625"/>
                </a:lnTo>
                <a:lnTo>
                  <a:pt x="749" y="628"/>
                </a:lnTo>
                <a:lnTo>
                  <a:pt x="748" y="628"/>
                </a:lnTo>
                <a:lnTo>
                  <a:pt x="748" y="626"/>
                </a:lnTo>
                <a:lnTo>
                  <a:pt x="745" y="625"/>
                </a:lnTo>
                <a:lnTo>
                  <a:pt x="744" y="623"/>
                </a:lnTo>
                <a:lnTo>
                  <a:pt x="739" y="620"/>
                </a:lnTo>
                <a:lnTo>
                  <a:pt x="728" y="620"/>
                </a:lnTo>
                <a:lnTo>
                  <a:pt x="724" y="622"/>
                </a:lnTo>
                <a:lnTo>
                  <a:pt x="718" y="622"/>
                </a:lnTo>
                <a:lnTo>
                  <a:pt x="718" y="618"/>
                </a:lnTo>
                <a:lnTo>
                  <a:pt x="719" y="616"/>
                </a:lnTo>
                <a:lnTo>
                  <a:pt x="719" y="613"/>
                </a:lnTo>
                <a:lnTo>
                  <a:pt x="721" y="608"/>
                </a:lnTo>
                <a:lnTo>
                  <a:pt x="721" y="604"/>
                </a:lnTo>
                <a:lnTo>
                  <a:pt x="720" y="601"/>
                </a:lnTo>
                <a:lnTo>
                  <a:pt x="718" y="601"/>
                </a:lnTo>
                <a:lnTo>
                  <a:pt x="716" y="604"/>
                </a:lnTo>
                <a:lnTo>
                  <a:pt x="714" y="605"/>
                </a:lnTo>
                <a:lnTo>
                  <a:pt x="712" y="607"/>
                </a:lnTo>
                <a:lnTo>
                  <a:pt x="709" y="611"/>
                </a:lnTo>
                <a:lnTo>
                  <a:pt x="707" y="613"/>
                </a:lnTo>
                <a:lnTo>
                  <a:pt x="700" y="618"/>
                </a:lnTo>
                <a:lnTo>
                  <a:pt x="678" y="623"/>
                </a:lnTo>
                <a:lnTo>
                  <a:pt x="668" y="626"/>
                </a:lnTo>
                <a:lnTo>
                  <a:pt x="664" y="628"/>
                </a:lnTo>
                <a:lnTo>
                  <a:pt x="660" y="628"/>
                </a:lnTo>
                <a:lnTo>
                  <a:pt x="656" y="626"/>
                </a:lnTo>
                <a:lnTo>
                  <a:pt x="652" y="622"/>
                </a:lnTo>
                <a:lnTo>
                  <a:pt x="650" y="619"/>
                </a:lnTo>
                <a:lnTo>
                  <a:pt x="650" y="616"/>
                </a:lnTo>
                <a:lnTo>
                  <a:pt x="654" y="612"/>
                </a:lnTo>
                <a:lnTo>
                  <a:pt x="660" y="610"/>
                </a:lnTo>
                <a:lnTo>
                  <a:pt x="668" y="608"/>
                </a:lnTo>
                <a:lnTo>
                  <a:pt x="676" y="606"/>
                </a:lnTo>
                <a:lnTo>
                  <a:pt x="680" y="604"/>
                </a:lnTo>
                <a:lnTo>
                  <a:pt x="682" y="602"/>
                </a:lnTo>
                <a:lnTo>
                  <a:pt x="682" y="599"/>
                </a:lnTo>
                <a:lnTo>
                  <a:pt x="678" y="595"/>
                </a:lnTo>
                <a:lnTo>
                  <a:pt x="673" y="593"/>
                </a:lnTo>
                <a:lnTo>
                  <a:pt x="670" y="593"/>
                </a:lnTo>
                <a:lnTo>
                  <a:pt x="670" y="584"/>
                </a:lnTo>
                <a:lnTo>
                  <a:pt x="668" y="583"/>
                </a:lnTo>
                <a:lnTo>
                  <a:pt x="662" y="582"/>
                </a:lnTo>
                <a:lnTo>
                  <a:pt x="654" y="583"/>
                </a:lnTo>
                <a:lnTo>
                  <a:pt x="644" y="588"/>
                </a:lnTo>
                <a:lnTo>
                  <a:pt x="636" y="596"/>
                </a:lnTo>
                <a:lnTo>
                  <a:pt x="628" y="607"/>
                </a:lnTo>
                <a:lnTo>
                  <a:pt x="620" y="614"/>
                </a:lnTo>
                <a:lnTo>
                  <a:pt x="613" y="620"/>
                </a:lnTo>
                <a:lnTo>
                  <a:pt x="607" y="620"/>
                </a:lnTo>
                <a:lnTo>
                  <a:pt x="604" y="617"/>
                </a:lnTo>
                <a:lnTo>
                  <a:pt x="602" y="614"/>
                </a:lnTo>
                <a:lnTo>
                  <a:pt x="601" y="611"/>
                </a:lnTo>
                <a:lnTo>
                  <a:pt x="599" y="608"/>
                </a:lnTo>
                <a:lnTo>
                  <a:pt x="598" y="606"/>
                </a:lnTo>
                <a:lnTo>
                  <a:pt x="596" y="605"/>
                </a:lnTo>
                <a:lnTo>
                  <a:pt x="577" y="595"/>
                </a:lnTo>
                <a:lnTo>
                  <a:pt x="576" y="598"/>
                </a:lnTo>
                <a:lnTo>
                  <a:pt x="577" y="604"/>
                </a:lnTo>
                <a:lnTo>
                  <a:pt x="582" y="620"/>
                </a:lnTo>
                <a:lnTo>
                  <a:pt x="584" y="630"/>
                </a:lnTo>
                <a:lnTo>
                  <a:pt x="586" y="637"/>
                </a:lnTo>
                <a:lnTo>
                  <a:pt x="583" y="643"/>
                </a:lnTo>
                <a:lnTo>
                  <a:pt x="575" y="649"/>
                </a:lnTo>
                <a:lnTo>
                  <a:pt x="553" y="659"/>
                </a:lnTo>
                <a:lnTo>
                  <a:pt x="542" y="661"/>
                </a:lnTo>
                <a:lnTo>
                  <a:pt x="536" y="664"/>
                </a:lnTo>
                <a:lnTo>
                  <a:pt x="529" y="668"/>
                </a:lnTo>
                <a:lnTo>
                  <a:pt x="522" y="676"/>
                </a:lnTo>
                <a:lnTo>
                  <a:pt x="512" y="684"/>
                </a:lnTo>
                <a:lnTo>
                  <a:pt x="504" y="692"/>
                </a:lnTo>
                <a:lnTo>
                  <a:pt x="492" y="700"/>
                </a:lnTo>
                <a:lnTo>
                  <a:pt x="475" y="708"/>
                </a:lnTo>
                <a:lnTo>
                  <a:pt x="460" y="715"/>
                </a:lnTo>
                <a:lnTo>
                  <a:pt x="449" y="724"/>
                </a:lnTo>
                <a:lnTo>
                  <a:pt x="443" y="731"/>
                </a:lnTo>
                <a:lnTo>
                  <a:pt x="434" y="739"/>
                </a:lnTo>
                <a:lnTo>
                  <a:pt x="424" y="748"/>
                </a:lnTo>
                <a:lnTo>
                  <a:pt x="414" y="756"/>
                </a:lnTo>
                <a:lnTo>
                  <a:pt x="406" y="764"/>
                </a:lnTo>
                <a:lnTo>
                  <a:pt x="400" y="769"/>
                </a:lnTo>
                <a:lnTo>
                  <a:pt x="396" y="775"/>
                </a:lnTo>
                <a:lnTo>
                  <a:pt x="392" y="788"/>
                </a:lnTo>
                <a:lnTo>
                  <a:pt x="389" y="804"/>
                </a:lnTo>
                <a:lnTo>
                  <a:pt x="385" y="821"/>
                </a:lnTo>
                <a:lnTo>
                  <a:pt x="383" y="836"/>
                </a:lnTo>
                <a:lnTo>
                  <a:pt x="380" y="851"/>
                </a:lnTo>
                <a:lnTo>
                  <a:pt x="380" y="869"/>
                </a:lnTo>
                <a:lnTo>
                  <a:pt x="382" y="883"/>
                </a:lnTo>
                <a:lnTo>
                  <a:pt x="383" y="900"/>
                </a:lnTo>
                <a:lnTo>
                  <a:pt x="384" y="918"/>
                </a:lnTo>
                <a:lnTo>
                  <a:pt x="383" y="934"/>
                </a:lnTo>
                <a:lnTo>
                  <a:pt x="382" y="944"/>
                </a:lnTo>
                <a:lnTo>
                  <a:pt x="377" y="943"/>
                </a:lnTo>
                <a:lnTo>
                  <a:pt x="366" y="940"/>
                </a:lnTo>
                <a:lnTo>
                  <a:pt x="354" y="935"/>
                </a:lnTo>
                <a:lnTo>
                  <a:pt x="344" y="930"/>
                </a:lnTo>
                <a:lnTo>
                  <a:pt x="338" y="930"/>
                </a:lnTo>
                <a:lnTo>
                  <a:pt x="329" y="937"/>
                </a:lnTo>
                <a:lnTo>
                  <a:pt x="320" y="938"/>
                </a:lnTo>
                <a:lnTo>
                  <a:pt x="311" y="940"/>
                </a:lnTo>
                <a:lnTo>
                  <a:pt x="301" y="940"/>
                </a:lnTo>
                <a:lnTo>
                  <a:pt x="293" y="941"/>
                </a:lnTo>
                <a:lnTo>
                  <a:pt x="288" y="944"/>
                </a:lnTo>
                <a:lnTo>
                  <a:pt x="283" y="952"/>
                </a:lnTo>
                <a:lnTo>
                  <a:pt x="281" y="959"/>
                </a:lnTo>
                <a:lnTo>
                  <a:pt x="282" y="968"/>
                </a:lnTo>
                <a:lnTo>
                  <a:pt x="282" y="978"/>
                </a:lnTo>
                <a:lnTo>
                  <a:pt x="278" y="989"/>
                </a:lnTo>
                <a:lnTo>
                  <a:pt x="274" y="1000"/>
                </a:lnTo>
                <a:lnTo>
                  <a:pt x="271" y="1004"/>
                </a:lnTo>
                <a:lnTo>
                  <a:pt x="270" y="1003"/>
                </a:lnTo>
                <a:lnTo>
                  <a:pt x="270" y="1002"/>
                </a:lnTo>
                <a:lnTo>
                  <a:pt x="269" y="1001"/>
                </a:lnTo>
                <a:lnTo>
                  <a:pt x="268" y="998"/>
                </a:lnTo>
                <a:lnTo>
                  <a:pt x="265" y="997"/>
                </a:lnTo>
                <a:lnTo>
                  <a:pt x="264" y="995"/>
                </a:lnTo>
                <a:lnTo>
                  <a:pt x="262" y="995"/>
                </a:lnTo>
                <a:lnTo>
                  <a:pt x="259" y="996"/>
                </a:lnTo>
                <a:lnTo>
                  <a:pt x="258" y="997"/>
                </a:lnTo>
                <a:lnTo>
                  <a:pt x="257" y="1000"/>
                </a:lnTo>
                <a:lnTo>
                  <a:pt x="256" y="1003"/>
                </a:lnTo>
                <a:lnTo>
                  <a:pt x="254" y="1006"/>
                </a:lnTo>
                <a:lnTo>
                  <a:pt x="253" y="1009"/>
                </a:lnTo>
                <a:lnTo>
                  <a:pt x="252" y="1012"/>
                </a:lnTo>
                <a:lnTo>
                  <a:pt x="251" y="1013"/>
                </a:lnTo>
                <a:lnTo>
                  <a:pt x="247" y="1013"/>
                </a:lnTo>
                <a:lnTo>
                  <a:pt x="244" y="1009"/>
                </a:lnTo>
                <a:lnTo>
                  <a:pt x="238" y="1002"/>
                </a:lnTo>
                <a:lnTo>
                  <a:pt x="232" y="994"/>
                </a:lnTo>
                <a:lnTo>
                  <a:pt x="227" y="985"/>
                </a:lnTo>
                <a:lnTo>
                  <a:pt x="222" y="978"/>
                </a:lnTo>
                <a:lnTo>
                  <a:pt x="220" y="971"/>
                </a:lnTo>
                <a:lnTo>
                  <a:pt x="220" y="966"/>
                </a:lnTo>
                <a:lnTo>
                  <a:pt x="221" y="962"/>
                </a:lnTo>
                <a:lnTo>
                  <a:pt x="224" y="959"/>
                </a:lnTo>
                <a:lnTo>
                  <a:pt x="226" y="955"/>
                </a:lnTo>
                <a:lnTo>
                  <a:pt x="226" y="949"/>
                </a:lnTo>
                <a:lnTo>
                  <a:pt x="222" y="946"/>
                </a:lnTo>
                <a:lnTo>
                  <a:pt x="220" y="944"/>
                </a:lnTo>
                <a:lnTo>
                  <a:pt x="216" y="942"/>
                </a:lnTo>
                <a:lnTo>
                  <a:pt x="210" y="941"/>
                </a:lnTo>
                <a:lnTo>
                  <a:pt x="202" y="944"/>
                </a:lnTo>
                <a:lnTo>
                  <a:pt x="192" y="949"/>
                </a:lnTo>
                <a:lnTo>
                  <a:pt x="180" y="952"/>
                </a:lnTo>
                <a:lnTo>
                  <a:pt x="169" y="950"/>
                </a:lnTo>
                <a:lnTo>
                  <a:pt x="161" y="946"/>
                </a:lnTo>
                <a:lnTo>
                  <a:pt x="154" y="937"/>
                </a:lnTo>
                <a:lnTo>
                  <a:pt x="149" y="930"/>
                </a:lnTo>
                <a:lnTo>
                  <a:pt x="145" y="922"/>
                </a:lnTo>
                <a:lnTo>
                  <a:pt x="142" y="912"/>
                </a:lnTo>
                <a:lnTo>
                  <a:pt x="138" y="899"/>
                </a:lnTo>
                <a:lnTo>
                  <a:pt x="136" y="884"/>
                </a:lnTo>
                <a:lnTo>
                  <a:pt x="132" y="866"/>
                </a:lnTo>
                <a:lnTo>
                  <a:pt x="131" y="865"/>
                </a:lnTo>
                <a:lnTo>
                  <a:pt x="128" y="864"/>
                </a:lnTo>
                <a:lnTo>
                  <a:pt x="126" y="864"/>
                </a:lnTo>
                <a:lnTo>
                  <a:pt x="116" y="869"/>
                </a:lnTo>
                <a:lnTo>
                  <a:pt x="112" y="868"/>
                </a:lnTo>
                <a:lnTo>
                  <a:pt x="106" y="864"/>
                </a:lnTo>
                <a:lnTo>
                  <a:pt x="97" y="860"/>
                </a:lnTo>
                <a:lnTo>
                  <a:pt x="94" y="860"/>
                </a:lnTo>
                <a:lnTo>
                  <a:pt x="92" y="864"/>
                </a:lnTo>
                <a:lnTo>
                  <a:pt x="91" y="871"/>
                </a:lnTo>
                <a:lnTo>
                  <a:pt x="91" y="886"/>
                </a:lnTo>
                <a:lnTo>
                  <a:pt x="90" y="890"/>
                </a:lnTo>
                <a:lnTo>
                  <a:pt x="86" y="893"/>
                </a:lnTo>
                <a:lnTo>
                  <a:pt x="82" y="892"/>
                </a:lnTo>
                <a:lnTo>
                  <a:pt x="77" y="889"/>
                </a:lnTo>
                <a:lnTo>
                  <a:pt x="70" y="888"/>
                </a:lnTo>
                <a:lnTo>
                  <a:pt x="60" y="889"/>
                </a:lnTo>
                <a:lnTo>
                  <a:pt x="50" y="892"/>
                </a:lnTo>
                <a:lnTo>
                  <a:pt x="41" y="893"/>
                </a:lnTo>
                <a:lnTo>
                  <a:pt x="38" y="893"/>
                </a:lnTo>
                <a:lnTo>
                  <a:pt x="36" y="892"/>
                </a:lnTo>
                <a:lnTo>
                  <a:pt x="35" y="890"/>
                </a:lnTo>
                <a:lnTo>
                  <a:pt x="35" y="887"/>
                </a:lnTo>
                <a:lnTo>
                  <a:pt x="36" y="886"/>
                </a:lnTo>
                <a:lnTo>
                  <a:pt x="36" y="882"/>
                </a:lnTo>
                <a:lnTo>
                  <a:pt x="35" y="881"/>
                </a:lnTo>
                <a:lnTo>
                  <a:pt x="31" y="880"/>
                </a:lnTo>
                <a:lnTo>
                  <a:pt x="26" y="880"/>
                </a:lnTo>
                <a:lnTo>
                  <a:pt x="20" y="881"/>
                </a:lnTo>
                <a:lnTo>
                  <a:pt x="16" y="882"/>
                </a:lnTo>
                <a:lnTo>
                  <a:pt x="13" y="883"/>
                </a:lnTo>
                <a:lnTo>
                  <a:pt x="12" y="886"/>
                </a:lnTo>
                <a:lnTo>
                  <a:pt x="12" y="887"/>
                </a:lnTo>
                <a:lnTo>
                  <a:pt x="11" y="889"/>
                </a:lnTo>
                <a:lnTo>
                  <a:pt x="11" y="892"/>
                </a:lnTo>
                <a:lnTo>
                  <a:pt x="10" y="894"/>
                </a:lnTo>
                <a:lnTo>
                  <a:pt x="5" y="896"/>
                </a:lnTo>
                <a:lnTo>
                  <a:pt x="1" y="894"/>
                </a:lnTo>
                <a:lnTo>
                  <a:pt x="0" y="888"/>
                </a:lnTo>
                <a:lnTo>
                  <a:pt x="2" y="871"/>
                </a:lnTo>
                <a:lnTo>
                  <a:pt x="5" y="863"/>
                </a:lnTo>
                <a:lnTo>
                  <a:pt x="6" y="854"/>
                </a:lnTo>
                <a:lnTo>
                  <a:pt x="4" y="847"/>
                </a:lnTo>
                <a:lnTo>
                  <a:pt x="2" y="842"/>
                </a:lnTo>
                <a:lnTo>
                  <a:pt x="5" y="839"/>
                </a:lnTo>
                <a:lnTo>
                  <a:pt x="11" y="838"/>
                </a:lnTo>
                <a:lnTo>
                  <a:pt x="16" y="836"/>
                </a:lnTo>
                <a:lnTo>
                  <a:pt x="23" y="834"/>
                </a:lnTo>
                <a:lnTo>
                  <a:pt x="31" y="828"/>
                </a:lnTo>
                <a:lnTo>
                  <a:pt x="36" y="821"/>
                </a:lnTo>
                <a:lnTo>
                  <a:pt x="40" y="809"/>
                </a:lnTo>
                <a:lnTo>
                  <a:pt x="41" y="793"/>
                </a:lnTo>
                <a:lnTo>
                  <a:pt x="43" y="778"/>
                </a:lnTo>
                <a:lnTo>
                  <a:pt x="43" y="764"/>
                </a:lnTo>
                <a:lnTo>
                  <a:pt x="44" y="755"/>
                </a:lnTo>
                <a:lnTo>
                  <a:pt x="44" y="745"/>
                </a:lnTo>
                <a:lnTo>
                  <a:pt x="42" y="737"/>
                </a:lnTo>
                <a:lnTo>
                  <a:pt x="41" y="730"/>
                </a:lnTo>
                <a:lnTo>
                  <a:pt x="41" y="724"/>
                </a:lnTo>
                <a:lnTo>
                  <a:pt x="44" y="718"/>
                </a:lnTo>
                <a:lnTo>
                  <a:pt x="49" y="710"/>
                </a:lnTo>
                <a:lnTo>
                  <a:pt x="54" y="701"/>
                </a:lnTo>
                <a:lnTo>
                  <a:pt x="59" y="694"/>
                </a:lnTo>
                <a:lnTo>
                  <a:pt x="61" y="688"/>
                </a:lnTo>
                <a:lnTo>
                  <a:pt x="66" y="683"/>
                </a:lnTo>
                <a:lnTo>
                  <a:pt x="71" y="680"/>
                </a:lnTo>
                <a:lnTo>
                  <a:pt x="73" y="678"/>
                </a:lnTo>
                <a:lnTo>
                  <a:pt x="73" y="664"/>
                </a:lnTo>
                <a:lnTo>
                  <a:pt x="72" y="650"/>
                </a:lnTo>
                <a:lnTo>
                  <a:pt x="74" y="650"/>
                </a:lnTo>
                <a:lnTo>
                  <a:pt x="76" y="649"/>
                </a:lnTo>
                <a:lnTo>
                  <a:pt x="78" y="648"/>
                </a:lnTo>
                <a:lnTo>
                  <a:pt x="79" y="646"/>
                </a:lnTo>
                <a:lnTo>
                  <a:pt x="91" y="629"/>
                </a:lnTo>
                <a:lnTo>
                  <a:pt x="100" y="614"/>
                </a:lnTo>
                <a:lnTo>
                  <a:pt x="104" y="610"/>
                </a:lnTo>
                <a:lnTo>
                  <a:pt x="110" y="608"/>
                </a:lnTo>
                <a:lnTo>
                  <a:pt x="116" y="606"/>
                </a:lnTo>
                <a:lnTo>
                  <a:pt x="121" y="602"/>
                </a:lnTo>
                <a:lnTo>
                  <a:pt x="124" y="598"/>
                </a:lnTo>
                <a:lnTo>
                  <a:pt x="133" y="593"/>
                </a:lnTo>
                <a:lnTo>
                  <a:pt x="137" y="589"/>
                </a:lnTo>
                <a:lnTo>
                  <a:pt x="138" y="582"/>
                </a:lnTo>
                <a:lnTo>
                  <a:pt x="142" y="570"/>
                </a:lnTo>
                <a:lnTo>
                  <a:pt x="148" y="562"/>
                </a:lnTo>
                <a:lnTo>
                  <a:pt x="154" y="556"/>
                </a:lnTo>
                <a:lnTo>
                  <a:pt x="155" y="553"/>
                </a:lnTo>
                <a:lnTo>
                  <a:pt x="155" y="548"/>
                </a:lnTo>
                <a:lnTo>
                  <a:pt x="154" y="544"/>
                </a:lnTo>
                <a:lnTo>
                  <a:pt x="155" y="539"/>
                </a:lnTo>
                <a:lnTo>
                  <a:pt x="160" y="534"/>
                </a:lnTo>
                <a:lnTo>
                  <a:pt x="169" y="528"/>
                </a:lnTo>
                <a:lnTo>
                  <a:pt x="178" y="521"/>
                </a:lnTo>
                <a:lnTo>
                  <a:pt x="185" y="515"/>
                </a:lnTo>
                <a:lnTo>
                  <a:pt x="193" y="510"/>
                </a:lnTo>
                <a:lnTo>
                  <a:pt x="204" y="509"/>
                </a:lnTo>
                <a:lnTo>
                  <a:pt x="215" y="506"/>
                </a:lnTo>
                <a:lnTo>
                  <a:pt x="224" y="504"/>
                </a:lnTo>
                <a:lnTo>
                  <a:pt x="230" y="499"/>
                </a:lnTo>
                <a:lnTo>
                  <a:pt x="238" y="487"/>
                </a:lnTo>
                <a:lnTo>
                  <a:pt x="241" y="482"/>
                </a:lnTo>
                <a:lnTo>
                  <a:pt x="248" y="479"/>
                </a:lnTo>
                <a:lnTo>
                  <a:pt x="254" y="479"/>
                </a:lnTo>
                <a:lnTo>
                  <a:pt x="260" y="481"/>
                </a:lnTo>
                <a:lnTo>
                  <a:pt x="265" y="484"/>
                </a:lnTo>
                <a:lnTo>
                  <a:pt x="270" y="484"/>
                </a:lnTo>
                <a:lnTo>
                  <a:pt x="275" y="479"/>
                </a:lnTo>
                <a:lnTo>
                  <a:pt x="281" y="469"/>
                </a:lnTo>
                <a:lnTo>
                  <a:pt x="287" y="458"/>
                </a:lnTo>
                <a:lnTo>
                  <a:pt x="294" y="446"/>
                </a:lnTo>
                <a:lnTo>
                  <a:pt x="302" y="438"/>
                </a:lnTo>
                <a:lnTo>
                  <a:pt x="312" y="433"/>
                </a:lnTo>
                <a:lnTo>
                  <a:pt x="320" y="430"/>
                </a:lnTo>
                <a:lnTo>
                  <a:pt x="332" y="413"/>
                </a:lnTo>
                <a:lnTo>
                  <a:pt x="337" y="406"/>
                </a:lnTo>
                <a:lnTo>
                  <a:pt x="343" y="403"/>
                </a:lnTo>
                <a:lnTo>
                  <a:pt x="346" y="403"/>
                </a:lnTo>
                <a:lnTo>
                  <a:pt x="348" y="404"/>
                </a:lnTo>
                <a:lnTo>
                  <a:pt x="349" y="407"/>
                </a:lnTo>
                <a:lnTo>
                  <a:pt x="352" y="408"/>
                </a:lnTo>
                <a:lnTo>
                  <a:pt x="353" y="410"/>
                </a:lnTo>
                <a:lnTo>
                  <a:pt x="354" y="410"/>
                </a:lnTo>
                <a:lnTo>
                  <a:pt x="355" y="412"/>
                </a:lnTo>
                <a:lnTo>
                  <a:pt x="356" y="410"/>
                </a:lnTo>
                <a:lnTo>
                  <a:pt x="359" y="409"/>
                </a:lnTo>
                <a:lnTo>
                  <a:pt x="360" y="406"/>
                </a:lnTo>
                <a:lnTo>
                  <a:pt x="365" y="395"/>
                </a:lnTo>
                <a:lnTo>
                  <a:pt x="368" y="385"/>
                </a:lnTo>
                <a:lnTo>
                  <a:pt x="374" y="377"/>
                </a:lnTo>
                <a:lnTo>
                  <a:pt x="380" y="372"/>
                </a:lnTo>
                <a:lnTo>
                  <a:pt x="395" y="370"/>
                </a:lnTo>
                <a:lnTo>
                  <a:pt x="401" y="366"/>
                </a:lnTo>
                <a:lnTo>
                  <a:pt x="406" y="359"/>
                </a:lnTo>
                <a:lnTo>
                  <a:pt x="408" y="348"/>
                </a:lnTo>
                <a:lnTo>
                  <a:pt x="409" y="338"/>
                </a:lnTo>
                <a:lnTo>
                  <a:pt x="414" y="334"/>
                </a:lnTo>
                <a:lnTo>
                  <a:pt x="419" y="330"/>
                </a:lnTo>
                <a:lnTo>
                  <a:pt x="438" y="330"/>
                </a:lnTo>
                <a:lnTo>
                  <a:pt x="446" y="328"/>
                </a:lnTo>
                <a:lnTo>
                  <a:pt x="454" y="322"/>
                </a:lnTo>
                <a:lnTo>
                  <a:pt x="460" y="313"/>
                </a:lnTo>
                <a:lnTo>
                  <a:pt x="463" y="302"/>
                </a:lnTo>
                <a:lnTo>
                  <a:pt x="463" y="293"/>
                </a:lnTo>
                <a:lnTo>
                  <a:pt x="464" y="286"/>
                </a:lnTo>
                <a:lnTo>
                  <a:pt x="468" y="280"/>
                </a:lnTo>
                <a:lnTo>
                  <a:pt x="475" y="276"/>
                </a:lnTo>
                <a:lnTo>
                  <a:pt x="485" y="274"/>
                </a:lnTo>
                <a:lnTo>
                  <a:pt x="498" y="272"/>
                </a:lnTo>
                <a:lnTo>
                  <a:pt x="512" y="271"/>
                </a:lnTo>
                <a:lnTo>
                  <a:pt x="526" y="268"/>
                </a:lnTo>
                <a:lnTo>
                  <a:pt x="535" y="263"/>
                </a:lnTo>
                <a:lnTo>
                  <a:pt x="541" y="257"/>
                </a:lnTo>
                <a:lnTo>
                  <a:pt x="545" y="250"/>
                </a:lnTo>
                <a:lnTo>
                  <a:pt x="548" y="244"/>
                </a:lnTo>
                <a:lnTo>
                  <a:pt x="553" y="238"/>
                </a:lnTo>
                <a:lnTo>
                  <a:pt x="560" y="234"/>
                </a:lnTo>
                <a:lnTo>
                  <a:pt x="570" y="233"/>
                </a:lnTo>
                <a:lnTo>
                  <a:pt x="578" y="232"/>
                </a:lnTo>
                <a:lnTo>
                  <a:pt x="586" y="230"/>
                </a:lnTo>
                <a:lnTo>
                  <a:pt x="590" y="227"/>
                </a:lnTo>
                <a:lnTo>
                  <a:pt x="593" y="220"/>
                </a:lnTo>
                <a:lnTo>
                  <a:pt x="596" y="208"/>
                </a:lnTo>
                <a:lnTo>
                  <a:pt x="604" y="196"/>
                </a:lnTo>
                <a:lnTo>
                  <a:pt x="613" y="185"/>
                </a:lnTo>
                <a:lnTo>
                  <a:pt x="623" y="178"/>
                </a:lnTo>
                <a:lnTo>
                  <a:pt x="629" y="170"/>
                </a:lnTo>
                <a:lnTo>
                  <a:pt x="632" y="164"/>
                </a:lnTo>
                <a:lnTo>
                  <a:pt x="637" y="158"/>
                </a:lnTo>
                <a:lnTo>
                  <a:pt x="643" y="155"/>
                </a:lnTo>
                <a:lnTo>
                  <a:pt x="650" y="154"/>
                </a:lnTo>
                <a:lnTo>
                  <a:pt x="656" y="154"/>
                </a:lnTo>
                <a:lnTo>
                  <a:pt x="662" y="151"/>
                </a:lnTo>
                <a:lnTo>
                  <a:pt x="666" y="149"/>
                </a:lnTo>
                <a:lnTo>
                  <a:pt x="668" y="142"/>
                </a:lnTo>
                <a:lnTo>
                  <a:pt x="671" y="132"/>
                </a:lnTo>
                <a:lnTo>
                  <a:pt x="673" y="124"/>
                </a:lnTo>
                <a:lnTo>
                  <a:pt x="678" y="116"/>
                </a:lnTo>
                <a:lnTo>
                  <a:pt x="685" y="109"/>
                </a:lnTo>
                <a:lnTo>
                  <a:pt x="696" y="100"/>
                </a:lnTo>
                <a:lnTo>
                  <a:pt x="703" y="89"/>
                </a:lnTo>
                <a:lnTo>
                  <a:pt x="704" y="77"/>
                </a:lnTo>
                <a:lnTo>
                  <a:pt x="704" y="74"/>
                </a:lnTo>
                <a:lnTo>
                  <a:pt x="706" y="72"/>
                </a:lnTo>
                <a:lnTo>
                  <a:pt x="707" y="71"/>
                </a:lnTo>
                <a:lnTo>
                  <a:pt x="716" y="71"/>
                </a:lnTo>
                <a:lnTo>
                  <a:pt x="719" y="70"/>
                </a:lnTo>
                <a:lnTo>
                  <a:pt x="721" y="74"/>
                </a:lnTo>
                <a:lnTo>
                  <a:pt x="724" y="78"/>
                </a:lnTo>
                <a:lnTo>
                  <a:pt x="727" y="80"/>
                </a:lnTo>
                <a:lnTo>
                  <a:pt x="730" y="82"/>
                </a:lnTo>
                <a:lnTo>
                  <a:pt x="738" y="83"/>
                </a:lnTo>
                <a:lnTo>
                  <a:pt x="745" y="84"/>
                </a:lnTo>
                <a:lnTo>
                  <a:pt x="751" y="88"/>
                </a:lnTo>
                <a:lnTo>
                  <a:pt x="752" y="92"/>
                </a:lnTo>
                <a:lnTo>
                  <a:pt x="754" y="98"/>
                </a:lnTo>
                <a:lnTo>
                  <a:pt x="756" y="103"/>
                </a:lnTo>
                <a:lnTo>
                  <a:pt x="757" y="108"/>
                </a:lnTo>
                <a:lnTo>
                  <a:pt x="757" y="116"/>
                </a:lnTo>
                <a:lnTo>
                  <a:pt x="756" y="120"/>
                </a:lnTo>
                <a:lnTo>
                  <a:pt x="756" y="122"/>
                </a:lnTo>
                <a:lnTo>
                  <a:pt x="755" y="126"/>
                </a:lnTo>
                <a:lnTo>
                  <a:pt x="756" y="128"/>
                </a:lnTo>
                <a:lnTo>
                  <a:pt x="756" y="130"/>
                </a:lnTo>
                <a:lnTo>
                  <a:pt x="757" y="131"/>
                </a:lnTo>
                <a:lnTo>
                  <a:pt x="761" y="131"/>
                </a:lnTo>
                <a:lnTo>
                  <a:pt x="764" y="130"/>
                </a:lnTo>
                <a:lnTo>
                  <a:pt x="772" y="130"/>
                </a:lnTo>
                <a:lnTo>
                  <a:pt x="774" y="131"/>
                </a:lnTo>
                <a:lnTo>
                  <a:pt x="775" y="133"/>
                </a:lnTo>
                <a:lnTo>
                  <a:pt x="776" y="142"/>
                </a:lnTo>
                <a:lnTo>
                  <a:pt x="779" y="150"/>
                </a:lnTo>
                <a:lnTo>
                  <a:pt x="787" y="158"/>
                </a:lnTo>
                <a:lnTo>
                  <a:pt x="790" y="163"/>
                </a:lnTo>
                <a:lnTo>
                  <a:pt x="790" y="166"/>
                </a:lnTo>
                <a:lnTo>
                  <a:pt x="793" y="173"/>
                </a:lnTo>
                <a:lnTo>
                  <a:pt x="796" y="174"/>
                </a:lnTo>
                <a:lnTo>
                  <a:pt x="799" y="174"/>
                </a:lnTo>
                <a:lnTo>
                  <a:pt x="809" y="173"/>
                </a:lnTo>
                <a:lnTo>
                  <a:pt x="818" y="169"/>
                </a:lnTo>
                <a:lnTo>
                  <a:pt x="828" y="164"/>
                </a:lnTo>
                <a:lnTo>
                  <a:pt x="835" y="157"/>
                </a:lnTo>
                <a:lnTo>
                  <a:pt x="838" y="150"/>
                </a:lnTo>
                <a:lnTo>
                  <a:pt x="836" y="142"/>
                </a:lnTo>
                <a:lnTo>
                  <a:pt x="832" y="127"/>
                </a:lnTo>
                <a:lnTo>
                  <a:pt x="834" y="122"/>
                </a:lnTo>
                <a:lnTo>
                  <a:pt x="840" y="118"/>
                </a:lnTo>
                <a:lnTo>
                  <a:pt x="848" y="112"/>
                </a:lnTo>
                <a:lnTo>
                  <a:pt x="859" y="106"/>
                </a:lnTo>
                <a:lnTo>
                  <a:pt x="869" y="101"/>
                </a:lnTo>
                <a:lnTo>
                  <a:pt x="877" y="98"/>
                </a:lnTo>
                <a:lnTo>
                  <a:pt x="884" y="96"/>
                </a:lnTo>
                <a:lnTo>
                  <a:pt x="890" y="92"/>
                </a:lnTo>
                <a:lnTo>
                  <a:pt x="894" y="85"/>
                </a:lnTo>
                <a:lnTo>
                  <a:pt x="894" y="74"/>
                </a:lnTo>
                <a:lnTo>
                  <a:pt x="892" y="65"/>
                </a:lnTo>
                <a:lnTo>
                  <a:pt x="890" y="59"/>
                </a:lnTo>
                <a:lnTo>
                  <a:pt x="890" y="54"/>
                </a:lnTo>
                <a:lnTo>
                  <a:pt x="894" y="50"/>
                </a:lnTo>
                <a:lnTo>
                  <a:pt x="899" y="47"/>
                </a:lnTo>
                <a:lnTo>
                  <a:pt x="905" y="44"/>
                </a:lnTo>
                <a:lnTo>
                  <a:pt x="911" y="41"/>
                </a:lnTo>
                <a:lnTo>
                  <a:pt x="919" y="35"/>
                </a:lnTo>
                <a:lnTo>
                  <a:pt x="925" y="30"/>
                </a:lnTo>
                <a:lnTo>
                  <a:pt x="931" y="29"/>
                </a:lnTo>
                <a:lnTo>
                  <a:pt x="936" y="28"/>
                </a:lnTo>
                <a:lnTo>
                  <a:pt x="941" y="25"/>
                </a:lnTo>
                <a:lnTo>
                  <a:pt x="943" y="19"/>
                </a:lnTo>
                <a:lnTo>
                  <a:pt x="947" y="5"/>
                </a:lnTo>
                <a:lnTo>
                  <a:pt x="948" y="1"/>
                </a:lnTo>
                <a:lnTo>
                  <a:pt x="950" y="0"/>
                </a:lnTo>
                <a:close/>
              </a:path>
            </a:pathLst>
          </a:custGeom>
          <a:gradFill rotWithShape="0">
            <a:gsLst>
              <a:gs pos="0">
                <a:srgbClr val="a00000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adad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reeform 1664"/>
          <p:cNvSpPr/>
          <p:nvPr/>
        </p:nvSpPr>
        <p:spPr>
          <a:xfrm>
            <a:off x="6103800" y="3424320"/>
            <a:ext cx="474840" cy="620640"/>
          </a:xfrm>
          <a:custGeom>
            <a:avLst/>
            <a:gdLst>
              <a:gd name="textAreaLeft" fmla="*/ 0 w 474840"/>
              <a:gd name="textAreaRight" fmla="*/ 475200 w 474840"/>
              <a:gd name="textAreaTop" fmla="*/ 0 h 620640"/>
              <a:gd name="textAreaBottom" fmla="*/ 621000 h 620640"/>
            </a:gdLst>
            <a:ahLst/>
            <a:rect l="textAreaLeft" t="textAreaTop" r="textAreaRight" b="textAreaBottom"/>
            <a:pathLst>
              <a:path w="346" h="454">
                <a:moveTo>
                  <a:pt x="280" y="0"/>
                </a:moveTo>
                <a:lnTo>
                  <a:pt x="285" y="0"/>
                </a:lnTo>
                <a:lnTo>
                  <a:pt x="289" y="1"/>
                </a:lnTo>
                <a:lnTo>
                  <a:pt x="294" y="4"/>
                </a:lnTo>
                <a:lnTo>
                  <a:pt x="295" y="7"/>
                </a:lnTo>
                <a:lnTo>
                  <a:pt x="291" y="11"/>
                </a:lnTo>
                <a:lnTo>
                  <a:pt x="285" y="18"/>
                </a:lnTo>
                <a:lnTo>
                  <a:pt x="274" y="28"/>
                </a:lnTo>
                <a:lnTo>
                  <a:pt x="265" y="35"/>
                </a:lnTo>
                <a:lnTo>
                  <a:pt x="256" y="37"/>
                </a:lnTo>
                <a:lnTo>
                  <a:pt x="240" y="37"/>
                </a:lnTo>
                <a:lnTo>
                  <a:pt x="237" y="39"/>
                </a:lnTo>
                <a:lnTo>
                  <a:pt x="235" y="43"/>
                </a:lnTo>
                <a:lnTo>
                  <a:pt x="237" y="48"/>
                </a:lnTo>
                <a:lnTo>
                  <a:pt x="237" y="52"/>
                </a:lnTo>
                <a:lnTo>
                  <a:pt x="238" y="55"/>
                </a:lnTo>
                <a:lnTo>
                  <a:pt x="241" y="59"/>
                </a:lnTo>
                <a:lnTo>
                  <a:pt x="246" y="59"/>
                </a:lnTo>
                <a:lnTo>
                  <a:pt x="252" y="57"/>
                </a:lnTo>
                <a:lnTo>
                  <a:pt x="258" y="53"/>
                </a:lnTo>
                <a:lnTo>
                  <a:pt x="261" y="51"/>
                </a:lnTo>
                <a:lnTo>
                  <a:pt x="262" y="51"/>
                </a:lnTo>
                <a:lnTo>
                  <a:pt x="262" y="53"/>
                </a:lnTo>
                <a:lnTo>
                  <a:pt x="261" y="57"/>
                </a:lnTo>
                <a:lnTo>
                  <a:pt x="260" y="59"/>
                </a:lnTo>
                <a:lnTo>
                  <a:pt x="255" y="66"/>
                </a:lnTo>
                <a:lnTo>
                  <a:pt x="253" y="69"/>
                </a:lnTo>
                <a:lnTo>
                  <a:pt x="246" y="73"/>
                </a:lnTo>
                <a:lnTo>
                  <a:pt x="242" y="75"/>
                </a:lnTo>
                <a:lnTo>
                  <a:pt x="237" y="77"/>
                </a:lnTo>
                <a:lnTo>
                  <a:pt x="235" y="79"/>
                </a:lnTo>
                <a:lnTo>
                  <a:pt x="236" y="84"/>
                </a:lnTo>
                <a:lnTo>
                  <a:pt x="240" y="93"/>
                </a:lnTo>
                <a:lnTo>
                  <a:pt x="253" y="106"/>
                </a:lnTo>
                <a:lnTo>
                  <a:pt x="259" y="108"/>
                </a:lnTo>
                <a:lnTo>
                  <a:pt x="267" y="107"/>
                </a:lnTo>
                <a:lnTo>
                  <a:pt x="278" y="105"/>
                </a:lnTo>
                <a:lnTo>
                  <a:pt x="284" y="101"/>
                </a:lnTo>
                <a:lnTo>
                  <a:pt x="285" y="101"/>
                </a:lnTo>
                <a:lnTo>
                  <a:pt x="288" y="102"/>
                </a:lnTo>
                <a:lnTo>
                  <a:pt x="289" y="103"/>
                </a:lnTo>
                <a:lnTo>
                  <a:pt x="291" y="107"/>
                </a:lnTo>
                <a:lnTo>
                  <a:pt x="296" y="112"/>
                </a:lnTo>
                <a:lnTo>
                  <a:pt x="298" y="113"/>
                </a:lnTo>
                <a:lnTo>
                  <a:pt x="312" y="113"/>
                </a:lnTo>
                <a:lnTo>
                  <a:pt x="322" y="112"/>
                </a:lnTo>
                <a:lnTo>
                  <a:pt x="333" y="113"/>
                </a:lnTo>
                <a:lnTo>
                  <a:pt x="342" y="114"/>
                </a:lnTo>
                <a:lnTo>
                  <a:pt x="346" y="118"/>
                </a:lnTo>
                <a:lnTo>
                  <a:pt x="346" y="124"/>
                </a:lnTo>
                <a:lnTo>
                  <a:pt x="343" y="130"/>
                </a:lnTo>
                <a:lnTo>
                  <a:pt x="336" y="137"/>
                </a:lnTo>
                <a:lnTo>
                  <a:pt x="324" y="143"/>
                </a:lnTo>
                <a:lnTo>
                  <a:pt x="321" y="143"/>
                </a:lnTo>
                <a:lnTo>
                  <a:pt x="320" y="141"/>
                </a:lnTo>
                <a:lnTo>
                  <a:pt x="320" y="139"/>
                </a:lnTo>
                <a:lnTo>
                  <a:pt x="321" y="136"/>
                </a:lnTo>
                <a:lnTo>
                  <a:pt x="322" y="133"/>
                </a:lnTo>
                <a:lnTo>
                  <a:pt x="327" y="126"/>
                </a:lnTo>
                <a:lnTo>
                  <a:pt x="328" y="124"/>
                </a:lnTo>
                <a:lnTo>
                  <a:pt x="325" y="125"/>
                </a:lnTo>
                <a:lnTo>
                  <a:pt x="319" y="130"/>
                </a:lnTo>
                <a:lnTo>
                  <a:pt x="312" y="136"/>
                </a:lnTo>
                <a:lnTo>
                  <a:pt x="306" y="144"/>
                </a:lnTo>
                <a:lnTo>
                  <a:pt x="301" y="155"/>
                </a:lnTo>
                <a:lnTo>
                  <a:pt x="301" y="168"/>
                </a:lnTo>
                <a:lnTo>
                  <a:pt x="304" y="183"/>
                </a:lnTo>
                <a:lnTo>
                  <a:pt x="319" y="209"/>
                </a:lnTo>
                <a:lnTo>
                  <a:pt x="331" y="233"/>
                </a:lnTo>
                <a:lnTo>
                  <a:pt x="337" y="240"/>
                </a:lnTo>
                <a:lnTo>
                  <a:pt x="342" y="246"/>
                </a:lnTo>
                <a:lnTo>
                  <a:pt x="345" y="252"/>
                </a:lnTo>
                <a:lnTo>
                  <a:pt x="345" y="257"/>
                </a:lnTo>
                <a:lnTo>
                  <a:pt x="340" y="264"/>
                </a:lnTo>
                <a:lnTo>
                  <a:pt x="334" y="271"/>
                </a:lnTo>
                <a:lnTo>
                  <a:pt x="327" y="280"/>
                </a:lnTo>
                <a:lnTo>
                  <a:pt x="320" y="287"/>
                </a:lnTo>
                <a:lnTo>
                  <a:pt x="314" y="294"/>
                </a:lnTo>
                <a:lnTo>
                  <a:pt x="306" y="292"/>
                </a:lnTo>
                <a:lnTo>
                  <a:pt x="290" y="292"/>
                </a:lnTo>
                <a:lnTo>
                  <a:pt x="288" y="291"/>
                </a:lnTo>
                <a:lnTo>
                  <a:pt x="285" y="288"/>
                </a:lnTo>
                <a:lnTo>
                  <a:pt x="284" y="286"/>
                </a:lnTo>
                <a:lnTo>
                  <a:pt x="278" y="280"/>
                </a:lnTo>
                <a:lnTo>
                  <a:pt x="276" y="280"/>
                </a:lnTo>
                <a:lnTo>
                  <a:pt x="270" y="281"/>
                </a:lnTo>
                <a:lnTo>
                  <a:pt x="262" y="286"/>
                </a:lnTo>
                <a:lnTo>
                  <a:pt x="253" y="291"/>
                </a:lnTo>
                <a:lnTo>
                  <a:pt x="244" y="295"/>
                </a:lnTo>
                <a:lnTo>
                  <a:pt x="238" y="295"/>
                </a:lnTo>
                <a:lnTo>
                  <a:pt x="237" y="294"/>
                </a:lnTo>
                <a:lnTo>
                  <a:pt x="236" y="292"/>
                </a:lnTo>
                <a:lnTo>
                  <a:pt x="236" y="289"/>
                </a:lnTo>
                <a:lnTo>
                  <a:pt x="235" y="286"/>
                </a:lnTo>
                <a:lnTo>
                  <a:pt x="235" y="283"/>
                </a:lnTo>
                <a:lnTo>
                  <a:pt x="234" y="282"/>
                </a:lnTo>
                <a:lnTo>
                  <a:pt x="232" y="280"/>
                </a:lnTo>
                <a:lnTo>
                  <a:pt x="231" y="280"/>
                </a:lnTo>
                <a:lnTo>
                  <a:pt x="229" y="281"/>
                </a:lnTo>
                <a:lnTo>
                  <a:pt x="228" y="285"/>
                </a:lnTo>
                <a:lnTo>
                  <a:pt x="226" y="289"/>
                </a:lnTo>
                <a:lnTo>
                  <a:pt x="225" y="299"/>
                </a:lnTo>
                <a:lnTo>
                  <a:pt x="222" y="305"/>
                </a:lnTo>
                <a:lnTo>
                  <a:pt x="217" y="307"/>
                </a:lnTo>
                <a:lnTo>
                  <a:pt x="212" y="309"/>
                </a:lnTo>
                <a:lnTo>
                  <a:pt x="206" y="310"/>
                </a:lnTo>
                <a:lnTo>
                  <a:pt x="200" y="315"/>
                </a:lnTo>
                <a:lnTo>
                  <a:pt x="193" y="321"/>
                </a:lnTo>
                <a:lnTo>
                  <a:pt x="181" y="328"/>
                </a:lnTo>
                <a:lnTo>
                  <a:pt x="175" y="330"/>
                </a:lnTo>
                <a:lnTo>
                  <a:pt x="171" y="334"/>
                </a:lnTo>
                <a:lnTo>
                  <a:pt x="171" y="339"/>
                </a:lnTo>
                <a:lnTo>
                  <a:pt x="172" y="345"/>
                </a:lnTo>
                <a:lnTo>
                  <a:pt x="175" y="355"/>
                </a:lnTo>
                <a:lnTo>
                  <a:pt x="175" y="365"/>
                </a:lnTo>
                <a:lnTo>
                  <a:pt x="171" y="372"/>
                </a:lnTo>
                <a:lnTo>
                  <a:pt x="165" y="376"/>
                </a:lnTo>
                <a:lnTo>
                  <a:pt x="158" y="378"/>
                </a:lnTo>
                <a:lnTo>
                  <a:pt x="150" y="381"/>
                </a:lnTo>
                <a:lnTo>
                  <a:pt x="140" y="387"/>
                </a:lnTo>
                <a:lnTo>
                  <a:pt x="129" y="393"/>
                </a:lnTo>
                <a:lnTo>
                  <a:pt x="121" y="399"/>
                </a:lnTo>
                <a:lnTo>
                  <a:pt x="115" y="403"/>
                </a:lnTo>
                <a:lnTo>
                  <a:pt x="112" y="408"/>
                </a:lnTo>
                <a:lnTo>
                  <a:pt x="115" y="414"/>
                </a:lnTo>
                <a:lnTo>
                  <a:pt x="117" y="421"/>
                </a:lnTo>
                <a:lnTo>
                  <a:pt x="118" y="430"/>
                </a:lnTo>
                <a:lnTo>
                  <a:pt x="116" y="437"/>
                </a:lnTo>
                <a:lnTo>
                  <a:pt x="109" y="444"/>
                </a:lnTo>
                <a:lnTo>
                  <a:pt x="99" y="449"/>
                </a:lnTo>
                <a:lnTo>
                  <a:pt x="90" y="453"/>
                </a:lnTo>
                <a:lnTo>
                  <a:pt x="81" y="454"/>
                </a:lnTo>
                <a:lnTo>
                  <a:pt x="78" y="454"/>
                </a:lnTo>
                <a:lnTo>
                  <a:pt x="75" y="453"/>
                </a:lnTo>
                <a:lnTo>
                  <a:pt x="73" y="450"/>
                </a:lnTo>
                <a:lnTo>
                  <a:pt x="70" y="445"/>
                </a:lnTo>
                <a:lnTo>
                  <a:pt x="70" y="443"/>
                </a:lnTo>
                <a:lnTo>
                  <a:pt x="68" y="438"/>
                </a:lnTo>
                <a:lnTo>
                  <a:pt x="61" y="431"/>
                </a:lnTo>
                <a:lnTo>
                  <a:pt x="58" y="426"/>
                </a:lnTo>
                <a:lnTo>
                  <a:pt x="57" y="419"/>
                </a:lnTo>
                <a:lnTo>
                  <a:pt x="56" y="413"/>
                </a:lnTo>
                <a:lnTo>
                  <a:pt x="55" y="411"/>
                </a:lnTo>
                <a:lnTo>
                  <a:pt x="52" y="409"/>
                </a:lnTo>
                <a:lnTo>
                  <a:pt x="45" y="409"/>
                </a:lnTo>
                <a:lnTo>
                  <a:pt x="42" y="411"/>
                </a:lnTo>
                <a:lnTo>
                  <a:pt x="38" y="411"/>
                </a:lnTo>
                <a:lnTo>
                  <a:pt x="37" y="409"/>
                </a:lnTo>
                <a:lnTo>
                  <a:pt x="37" y="400"/>
                </a:lnTo>
                <a:lnTo>
                  <a:pt x="39" y="393"/>
                </a:lnTo>
                <a:lnTo>
                  <a:pt x="39" y="388"/>
                </a:lnTo>
                <a:lnTo>
                  <a:pt x="37" y="384"/>
                </a:lnTo>
                <a:lnTo>
                  <a:pt x="34" y="379"/>
                </a:lnTo>
                <a:lnTo>
                  <a:pt x="34" y="373"/>
                </a:lnTo>
                <a:lnTo>
                  <a:pt x="32" y="367"/>
                </a:lnTo>
                <a:lnTo>
                  <a:pt x="26" y="364"/>
                </a:lnTo>
                <a:lnTo>
                  <a:pt x="19" y="363"/>
                </a:lnTo>
                <a:lnTo>
                  <a:pt x="10" y="361"/>
                </a:lnTo>
                <a:lnTo>
                  <a:pt x="8" y="360"/>
                </a:lnTo>
                <a:lnTo>
                  <a:pt x="4" y="358"/>
                </a:lnTo>
                <a:lnTo>
                  <a:pt x="2" y="354"/>
                </a:lnTo>
                <a:lnTo>
                  <a:pt x="0" y="349"/>
                </a:lnTo>
                <a:lnTo>
                  <a:pt x="2" y="347"/>
                </a:lnTo>
                <a:lnTo>
                  <a:pt x="4" y="340"/>
                </a:lnTo>
                <a:lnTo>
                  <a:pt x="7" y="323"/>
                </a:lnTo>
                <a:lnTo>
                  <a:pt x="10" y="313"/>
                </a:lnTo>
                <a:lnTo>
                  <a:pt x="18" y="307"/>
                </a:lnTo>
                <a:lnTo>
                  <a:pt x="24" y="306"/>
                </a:lnTo>
                <a:lnTo>
                  <a:pt x="33" y="304"/>
                </a:lnTo>
                <a:lnTo>
                  <a:pt x="37" y="300"/>
                </a:lnTo>
                <a:lnTo>
                  <a:pt x="38" y="292"/>
                </a:lnTo>
                <a:lnTo>
                  <a:pt x="39" y="276"/>
                </a:lnTo>
                <a:lnTo>
                  <a:pt x="43" y="264"/>
                </a:lnTo>
                <a:lnTo>
                  <a:pt x="48" y="258"/>
                </a:lnTo>
                <a:lnTo>
                  <a:pt x="50" y="253"/>
                </a:lnTo>
                <a:lnTo>
                  <a:pt x="49" y="247"/>
                </a:lnTo>
                <a:lnTo>
                  <a:pt x="46" y="238"/>
                </a:lnTo>
                <a:lnTo>
                  <a:pt x="43" y="228"/>
                </a:lnTo>
                <a:lnTo>
                  <a:pt x="40" y="215"/>
                </a:lnTo>
                <a:lnTo>
                  <a:pt x="43" y="204"/>
                </a:lnTo>
                <a:lnTo>
                  <a:pt x="49" y="191"/>
                </a:lnTo>
                <a:lnTo>
                  <a:pt x="54" y="181"/>
                </a:lnTo>
                <a:lnTo>
                  <a:pt x="56" y="175"/>
                </a:lnTo>
                <a:lnTo>
                  <a:pt x="60" y="169"/>
                </a:lnTo>
                <a:lnTo>
                  <a:pt x="66" y="165"/>
                </a:lnTo>
                <a:lnTo>
                  <a:pt x="68" y="163"/>
                </a:lnTo>
                <a:lnTo>
                  <a:pt x="70" y="163"/>
                </a:lnTo>
                <a:lnTo>
                  <a:pt x="70" y="165"/>
                </a:lnTo>
                <a:lnTo>
                  <a:pt x="72" y="166"/>
                </a:lnTo>
                <a:lnTo>
                  <a:pt x="72" y="179"/>
                </a:lnTo>
                <a:lnTo>
                  <a:pt x="74" y="179"/>
                </a:lnTo>
                <a:lnTo>
                  <a:pt x="79" y="174"/>
                </a:lnTo>
                <a:lnTo>
                  <a:pt x="79" y="172"/>
                </a:lnTo>
                <a:lnTo>
                  <a:pt x="81" y="167"/>
                </a:lnTo>
                <a:lnTo>
                  <a:pt x="82" y="166"/>
                </a:lnTo>
                <a:lnTo>
                  <a:pt x="86" y="166"/>
                </a:lnTo>
                <a:lnTo>
                  <a:pt x="87" y="168"/>
                </a:lnTo>
                <a:lnTo>
                  <a:pt x="90" y="169"/>
                </a:lnTo>
                <a:lnTo>
                  <a:pt x="90" y="172"/>
                </a:lnTo>
                <a:lnTo>
                  <a:pt x="91" y="173"/>
                </a:lnTo>
                <a:lnTo>
                  <a:pt x="92" y="173"/>
                </a:lnTo>
                <a:lnTo>
                  <a:pt x="92" y="168"/>
                </a:lnTo>
                <a:lnTo>
                  <a:pt x="90" y="163"/>
                </a:lnTo>
                <a:lnTo>
                  <a:pt x="90" y="160"/>
                </a:lnTo>
                <a:lnTo>
                  <a:pt x="91" y="159"/>
                </a:lnTo>
                <a:lnTo>
                  <a:pt x="93" y="157"/>
                </a:lnTo>
                <a:lnTo>
                  <a:pt x="96" y="159"/>
                </a:lnTo>
                <a:lnTo>
                  <a:pt x="97" y="160"/>
                </a:lnTo>
                <a:lnTo>
                  <a:pt x="99" y="161"/>
                </a:lnTo>
                <a:lnTo>
                  <a:pt x="102" y="161"/>
                </a:lnTo>
                <a:lnTo>
                  <a:pt x="104" y="160"/>
                </a:lnTo>
                <a:lnTo>
                  <a:pt x="106" y="157"/>
                </a:lnTo>
                <a:lnTo>
                  <a:pt x="110" y="156"/>
                </a:lnTo>
                <a:lnTo>
                  <a:pt x="112" y="154"/>
                </a:lnTo>
                <a:lnTo>
                  <a:pt x="118" y="154"/>
                </a:lnTo>
                <a:lnTo>
                  <a:pt x="124" y="153"/>
                </a:lnTo>
                <a:lnTo>
                  <a:pt x="130" y="150"/>
                </a:lnTo>
                <a:lnTo>
                  <a:pt x="134" y="145"/>
                </a:lnTo>
                <a:lnTo>
                  <a:pt x="135" y="142"/>
                </a:lnTo>
                <a:lnTo>
                  <a:pt x="140" y="137"/>
                </a:lnTo>
                <a:lnTo>
                  <a:pt x="144" y="136"/>
                </a:lnTo>
                <a:lnTo>
                  <a:pt x="146" y="133"/>
                </a:lnTo>
                <a:lnTo>
                  <a:pt x="148" y="132"/>
                </a:lnTo>
                <a:lnTo>
                  <a:pt x="151" y="129"/>
                </a:lnTo>
                <a:lnTo>
                  <a:pt x="156" y="124"/>
                </a:lnTo>
                <a:lnTo>
                  <a:pt x="158" y="124"/>
                </a:lnTo>
                <a:lnTo>
                  <a:pt x="162" y="123"/>
                </a:lnTo>
                <a:lnTo>
                  <a:pt x="163" y="121"/>
                </a:lnTo>
                <a:lnTo>
                  <a:pt x="165" y="120"/>
                </a:lnTo>
                <a:lnTo>
                  <a:pt x="165" y="114"/>
                </a:lnTo>
                <a:lnTo>
                  <a:pt x="164" y="112"/>
                </a:lnTo>
                <a:lnTo>
                  <a:pt x="164" y="111"/>
                </a:lnTo>
                <a:lnTo>
                  <a:pt x="163" y="109"/>
                </a:lnTo>
                <a:lnTo>
                  <a:pt x="163" y="107"/>
                </a:lnTo>
                <a:lnTo>
                  <a:pt x="164" y="105"/>
                </a:lnTo>
                <a:lnTo>
                  <a:pt x="166" y="101"/>
                </a:lnTo>
                <a:lnTo>
                  <a:pt x="171" y="95"/>
                </a:lnTo>
                <a:lnTo>
                  <a:pt x="177" y="89"/>
                </a:lnTo>
                <a:lnTo>
                  <a:pt x="183" y="82"/>
                </a:lnTo>
                <a:lnTo>
                  <a:pt x="187" y="76"/>
                </a:lnTo>
                <a:lnTo>
                  <a:pt x="188" y="71"/>
                </a:lnTo>
                <a:lnTo>
                  <a:pt x="187" y="69"/>
                </a:lnTo>
                <a:lnTo>
                  <a:pt x="184" y="66"/>
                </a:lnTo>
                <a:lnTo>
                  <a:pt x="181" y="64"/>
                </a:lnTo>
                <a:lnTo>
                  <a:pt x="176" y="61"/>
                </a:lnTo>
                <a:lnTo>
                  <a:pt x="178" y="57"/>
                </a:lnTo>
                <a:lnTo>
                  <a:pt x="183" y="49"/>
                </a:lnTo>
                <a:lnTo>
                  <a:pt x="186" y="48"/>
                </a:lnTo>
                <a:lnTo>
                  <a:pt x="193" y="48"/>
                </a:lnTo>
                <a:lnTo>
                  <a:pt x="200" y="51"/>
                </a:lnTo>
                <a:lnTo>
                  <a:pt x="208" y="53"/>
                </a:lnTo>
                <a:lnTo>
                  <a:pt x="213" y="54"/>
                </a:lnTo>
                <a:lnTo>
                  <a:pt x="216" y="53"/>
                </a:lnTo>
                <a:lnTo>
                  <a:pt x="219" y="51"/>
                </a:lnTo>
                <a:lnTo>
                  <a:pt x="222" y="48"/>
                </a:lnTo>
                <a:lnTo>
                  <a:pt x="226" y="41"/>
                </a:lnTo>
                <a:lnTo>
                  <a:pt x="226" y="39"/>
                </a:lnTo>
                <a:lnTo>
                  <a:pt x="224" y="37"/>
                </a:lnTo>
                <a:lnTo>
                  <a:pt x="219" y="33"/>
                </a:lnTo>
                <a:lnTo>
                  <a:pt x="219" y="30"/>
                </a:lnTo>
                <a:lnTo>
                  <a:pt x="220" y="28"/>
                </a:lnTo>
                <a:lnTo>
                  <a:pt x="226" y="23"/>
                </a:lnTo>
                <a:lnTo>
                  <a:pt x="234" y="21"/>
                </a:lnTo>
                <a:lnTo>
                  <a:pt x="249" y="21"/>
                </a:lnTo>
                <a:lnTo>
                  <a:pt x="256" y="18"/>
                </a:lnTo>
                <a:lnTo>
                  <a:pt x="271" y="6"/>
                </a:lnTo>
                <a:lnTo>
                  <a:pt x="276" y="3"/>
                </a:lnTo>
                <a:lnTo>
                  <a:pt x="280" y="0"/>
                </a:lnTo>
                <a:close/>
              </a:path>
            </a:pathLst>
          </a:custGeom>
          <a:solidFill>
            <a:srgbClr val="7f7f7f"/>
          </a:solidFill>
          <a:ln w="0">
            <a:solidFill>
              <a:srgbClr val="adada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reeform 1933"/>
          <p:cNvSpPr/>
          <p:nvPr/>
        </p:nvSpPr>
        <p:spPr>
          <a:xfrm>
            <a:off x="4267080" y="4835520"/>
            <a:ext cx="868320" cy="1008000"/>
          </a:xfrm>
          <a:custGeom>
            <a:avLst/>
            <a:gdLst>
              <a:gd name="textAreaLeft" fmla="*/ 0 w 868320"/>
              <a:gd name="textAreaRight" fmla="*/ 868680 w 86832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634" h="735">
                <a:moveTo>
                  <a:pt x="369" y="0"/>
                </a:moveTo>
                <a:lnTo>
                  <a:pt x="377" y="0"/>
                </a:lnTo>
                <a:lnTo>
                  <a:pt x="381" y="1"/>
                </a:lnTo>
                <a:lnTo>
                  <a:pt x="383" y="3"/>
                </a:lnTo>
                <a:lnTo>
                  <a:pt x="386" y="5"/>
                </a:lnTo>
                <a:lnTo>
                  <a:pt x="388" y="9"/>
                </a:lnTo>
                <a:lnTo>
                  <a:pt x="371" y="18"/>
                </a:lnTo>
                <a:lnTo>
                  <a:pt x="366" y="23"/>
                </a:lnTo>
                <a:lnTo>
                  <a:pt x="366" y="29"/>
                </a:lnTo>
                <a:lnTo>
                  <a:pt x="369" y="40"/>
                </a:lnTo>
                <a:lnTo>
                  <a:pt x="370" y="52"/>
                </a:lnTo>
                <a:lnTo>
                  <a:pt x="371" y="65"/>
                </a:lnTo>
                <a:lnTo>
                  <a:pt x="369" y="79"/>
                </a:lnTo>
                <a:lnTo>
                  <a:pt x="369" y="93"/>
                </a:lnTo>
                <a:lnTo>
                  <a:pt x="372" y="106"/>
                </a:lnTo>
                <a:lnTo>
                  <a:pt x="384" y="130"/>
                </a:lnTo>
                <a:lnTo>
                  <a:pt x="387" y="143"/>
                </a:lnTo>
                <a:lnTo>
                  <a:pt x="386" y="153"/>
                </a:lnTo>
                <a:lnTo>
                  <a:pt x="383" y="157"/>
                </a:lnTo>
                <a:lnTo>
                  <a:pt x="380" y="160"/>
                </a:lnTo>
                <a:lnTo>
                  <a:pt x="374" y="163"/>
                </a:lnTo>
                <a:lnTo>
                  <a:pt x="365" y="172"/>
                </a:lnTo>
                <a:lnTo>
                  <a:pt x="358" y="183"/>
                </a:lnTo>
                <a:lnTo>
                  <a:pt x="356" y="193"/>
                </a:lnTo>
                <a:lnTo>
                  <a:pt x="356" y="205"/>
                </a:lnTo>
                <a:lnTo>
                  <a:pt x="357" y="216"/>
                </a:lnTo>
                <a:lnTo>
                  <a:pt x="358" y="228"/>
                </a:lnTo>
                <a:lnTo>
                  <a:pt x="360" y="235"/>
                </a:lnTo>
                <a:lnTo>
                  <a:pt x="364" y="239"/>
                </a:lnTo>
                <a:lnTo>
                  <a:pt x="369" y="240"/>
                </a:lnTo>
                <a:lnTo>
                  <a:pt x="375" y="241"/>
                </a:lnTo>
                <a:lnTo>
                  <a:pt x="380" y="244"/>
                </a:lnTo>
                <a:lnTo>
                  <a:pt x="383" y="249"/>
                </a:lnTo>
                <a:lnTo>
                  <a:pt x="384" y="255"/>
                </a:lnTo>
                <a:lnTo>
                  <a:pt x="383" y="258"/>
                </a:lnTo>
                <a:lnTo>
                  <a:pt x="377" y="264"/>
                </a:lnTo>
                <a:lnTo>
                  <a:pt x="376" y="268"/>
                </a:lnTo>
                <a:lnTo>
                  <a:pt x="378" y="273"/>
                </a:lnTo>
                <a:lnTo>
                  <a:pt x="386" y="288"/>
                </a:lnTo>
                <a:lnTo>
                  <a:pt x="390" y="306"/>
                </a:lnTo>
                <a:lnTo>
                  <a:pt x="393" y="325"/>
                </a:lnTo>
                <a:lnTo>
                  <a:pt x="394" y="331"/>
                </a:lnTo>
                <a:lnTo>
                  <a:pt x="396" y="333"/>
                </a:lnTo>
                <a:lnTo>
                  <a:pt x="401" y="333"/>
                </a:lnTo>
                <a:lnTo>
                  <a:pt x="406" y="330"/>
                </a:lnTo>
                <a:lnTo>
                  <a:pt x="411" y="329"/>
                </a:lnTo>
                <a:lnTo>
                  <a:pt x="416" y="329"/>
                </a:lnTo>
                <a:lnTo>
                  <a:pt x="425" y="339"/>
                </a:lnTo>
                <a:lnTo>
                  <a:pt x="430" y="341"/>
                </a:lnTo>
                <a:lnTo>
                  <a:pt x="435" y="342"/>
                </a:lnTo>
                <a:lnTo>
                  <a:pt x="441" y="342"/>
                </a:lnTo>
                <a:lnTo>
                  <a:pt x="448" y="345"/>
                </a:lnTo>
                <a:lnTo>
                  <a:pt x="465" y="359"/>
                </a:lnTo>
                <a:lnTo>
                  <a:pt x="476" y="367"/>
                </a:lnTo>
                <a:lnTo>
                  <a:pt x="486" y="371"/>
                </a:lnTo>
                <a:lnTo>
                  <a:pt x="496" y="370"/>
                </a:lnTo>
                <a:lnTo>
                  <a:pt x="504" y="365"/>
                </a:lnTo>
                <a:lnTo>
                  <a:pt x="513" y="361"/>
                </a:lnTo>
                <a:lnTo>
                  <a:pt x="516" y="361"/>
                </a:lnTo>
                <a:lnTo>
                  <a:pt x="518" y="363"/>
                </a:lnTo>
                <a:lnTo>
                  <a:pt x="518" y="367"/>
                </a:lnTo>
                <a:lnTo>
                  <a:pt x="519" y="370"/>
                </a:lnTo>
                <a:lnTo>
                  <a:pt x="519" y="371"/>
                </a:lnTo>
                <a:lnTo>
                  <a:pt x="520" y="372"/>
                </a:lnTo>
                <a:lnTo>
                  <a:pt x="522" y="373"/>
                </a:lnTo>
                <a:lnTo>
                  <a:pt x="527" y="372"/>
                </a:lnTo>
                <a:lnTo>
                  <a:pt x="530" y="367"/>
                </a:lnTo>
                <a:lnTo>
                  <a:pt x="534" y="348"/>
                </a:lnTo>
                <a:lnTo>
                  <a:pt x="537" y="337"/>
                </a:lnTo>
                <a:lnTo>
                  <a:pt x="543" y="327"/>
                </a:lnTo>
                <a:lnTo>
                  <a:pt x="549" y="317"/>
                </a:lnTo>
                <a:lnTo>
                  <a:pt x="555" y="311"/>
                </a:lnTo>
                <a:lnTo>
                  <a:pt x="561" y="309"/>
                </a:lnTo>
                <a:lnTo>
                  <a:pt x="563" y="309"/>
                </a:lnTo>
                <a:lnTo>
                  <a:pt x="566" y="310"/>
                </a:lnTo>
                <a:lnTo>
                  <a:pt x="566" y="311"/>
                </a:lnTo>
                <a:lnTo>
                  <a:pt x="567" y="312"/>
                </a:lnTo>
                <a:lnTo>
                  <a:pt x="568" y="315"/>
                </a:lnTo>
                <a:lnTo>
                  <a:pt x="569" y="318"/>
                </a:lnTo>
                <a:lnTo>
                  <a:pt x="570" y="323"/>
                </a:lnTo>
                <a:lnTo>
                  <a:pt x="572" y="327"/>
                </a:lnTo>
                <a:lnTo>
                  <a:pt x="574" y="328"/>
                </a:lnTo>
                <a:lnTo>
                  <a:pt x="575" y="329"/>
                </a:lnTo>
                <a:lnTo>
                  <a:pt x="582" y="329"/>
                </a:lnTo>
                <a:lnTo>
                  <a:pt x="584" y="331"/>
                </a:lnTo>
                <a:lnTo>
                  <a:pt x="585" y="335"/>
                </a:lnTo>
                <a:lnTo>
                  <a:pt x="588" y="341"/>
                </a:lnTo>
                <a:lnTo>
                  <a:pt x="591" y="345"/>
                </a:lnTo>
                <a:lnTo>
                  <a:pt x="594" y="346"/>
                </a:lnTo>
                <a:lnTo>
                  <a:pt x="596" y="349"/>
                </a:lnTo>
                <a:lnTo>
                  <a:pt x="597" y="355"/>
                </a:lnTo>
                <a:lnTo>
                  <a:pt x="594" y="361"/>
                </a:lnTo>
                <a:lnTo>
                  <a:pt x="580" y="372"/>
                </a:lnTo>
                <a:lnTo>
                  <a:pt x="578" y="378"/>
                </a:lnTo>
                <a:lnTo>
                  <a:pt x="576" y="394"/>
                </a:lnTo>
                <a:lnTo>
                  <a:pt x="570" y="413"/>
                </a:lnTo>
                <a:lnTo>
                  <a:pt x="560" y="432"/>
                </a:lnTo>
                <a:lnTo>
                  <a:pt x="554" y="443"/>
                </a:lnTo>
                <a:lnTo>
                  <a:pt x="550" y="453"/>
                </a:lnTo>
                <a:lnTo>
                  <a:pt x="551" y="460"/>
                </a:lnTo>
                <a:lnTo>
                  <a:pt x="554" y="467"/>
                </a:lnTo>
                <a:lnTo>
                  <a:pt x="558" y="474"/>
                </a:lnTo>
                <a:lnTo>
                  <a:pt x="561" y="480"/>
                </a:lnTo>
                <a:lnTo>
                  <a:pt x="560" y="484"/>
                </a:lnTo>
                <a:lnTo>
                  <a:pt x="552" y="491"/>
                </a:lnTo>
                <a:lnTo>
                  <a:pt x="551" y="496"/>
                </a:lnTo>
                <a:lnTo>
                  <a:pt x="552" y="498"/>
                </a:lnTo>
                <a:lnTo>
                  <a:pt x="562" y="496"/>
                </a:lnTo>
                <a:lnTo>
                  <a:pt x="569" y="495"/>
                </a:lnTo>
                <a:lnTo>
                  <a:pt x="574" y="497"/>
                </a:lnTo>
                <a:lnTo>
                  <a:pt x="578" y="503"/>
                </a:lnTo>
                <a:lnTo>
                  <a:pt x="579" y="510"/>
                </a:lnTo>
                <a:lnTo>
                  <a:pt x="578" y="515"/>
                </a:lnTo>
                <a:lnTo>
                  <a:pt x="575" y="517"/>
                </a:lnTo>
                <a:lnTo>
                  <a:pt x="573" y="521"/>
                </a:lnTo>
                <a:lnTo>
                  <a:pt x="572" y="527"/>
                </a:lnTo>
                <a:lnTo>
                  <a:pt x="570" y="535"/>
                </a:lnTo>
                <a:lnTo>
                  <a:pt x="572" y="544"/>
                </a:lnTo>
                <a:lnTo>
                  <a:pt x="574" y="547"/>
                </a:lnTo>
                <a:lnTo>
                  <a:pt x="578" y="549"/>
                </a:lnTo>
                <a:lnTo>
                  <a:pt x="584" y="549"/>
                </a:lnTo>
                <a:lnTo>
                  <a:pt x="588" y="550"/>
                </a:lnTo>
                <a:lnTo>
                  <a:pt x="593" y="555"/>
                </a:lnTo>
                <a:lnTo>
                  <a:pt x="597" y="561"/>
                </a:lnTo>
                <a:lnTo>
                  <a:pt x="597" y="564"/>
                </a:lnTo>
                <a:lnTo>
                  <a:pt x="596" y="568"/>
                </a:lnTo>
                <a:lnTo>
                  <a:pt x="594" y="570"/>
                </a:lnTo>
                <a:lnTo>
                  <a:pt x="593" y="576"/>
                </a:lnTo>
                <a:lnTo>
                  <a:pt x="593" y="586"/>
                </a:lnTo>
                <a:lnTo>
                  <a:pt x="596" y="595"/>
                </a:lnTo>
                <a:lnTo>
                  <a:pt x="599" y="604"/>
                </a:lnTo>
                <a:lnTo>
                  <a:pt x="604" y="610"/>
                </a:lnTo>
                <a:lnTo>
                  <a:pt x="606" y="615"/>
                </a:lnTo>
                <a:lnTo>
                  <a:pt x="604" y="618"/>
                </a:lnTo>
                <a:lnTo>
                  <a:pt x="602" y="623"/>
                </a:lnTo>
                <a:lnTo>
                  <a:pt x="600" y="628"/>
                </a:lnTo>
                <a:lnTo>
                  <a:pt x="603" y="634"/>
                </a:lnTo>
                <a:lnTo>
                  <a:pt x="605" y="639"/>
                </a:lnTo>
                <a:lnTo>
                  <a:pt x="600" y="648"/>
                </a:lnTo>
                <a:lnTo>
                  <a:pt x="597" y="653"/>
                </a:lnTo>
                <a:lnTo>
                  <a:pt x="597" y="665"/>
                </a:lnTo>
                <a:lnTo>
                  <a:pt x="596" y="670"/>
                </a:lnTo>
                <a:lnTo>
                  <a:pt x="593" y="675"/>
                </a:lnTo>
                <a:lnTo>
                  <a:pt x="592" y="681"/>
                </a:lnTo>
                <a:lnTo>
                  <a:pt x="593" y="689"/>
                </a:lnTo>
                <a:lnTo>
                  <a:pt x="597" y="695"/>
                </a:lnTo>
                <a:lnTo>
                  <a:pt x="603" y="697"/>
                </a:lnTo>
                <a:lnTo>
                  <a:pt x="617" y="697"/>
                </a:lnTo>
                <a:lnTo>
                  <a:pt x="626" y="699"/>
                </a:lnTo>
                <a:lnTo>
                  <a:pt x="632" y="702"/>
                </a:lnTo>
                <a:lnTo>
                  <a:pt x="634" y="705"/>
                </a:lnTo>
                <a:lnTo>
                  <a:pt x="634" y="707"/>
                </a:lnTo>
                <a:lnTo>
                  <a:pt x="633" y="708"/>
                </a:lnTo>
                <a:lnTo>
                  <a:pt x="630" y="709"/>
                </a:lnTo>
                <a:lnTo>
                  <a:pt x="628" y="709"/>
                </a:lnTo>
                <a:lnTo>
                  <a:pt x="624" y="711"/>
                </a:lnTo>
                <a:lnTo>
                  <a:pt x="622" y="711"/>
                </a:lnTo>
                <a:lnTo>
                  <a:pt x="618" y="712"/>
                </a:lnTo>
                <a:lnTo>
                  <a:pt x="616" y="713"/>
                </a:lnTo>
                <a:lnTo>
                  <a:pt x="614" y="718"/>
                </a:lnTo>
                <a:lnTo>
                  <a:pt x="614" y="720"/>
                </a:lnTo>
                <a:lnTo>
                  <a:pt x="618" y="725"/>
                </a:lnTo>
                <a:lnTo>
                  <a:pt x="611" y="727"/>
                </a:lnTo>
                <a:lnTo>
                  <a:pt x="604" y="729"/>
                </a:lnTo>
                <a:lnTo>
                  <a:pt x="599" y="727"/>
                </a:lnTo>
                <a:lnTo>
                  <a:pt x="596" y="726"/>
                </a:lnTo>
                <a:lnTo>
                  <a:pt x="591" y="723"/>
                </a:lnTo>
                <a:lnTo>
                  <a:pt x="587" y="721"/>
                </a:lnTo>
                <a:lnTo>
                  <a:pt x="584" y="721"/>
                </a:lnTo>
                <a:lnTo>
                  <a:pt x="582" y="723"/>
                </a:lnTo>
                <a:lnTo>
                  <a:pt x="582" y="724"/>
                </a:lnTo>
                <a:lnTo>
                  <a:pt x="580" y="726"/>
                </a:lnTo>
                <a:lnTo>
                  <a:pt x="579" y="729"/>
                </a:lnTo>
                <a:lnTo>
                  <a:pt x="575" y="731"/>
                </a:lnTo>
                <a:lnTo>
                  <a:pt x="568" y="735"/>
                </a:lnTo>
                <a:lnTo>
                  <a:pt x="557" y="735"/>
                </a:lnTo>
                <a:lnTo>
                  <a:pt x="548" y="732"/>
                </a:lnTo>
                <a:lnTo>
                  <a:pt x="537" y="731"/>
                </a:lnTo>
                <a:lnTo>
                  <a:pt x="527" y="730"/>
                </a:lnTo>
                <a:lnTo>
                  <a:pt x="522" y="730"/>
                </a:lnTo>
                <a:lnTo>
                  <a:pt x="519" y="729"/>
                </a:lnTo>
                <a:lnTo>
                  <a:pt x="516" y="727"/>
                </a:lnTo>
                <a:lnTo>
                  <a:pt x="514" y="725"/>
                </a:lnTo>
                <a:lnTo>
                  <a:pt x="512" y="720"/>
                </a:lnTo>
                <a:lnTo>
                  <a:pt x="510" y="717"/>
                </a:lnTo>
                <a:lnTo>
                  <a:pt x="507" y="713"/>
                </a:lnTo>
                <a:lnTo>
                  <a:pt x="498" y="711"/>
                </a:lnTo>
                <a:lnTo>
                  <a:pt x="488" y="708"/>
                </a:lnTo>
                <a:lnTo>
                  <a:pt x="473" y="705"/>
                </a:lnTo>
                <a:lnTo>
                  <a:pt x="465" y="703"/>
                </a:lnTo>
                <a:lnTo>
                  <a:pt x="460" y="705"/>
                </a:lnTo>
                <a:lnTo>
                  <a:pt x="456" y="707"/>
                </a:lnTo>
                <a:lnTo>
                  <a:pt x="455" y="712"/>
                </a:lnTo>
                <a:lnTo>
                  <a:pt x="453" y="715"/>
                </a:lnTo>
                <a:lnTo>
                  <a:pt x="449" y="719"/>
                </a:lnTo>
                <a:lnTo>
                  <a:pt x="442" y="721"/>
                </a:lnTo>
                <a:lnTo>
                  <a:pt x="435" y="720"/>
                </a:lnTo>
                <a:lnTo>
                  <a:pt x="429" y="715"/>
                </a:lnTo>
                <a:lnTo>
                  <a:pt x="426" y="709"/>
                </a:lnTo>
                <a:lnTo>
                  <a:pt x="426" y="705"/>
                </a:lnTo>
                <a:lnTo>
                  <a:pt x="424" y="700"/>
                </a:lnTo>
                <a:lnTo>
                  <a:pt x="419" y="695"/>
                </a:lnTo>
                <a:lnTo>
                  <a:pt x="411" y="695"/>
                </a:lnTo>
                <a:lnTo>
                  <a:pt x="407" y="697"/>
                </a:lnTo>
                <a:lnTo>
                  <a:pt x="406" y="702"/>
                </a:lnTo>
                <a:lnTo>
                  <a:pt x="406" y="708"/>
                </a:lnTo>
                <a:lnTo>
                  <a:pt x="405" y="714"/>
                </a:lnTo>
                <a:lnTo>
                  <a:pt x="402" y="719"/>
                </a:lnTo>
                <a:lnTo>
                  <a:pt x="396" y="720"/>
                </a:lnTo>
                <a:lnTo>
                  <a:pt x="392" y="718"/>
                </a:lnTo>
                <a:lnTo>
                  <a:pt x="390" y="713"/>
                </a:lnTo>
                <a:lnTo>
                  <a:pt x="390" y="707"/>
                </a:lnTo>
                <a:lnTo>
                  <a:pt x="393" y="699"/>
                </a:lnTo>
                <a:lnTo>
                  <a:pt x="395" y="691"/>
                </a:lnTo>
                <a:lnTo>
                  <a:pt x="399" y="687"/>
                </a:lnTo>
                <a:lnTo>
                  <a:pt x="401" y="683"/>
                </a:lnTo>
                <a:lnTo>
                  <a:pt x="402" y="682"/>
                </a:lnTo>
                <a:lnTo>
                  <a:pt x="404" y="679"/>
                </a:lnTo>
                <a:lnTo>
                  <a:pt x="395" y="671"/>
                </a:lnTo>
                <a:lnTo>
                  <a:pt x="392" y="669"/>
                </a:lnTo>
                <a:lnTo>
                  <a:pt x="386" y="663"/>
                </a:lnTo>
                <a:lnTo>
                  <a:pt x="377" y="657"/>
                </a:lnTo>
                <a:lnTo>
                  <a:pt x="370" y="653"/>
                </a:lnTo>
                <a:lnTo>
                  <a:pt x="363" y="651"/>
                </a:lnTo>
                <a:lnTo>
                  <a:pt x="352" y="651"/>
                </a:lnTo>
                <a:lnTo>
                  <a:pt x="341" y="647"/>
                </a:lnTo>
                <a:lnTo>
                  <a:pt x="336" y="647"/>
                </a:lnTo>
                <a:lnTo>
                  <a:pt x="334" y="648"/>
                </a:lnTo>
                <a:lnTo>
                  <a:pt x="330" y="655"/>
                </a:lnTo>
                <a:lnTo>
                  <a:pt x="327" y="659"/>
                </a:lnTo>
                <a:lnTo>
                  <a:pt x="320" y="659"/>
                </a:lnTo>
                <a:lnTo>
                  <a:pt x="303" y="657"/>
                </a:lnTo>
                <a:lnTo>
                  <a:pt x="292" y="657"/>
                </a:lnTo>
                <a:lnTo>
                  <a:pt x="288" y="655"/>
                </a:lnTo>
                <a:lnTo>
                  <a:pt x="286" y="654"/>
                </a:lnTo>
                <a:lnTo>
                  <a:pt x="285" y="652"/>
                </a:lnTo>
                <a:lnTo>
                  <a:pt x="282" y="649"/>
                </a:lnTo>
                <a:lnTo>
                  <a:pt x="280" y="642"/>
                </a:lnTo>
                <a:lnTo>
                  <a:pt x="273" y="631"/>
                </a:lnTo>
                <a:lnTo>
                  <a:pt x="260" y="621"/>
                </a:lnTo>
                <a:lnTo>
                  <a:pt x="244" y="609"/>
                </a:lnTo>
                <a:lnTo>
                  <a:pt x="233" y="603"/>
                </a:lnTo>
                <a:lnTo>
                  <a:pt x="224" y="603"/>
                </a:lnTo>
                <a:lnTo>
                  <a:pt x="216" y="604"/>
                </a:lnTo>
                <a:lnTo>
                  <a:pt x="210" y="607"/>
                </a:lnTo>
                <a:lnTo>
                  <a:pt x="207" y="611"/>
                </a:lnTo>
                <a:lnTo>
                  <a:pt x="206" y="618"/>
                </a:lnTo>
                <a:lnTo>
                  <a:pt x="206" y="628"/>
                </a:lnTo>
                <a:lnTo>
                  <a:pt x="202" y="630"/>
                </a:lnTo>
                <a:lnTo>
                  <a:pt x="192" y="631"/>
                </a:lnTo>
                <a:lnTo>
                  <a:pt x="178" y="633"/>
                </a:lnTo>
                <a:lnTo>
                  <a:pt x="161" y="631"/>
                </a:lnTo>
                <a:lnTo>
                  <a:pt x="142" y="631"/>
                </a:lnTo>
                <a:lnTo>
                  <a:pt x="123" y="630"/>
                </a:lnTo>
                <a:lnTo>
                  <a:pt x="105" y="629"/>
                </a:lnTo>
                <a:lnTo>
                  <a:pt x="88" y="627"/>
                </a:lnTo>
                <a:lnTo>
                  <a:pt x="76" y="627"/>
                </a:lnTo>
                <a:lnTo>
                  <a:pt x="69" y="625"/>
                </a:lnTo>
                <a:lnTo>
                  <a:pt x="60" y="623"/>
                </a:lnTo>
                <a:lnTo>
                  <a:pt x="54" y="617"/>
                </a:lnTo>
                <a:lnTo>
                  <a:pt x="50" y="609"/>
                </a:lnTo>
                <a:lnTo>
                  <a:pt x="47" y="601"/>
                </a:lnTo>
                <a:lnTo>
                  <a:pt x="47" y="597"/>
                </a:lnTo>
                <a:lnTo>
                  <a:pt x="48" y="594"/>
                </a:lnTo>
                <a:lnTo>
                  <a:pt x="50" y="593"/>
                </a:lnTo>
                <a:lnTo>
                  <a:pt x="54" y="593"/>
                </a:lnTo>
                <a:lnTo>
                  <a:pt x="57" y="592"/>
                </a:lnTo>
                <a:lnTo>
                  <a:pt x="58" y="591"/>
                </a:lnTo>
                <a:lnTo>
                  <a:pt x="60" y="586"/>
                </a:lnTo>
                <a:lnTo>
                  <a:pt x="59" y="583"/>
                </a:lnTo>
                <a:lnTo>
                  <a:pt x="58" y="582"/>
                </a:lnTo>
                <a:lnTo>
                  <a:pt x="56" y="582"/>
                </a:lnTo>
                <a:lnTo>
                  <a:pt x="53" y="581"/>
                </a:lnTo>
                <a:lnTo>
                  <a:pt x="46" y="581"/>
                </a:lnTo>
                <a:lnTo>
                  <a:pt x="42" y="580"/>
                </a:lnTo>
                <a:lnTo>
                  <a:pt x="39" y="577"/>
                </a:lnTo>
                <a:lnTo>
                  <a:pt x="38" y="571"/>
                </a:lnTo>
                <a:lnTo>
                  <a:pt x="38" y="565"/>
                </a:lnTo>
                <a:lnTo>
                  <a:pt x="39" y="559"/>
                </a:lnTo>
                <a:lnTo>
                  <a:pt x="41" y="557"/>
                </a:lnTo>
                <a:lnTo>
                  <a:pt x="46" y="555"/>
                </a:lnTo>
                <a:lnTo>
                  <a:pt x="60" y="550"/>
                </a:lnTo>
                <a:lnTo>
                  <a:pt x="66" y="546"/>
                </a:lnTo>
                <a:lnTo>
                  <a:pt x="70" y="540"/>
                </a:lnTo>
                <a:lnTo>
                  <a:pt x="69" y="534"/>
                </a:lnTo>
                <a:lnTo>
                  <a:pt x="65" y="528"/>
                </a:lnTo>
                <a:lnTo>
                  <a:pt x="63" y="521"/>
                </a:lnTo>
                <a:lnTo>
                  <a:pt x="60" y="520"/>
                </a:lnTo>
                <a:lnTo>
                  <a:pt x="58" y="521"/>
                </a:lnTo>
                <a:lnTo>
                  <a:pt x="48" y="533"/>
                </a:lnTo>
                <a:lnTo>
                  <a:pt x="41" y="543"/>
                </a:lnTo>
                <a:lnTo>
                  <a:pt x="30" y="551"/>
                </a:lnTo>
                <a:lnTo>
                  <a:pt x="17" y="563"/>
                </a:lnTo>
                <a:lnTo>
                  <a:pt x="12" y="564"/>
                </a:lnTo>
                <a:lnTo>
                  <a:pt x="9" y="559"/>
                </a:lnTo>
                <a:lnTo>
                  <a:pt x="5" y="551"/>
                </a:lnTo>
                <a:lnTo>
                  <a:pt x="3" y="540"/>
                </a:lnTo>
                <a:lnTo>
                  <a:pt x="0" y="531"/>
                </a:lnTo>
                <a:lnTo>
                  <a:pt x="0" y="523"/>
                </a:lnTo>
                <a:lnTo>
                  <a:pt x="4" y="519"/>
                </a:lnTo>
                <a:lnTo>
                  <a:pt x="14" y="511"/>
                </a:lnTo>
                <a:lnTo>
                  <a:pt x="27" y="505"/>
                </a:lnTo>
                <a:lnTo>
                  <a:pt x="41" y="499"/>
                </a:lnTo>
                <a:lnTo>
                  <a:pt x="54" y="493"/>
                </a:lnTo>
                <a:lnTo>
                  <a:pt x="66" y="490"/>
                </a:lnTo>
                <a:lnTo>
                  <a:pt x="74" y="489"/>
                </a:lnTo>
                <a:lnTo>
                  <a:pt x="80" y="489"/>
                </a:lnTo>
                <a:lnTo>
                  <a:pt x="80" y="491"/>
                </a:lnTo>
                <a:lnTo>
                  <a:pt x="81" y="492"/>
                </a:lnTo>
                <a:lnTo>
                  <a:pt x="82" y="495"/>
                </a:lnTo>
                <a:lnTo>
                  <a:pt x="86" y="496"/>
                </a:lnTo>
                <a:lnTo>
                  <a:pt x="102" y="479"/>
                </a:lnTo>
                <a:lnTo>
                  <a:pt x="108" y="474"/>
                </a:lnTo>
                <a:lnTo>
                  <a:pt x="110" y="472"/>
                </a:lnTo>
                <a:lnTo>
                  <a:pt x="105" y="471"/>
                </a:lnTo>
                <a:lnTo>
                  <a:pt x="96" y="471"/>
                </a:lnTo>
                <a:lnTo>
                  <a:pt x="86" y="469"/>
                </a:lnTo>
                <a:lnTo>
                  <a:pt x="76" y="471"/>
                </a:lnTo>
                <a:lnTo>
                  <a:pt x="70" y="471"/>
                </a:lnTo>
                <a:lnTo>
                  <a:pt x="68" y="468"/>
                </a:lnTo>
                <a:lnTo>
                  <a:pt x="66" y="462"/>
                </a:lnTo>
                <a:lnTo>
                  <a:pt x="68" y="454"/>
                </a:lnTo>
                <a:lnTo>
                  <a:pt x="70" y="445"/>
                </a:lnTo>
                <a:lnTo>
                  <a:pt x="72" y="438"/>
                </a:lnTo>
                <a:lnTo>
                  <a:pt x="78" y="432"/>
                </a:lnTo>
                <a:lnTo>
                  <a:pt x="89" y="429"/>
                </a:lnTo>
                <a:lnTo>
                  <a:pt x="101" y="426"/>
                </a:lnTo>
                <a:lnTo>
                  <a:pt x="112" y="425"/>
                </a:lnTo>
                <a:lnTo>
                  <a:pt x="114" y="425"/>
                </a:lnTo>
                <a:lnTo>
                  <a:pt x="117" y="424"/>
                </a:lnTo>
                <a:lnTo>
                  <a:pt x="118" y="423"/>
                </a:lnTo>
                <a:lnTo>
                  <a:pt x="117" y="420"/>
                </a:lnTo>
                <a:lnTo>
                  <a:pt x="117" y="418"/>
                </a:lnTo>
                <a:lnTo>
                  <a:pt x="114" y="415"/>
                </a:lnTo>
                <a:lnTo>
                  <a:pt x="113" y="413"/>
                </a:lnTo>
                <a:lnTo>
                  <a:pt x="111" y="411"/>
                </a:lnTo>
                <a:lnTo>
                  <a:pt x="108" y="409"/>
                </a:lnTo>
                <a:lnTo>
                  <a:pt x="102" y="408"/>
                </a:lnTo>
                <a:lnTo>
                  <a:pt x="93" y="411"/>
                </a:lnTo>
                <a:lnTo>
                  <a:pt x="71" y="418"/>
                </a:lnTo>
                <a:lnTo>
                  <a:pt x="62" y="421"/>
                </a:lnTo>
                <a:lnTo>
                  <a:pt x="54" y="423"/>
                </a:lnTo>
                <a:lnTo>
                  <a:pt x="51" y="421"/>
                </a:lnTo>
                <a:lnTo>
                  <a:pt x="51" y="418"/>
                </a:lnTo>
                <a:lnTo>
                  <a:pt x="53" y="412"/>
                </a:lnTo>
                <a:lnTo>
                  <a:pt x="57" y="406"/>
                </a:lnTo>
                <a:lnTo>
                  <a:pt x="60" y="401"/>
                </a:lnTo>
                <a:lnTo>
                  <a:pt x="63" y="396"/>
                </a:lnTo>
                <a:lnTo>
                  <a:pt x="68" y="393"/>
                </a:lnTo>
                <a:lnTo>
                  <a:pt x="76" y="391"/>
                </a:lnTo>
                <a:lnTo>
                  <a:pt x="83" y="393"/>
                </a:lnTo>
                <a:lnTo>
                  <a:pt x="92" y="393"/>
                </a:lnTo>
                <a:lnTo>
                  <a:pt x="93" y="391"/>
                </a:lnTo>
                <a:lnTo>
                  <a:pt x="78" y="377"/>
                </a:lnTo>
                <a:lnTo>
                  <a:pt x="76" y="376"/>
                </a:lnTo>
                <a:lnTo>
                  <a:pt x="75" y="373"/>
                </a:lnTo>
                <a:lnTo>
                  <a:pt x="75" y="369"/>
                </a:lnTo>
                <a:lnTo>
                  <a:pt x="77" y="366"/>
                </a:lnTo>
                <a:lnTo>
                  <a:pt x="80" y="363"/>
                </a:lnTo>
                <a:lnTo>
                  <a:pt x="82" y="361"/>
                </a:lnTo>
                <a:lnTo>
                  <a:pt x="86" y="359"/>
                </a:lnTo>
                <a:lnTo>
                  <a:pt x="88" y="359"/>
                </a:lnTo>
                <a:lnTo>
                  <a:pt x="96" y="363"/>
                </a:lnTo>
                <a:lnTo>
                  <a:pt x="104" y="371"/>
                </a:lnTo>
                <a:lnTo>
                  <a:pt x="108" y="381"/>
                </a:lnTo>
                <a:lnTo>
                  <a:pt x="110" y="384"/>
                </a:lnTo>
                <a:lnTo>
                  <a:pt x="111" y="387"/>
                </a:lnTo>
                <a:lnTo>
                  <a:pt x="113" y="389"/>
                </a:lnTo>
                <a:lnTo>
                  <a:pt x="118" y="389"/>
                </a:lnTo>
                <a:lnTo>
                  <a:pt x="125" y="385"/>
                </a:lnTo>
                <a:lnTo>
                  <a:pt x="126" y="385"/>
                </a:lnTo>
                <a:lnTo>
                  <a:pt x="126" y="397"/>
                </a:lnTo>
                <a:lnTo>
                  <a:pt x="128" y="399"/>
                </a:lnTo>
                <a:lnTo>
                  <a:pt x="134" y="399"/>
                </a:lnTo>
                <a:lnTo>
                  <a:pt x="136" y="397"/>
                </a:lnTo>
                <a:lnTo>
                  <a:pt x="140" y="397"/>
                </a:lnTo>
                <a:lnTo>
                  <a:pt x="142" y="395"/>
                </a:lnTo>
                <a:lnTo>
                  <a:pt x="141" y="390"/>
                </a:lnTo>
                <a:lnTo>
                  <a:pt x="140" y="384"/>
                </a:lnTo>
                <a:lnTo>
                  <a:pt x="136" y="376"/>
                </a:lnTo>
                <a:lnTo>
                  <a:pt x="132" y="369"/>
                </a:lnTo>
                <a:lnTo>
                  <a:pt x="129" y="363"/>
                </a:lnTo>
                <a:lnTo>
                  <a:pt x="126" y="359"/>
                </a:lnTo>
                <a:lnTo>
                  <a:pt x="126" y="355"/>
                </a:lnTo>
                <a:lnTo>
                  <a:pt x="132" y="351"/>
                </a:lnTo>
                <a:lnTo>
                  <a:pt x="147" y="346"/>
                </a:lnTo>
                <a:lnTo>
                  <a:pt x="149" y="345"/>
                </a:lnTo>
                <a:lnTo>
                  <a:pt x="149" y="339"/>
                </a:lnTo>
                <a:lnTo>
                  <a:pt x="148" y="336"/>
                </a:lnTo>
                <a:lnTo>
                  <a:pt x="146" y="333"/>
                </a:lnTo>
                <a:lnTo>
                  <a:pt x="144" y="330"/>
                </a:lnTo>
                <a:lnTo>
                  <a:pt x="140" y="325"/>
                </a:lnTo>
                <a:lnTo>
                  <a:pt x="137" y="325"/>
                </a:lnTo>
                <a:lnTo>
                  <a:pt x="135" y="327"/>
                </a:lnTo>
                <a:lnTo>
                  <a:pt x="128" y="331"/>
                </a:lnTo>
                <a:lnTo>
                  <a:pt x="124" y="336"/>
                </a:lnTo>
                <a:lnTo>
                  <a:pt x="118" y="337"/>
                </a:lnTo>
                <a:lnTo>
                  <a:pt x="112" y="334"/>
                </a:lnTo>
                <a:lnTo>
                  <a:pt x="106" y="328"/>
                </a:lnTo>
                <a:lnTo>
                  <a:pt x="102" y="321"/>
                </a:lnTo>
                <a:lnTo>
                  <a:pt x="101" y="316"/>
                </a:lnTo>
                <a:lnTo>
                  <a:pt x="101" y="313"/>
                </a:lnTo>
                <a:lnTo>
                  <a:pt x="104" y="311"/>
                </a:lnTo>
                <a:lnTo>
                  <a:pt x="106" y="307"/>
                </a:lnTo>
                <a:lnTo>
                  <a:pt x="108" y="305"/>
                </a:lnTo>
                <a:lnTo>
                  <a:pt x="112" y="303"/>
                </a:lnTo>
                <a:lnTo>
                  <a:pt x="114" y="300"/>
                </a:lnTo>
                <a:lnTo>
                  <a:pt x="118" y="299"/>
                </a:lnTo>
                <a:lnTo>
                  <a:pt x="119" y="298"/>
                </a:lnTo>
                <a:lnTo>
                  <a:pt x="117" y="294"/>
                </a:lnTo>
                <a:lnTo>
                  <a:pt x="112" y="291"/>
                </a:lnTo>
                <a:lnTo>
                  <a:pt x="107" y="286"/>
                </a:lnTo>
                <a:lnTo>
                  <a:pt x="105" y="281"/>
                </a:lnTo>
                <a:lnTo>
                  <a:pt x="106" y="277"/>
                </a:lnTo>
                <a:lnTo>
                  <a:pt x="111" y="277"/>
                </a:lnTo>
                <a:lnTo>
                  <a:pt x="116" y="280"/>
                </a:lnTo>
                <a:lnTo>
                  <a:pt x="122" y="286"/>
                </a:lnTo>
                <a:lnTo>
                  <a:pt x="129" y="292"/>
                </a:lnTo>
                <a:lnTo>
                  <a:pt x="137" y="300"/>
                </a:lnTo>
                <a:lnTo>
                  <a:pt x="140" y="300"/>
                </a:lnTo>
                <a:lnTo>
                  <a:pt x="141" y="299"/>
                </a:lnTo>
                <a:lnTo>
                  <a:pt x="141" y="285"/>
                </a:lnTo>
                <a:lnTo>
                  <a:pt x="142" y="282"/>
                </a:lnTo>
                <a:lnTo>
                  <a:pt x="142" y="280"/>
                </a:lnTo>
                <a:lnTo>
                  <a:pt x="141" y="277"/>
                </a:lnTo>
                <a:lnTo>
                  <a:pt x="138" y="275"/>
                </a:lnTo>
                <a:lnTo>
                  <a:pt x="135" y="273"/>
                </a:lnTo>
                <a:lnTo>
                  <a:pt x="132" y="270"/>
                </a:lnTo>
                <a:lnTo>
                  <a:pt x="129" y="268"/>
                </a:lnTo>
                <a:lnTo>
                  <a:pt x="126" y="265"/>
                </a:lnTo>
                <a:lnTo>
                  <a:pt x="126" y="263"/>
                </a:lnTo>
                <a:lnTo>
                  <a:pt x="131" y="262"/>
                </a:lnTo>
                <a:lnTo>
                  <a:pt x="138" y="262"/>
                </a:lnTo>
                <a:lnTo>
                  <a:pt x="148" y="263"/>
                </a:lnTo>
                <a:lnTo>
                  <a:pt x="156" y="264"/>
                </a:lnTo>
                <a:lnTo>
                  <a:pt x="164" y="264"/>
                </a:lnTo>
                <a:lnTo>
                  <a:pt x="174" y="263"/>
                </a:lnTo>
                <a:lnTo>
                  <a:pt x="184" y="259"/>
                </a:lnTo>
                <a:lnTo>
                  <a:pt x="195" y="253"/>
                </a:lnTo>
                <a:lnTo>
                  <a:pt x="200" y="249"/>
                </a:lnTo>
                <a:lnTo>
                  <a:pt x="201" y="241"/>
                </a:lnTo>
                <a:lnTo>
                  <a:pt x="198" y="234"/>
                </a:lnTo>
                <a:lnTo>
                  <a:pt x="196" y="220"/>
                </a:lnTo>
                <a:lnTo>
                  <a:pt x="195" y="216"/>
                </a:lnTo>
                <a:lnTo>
                  <a:pt x="194" y="214"/>
                </a:lnTo>
                <a:lnTo>
                  <a:pt x="189" y="209"/>
                </a:lnTo>
                <a:lnTo>
                  <a:pt x="182" y="204"/>
                </a:lnTo>
                <a:lnTo>
                  <a:pt x="179" y="202"/>
                </a:lnTo>
                <a:lnTo>
                  <a:pt x="178" y="199"/>
                </a:lnTo>
                <a:lnTo>
                  <a:pt x="178" y="197"/>
                </a:lnTo>
                <a:lnTo>
                  <a:pt x="183" y="192"/>
                </a:lnTo>
                <a:lnTo>
                  <a:pt x="186" y="191"/>
                </a:lnTo>
                <a:lnTo>
                  <a:pt x="190" y="189"/>
                </a:lnTo>
                <a:lnTo>
                  <a:pt x="192" y="189"/>
                </a:lnTo>
                <a:lnTo>
                  <a:pt x="196" y="187"/>
                </a:lnTo>
                <a:lnTo>
                  <a:pt x="198" y="187"/>
                </a:lnTo>
                <a:lnTo>
                  <a:pt x="200" y="189"/>
                </a:lnTo>
                <a:lnTo>
                  <a:pt x="202" y="193"/>
                </a:lnTo>
                <a:lnTo>
                  <a:pt x="203" y="197"/>
                </a:lnTo>
                <a:lnTo>
                  <a:pt x="203" y="202"/>
                </a:lnTo>
                <a:lnTo>
                  <a:pt x="204" y="205"/>
                </a:lnTo>
                <a:lnTo>
                  <a:pt x="206" y="208"/>
                </a:lnTo>
                <a:lnTo>
                  <a:pt x="209" y="205"/>
                </a:lnTo>
                <a:lnTo>
                  <a:pt x="212" y="199"/>
                </a:lnTo>
                <a:lnTo>
                  <a:pt x="214" y="192"/>
                </a:lnTo>
                <a:lnTo>
                  <a:pt x="215" y="185"/>
                </a:lnTo>
                <a:lnTo>
                  <a:pt x="214" y="180"/>
                </a:lnTo>
                <a:lnTo>
                  <a:pt x="215" y="177"/>
                </a:lnTo>
                <a:lnTo>
                  <a:pt x="219" y="177"/>
                </a:lnTo>
                <a:lnTo>
                  <a:pt x="225" y="178"/>
                </a:lnTo>
                <a:lnTo>
                  <a:pt x="231" y="180"/>
                </a:lnTo>
                <a:lnTo>
                  <a:pt x="237" y="181"/>
                </a:lnTo>
                <a:lnTo>
                  <a:pt x="238" y="181"/>
                </a:lnTo>
                <a:lnTo>
                  <a:pt x="239" y="180"/>
                </a:lnTo>
                <a:lnTo>
                  <a:pt x="238" y="179"/>
                </a:lnTo>
                <a:lnTo>
                  <a:pt x="238" y="177"/>
                </a:lnTo>
                <a:lnTo>
                  <a:pt x="236" y="174"/>
                </a:lnTo>
                <a:lnTo>
                  <a:pt x="234" y="171"/>
                </a:lnTo>
                <a:lnTo>
                  <a:pt x="231" y="168"/>
                </a:lnTo>
                <a:lnTo>
                  <a:pt x="228" y="166"/>
                </a:lnTo>
                <a:lnTo>
                  <a:pt x="225" y="165"/>
                </a:lnTo>
                <a:lnTo>
                  <a:pt x="222" y="163"/>
                </a:lnTo>
                <a:lnTo>
                  <a:pt x="219" y="163"/>
                </a:lnTo>
                <a:lnTo>
                  <a:pt x="216" y="162"/>
                </a:lnTo>
                <a:lnTo>
                  <a:pt x="218" y="159"/>
                </a:lnTo>
                <a:lnTo>
                  <a:pt x="228" y="148"/>
                </a:lnTo>
                <a:lnTo>
                  <a:pt x="243" y="136"/>
                </a:lnTo>
                <a:lnTo>
                  <a:pt x="249" y="130"/>
                </a:lnTo>
                <a:lnTo>
                  <a:pt x="254" y="126"/>
                </a:lnTo>
                <a:lnTo>
                  <a:pt x="260" y="124"/>
                </a:lnTo>
                <a:lnTo>
                  <a:pt x="267" y="125"/>
                </a:lnTo>
                <a:lnTo>
                  <a:pt x="275" y="130"/>
                </a:lnTo>
                <a:lnTo>
                  <a:pt x="282" y="135"/>
                </a:lnTo>
                <a:lnTo>
                  <a:pt x="288" y="139"/>
                </a:lnTo>
                <a:lnTo>
                  <a:pt x="291" y="139"/>
                </a:lnTo>
                <a:lnTo>
                  <a:pt x="291" y="137"/>
                </a:lnTo>
                <a:lnTo>
                  <a:pt x="288" y="131"/>
                </a:lnTo>
                <a:lnTo>
                  <a:pt x="284" y="125"/>
                </a:lnTo>
                <a:lnTo>
                  <a:pt x="278" y="118"/>
                </a:lnTo>
                <a:lnTo>
                  <a:pt x="270" y="113"/>
                </a:lnTo>
                <a:lnTo>
                  <a:pt x="267" y="108"/>
                </a:lnTo>
                <a:lnTo>
                  <a:pt x="268" y="100"/>
                </a:lnTo>
                <a:lnTo>
                  <a:pt x="273" y="91"/>
                </a:lnTo>
                <a:lnTo>
                  <a:pt x="279" y="83"/>
                </a:lnTo>
                <a:lnTo>
                  <a:pt x="293" y="66"/>
                </a:lnTo>
                <a:lnTo>
                  <a:pt x="298" y="61"/>
                </a:lnTo>
                <a:lnTo>
                  <a:pt x="302" y="55"/>
                </a:lnTo>
                <a:lnTo>
                  <a:pt x="303" y="49"/>
                </a:lnTo>
                <a:lnTo>
                  <a:pt x="305" y="43"/>
                </a:lnTo>
                <a:lnTo>
                  <a:pt x="309" y="40"/>
                </a:lnTo>
                <a:lnTo>
                  <a:pt x="323" y="40"/>
                </a:lnTo>
                <a:lnTo>
                  <a:pt x="326" y="39"/>
                </a:lnTo>
                <a:lnTo>
                  <a:pt x="327" y="37"/>
                </a:lnTo>
                <a:lnTo>
                  <a:pt x="327" y="34"/>
                </a:lnTo>
                <a:lnTo>
                  <a:pt x="326" y="31"/>
                </a:lnTo>
                <a:lnTo>
                  <a:pt x="320" y="25"/>
                </a:lnTo>
                <a:lnTo>
                  <a:pt x="320" y="21"/>
                </a:lnTo>
                <a:lnTo>
                  <a:pt x="324" y="15"/>
                </a:lnTo>
                <a:lnTo>
                  <a:pt x="332" y="9"/>
                </a:lnTo>
                <a:lnTo>
                  <a:pt x="341" y="3"/>
                </a:lnTo>
                <a:lnTo>
                  <a:pt x="348" y="6"/>
                </a:lnTo>
                <a:lnTo>
                  <a:pt x="356" y="6"/>
                </a:lnTo>
                <a:lnTo>
                  <a:pt x="363" y="3"/>
                </a:lnTo>
                <a:lnTo>
                  <a:pt x="369" y="0"/>
                </a:lnTo>
                <a:close/>
              </a:path>
            </a:pathLst>
          </a:custGeom>
          <a:solidFill>
            <a:srgbClr val="7f7f7f"/>
          </a:solidFill>
          <a:ln w="0">
            <a:solidFill>
              <a:srgbClr val="adada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reeform 2460"/>
          <p:cNvSpPr/>
          <p:nvPr/>
        </p:nvSpPr>
        <p:spPr>
          <a:xfrm>
            <a:off x="4753080" y="4692600"/>
            <a:ext cx="885600" cy="1139760"/>
          </a:xfrm>
          <a:custGeom>
            <a:avLst/>
            <a:gdLst>
              <a:gd name="textAreaLeft" fmla="*/ 0 w 885600"/>
              <a:gd name="textAreaRight" fmla="*/ 885960 w 885600"/>
              <a:gd name="textAreaTop" fmla="*/ 0 h 1139760"/>
              <a:gd name="textAreaBottom" fmla="*/ 1140120 h 1139760"/>
            </a:gdLst>
            <a:ahLst/>
            <a:rect l="textAreaLeft" t="textAreaTop" r="textAreaRight" b="textAreaBottom"/>
            <a:pathLst>
              <a:path w="646" h="832">
                <a:moveTo>
                  <a:pt x="244" y="0"/>
                </a:moveTo>
                <a:lnTo>
                  <a:pt x="252" y="1"/>
                </a:lnTo>
                <a:lnTo>
                  <a:pt x="265" y="10"/>
                </a:lnTo>
                <a:lnTo>
                  <a:pt x="278" y="16"/>
                </a:lnTo>
                <a:lnTo>
                  <a:pt x="291" y="19"/>
                </a:lnTo>
                <a:lnTo>
                  <a:pt x="302" y="17"/>
                </a:lnTo>
                <a:lnTo>
                  <a:pt x="309" y="11"/>
                </a:lnTo>
                <a:lnTo>
                  <a:pt x="313" y="4"/>
                </a:lnTo>
                <a:lnTo>
                  <a:pt x="316" y="1"/>
                </a:lnTo>
                <a:lnTo>
                  <a:pt x="322" y="1"/>
                </a:lnTo>
                <a:lnTo>
                  <a:pt x="330" y="3"/>
                </a:lnTo>
                <a:lnTo>
                  <a:pt x="337" y="3"/>
                </a:lnTo>
                <a:lnTo>
                  <a:pt x="338" y="16"/>
                </a:lnTo>
                <a:lnTo>
                  <a:pt x="339" y="25"/>
                </a:lnTo>
                <a:lnTo>
                  <a:pt x="338" y="30"/>
                </a:lnTo>
                <a:lnTo>
                  <a:pt x="336" y="33"/>
                </a:lnTo>
                <a:lnTo>
                  <a:pt x="331" y="35"/>
                </a:lnTo>
                <a:lnTo>
                  <a:pt x="326" y="40"/>
                </a:lnTo>
                <a:lnTo>
                  <a:pt x="324" y="45"/>
                </a:lnTo>
                <a:lnTo>
                  <a:pt x="309" y="70"/>
                </a:lnTo>
                <a:lnTo>
                  <a:pt x="307" y="76"/>
                </a:lnTo>
                <a:lnTo>
                  <a:pt x="306" y="82"/>
                </a:lnTo>
                <a:lnTo>
                  <a:pt x="308" y="89"/>
                </a:lnTo>
                <a:lnTo>
                  <a:pt x="309" y="97"/>
                </a:lnTo>
                <a:lnTo>
                  <a:pt x="309" y="107"/>
                </a:lnTo>
                <a:lnTo>
                  <a:pt x="308" y="117"/>
                </a:lnTo>
                <a:lnTo>
                  <a:pt x="308" y="130"/>
                </a:lnTo>
                <a:lnTo>
                  <a:pt x="306" y="145"/>
                </a:lnTo>
                <a:lnTo>
                  <a:pt x="304" y="161"/>
                </a:lnTo>
                <a:lnTo>
                  <a:pt x="301" y="173"/>
                </a:lnTo>
                <a:lnTo>
                  <a:pt x="296" y="180"/>
                </a:lnTo>
                <a:lnTo>
                  <a:pt x="288" y="185"/>
                </a:lnTo>
                <a:lnTo>
                  <a:pt x="280" y="187"/>
                </a:lnTo>
                <a:lnTo>
                  <a:pt x="276" y="189"/>
                </a:lnTo>
                <a:lnTo>
                  <a:pt x="270" y="191"/>
                </a:lnTo>
                <a:lnTo>
                  <a:pt x="267" y="195"/>
                </a:lnTo>
                <a:lnTo>
                  <a:pt x="268" y="199"/>
                </a:lnTo>
                <a:lnTo>
                  <a:pt x="271" y="207"/>
                </a:lnTo>
                <a:lnTo>
                  <a:pt x="270" y="215"/>
                </a:lnTo>
                <a:lnTo>
                  <a:pt x="267" y="223"/>
                </a:lnTo>
                <a:lnTo>
                  <a:pt x="266" y="232"/>
                </a:lnTo>
                <a:lnTo>
                  <a:pt x="266" y="240"/>
                </a:lnTo>
                <a:lnTo>
                  <a:pt x="267" y="246"/>
                </a:lnTo>
                <a:lnTo>
                  <a:pt x="271" y="247"/>
                </a:lnTo>
                <a:lnTo>
                  <a:pt x="273" y="247"/>
                </a:lnTo>
                <a:lnTo>
                  <a:pt x="274" y="246"/>
                </a:lnTo>
                <a:lnTo>
                  <a:pt x="278" y="239"/>
                </a:lnTo>
                <a:lnTo>
                  <a:pt x="278" y="238"/>
                </a:lnTo>
                <a:lnTo>
                  <a:pt x="279" y="235"/>
                </a:lnTo>
                <a:lnTo>
                  <a:pt x="282" y="234"/>
                </a:lnTo>
                <a:lnTo>
                  <a:pt x="296" y="232"/>
                </a:lnTo>
                <a:lnTo>
                  <a:pt x="301" y="233"/>
                </a:lnTo>
                <a:lnTo>
                  <a:pt x="301" y="239"/>
                </a:lnTo>
                <a:lnTo>
                  <a:pt x="300" y="240"/>
                </a:lnTo>
                <a:lnTo>
                  <a:pt x="300" y="243"/>
                </a:lnTo>
                <a:lnTo>
                  <a:pt x="301" y="244"/>
                </a:lnTo>
                <a:lnTo>
                  <a:pt x="303" y="245"/>
                </a:lnTo>
                <a:lnTo>
                  <a:pt x="306" y="245"/>
                </a:lnTo>
                <a:lnTo>
                  <a:pt x="315" y="244"/>
                </a:lnTo>
                <a:lnTo>
                  <a:pt x="325" y="241"/>
                </a:lnTo>
                <a:lnTo>
                  <a:pt x="334" y="240"/>
                </a:lnTo>
                <a:lnTo>
                  <a:pt x="342" y="241"/>
                </a:lnTo>
                <a:lnTo>
                  <a:pt x="346" y="244"/>
                </a:lnTo>
                <a:lnTo>
                  <a:pt x="351" y="245"/>
                </a:lnTo>
                <a:lnTo>
                  <a:pt x="355" y="243"/>
                </a:lnTo>
                <a:lnTo>
                  <a:pt x="356" y="238"/>
                </a:lnTo>
                <a:lnTo>
                  <a:pt x="357" y="231"/>
                </a:lnTo>
                <a:lnTo>
                  <a:pt x="357" y="216"/>
                </a:lnTo>
                <a:lnTo>
                  <a:pt x="358" y="211"/>
                </a:lnTo>
                <a:lnTo>
                  <a:pt x="362" y="211"/>
                </a:lnTo>
                <a:lnTo>
                  <a:pt x="370" y="216"/>
                </a:lnTo>
                <a:lnTo>
                  <a:pt x="376" y="220"/>
                </a:lnTo>
                <a:lnTo>
                  <a:pt x="381" y="221"/>
                </a:lnTo>
                <a:lnTo>
                  <a:pt x="391" y="216"/>
                </a:lnTo>
                <a:lnTo>
                  <a:pt x="396" y="216"/>
                </a:lnTo>
                <a:lnTo>
                  <a:pt x="397" y="217"/>
                </a:lnTo>
                <a:lnTo>
                  <a:pt x="398" y="225"/>
                </a:lnTo>
                <a:lnTo>
                  <a:pt x="400" y="237"/>
                </a:lnTo>
                <a:lnTo>
                  <a:pt x="403" y="251"/>
                </a:lnTo>
                <a:lnTo>
                  <a:pt x="406" y="264"/>
                </a:lnTo>
                <a:lnTo>
                  <a:pt x="410" y="274"/>
                </a:lnTo>
                <a:lnTo>
                  <a:pt x="414" y="282"/>
                </a:lnTo>
                <a:lnTo>
                  <a:pt x="418" y="289"/>
                </a:lnTo>
                <a:lnTo>
                  <a:pt x="426" y="298"/>
                </a:lnTo>
                <a:lnTo>
                  <a:pt x="434" y="303"/>
                </a:lnTo>
                <a:lnTo>
                  <a:pt x="445" y="304"/>
                </a:lnTo>
                <a:lnTo>
                  <a:pt x="457" y="301"/>
                </a:lnTo>
                <a:lnTo>
                  <a:pt x="466" y="297"/>
                </a:lnTo>
                <a:lnTo>
                  <a:pt x="475" y="293"/>
                </a:lnTo>
                <a:lnTo>
                  <a:pt x="481" y="294"/>
                </a:lnTo>
                <a:lnTo>
                  <a:pt x="488" y="299"/>
                </a:lnTo>
                <a:lnTo>
                  <a:pt x="489" y="300"/>
                </a:lnTo>
                <a:lnTo>
                  <a:pt x="490" y="303"/>
                </a:lnTo>
                <a:lnTo>
                  <a:pt x="490" y="306"/>
                </a:lnTo>
                <a:lnTo>
                  <a:pt x="489" y="310"/>
                </a:lnTo>
                <a:lnTo>
                  <a:pt x="486" y="313"/>
                </a:lnTo>
                <a:lnTo>
                  <a:pt x="484" y="318"/>
                </a:lnTo>
                <a:lnTo>
                  <a:pt x="484" y="323"/>
                </a:lnTo>
                <a:lnTo>
                  <a:pt x="487" y="330"/>
                </a:lnTo>
                <a:lnTo>
                  <a:pt x="492" y="337"/>
                </a:lnTo>
                <a:lnTo>
                  <a:pt x="496" y="346"/>
                </a:lnTo>
                <a:lnTo>
                  <a:pt x="502" y="354"/>
                </a:lnTo>
                <a:lnTo>
                  <a:pt x="508" y="360"/>
                </a:lnTo>
                <a:lnTo>
                  <a:pt x="512" y="365"/>
                </a:lnTo>
                <a:lnTo>
                  <a:pt x="516" y="365"/>
                </a:lnTo>
                <a:lnTo>
                  <a:pt x="518" y="363"/>
                </a:lnTo>
                <a:lnTo>
                  <a:pt x="519" y="360"/>
                </a:lnTo>
                <a:lnTo>
                  <a:pt x="519" y="358"/>
                </a:lnTo>
                <a:lnTo>
                  <a:pt x="520" y="354"/>
                </a:lnTo>
                <a:lnTo>
                  <a:pt x="523" y="349"/>
                </a:lnTo>
                <a:lnTo>
                  <a:pt x="524" y="348"/>
                </a:lnTo>
                <a:lnTo>
                  <a:pt x="526" y="347"/>
                </a:lnTo>
                <a:lnTo>
                  <a:pt x="529" y="347"/>
                </a:lnTo>
                <a:lnTo>
                  <a:pt x="530" y="348"/>
                </a:lnTo>
                <a:lnTo>
                  <a:pt x="531" y="351"/>
                </a:lnTo>
                <a:lnTo>
                  <a:pt x="532" y="352"/>
                </a:lnTo>
                <a:lnTo>
                  <a:pt x="534" y="354"/>
                </a:lnTo>
                <a:lnTo>
                  <a:pt x="536" y="357"/>
                </a:lnTo>
                <a:lnTo>
                  <a:pt x="538" y="354"/>
                </a:lnTo>
                <a:lnTo>
                  <a:pt x="540" y="352"/>
                </a:lnTo>
                <a:lnTo>
                  <a:pt x="547" y="330"/>
                </a:lnTo>
                <a:lnTo>
                  <a:pt x="547" y="319"/>
                </a:lnTo>
                <a:lnTo>
                  <a:pt x="546" y="311"/>
                </a:lnTo>
                <a:lnTo>
                  <a:pt x="548" y="304"/>
                </a:lnTo>
                <a:lnTo>
                  <a:pt x="553" y="295"/>
                </a:lnTo>
                <a:lnTo>
                  <a:pt x="558" y="293"/>
                </a:lnTo>
                <a:lnTo>
                  <a:pt x="566" y="292"/>
                </a:lnTo>
                <a:lnTo>
                  <a:pt x="576" y="291"/>
                </a:lnTo>
                <a:lnTo>
                  <a:pt x="585" y="291"/>
                </a:lnTo>
                <a:lnTo>
                  <a:pt x="594" y="289"/>
                </a:lnTo>
                <a:lnTo>
                  <a:pt x="598" y="286"/>
                </a:lnTo>
                <a:lnTo>
                  <a:pt x="603" y="281"/>
                </a:lnTo>
                <a:lnTo>
                  <a:pt x="609" y="282"/>
                </a:lnTo>
                <a:lnTo>
                  <a:pt x="619" y="286"/>
                </a:lnTo>
                <a:lnTo>
                  <a:pt x="631" y="292"/>
                </a:lnTo>
                <a:lnTo>
                  <a:pt x="642" y="295"/>
                </a:lnTo>
                <a:lnTo>
                  <a:pt x="646" y="297"/>
                </a:lnTo>
                <a:lnTo>
                  <a:pt x="640" y="306"/>
                </a:lnTo>
                <a:lnTo>
                  <a:pt x="632" y="317"/>
                </a:lnTo>
                <a:lnTo>
                  <a:pt x="620" y="329"/>
                </a:lnTo>
                <a:lnTo>
                  <a:pt x="610" y="341"/>
                </a:lnTo>
                <a:lnTo>
                  <a:pt x="602" y="352"/>
                </a:lnTo>
                <a:lnTo>
                  <a:pt x="598" y="361"/>
                </a:lnTo>
                <a:lnTo>
                  <a:pt x="596" y="373"/>
                </a:lnTo>
                <a:lnTo>
                  <a:pt x="591" y="385"/>
                </a:lnTo>
                <a:lnTo>
                  <a:pt x="585" y="395"/>
                </a:lnTo>
                <a:lnTo>
                  <a:pt x="578" y="401"/>
                </a:lnTo>
                <a:lnTo>
                  <a:pt x="572" y="406"/>
                </a:lnTo>
                <a:lnTo>
                  <a:pt x="571" y="413"/>
                </a:lnTo>
                <a:lnTo>
                  <a:pt x="572" y="420"/>
                </a:lnTo>
                <a:lnTo>
                  <a:pt x="579" y="430"/>
                </a:lnTo>
                <a:lnTo>
                  <a:pt x="584" y="437"/>
                </a:lnTo>
                <a:lnTo>
                  <a:pt x="585" y="442"/>
                </a:lnTo>
                <a:lnTo>
                  <a:pt x="584" y="445"/>
                </a:lnTo>
                <a:lnTo>
                  <a:pt x="580" y="448"/>
                </a:lnTo>
                <a:lnTo>
                  <a:pt x="577" y="451"/>
                </a:lnTo>
                <a:lnTo>
                  <a:pt x="572" y="460"/>
                </a:lnTo>
                <a:lnTo>
                  <a:pt x="568" y="471"/>
                </a:lnTo>
                <a:lnTo>
                  <a:pt x="565" y="480"/>
                </a:lnTo>
                <a:lnTo>
                  <a:pt x="564" y="489"/>
                </a:lnTo>
                <a:lnTo>
                  <a:pt x="560" y="495"/>
                </a:lnTo>
                <a:lnTo>
                  <a:pt x="548" y="504"/>
                </a:lnTo>
                <a:lnTo>
                  <a:pt x="544" y="511"/>
                </a:lnTo>
                <a:lnTo>
                  <a:pt x="541" y="520"/>
                </a:lnTo>
                <a:lnTo>
                  <a:pt x="535" y="527"/>
                </a:lnTo>
                <a:lnTo>
                  <a:pt x="528" y="534"/>
                </a:lnTo>
                <a:lnTo>
                  <a:pt x="525" y="540"/>
                </a:lnTo>
                <a:lnTo>
                  <a:pt x="525" y="544"/>
                </a:lnTo>
                <a:lnTo>
                  <a:pt x="526" y="546"/>
                </a:lnTo>
                <a:lnTo>
                  <a:pt x="529" y="547"/>
                </a:lnTo>
                <a:lnTo>
                  <a:pt x="532" y="550"/>
                </a:lnTo>
                <a:lnTo>
                  <a:pt x="536" y="550"/>
                </a:lnTo>
                <a:lnTo>
                  <a:pt x="540" y="551"/>
                </a:lnTo>
                <a:lnTo>
                  <a:pt x="543" y="551"/>
                </a:lnTo>
                <a:lnTo>
                  <a:pt x="544" y="552"/>
                </a:lnTo>
                <a:lnTo>
                  <a:pt x="543" y="557"/>
                </a:lnTo>
                <a:lnTo>
                  <a:pt x="538" y="562"/>
                </a:lnTo>
                <a:lnTo>
                  <a:pt x="535" y="569"/>
                </a:lnTo>
                <a:lnTo>
                  <a:pt x="530" y="575"/>
                </a:lnTo>
                <a:lnTo>
                  <a:pt x="528" y="580"/>
                </a:lnTo>
                <a:lnTo>
                  <a:pt x="528" y="583"/>
                </a:lnTo>
                <a:lnTo>
                  <a:pt x="531" y="583"/>
                </a:lnTo>
                <a:lnTo>
                  <a:pt x="535" y="581"/>
                </a:lnTo>
                <a:lnTo>
                  <a:pt x="544" y="571"/>
                </a:lnTo>
                <a:lnTo>
                  <a:pt x="549" y="568"/>
                </a:lnTo>
                <a:lnTo>
                  <a:pt x="553" y="568"/>
                </a:lnTo>
                <a:lnTo>
                  <a:pt x="556" y="574"/>
                </a:lnTo>
                <a:lnTo>
                  <a:pt x="559" y="582"/>
                </a:lnTo>
                <a:lnTo>
                  <a:pt x="561" y="589"/>
                </a:lnTo>
                <a:lnTo>
                  <a:pt x="562" y="594"/>
                </a:lnTo>
                <a:lnTo>
                  <a:pt x="559" y="594"/>
                </a:lnTo>
                <a:lnTo>
                  <a:pt x="555" y="593"/>
                </a:lnTo>
                <a:lnTo>
                  <a:pt x="553" y="592"/>
                </a:lnTo>
                <a:lnTo>
                  <a:pt x="546" y="589"/>
                </a:lnTo>
                <a:lnTo>
                  <a:pt x="542" y="589"/>
                </a:lnTo>
                <a:lnTo>
                  <a:pt x="541" y="591"/>
                </a:lnTo>
                <a:lnTo>
                  <a:pt x="538" y="592"/>
                </a:lnTo>
                <a:lnTo>
                  <a:pt x="538" y="594"/>
                </a:lnTo>
                <a:lnTo>
                  <a:pt x="535" y="601"/>
                </a:lnTo>
                <a:lnTo>
                  <a:pt x="532" y="604"/>
                </a:lnTo>
                <a:lnTo>
                  <a:pt x="522" y="604"/>
                </a:lnTo>
                <a:lnTo>
                  <a:pt x="511" y="603"/>
                </a:lnTo>
                <a:lnTo>
                  <a:pt x="498" y="605"/>
                </a:lnTo>
                <a:lnTo>
                  <a:pt x="483" y="610"/>
                </a:lnTo>
                <a:lnTo>
                  <a:pt x="472" y="617"/>
                </a:lnTo>
                <a:lnTo>
                  <a:pt x="464" y="625"/>
                </a:lnTo>
                <a:lnTo>
                  <a:pt x="459" y="634"/>
                </a:lnTo>
                <a:lnTo>
                  <a:pt x="454" y="645"/>
                </a:lnTo>
                <a:lnTo>
                  <a:pt x="450" y="657"/>
                </a:lnTo>
                <a:lnTo>
                  <a:pt x="447" y="669"/>
                </a:lnTo>
                <a:lnTo>
                  <a:pt x="447" y="676"/>
                </a:lnTo>
                <a:lnTo>
                  <a:pt x="445" y="681"/>
                </a:lnTo>
                <a:lnTo>
                  <a:pt x="438" y="688"/>
                </a:lnTo>
                <a:lnTo>
                  <a:pt x="428" y="696"/>
                </a:lnTo>
                <a:lnTo>
                  <a:pt x="404" y="713"/>
                </a:lnTo>
                <a:lnTo>
                  <a:pt x="393" y="720"/>
                </a:lnTo>
                <a:lnTo>
                  <a:pt x="384" y="726"/>
                </a:lnTo>
                <a:lnTo>
                  <a:pt x="379" y="730"/>
                </a:lnTo>
                <a:lnTo>
                  <a:pt x="370" y="736"/>
                </a:lnTo>
                <a:lnTo>
                  <a:pt x="363" y="743"/>
                </a:lnTo>
                <a:lnTo>
                  <a:pt x="358" y="749"/>
                </a:lnTo>
                <a:lnTo>
                  <a:pt x="357" y="751"/>
                </a:lnTo>
                <a:lnTo>
                  <a:pt x="357" y="755"/>
                </a:lnTo>
                <a:lnTo>
                  <a:pt x="360" y="760"/>
                </a:lnTo>
                <a:lnTo>
                  <a:pt x="361" y="763"/>
                </a:lnTo>
                <a:lnTo>
                  <a:pt x="358" y="767"/>
                </a:lnTo>
                <a:lnTo>
                  <a:pt x="352" y="771"/>
                </a:lnTo>
                <a:lnTo>
                  <a:pt x="345" y="773"/>
                </a:lnTo>
                <a:lnTo>
                  <a:pt x="338" y="777"/>
                </a:lnTo>
                <a:lnTo>
                  <a:pt x="333" y="780"/>
                </a:lnTo>
                <a:lnTo>
                  <a:pt x="332" y="783"/>
                </a:lnTo>
                <a:lnTo>
                  <a:pt x="332" y="784"/>
                </a:lnTo>
                <a:lnTo>
                  <a:pt x="334" y="786"/>
                </a:lnTo>
                <a:lnTo>
                  <a:pt x="337" y="787"/>
                </a:lnTo>
                <a:lnTo>
                  <a:pt x="342" y="787"/>
                </a:lnTo>
                <a:lnTo>
                  <a:pt x="343" y="789"/>
                </a:lnTo>
                <a:lnTo>
                  <a:pt x="339" y="792"/>
                </a:lnTo>
                <a:lnTo>
                  <a:pt x="333" y="797"/>
                </a:lnTo>
                <a:lnTo>
                  <a:pt x="326" y="802"/>
                </a:lnTo>
                <a:lnTo>
                  <a:pt x="318" y="807"/>
                </a:lnTo>
                <a:lnTo>
                  <a:pt x="312" y="810"/>
                </a:lnTo>
                <a:lnTo>
                  <a:pt x="308" y="811"/>
                </a:lnTo>
                <a:lnTo>
                  <a:pt x="306" y="813"/>
                </a:lnTo>
                <a:lnTo>
                  <a:pt x="304" y="811"/>
                </a:lnTo>
                <a:lnTo>
                  <a:pt x="303" y="811"/>
                </a:lnTo>
                <a:lnTo>
                  <a:pt x="298" y="807"/>
                </a:lnTo>
                <a:lnTo>
                  <a:pt x="294" y="804"/>
                </a:lnTo>
                <a:lnTo>
                  <a:pt x="289" y="804"/>
                </a:lnTo>
                <a:lnTo>
                  <a:pt x="289" y="805"/>
                </a:lnTo>
                <a:lnTo>
                  <a:pt x="290" y="807"/>
                </a:lnTo>
                <a:lnTo>
                  <a:pt x="290" y="809"/>
                </a:lnTo>
                <a:lnTo>
                  <a:pt x="291" y="811"/>
                </a:lnTo>
                <a:lnTo>
                  <a:pt x="291" y="814"/>
                </a:lnTo>
                <a:lnTo>
                  <a:pt x="289" y="819"/>
                </a:lnTo>
                <a:lnTo>
                  <a:pt x="282" y="825"/>
                </a:lnTo>
                <a:lnTo>
                  <a:pt x="262" y="832"/>
                </a:lnTo>
                <a:lnTo>
                  <a:pt x="258" y="827"/>
                </a:lnTo>
                <a:lnTo>
                  <a:pt x="258" y="823"/>
                </a:lnTo>
                <a:lnTo>
                  <a:pt x="259" y="821"/>
                </a:lnTo>
                <a:lnTo>
                  <a:pt x="262" y="817"/>
                </a:lnTo>
                <a:lnTo>
                  <a:pt x="266" y="817"/>
                </a:lnTo>
                <a:lnTo>
                  <a:pt x="268" y="816"/>
                </a:lnTo>
                <a:lnTo>
                  <a:pt x="272" y="816"/>
                </a:lnTo>
                <a:lnTo>
                  <a:pt x="277" y="814"/>
                </a:lnTo>
                <a:lnTo>
                  <a:pt x="278" y="813"/>
                </a:lnTo>
                <a:lnTo>
                  <a:pt x="278" y="810"/>
                </a:lnTo>
                <a:lnTo>
                  <a:pt x="276" y="808"/>
                </a:lnTo>
                <a:lnTo>
                  <a:pt x="270" y="804"/>
                </a:lnTo>
                <a:lnTo>
                  <a:pt x="261" y="803"/>
                </a:lnTo>
                <a:lnTo>
                  <a:pt x="247" y="803"/>
                </a:lnTo>
                <a:lnTo>
                  <a:pt x="241" y="801"/>
                </a:lnTo>
                <a:lnTo>
                  <a:pt x="237" y="795"/>
                </a:lnTo>
                <a:lnTo>
                  <a:pt x="236" y="786"/>
                </a:lnTo>
                <a:lnTo>
                  <a:pt x="237" y="781"/>
                </a:lnTo>
                <a:lnTo>
                  <a:pt x="240" y="777"/>
                </a:lnTo>
                <a:lnTo>
                  <a:pt x="241" y="772"/>
                </a:lnTo>
                <a:lnTo>
                  <a:pt x="241" y="766"/>
                </a:lnTo>
                <a:lnTo>
                  <a:pt x="242" y="759"/>
                </a:lnTo>
                <a:lnTo>
                  <a:pt x="246" y="753"/>
                </a:lnTo>
                <a:lnTo>
                  <a:pt x="248" y="747"/>
                </a:lnTo>
                <a:lnTo>
                  <a:pt x="247" y="741"/>
                </a:lnTo>
                <a:lnTo>
                  <a:pt x="244" y="735"/>
                </a:lnTo>
                <a:lnTo>
                  <a:pt x="246" y="730"/>
                </a:lnTo>
                <a:lnTo>
                  <a:pt x="250" y="720"/>
                </a:lnTo>
                <a:lnTo>
                  <a:pt x="248" y="717"/>
                </a:lnTo>
                <a:lnTo>
                  <a:pt x="242" y="707"/>
                </a:lnTo>
                <a:lnTo>
                  <a:pt x="238" y="695"/>
                </a:lnTo>
                <a:lnTo>
                  <a:pt x="237" y="683"/>
                </a:lnTo>
                <a:lnTo>
                  <a:pt x="238" y="677"/>
                </a:lnTo>
                <a:lnTo>
                  <a:pt x="240" y="673"/>
                </a:lnTo>
                <a:lnTo>
                  <a:pt x="241" y="671"/>
                </a:lnTo>
                <a:lnTo>
                  <a:pt x="241" y="666"/>
                </a:lnTo>
                <a:lnTo>
                  <a:pt x="237" y="660"/>
                </a:lnTo>
                <a:lnTo>
                  <a:pt x="232" y="655"/>
                </a:lnTo>
                <a:lnTo>
                  <a:pt x="228" y="654"/>
                </a:lnTo>
                <a:lnTo>
                  <a:pt x="222" y="654"/>
                </a:lnTo>
                <a:lnTo>
                  <a:pt x="218" y="653"/>
                </a:lnTo>
                <a:lnTo>
                  <a:pt x="216" y="649"/>
                </a:lnTo>
                <a:lnTo>
                  <a:pt x="214" y="641"/>
                </a:lnTo>
                <a:lnTo>
                  <a:pt x="216" y="633"/>
                </a:lnTo>
                <a:lnTo>
                  <a:pt x="217" y="627"/>
                </a:lnTo>
                <a:lnTo>
                  <a:pt x="219" y="624"/>
                </a:lnTo>
                <a:lnTo>
                  <a:pt x="222" y="621"/>
                </a:lnTo>
                <a:lnTo>
                  <a:pt x="223" y="617"/>
                </a:lnTo>
                <a:lnTo>
                  <a:pt x="222" y="610"/>
                </a:lnTo>
                <a:lnTo>
                  <a:pt x="218" y="603"/>
                </a:lnTo>
                <a:lnTo>
                  <a:pt x="213" y="601"/>
                </a:lnTo>
                <a:lnTo>
                  <a:pt x="206" y="603"/>
                </a:lnTo>
                <a:lnTo>
                  <a:pt x="201" y="604"/>
                </a:lnTo>
                <a:lnTo>
                  <a:pt x="196" y="604"/>
                </a:lnTo>
                <a:lnTo>
                  <a:pt x="195" y="601"/>
                </a:lnTo>
                <a:lnTo>
                  <a:pt x="196" y="597"/>
                </a:lnTo>
                <a:lnTo>
                  <a:pt x="204" y="589"/>
                </a:lnTo>
                <a:lnTo>
                  <a:pt x="205" y="586"/>
                </a:lnTo>
                <a:lnTo>
                  <a:pt x="202" y="580"/>
                </a:lnTo>
                <a:lnTo>
                  <a:pt x="198" y="573"/>
                </a:lnTo>
                <a:lnTo>
                  <a:pt x="195" y="565"/>
                </a:lnTo>
                <a:lnTo>
                  <a:pt x="194" y="558"/>
                </a:lnTo>
                <a:lnTo>
                  <a:pt x="198" y="550"/>
                </a:lnTo>
                <a:lnTo>
                  <a:pt x="204" y="539"/>
                </a:lnTo>
                <a:lnTo>
                  <a:pt x="214" y="519"/>
                </a:lnTo>
                <a:lnTo>
                  <a:pt x="220" y="499"/>
                </a:lnTo>
                <a:lnTo>
                  <a:pt x="222" y="484"/>
                </a:lnTo>
                <a:lnTo>
                  <a:pt x="224" y="478"/>
                </a:lnTo>
                <a:lnTo>
                  <a:pt x="238" y="467"/>
                </a:lnTo>
                <a:lnTo>
                  <a:pt x="241" y="461"/>
                </a:lnTo>
                <a:lnTo>
                  <a:pt x="240" y="455"/>
                </a:lnTo>
                <a:lnTo>
                  <a:pt x="238" y="453"/>
                </a:lnTo>
                <a:lnTo>
                  <a:pt x="235" y="450"/>
                </a:lnTo>
                <a:lnTo>
                  <a:pt x="232" y="448"/>
                </a:lnTo>
                <a:lnTo>
                  <a:pt x="229" y="442"/>
                </a:lnTo>
                <a:lnTo>
                  <a:pt x="228" y="438"/>
                </a:lnTo>
                <a:lnTo>
                  <a:pt x="226" y="436"/>
                </a:lnTo>
                <a:lnTo>
                  <a:pt x="224" y="435"/>
                </a:lnTo>
                <a:lnTo>
                  <a:pt x="218" y="435"/>
                </a:lnTo>
                <a:lnTo>
                  <a:pt x="216" y="433"/>
                </a:lnTo>
                <a:lnTo>
                  <a:pt x="214" y="430"/>
                </a:lnTo>
                <a:lnTo>
                  <a:pt x="213" y="425"/>
                </a:lnTo>
                <a:lnTo>
                  <a:pt x="212" y="421"/>
                </a:lnTo>
                <a:lnTo>
                  <a:pt x="210" y="417"/>
                </a:lnTo>
                <a:lnTo>
                  <a:pt x="210" y="415"/>
                </a:lnTo>
                <a:lnTo>
                  <a:pt x="207" y="414"/>
                </a:lnTo>
                <a:lnTo>
                  <a:pt x="205" y="414"/>
                </a:lnTo>
                <a:lnTo>
                  <a:pt x="199" y="417"/>
                </a:lnTo>
                <a:lnTo>
                  <a:pt x="193" y="423"/>
                </a:lnTo>
                <a:lnTo>
                  <a:pt x="187" y="432"/>
                </a:lnTo>
                <a:lnTo>
                  <a:pt x="181" y="444"/>
                </a:lnTo>
                <a:lnTo>
                  <a:pt x="178" y="454"/>
                </a:lnTo>
                <a:lnTo>
                  <a:pt x="176" y="465"/>
                </a:lnTo>
                <a:lnTo>
                  <a:pt x="174" y="473"/>
                </a:lnTo>
                <a:lnTo>
                  <a:pt x="171" y="479"/>
                </a:lnTo>
                <a:lnTo>
                  <a:pt x="166" y="480"/>
                </a:lnTo>
                <a:lnTo>
                  <a:pt x="164" y="479"/>
                </a:lnTo>
                <a:lnTo>
                  <a:pt x="163" y="478"/>
                </a:lnTo>
                <a:lnTo>
                  <a:pt x="163" y="477"/>
                </a:lnTo>
                <a:lnTo>
                  <a:pt x="162" y="474"/>
                </a:lnTo>
                <a:lnTo>
                  <a:pt x="162" y="469"/>
                </a:lnTo>
                <a:lnTo>
                  <a:pt x="160" y="468"/>
                </a:lnTo>
                <a:lnTo>
                  <a:pt x="157" y="468"/>
                </a:lnTo>
                <a:lnTo>
                  <a:pt x="140" y="475"/>
                </a:lnTo>
                <a:lnTo>
                  <a:pt x="130" y="477"/>
                </a:lnTo>
                <a:lnTo>
                  <a:pt x="120" y="473"/>
                </a:lnTo>
                <a:lnTo>
                  <a:pt x="109" y="465"/>
                </a:lnTo>
                <a:lnTo>
                  <a:pt x="92" y="450"/>
                </a:lnTo>
                <a:lnTo>
                  <a:pt x="85" y="448"/>
                </a:lnTo>
                <a:lnTo>
                  <a:pt x="79" y="448"/>
                </a:lnTo>
                <a:lnTo>
                  <a:pt x="74" y="447"/>
                </a:lnTo>
                <a:lnTo>
                  <a:pt x="69" y="444"/>
                </a:lnTo>
                <a:lnTo>
                  <a:pt x="60" y="435"/>
                </a:lnTo>
                <a:lnTo>
                  <a:pt x="55" y="435"/>
                </a:lnTo>
                <a:lnTo>
                  <a:pt x="50" y="437"/>
                </a:lnTo>
                <a:lnTo>
                  <a:pt x="40" y="439"/>
                </a:lnTo>
                <a:lnTo>
                  <a:pt x="38" y="437"/>
                </a:lnTo>
                <a:lnTo>
                  <a:pt x="37" y="432"/>
                </a:lnTo>
                <a:lnTo>
                  <a:pt x="34" y="413"/>
                </a:lnTo>
                <a:lnTo>
                  <a:pt x="30" y="394"/>
                </a:lnTo>
                <a:lnTo>
                  <a:pt x="22" y="378"/>
                </a:lnTo>
                <a:lnTo>
                  <a:pt x="20" y="373"/>
                </a:lnTo>
                <a:lnTo>
                  <a:pt x="21" y="370"/>
                </a:lnTo>
                <a:lnTo>
                  <a:pt x="25" y="367"/>
                </a:lnTo>
                <a:lnTo>
                  <a:pt x="27" y="365"/>
                </a:lnTo>
                <a:lnTo>
                  <a:pt x="28" y="360"/>
                </a:lnTo>
                <a:lnTo>
                  <a:pt x="27" y="354"/>
                </a:lnTo>
                <a:lnTo>
                  <a:pt x="24" y="349"/>
                </a:lnTo>
                <a:lnTo>
                  <a:pt x="19" y="347"/>
                </a:lnTo>
                <a:lnTo>
                  <a:pt x="13" y="347"/>
                </a:lnTo>
                <a:lnTo>
                  <a:pt x="8" y="346"/>
                </a:lnTo>
                <a:lnTo>
                  <a:pt x="4" y="342"/>
                </a:lnTo>
                <a:lnTo>
                  <a:pt x="2" y="335"/>
                </a:lnTo>
                <a:lnTo>
                  <a:pt x="0" y="311"/>
                </a:lnTo>
                <a:lnTo>
                  <a:pt x="0" y="299"/>
                </a:lnTo>
                <a:lnTo>
                  <a:pt x="2" y="288"/>
                </a:lnTo>
                <a:lnTo>
                  <a:pt x="9" y="277"/>
                </a:lnTo>
                <a:lnTo>
                  <a:pt x="18" y="269"/>
                </a:lnTo>
                <a:lnTo>
                  <a:pt x="24" y="265"/>
                </a:lnTo>
                <a:lnTo>
                  <a:pt x="27" y="263"/>
                </a:lnTo>
                <a:lnTo>
                  <a:pt x="30" y="258"/>
                </a:lnTo>
                <a:lnTo>
                  <a:pt x="31" y="250"/>
                </a:lnTo>
                <a:lnTo>
                  <a:pt x="28" y="237"/>
                </a:lnTo>
                <a:lnTo>
                  <a:pt x="22" y="225"/>
                </a:lnTo>
                <a:lnTo>
                  <a:pt x="16" y="211"/>
                </a:lnTo>
                <a:lnTo>
                  <a:pt x="13" y="198"/>
                </a:lnTo>
                <a:lnTo>
                  <a:pt x="13" y="185"/>
                </a:lnTo>
                <a:lnTo>
                  <a:pt x="15" y="171"/>
                </a:lnTo>
                <a:lnTo>
                  <a:pt x="14" y="157"/>
                </a:lnTo>
                <a:lnTo>
                  <a:pt x="13" y="145"/>
                </a:lnTo>
                <a:lnTo>
                  <a:pt x="10" y="135"/>
                </a:lnTo>
                <a:lnTo>
                  <a:pt x="10" y="129"/>
                </a:lnTo>
                <a:lnTo>
                  <a:pt x="15" y="125"/>
                </a:lnTo>
                <a:lnTo>
                  <a:pt x="22" y="120"/>
                </a:lnTo>
                <a:lnTo>
                  <a:pt x="31" y="117"/>
                </a:lnTo>
                <a:lnTo>
                  <a:pt x="37" y="111"/>
                </a:lnTo>
                <a:lnTo>
                  <a:pt x="39" y="107"/>
                </a:lnTo>
                <a:lnTo>
                  <a:pt x="40" y="103"/>
                </a:lnTo>
                <a:lnTo>
                  <a:pt x="40" y="101"/>
                </a:lnTo>
                <a:lnTo>
                  <a:pt x="42" y="99"/>
                </a:lnTo>
                <a:lnTo>
                  <a:pt x="42" y="96"/>
                </a:lnTo>
                <a:lnTo>
                  <a:pt x="43" y="94"/>
                </a:lnTo>
                <a:lnTo>
                  <a:pt x="45" y="93"/>
                </a:lnTo>
                <a:lnTo>
                  <a:pt x="50" y="94"/>
                </a:lnTo>
                <a:lnTo>
                  <a:pt x="60" y="97"/>
                </a:lnTo>
                <a:lnTo>
                  <a:pt x="70" y="101"/>
                </a:lnTo>
                <a:lnTo>
                  <a:pt x="82" y="105"/>
                </a:lnTo>
                <a:lnTo>
                  <a:pt x="94" y="107"/>
                </a:lnTo>
                <a:lnTo>
                  <a:pt x="105" y="105"/>
                </a:lnTo>
                <a:lnTo>
                  <a:pt x="112" y="100"/>
                </a:lnTo>
                <a:lnTo>
                  <a:pt x="115" y="94"/>
                </a:lnTo>
                <a:lnTo>
                  <a:pt x="115" y="81"/>
                </a:lnTo>
                <a:lnTo>
                  <a:pt x="117" y="75"/>
                </a:lnTo>
                <a:lnTo>
                  <a:pt x="121" y="69"/>
                </a:lnTo>
                <a:lnTo>
                  <a:pt x="121" y="64"/>
                </a:lnTo>
                <a:lnTo>
                  <a:pt x="122" y="58"/>
                </a:lnTo>
                <a:lnTo>
                  <a:pt x="124" y="52"/>
                </a:lnTo>
                <a:lnTo>
                  <a:pt x="130" y="45"/>
                </a:lnTo>
                <a:lnTo>
                  <a:pt x="141" y="36"/>
                </a:lnTo>
                <a:lnTo>
                  <a:pt x="153" y="24"/>
                </a:lnTo>
                <a:lnTo>
                  <a:pt x="159" y="21"/>
                </a:lnTo>
                <a:lnTo>
                  <a:pt x="166" y="17"/>
                </a:lnTo>
                <a:lnTo>
                  <a:pt x="174" y="11"/>
                </a:lnTo>
                <a:lnTo>
                  <a:pt x="183" y="5"/>
                </a:lnTo>
                <a:lnTo>
                  <a:pt x="192" y="3"/>
                </a:lnTo>
                <a:lnTo>
                  <a:pt x="200" y="3"/>
                </a:lnTo>
                <a:lnTo>
                  <a:pt x="208" y="1"/>
                </a:lnTo>
                <a:lnTo>
                  <a:pt x="216" y="3"/>
                </a:lnTo>
                <a:lnTo>
                  <a:pt x="224" y="6"/>
                </a:lnTo>
                <a:lnTo>
                  <a:pt x="230" y="7"/>
                </a:lnTo>
                <a:lnTo>
                  <a:pt x="244" y="0"/>
                </a:lnTo>
                <a:close/>
              </a:path>
            </a:pathLst>
          </a:custGeom>
          <a:solidFill>
            <a:srgbClr val="7f7f7f"/>
          </a:solidFill>
          <a:ln w="0">
            <a:solidFill>
              <a:srgbClr val="adada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8437"/>
          <p:cNvSpPr/>
          <p:nvPr/>
        </p:nvSpPr>
        <p:spPr>
          <a:xfrm>
            <a:off x="4637160" y="5818320"/>
            <a:ext cx="169920" cy="201600"/>
          </a:xfrm>
          <a:custGeom>
            <a:avLst/>
            <a:gdLst>
              <a:gd name="textAreaLeft" fmla="*/ 0 w 169920"/>
              <a:gd name="textAreaRight" fmla="*/ 170280 w 16992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249" h="295">
                <a:moveTo>
                  <a:pt x="105" y="0"/>
                </a:moveTo>
                <a:lnTo>
                  <a:pt x="120" y="0"/>
                </a:lnTo>
                <a:lnTo>
                  <a:pt x="136" y="2"/>
                </a:lnTo>
                <a:lnTo>
                  <a:pt x="148" y="6"/>
                </a:lnTo>
                <a:lnTo>
                  <a:pt x="154" y="14"/>
                </a:lnTo>
                <a:lnTo>
                  <a:pt x="162" y="30"/>
                </a:lnTo>
                <a:lnTo>
                  <a:pt x="178" y="50"/>
                </a:lnTo>
                <a:lnTo>
                  <a:pt x="186" y="58"/>
                </a:lnTo>
                <a:lnTo>
                  <a:pt x="198" y="66"/>
                </a:lnTo>
                <a:lnTo>
                  <a:pt x="211" y="74"/>
                </a:lnTo>
                <a:lnTo>
                  <a:pt x="219" y="81"/>
                </a:lnTo>
                <a:lnTo>
                  <a:pt x="219" y="89"/>
                </a:lnTo>
                <a:lnTo>
                  <a:pt x="217" y="93"/>
                </a:lnTo>
                <a:lnTo>
                  <a:pt x="215" y="95"/>
                </a:lnTo>
                <a:lnTo>
                  <a:pt x="213" y="99"/>
                </a:lnTo>
                <a:lnTo>
                  <a:pt x="213" y="101"/>
                </a:lnTo>
                <a:lnTo>
                  <a:pt x="209" y="105"/>
                </a:lnTo>
                <a:lnTo>
                  <a:pt x="196" y="105"/>
                </a:lnTo>
                <a:lnTo>
                  <a:pt x="184" y="99"/>
                </a:lnTo>
                <a:lnTo>
                  <a:pt x="176" y="93"/>
                </a:lnTo>
                <a:lnTo>
                  <a:pt x="170" y="87"/>
                </a:lnTo>
                <a:lnTo>
                  <a:pt x="166" y="89"/>
                </a:lnTo>
                <a:lnTo>
                  <a:pt x="160" y="97"/>
                </a:lnTo>
                <a:lnTo>
                  <a:pt x="154" y="115"/>
                </a:lnTo>
                <a:lnTo>
                  <a:pt x="152" y="129"/>
                </a:lnTo>
                <a:lnTo>
                  <a:pt x="158" y="137"/>
                </a:lnTo>
                <a:lnTo>
                  <a:pt x="170" y="141"/>
                </a:lnTo>
                <a:lnTo>
                  <a:pt x="178" y="139"/>
                </a:lnTo>
                <a:lnTo>
                  <a:pt x="182" y="137"/>
                </a:lnTo>
                <a:lnTo>
                  <a:pt x="188" y="135"/>
                </a:lnTo>
                <a:lnTo>
                  <a:pt x="190" y="133"/>
                </a:lnTo>
                <a:lnTo>
                  <a:pt x="194" y="133"/>
                </a:lnTo>
                <a:lnTo>
                  <a:pt x="196" y="135"/>
                </a:lnTo>
                <a:lnTo>
                  <a:pt x="198" y="139"/>
                </a:lnTo>
                <a:lnTo>
                  <a:pt x="200" y="145"/>
                </a:lnTo>
                <a:lnTo>
                  <a:pt x="203" y="149"/>
                </a:lnTo>
                <a:lnTo>
                  <a:pt x="205" y="155"/>
                </a:lnTo>
                <a:lnTo>
                  <a:pt x="213" y="159"/>
                </a:lnTo>
                <a:lnTo>
                  <a:pt x="217" y="159"/>
                </a:lnTo>
                <a:lnTo>
                  <a:pt x="221" y="157"/>
                </a:lnTo>
                <a:lnTo>
                  <a:pt x="233" y="145"/>
                </a:lnTo>
                <a:lnTo>
                  <a:pt x="235" y="141"/>
                </a:lnTo>
                <a:lnTo>
                  <a:pt x="239" y="139"/>
                </a:lnTo>
                <a:lnTo>
                  <a:pt x="241" y="137"/>
                </a:lnTo>
                <a:lnTo>
                  <a:pt x="243" y="137"/>
                </a:lnTo>
                <a:lnTo>
                  <a:pt x="245" y="141"/>
                </a:lnTo>
                <a:lnTo>
                  <a:pt x="245" y="153"/>
                </a:lnTo>
                <a:lnTo>
                  <a:pt x="243" y="165"/>
                </a:lnTo>
                <a:lnTo>
                  <a:pt x="243" y="174"/>
                </a:lnTo>
                <a:lnTo>
                  <a:pt x="245" y="180"/>
                </a:lnTo>
                <a:lnTo>
                  <a:pt x="249" y="184"/>
                </a:lnTo>
                <a:lnTo>
                  <a:pt x="247" y="186"/>
                </a:lnTo>
                <a:lnTo>
                  <a:pt x="243" y="188"/>
                </a:lnTo>
                <a:lnTo>
                  <a:pt x="239" y="192"/>
                </a:lnTo>
                <a:lnTo>
                  <a:pt x="231" y="194"/>
                </a:lnTo>
                <a:lnTo>
                  <a:pt x="219" y="202"/>
                </a:lnTo>
                <a:lnTo>
                  <a:pt x="200" y="218"/>
                </a:lnTo>
                <a:lnTo>
                  <a:pt x="174" y="218"/>
                </a:lnTo>
                <a:lnTo>
                  <a:pt x="152" y="222"/>
                </a:lnTo>
                <a:lnTo>
                  <a:pt x="130" y="228"/>
                </a:lnTo>
                <a:lnTo>
                  <a:pt x="108" y="236"/>
                </a:lnTo>
                <a:lnTo>
                  <a:pt x="95" y="244"/>
                </a:lnTo>
                <a:lnTo>
                  <a:pt x="83" y="250"/>
                </a:lnTo>
                <a:lnTo>
                  <a:pt x="71" y="252"/>
                </a:lnTo>
                <a:lnTo>
                  <a:pt x="59" y="252"/>
                </a:lnTo>
                <a:lnTo>
                  <a:pt x="51" y="254"/>
                </a:lnTo>
                <a:lnTo>
                  <a:pt x="49" y="261"/>
                </a:lnTo>
                <a:lnTo>
                  <a:pt x="51" y="271"/>
                </a:lnTo>
                <a:lnTo>
                  <a:pt x="55" y="281"/>
                </a:lnTo>
                <a:lnTo>
                  <a:pt x="57" y="289"/>
                </a:lnTo>
                <a:lnTo>
                  <a:pt x="57" y="293"/>
                </a:lnTo>
                <a:lnTo>
                  <a:pt x="49" y="295"/>
                </a:lnTo>
                <a:lnTo>
                  <a:pt x="35" y="295"/>
                </a:lnTo>
                <a:lnTo>
                  <a:pt x="8" y="287"/>
                </a:lnTo>
                <a:lnTo>
                  <a:pt x="0" y="281"/>
                </a:lnTo>
                <a:lnTo>
                  <a:pt x="0" y="273"/>
                </a:lnTo>
                <a:lnTo>
                  <a:pt x="8" y="261"/>
                </a:lnTo>
                <a:lnTo>
                  <a:pt x="19" y="252"/>
                </a:lnTo>
                <a:lnTo>
                  <a:pt x="29" y="238"/>
                </a:lnTo>
                <a:lnTo>
                  <a:pt x="33" y="224"/>
                </a:lnTo>
                <a:lnTo>
                  <a:pt x="31" y="212"/>
                </a:lnTo>
                <a:lnTo>
                  <a:pt x="27" y="192"/>
                </a:lnTo>
                <a:lnTo>
                  <a:pt x="27" y="186"/>
                </a:lnTo>
                <a:lnTo>
                  <a:pt x="31" y="182"/>
                </a:lnTo>
                <a:lnTo>
                  <a:pt x="39" y="182"/>
                </a:lnTo>
                <a:lnTo>
                  <a:pt x="53" y="186"/>
                </a:lnTo>
                <a:lnTo>
                  <a:pt x="61" y="192"/>
                </a:lnTo>
                <a:lnTo>
                  <a:pt x="69" y="196"/>
                </a:lnTo>
                <a:lnTo>
                  <a:pt x="73" y="192"/>
                </a:lnTo>
                <a:lnTo>
                  <a:pt x="73" y="184"/>
                </a:lnTo>
                <a:lnTo>
                  <a:pt x="69" y="172"/>
                </a:lnTo>
                <a:lnTo>
                  <a:pt x="65" y="159"/>
                </a:lnTo>
                <a:lnTo>
                  <a:pt x="63" y="145"/>
                </a:lnTo>
                <a:lnTo>
                  <a:pt x="65" y="133"/>
                </a:lnTo>
                <a:lnTo>
                  <a:pt x="71" y="123"/>
                </a:lnTo>
                <a:lnTo>
                  <a:pt x="83" y="115"/>
                </a:lnTo>
                <a:lnTo>
                  <a:pt x="87" y="113"/>
                </a:lnTo>
                <a:lnTo>
                  <a:pt x="91" y="113"/>
                </a:lnTo>
                <a:lnTo>
                  <a:pt x="95" y="109"/>
                </a:lnTo>
                <a:lnTo>
                  <a:pt x="95" y="103"/>
                </a:lnTo>
                <a:lnTo>
                  <a:pt x="91" y="91"/>
                </a:lnTo>
                <a:lnTo>
                  <a:pt x="87" y="87"/>
                </a:lnTo>
                <a:lnTo>
                  <a:pt x="75" y="81"/>
                </a:lnTo>
                <a:lnTo>
                  <a:pt x="73" y="81"/>
                </a:lnTo>
                <a:lnTo>
                  <a:pt x="69" y="79"/>
                </a:lnTo>
                <a:lnTo>
                  <a:pt x="67" y="75"/>
                </a:lnTo>
                <a:lnTo>
                  <a:pt x="65" y="70"/>
                </a:lnTo>
                <a:lnTo>
                  <a:pt x="65" y="42"/>
                </a:lnTo>
                <a:lnTo>
                  <a:pt x="67" y="24"/>
                </a:lnTo>
                <a:lnTo>
                  <a:pt x="71" y="12"/>
                </a:lnTo>
                <a:lnTo>
                  <a:pt x="79" y="4"/>
                </a:lnTo>
                <a:lnTo>
                  <a:pt x="89" y="2"/>
                </a:lnTo>
                <a:lnTo>
                  <a:pt x="105" y="0"/>
                </a:lnTo>
                <a:close/>
              </a:path>
            </a:pathLst>
          </a:custGeom>
          <a:solidFill>
            <a:srgbClr val="7f7f7f"/>
          </a:solidFill>
          <a:ln w="0">
            <a:solidFill>
              <a:srgbClr val="adada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reeform 5996"/>
          <p:cNvSpPr/>
          <p:nvPr/>
        </p:nvSpPr>
        <p:spPr>
          <a:xfrm>
            <a:off x="6665760" y="3222720"/>
            <a:ext cx="547920" cy="485640"/>
          </a:xfrm>
          <a:custGeom>
            <a:avLst/>
            <a:gdLst>
              <a:gd name="textAreaLeft" fmla="*/ 0 w 547920"/>
              <a:gd name="textAreaRight" fmla="*/ 548280 w 5479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400" h="354">
                <a:moveTo>
                  <a:pt x="246" y="0"/>
                </a:moveTo>
                <a:lnTo>
                  <a:pt x="249" y="1"/>
                </a:lnTo>
                <a:lnTo>
                  <a:pt x="248" y="6"/>
                </a:lnTo>
                <a:lnTo>
                  <a:pt x="243" y="14"/>
                </a:lnTo>
                <a:lnTo>
                  <a:pt x="237" y="24"/>
                </a:lnTo>
                <a:lnTo>
                  <a:pt x="230" y="34"/>
                </a:lnTo>
                <a:lnTo>
                  <a:pt x="221" y="51"/>
                </a:lnTo>
                <a:lnTo>
                  <a:pt x="222" y="55"/>
                </a:lnTo>
                <a:lnTo>
                  <a:pt x="225" y="55"/>
                </a:lnTo>
                <a:lnTo>
                  <a:pt x="234" y="52"/>
                </a:lnTo>
                <a:lnTo>
                  <a:pt x="238" y="52"/>
                </a:lnTo>
                <a:lnTo>
                  <a:pt x="243" y="60"/>
                </a:lnTo>
                <a:lnTo>
                  <a:pt x="248" y="62"/>
                </a:lnTo>
                <a:lnTo>
                  <a:pt x="273" y="62"/>
                </a:lnTo>
                <a:lnTo>
                  <a:pt x="274" y="63"/>
                </a:lnTo>
                <a:lnTo>
                  <a:pt x="275" y="66"/>
                </a:lnTo>
                <a:lnTo>
                  <a:pt x="275" y="68"/>
                </a:lnTo>
                <a:lnTo>
                  <a:pt x="274" y="72"/>
                </a:lnTo>
                <a:lnTo>
                  <a:pt x="274" y="75"/>
                </a:lnTo>
                <a:lnTo>
                  <a:pt x="273" y="79"/>
                </a:lnTo>
                <a:lnTo>
                  <a:pt x="274" y="82"/>
                </a:lnTo>
                <a:lnTo>
                  <a:pt x="290" y="82"/>
                </a:lnTo>
                <a:lnTo>
                  <a:pt x="293" y="84"/>
                </a:lnTo>
                <a:lnTo>
                  <a:pt x="297" y="84"/>
                </a:lnTo>
                <a:lnTo>
                  <a:pt x="298" y="82"/>
                </a:lnTo>
                <a:lnTo>
                  <a:pt x="299" y="80"/>
                </a:lnTo>
                <a:lnTo>
                  <a:pt x="300" y="79"/>
                </a:lnTo>
                <a:lnTo>
                  <a:pt x="306" y="79"/>
                </a:lnTo>
                <a:lnTo>
                  <a:pt x="308" y="78"/>
                </a:lnTo>
                <a:lnTo>
                  <a:pt x="310" y="76"/>
                </a:lnTo>
                <a:lnTo>
                  <a:pt x="311" y="75"/>
                </a:lnTo>
                <a:lnTo>
                  <a:pt x="312" y="75"/>
                </a:lnTo>
                <a:lnTo>
                  <a:pt x="315" y="74"/>
                </a:lnTo>
                <a:lnTo>
                  <a:pt x="317" y="75"/>
                </a:lnTo>
                <a:lnTo>
                  <a:pt x="321" y="76"/>
                </a:lnTo>
                <a:lnTo>
                  <a:pt x="326" y="79"/>
                </a:lnTo>
                <a:lnTo>
                  <a:pt x="329" y="75"/>
                </a:lnTo>
                <a:lnTo>
                  <a:pt x="329" y="74"/>
                </a:lnTo>
                <a:lnTo>
                  <a:pt x="332" y="72"/>
                </a:lnTo>
                <a:lnTo>
                  <a:pt x="334" y="72"/>
                </a:lnTo>
                <a:lnTo>
                  <a:pt x="339" y="70"/>
                </a:lnTo>
                <a:lnTo>
                  <a:pt x="348" y="63"/>
                </a:lnTo>
                <a:lnTo>
                  <a:pt x="354" y="61"/>
                </a:lnTo>
                <a:lnTo>
                  <a:pt x="363" y="60"/>
                </a:lnTo>
                <a:lnTo>
                  <a:pt x="371" y="63"/>
                </a:lnTo>
                <a:lnTo>
                  <a:pt x="378" y="69"/>
                </a:lnTo>
                <a:lnTo>
                  <a:pt x="384" y="76"/>
                </a:lnTo>
                <a:lnTo>
                  <a:pt x="387" y="80"/>
                </a:lnTo>
                <a:lnTo>
                  <a:pt x="390" y="85"/>
                </a:lnTo>
                <a:lnTo>
                  <a:pt x="395" y="88"/>
                </a:lnTo>
                <a:lnTo>
                  <a:pt x="400" y="93"/>
                </a:lnTo>
                <a:lnTo>
                  <a:pt x="393" y="105"/>
                </a:lnTo>
                <a:lnTo>
                  <a:pt x="384" y="121"/>
                </a:lnTo>
                <a:lnTo>
                  <a:pt x="374" y="139"/>
                </a:lnTo>
                <a:lnTo>
                  <a:pt x="352" y="180"/>
                </a:lnTo>
                <a:lnTo>
                  <a:pt x="340" y="199"/>
                </a:lnTo>
                <a:lnTo>
                  <a:pt x="329" y="218"/>
                </a:lnTo>
                <a:lnTo>
                  <a:pt x="320" y="235"/>
                </a:lnTo>
                <a:lnTo>
                  <a:pt x="303" y="260"/>
                </a:lnTo>
                <a:lnTo>
                  <a:pt x="298" y="265"/>
                </a:lnTo>
                <a:lnTo>
                  <a:pt x="287" y="271"/>
                </a:lnTo>
                <a:lnTo>
                  <a:pt x="273" y="279"/>
                </a:lnTo>
                <a:lnTo>
                  <a:pt x="239" y="296"/>
                </a:lnTo>
                <a:lnTo>
                  <a:pt x="225" y="304"/>
                </a:lnTo>
                <a:lnTo>
                  <a:pt x="214" y="312"/>
                </a:lnTo>
                <a:lnTo>
                  <a:pt x="204" y="319"/>
                </a:lnTo>
                <a:lnTo>
                  <a:pt x="178" y="336"/>
                </a:lnTo>
                <a:lnTo>
                  <a:pt x="166" y="344"/>
                </a:lnTo>
                <a:lnTo>
                  <a:pt x="155" y="350"/>
                </a:lnTo>
                <a:lnTo>
                  <a:pt x="148" y="354"/>
                </a:lnTo>
                <a:lnTo>
                  <a:pt x="143" y="351"/>
                </a:lnTo>
                <a:lnTo>
                  <a:pt x="138" y="342"/>
                </a:lnTo>
                <a:lnTo>
                  <a:pt x="135" y="330"/>
                </a:lnTo>
                <a:lnTo>
                  <a:pt x="132" y="316"/>
                </a:lnTo>
                <a:lnTo>
                  <a:pt x="131" y="302"/>
                </a:lnTo>
                <a:lnTo>
                  <a:pt x="131" y="290"/>
                </a:lnTo>
                <a:lnTo>
                  <a:pt x="129" y="282"/>
                </a:lnTo>
                <a:lnTo>
                  <a:pt x="124" y="277"/>
                </a:lnTo>
                <a:lnTo>
                  <a:pt x="107" y="272"/>
                </a:lnTo>
                <a:lnTo>
                  <a:pt x="90" y="272"/>
                </a:lnTo>
                <a:lnTo>
                  <a:pt x="81" y="273"/>
                </a:lnTo>
                <a:lnTo>
                  <a:pt x="75" y="277"/>
                </a:lnTo>
                <a:lnTo>
                  <a:pt x="65" y="284"/>
                </a:lnTo>
                <a:lnTo>
                  <a:pt x="63" y="284"/>
                </a:lnTo>
                <a:lnTo>
                  <a:pt x="60" y="279"/>
                </a:lnTo>
                <a:lnTo>
                  <a:pt x="58" y="260"/>
                </a:lnTo>
                <a:lnTo>
                  <a:pt x="58" y="236"/>
                </a:lnTo>
                <a:lnTo>
                  <a:pt x="57" y="232"/>
                </a:lnTo>
                <a:lnTo>
                  <a:pt x="56" y="230"/>
                </a:lnTo>
                <a:lnTo>
                  <a:pt x="54" y="229"/>
                </a:lnTo>
                <a:lnTo>
                  <a:pt x="47" y="229"/>
                </a:lnTo>
                <a:lnTo>
                  <a:pt x="45" y="232"/>
                </a:lnTo>
                <a:lnTo>
                  <a:pt x="42" y="240"/>
                </a:lnTo>
                <a:lnTo>
                  <a:pt x="38" y="259"/>
                </a:lnTo>
                <a:lnTo>
                  <a:pt x="36" y="265"/>
                </a:lnTo>
                <a:lnTo>
                  <a:pt x="33" y="267"/>
                </a:lnTo>
                <a:lnTo>
                  <a:pt x="26" y="267"/>
                </a:lnTo>
                <a:lnTo>
                  <a:pt x="16" y="266"/>
                </a:lnTo>
                <a:lnTo>
                  <a:pt x="6" y="264"/>
                </a:lnTo>
                <a:lnTo>
                  <a:pt x="2" y="260"/>
                </a:lnTo>
                <a:lnTo>
                  <a:pt x="0" y="255"/>
                </a:lnTo>
                <a:lnTo>
                  <a:pt x="2" y="248"/>
                </a:lnTo>
                <a:lnTo>
                  <a:pt x="5" y="240"/>
                </a:lnTo>
                <a:lnTo>
                  <a:pt x="8" y="232"/>
                </a:lnTo>
                <a:lnTo>
                  <a:pt x="11" y="228"/>
                </a:lnTo>
                <a:lnTo>
                  <a:pt x="14" y="224"/>
                </a:lnTo>
                <a:lnTo>
                  <a:pt x="17" y="220"/>
                </a:lnTo>
                <a:lnTo>
                  <a:pt x="24" y="214"/>
                </a:lnTo>
                <a:lnTo>
                  <a:pt x="34" y="207"/>
                </a:lnTo>
                <a:lnTo>
                  <a:pt x="44" y="199"/>
                </a:lnTo>
                <a:lnTo>
                  <a:pt x="52" y="190"/>
                </a:lnTo>
                <a:lnTo>
                  <a:pt x="60" y="183"/>
                </a:lnTo>
                <a:lnTo>
                  <a:pt x="64" y="180"/>
                </a:lnTo>
                <a:lnTo>
                  <a:pt x="66" y="175"/>
                </a:lnTo>
                <a:lnTo>
                  <a:pt x="72" y="165"/>
                </a:lnTo>
                <a:lnTo>
                  <a:pt x="78" y="152"/>
                </a:lnTo>
                <a:lnTo>
                  <a:pt x="104" y="105"/>
                </a:lnTo>
                <a:lnTo>
                  <a:pt x="111" y="92"/>
                </a:lnTo>
                <a:lnTo>
                  <a:pt x="116" y="82"/>
                </a:lnTo>
                <a:lnTo>
                  <a:pt x="119" y="78"/>
                </a:lnTo>
                <a:lnTo>
                  <a:pt x="123" y="69"/>
                </a:lnTo>
                <a:lnTo>
                  <a:pt x="126" y="57"/>
                </a:lnTo>
                <a:lnTo>
                  <a:pt x="130" y="58"/>
                </a:lnTo>
                <a:lnTo>
                  <a:pt x="132" y="60"/>
                </a:lnTo>
                <a:lnTo>
                  <a:pt x="134" y="61"/>
                </a:lnTo>
                <a:lnTo>
                  <a:pt x="134" y="62"/>
                </a:lnTo>
                <a:lnTo>
                  <a:pt x="138" y="72"/>
                </a:lnTo>
                <a:lnTo>
                  <a:pt x="141" y="73"/>
                </a:lnTo>
                <a:lnTo>
                  <a:pt x="144" y="74"/>
                </a:lnTo>
                <a:lnTo>
                  <a:pt x="147" y="74"/>
                </a:lnTo>
                <a:lnTo>
                  <a:pt x="148" y="73"/>
                </a:lnTo>
                <a:lnTo>
                  <a:pt x="148" y="72"/>
                </a:lnTo>
                <a:lnTo>
                  <a:pt x="149" y="69"/>
                </a:lnTo>
                <a:lnTo>
                  <a:pt x="149" y="68"/>
                </a:lnTo>
                <a:lnTo>
                  <a:pt x="150" y="66"/>
                </a:lnTo>
                <a:lnTo>
                  <a:pt x="155" y="63"/>
                </a:lnTo>
                <a:lnTo>
                  <a:pt x="161" y="63"/>
                </a:lnTo>
                <a:lnTo>
                  <a:pt x="171" y="68"/>
                </a:lnTo>
                <a:lnTo>
                  <a:pt x="178" y="67"/>
                </a:lnTo>
                <a:lnTo>
                  <a:pt x="182" y="64"/>
                </a:lnTo>
                <a:lnTo>
                  <a:pt x="180" y="61"/>
                </a:lnTo>
                <a:lnTo>
                  <a:pt x="171" y="51"/>
                </a:lnTo>
                <a:lnTo>
                  <a:pt x="170" y="48"/>
                </a:lnTo>
                <a:lnTo>
                  <a:pt x="170" y="45"/>
                </a:lnTo>
                <a:lnTo>
                  <a:pt x="171" y="44"/>
                </a:lnTo>
                <a:lnTo>
                  <a:pt x="174" y="44"/>
                </a:lnTo>
                <a:lnTo>
                  <a:pt x="177" y="45"/>
                </a:lnTo>
                <a:lnTo>
                  <a:pt x="184" y="45"/>
                </a:lnTo>
                <a:lnTo>
                  <a:pt x="185" y="44"/>
                </a:lnTo>
                <a:lnTo>
                  <a:pt x="185" y="42"/>
                </a:lnTo>
                <a:lnTo>
                  <a:pt x="186" y="39"/>
                </a:lnTo>
                <a:lnTo>
                  <a:pt x="188" y="38"/>
                </a:lnTo>
                <a:lnTo>
                  <a:pt x="189" y="36"/>
                </a:lnTo>
                <a:lnTo>
                  <a:pt x="190" y="34"/>
                </a:lnTo>
                <a:lnTo>
                  <a:pt x="197" y="34"/>
                </a:lnTo>
                <a:lnTo>
                  <a:pt x="200" y="33"/>
                </a:lnTo>
                <a:lnTo>
                  <a:pt x="203" y="30"/>
                </a:lnTo>
                <a:lnTo>
                  <a:pt x="206" y="28"/>
                </a:lnTo>
                <a:lnTo>
                  <a:pt x="207" y="27"/>
                </a:lnTo>
                <a:lnTo>
                  <a:pt x="212" y="27"/>
                </a:lnTo>
                <a:lnTo>
                  <a:pt x="213" y="25"/>
                </a:lnTo>
                <a:lnTo>
                  <a:pt x="215" y="22"/>
                </a:lnTo>
                <a:lnTo>
                  <a:pt x="216" y="20"/>
                </a:lnTo>
                <a:lnTo>
                  <a:pt x="219" y="16"/>
                </a:lnTo>
                <a:lnTo>
                  <a:pt x="221" y="14"/>
                </a:lnTo>
                <a:lnTo>
                  <a:pt x="225" y="13"/>
                </a:lnTo>
                <a:lnTo>
                  <a:pt x="227" y="12"/>
                </a:lnTo>
                <a:lnTo>
                  <a:pt x="232" y="10"/>
                </a:lnTo>
                <a:lnTo>
                  <a:pt x="237" y="7"/>
                </a:lnTo>
                <a:lnTo>
                  <a:pt x="242" y="2"/>
                </a:lnTo>
                <a:lnTo>
                  <a:pt x="246" y="0"/>
                </a:lnTo>
                <a:close/>
              </a:path>
            </a:pathLst>
          </a:custGeom>
          <a:solidFill>
            <a:srgbClr val="7f7f7f"/>
          </a:solidFill>
          <a:ln w="0">
            <a:solidFill>
              <a:srgbClr val="adada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reeform 3762"/>
          <p:cNvSpPr/>
          <p:nvPr/>
        </p:nvSpPr>
        <p:spPr>
          <a:xfrm>
            <a:off x="6708600" y="2287440"/>
            <a:ext cx="625680" cy="1062360"/>
          </a:xfrm>
          <a:custGeom>
            <a:avLst/>
            <a:gdLst>
              <a:gd name="textAreaLeft" fmla="*/ 0 w 625680"/>
              <a:gd name="textAreaRight" fmla="*/ 626040 w 625680"/>
              <a:gd name="textAreaTop" fmla="*/ 0 h 1062360"/>
              <a:gd name="textAreaBottom" fmla="*/ 1062720 h 1062360"/>
            </a:gdLst>
            <a:ahLst/>
            <a:rect l="textAreaLeft" t="textAreaTop" r="textAreaRight" b="textAreaBottom"/>
            <a:pathLst>
              <a:path w="456" h="775">
                <a:moveTo>
                  <a:pt x="196" y="0"/>
                </a:moveTo>
                <a:lnTo>
                  <a:pt x="197" y="0"/>
                </a:lnTo>
                <a:lnTo>
                  <a:pt x="199" y="1"/>
                </a:lnTo>
                <a:lnTo>
                  <a:pt x="203" y="5"/>
                </a:lnTo>
                <a:lnTo>
                  <a:pt x="204" y="7"/>
                </a:lnTo>
                <a:lnTo>
                  <a:pt x="209" y="10"/>
                </a:lnTo>
                <a:lnTo>
                  <a:pt x="212" y="10"/>
                </a:lnTo>
                <a:lnTo>
                  <a:pt x="216" y="13"/>
                </a:lnTo>
                <a:lnTo>
                  <a:pt x="217" y="16"/>
                </a:lnTo>
                <a:lnTo>
                  <a:pt x="217" y="18"/>
                </a:lnTo>
                <a:lnTo>
                  <a:pt x="215" y="20"/>
                </a:lnTo>
                <a:lnTo>
                  <a:pt x="212" y="22"/>
                </a:lnTo>
                <a:lnTo>
                  <a:pt x="210" y="24"/>
                </a:lnTo>
                <a:lnTo>
                  <a:pt x="210" y="25"/>
                </a:lnTo>
                <a:lnTo>
                  <a:pt x="211" y="26"/>
                </a:lnTo>
                <a:lnTo>
                  <a:pt x="214" y="28"/>
                </a:lnTo>
                <a:lnTo>
                  <a:pt x="218" y="28"/>
                </a:lnTo>
                <a:lnTo>
                  <a:pt x="223" y="25"/>
                </a:lnTo>
                <a:lnTo>
                  <a:pt x="224" y="24"/>
                </a:lnTo>
                <a:lnTo>
                  <a:pt x="226" y="24"/>
                </a:lnTo>
                <a:lnTo>
                  <a:pt x="227" y="23"/>
                </a:lnTo>
                <a:lnTo>
                  <a:pt x="228" y="23"/>
                </a:lnTo>
                <a:lnTo>
                  <a:pt x="228" y="28"/>
                </a:lnTo>
                <a:lnTo>
                  <a:pt x="227" y="35"/>
                </a:lnTo>
                <a:lnTo>
                  <a:pt x="223" y="41"/>
                </a:lnTo>
                <a:lnTo>
                  <a:pt x="222" y="46"/>
                </a:lnTo>
                <a:lnTo>
                  <a:pt x="226" y="49"/>
                </a:lnTo>
                <a:lnTo>
                  <a:pt x="230" y="53"/>
                </a:lnTo>
                <a:lnTo>
                  <a:pt x="232" y="58"/>
                </a:lnTo>
                <a:lnTo>
                  <a:pt x="232" y="62"/>
                </a:lnTo>
                <a:lnTo>
                  <a:pt x="229" y="68"/>
                </a:lnTo>
                <a:lnTo>
                  <a:pt x="228" y="74"/>
                </a:lnTo>
                <a:lnTo>
                  <a:pt x="228" y="80"/>
                </a:lnTo>
                <a:lnTo>
                  <a:pt x="229" y="86"/>
                </a:lnTo>
                <a:lnTo>
                  <a:pt x="234" y="89"/>
                </a:lnTo>
                <a:lnTo>
                  <a:pt x="239" y="86"/>
                </a:lnTo>
                <a:lnTo>
                  <a:pt x="244" y="83"/>
                </a:lnTo>
                <a:lnTo>
                  <a:pt x="250" y="79"/>
                </a:lnTo>
                <a:lnTo>
                  <a:pt x="254" y="77"/>
                </a:lnTo>
                <a:lnTo>
                  <a:pt x="258" y="78"/>
                </a:lnTo>
                <a:lnTo>
                  <a:pt x="259" y="80"/>
                </a:lnTo>
                <a:lnTo>
                  <a:pt x="260" y="84"/>
                </a:lnTo>
                <a:lnTo>
                  <a:pt x="263" y="89"/>
                </a:lnTo>
                <a:lnTo>
                  <a:pt x="263" y="92"/>
                </a:lnTo>
                <a:lnTo>
                  <a:pt x="259" y="96"/>
                </a:lnTo>
                <a:lnTo>
                  <a:pt x="256" y="98"/>
                </a:lnTo>
                <a:lnTo>
                  <a:pt x="253" y="101"/>
                </a:lnTo>
                <a:lnTo>
                  <a:pt x="250" y="103"/>
                </a:lnTo>
                <a:lnTo>
                  <a:pt x="246" y="104"/>
                </a:lnTo>
                <a:lnTo>
                  <a:pt x="244" y="107"/>
                </a:lnTo>
                <a:lnTo>
                  <a:pt x="238" y="107"/>
                </a:lnTo>
                <a:lnTo>
                  <a:pt x="236" y="106"/>
                </a:lnTo>
                <a:lnTo>
                  <a:pt x="234" y="106"/>
                </a:lnTo>
                <a:lnTo>
                  <a:pt x="233" y="107"/>
                </a:lnTo>
                <a:lnTo>
                  <a:pt x="233" y="108"/>
                </a:lnTo>
                <a:lnTo>
                  <a:pt x="235" y="113"/>
                </a:lnTo>
                <a:lnTo>
                  <a:pt x="238" y="115"/>
                </a:lnTo>
                <a:lnTo>
                  <a:pt x="240" y="116"/>
                </a:lnTo>
                <a:lnTo>
                  <a:pt x="242" y="116"/>
                </a:lnTo>
                <a:lnTo>
                  <a:pt x="245" y="118"/>
                </a:lnTo>
                <a:lnTo>
                  <a:pt x="246" y="119"/>
                </a:lnTo>
                <a:lnTo>
                  <a:pt x="246" y="122"/>
                </a:lnTo>
                <a:lnTo>
                  <a:pt x="244" y="128"/>
                </a:lnTo>
                <a:lnTo>
                  <a:pt x="241" y="136"/>
                </a:lnTo>
                <a:lnTo>
                  <a:pt x="238" y="142"/>
                </a:lnTo>
                <a:lnTo>
                  <a:pt x="234" y="146"/>
                </a:lnTo>
                <a:lnTo>
                  <a:pt x="232" y="148"/>
                </a:lnTo>
                <a:lnTo>
                  <a:pt x="228" y="149"/>
                </a:lnTo>
                <a:lnTo>
                  <a:pt x="226" y="150"/>
                </a:lnTo>
                <a:lnTo>
                  <a:pt x="222" y="151"/>
                </a:lnTo>
                <a:lnTo>
                  <a:pt x="217" y="154"/>
                </a:lnTo>
                <a:lnTo>
                  <a:pt x="216" y="156"/>
                </a:lnTo>
                <a:lnTo>
                  <a:pt x="216" y="157"/>
                </a:lnTo>
                <a:lnTo>
                  <a:pt x="217" y="160"/>
                </a:lnTo>
                <a:lnTo>
                  <a:pt x="220" y="161"/>
                </a:lnTo>
                <a:lnTo>
                  <a:pt x="221" y="162"/>
                </a:lnTo>
                <a:lnTo>
                  <a:pt x="223" y="163"/>
                </a:lnTo>
                <a:lnTo>
                  <a:pt x="224" y="164"/>
                </a:lnTo>
                <a:lnTo>
                  <a:pt x="224" y="167"/>
                </a:lnTo>
                <a:lnTo>
                  <a:pt x="223" y="170"/>
                </a:lnTo>
                <a:lnTo>
                  <a:pt x="222" y="173"/>
                </a:lnTo>
                <a:lnTo>
                  <a:pt x="220" y="175"/>
                </a:lnTo>
                <a:lnTo>
                  <a:pt x="215" y="178"/>
                </a:lnTo>
                <a:lnTo>
                  <a:pt x="210" y="178"/>
                </a:lnTo>
                <a:lnTo>
                  <a:pt x="209" y="179"/>
                </a:lnTo>
                <a:lnTo>
                  <a:pt x="209" y="182"/>
                </a:lnTo>
                <a:lnTo>
                  <a:pt x="211" y="187"/>
                </a:lnTo>
                <a:lnTo>
                  <a:pt x="215" y="191"/>
                </a:lnTo>
                <a:lnTo>
                  <a:pt x="216" y="193"/>
                </a:lnTo>
                <a:lnTo>
                  <a:pt x="216" y="196"/>
                </a:lnTo>
                <a:lnTo>
                  <a:pt x="215" y="200"/>
                </a:lnTo>
                <a:lnTo>
                  <a:pt x="211" y="206"/>
                </a:lnTo>
                <a:lnTo>
                  <a:pt x="210" y="211"/>
                </a:lnTo>
                <a:lnTo>
                  <a:pt x="210" y="215"/>
                </a:lnTo>
                <a:lnTo>
                  <a:pt x="215" y="218"/>
                </a:lnTo>
                <a:lnTo>
                  <a:pt x="222" y="221"/>
                </a:lnTo>
                <a:lnTo>
                  <a:pt x="235" y="221"/>
                </a:lnTo>
                <a:lnTo>
                  <a:pt x="241" y="222"/>
                </a:lnTo>
                <a:lnTo>
                  <a:pt x="246" y="227"/>
                </a:lnTo>
                <a:lnTo>
                  <a:pt x="252" y="234"/>
                </a:lnTo>
                <a:lnTo>
                  <a:pt x="257" y="240"/>
                </a:lnTo>
                <a:lnTo>
                  <a:pt x="259" y="245"/>
                </a:lnTo>
                <a:lnTo>
                  <a:pt x="257" y="247"/>
                </a:lnTo>
                <a:lnTo>
                  <a:pt x="250" y="248"/>
                </a:lnTo>
                <a:lnTo>
                  <a:pt x="240" y="250"/>
                </a:lnTo>
                <a:lnTo>
                  <a:pt x="230" y="250"/>
                </a:lnTo>
                <a:lnTo>
                  <a:pt x="223" y="251"/>
                </a:lnTo>
                <a:lnTo>
                  <a:pt x="217" y="254"/>
                </a:lnTo>
                <a:lnTo>
                  <a:pt x="210" y="260"/>
                </a:lnTo>
                <a:lnTo>
                  <a:pt x="202" y="268"/>
                </a:lnTo>
                <a:lnTo>
                  <a:pt x="194" y="275"/>
                </a:lnTo>
                <a:lnTo>
                  <a:pt x="190" y="277"/>
                </a:lnTo>
                <a:lnTo>
                  <a:pt x="186" y="277"/>
                </a:lnTo>
                <a:lnTo>
                  <a:pt x="184" y="275"/>
                </a:lnTo>
                <a:lnTo>
                  <a:pt x="182" y="275"/>
                </a:lnTo>
                <a:lnTo>
                  <a:pt x="180" y="277"/>
                </a:lnTo>
                <a:lnTo>
                  <a:pt x="178" y="281"/>
                </a:lnTo>
                <a:lnTo>
                  <a:pt x="175" y="288"/>
                </a:lnTo>
                <a:lnTo>
                  <a:pt x="173" y="310"/>
                </a:lnTo>
                <a:lnTo>
                  <a:pt x="173" y="318"/>
                </a:lnTo>
                <a:lnTo>
                  <a:pt x="172" y="323"/>
                </a:lnTo>
                <a:lnTo>
                  <a:pt x="172" y="324"/>
                </a:lnTo>
                <a:lnTo>
                  <a:pt x="173" y="325"/>
                </a:lnTo>
                <a:lnTo>
                  <a:pt x="175" y="326"/>
                </a:lnTo>
                <a:lnTo>
                  <a:pt x="176" y="328"/>
                </a:lnTo>
                <a:lnTo>
                  <a:pt x="179" y="329"/>
                </a:lnTo>
                <a:lnTo>
                  <a:pt x="180" y="330"/>
                </a:lnTo>
                <a:lnTo>
                  <a:pt x="180" y="332"/>
                </a:lnTo>
                <a:lnTo>
                  <a:pt x="161" y="332"/>
                </a:lnTo>
                <a:lnTo>
                  <a:pt x="160" y="334"/>
                </a:lnTo>
                <a:lnTo>
                  <a:pt x="161" y="336"/>
                </a:lnTo>
                <a:lnTo>
                  <a:pt x="166" y="342"/>
                </a:lnTo>
                <a:lnTo>
                  <a:pt x="172" y="346"/>
                </a:lnTo>
                <a:lnTo>
                  <a:pt x="180" y="344"/>
                </a:lnTo>
                <a:lnTo>
                  <a:pt x="187" y="340"/>
                </a:lnTo>
                <a:lnTo>
                  <a:pt x="193" y="337"/>
                </a:lnTo>
                <a:lnTo>
                  <a:pt x="200" y="334"/>
                </a:lnTo>
                <a:lnTo>
                  <a:pt x="206" y="332"/>
                </a:lnTo>
                <a:lnTo>
                  <a:pt x="211" y="335"/>
                </a:lnTo>
                <a:lnTo>
                  <a:pt x="216" y="336"/>
                </a:lnTo>
                <a:lnTo>
                  <a:pt x="220" y="331"/>
                </a:lnTo>
                <a:lnTo>
                  <a:pt x="222" y="324"/>
                </a:lnTo>
                <a:lnTo>
                  <a:pt x="223" y="322"/>
                </a:lnTo>
                <a:lnTo>
                  <a:pt x="223" y="319"/>
                </a:lnTo>
                <a:lnTo>
                  <a:pt x="224" y="318"/>
                </a:lnTo>
                <a:lnTo>
                  <a:pt x="227" y="318"/>
                </a:lnTo>
                <a:lnTo>
                  <a:pt x="230" y="317"/>
                </a:lnTo>
                <a:lnTo>
                  <a:pt x="239" y="318"/>
                </a:lnTo>
                <a:lnTo>
                  <a:pt x="246" y="319"/>
                </a:lnTo>
                <a:lnTo>
                  <a:pt x="252" y="318"/>
                </a:lnTo>
                <a:lnTo>
                  <a:pt x="256" y="314"/>
                </a:lnTo>
                <a:lnTo>
                  <a:pt x="262" y="305"/>
                </a:lnTo>
                <a:lnTo>
                  <a:pt x="269" y="292"/>
                </a:lnTo>
                <a:lnTo>
                  <a:pt x="272" y="292"/>
                </a:lnTo>
                <a:lnTo>
                  <a:pt x="280" y="288"/>
                </a:lnTo>
                <a:lnTo>
                  <a:pt x="283" y="288"/>
                </a:lnTo>
                <a:lnTo>
                  <a:pt x="284" y="289"/>
                </a:lnTo>
                <a:lnTo>
                  <a:pt x="286" y="295"/>
                </a:lnTo>
                <a:lnTo>
                  <a:pt x="286" y="304"/>
                </a:lnTo>
                <a:lnTo>
                  <a:pt x="284" y="317"/>
                </a:lnTo>
                <a:lnTo>
                  <a:pt x="286" y="320"/>
                </a:lnTo>
                <a:lnTo>
                  <a:pt x="288" y="319"/>
                </a:lnTo>
                <a:lnTo>
                  <a:pt x="296" y="311"/>
                </a:lnTo>
                <a:lnTo>
                  <a:pt x="301" y="308"/>
                </a:lnTo>
                <a:lnTo>
                  <a:pt x="305" y="311"/>
                </a:lnTo>
                <a:lnTo>
                  <a:pt x="307" y="316"/>
                </a:lnTo>
                <a:lnTo>
                  <a:pt x="307" y="319"/>
                </a:lnTo>
                <a:lnTo>
                  <a:pt x="305" y="324"/>
                </a:lnTo>
                <a:lnTo>
                  <a:pt x="305" y="330"/>
                </a:lnTo>
                <a:lnTo>
                  <a:pt x="306" y="332"/>
                </a:lnTo>
                <a:lnTo>
                  <a:pt x="307" y="334"/>
                </a:lnTo>
                <a:lnTo>
                  <a:pt x="308" y="334"/>
                </a:lnTo>
                <a:lnTo>
                  <a:pt x="310" y="332"/>
                </a:lnTo>
                <a:lnTo>
                  <a:pt x="313" y="332"/>
                </a:lnTo>
                <a:lnTo>
                  <a:pt x="317" y="336"/>
                </a:lnTo>
                <a:lnTo>
                  <a:pt x="318" y="343"/>
                </a:lnTo>
                <a:lnTo>
                  <a:pt x="313" y="355"/>
                </a:lnTo>
                <a:lnTo>
                  <a:pt x="313" y="362"/>
                </a:lnTo>
                <a:lnTo>
                  <a:pt x="317" y="366"/>
                </a:lnTo>
                <a:lnTo>
                  <a:pt x="324" y="368"/>
                </a:lnTo>
                <a:lnTo>
                  <a:pt x="338" y="368"/>
                </a:lnTo>
                <a:lnTo>
                  <a:pt x="343" y="370"/>
                </a:lnTo>
                <a:lnTo>
                  <a:pt x="347" y="372"/>
                </a:lnTo>
                <a:lnTo>
                  <a:pt x="352" y="377"/>
                </a:lnTo>
                <a:lnTo>
                  <a:pt x="354" y="382"/>
                </a:lnTo>
                <a:lnTo>
                  <a:pt x="355" y="386"/>
                </a:lnTo>
                <a:lnTo>
                  <a:pt x="355" y="392"/>
                </a:lnTo>
                <a:lnTo>
                  <a:pt x="354" y="394"/>
                </a:lnTo>
                <a:lnTo>
                  <a:pt x="353" y="396"/>
                </a:lnTo>
                <a:lnTo>
                  <a:pt x="350" y="397"/>
                </a:lnTo>
                <a:lnTo>
                  <a:pt x="349" y="398"/>
                </a:lnTo>
                <a:lnTo>
                  <a:pt x="347" y="400"/>
                </a:lnTo>
                <a:lnTo>
                  <a:pt x="344" y="404"/>
                </a:lnTo>
                <a:lnTo>
                  <a:pt x="344" y="406"/>
                </a:lnTo>
                <a:lnTo>
                  <a:pt x="349" y="410"/>
                </a:lnTo>
                <a:lnTo>
                  <a:pt x="352" y="412"/>
                </a:lnTo>
                <a:lnTo>
                  <a:pt x="354" y="416"/>
                </a:lnTo>
                <a:lnTo>
                  <a:pt x="354" y="420"/>
                </a:lnTo>
                <a:lnTo>
                  <a:pt x="353" y="421"/>
                </a:lnTo>
                <a:lnTo>
                  <a:pt x="353" y="422"/>
                </a:lnTo>
                <a:lnTo>
                  <a:pt x="350" y="427"/>
                </a:lnTo>
                <a:lnTo>
                  <a:pt x="352" y="430"/>
                </a:lnTo>
                <a:lnTo>
                  <a:pt x="355" y="430"/>
                </a:lnTo>
                <a:lnTo>
                  <a:pt x="367" y="422"/>
                </a:lnTo>
                <a:lnTo>
                  <a:pt x="371" y="420"/>
                </a:lnTo>
                <a:lnTo>
                  <a:pt x="371" y="416"/>
                </a:lnTo>
                <a:lnTo>
                  <a:pt x="370" y="409"/>
                </a:lnTo>
                <a:lnTo>
                  <a:pt x="365" y="395"/>
                </a:lnTo>
                <a:lnTo>
                  <a:pt x="364" y="390"/>
                </a:lnTo>
                <a:lnTo>
                  <a:pt x="366" y="386"/>
                </a:lnTo>
                <a:lnTo>
                  <a:pt x="371" y="384"/>
                </a:lnTo>
                <a:lnTo>
                  <a:pt x="378" y="383"/>
                </a:lnTo>
                <a:lnTo>
                  <a:pt x="385" y="383"/>
                </a:lnTo>
                <a:lnTo>
                  <a:pt x="389" y="384"/>
                </a:lnTo>
                <a:lnTo>
                  <a:pt x="391" y="385"/>
                </a:lnTo>
                <a:lnTo>
                  <a:pt x="394" y="390"/>
                </a:lnTo>
                <a:lnTo>
                  <a:pt x="394" y="398"/>
                </a:lnTo>
                <a:lnTo>
                  <a:pt x="392" y="406"/>
                </a:lnTo>
                <a:lnTo>
                  <a:pt x="388" y="415"/>
                </a:lnTo>
                <a:lnTo>
                  <a:pt x="384" y="427"/>
                </a:lnTo>
                <a:lnTo>
                  <a:pt x="379" y="437"/>
                </a:lnTo>
                <a:lnTo>
                  <a:pt x="378" y="445"/>
                </a:lnTo>
                <a:lnTo>
                  <a:pt x="378" y="449"/>
                </a:lnTo>
                <a:lnTo>
                  <a:pt x="377" y="451"/>
                </a:lnTo>
                <a:lnTo>
                  <a:pt x="371" y="457"/>
                </a:lnTo>
                <a:lnTo>
                  <a:pt x="366" y="460"/>
                </a:lnTo>
                <a:lnTo>
                  <a:pt x="365" y="461"/>
                </a:lnTo>
                <a:lnTo>
                  <a:pt x="361" y="466"/>
                </a:lnTo>
                <a:lnTo>
                  <a:pt x="358" y="474"/>
                </a:lnTo>
                <a:lnTo>
                  <a:pt x="353" y="485"/>
                </a:lnTo>
                <a:lnTo>
                  <a:pt x="349" y="496"/>
                </a:lnTo>
                <a:lnTo>
                  <a:pt x="347" y="505"/>
                </a:lnTo>
                <a:lnTo>
                  <a:pt x="347" y="510"/>
                </a:lnTo>
                <a:lnTo>
                  <a:pt x="348" y="518"/>
                </a:lnTo>
                <a:lnTo>
                  <a:pt x="343" y="530"/>
                </a:lnTo>
                <a:lnTo>
                  <a:pt x="343" y="534"/>
                </a:lnTo>
                <a:lnTo>
                  <a:pt x="348" y="535"/>
                </a:lnTo>
                <a:lnTo>
                  <a:pt x="354" y="536"/>
                </a:lnTo>
                <a:lnTo>
                  <a:pt x="360" y="536"/>
                </a:lnTo>
                <a:lnTo>
                  <a:pt x="366" y="538"/>
                </a:lnTo>
                <a:lnTo>
                  <a:pt x="368" y="539"/>
                </a:lnTo>
                <a:lnTo>
                  <a:pt x="370" y="540"/>
                </a:lnTo>
                <a:lnTo>
                  <a:pt x="370" y="542"/>
                </a:lnTo>
                <a:lnTo>
                  <a:pt x="368" y="544"/>
                </a:lnTo>
                <a:lnTo>
                  <a:pt x="368" y="548"/>
                </a:lnTo>
                <a:lnTo>
                  <a:pt x="370" y="551"/>
                </a:lnTo>
                <a:lnTo>
                  <a:pt x="371" y="552"/>
                </a:lnTo>
                <a:lnTo>
                  <a:pt x="373" y="553"/>
                </a:lnTo>
                <a:lnTo>
                  <a:pt x="376" y="556"/>
                </a:lnTo>
                <a:lnTo>
                  <a:pt x="377" y="558"/>
                </a:lnTo>
                <a:lnTo>
                  <a:pt x="377" y="563"/>
                </a:lnTo>
                <a:lnTo>
                  <a:pt x="378" y="568"/>
                </a:lnTo>
                <a:lnTo>
                  <a:pt x="382" y="572"/>
                </a:lnTo>
                <a:lnTo>
                  <a:pt x="388" y="577"/>
                </a:lnTo>
                <a:lnTo>
                  <a:pt x="392" y="583"/>
                </a:lnTo>
                <a:lnTo>
                  <a:pt x="394" y="586"/>
                </a:lnTo>
                <a:lnTo>
                  <a:pt x="394" y="592"/>
                </a:lnTo>
                <a:lnTo>
                  <a:pt x="392" y="592"/>
                </a:lnTo>
                <a:lnTo>
                  <a:pt x="390" y="594"/>
                </a:lnTo>
                <a:lnTo>
                  <a:pt x="390" y="596"/>
                </a:lnTo>
                <a:lnTo>
                  <a:pt x="389" y="599"/>
                </a:lnTo>
                <a:lnTo>
                  <a:pt x="390" y="601"/>
                </a:lnTo>
                <a:lnTo>
                  <a:pt x="394" y="612"/>
                </a:lnTo>
                <a:lnTo>
                  <a:pt x="396" y="623"/>
                </a:lnTo>
                <a:lnTo>
                  <a:pt x="396" y="636"/>
                </a:lnTo>
                <a:lnTo>
                  <a:pt x="397" y="644"/>
                </a:lnTo>
                <a:lnTo>
                  <a:pt x="401" y="650"/>
                </a:lnTo>
                <a:lnTo>
                  <a:pt x="415" y="660"/>
                </a:lnTo>
                <a:lnTo>
                  <a:pt x="418" y="661"/>
                </a:lnTo>
                <a:lnTo>
                  <a:pt x="421" y="661"/>
                </a:lnTo>
                <a:lnTo>
                  <a:pt x="422" y="660"/>
                </a:lnTo>
                <a:lnTo>
                  <a:pt x="424" y="660"/>
                </a:lnTo>
                <a:lnTo>
                  <a:pt x="426" y="658"/>
                </a:lnTo>
                <a:lnTo>
                  <a:pt x="427" y="658"/>
                </a:lnTo>
                <a:lnTo>
                  <a:pt x="430" y="659"/>
                </a:lnTo>
                <a:lnTo>
                  <a:pt x="433" y="660"/>
                </a:lnTo>
                <a:lnTo>
                  <a:pt x="443" y="666"/>
                </a:lnTo>
                <a:lnTo>
                  <a:pt x="456" y="671"/>
                </a:lnTo>
                <a:lnTo>
                  <a:pt x="449" y="684"/>
                </a:lnTo>
                <a:lnTo>
                  <a:pt x="444" y="695"/>
                </a:lnTo>
                <a:lnTo>
                  <a:pt x="440" y="703"/>
                </a:lnTo>
                <a:lnTo>
                  <a:pt x="438" y="707"/>
                </a:lnTo>
                <a:lnTo>
                  <a:pt x="436" y="708"/>
                </a:lnTo>
                <a:lnTo>
                  <a:pt x="430" y="707"/>
                </a:lnTo>
                <a:lnTo>
                  <a:pt x="424" y="708"/>
                </a:lnTo>
                <a:lnTo>
                  <a:pt x="416" y="712"/>
                </a:lnTo>
                <a:lnTo>
                  <a:pt x="410" y="720"/>
                </a:lnTo>
                <a:lnTo>
                  <a:pt x="403" y="731"/>
                </a:lnTo>
                <a:lnTo>
                  <a:pt x="386" y="755"/>
                </a:lnTo>
                <a:lnTo>
                  <a:pt x="378" y="766"/>
                </a:lnTo>
                <a:lnTo>
                  <a:pt x="377" y="767"/>
                </a:lnTo>
                <a:lnTo>
                  <a:pt x="376" y="769"/>
                </a:lnTo>
                <a:lnTo>
                  <a:pt x="373" y="772"/>
                </a:lnTo>
                <a:lnTo>
                  <a:pt x="372" y="775"/>
                </a:lnTo>
                <a:lnTo>
                  <a:pt x="367" y="770"/>
                </a:lnTo>
                <a:lnTo>
                  <a:pt x="362" y="767"/>
                </a:lnTo>
                <a:lnTo>
                  <a:pt x="359" y="762"/>
                </a:lnTo>
                <a:lnTo>
                  <a:pt x="356" y="758"/>
                </a:lnTo>
                <a:lnTo>
                  <a:pt x="350" y="751"/>
                </a:lnTo>
                <a:lnTo>
                  <a:pt x="343" y="745"/>
                </a:lnTo>
                <a:lnTo>
                  <a:pt x="335" y="742"/>
                </a:lnTo>
                <a:lnTo>
                  <a:pt x="326" y="743"/>
                </a:lnTo>
                <a:lnTo>
                  <a:pt x="320" y="745"/>
                </a:lnTo>
                <a:lnTo>
                  <a:pt x="311" y="752"/>
                </a:lnTo>
                <a:lnTo>
                  <a:pt x="306" y="754"/>
                </a:lnTo>
                <a:lnTo>
                  <a:pt x="304" y="754"/>
                </a:lnTo>
                <a:lnTo>
                  <a:pt x="301" y="756"/>
                </a:lnTo>
                <a:lnTo>
                  <a:pt x="301" y="757"/>
                </a:lnTo>
                <a:lnTo>
                  <a:pt x="298" y="761"/>
                </a:lnTo>
                <a:lnTo>
                  <a:pt x="293" y="758"/>
                </a:lnTo>
                <a:lnTo>
                  <a:pt x="289" y="757"/>
                </a:lnTo>
                <a:lnTo>
                  <a:pt x="287" y="756"/>
                </a:lnTo>
                <a:lnTo>
                  <a:pt x="284" y="757"/>
                </a:lnTo>
                <a:lnTo>
                  <a:pt x="283" y="757"/>
                </a:lnTo>
                <a:lnTo>
                  <a:pt x="282" y="758"/>
                </a:lnTo>
                <a:lnTo>
                  <a:pt x="280" y="760"/>
                </a:lnTo>
                <a:lnTo>
                  <a:pt x="278" y="761"/>
                </a:lnTo>
                <a:lnTo>
                  <a:pt x="272" y="761"/>
                </a:lnTo>
                <a:lnTo>
                  <a:pt x="271" y="762"/>
                </a:lnTo>
                <a:lnTo>
                  <a:pt x="270" y="764"/>
                </a:lnTo>
                <a:lnTo>
                  <a:pt x="269" y="766"/>
                </a:lnTo>
                <a:lnTo>
                  <a:pt x="265" y="766"/>
                </a:lnTo>
                <a:lnTo>
                  <a:pt x="262" y="764"/>
                </a:lnTo>
                <a:lnTo>
                  <a:pt x="246" y="764"/>
                </a:lnTo>
                <a:lnTo>
                  <a:pt x="245" y="761"/>
                </a:lnTo>
                <a:lnTo>
                  <a:pt x="246" y="757"/>
                </a:lnTo>
                <a:lnTo>
                  <a:pt x="246" y="754"/>
                </a:lnTo>
                <a:lnTo>
                  <a:pt x="247" y="750"/>
                </a:lnTo>
                <a:lnTo>
                  <a:pt x="247" y="748"/>
                </a:lnTo>
                <a:lnTo>
                  <a:pt x="246" y="745"/>
                </a:lnTo>
                <a:lnTo>
                  <a:pt x="245" y="744"/>
                </a:lnTo>
                <a:lnTo>
                  <a:pt x="220" y="744"/>
                </a:lnTo>
                <a:lnTo>
                  <a:pt x="215" y="742"/>
                </a:lnTo>
                <a:lnTo>
                  <a:pt x="210" y="734"/>
                </a:lnTo>
                <a:lnTo>
                  <a:pt x="206" y="734"/>
                </a:lnTo>
                <a:lnTo>
                  <a:pt x="197" y="737"/>
                </a:lnTo>
                <a:lnTo>
                  <a:pt x="194" y="737"/>
                </a:lnTo>
                <a:lnTo>
                  <a:pt x="193" y="733"/>
                </a:lnTo>
                <a:lnTo>
                  <a:pt x="202" y="716"/>
                </a:lnTo>
                <a:lnTo>
                  <a:pt x="209" y="706"/>
                </a:lnTo>
                <a:lnTo>
                  <a:pt x="215" y="696"/>
                </a:lnTo>
                <a:lnTo>
                  <a:pt x="220" y="688"/>
                </a:lnTo>
                <a:lnTo>
                  <a:pt x="221" y="683"/>
                </a:lnTo>
                <a:lnTo>
                  <a:pt x="218" y="682"/>
                </a:lnTo>
                <a:lnTo>
                  <a:pt x="214" y="684"/>
                </a:lnTo>
                <a:lnTo>
                  <a:pt x="209" y="689"/>
                </a:lnTo>
                <a:lnTo>
                  <a:pt x="204" y="692"/>
                </a:lnTo>
                <a:lnTo>
                  <a:pt x="199" y="694"/>
                </a:lnTo>
                <a:lnTo>
                  <a:pt x="197" y="695"/>
                </a:lnTo>
                <a:lnTo>
                  <a:pt x="193" y="696"/>
                </a:lnTo>
                <a:lnTo>
                  <a:pt x="191" y="698"/>
                </a:lnTo>
                <a:lnTo>
                  <a:pt x="188" y="702"/>
                </a:lnTo>
                <a:lnTo>
                  <a:pt x="187" y="704"/>
                </a:lnTo>
                <a:lnTo>
                  <a:pt x="185" y="707"/>
                </a:lnTo>
                <a:lnTo>
                  <a:pt x="184" y="709"/>
                </a:lnTo>
                <a:lnTo>
                  <a:pt x="179" y="709"/>
                </a:lnTo>
                <a:lnTo>
                  <a:pt x="178" y="710"/>
                </a:lnTo>
                <a:lnTo>
                  <a:pt x="175" y="712"/>
                </a:lnTo>
                <a:lnTo>
                  <a:pt x="172" y="715"/>
                </a:lnTo>
                <a:lnTo>
                  <a:pt x="169" y="716"/>
                </a:lnTo>
                <a:lnTo>
                  <a:pt x="162" y="716"/>
                </a:lnTo>
                <a:lnTo>
                  <a:pt x="161" y="718"/>
                </a:lnTo>
                <a:lnTo>
                  <a:pt x="160" y="720"/>
                </a:lnTo>
                <a:lnTo>
                  <a:pt x="158" y="721"/>
                </a:lnTo>
                <a:lnTo>
                  <a:pt x="157" y="724"/>
                </a:lnTo>
                <a:lnTo>
                  <a:pt x="157" y="726"/>
                </a:lnTo>
                <a:lnTo>
                  <a:pt x="156" y="727"/>
                </a:lnTo>
                <a:lnTo>
                  <a:pt x="149" y="727"/>
                </a:lnTo>
                <a:lnTo>
                  <a:pt x="146" y="726"/>
                </a:lnTo>
                <a:lnTo>
                  <a:pt x="143" y="726"/>
                </a:lnTo>
                <a:lnTo>
                  <a:pt x="142" y="727"/>
                </a:lnTo>
                <a:lnTo>
                  <a:pt x="142" y="730"/>
                </a:lnTo>
                <a:lnTo>
                  <a:pt x="143" y="733"/>
                </a:lnTo>
                <a:lnTo>
                  <a:pt x="152" y="743"/>
                </a:lnTo>
                <a:lnTo>
                  <a:pt x="154" y="746"/>
                </a:lnTo>
                <a:lnTo>
                  <a:pt x="150" y="749"/>
                </a:lnTo>
                <a:lnTo>
                  <a:pt x="143" y="750"/>
                </a:lnTo>
                <a:lnTo>
                  <a:pt x="133" y="745"/>
                </a:lnTo>
                <a:lnTo>
                  <a:pt x="127" y="745"/>
                </a:lnTo>
                <a:lnTo>
                  <a:pt x="122" y="748"/>
                </a:lnTo>
                <a:lnTo>
                  <a:pt x="121" y="750"/>
                </a:lnTo>
                <a:lnTo>
                  <a:pt x="121" y="751"/>
                </a:lnTo>
                <a:lnTo>
                  <a:pt x="120" y="754"/>
                </a:lnTo>
                <a:lnTo>
                  <a:pt x="120" y="755"/>
                </a:lnTo>
                <a:lnTo>
                  <a:pt x="119" y="756"/>
                </a:lnTo>
                <a:lnTo>
                  <a:pt x="116" y="756"/>
                </a:lnTo>
                <a:lnTo>
                  <a:pt x="113" y="755"/>
                </a:lnTo>
                <a:lnTo>
                  <a:pt x="110" y="754"/>
                </a:lnTo>
                <a:lnTo>
                  <a:pt x="106" y="744"/>
                </a:lnTo>
                <a:lnTo>
                  <a:pt x="106" y="743"/>
                </a:lnTo>
                <a:lnTo>
                  <a:pt x="104" y="742"/>
                </a:lnTo>
                <a:lnTo>
                  <a:pt x="102" y="740"/>
                </a:lnTo>
                <a:lnTo>
                  <a:pt x="98" y="739"/>
                </a:lnTo>
                <a:lnTo>
                  <a:pt x="100" y="734"/>
                </a:lnTo>
                <a:lnTo>
                  <a:pt x="100" y="731"/>
                </a:lnTo>
                <a:lnTo>
                  <a:pt x="101" y="727"/>
                </a:lnTo>
                <a:lnTo>
                  <a:pt x="101" y="724"/>
                </a:lnTo>
                <a:lnTo>
                  <a:pt x="103" y="716"/>
                </a:lnTo>
                <a:lnTo>
                  <a:pt x="107" y="707"/>
                </a:lnTo>
                <a:lnTo>
                  <a:pt x="112" y="694"/>
                </a:lnTo>
                <a:lnTo>
                  <a:pt x="118" y="679"/>
                </a:lnTo>
                <a:lnTo>
                  <a:pt x="122" y="666"/>
                </a:lnTo>
                <a:lnTo>
                  <a:pt x="126" y="654"/>
                </a:lnTo>
                <a:lnTo>
                  <a:pt x="127" y="647"/>
                </a:lnTo>
                <a:lnTo>
                  <a:pt x="126" y="638"/>
                </a:lnTo>
                <a:lnTo>
                  <a:pt x="125" y="626"/>
                </a:lnTo>
                <a:lnTo>
                  <a:pt x="120" y="610"/>
                </a:lnTo>
                <a:lnTo>
                  <a:pt x="114" y="592"/>
                </a:lnTo>
                <a:lnTo>
                  <a:pt x="106" y="570"/>
                </a:lnTo>
                <a:lnTo>
                  <a:pt x="95" y="550"/>
                </a:lnTo>
                <a:lnTo>
                  <a:pt x="82" y="528"/>
                </a:lnTo>
                <a:lnTo>
                  <a:pt x="66" y="509"/>
                </a:lnTo>
                <a:lnTo>
                  <a:pt x="49" y="497"/>
                </a:lnTo>
                <a:lnTo>
                  <a:pt x="34" y="490"/>
                </a:lnTo>
                <a:lnTo>
                  <a:pt x="17" y="486"/>
                </a:lnTo>
                <a:lnTo>
                  <a:pt x="16" y="484"/>
                </a:lnTo>
                <a:lnTo>
                  <a:pt x="16" y="476"/>
                </a:lnTo>
                <a:lnTo>
                  <a:pt x="20" y="472"/>
                </a:lnTo>
                <a:lnTo>
                  <a:pt x="31" y="466"/>
                </a:lnTo>
                <a:lnTo>
                  <a:pt x="42" y="458"/>
                </a:lnTo>
                <a:lnTo>
                  <a:pt x="50" y="451"/>
                </a:lnTo>
                <a:lnTo>
                  <a:pt x="54" y="443"/>
                </a:lnTo>
                <a:lnTo>
                  <a:pt x="54" y="438"/>
                </a:lnTo>
                <a:lnTo>
                  <a:pt x="55" y="434"/>
                </a:lnTo>
                <a:lnTo>
                  <a:pt x="56" y="432"/>
                </a:lnTo>
                <a:lnTo>
                  <a:pt x="64" y="425"/>
                </a:lnTo>
                <a:lnTo>
                  <a:pt x="67" y="418"/>
                </a:lnTo>
                <a:lnTo>
                  <a:pt x="70" y="408"/>
                </a:lnTo>
                <a:lnTo>
                  <a:pt x="71" y="396"/>
                </a:lnTo>
                <a:lnTo>
                  <a:pt x="70" y="384"/>
                </a:lnTo>
                <a:lnTo>
                  <a:pt x="64" y="370"/>
                </a:lnTo>
                <a:lnTo>
                  <a:pt x="54" y="359"/>
                </a:lnTo>
                <a:lnTo>
                  <a:pt x="43" y="349"/>
                </a:lnTo>
                <a:lnTo>
                  <a:pt x="36" y="343"/>
                </a:lnTo>
                <a:lnTo>
                  <a:pt x="30" y="340"/>
                </a:lnTo>
                <a:lnTo>
                  <a:pt x="26" y="335"/>
                </a:lnTo>
                <a:lnTo>
                  <a:pt x="23" y="329"/>
                </a:lnTo>
                <a:lnTo>
                  <a:pt x="23" y="324"/>
                </a:lnTo>
                <a:lnTo>
                  <a:pt x="24" y="324"/>
                </a:lnTo>
                <a:lnTo>
                  <a:pt x="25" y="323"/>
                </a:lnTo>
                <a:lnTo>
                  <a:pt x="30" y="323"/>
                </a:lnTo>
                <a:lnTo>
                  <a:pt x="32" y="322"/>
                </a:lnTo>
                <a:lnTo>
                  <a:pt x="34" y="322"/>
                </a:lnTo>
                <a:lnTo>
                  <a:pt x="35" y="319"/>
                </a:lnTo>
                <a:lnTo>
                  <a:pt x="35" y="318"/>
                </a:lnTo>
                <a:lnTo>
                  <a:pt x="34" y="314"/>
                </a:lnTo>
                <a:lnTo>
                  <a:pt x="30" y="308"/>
                </a:lnTo>
                <a:lnTo>
                  <a:pt x="23" y="301"/>
                </a:lnTo>
                <a:lnTo>
                  <a:pt x="20" y="298"/>
                </a:lnTo>
                <a:lnTo>
                  <a:pt x="19" y="290"/>
                </a:lnTo>
                <a:lnTo>
                  <a:pt x="19" y="287"/>
                </a:lnTo>
                <a:lnTo>
                  <a:pt x="18" y="286"/>
                </a:lnTo>
                <a:lnTo>
                  <a:pt x="18" y="284"/>
                </a:lnTo>
                <a:lnTo>
                  <a:pt x="11" y="284"/>
                </a:lnTo>
                <a:lnTo>
                  <a:pt x="11" y="283"/>
                </a:lnTo>
                <a:lnTo>
                  <a:pt x="10" y="282"/>
                </a:lnTo>
                <a:lnTo>
                  <a:pt x="10" y="278"/>
                </a:lnTo>
                <a:lnTo>
                  <a:pt x="8" y="270"/>
                </a:lnTo>
                <a:lnTo>
                  <a:pt x="7" y="264"/>
                </a:lnTo>
                <a:lnTo>
                  <a:pt x="6" y="259"/>
                </a:lnTo>
                <a:lnTo>
                  <a:pt x="8" y="247"/>
                </a:lnTo>
                <a:lnTo>
                  <a:pt x="6" y="242"/>
                </a:lnTo>
                <a:lnTo>
                  <a:pt x="0" y="236"/>
                </a:lnTo>
                <a:lnTo>
                  <a:pt x="1" y="233"/>
                </a:lnTo>
                <a:lnTo>
                  <a:pt x="4" y="232"/>
                </a:lnTo>
                <a:lnTo>
                  <a:pt x="5" y="232"/>
                </a:lnTo>
                <a:lnTo>
                  <a:pt x="7" y="233"/>
                </a:lnTo>
                <a:lnTo>
                  <a:pt x="8" y="233"/>
                </a:lnTo>
                <a:lnTo>
                  <a:pt x="10" y="234"/>
                </a:lnTo>
                <a:lnTo>
                  <a:pt x="13" y="234"/>
                </a:lnTo>
                <a:lnTo>
                  <a:pt x="13" y="233"/>
                </a:lnTo>
                <a:lnTo>
                  <a:pt x="14" y="230"/>
                </a:lnTo>
                <a:lnTo>
                  <a:pt x="14" y="227"/>
                </a:lnTo>
                <a:lnTo>
                  <a:pt x="13" y="217"/>
                </a:lnTo>
                <a:lnTo>
                  <a:pt x="12" y="212"/>
                </a:lnTo>
                <a:lnTo>
                  <a:pt x="12" y="209"/>
                </a:lnTo>
                <a:lnTo>
                  <a:pt x="16" y="204"/>
                </a:lnTo>
                <a:lnTo>
                  <a:pt x="20" y="202"/>
                </a:lnTo>
                <a:lnTo>
                  <a:pt x="34" y="202"/>
                </a:lnTo>
                <a:lnTo>
                  <a:pt x="37" y="199"/>
                </a:lnTo>
                <a:lnTo>
                  <a:pt x="37" y="194"/>
                </a:lnTo>
                <a:lnTo>
                  <a:pt x="36" y="188"/>
                </a:lnTo>
                <a:lnTo>
                  <a:pt x="34" y="184"/>
                </a:lnTo>
                <a:lnTo>
                  <a:pt x="31" y="180"/>
                </a:lnTo>
                <a:lnTo>
                  <a:pt x="30" y="176"/>
                </a:lnTo>
                <a:lnTo>
                  <a:pt x="31" y="173"/>
                </a:lnTo>
                <a:lnTo>
                  <a:pt x="36" y="167"/>
                </a:lnTo>
                <a:lnTo>
                  <a:pt x="46" y="157"/>
                </a:lnTo>
                <a:lnTo>
                  <a:pt x="48" y="156"/>
                </a:lnTo>
                <a:lnTo>
                  <a:pt x="52" y="154"/>
                </a:lnTo>
                <a:lnTo>
                  <a:pt x="58" y="151"/>
                </a:lnTo>
                <a:lnTo>
                  <a:pt x="64" y="146"/>
                </a:lnTo>
                <a:lnTo>
                  <a:pt x="66" y="142"/>
                </a:lnTo>
                <a:lnTo>
                  <a:pt x="67" y="136"/>
                </a:lnTo>
                <a:lnTo>
                  <a:pt x="70" y="131"/>
                </a:lnTo>
                <a:lnTo>
                  <a:pt x="73" y="126"/>
                </a:lnTo>
                <a:lnTo>
                  <a:pt x="85" y="120"/>
                </a:lnTo>
                <a:lnTo>
                  <a:pt x="101" y="115"/>
                </a:lnTo>
                <a:lnTo>
                  <a:pt x="118" y="114"/>
                </a:lnTo>
                <a:lnTo>
                  <a:pt x="127" y="115"/>
                </a:lnTo>
                <a:lnTo>
                  <a:pt x="132" y="118"/>
                </a:lnTo>
                <a:lnTo>
                  <a:pt x="136" y="119"/>
                </a:lnTo>
                <a:lnTo>
                  <a:pt x="139" y="118"/>
                </a:lnTo>
                <a:lnTo>
                  <a:pt x="143" y="113"/>
                </a:lnTo>
                <a:lnTo>
                  <a:pt x="149" y="103"/>
                </a:lnTo>
                <a:lnTo>
                  <a:pt x="152" y="97"/>
                </a:lnTo>
                <a:lnTo>
                  <a:pt x="156" y="94"/>
                </a:lnTo>
                <a:lnTo>
                  <a:pt x="157" y="94"/>
                </a:lnTo>
                <a:lnTo>
                  <a:pt x="158" y="95"/>
                </a:lnTo>
                <a:lnTo>
                  <a:pt x="160" y="97"/>
                </a:lnTo>
                <a:lnTo>
                  <a:pt x="161" y="98"/>
                </a:lnTo>
                <a:lnTo>
                  <a:pt x="162" y="101"/>
                </a:lnTo>
                <a:lnTo>
                  <a:pt x="163" y="102"/>
                </a:lnTo>
                <a:lnTo>
                  <a:pt x="166" y="103"/>
                </a:lnTo>
                <a:lnTo>
                  <a:pt x="167" y="103"/>
                </a:lnTo>
                <a:lnTo>
                  <a:pt x="169" y="102"/>
                </a:lnTo>
                <a:lnTo>
                  <a:pt x="170" y="100"/>
                </a:lnTo>
                <a:lnTo>
                  <a:pt x="174" y="91"/>
                </a:lnTo>
                <a:lnTo>
                  <a:pt x="176" y="84"/>
                </a:lnTo>
                <a:lnTo>
                  <a:pt x="180" y="78"/>
                </a:lnTo>
                <a:lnTo>
                  <a:pt x="185" y="74"/>
                </a:lnTo>
                <a:lnTo>
                  <a:pt x="191" y="73"/>
                </a:lnTo>
                <a:lnTo>
                  <a:pt x="198" y="74"/>
                </a:lnTo>
                <a:lnTo>
                  <a:pt x="209" y="74"/>
                </a:lnTo>
                <a:lnTo>
                  <a:pt x="210" y="71"/>
                </a:lnTo>
                <a:lnTo>
                  <a:pt x="208" y="64"/>
                </a:lnTo>
                <a:lnTo>
                  <a:pt x="202" y="55"/>
                </a:lnTo>
                <a:lnTo>
                  <a:pt x="197" y="46"/>
                </a:lnTo>
                <a:lnTo>
                  <a:pt x="193" y="37"/>
                </a:lnTo>
                <a:lnTo>
                  <a:pt x="193" y="31"/>
                </a:lnTo>
                <a:lnTo>
                  <a:pt x="196" y="29"/>
                </a:lnTo>
                <a:lnTo>
                  <a:pt x="197" y="26"/>
                </a:lnTo>
                <a:lnTo>
                  <a:pt x="199" y="24"/>
                </a:lnTo>
                <a:lnTo>
                  <a:pt x="199" y="14"/>
                </a:lnTo>
                <a:lnTo>
                  <a:pt x="197" y="7"/>
                </a:lnTo>
                <a:lnTo>
                  <a:pt x="194" y="2"/>
                </a:lnTo>
                <a:lnTo>
                  <a:pt x="194" y="1"/>
                </a:lnTo>
                <a:lnTo>
                  <a:pt x="196" y="0"/>
                </a:lnTo>
                <a:close/>
              </a:path>
            </a:pathLst>
          </a:custGeom>
          <a:gradFill rotWithShape="0">
            <a:gsLst>
              <a:gs pos="0">
                <a:srgbClr val="a00000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adad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2909"/>
          <p:cNvSpPr/>
          <p:nvPr/>
        </p:nvSpPr>
        <p:spPr>
          <a:xfrm>
            <a:off x="7072200" y="2455920"/>
            <a:ext cx="714600" cy="753840"/>
          </a:xfrm>
          <a:custGeom>
            <a:avLst/>
            <a:gdLst>
              <a:gd name="textAreaLeft" fmla="*/ 0 w 714600"/>
              <a:gd name="textAreaRight" fmla="*/ 714960 w 714600"/>
              <a:gd name="textAreaTop" fmla="*/ 0 h 753840"/>
              <a:gd name="textAreaBottom" fmla="*/ 754200 h 753840"/>
            </a:gdLst>
            <a:ahLst/>
            <a:rect l="textAreaLeft" t="textAreaTop" r="textAreaRight" b="textAreaBottom"/>
            <a:pathLst>
              <a:path w="521" h="550">
                <a:moveTo>
                  <a:pt x="355" y="0"/>
                </a:moveTo>
                <a:lnTo>
                  <a:pt x="363" y="4"/>
                </a:lnTo>
                <a:lnTo>
                  <a:pt x="374" y="6"/>
                </a:lnTo>
                <a:lnTo>
                  <a:pt x="384" y="9"/>
                </a:lnTo>
                <a:lnTo>
                  <a:pt x="390" y="13"/>
                </a:lnTo>
                <a:lnTo>
                  <a:pt x="391" y="16"/>
                </a:lnTo>
                <a:lnTo>
                  <a:pt x="391" y="19"/>
                </a:lnTo>
                <a:lnTo>
                  <a:pt x="390" y="21"/>
                </a:lnTo>
                <a:lnTo>
                  <a:pt x="389" y="21"/>
                </a:lnTo>
                <a:lnTo>
                  <a:pt x="387" y="22"/>
                </a:lnTo>
                <a:lnTo>
                  <a:pt x="385" y="23"/>
                </a:lnTo>
                <a:lnTo>
                  <a:pt x="381" y="30"/>
                </a:lnTo>
                <a:lnTo>
                  <a:pt x="383" y="31"/>
                </a:lnTo>
                <a:lnTo>
                  <a:pt x="384" y="31"/>
                </a:lnTo>
                <a:lnTo>
                  <a:pt x="385" y="30"/>
                </a:lnTo>
                <a:lnTo>
                  <a:pt x="389" y="30"/>
                </a:lnTo>
                <a:lnTo>
                  <a:pt x="390" y="31"/>
                </a:lnTo>
                <a:lnTo>
                  <a:pt x="392" y="36"/>
                </a:lnTo>
                <a:lnTo>
                  <a:pt x="395" y="43"/>
                </a:lnTo>
                <a:lnTo>
                  <a:pt x="399" y="51"/>
                </a:lnTo>
                <a:lnTo>
                  <a:pt x="404" y="60"/>
                </a:lnTo>
                <a:lnTo>
                  <a:pt x="409" y="60"/>
                </a:lnTo>
                <a:lnTo>
                  <a:pt x="414" y="59"/>
                </a:lnTo>
                <a:lnTo>
                  <a:pt x="421" y="60"/>
                </a:lnTo>
                <a:lnTo>
                  <a:pt x="425" y="63"/>
                </a:lnTo>
                <a:lnTo>
                  <a:pt x="426" y="64"/>
                </a:lnTo>
                <a:lnTo>
                  <a:pt x="427" y="66"/>
                </a:lnTo>
                <a:lnTo>
                  <a:pt x="427" y="73"/>
                </a:lnTo>
                <a:lnTo>
                  <a:pt x="428" y="76"/>
                </a:lnTo>
                <a:lnTo>
                  <a:pt x="429" y="77"/>
                </a:lnTo>
                <a:lnTo>
                  <a:pt x="432" y="78"/>
                </a:lnTo>
                <a:lnTo>
                  <a:pt x="438" y="78"/>
                </a:lnTo>
                <a:lnTo>
                  <a:pt x="438" y="89"/>
                </a:lnTo>
                <a:lnTo>
                  <a:pt x="440" y="91"/>
                </a:lnTo>
                <a:lnTo>
                  <a:pt x="445" y="91"/>
                </a:lnTo>
                <a:lnTo>
                  <a:pt x="447" y="93"/>
                </a:lnTo>
                <a:lnTo>
                  <a:pt x="450" y="93"/>
                </a:lnTo>
                <a:lnTo>
                  <a:pt x="451" y="94"/>
                </a:lnTo>
                <a:lnTo>
                  <a:pt x="453" y="99"/>
                </a:lnTo>
                <a:lnTo>
                  <a:pt x="455" y="100"/>
                </a:lnTo>
                <a:lnTo>
                  <a:pt x="456" y="100"/>
                </a:lnTo>
                <a:lnTo>
                  <a:pt x="456" y="99"/>
                </a:lnTo>
                <a:lnTo>
                  <a:pt x="457" y="96"/>
                </a:lnTo>
                <a:lnTo>
                  <a:pt x="461" y="93"/>
                </a:lnTo>
                <a:lnTo>
                  <a:pt x="465" y="90"/>
                </a:lnTo>
                <a:lnTo>
                  <a:pt x="468" y="91"/>
                </a:lnTo>
                <a:lnTo>
                  <a:pt x="470" y="91"/>
                </a:lnTo>
                <a:lnTo>
                  <a:pt x="473" y="93"/>
                </a:lnTo>
                <a:lnTo>
                  <a:pt x="475" y="95"/>
                </a:lnTo>
                <a:lnTo>
                  <a:pt x="479" y="97"/>
                </a:lnTo>
                <a:lnTo>
                  <a:pt x="481" y="100"/>
                </a:lnTo>
                <a:lnTo>
                  <a:pt x="482" y="102"/>
                </a:lnTo>
                <a:lnTo>
                  <a:pt x="482" y="109"/>
                </a:lnTo>
                <a:lnTo>
                  <a:pt x="483" y="112"/>
                </a:lnTo>
                <a:lnTo>
                  <a:pt x="487" y="114"/>
                </a:lnTo>
                <a:lnTo>
                  <a:pt x="489" y="115"/>
                </a:lnTo>
                <a:lnTo>
                  <a:pt x="493" y="117"/>
                </a:lnTo>
                <a:lnTo>
                  <a:pt x="497" y="117"/>
                </a:lnTo>
                <a:lnTo>
                  <a:pt x="500" y="118"/>
                </a:lnTo>
                <a:lnTo>
                  <a:pt x="501" y="130"/>
                </a:lnTo>
                <a:lnTo>
                  <a:pt x="505" y="142"/>
                </a:lnTo>
                <a:lnTo>
                  <a:pt x="510" y="151"/>
                </a:lnTo>
                <a:lnTo>
                  <a:pt x="515" y="159"/>
                </a:lnTo>
                <a:lnTo>
                  <a:pt x="518" y="163"/>
                </a:lnTo>
                <a:lnTo>
                  <a:pt x="521" y="169"/>
                </a:lnTo>
                <a:lnTo>
                  <a:pt x="518" y="175"/>
                </a:lnTo>
                <a:lnTo>
                  <a:pt x="513" y="183"/>
                </a:lnTo>
                <a:lnTo>
                  <a:pt x="506" y="189"/>
                </a:lnTo>
                <a:lnTo>
                  <a:pt x="500" y="195"/>
                </a:lnTo>
                <a:lnTo>
                  <a:pt x="497" y="202"/>
                </a:lnTo>
                <a:lnTo>
                  <a:pt x="495" y="209"/>
                </a:lnTo>
                <a:lnTo>
                  <a:pt x="493" y="215"/>
                </a:lnTo>
                <a:lnTo>
                  <a:pt x="491" y="216"/>
                </a:lnTo>
                <a:lnTo>
                  <a:pt x="489" y="211"/>
                </a:lnTo>
                <a:lnTo>
                  <a:pt x="487" y="205"/>
                </a:lnTo>
                <a:lnTo>
                  <a:pt x="485" y="197"/>
                </a:lnTo>
                <a:lnTo>
                  <a:pt x="482" y="190"/>
                </a:lnTo>
                <a:lnTo>
                  <a:pt x="481" y="181"/>
                </a:lnTo>
                <a:lnTo>
                  <a:pt x="483" y="174"/>
                </a:lnTo>
                <a:lnTo>
                  <a:pt x="487" y="168"/>
                </a:lnTo>
                <a:lnTo>
                  <a:pt x="489" y="162"/>
                </a:lnTo>
                <a:lnTo>
                  <a:pt x="488" y="160"/>
                </a:lnTo>
                <a:lnTo>
                  <a:pt x="482" y="157"/>
                </a:lnTo>
                <a:lnTo>
                  <a:pt x="473" y="155"/>
                </a:lnTo>
                <a:lnTo>
                  <a:pt x="461" y="154"/>
                </a:lnTo>
                <a:lnTo>
                  <a:pt x="450" y="151"/>
                </a:lnTo>
                <a:lnTo>
                  <a:pt x="439" y="148"/>
                </a:lnTo>
                <a:lnTo>
                  <a:pt x="427" y="144"/>
                </a:lnTo>
                <a:lnTo>
                  <a:pt x="415" y="145"/>
                </a:lnTo>
                <a:lnTo>
                  <a:pt x="405" y="149"/>
                </a:lnTo>
                <a:lnTo>
                  <a:pt x="395" y="153"/>
                </a:lnTo>
                <a:lnTo>
                  <a:pt x="385" y="155"/>
                </a:lnTo>
                <a:lnTo>
                  <a:pt x="353" y="155"/>
                </a:lnTo>
                <a:lnTo>
                  <a:pt x="343" y="157"/>
                </a:lnTo>
                <a:lnTo>
                  <a:pt x="332" y="163"/>
                </a:lnTo>
                <a:lnTo>
                  <a:pt x="320" y="173"/>
                </a:lnTo>
                <a:lnTo>
                  <a:pt x="307" y="184"/>
                </a:lnTo>
                <a:lnTo>
                  <a:pt x="295" y="196"/>
                </a:lnTo>
                <a:lnTo>
                  <a:pt x="283" y="207"/>
                </a:lnTo>
                <a:lnTo>
                  <a:pt x="273" y="217"/>
                </a:lnTo>
                <a:lnTo>
                  <a:pt x="267" y="226"/>
                </a:lnTo>
                <a:lnTo>
                  <a:pt x="264" y="229"/>
                </a:lnTo>
                <a:lnTo>
                  <a:pt x="263" y="235"/>
                </a:lnTo>
                <a:lnTo>
                  <a:pt x="261" y="246"/>
                </a:lnTo>
                <a:lnTo>
                  <a:pt x="263" y="259"/>
                </a:lnTo>
                <a:lnTo>
                  <a:pt x="263" y="273"/>
                </a:lnTo>
                <a:lnTo>
                  <a:pt x="264" y="283"/>
                </a:lnTo>
                <a:lnTo>
                  <a:pt x="264" y="301"/>
                </a:lnTo>
                <a:lnTo>
                  <a:pt x="267" y="306"/>
                </a:lnTo>
                <a:lnTo>
                  <a:pt x="273" y="310"/>
                </a:lnTo>
                <a:lnTo>
                  <a:pt x="289" y="310"/>
                </a:lnTo>
                <a:lnTo>
                  <a:pt x="295" y="311"/>
                </a:lnTo>
                <a:lnTo>
                  <a:pt x="300" y="315"/>
                </a:lnTo>
                <a:lnTo>
                  <a:pt x="300" y="319"/>
                </a:lnTo>
                <a:lnTo>
                  <a:pt x="296" y="325"/>
                </a:lnTo>
                <a:lnTo>
                  <a:pt x="289" y="335"/>
                </a:lnTo>
                <a:lnTo>
                  <a:pt x="282" y="346"/>
                </a:lnTo>
                <a:lnTo>
                  <a:pt x="273" y="358"/>
                </a:lnTo>
                <a:lnTo>
                  <a:pt x="267" y="370"/>
                </a:lnTo>
                <a:lnTo>
                  <a:pt x="263" y="382"/>
                </a:lnTo>
                <a:lnTo>
                  <a:pt x="258" y="400"/>
                </a:lnTo>
                <a:lnTo>
                  <a:pt x="255" y="418"/>
                </a:lnTo>
                <a:lnTo>
                  <a:pt x="253" y="437"/>
                </a:lnTo>
                <a:lnTo>
                  <a:pt x="252" y="451"/>
                </a:lnTo>
                <a:lnTo>
                  <a:pt x="251" y="461"/>
                </a:lnTo>
                <a:lnTo>
                  <a:pt x="247" y="468"/>
                </a:lnTo>
                <a:lnTo>
                  <a:pt x="239" y="478"/>
                </a:lnTo>
                <a:lnTo>
                  <a:pt x="228" y="486"/>
                </a:lnTo>
                <a:lnTo>
                  <a:pt x="218" y="495"/>
                </a:lnTo>
                <a:lnTo>
                  <a:pt x="213" y="501"/>
                </a:lnTo>
                <a:lnTo>
                  <a:pt x="207" y="510"/>
                </a:lnTo>
                <a:lnTo>
                  <a:pt x="201" y="522"/>
                </a:lnTo>
                <a:lnTo>
                  <a:pt x="194" y="535"/>
                </a:lnTo>
                <a:lnTo>
                  <a:pt x="187" y="550"/>
                </a:lnTo>
                <a:lnTo>
                  <a:pt x="174" y="545"/>
                </a:lnTo>
                <a:lnTo>
                  <a:pt x="164" y="539"/>
                </a:lnTo>
                <a:lnTo>
                  <a:pt x="161" y="538"/>
                </a:lnTo>
                <a:lnTo>
                  <a:pt x="158" y="537"/>
                </a:lnTo>
                <a:lnTo>
                  <a:pt x="157" y="537"/>
                </a:lnTo>
                <a:lnTo>
                  <a:pt x="155" y="539"/>
                </a:lnTo>
                <a:lnTo>
                  <a:pt x="153" y="539"/>
                </a:lnTo>
                <a:lnTo>
                  <a:pt x="152" y="540"/>
                </a:lnTo>
                <a:lnTo>
                  <a:pt x="149" y="540"/>
                </a:lnTo>
                <a:lnTo>
                  <a:pt x="146" y="539"/>
                </a:lnTo>
                <a:lnTo>
                  <a:pt x="132" y="529"/>
                </a:lnTo>
                <a:lnTo>
                  <a:pt x="128" y="523"/>
                </a:lnTo>
                <a:lnTo>
                  <a:pt x="127" y="515"/>
                </a:lnTo>
                <a:lnTo>
                  <a:pt x="127" y="502"/>
                </a:lnTo>
                <a:lnTo>
                  <a:pt x="125" y="491"/>
                </a:lnTo>
                <a:lnTo>
                  <a:pt x="121" y="480"/>
                </a:lnTo>
                <a:lnTo>
                  <a:pt x="120" y="478"/>
                </a:lnTo>
                <a:lnTo>
                  <a:pt x="121" y="475"/>
                </a:lnTo>
                <a:lnTo>
                  <a:pt x="121" y="473"/>
                </a:lnTo>
                <a:lnTo>
                  <a:pt x="123" y="471"/>
                </a:lnTo>
                <a:lnTo>
                  <a:pt x="125" y="471"/>
                </a:lnTo>
                <a:lnTo>
                  <a:pt x="125" y="465"/>
                </a:lnTo>
                <a:lnTo>
                  <a:pt x="123" y="462"/>
                </a:lnTo>
                <a:lnTo>
                  <a:pt x="119" y="456"/>
                </a:lnTo>
                <a:lnTo>
                  <a:pt x="113" y="451"/>
                </a:lnTo>
                <a:lnTo>
                  <a:pt x="109" y="447"/>
                </a:lnTo>
                <a:lnTo>
                  <a:pt x="108" y="442"/>
                </a:lnTo>
                <a:lnTo>
                  <a:pt x="108" y="437"/>
                </a:lnTo>
                <a:lnTo>
                  <a:pt x="107" y="435"/>
                </a:lnTo>
                <a:lnTo>
                  <a:pt x="104" y="432"/>
                </a:lnTo>
                <a:lnTo>
                  <a:pt x="102" y="431"/>
                </a:lnTo>
                <a:lnTo>
                  <a:pt x="101" y="430"/>
                </a:lnTo>
                <a:lnTo>
                  <a:pt x="99" y="427"/>
                </a:lnTo>
                <a:lnTo>
                  <a:pt x="99" y="423"/>
                </a:lnTo>
                <a:lnTo>
                  <a:pt x="101" y="421"/>
                </a:lnTo>
                <a:lnTo>
                  <a:pt x="101" y="419"/>
                </a:lnTo>
                <a:lnTo>
                  <a:pt x="99" y="418"/>
                </a:lnTo>
                <a:lnTo>
                  <a:pt x="97" y="417"/>
                </a:lnTo>
                <a:lnTo>
                  <a:pt x="91" y="415"/>
                </a:lnTo>
                <a:lnTo>
                  <a:pt x="85" y="415"/>
                </a:lnTo>
                <a:lnTo>
                  <a:pt x="79" y="414"/>
                </a:lnTo>
                <a:lnTo>
                  <a:pt x="74" y="413"/>
                </a:lnTo>
                <a:lnTo>
                  <a:pt x="74" y="409"/>
                </a:lnTo>
                <a:lnTo>
                  <a:pt x="79" y="397"/>
                </a:lnTo>
                <a:lnTo>
                  <a:pt x="78" y="389"/>
                </a:lnTo>
                <a:lnTo>
                  <a:pt x="78" y="384"/>
                </a:lnTo>
                <a:lnTo>
                  <a:pt x="80" y="375"/>
                </a:lnTo>
                <a:lnTo>
                  <a:pt x="84" y="364"/>
                </a:lnTo>
                <a:lnTo>
                  <a:pt x="89" y="353"/>
                </a:lnTo>
                <a:lnTo>
                  <a:pt x="92" y="345"/>
                </a:lnTo>
                <a:lnTo>
                  <a:pt x="96" y="340"/>
                </a:lnTo>
                <a:lnTo>
                  <a:pt x="97" y="339"/>
                </a:lnTo>
                <a:lnTo>
                  <a:pt x="102" y="336"/>
                </a:lnTo>
                <a:lnTo>
                  <a:pt x="108" y="330"/>
                </a:lnTo>
                <a:lnTo>
                  <a:pt x="109" y="328"/>
                </a:lnTo>
                <a:lnTo>
                  <a:pt x="109" y="324"/>
                </a:lnTo>
                <a:lnTo>
                  <a:pt x="110" y="316"/>
                </a:lnTo>
                <a:lnTo>
                  <a:pt x="115" y="306"/>
                </a:lnTo>
                <a:lnTo>
                  <a:pt x="119" y="294"/>
                </a:lnTo>
                <a:lnTo>
                  <a:pt x="123" y="285"/>
                </a:lnTo>
                <a:lnTo>
                  <a:pt x="125" y="277"/>
                </a:lnTo>
                <a:lnTo>
                  <a:pt x="125" y="269"/>
                </a:lnTo>
                <a:lnTo>
                  <a:pt x="122" y="264"/>
                </a:lnTo>
                <a:lnTo>
                  <a:pt x="120" y="263"/>
                </a:lnTo>
                <a:lnTo>
                  <a:pt x="116" y="262"/>
                </a:lnTo>
                <a:lnTo>
                  <a:pt x="109" y="262"/>
                </a:lnTo>
                <a:lnTo>
                  <a:pt x="102" y="263"/>
                </a:lnTo>
                <a:lnTo>
                  <a:pt x="97" y="265"/>
                </a:lnTo>
                <a:lnTo>
                  <a:pt x="95" y="269"/>
                </a:lnTo>
                <a:lnTo>
                  <a:pt x="96" y="274"/>
                </a:lnTo>
                <a:lnTo>
                  <a:pt x="101" y="288"/>
                </a:lnTo>
                <a:lnTo>
                  <a:pt x="102" y="295"/>
                </a:lnTo>
                <a:lnTo>
                  <a:pt x="102" y="299"/>
                </a:lnTo>
                <a:lnTo>
                  <a:pt x="98" y="301"/>
                </a:lnTo>
                <a:lnTo>
                  <a:pt x="86" y="309"/>
                </a:lnTo>
                <a:lnTo>
                  <a:pt x="83" y="309"/>
                </a:lnTo>
                <a:lnTo>
                  <a:pt x="81" y="306"/>
                </a:lnTo>
                <a:lnTo>
                  <a:pt x="84" y="301"/>
                </a:lnTo>
                <a:lnTo>
                  <a:pt x="84" y="300"/>
                </a:lnTo>
                <a:lnTo>
                  <a:pt x="85" y="299"/>
                </a:lnTo>
                <a:lnTo>
                  <a:pt x="85" y="295"/>
                </a:lnTo>
                <a:lnTo>
                  <a:pt x="83" y="291"/>
                </a:lnTo>
                <a:lnTo>
                  <a:pt x="80" y="289"/>
                </a:lnTo>
                <a:lnTo>
                  <a:pt x="75" y="285"/>
                </a:lnTo>
                <a:lnTo>
                  <a:pt x="75" y="283"/>
                </a:lnTo>
                <a:lnTo>
                  <a:pt x="78" y="279"/>
                </a:lnTo>
                <a:lnTo>
                  <a:pt x="80" y="277"/>
                </a:lnTo>
                <a:lnTo>
                  <a:pt x="81" y="276"/>
                </a:lnTo>
                <a:lnTo>
                  <a:pt x="84" y="275"/>
                </a:lnTo>
                <a:lnTo>
                  <a:pt x="85" y="273"/>
                </a:lnTo>
                <a:lnTo>
                  <a:pt x="86" y="271"/>
                </a:lnTo>
                <a:lnTo>
                  <a:pt x="86" y="265"/>
                </a:lnTo>
                <a:lnTo>
                  <a:pt x="85" y="261"/>
                </a:lnTo>
                <a:lnTo>
                  <a:pt x="83" y="256"/>
                </a:lnTo>
                <a:lnTo>
                  <a:pt x="78" y="251"/>
                </a:lnTo>
                <a:lnTo>
                  <a:pt x="74" y="249"/>
                </a:lnTo>
                <a:lnTo>
                  <a:pt x="69" y="247"/>
                </a:lnTo>
                <a:lnTo>
                  <a:pt x="55" y="247"/>
                </a:lnTo>
                <a:lnTo>
                  <a:pt x="48" y="245"/>
                </a:lnTo>
                <a:lnTo>
                  <a:pt x="44" y="241"/>
                </a:lnTo>
                <a:lnTo>
                  <a:pt x="44" y="234"/>
                </a:lnTo>
                <a:lnTo>
                  <a:pt x="49" y="222"/>
                </a:lnTo>
                <a:lnTo>
                  <a:pt x="48" y="215"/>
                </a:lnTo>
                <a:lnTo>
                  <a:pt x="44" y="211"/>
                </a:lnTo>
                <a:lnTo>
                  <a:pt x="41" y="211"/>
                </a:lnTo>
                <a:lnTo>
                  <a:pt x="39" y="213"/>
                </a:lnTo>
                <a:lnTo>
                  <a:pt x="38" y="213"/>
                </a:lnTo>
                <a:lnTo>
                  <a:pt x="37" y="211"/>
                </a:lnTo>
                <a:lnTo>
                  <a:pt x="36" y="209"/>
                </a:lnTo>
                <a:lnTo>
                  <a:pt x="36" y="203"/>
                </a:lnTo>
                <a:lnTo>
                  <a:pt x="38" y="198"/>
                </a:lnTo>
                <a:lnTo>
                  <a:pt x="38" y="195"/>
                </a:lnTo>
                <a:lnTo>
                  <a:pt x="36" y="190"/>
                </a:lnTo>
                <a:lnTo>
                  <a:pt x="32" y="187"/>
                </a:lnTo>
                <a:lnTo>
                  <a:pt x="27" y="190"/>
                </a:lnTo>
                <a:lnTo>
                  <a:pt x="19" y="198"/>
                </a:lnTo>
                <a:lnTo>
                  <a:pt x="17" y="199"/>
                </a:lnTo>
                <a:lnTo>
                  <a:pt x="15" y="196"/>
                </a:lnTo>
                <a:lnTo>
                  <a:pt x="17" y="183"/>
                </a:lnTo>
                <a:lnTo>
                  <a:pt x="17" y="174"/>
                </a:lnTo>
                <a:lnTo>
                  <a:pt x="15" y="168"/>
                </a:lnTo>
                <a:lnTo>
                  <a:pt x="14" y="167"/>
                </a:lnTo>
                <a:lnTo>
                  <a:pt x="11" y="167"/>
                </a:lnTo>
                <a:lnTo>
                  <a:pt x="3" y="171"/>
                </a:lnTo>
                <a:lnTo>
                  <a:pt x="0" y="171"/>
                </a:lnTo>
                <a:lnTo>
                  <a:pt x="1" y="165"/>
                </a:lnTo>
                <a:lnTo>
                  <a:pt x="2" y="157"/>
                </a:lnTo>
                <a:lnTo>
                  <a:pt x="2" y="141"/>
                </a:lnTo>
                <a:lnTo>
                  <a:pt x="5" y="137"/>
                </a:lnTo>
                <a:lnTo>
                  <a:pt x="8" y="135"/>
                </a:lnTo>
                <a:lnTo>
                  <a:pt x="12" y="133"/>
                </a:lnTo>
                <a:lnTo>
                  <a:pt x="17" y="133"/>
                </a:lnTo>
                <a:lnTo>
                  <a:pt x="19" y="135"/>
                </a:lnTo>
                <a:lnTo>
                  <a:pt x="21" y="135"/>
                </a:lnTo>
                <a:lnTo>
                  <a:pt x="24" y="133"/>
                </a:lnTo>
                <a:lnTo>
                  <a:pt x="26" y="131"/>
                </a:lnTo>
                <a:lnTo>
                  <a:pt x="27" y="127"/>
                </a:lnTo>
                <a:lnTo>
                  <a:pt x="27" y="121"/>
                </a:lnTo>
                <a:lnTo>
                  <a:pt x="26" y="119"/>
                </a:lnTo>
                <a:lnTo>
                  <a:pt x="26" y="115"/>
                </a:lnTo>
                <a:lnTo>
                  <a:pt x="27" y="114"/>
                </a:lnTo>
                <a:lnTo>
                  <a:pt x="30" y="113"/>
                </a:lnTo>
                <a:lnTo>
                  <a:pt x="35" y="113"/>
                </a:lnTo>
                <a:lnTo>
                  <a:pt x="36" y="115"/>
                </a:lnTo>
                <a:lnTo>
                  <a:pt x="38" y="117"/>
                </a:lnTo>
                <a:lnTo>
                  <a:pt x="38" y="118"/>
                </a:lnTo>
                <a:lnTo>
                  <a:pt x="41" y="118"/>
                </a:lnTo>
                <a:lnTo>
                  <a:pt x="43" y="113"/>
                </a:lnTo>
                <a:lnTo>
                  <a:pt x="43" y="102"/>
                </a:lnTo>
                <a:lnTo>
                  <a:pt x="45" y="102"/>
                </a:lnTo>
                <a:lnTo>
                  <a:pt x="48" y="101"/>
                </a:lnTo>
                <a:lnTo>
                  <a:pt x="51" y="101"/>
                </a:lnTo>
                <a:lnTo>
                  <a:pt x="54" y="102"/>
                </a:lnTo>
                <a:lnTo>
                  <a:pt x="55" y="103"/>
                </a:lnTo>
                <a:lnTo>
                  <a:pt x="57" y="105"/>
                </a:lnTo>
                <a:lnTo>
                  <a:pt x="61" y="105"/>
                </a:lnTo>
                <a:lnTo>
                  <a:pt x="63" y="103"/>
                </a:lnTo>
                <a:lnTo>
                  <a:pt x="71" y="99"/>
                </a:lnTo>
                <a:lnTo>
                  <a:pt x="75" y="96"/>
                </a:lnTo>
                <a:lnTo>
                  <a:pt x="85" y="94"/>
                </a:lnTo>
                <a:lnTo>
                  <a:pt x="96" y="91"/>
                </a:lnTo>
                <a:lnTo>
                  <a:pt x="103" y="90"/>
                </a:lnTo>
                <a:lnTo>
                  <a:pt x="107" y="87"/>
                </a:lnTo>
                <a:lnTo>
                  <a:pt x="108" y="81"/>
                </a:lnTo>
                <a:lnTo>
                  <a:pt x="108" y="61"/>
                </a:lnTo>
                <a:lnTo>
                  <a:pt x="109" y="52"/>
                </a:lnTo>
                <a:lnTo>
                  <a:pt x="111" y="43"/>
                </a:lnTo>
                <a:lnTo>
                  <a:pt x="119" y="48"/>
                </a:lnTo>
                <a:lnTo>
                  <a:pt x="121" y="49"/>
                </a:lnTo>
                <a:lnTo>
                  <a:pt x="123" y="49"/>
                </a:lnTo>
                <a:lnTo>
                  <a:pt x="123" y="42"/>
                </a:lnTo>
                <a:lnTo>
                  <a:pt x="125" y="39"/>
                </a:lnTo>
                <a:lnTo>
                  <a:pt x="126" y="36"/>
                </a:lnTo>
                <a:lnTo>
                  <a:pt x="128" y="34"/>
                </a:lnTo>
                <a:lnTo>
                  <a:pt x="132" y="33"/>
                </a:lnTo>
                <a:lnTo>
                  <a:pt x="134" y="34"/>
                </a:lnTo>
                <a:lnTo>
                  <a:pt x="138" y="36"/>
                </a:lnTo>
                <a:lnTo>
                  <a:pt x="140" y="40"/>
                </a:lnTo>
                <a:lnTo>
                  <a:pt x="141" y="47"/>
                </a:lnTo>
                <a:lnTo>
                  <a:pt x="138" y="54"/>
                </a:lnTo>
                <a:lnTo>
                  <a:pt x="132" y="64"/>
                </a:lnTo>
                <a:lnTo>
                  <a:pt x="128" y="70"/>
                </a:lnTo>
                <a:lnTo>
                  <a:pt x="126" y="73"/>
                </a:lnTo>
                <a:lnTo>
                  <a:pt x="123" y="78"/>
                </a:lnTo>
                <a:lnTo>
                  <a:pt x="122" y="88"/>
                </a:lnTo>
                <a:lnTo>
                  <a:pt x="125" y="96"/>
                </a:lnTo>
                <a:lnTo>
                  <a:pt x="129" y="101"/>
                </a:lnTo>
                <a:lnTo>
                  <a:pt x="138" y="106"/>
                </a:lnTo>
                <a:lnTo>
                  <a:pt x="145" y="108"/>
                </a:lnTo>
                <a:lnTo>
                  <a:pt x="151" y="111"/>
                </a:lnTo>
                <a:lnTo>
                  <a:pt x="155" y="111"/>
                </a:lnTo>
                <a:lnTo>
                  <a:pt x="155" y="106"/>
                </a:lnTo>
                <a:lnTo>
                  <a:pt x="153" y="105"/>
                </a:lnTo>
                <a:lnTo>
                  <a:pt x="153" y="102"/>
                </a:lnTo>
                <a:lnTo>
                  <a:pt x="152" y="100"/>
                </a:lnTo>
                <a:lnTo>
                  <a:pt x="152" y="99"/>
                </a:lnTo>
                <a:lnTo>
                  <a:pt x="155" y="96"/>
                </a:lnTo>
                <a:lnTo>
                  <a:pt x="155" y="94"/>
                </a:lnTo>
                <a:lnTo>
                  <a:pt x="152" y="89"/>
                </a:lnTo>
                <a:lnTo>
                  <a:pt x="151" y="88"/>
                </a:lnTo>
                <a:lnTo>
                  <a:pt x="151" y="85"/>
                </a:lnTo>
                <a:lnTo>
                  <a:pt x="152" y="83"/>
                </a:lnTo>
                <a:lnTo>
                  <a:pt x="153" y="79"/>
                </a:lnTo>
                <a:lnTo>
                  <a:pt x="156" y="77"/>
                </a:lnTo>
                <a:lnTo>
                  <a:pt x="158" y="76"/>
                </a:lnTo>
                <a:lnTo>
                  <a:pt x="161" y="71"/>
                </a:lnTo>
                <a:lnTo>
                  <a:pt x="164" y="61"/>
                </a:lnTo>
                <a:lnTo>
                  <a:pt x="169" y="52"/>
                </a:lnTo>
                <a:lnTo>
                  <a:pt x="173" y="48"/>
                </a:lnTo>
                <a:lnTo>
                  <a:pt x="174" y="48"/>
                </a:lnTo>
                <a:lnTo>
                  <a:pt x="177" y="52"/>
                </a:lnTo>
                <a:lnTo>
                  <a:pt x="179" y="54"/>
                </a:lnTo>
                <a:lnTo>
                  <a:pt x="180" y="58"/>
                </a:lnTo>
                <a:lnTo>
                  <a:pt x="181" y="60"/>
                </a:lnTo>
                <a:lnTo>
                  <a:pt x="183" y="63"/>
                </a:lnTo>
                <a:lnTo>
                  <a:pt x="186" y="64"/>
                </a:lnTo>
                <a:lnTo>
                  <a:pt x="189" y="64"/>
                </a:lnTo>
                <a:lnTo>
                  <a:pt x="191" y="63"/>
                </a:lnTo>
                <a:lnTo>
                  <a:pt x="192" y="60"/>
                </a:lnTo>
                <a:lnTo>
                  <a:pt x="194" y="60"/>
                </a:lnTo>
                <a:lnTo>
                  <a:pt x="195" y="61"/>
                </a:lnTo>
                <a:lnTo>
                  <a:pt x="197" y="64"/>
                </a:lnTo>
                <a:lnTo>
                  <a:pt x="197" y="69"/>
                </a:lnTo>
                <a:lnTo>
                  <a:pt x="195" y="73"/>
                </a:lnTo>
                <a:lnTo>
                  <a:pt x="193" y="76"/>
                </a:lnTo>
                <a:lnTo>
                  <a:pt x="192" y="79"/>
                </a:lnTo>
                <a:lnTo>
                  <a:pt x="193" y="83"/>
                </a:lnTo>
                <a:lnTo>
                  <a:pt x="198" y="85"/>
                </a:lnTo>
                <a:lnTo>
                  <a:pt x="203" y="83"/>
                </a:lnTo>
                <a:lnTo>
                  <a:pt x="207" y="78"/>
                </a:lnTo>
                <a:lnTo>
                  <a:pt x="213" y="73"/>
                </a:lnTo>
                <a:lnTo>
                  <a:pt x="219" y="75"/>
                </a:lnTo>
                <a:lnTo>
                  <a:pt x="225" y="81"/>
                </a:lnTo>
                <a:lnTo>
                  <a:pt x="231" y="88"/>
                </a:lnTo>
                <a:lnTo>
                  <a:pt x="236" y="91"/>
                </a:lnTo>
                <a:lnTo>
                  <a:pt x="237" y="91"/>
                </a:lnTo>
                <a:lnTo>
                  <a:pt x="237" y="89"/>
                </a:lnTo>
                <a:lnTo>
                  <a:pt x="235" y="84"/>
                </a:lnTo>
                <a:lnTo>
                  <a:pt x="233" y="78"/>
                </a:lnTo>
                <a:lnTo>
                  <a:pt x="231" y="72"/>
                </a:lnTo>
                <a:lnTo>
                  <a:pt x="233" y="66"/>
                </a:lnTo>
                <a:lnTo>
                  <a:pt x="236" y="64"/>
                </a:lnTo>
                <a:lnTo>
                  <a:pt x="242" y="63"/>
                </a:lnTo>
                <a:lnTo>
                  <a:pt x="252" y="64"/>
                </a:lnTo>
                <a:lnTo>
                  <a:pt x="258" y="66"/>
                </a:lnTo>
                <a:lnTo>
                  <a:pt x="260" y="71"/>
                </a:lnTo>
                <a:lnTo>
                  <a:pt x="260" y="76"/>
                </a:lnTo>
                <a:lnTo>
                  <a:pt x="261" y="81"/>
                </a:lnTo>
                <a:lnTo>
                  <a:pt x="264" y="84"/>
                </a:lnTo>
                <a:lnTo>
                  <a:pt x="266" y="85"/>
                </a:lnTo>
                <a:lnTo>
                  <a:pt x="267" y="85"/>
                </a:lnTo>
                <a:lnTo>
                  <a:pt x="269" y="84"/>
                </a:lnTo>
                <a:lnTo>
                  <a:pt x="271" y="79"/>
                </a:lnTo>
                <a:lnTo>
                  <a:pt x="271" y="77"/>
                </a:lnTo>
                <a:lnTo>
                  <a:pt x="272" y="75"/>
                </a:lnTo>
                <a:lnTo>
                  <a:pt x="275" y="71"/>
                </a:lnTo>
                <a:lnTo>
                  <a:pt x="276" y="69"/>
                </a:lnTo>
                <a:lnTo>
                  <a:pt x="283" y="65"/>
                </a:lnTo>
                <a:lnTo>
                  <a:pt x="288" y="64"/>
                </a:lnTo>
                <a:lnTo>
                  <a:pt x="289" y="64"/>
                </a:lnTo>
                <a:lnTo>
                  <a:pt x="290" y="63"/>
                </a:lnTo>
                <a:lnTo>
                  <a:pt x="291" y="60"/>
                </a:lnTo>
                <a:lnTo>
                  <a:pt x="294" y="57"/>
                </a:lnTo>
                <a:lnTo>
                  <a:pt x="299" y="52"/>
                </a:lnTo>
                <a:lnTo>
                  <a:pt x="302" y="51"/>
                </a:lnTo>
                <a:lnTo>
                  <a:pt x="311" y="52"/>
                </a:lnTo>
                <a:lnTo>
                  <a:pt x="318" y="55"/>
                </a:lnTo>
                <a:lnTo>
                  <a:pt x="323" y="59"/>
                </a:lnTo>
                <a:lnTo>
                  <a:pt x="325" y="58"/>
                </a:lnTo>
                <a:lnTo>
                  <a:pt x="326" y="57"/>
                </a:lnTo>
                <a:lnTo>
                  <a:pt x="326" y="55"/>
                </a:lnTo>
                <a:lnTo>
                  <a:pt x="324" y="53"/>
                </a:lnTo>
                <a:lnTo>
                  <a:pt x="326" y="53"/>
                </a:lnTo>
                <a:lnTo>
                  <a:pt x="330" y="52"/>
                </a:lnTo>
                <a:lnTo>
                  <a:pt x="335" y="52"/>
                </a:lnTo>
                <a:lnTo>
                  <a:pt x="342" y="49"/>
                </a:lnTo>
                <a:lnTo>
                  <a:pt x="347" y="43"/>
                </a:lnTo>
                <a:lnTo>
                  <a:pt x="351" y="31"/>
                </a:lnTo>
                <a:lnTo>
                  <a:pt x="350" y="29"/>
                </a:lnTo>
                <a:lnTo>
                  <a:pt x="345" y="28"/>
                </a:lnTo>
                <a:lnTo>
                  <a:pt x="338" y="29"/>
                </a:lnTo>
                <a:lnTo>
                  <a:pt x="324" y="29"/>
                </a:lnTo>
                <a:lnTo>
                  <a:pt x="323" y="28"/>
                </a:lnTo>
                <a:lnTo>
                  <a:pt x="323" y="25"/>
                </a:lnTo>
                <a:lnTo>
                  <a:pt x="327" y="23"/>
                </a:lnTo>
                <a:lnTo>
                  <a:pt x="331" y="21"/>
                </a:lnTo>
                <a:lnTo>
                  <a:pt x="336" y="18"/>
                </a:lnTo>
                <a:lnTo>
                  <a:pt x="342" y="6"/>
                </a:lnTo>
                <a:lnTo>
                  <a:pt x="347" y="4"/>
                </a:lnTo>
                <a:lnTo>
                  <a:pt x="348" y="4"/>
                </a:lnTo>
                <a:lnTo>
                  <a:pt x="355" y="0"/>
                </a:lnTo>
                <a:close/>
              </a:path>
            </a:pathLst>
          </a:custGeom>
          <a:solidFill>
            <a:srgbClr val="7f7f7f"/>
          </a:solidFill>
          <a:ln w="0">
            <a:solidFill>
              <a:srgbClr val="adada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reeform 4303"/>
          <p:cNvSpPr/>
          <p:nvPr/>
        </p:nvSpPr>
        <p:spPr>
          <a:xfrm>
            <a:off x="7545240" y="2049480"/>
            <a:ext cx="447840" cy="573120"/>
          </a:xfrm>
          <a:custGeom>
            <a:avLst/>
            <a:gdLst>
              <a:gd name="textAreaLeft" fmla="*/ 0 w 447840"/>
              <a:gd name="textAreaRight" fmla="*/ 448200 w 44784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327" h="418">
                <a:moveTo>
                  <a:pt x="252" y="0"/>
                </a:moveTo>
                <a:lnTo>
                  <a:pt x="266" y="1"/>
                </a:lnTo>
                <a:lnTo>
                  <a:pt x="275" y="4"/>
                </a:lnTo>
                <a:lnTo>
                  <a:pt x="279" y="7"/>
                </a:lnTo>
                <a:lnTo>
                  <a:pt x="282" y="11"/>
                </a:lnTo>
                <a:lnTo>
                  <a:pt x="287" y="21"/>
                </a:lnTo>
                <a:lnTo>
                  <a:pt x="291" y="27"/>
                </a:lnTo>
                <a:lnTo>
                  <a:pt x="299" y="29"/>
                </a:lnTo>
                <a:lnTo>
                  <a:pt x="305" y="30"/>
                </a:lnTo>
                <a:lnTo>
                  <a:pt x="317" y="30"/>
                </a:lnTo>
                <a:lnTo>
                  <a:pt x="320" y="33"/>
                </a:lnTo>
                <a:lnTo>
                  <a:pt x="323" y="34"/>
                </a:lnTo>
                <a:lnTo>
                  <a:pt x="324" y="36"/>
                </a:lnTo>
                <a:lnTo>
                  <a:pt x="325" y="40"/>
                </a:lnTo>
                <a:lnTo>
                  <a:pt x="326" y="42"/>
                </a:lnTo>
                <a:lnTo>
                  <a:pt x="327" y="46"/>
                </a:lnTo>
                <a:lnTo>
                  <a:pt x="327" y="53"/>
                </a:lnTo>
                <a:lnTo>
                  <a:pt x="323" y="60"/>
                </a:lnTo>
                <a:lnTo>
                  <a:pt x="315" y="69"/>
                </a:lnTo>
                <a:lnTo>
                  <a:pt x="311" y="76"/>
                </a:lnTo>
                <a:lnTo>
                  <a:pt x="308" y="84"/>
                </a:lnTo>
                <a:lnTo>
                  <a:pt x="307" y="93"/>
                </a:lnTo>
                <a:lnTo>
                  <a:pt x="303" y="101"/>
                </a:lnTo>
                <a:lnTo>
                  <a:pt x="301" y="105"/>
                </a:lnTo>
                <a:lnTo>
                  <a:pt x="297" y="107"/>
                </a:lnTo>
                <a:lnTo>
                  <a:pt x="294" y="111"/>
                </a:lnTo>
                <a:lnTo>
                  <a:pt x="291" y="114"/>
                </a:lnTo>
                <a:lnTo>
                  <a:pt x="287" y="129"/>
                </a:lnTo>
                <a:lnTo>
                  <a:pt x="282" y="137"/>
                </a:lnTo>
                <a:lnTo>
                  <a:pt x="279" y="144"/>
                </a:lnTo>
                <a:lnTo>
                  <a:pt x="281" y="150"/>
                </a:lnTo>
                <a:lnTo>
                  <a:pt x="283" y="156"/>
                </a:lnTo>
                <a:lnTo>
                  <a:pt x="284" y="159"/>
                </a:lnTo>
                <a:lnTo>
                  <a:pt x="283" y="161"/>
                </a:lnTo>
                <a:lnTo>
                  <a:pt x="281" y="163"/>
                </a:lnTo>
                <a:lnTo>
                  <a:pt x="278" y="165"/>
                </a:lnTo>
                <a:lnTo>
                  <a:pt x="277" y="167"/>
                </a:lnTo>
                <a:lnTo>
                  <a:pt x="277" y="169"/>
                </a:lnTo>
                <a:lnTo>
                  <a:pt x="278" y="172"/>
                </a:lnTo>
                <a:lnTo>
                  <a:pt x="279" y="177"/>
                </a:lnTo>
                <a:lnTo>
                  <a:pt x="282" y="180"/>
                </a:lnTo>
                <a:lnTo>
                  <a:pt x="282" y="187"/>
                </a:lnTo>
                <a:lnTo>
                  <a:pt x="281" y="190"/>
                </a:lnTo>
                <a:lnTo>
                  <a:pt x="272" y="198"/>
                </a:lnTo>
                <a:lnTo>
                  <a:pt x="269" y="203"/>
                </a:lnTo>
                <a:lnTo>
                  <a:pt x="267" y="207"/>
                </a:lnTo>
                <a:lnTo>
                  <a:pt x="269" y="211"/>
                </a:lnTo>
                <a:lnTo>
                  <a:pt x="271" y="217"/>
                </a:lnTo>
                <a:lnTo>
                  <a:pt x="273" y="227"/>
                </a:lnTo>
                <a:lnTo>
                  <a:pt x="273" y="233"/>
                </a:lnTo>
                <a:lnTo>
                  <a:pt x="269" y="243"/>
                </a:lnTo>
                <a:lnTo>
                  <a:pt x="269" y="246"/>
                </a:lnTo>
                <a:lnTo>
                  <a:pt x="270" y="249"/>
                </a:lnTo>
                <a:lnTo>
                  <a:pt x="270" y="252"/>
                </a:lnTo>
                <a:lnTo>
                  <a:pt x="271" y="256"/>
                </a:lnTo>
                <a:lnTo>
                  <a:pt x="270" y="265"/>
                </a:lnTo>
                <a:lnTo>
                  <a:pt x="265" y="276"/>
                </a:lnTo>
                <a:lnTo>
                  <a:pt x="260" y="288"/>
                </a:lnTo>
                <a:lnTo>
                  <a:pt x="254" y="301"/>
                </a:lnTo>
                <a:lnTo>
                  <a:pt x="246" y="315"/>
                </a:lnTo>
                <a:lnTo>
                  <a:pt x="235" y="324"/>
                </a:lnTo>
                <a:lnTo>
                  <a:pt x="228" y="328"/>
                </a:lnTo>
                <a:lnTo>
                  <a:pt x="222" y="328"/>
                </a:lnTo>
                <a:lnTo>
                  <a:pt x="216" y="327"/>
                </a:lnTo>
                <a:lnTo>
                  <a:pt x="209" y="328"/>
                </a:lnTo>
                <a:lnTo>
                  <a:pt x="203" y="331"/>
                </a:lnTo>
                <a:lnTo>
                  <a:pt x="200" y="337"/>
                </a:lnTo>
                <a:lnTo>
                  <a:pt x="199" y="345"/>
                </a:lnTo>
                <a:lnTo>
                  <a:pt x="197" y="351"/>
                </a:lnTo>
                <a:lnTo>
                  <a:pt x="194" y="355"/>
                </a:lnTo>
                <a:lnTo>
                  <a:pt x="191" y="355"/>
                </a:lnTo>
                <a:lnTo>
                  <a:pt x="186" y="352"/>
                </a:lnTo>
                <a:lnTo>
                  <a:pt x="176" y="342"/>
                </a:lnTo>
                <a:lnTo>
                  <a:pt x="173" y="340"/>
                </a:lnTo>
                <a:lnTo>
                  <a:pt x="170" y="342"/>
                </a:lnTo>
                <a:lnTo>
                  <a:pt x="169" y="348"/>
                </a:lnTo>
                <a:lnTo>
                  <a:pt x="171" y="365"/>
                </a:lnTo>
                <a:lnTo>
                  <a:pt x="175" y="371"/>
                </a:lnTo>
                <a:lnTo>
                  <a:pt x="176" y="376"/>
                </a:lnTo>
                <a:lnTo>
                  <a:pt x="174" y="383"/>
                </a:lnTo>
                <a:lnTo>
                  <a:pt x="169" y="390"/>
                </a:lnTo>
                <a:lnTo>
                  <a:pt x="163" y="400"/>
                </a:lnTo>
                <a:lnTo>
                  <a:pt x="159" y="413"/>
                </a:lnTo>
                <a:lnTo>
                  <a:pt x="159" y="417"/>
                </a:lnTo>
                <a:lnTo>
                  <a:pt x="158" y="418"/>
                </a:lnTo>
                <a:lnTo>
                  <a:pt x="155" y="417"/>
                </a:lnTo>
                <a:lnTo>
                  <a:pt x="151" y="417"/>
                </a:lnTo>
                <a:lnTo>
                  <a:pt x="147" y="415"/>
                </a:lnTo>
                <a:lnTo>
                  <a:pt x="145" y="414"/>
                </a:lnTo>
                <a:lnTo>
                  <a:pt x="141" y="412"/>
                </a:lnTo>
                <a:lnTo>
                  <a:pt x="140" y="409"/>
                </a:lnTo>
                <a:lnTo>
                  <a:pt x="140" y="402"/>
                </a:lnTo>
                <a:lnTo>
                  <a:pt x="139" y="400"/>
                </a:lnTo>
                <a:lnTo>
                  <a:pt x="137" y="397"/>
                </a:lnTo>
                <a:lnTo>
                  <a:pt x="133" y="395"/>
                </a:lnTo>
                <a:lnTo>
                  <a:pt x="131" y="393"/>
                </a:lnTo>
                <a:lnTo>
                  <a:pt x="128" y="391"/>
                </a:lnTo>
                <a:lnTo>
                  <a:pt x="126" y="391"/>
                </a:lnTo>
                <a:lnTo>
                  <a:pt x="123" y="390"/>
                </a:lnTo>
                <a:lnTo>
                  <a:pt x="119" y="393"/>
                </a:lnTo>
                <a:lnTo>
                  <a:pt x="115" y="396"/>
                </a:lnTo>
                <a:lnTo>
                  <a:pt x="114" y="399"/>
                </a:lnTo>
                <a:lnTo>
                  <a:pt x="114" y="400"/>
                </a:lnTo>
                <a:lnTo>
                  <a:pt x="113" y="400"/>
                </a:lnTo>
                <a:lnTo>
                  <a:pt x="111" y="399"/>
                </a:lnTo>
                <a:lnTo>
                  <a:pt x="109" y="394"/>
                </a:lnTo>
                <a:lnTo>
                  <a:pt x="108" y="393"/>
                </a:lnTo>
                <a:lnTo>
                  <a:pt x="105" y="393"/>
                </a:lnTo>
                <a:lnTo>
                  <a:pt x="103" y="391"/>
                </a:lnTo>
                <a:lnTo>
                  <a:pt x="98" y="391"/>
                </a:lnTo>
                <a:lnTo>
                  <a:pt x="96" y="389"/>
                </a:lnTo>
                <a:lnTo>
                  <a:pt x="96" y="378"/>
                </a:lnTo>
                <a:lnTo>
                  <a:pt x="90" y="378"/>
                </a:lnTo>
                <a:lnTo>
                  <a:pt x="87" y="377"/>
                </a:lnTo>
                <a:lnTo>
                  <a:pt x="86" y="376"/>
                </a:lnTo>
                <a:lnTo>
                  <a:pt x="85" y="373"/>
                </a:lnTo>
                <a:lnTo>
                  <a:pt x="85" y="366"/>
                </a:lnTo>
                <a:lnTo>
                  <a:pt x="84" y="364"/>
                </a:lnTo>
                <a:lnTo>
                  <a:pt x="83" y="363"/>
                </a:lnTo>
                <a:lnTo>
                  <a:pt x="79" y="360"/>
                </a:lnTo>
                <a:lnTo>
                  <a:pt x="72" y="359"/>
                </a:lnTo>
                <a:lnTo>
                  <a:pt x="67" y="360"/>
                </a:lnTo>
                <a:lnTo>
                  <a:pt x="62" y="360"/>
                </a:lnTo>
                <a:lnTo>
                  <a:pt x="57" y="351"/>
                </a:lnTo>
                <a:lnTo>
                  <a:pt x="53" y="343"/>
                </a:lnTo>
                <a:lnTo>
                  <a:pt x="50" y="336"/>
                </a:lnTo>
                <a:lnTo>
                  <a:pt x="48" y="331"/>
                </a:lnTo>
                <a:lnTo>
                  <a:pt x="47" y="330"/>
                </a:lnTo>
                <a:lnTo>
                  <a:pt x="43" y="330"/>
                </a:lnTo>
                <a:lnTo>
                  <a:pt x="42" y="331"/>
                </a:lnTo>
                <a:lnTo>
                  <a:pt x="41" y="331"/>
                </a:lnTo>
                <a:lnTo>
                  <a:pt x="39" y="330"/>
                </a:lnTo>
                <a:lnTo>
                  <a:pt x="43" y="323"/>
                </a:lnTo>
                <a:lnTo>
                  <a:pt x="45" y="322"/>
                </a:lnTo>
                <a:lnTo>
                  <a:pt x="47" y="321"/>
                </a:lnTo>
                <a:lnTo>
                  <a:pt x="48" y="321"/>
                </a:lnTo>
                <a:lnTo>
                  <a:pt x="49" y="319"/>
                </a:lnTo>
                <a:lnTo>
                  <a:pt x="49" y="316"/>
                </a:lnTo>
                <a:lnTo>
                  <a:pt x="48" y="313"/>
                </a:lnTo>
                <a:lnTo>
                  <a:pt x="43" y="310"/>
                </a:lnTo>
                <a:lnTo>
                  <a:pt x="36" y="307"/>
                </a:lnTo>
                <a:lnTo>
                  <a:pt x="19" y="303"/>
                </a:lnTo>
                <a:lnTo>
                  <a:pt x="12" y="299"/>
                </a:lnTo>
                <a:lnTo>
                  <a:pt x="8" y="294"/>
                </a:lnTo>
                <a:lnTo>
                  <a:pt x="8" y="287"/>
                </a:lnTo>
                <a:lnTo>
                  <a:pt x="9" y="282"/>
                </a:lnTo>
                <a:lnTo>
                  <a:pt x="12" y="279"/>
                </a:lnTo>
                <a:lnTo>
                  <a:pt x="13" y="275"/>
                </a:lnTo>
                <a:lnTo>
                  <a:pt x="12" y="270"/>
                </a:lnTo>
                <a:lnTo>
                  <a:pt x="7" y="264"/>
                </a:lnTo>
                <a:lnTo>
                  <a:pt x="3" y="257"/>
                </a:lnTo>
                <a:lnTo>
                  <a:pt x="0" y="249"/>
                </a:lnTo>
                <a:lnTo>
                  <a:pt x="0" y="243"/>
                </a:lnTo>
                <a:lnTo>
                  <a:pt x="3" y="238"/>
                </a:lnTo>
                <a:lnTo>
                  <a:pt x="8" y="235"/>
                </a:lnTo>
                <a:lnTo>
                  <a:pt x="17" y="234"/>
                </a:lnTo>
                <a:lnTo>
                  <a:pt x="24" y="232"/>
                </a:lnTo>
                <a:lnTo>
                  <a:pt x="38" y="225"/>
                </a:lnTo>
                <a:lnTo>
                  <a:pt x="44" y="222"/>
                </a:lnTo>
                <a:lnTo>
                  <a:pt x="50" y="217"/>
                </a:lnTo>
                <a:lnTo>
                  <a:pt x="55" y="210"/>
                </a:lnTo>
                <a:lnTo>
                  <a:pt x="60" y="191"/>
                </a:lnTo>
                <a:lnTo>
                  <a:pt x="65" y="185"/>
                </a:lnTo>
                <a:lnTo>
                  <a:pt x="71" y="181"/>
                </a:lnTo>
                <a:lnTo>
                  <a:pt x="78" y="178"/>
                </a:lnTo>
                <a:lnTo>
                  <a:pt x="84" y="175"/>
                </a:lnTo>
                <a:lnTo>
                  <a:pt x="91" y="174"/>
                </a:lnTo>
                <a:lnTo>
                  <a:pt x="97" y="178"/>
                </a:lnTo>
                <a:lnTo>
                  <a:pt x="102" y="180"/>
                </a:lnTo>
                <a:lnTo>
                  <a:pt x="104" y="179"/>
                </a:lnTo>
                <a:lnTo>
                  <a:pt x="104" y="173"/>
                </a:lnTo>
                <a:lnTo>
                  <a:pt x="101" y="166"/>
                </a:lnTo>
                <a:lnTo>
                  <a:pt x="101" y="163"/>
                </a:lnTo>
                <a:lnTo>
                  <a:pt x="103" y="162"/>
                </a:lnTo>
                <a:lnTo>
                  <a:pt x="108" y="162"/>
                </a:lnTo>
                <a:lnTo>
                  <a:pt x="109" y="163"/>
                </a:lnTo>
                <a:lnTo>
                  <a:pt x="111" y="163"/>
                </a:lnTo>
                <a:lnTo>
                  <a:pt x="111" y="165"/>
                </a:lnTo>
                <a:lnTo>
                  <a:pt x="114" y="165"/>
                </a:lnTo>
                <a:lnTo>
                  <a:pt x="115" y="162"/>
                </a:lnTo>
                <a:lnTo>
                  <a:pt x="117" y="159"/>
                </a:lnTo>
                <a:lnTo>
                  <a:pt x="120" y="156"/>
                </a:lnTo>
                <a:lnTo>
                  <a:pt x="123" y="155"/>
                </a:lnTo>
                <a:lnTo>
                  <a:pt x="135" y="155"/>
                </a:lnTo>
                <a:lnTo>
                  <a:pt x="141" y="156"/>
                </a:lnTo>
                <a:lnTo>
                  <a:pt x="146" y="155"/>
                </a:lnTo>
                <a:lnTo>
                  <a:pt x="150" y="151"/>
                </a:lnTo>
                <a:lnTo>
                  <a:pt x="150" y="147"/>
                </a:lnTo>
                <a:lnTo>
                  <a:pt x="147" y="137"/>
                </a:lnTo>
                <a:lnTo>
                  <a:pt x="147" y="132"/>
                </a:lnTo>
                <a:lnTo>
                  <a:pt x="150" y="131"/>
                </a:lnTo>
                <a:lnTo>
                  <a:pt x="152" y="133"/>
                </a:lnTo>
                <a:lnTo>
                  <a:pt x="153" y="136"/>
                </a:lnTo>
                <a:lnTo>
                  <a:pt x="156" y="138"/>
                </a:lnTo>
                <a:lnTo>
                  <a:pt x="157" y="142"/>
                </a:lnTo>
                <a:lnTo>
                  <a:pt x="159" y="147"/>
                </a:lnTo>
                <a:lnTo>
                  <a:pt x="162" y="149"/>
                </a:lnTo>
                <a:lnTo>
                  <a:pt x="163" y="149"/>
                </a:lnTo>
                <a:lnTo>
                  <a:pt x="164" y="148"/>
                </a:lnTo>
                <a:lnTo>
                  <a:pt x="168" y="141"/>
                </a:lnTo>
                <a:lnTo>
                  <a:pt x="170" y="137"/>
                </a:lnTo>
                <a:lnTo>
                  <a:pt x="173" y="135"/>
                </a:lnTo>
                <a:lnTo>
                  <a:pt x="175" y="133"/>
                </a:lnTo>
                <a:lnTo>
                  <a:pt x="179" y="132"/>
                </a:lnTo>
                <a:lnTo>
                  <a:pt x="180" y="130"/>
                </a:lnTo>
                <a:lnTo>
                  <a:pt x="182" y="129"/>
                </a:lnTo>
                <a:lnTo>
                  <a:pt x="183" y="127"/>
                </a:lnTo>
                <a:lnTo>
                  <a:pt x="183" y="121"/>
                </a:lnTo>
                <a:lnTo>
                  <a:pt x="182" y="119"/>
                </a:lnTo>
                <a:lnTo>
                  <a:pt x="182" y="117"/>
                </a:lnTo>
                <a:lnTo>
                  <a:pt x="183" y="115"/>
                </a:lnTo>
                <a:lnTo>
                  <a:pt x="186" y="115"/>
                </a:lnTo>
                <a:lnTo>
                  <a:pt x="192" y="121"/>
                </a:lnTo>
                <a:lnTo>
                  <a:pt x="194" y="121"/>
                </a:lnTo>
                <a:lnTo>
                  <a:pt x="194" y="115"/>
                </a:lnTo>
                <a:lnTo>
                  <a:pt x="193" y="113"/>
                </a:lnTo>
                <a:lnTo>
                  <a:pt x="192" y="109"/>
                </a:lnTo>
                <a:lnTo>
                  <a:pt x="191" y="107"/>
                </a:lnTo>
                <a:lnTo>
                  <a:pt x="191" y="101"/>
                </a:lnTo>
                <a:lnTo>
                  <a:pt x="189" y="94"/>
                </a:lnTo>
                <a:lnTo>
                  <a:pt x="186" y="88"/>
                </a:lnTo>
                <a:lnTo>
                  <a:pt x="183" y="81"/>
                </a:lnTo>
                <a:lnTo>
                  <a:pt x="183" y="76"/>
                </a:lnTo>
                <a:lnTo>
                  <a:pt x="187" y="73"/>
                </a:lnTo>
                <a:lnTo>
                  <a:pt x="192" y="72"/>
                </a:lnTo>
                <a:lnTo>
                  <a:pt x="198" y="71"/>
                </a:lnTo>
                <a:lnTo>
                  <a:pt x="203" y="70"/>
                </a:lnTo>
                <a:lnTo>
                  <a:pt x="206" y="66"/>
                </a:lnTo>
                <a:lnTo>
                  <a:pt x="207" y="64"/>
                </a:lnTo>
                <a:lnTo>
                  <a:pt x="204" y="57"/>
                </a:lnTo>
                <a:lnTo>
                  <a:pt x="204" y="54"/>
                </a:lnTo>
                <a:lnTo>
                  <a:pt x="203" y="52"/>
                </a:lnTo>
                <a:lnTo>
                  <a:pt x="203" y="51"/>
                </a:lnTo>
                <a:lnTo>
                  <a:pt x="201" y="48"/>
                </a:lnTo>
                <a:lnTo>
                  <a:pt x="197" y="48"/>
                </a:lnTo>
                <a:lnTo>
                  <a:pt x="193" y="49"/>
                </a:lnTo>
                <a:lnTo>
                  <a:pt x="191" y="51"/>
                </a:lnTo>
                <a:lnTo>
                  <a:pt x="187" y="52"/>
                </a:lnTo>
                <a:lnTo>
                  <a:pt x="185" y="53"/>
                </a:lnTo>
                <a:lnTo>
                  <a:pt x="183" y="53"/>
                </a:lnTo>
                <a:lnTo>
                  <a:pt x="182" y="52"/>
                </a:lnTo>
                <a:lnTo>
                  <a:pt x="181" y="49"/>
                </a:lnTo>
                <a:lnTo>
                  <a:pt x="181" y="46"/>
                </a:lnTo>
                <a:lnTo>
                  <a:pt x="182" y="43"/>
                </a:lnTo>
                <a:lnTo>
                  <a:pt x="183" y="42"/>
                </a:lnTo>
                <a:lnTo>
                  <a:pt x="183" y="40"/>
                </a:lnTo>
                <a:lnTo>
                  <a:pt x="185" y="36"/>
                </a:lnTo>
                <a:lnTo>
                  <a:pt x="185" y="33"/>
                </a:lnTo>
                <a:lnTo>
                  <a:pt x="186" y="28"/>
                </a:lnTo>
                <a:lnTo>
                  <a:pt x="191" y="25"/>
                </a:lnTo>
                <a:lnTo>
                  <a:pt x="197" y="24"/>
                </a:lnTo>
                <a:lnTo>
                  <a:pt x="201" y="22"/>
                </a:lnTo>
                <a:lnTo>
                  <a:pt x="204" y="18"/>
                </a:lnTo>
                <a:lnTo>
                  <a:pt x="204" y="16"/>
                </a:lnTo>
                <a:lnTo>
                  <a:pt x="207" y="16"/>
                </a:lnTo>
                <a:lnTo>
                  <a:pt x="209" y="17"/>
                </a:lnTo>
                <a:lnTo>
                  <a:pt x="213" y="19"/>
                </a:lnTo>
                <a:lnTo>
                  <a:pt x="215" y="19"/>
                </a:lnTo>
                <a:lnTo>
                  <a:pt x="217" y="21"/>
                </a:lnTo>
                <a:lnTo>
                  <a:pt x="218" y="19"/>
                </a:lnTo>
                <a:lnTo>
                  <a:pt x="218" y="1"/>
                </a:lnTo>
                <a:lnTo>
                  <a:pt x="239" y="1"/>
                </a:lnTo>
                <a:lnTo>
                  <a:pt x="252" y="0"/>
                </a:lnTo>
                <a:close/>
              </a:path>
            </a:pathLst>
          </a:custGeom>
          <a:solidFill>
            <a:srgbClr val="7f7f7f"/>
          </a:solidFill>
          <a:ln w="0">
            <a:solidFill>
              <a:srgbClr val="adada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reeform 3337"/>
          <p:cNvSpPr/>
          <p:nvPr/>
        </p:nvSpPr>
        <p:spPr>
          <a:xfrm>
            <a:off x="7059600" y="1946160"/>
            <a:ext cx="781200" cy="668520"/>
          </a:xfrm>
          <a:custGeom>
            <a:avLst/>
            <a:gdLst>
              <a:gd name="textAreaLeft" fmla="*/ 0 w 781200"/>
              <a:gd name="textAreaRight" fmla="*/ 781560 w 781200"/>
              <a:gd name="textAreaTop" fmla="*/ 0 h 668520"/>
              <a:gd name="textAreaBottom" fmla="*/ 668880 h 668520"/>
            </a:gdLst>
            <a:ahLst/>
            <a:rect l="textAreaLeft" t="textAreaTop" r="textAreaRight" b="textAreaBottom"/>
            <a:pathLst>
              <a:path w="570" h="488">
                <a:moveTo>
                  <a:pt x="53" y="0"/>
                </a:moveTo>
                <a:lnTo>
                  <a:pt x="66" y="0"/>
                </a:lnTo>
                <a:lnTo>
                  <a:pt x="71" y="2"/>
                </a:lnTo>
                <a:lnTo>
                  <a:pt x="66" y="23"/>
                </a:lnTo>
                <a:lnTo>
                  <a:pt x="64" y="30"/>
                </a:lnTo>
                <a:lnTo>
                  <a:pt x="63" y="33"/>
                </a:lnTo>
                <a:lnTo>
                  <a:pt x="61" y="36"/>
                </a:lnTo>
                <a:lnTo>
                  <a:pt x="60" y="39"/>
                </a:lnTo>
                <a:lnTo>
                  <a:pt x="60" y="46"/>
                </a:lnTo>
                <a:lnTo>
                  <a:pt x="63" y="48"/>
                </a:lnTo>
                <a:lnTo>
                  <a:pt x="66" y="57"/>
                </a:lnTo>
                <a:lnTo>
                  <a:pt x="67" y="65"/>
                </a:lnTo>
                <a:lnTo>
                  <a:pt x="70" y="72"/>
                </a:lnTo>
                <a:lnTo>
                  <a:pt x="75" y="76"/>
                </a:lnTo>
                <a:lnTo>
                  <a:pt x="84" y="80"/>
                </a:lnTo>
                <a:lnTo>
                  <a:pt x="93" y="83"/>
                </a:lnTo>
                <a:lnTo>
                  <a:pt x="97" y="87"/>
                </a:lnTo>
                <a:lnTo>
                  <a:pt x="101" y="90"/>
                </a:lnTo>
                <a:lnTo>
                  <a:pt x="112" y="94"/>
                </a:lnTo>
                <a:lnTo>
                  <a:pt x="117" y="94"/>
                </a:lnTo>
                <a:lnTo>
                  <a:pt x="118" y="92"/>
                </a:lnTo>
                <a:lnTo>
                  <a:pt x="118" y="80"/>
                </a:lnTo>
                <a:lnTo>
                  <a:pt x="119" y="77"/>
                </a:lnTo>
                <a:lnTo>
                  <a:pt x="123" y="77"/>
                </a:lnTo>
                <a:lnTo>
                  <a:pt x="130" y="82"/>
                </a:lnTo>
                <a:lnTo>
                  <a:pt x="138" y="88"/>
                </a:lnTo>
                <a:lnTo>
                  <a:pt x="147" y="95"/>
                </a:lnTo>
                <a:lnTo>
                  <a:pt x="154" y="101"/>
                </a:lnTo>
                <a:lnTo>
                  <a:pt x="160" y="106"/>
                </a:lnTo>
                <a:lnTo>
                  <a:pt x="165" y="111"/>
                </a:lnTo>
                <a:lnTo>
                  <a:pt x="171" y="116"/>
                </a:lnTo>
                <a:lnTo>
                  <a:pt x="178" y="119"/>
                </a:lnTo>
                <a:lnTo>
                  <a:pt x="186" y="120"/>
                </a:lnTo>
                <a:lnTo>
                  <a:pt x="196" y="122"/>
                </a:lnTo>
                <a:lnTo>
                  <a:pt x="202" y="125"/>
                </a:lnTo>
                <a:lnTo>
                  <a:pt x="208" y="131"/>
                </a:lnTo>
                <a:lnTo>
                  <a:pt x="213" y="135"/>
                </a:lnTo>
                <a:lnTo>
                  <a:pt x="219" y="138"/>
                </a:lnTo>
                <a:lnTo>
                  <a:pt x="226" y="141"/>
                </a:lnTo>
                <a:lnTo>
                  <a:pt x="237" y="146"/>
                </a:lnTo>
                <a:lnTo>
                  <a:pt x="246" y="149"/>
                </a:lnTo>
                <a:lnTo>
                  <a:pt x="261" y="154"/>
                </a:lnTo>
                <a:lnTo>
                  <a:pt x="276" y="159"/>
                </a:lnTo>
                <a:lnTo>
                  <a:pt x="293" y="164"/>
                </a:lnTo>
                <a:lnTo>
                  <a:pt x="309" y="168"/>
                </a:lnTo>
                <a:lnTo>
                  <a:pt x="321" y="172"/>
                </a:lnTo>
                <a:lnTo>
                  <a:pt x="328" y="174"/>
                </a:lnTo>
                <a:lnTo>
                  <a:pt x="333" y="177"/>
                </a:lnTo>
                <a:lnTo>
                  <a:pt x="336" y="179"/>
                </a:lnTo>
                <a:lnTo>
                  <a:pt x="337" y="183"/>
                </a:lnTo>
                <a:lnTo>
                  <a:pt x="337" y="185"/>
                </a:lnTo>
                <a:lnTo>
                  <a:pt x="336" y="189"/>
                </a:lnTo>
                <a:lnTo>
                  <a:pt x="331" y="194"/>
                </a:lnTo>
                <a:lnTo>
                  <a:pt x="331" y="196"/>
                </a:lnTo>
                <a:lnTo>
                  <a:pt x="334" y="201"/>
                </a:lnTo>
                <a:lnTo>
                  <a:pt x="341" y="203"/>
                </a:lnTo>
                <a:lnTo>
                  <a:pt x="345" y="203"/>
                </a:lnTo>
                <a:lnTo>
                  <a:pt x="351" y="201"/>
                </a:lnTo>
                <a:lnTo>
                  <a:pt x="357" y="197"/>
                </a:lnTo>
                <a:lnTo>
                  <a:pt x="360" y="192"/>
                </a:lnTo>
                <a:lnTo>
                  <a:pt x="365" y="190"/>
                </a:lnTo>
                <a:lnTo>
                  <a:pt x="367" y="190"/>
                </a:lnTo>
                <a:lnTo>
                  <a:pt x="369" y="192"/>
                </a:lnTo>
                <a:lnTo>
                  <a:pt x="371" y="195"/>
                </a:lnTo>
                <a:lnTo>
                  <a:pt x="375" y="197"/>
                </a:lnTo>
                <a:lnTo>
                  <a:pt x="379" y="200"/>
                </a:lnTo>
                <a:lnTo>
                  <a:pt x="387" y="200"/>
                </a:lnTo>
                <a:lnTo>
                  <a:pt x="396" y="197"/>
                </a:lnTo>
                <a:lnTo>
                  <a:pt x="408" y="190"/>
                </a:lnTo>
                <a:lnTo>
                  <a:pt x="421" y="180"/>
                </a:lnTo>
                <a:lnTo>
                  <a:pt x="433" y="167"/>
                </a:lnTo>
                <a:lnTo>
                  <a:pt x="445" y="153"/>
                </a:lnTo>
                <a:lnTo>
                  <a:pt x="456" y="140"/>
                </a:lnTo>
                <a:lnTo>
                  <a:pt x="465" y="129"/>
                </a:lnTo>
                <a:lnTo>
                  <a:pt x="469" y="122"/>
                </a:lnTo>
                <a:lnTo>
                  <a:pt x="478" y="114"/>
                </a:lnTo>
                <a:lnTo>
                  <a:pt x="489" y="110"/>
                </a:lnTo>
                <a:lnTo>
                  <a:pt x="499" y="107"/>
                </a:lnTo>
                <a:lnTo>
                  <a:pt x="508" y="106"/>
                </a:lnTo>
                <a:lnTo>
                  <a:pt x="514" y="105"/>
                </a:lnTo>
                <a:lnTo>
                  <a:pt x="522" y="100"/>
                </a:lnTo>
                <a:lnTo>
                  <a:pt x="532" y="95"/>
                </a:lnTo>
                <a:lnTo>
                  <a:pt x="540" y="90"/>
                </a:lnTo>
                <a:lnTo>
                  <a:pt x="547" y="87"/>
                </a:lnTo>
                <a:lnTo>
                  <a:pt x="549" y="86"/>
                </a:lnTo>
                <a:lnTo>
                  <a:pt x="551" y="82"/>
                </a:lnTo>
                <a:lnTo>
                  <a:pt x="552" y="80"/>
                </a:lnTo>
                <a:lnTo>
                  <a:pt x="556" y="76"/>
                </a:lnTo>
                <a:lnTo>
                  <a:pt x="562" y="76"/>
                </a:lnTo>
                <a:lnTo>
                  <a:pt x="565" y="77"/>
                </a:lnTo>
                <a:lnTo>
                  <a:pt x="570" y="78"/>
                </a:lnTo>
                <a:lnTo>
                  <a:pt x="570" y="96"/>
                </a:lnTo>
                <a:lnTo>
                  <a:pt x="569" y="98"/>
                </a:lnTo>
                <a:lnTo>
                  <a:pt x="567" y="96"/>
                </a:lnTo>
                <a:lnTo>
                  <a:pt x="565" y="96"/>
                </a:lnTo>
                <a:lnTo>
                  <a:pt x="561" y="94"/>
                </a:lnTo>
                <a:lnTo>
                  <a:pt x="559" y="93"/>
                </a:lnTo>
                <a:lnTo>
                  <a:pt x="556" y="93"/>
                </a:lnTo>
                <a:lnTo>
                  <a:pt x="556" y="95"/>
                </a:lnTo>
                <a:lnTo>
                  <a:pt x="553" y="99"/>
                </a:lnTo>
                <a:lnTo>
                  <a:pt x="549" y="101"/>
                </a:lnTo>
                <a:lnTo>
                  <a:pt x="543" y="102"/>
                </a:lnTo>
                <a:lnTo>
                  <a:pt x="538" y="105"/>
                </a:lnTo>
                <a:lnTo>
                  <a:pt x="537" y="110"/>
                </a:lnTo>
                <a:lnTo>
                  <a:pt x="537" y="113"/>
                </a:lnTo>
                <a:lnTo>
                  <a:pt x="535" y="117"/>
                </a:lnTo>
                <a:lnTo>
                  <a:pt x="535" y="119"/>
                </a:lnTo>
                <a:lnTo>
                  <a:pt x="534" y="120"/>
                </a:lnTo>
                <a:lnTo>
                  <a:pt x="533" y="123"/>
                </a:lnTo>
                <a:lnTo>
                  <a:pt x="533" y="126"/>
                </a:lnTo>
                <a:lnTo>
                  <a:pt x="534" y="129"/>
                </a:lnTo>
                <a:lnTo>
                  <a:pt x="535" y="130"/>
                </a:lnTo>
                <a:lnTo>
                  <a:pt x="537" y="130"/>
                </a:lnTo>
                <a:lnTo>
                  <a:pt x="539" y="129"/>
                </a:lnTo>
                <a:lnTo>
                  <a:pt x="543" y="128"/>
                </a:lnTo>
                <a:lnTo>
                  <a:pt x="545" y="126"/>
                </a:lnTo>
                <a:lnTo>
                  <a:pt x="549" y="125"/>
                </a:lnTo>
                <a:lnTo>
                  <a:pt x="553" y="125"/>
                </a:lnTo>
                <a:lnTo>
                  <a:pt x="555" y="128"/>
                </a:lnTo>
                <a:lnTo>
                  <a:pt x="555" y="129"/>
                </a:lnTo>
                <a:lnTo>
                  <a:pt x="556" y="131"/>
                </a:lnTo>
                <a:lnTo>
                  <a:pt x="556" y="134"/>
                </a:lnTo>
                <a:lnTo>
                  <a:pt x="559" y="141"/>
                </a:lnTo>
                <a:lnTo>
                  <a:pt x="558" y="143"/>
                </a:lnTo>
                <a:lnTo>
                  <a:pt x="555" y="147"/>
                </a:lnTo>
                <a:lnTo>
                  <a:pt x="550" y="148"/>
                </a:lnTo>
                <a:lnTo>
                  <a:pt x="544" y="149"/>
                </a:lnTo>
                <a:lnTo>
                  <a:pt x="539" y="150"/>
                </a:lnTo>
                <a:lnTo>
                  <a:pt x="535" y="153"/>
                </a:lnTo>
                <a:lnTo>
                  <a:pt x="535" y="158"/>
                </a:lnTo>
                <a:lnTo>
                  <a:pt x="538" y="165"/>
                </a:lnTo>
                <a:lnTo>
                  <a:pt x="541" y="171"/>
                </a:lnTo>
                <a:lnTo>
                  <a:pt x="543" y="178"/>
                </a:lnTo>
                <a:lnTo>
                  <a:pt x="543" y="184"/>
                </a:lnTo>
                <a:lnTo>
                  <a:pt x="544" y="186"/>
                </a:lnTo>
                <a:lnTo>
                  <a:pt x="545" y="190"/>
                </a:lnTo>
                <a:lnTo>
                  <a:pt x="546" y="192"/>
                </a:lnTo>
                <a:lnTo>
                  <a:pt x="546" y="198"/>
                </a:lnTo>
                <a:lnTo>
                  <a:pt x="544" y="198"/>
                </a:lnTo>
                <a:lnTo>
                  <a:pt x="538" y="192"/>
                </a:lnTo>
                <a:lnTo>
                  <a:pt x="535" y="192"/>
                </a:lnTo>
                <a:lnTo>
                  <a:pt x="534" y="194"/>
                </a:lnTo>
                <a:lnTo>
                  <a:pt x="534" y="196"/>
                </a:lnTo>
                <a:lnTo>
                  <a:pt x="535" y="198"/>
                </a:lnTo>
                <a:lnTo>
                  <a:pt x="535" y="204"/>
                </a:lnTo>
                <a:lnTo>
                  <a:pt x="534" y="206"/>
                </a:lnTo>
                <a:lnTo>
                  <a:pt x="532" y="207"/>
                </a:lnTo>
                <a:lnTo>
                  <a:pt x="531" y="209"/>
                </a:lnTo>
                <a:lnTo>
                  <a:pt x="527" y="210"/>
                </a:lnTo>
                <a:lnTo>
                  <a:pt x="525" y="212"/>
                </a:lnTo>
                <a:lnTo>
                  <a:pt x="522" y="214"/>
                </a:lnTo>
                <a:lnTo>
                  <a:pt x="520" y="218"/>
                </a:lnTo>
                <a:lnTo>
                  <a:pt x="516" y="225"/>
                </a:lnTo>
                <a:lnTo>
                  <a:pt x="515" y="226"/>
                </a:lnTo>
                <a:lnTo>
                  <a:pt x="514" y="226"/>
                </a:lnTo>
                <a:lnTo>
                  <a:pt x="511" y="224"/>
                </a:lnTo>
                <a:lnTo>
                  <a:pt x="509" y="219"/>
                </a:lnTo>
                <a:lnTo>
                  <a:pt x="508" y="215"/>
                </a:lnTo>
                <a:lnTo>
                  <a:pt x="505" y="213"/>
                </a:lnTo>
                <a:lnTo>
                  <a:pt x="504" y="210"/>
                </a:lnTo>
                <a:lnTo>
                  <a:pt x="502" y="208"/>
                </a:lnTo>
                <a:lnTo>
                  <a:pt x="499" y="209"/>
                </a:lnTo>
                <a:lnTo>
                  <a:pt x="499" y="214"/>
                </a:lnTo>
                <a:lnTo>
                  <a:pt x="502" y="224"/>
                </a:lnTo>
                <a:lnTo>
                  <a:pt x="502" y="228"/>
                </a:lnTo>
                <a:lnTo>
                  <a:pt x="498" y="232"/>
                </a:lnTo>
                <a:lnTo>
                  <a:pt x="493" y="233"/>
                </a:lnTo>
                <a:lnTo>
                  <a:pt x="487" y="232"/>
                </a:lnTo>
                <a:lnTo>
                  <a:pt x="475" y="232"/>
                </a:lnTo>
                <a:lnTo>
                  <a:pt x="472" y="233"/>
                </a:lnTo>
                <a:lnTo>
                  <a:pt x="469" y="236"/>
                </a:lnTo>
                <a:lnTo>
                  <a:pt x="467" y="239"/>
                </a:lnTo>
                <a:lnTo>
                  <a:pt x="466" y="242"/>
                </a:lnTo>
                <a:lnTo>
                  <a:pt x="463" y="242"/>
                </a:lnTo>
                <a:lnTo>
                  <a:pt x="463" y="240"/>
                </a:lnTo>
                <a:lnTo>
                  <a:pt x="461" y="240"/>
                </a:lnTo>
                <a:lnTo>
                  <a:pt x="460" y="239"/>
                </a:lnTo>
                <a:lnTo>
                  <a:pt x="455" y="239"/>
                </a:lnTo>
                <a:lnTo>
                  <a:pt x="453" y="240"/>
                </a:lnTo>
                <a:lnTo>
                  <a:pt x="453" y="243"/>
                </a:lnTo>
                <a:lnTo>
                  <a:pt x="456" y="250"/>
                </a:lnTo>
                <a:lnTo>
                  <a:pt x="456" y="256"/>
                </a:lnTo>
                <a:lnTo>
                  <a:pt x="454" y="257"/>
                </a:lnTo>
                <a:lnTo>
                  <a:pt x="449" y="255"/>
                </a:lnTo>
                <a:lnTo>
                  <a:pt x="443" y="251"/>
                </a:lnTo>
                <a:lnTo>
                  <a:pt x="436" y="252"/>
                </a:lnTo>
                <a:lnTo>
                  <a:pt x="430" y="255"/>
                </a:lnTo>
                <a:lnTo>
                  <a:pt x="423" y="258"/>
                </a:lnTo>
                <a:lnTo>
                  <a:pt x="417" y="262"/>
                </a:lnTo>
                <a:lnTo>
                  <a:pt x="412" y="268"/>
                </a:lnTo>
                <a:lnTo>
                  <a:pt x="407" y="287"/>
                </a:lnTo>
                <a:lnTo>
                  <a:pt x="402" y="294"/>
                </a:lnTo>
                <a:lnTo>
                  <a:pt x="396" y="299"/>
                </a:lnTo>
                <a:lnTo>
                  <a:pt x="390" y="302"/>
                </a:lnTo>
                <a:lnTo>
                  <a:pt x="376" y="309"/>
                </a:lnTo>
                <a:lnTo>
                  <a:pt x="369" y="311"/>
                </a:lnTo>
                <a:lnTo>
                  <a:pt x="360" y="312"/>
                </a:lnTo>
                <a:lnTo>
                  <a:pt x="355" y="315"/>
                </a:lnTo>
                <a:lnTo>
                  <a:pt x="352" y="320"/>
                </a:lnTo>
                <a:lnTo>
                  <a:pt x="352" y="326"/>
                </a:lnTo>
                <a:lnTo>
                  <a:pt x="355" y="334"/>
                </a:lnTo>
                <a:lnTo>
                  <a:pt x="359" y="341"/>
                </a:lnTo>
                <a:lnTo>
                  <a:pt x="364" y="347"/>
                </a:lnTo>
                <a:lnTo>
                  <a:pt x="365" y="352"/>
                </a:lnTo>
                <a:lnTo>
                  <a:pt x="364" y="356"/>
                </a:lnTo>
                <a:lnTo>
                  <a:pt x="361" y="359"/>
                </a:lnTo>
                <a:lnTo>
                  <a:pt x="360" y="364"/>
                </a:lnTo>
                <a:lnTo>
                  <a:pt x="360" y="371"/>
                </a:lnTo>
                <a:lnTo>
                  <a:pt x="363" y="376"/>
                </a:lnTo>
                <a:lnTo>
                  <a:pt x="365" y="377"/>
                </a:lnTo>
                <a:lnTo>
                  <a:pt x="358" y="381"/>
                </a:lnTo>
                <a:lnTo>
                  <a:pt x="357" y="381"/>
                </a:lnTo>
                <a:lnTo>
                  <a:pt x="352" y="383"/>
                </a:lnTo>
                <a:lnTo>
                  <a:pt x="346" y="395"/>
                </a:lnTo>
                <a:lnTo>
                  <a:pt x="341" y="398"/>
                </a:lnTo>
                <a:lnTo>
                  <a:pt x="337" y="400"/>
                </a:lnTo>
                <a:lnTo>
                  <a:pt x="333" y="402"/>
                </a:lnTo>
                <a:lnTo>
                  <a:pt x="333" y="405"/>
                </a:lnTo>
                <a:lnTo>
                  <a:pt x="334" y="406"/>
                </a:lnTo>
                <a:lnTo>
                  <a:pt x="348" y="406"/>
                </a:lnTo>
                <a:lnTo>
                  <a:pt x="355" y="405"/>
                </a:lnTo>
                <a:lnTo>
                  <a:pt x="360" y="406"/>
                </a:lnTo>
                <a:lnTo>
                  <a:pt x="361" y="408"/>
                </a:lnTo>
                <a:lnTo>
                  <a:pt x="357" y="420"/>
                </a:lnTo>
                <a:lnTo>
                  <a:pt x="352" y="426"/>
                </a:lnTo>
                <a:lnTo>
                  <a:pt x="345" y="429"/>
                </a:lnTo>
                <a:lnTo>
                  <a:pt x="340" y="429"/>
                </a:lnTo>
                <a:lnTo>
                  <a:pt x="336" y="430"/>
                </a:lnTo>
                <a:lnTo>
                  <a:pt x="334" y="430"/>
                </a:lnTo>
                <a:lnTo>
                  <a:pt x="327" y="428"/>
                </a:lnTo>
                <a:lnTo>
                  <a:pt x="321" y="426"/>
                </a:lnTo>
                <a:lnTo>
                  <a:pt x="316" y="425"/>
                </a:lnTo>
                <a:lnTo>
                  <a:pt x="309" y="425"/>
                </a:lnTo>
                <a:lnTo>
                  <a:pt x="306" y="426"/>
                </a:lnTo>
                <a:lnTo>
                  <a:pt x="298" y="435"/>
                </a:lnTo>
                <a:lnTo>
                  <a:pt x="295" y="436"/>
                </a:lnTo>
                <a:lnTo>
                  <a:pt x="295" y="440"/>
                </a:lnTo>
                <a:lnTo>
                  <a:pt x="298" y="441"/>
                </a:lnTo>
                <a:lnTo>
                  <a:pt x="293" y="442"/>
                </a:lnTo>
                <a:lnTo>
                  <a:pt x="286" y="446"/>
                </a:lnTo>
                <a:lnTo>
                  <a:pt x="285" y="448"/>
                </a:lnTo>
                <a:lnTo>
                  <a:pt x="282" y="452"/>
                </a:lnTo>
                <a:lnTo>
                  <a:pt x="281" y="454"/>
                </a:lnTo>
                <a:lnTo>
                  <a:pt x="281" y="456"/>
                </a:lnTo>
                <a:lnTo>
                  <a:pt x="279" y="461"/>
                </a:lnTo>
                <a:lnTo>
                  <a:pt x="277" y="462"/>
                </a:lnTo>
                <a:lnTo>
                  <a:pt x="276" y="462"/>
                </a:lnTo>
                <a:lnTo>
                  <a:pt x="274" y="461"/>
                </a:lnTo>
                <a:lnTo>
                  <a:pt x="271" y="458"/>
                </a:lnTo>
                <a:lnTo>
                  <a:pt x="270" y="453"/>
                </a:lnTo>
                <a:lnTo>
                  <a:pt x="270" y="448"/>
                </a:lnTo>
                <a:lnTo>
                  <a:pt x="268" y="443"/>
                </a:lnTo>
                <a:lnTo>
                  <a:pt x="262" y="441"/>
                </a:lnTo>
                <a:lnTo>
                  <a:pt x="252" y="440"/>
                </a:lnTo>
                <a:lnTo>
                  <a:pt x="246" y="441"/>
                </a:lnTo>
                <a:lnTo>
                  <a:pt x="243" y="443"/>
                </a:lnTo>
                <a:lnTo>
                  <a:pt x="241" y="449"/>
                </a:lnTo>
                <a:lnTo>
                  <a:pt x="243" y="455"/>
                </a:lnTo>
                <a:lnTo>
                  <a:pt x="245" y="461"/>
                </a:lnTo>
                <a:lnTo>
                  <a:pt x="247" y="466"/>
                </a:lnTo>
                <a:lnTo>
                  <a:pt x="247" y="468"/>
                </a:lnTo>
                <a:lnTo>
                  <a:pt x="246" y="468"/>
                </a:lnTo>
                <a:lnTo>
                  <a:pt x="241" y="465"/>
                </a:lnTo>
                <a:lnTo>
                  <a:pt x="235" y="458"/>
                </a:lnTo>
                <a:lnTo>
                  <a:pt x="229" y="452"/>
                </a:lnTo>
                <a:lnTo>
                  <a:pt x="223" y="450"/>
                </a:lnTo>
                <a:lnTo>
                  <a:pt x="217" y="455"/>
                </a:lnTo>
                <a:lnTo>
                  <a:pt x="213" y="460"/>
                </a:lnTo>
                <a:lnTo>
                  <a:pt x="208" y="462"/>
                </a:lnTo>
                <a:lnTo>
                  <a:pt x="203" y="460"/>
                </a:lnTo>
                <a:lnTo>
                  <a:pt x="202" y="456"/>
                </a:lnTo>
                <a:lnTo>
                  <a:pt x="203" y="453"/>
                </a:lnTo>
                <a:lnTo>
                  <a:pt x="205" y="450"/>
                </a:lnTo>
                <a:lnTo>
                  <a:pt x="207" y="446"/>
                </a:lnTo>
                <a:lnTo>
                  <a:pt x="207" y="441"/>
                </a:lnTo>
                <a:lnTo>
                  <a:pt x="205" y="438"/>
                </a:lnTo>
                <a:lnTo>
                  <a:pt x="204" y="437"/>
                </a:lnTo>
                <a:lnTo>
                  <a:pt x="202" y="437"/>
                </a:lnTo>
                <a:lnTo>
                  <a:pt x="201" y="440"/>
                </a:lnTo>
                <a:lnTo>
                  <a:pt x="199" y="441"/>
                </a:lnTo>
                <a:lnTo>
                  <a:pt x="196" y="441"/>
                </a:lnTo>
                <a:lnTo>
                  <a:pt x="193" y="440"/>
                </a:lnTo>
                <a:lnTo>
                  <a:pt x="191" y="437"/>
                </a:lnTo>
                <a:lnTo>
                  <a:pt x="190" y="435"/>
                </a:lnTo>
                <a:lnTo>
                  <a:pt x="189" y="431"/>
                </a:lnTo>
                <a:lnTo>
                  <a:pt x="187" y="429"/>
                </a:lnTo>
                <a:lnTo>
                  <a:pt x="184" y="425"/>
                </a:lnTo>
                <a:lnTo>
                  <a:pt x="183" y="425"/>
                </a:lnTo>
                <a:lnTo>
                  <a:pt x="179" y="429"/>
                </a:lnTo>
                <a:lnTo>
                  <a:pt x="174" y="438"/>
                </a:lnTo>
                <a:lnTo>
                  <a:pt x="171" y="448"/>
                </a:lnTo>
                <a:lnTo>
                  <a:pt x="168" y="453"/>
                </a:lnTo>
                <a:lnTo>
                  <a:pt x="166" y="454"/>
                </a:lnTo>
                <a:lnTo>
                  <a:pt x="163" y="456"/>
                </a:lnTo>
                <a:lnTo>
                  <a:pt x="162" y="460"/>
                </a:lnTo>
                <a:lnTo>
                  <a:pt x="161" y="462"/>
                </a:lnTo>
                <a:lnTo>
                  <a:pt x="161" y="465"/>
                </a:lnTo>
                <a:lnTo>
                  <a:pt x="162" y="466"/>
                </a:lnTo>
                <a:lnTo>
                  <a:pt x="165" y="471"/>
                </a:lnTo>
                <a:lnTo>
                  <a:pt x="165" y="473"/>
                </a:lnTo>
                <a:lnTo>
                  <a:pt x="162" y="476"/>
                </a:lnTo>
                <a:lnTo>
                  <a:pt x="162" y="477"/>
                </a:lnTo>
                <a:lnTo>
                  <a:pt x="163" y="479"/>
                </a:lnTo>
                <a:lnTo>
                  <a:pt x="163" y="482"/>
                </a:lnTo>
                <a:lnTo>
                  <a:pt x="165" y="483"/>
                </a:lnTo>
                <a:lnTo>
                  <a:pt x="165" y="488"/>
                </a:lnTo>
                <a:lnTo>
                  <a:pt x="161" y="488"/>
                </a:lnTo>
                <a:lnTo>
                  <a:pt x="155" y="485"/>
                </a:lnTo>
                <a:lnTo>
                  <a:pt x="148" y="483"/>
                </a:lnTo>
                <a:lnTo>
                  <a:pt x="139" y="478"/>
                </a:lnTo>
                <a:lnTo>
                  <a:pt x="135" y="473"/>
                </a:lnTo>
                <a:lnTo>
                  <a:pt x="132" y="465"/>
                </a:lnTo>
                <a:lnTo>
                  <a:pt x="133" y="455"/>
                </a:lnTo>
                <a:lnTo>
                  <a:pt x="136" y="450"/>
                </a:lnTo>
                <a:lnTo>
                  <a:pt x="138" y="447"/>
                </a:lnTo>
                <a:lnTo>
                  <a:pt x="142" y="441"/>
                </a:lnTo>
                <a:lnTo>
                  <a:pt x="148" y="431"/>
                </a:lnTo>
                <a:lnTo>
                  <a:pt x="151" y="424"/>
                </a:lnTo>
                <a:lnTo>
                  <a:pt x="150" y="417"/>
                </a:lnTo>
                <a:lnTo>
                  <a:pt x="148" y="413"/>
                </a:lnTo>
                <a:lnTo>
                  <a:pt x="144" y="411"/>
                </a:lnTo>
                <a:lnTo>
                  <a:pt x="142" y="410"/>
                </a:lnTo>
                <a:lnTo>
                  <a:pt x="138" y="411"/>
                </a:lnTo>
                <a:lnTo>
                  <a:pt x="136" y="413"/>
                </a:lnTo>
                <a:lnTo>
                  <a:pt x="135" y="416"/>
                </a:lnTo>
                <a:lnTo>
                  <a:pt x="133" y="419"/>
                </a:lnTo>
                <a:lnTo>
                  <a:pt x="133" y="426"/>
                </a:lnTo>
                <a:lnTo>
                  <a:pt x="131" y="426"/>
                </a:lnTo>
                <a:lnTo>
                  <a:pt x="129" y="425"/>
                </a:lnTo>
                <a:lnTo>
                  <a:pt x="121" y="420"/>
                </a:lnTo>
                <a:lnTo>
                  <a:pt x="125" y="417"/>
                </a:lnTo>
                <a:lnTo>
                  <a:pt x="130" y="411"/>
                </a:lnTo>
                <a:lnTo>
                  <a:pt x="138" y="400"/>
                </a:lnTo>
                <a:lnTo>
                  <a:pt x="147" y="388"/>
                </a:lnTo>
                <a:lnTo>
                  <a:pt x="156" y="376"/>
                </a:lnTo>
                <a:lnTo>
                  <a:pt x="163" y="364"/>
                </a:lnTo>
                <a:lnTo>
                  <a:pt x="168" y="354"/>
                </a:lnTo>
                <a:lnTo>
                  <a:pt x="172" y="342"/>
                </a:lnTo>
                <a:lnTo>
                  <a:pt x="175" y="329"/>
                </a:lnTo>
                <a:lnTo>
                  <a:pt x="177" y="317"/>
                </a:lnTo>
                <a:lnTo>
                  <a:pt x="175" y="308"/>
                </a:lnTo>
                <a:lnTo>
                  <a:pt x="165" y="286"/>
                </a:lnTo>
                <a:lnTo>
                  <a:pt x="159" y="281"/>
                </a:lnTo>
                <a:lnTo>
                  <a:pt x="156" y="281"/>
                </a:lnTo>
                <a:lnTo>
                  <a:pt x="151" y="284"/>
                </a:lnTo>
                <a:lnTo>
                  <a:pt x="149" y="282"/>
                </a:lnTo>
                <a:lnTo>
                  <a:pt x="144" y="278"/>
                </a:lnTo>
                <a:lnTo>
                  <a:pt x="139" y="269"/>
                </a:lnTo>
                <a:lnTo>
                  <a:pt x="132" y="257"/>
                </a:lnTo>
                <a:lnTo>
                  <a:pt x="124" y="249"/>
                </a:lnTo>
                <a:lnTo>
                  <a:pt x="115" y="243"/>
                </a:lnTo>
                <a:lnTo>
                  <a:pt x="111" y="237"/>
                </a:lnTo>
                <a:lnTo>
                  <a:pt x="109" y="231"/>
                </a:lnTo>
                <a:lnTo>
                  <a:pt x="111" y="222"/>
                </a:lnTo>
                <a:lnTo>
                  <a:pt x="111" y="216"/>
                </a:lnTo>
                <a:lnTo>
                  <a:pt x="106" y="212"/>
                </a:lnTo>
                <a:lnTo>
                  <a:pt x="99" y="209"/>
                </a:lnTo>
                <a:lnTo>
                  <a:pt x="90" y="207"/>
                </a:lnTo>
                <a:lnTo>
                  <a:pt x="83" y="201"/>
                </a:lnTo>
                <a:lnTo>
                  <a:pt x="77" y="196"/>
                </a:lnTo>
                <a:lnTo>
                  <a:pt x="72" y="192"/>
                </a:lnTo>
                <a:lnTo>
                  <a:pt x="66" y="192"/>
                </a:lnTo>
                <a:lnTo>
                  <a:pt x="61" y="196"/>
                </a:lnTo>
                <a:lnTo>
                  <a:pt x="58" y="197"/>
                </a:lnTo>
                <a:lnTo>
                  <a:pt x="53" y="194"/>
                </a:lnTo>
                <a:lnTo>
                  <a:pt x="48" y="185"/>
                </a:lnTo>
                <a:lnTo>
                  <a:pt x="46" y="178"/>
                </a:lnTo>
                <a:lnTo>
                  <a:pt x="48" y="172"/>
                </a:lnTo>
                <a:lnTo>
                  <a:pt x="55" y="165"/>
                </a:lnTo>
                <a:lnTo>
                  <a:pt x="55" y="160"/>
                </a:lnTo>
                <a:lnTo>
                  <a:pt x="53" y="158"/>
                </a:lnTo>
                <a:lnTo>
                  <a:pt x="51" y="156"/>
                </a:lnTo>
                <a:lnTo>
                  <a:pt x="40" y="156"/>
                </a:lnTo>
                <a:lnTo>
                  <a:pt x="39" y="155"/>
                </a:lnTo>
                <a:lnTo>
                  <a:pt x="39" y="154"/>
                </a:lnTo>
                <a:lnTo>
                  <a:pt x="40" y="152"/>
                </a:lnTo>
                <a:lnTo>
                  <a:pt x="42" y="148"/>
                </a:lnTo>
                <a:lnTo>
                  <a:pt x="46" y="144"/>
                </a:lnTo>
                <a:lnTo>
                  <a:pt x="48" y="140"/>
                </a:lnTo>
                <a:lnTo>
                  <a:pt x="48" y="129"/>
                </a:lnTo>
                <a:lnTo>
                  <a:pt x="49" y="128"/>
                </a:lnTo>
                <a:lnTo>
                  <a:pt x="51" y="128"/>
                </a:lnTo>
                <a:lnTo>
                  <a:pt x="52" y="126"/>
                </a:lnTo>
                <a:lnTo>
                  <a:pt x="52" y="124"/>
                </a:lnTo>
                <a:lnTo>
                  <a:pt x="51" y="122"/>
                </a:lnTo>
                <a:lnTo>
                  <a:pt x="49" y="118"/>
                </a:lnTo>
                <a:lnTo>
                  <a:pt x="45" y="110"/>
                </a:lnTo>
                <a:lnTo>
                  <a:pt x="40" y="96"/>
                </a:lnTo>
                <a:lnTo>
                  <a:pt x="28" y="70"/>
                </a:lnTo>
                <a:lnTo>
                  <a:pt x="24" y="60"/>
                </a:lnTo>
                <a:lnTo>
                  <a:pt x="21" y="56"/>
                </a:lnTo>
                <a:lnTo>
                  <a:pt x="15" y="54"/>
                </a:lnTo>
                <a:lnTo>
                  <a:pt x="9" y="54"/>
                </a:lnTo>
                <a:lnTo>
                  <a:pt x="4" y="56"/>
                </a:lnTo>
                <a:lnTo>
                  <a:pt x="0" y="56"/>
                </a:lnTo>
                <a:lnTo>
                  <a:pt x="3" y="48"/>
                </a:lnTo>
                <a:lnTo>
                  <a:pt x="5" y="47"/>
                </a:lnTo>
                <a:lnTo>
                  <a:pt x="6" y="46"/>
                </a:lnTo>
                <a:lnTo>
                  <a:pt x="9" y="45"/>
                </a:lnTo>
                <a:lnTo>
                  <a:pt x="11" y="42"/>
                </a:lnTo>
                <a:lnTo>
                  <a:pt x="11" y="34"/>
                </a:lnTo>
                <a:lnTo>
                  <a:pt x="10" y="29"/>
                </a:lnTo>
                <a:lnTo>
                  <a:pt x="7" y="26"/>
                </a:lnTo>
                <a:lnTo>
                  <a:pt x="6" y="22"/>
                </a:lnTo>
                <a:lnTo>
                  <a:pt x="5" y="20"/>
                </a:lnTo>
                <a:lnTo>
                  <a:pt x="4" y="18"/>
                </a:lnTo>
                <a:lnTo>
                  <a:pt x="5" y="17"/>
                </a:lnTo>
                <a:lnTo>
                  <a:pt x="10" y="17"/>
                </a:lnTo>
                <a:lnTo>
                  <a:pt x="11" y="18"/>
                </a:lnTo>
                <a:lnTo>
                  <a:pt x="12" y="21"/>
                </a:lnTo>
                <a:lnTo>
                  <a:pt x="15" y="23"/>
                </a:lnTo>
                <a:lnTo>
                  <a:pt x="17" y="28"/>
                </a:lnTo>
                <a:lnTo>
                  <a:pt x="27" y="28"/>
                </a:lnTo>
                <a:lnTo>
                  <a:pt x="31" y="32"/>
                </a:lnTo>
                <a:lnTo>
                  <a:pt x="37" y="35"/>
                </a:lnTo>
                <a:lnTo>
                  <a:pt x="41" y="38"/>
                </a:lnTo>
                <a:lnTo>
                  <a:pt x="43" y="36"/>
                </a:lnTo>
                <a:lnTo>
                  <a:pt x="43" y="30"/>
                </a:lnTo>
                <a:lnTo>
                  <a:pt x="39" y="18"/>
                </a:lnTo>
                <a:lnTo>
                  <a:pt x="41" y="12"/>
                </a:lnTo>
                <a:lnTo>
                  <a:pt x="45" y="8"/>
                </a:lnTo>
                <a:lnTo>
                  <a:pt x="49" y="4"/>
                </a:lnTo>
                <a:lnTo>
                  <a:pt x="53" y="0"/>
                </a:lnTo>
                <a:close/>
              </a:path>
            </a:pathLst>
          </a:custGeom>
          <a:solidFill>
            <a:srgbClr val="7f7f7f"/>
          </a:solidFill>
          <a:ln w="0">
            <a:solidFill>
              <a:srgbClr val="adada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reeform 4688"/>
          <p:cNvSpPr/>
          <p:nvPr/>
        </p:nvSpPr>
        <p:spPr>
          <a:xfrm>
            <a:off x="6696000" y="1565280"/>
            <a:ext cx="611280" cy="1200240"/>
          </a:xfrm>
          <a:custGeom>
            <a:avLst/>
            <a:gdLst>
              <a:gd name="textAreaLeft" fmla="*/ 0 w 611280"/>
              <a:gd name="textAreaRight" fmla="*/ 611640 w 611280"/>
              <a:gd name="textAreaTop" fmla="*/ 0 h 1200240"/>
              <a:gd name="textAreaBottom" fmla="*/ 1200600 h 1200240"/>
            </a:gdLst>
            <a:ahLst/>
            <a:rect l="textAreaLeft" t="textAreaTop" r="textAreaRight" b="textAreaBottom"/>
            <a:pathLst>
              <a:path w="446" h="876">
                <a:moveTo>
                  <a:pt x="195" y="0"/>
                </a:moveTo>
                <a:lnTo>
                  <a:pt x="201" y="0"/>
                </a:lnTo>
                <a:lnTo>
                  <a:pt x="208" y="3"/>
                </a:lnTo>
                <a:lnTo>
                  <a:pt x="216" y="8"/>
                </a:lnTo>
                <a:lnTo>
                  <a:pt x="222" y="12"/>
                </a:lnTo>
                <a:lnTo>
                  <a:pt x="227" y="13"/>
                </a:lnTo>
                <a:lnTo>
                  <a:pt x="237" y="13"/>
                </a:lnTo>
                <a:lnTo>
                  <a:pt x="242" y="15"/>
                </a:lnTo>
                <a:lnTo>
                  <a:pt x="243" y="20"/>
                </a:lnTo>
                <a:lnTo>
                  <a:pt x="244" y="26"/>
                </a:lnTo>
                <a:lnTo>
                  <a:pt x="244" y="32"/>
                </a:lnTo>
                <a:lnTo>
                  <a:pt x="245" y="37"/>
                </a:lnTo>
                <a:lnTo>
                  <a:pt x="249" y="45"/>
                </a:lnTo>
                <a:lnTo>
                  <a:pt x="258" y="64"/>
                </a:lnTo>
                <a:lnTo>
                  <a:pt x="263" y="72"/>
                </a:lnTo>
                <a:lnTo>
                  <a:pt x="266" y="76"/>
                </a:lnTo>
                <a:lnTo>
                  <a:pt x="269" y="78"/>
                </a:lnTo>
                <a:lnTo>
                  <a:pt x="275" y="76"/>
                </a:lnTo>
                <a:lnTo>
                  <a:pt x="284" y="73"/>
                </a:lnTo>
                <a:lnTo>
                  <a:pt x="298" y="66"/>
                </a:lnTo>
                <a:lnTo>
                  <a:pt x="303" y="64"/>
                </a:lnTo>
                <a:lnTo>
                  <a:pt x="305" y="67"/>
                </a:lnTo>
                <a:lnTo>
                  <a:pt x="305" y="70"/>
                </a:lnTo>
                <a:lnTo>
                  <a:pt x="302" y="78"/>
                </a:lnTo>
                <a:lnTo>
                  <a:pt x="298" y="84"/>
                </a:lnTo>
                <a:lnTo>
                  <a:pt x="292" y="93"/>
                </a:lnTo>
                <a:lnTo>
                  <a:pt x="285" y="103"/>
                </a:lnTo>
                <a:lnTo>
                  <a:pt x="278" y="109"/>
                </a:lnTo>
                <a:lnTo>
                  <a:pt x="275" y="110"/>
                </a:lnTo>
                <a:lnTo>
                  <a:pt x="274" y="112"/>
                </a:lnTo>
                <a:lnTo>
                  <a:pt x="274" y="115"/>
                </a:lnTo>
                <a:lnTo>
                  <a:pt x="275" y="116"/>
                </a:lnTo>
                <a:lnTo>
                  <a:pt x="276" y="118"/>
                </a:lnTo>
                <a:lnTo>
                  <a:pt x="279" y="120"/>
                </a:lnTo>
                <a:lnTo>
                  <a:pt x="281" y="120"/>
                </a:lnTo>
                <a:lnTo>
                  <a:pt x="288" y="117"/>
                </a:lnTo>
                <a:lnTo>
                  <a:pt x="296" y="111"/>
                </a:lnTo>
                <a:lnTo>
                  <a:pt x="300" y="108"/>
                </a:lnTo>
                <a:lnTo>
                  <a:pt x="305" y="109"/>
                </a:lnTo>
                <a:lnTo>
                  <a:pt x="311" y="114"/>
                </a:lnTo>
                <a:lnTo>
                  <a:pt x="317" y="121"/>
                </a:lnTo>
                <a:lnTo>
                  <a:pt x="322" y="128"/>
                </a:lnTo>
                <a:lnTo>
                  <a:pt x="323" y="135"/>
                </a:lnTo>
                <a:lnTo>
                  <a:pt x="322" y="144"/>
                </a:lnTo>
                <a:lnTo>
                  <a:pt x="320" y="153"/>
                </a:lnTo>
                <a:lnTo>
                  <a:pt x="316" y="162"/>
                </a:lnTo>
                <a:lnTo>
                  <a:pt x="315" y="166"/>
                </a:lnTo>
                <a:lnTo>
                  <a:pt x="315" y="171"/>
                </a:lnTo>
                <a:lnTo>
                  <a:pt x="317" y="178"/>
                </a:lnTo>
                <a:lnTo>
                  <a:pt x="320" y="187"/>
                </a:lnTo>
                <a:lnTo>
                  <a:pt x="323" y="193"/>
                </a:lnTo>
                <a:lnTo>
                  <a:pt x="324" y="196"/>
                </a:lnTo>
                <a:lnTo>
                  <a:pt x="324" y="202"/>
                </a:lnTo>
                <a:lnTo>
                  <a:pt x="322" y="205"/>
                </a:lnTo>
                <a:lnTo>
                  <a:pt x="320" y="208"/>
                </a:lnTo>
                <a:lnTo>
                  <a:pt x="317" y="211"/>
                </a:lnTo>
                <a:lnTo>
                  <a:pt x="315" y="216"/>
                </a:lnTo>
                <a:lnTo>
                  <a:pt x="318" y="220"/>
                </a:lnTo>
                <a:lnTo>
                  <a:pt x="324" y="224"/>
                </a:lnTo>
                <a:lnTo>
                  <a:pt x="330" y="230"/>
                </a:lnTo>
                <a:lnTo>
                  <a:pt x="335" y="241"/>
                </a:lnTo>
                <a:lnTo>
                  <a:pt x="339" y="256"/>
                </a:lnTo>
                <a:lnTo>
                  <a:pt x="340" y="270"/>
                </a:lnTo>
                <a:lnTo>
                  <a:pt x="340" y="276"/>
                </a:lnTo>
                <a:lnTo>
                  <a:pt x="335" y="274"/>
                </a:lnTo>
                <a:lnTo>
                  <a:pt x="322" y="274"/>
                </a:lnTo>
                <a:lnTo>
                  <a:pt x="318" y="278"/>
                </a:lnTo>
                <a:lnTo>
                  <a:pt x="314" y="282"/>
                </a:lnTo>
                <a:lnTo>
                  <a:pt x="310" y="286"/>
                </a:lnTo>
                <a:lnTo>
                  <a:pt x="308" y="292"/>
                </a:lnTo>
                <a:lnTo>
                  <a:pt x="312" y="304"/>
                </a:lnTo>
                <a:lnTo>
                  <a:pt x="312" y="310"/>
                </a:lnTo>
                <a:lnTo>
                  <a:pt x="310" y="312"/>
                </a:lnTo>
                <a:lnTo>
                  <a:pt x="306" y="309"/>
                </a:lnTo>
                <a:lnTo>
                  <a:pt x="300" y="306"/>
                </a:lnTo>
                <a:lnTo>
                  <a:pt x="296" y="302"/>
                </a:lnTo>
                <a:lnTo>
                  <a:pt x="286" y="302"/>
                </a:lnTo>
                <a:lnTo>
                  <a:pt x="284" y="297"/>
                </a:lnTo>
                <a:lnTo>
                  <a:pt x="281" y="295"/>
                </a:lnTo>
                <a:lnTo>
                  <a:pt x="280" y="292"/>
                </a:lnTo>
                <a:lnTo>
                  <a:pt x="279" y="291"/>
                </a:lnTo>
                <a:lnTo>
                  <a:pt x="274" y="291"/>
                </a:lnTo>
                <a:lnTo>
                  <a:pt x="273" y="292"/>
                </a:lnTo>
                <a:lnTo>
                  <a:pt x="274" y="294"/>
                </a:lnTo>
                <a:lnTo>
                  <a:pt x="275" y="296"/>
                </a:lnTo>
                <a:lnTo>
                  <a:pt x="276" y="300"/>
                </a:lnTo>
                <a:lnTo>
                  <a:pt x="279" y="303"/>
                </a:lnTo>
                <a:lnTo>
                  <a:pt x="280" y="308"/>
                </a:lnTo>
                <a:lnTo>
                  <a:pt x="280" y="316"/>
                </a:lnTo>
                <a:lnTo>
                  <a:pt x="278" y="319"/>
                </a:lnTo>
                <a:lnTo>
                  <a:pt x="275" y="320"/>
                </a:lnTo>
                <a:lnTo>
                  <a:pt x="274" y="321"/>
                </a:lnTo>
                <a:lnTo>
                  <a:pt x="272" y="322"/>
                </a:lnTo>
                <a:lnTo>
                  <a:pt x="269" y="330"/>
                </a:lnTo>
                <a:lnTo>
                  <a:pt x="273" y="330"/>
                </a:lnTo>
                <a:lnTo>
                  <a:pt x="278" y="328"/>
                </a:lnTo>
                <a:lnTo>
                  <a:pt x="284" y="328"/>
                </a:lnTo>
                <a:lnTo>
                  <a:pt x="290" y="330"/>
                </a:lnTo>
                <a:lnTo>
                  <a:pt x="293" y="334"/>
                </a:lnTo>
                <a:lnTo>
                  <a:pt x="297" y="344"/>
                </a:lnTo>
                <a:lnTo>
                  <a:pt x="309" y="370"/>
                </a:lnTo>
                <a:lnTo>
                  <a:pt x="314" y="384"/>
                </a:lnTo>
                <a:lnTo>
                  <a:pt x="318" y="392"/>
                </a:lnTo>
                <a:lnTo>
                  <a:pt x="320" y="396"/>
                </a:lnTo>
                <a:lnTo>
                  <a:pt x="321" y="398"/>
                </a:lnTo>
                <a:lnTo>
                  <a:pt x="321" y="400"/>
                </a:lnTo>
                <a:lnTo>
                  <a:pt x="320" y="402"/>
                </a:lnTo>
                <a:lnTo>
                  <a:pt x="318" y="402"/>
                </a:lnTo>
                <a:lnTo>
                  <a:pt x="317" y="403"/>
                </a:lnTo>
                <a:lnTo>
                  <a:pt x="317" y="414"/>
                </a:lnTo>
                <a:lnTo>
                  <a:pt x="315" y="418"/>
                </a:lnTo>
                <a:lnTo>
                  <a:pt x="311" y="422"/>
                </a:lnTo>
                <a:lnTo>
                  <a:pt x="309" y="426"/>
                </a:lnTo>
                <a:lnTo>
                  <a:pt x="308" y="428"/>
                </a:lnTo>
                <a:lnTo>
                  <a:pt x="308" y="429"/>
                </a:lnTo>
                <a:lnTo>
                  <a:pt x="309" y="430"/>
                </a:lnTo>
                <a:lnTo>
                  <a:pt x="320" y="430"/>
                </a:lnTo>
                <a:lnTo>
                  <a:pt x="322" y="432"/>
                </a:lnTo>
                <a:lnTo>
                  <a:pt x="324" y="434"/>
                </a:lnTo>
                <a:lnTo>
                  <a:pt x="324" y="439"/>
                </a:lnTo>
                <a:lnTo>
                  <a:pt x="317" y="446"/>
                </a:lnTo>
                <a:lnTo>
                  <a:pt x="315" y="452"/>
                </a:lnTo>
                <a:lnTo>
                  <a:pt x="317" y="459"/>
                </a:lnTo>
                <a:lnTo>
                  <a:pt x="322" y="468"/>
                </a:lnTo>
                <a:lnTo>
                  <a:pt x="327" y="471"/>
                </a:lnTo>
                <a:lnTo>
                  <a:pt x="330" y="470"/>
                </a:lnTo>
                <a:lnTo>
                  <a:pt x="335" y="466"/>
                </a:lnTo>
                <a:lnTo>
                  <a:pt x="341" y="466"/>
                </a:lnTo>
                <a:lnTo>
                  <a:pt x="346" y="470"/>
                </a:lnTo>
                <a:lnTo>
                  <a:pt x="352" y="475"/>
                </a:lnTo>
                <a:lnTo>
                  <a:pt x="359" y="481"/>
                </a:lnTo>
                <a:lnTo>
                  <a:pt x="368" y="483"/>
                </a:lnTo>
                <a:lnTo>
                  <a:pt x="375" y="486"/>
                </a:lnTo>
                <a:lnTo>
                  <a:pt x="380" y="490"/>
                </a:lnTo>
                <a:lnTo>
                  <a:pt x="380" y="496"/>
                </a:lnTo>
                <a:lnTo>
                  <a:pt x="378" y="505"/>
                </a:lnTo>
                <a:lnTo>
                  <a:pt x="380" y="511"/>
                </a:lnTo>
                <a:lnTo>
                  <a:pt x="384" y="517"/>
                </a:lnTo>
                <a:lnTo>
                  <a:pt x="393" y="523"/>
                </a:lnTo>
                <a:lnTo>
                  <a:pt x="401" y="531"/>
                </a:lnTo>
                <a:lnTo>
                  <a:pt x="408" y="543"/>
                </a:lnTo>
                <a:lnTo>
                  <a:pt x="413" y="552"/>
                </a:lnTo>
                <a:lnTo>
                  <a:pt x="418" y="556"/>
                </a:lnTo>
                <a:lnTo>
                  <a:pt x="420" y="558"/>
                </a:lnTo>
                <a:lnTo>
                  <a:pt x="425" y="555"/>
                </a:lnTo>
                <a:lnTo>
                  <a:pt x="428" y="555"/>
                </a:lnTo>
                <a:lnTo>
                  <a:pt x="434" y="560"/>
                </a:lnTo>
                <a:lnTo>
                  <a:pt x="444" y="582"/>
                </a:lnTo>
                <a:lnTo>
                  <a:pt x="446" y="591"/>
                </a:lnTo>
                <a:lnTo>
                  <a:pt x="444" y="603"/>
                </a:lnTo>
                <a:lnTo>
                  <a:pt x="441" y="616"/>
                </a:lnTo>
                <a:lnTo>
                  <a:pt x="437" y="628"/>
                </a:lnTo>
                <a:lnTo>
                  <a:pt x="432" y="638"/>
                </a:lnTo>
                <a:lnTo>
                  <a:pt x="425" y="650"/>
                </a:lnTo>
                <a:lnTo>
                  <a:pt x="416" y="662"/>
                </a:lnTo>
                <a:lnTo>
                  <a:pt x="407" y="674"/>
                </a:lnTo>
                <a:lnTo>
                  <a:pt x="399" y="685"/>
                </a:lnTo>
                <a:lnTo>
                  <a:pt x="394" y="691"/>
                </a:lnTo>
                <a:lnTo>
                  <a:pt x="389" y="699"/>
                </a:lnTo>
                <a:lnTo>
                  <a:pt x="387" y="710"/>
                </a:lnTo>
                <a:lnTo>
                  <a:pt x="387" y="732"/>
                </a:lnTo>
                <a:lnTo>
                  <a:pt x="386" y="738"/>
                </a:lnTo>
                <a:lnTo>
                  <a:pt x="382" y="741"/>
                </a:lnTo>
                <a:lnTo>
                  <a:pt x="375" y="742"/>
                </a:lnTo>
                <a:lnTo>
                  <a:pt x="364" y="745"/>
                </a:lnTo>
                <a:lnTo>
                  <a:pt x="354" y="747"/>
                </a:lnTo>
                <a:lnTo>
                  <a:pt x="350" y="750"/>
                </a:lnTo>
                <a:lnTo>
                  <a:pt x="342" y="754"/>
                </a:lnTo>
                <a:lnTo>
                  <a:pt x="340" y="756"/>
                </a:lnTo>
                <a:lnTo>
                  <a:pt x="336" y="756"/>
                </a:lnTo>
                <a:lnTo>
                  <a:pt x="334" y="754"/>
                </a:lnTo>
                <a:lnTo>
                  <a:pt x="333" y="753"/>
                </a:lnTo>
                <a:lnTo>
                  <a:pt x="330" y="752"/>
                </a:lnTo>
                <a:lnTo>
                  <a:pt x="327" y="752"/>
                </a:lnTo>
                <a:lnTo>
                  <a:pt x="324" y="753"/>
                </a:lnTo>
                <a:lnTo>
                  <a:pt x="322" y="753"/>
                </a:lnTo>
                <a:lnTo>
                  <a:pt x="322" y="764"/>
                </a:lnTo>
                <a:lnTo>
                  <a:pt x="320" y="769"/>
                </a:lnTo>
                <a:lnTo>
                  <a:pt x="317" y="769"/>
                </a:lnTo>
                <a:lnTo>
                  <a:pt x="317" y="768"/>
                </a:lnTo>
                <a:lnTo>
                  <a:pt x="315" y="766"/>
                </a:lnTo>
                <a:lnTo>
                  <a:pt x="314" y="764"/>
                </a:lnTo>
                <a:lnTo>
                  <a:pt x="309" y="764"/>
                </a:lnTo>
                <a:lnTo>
                  <a:pt x="306" y="765"/>
                </a:lnTo>
                <a:lnTo>
                  <a:pt x="305" y="766"/>
                </a:lnTo>
                <a:lnTo>
                  <a:pt x="305" y="770"/>
                </a:lnTo>
                <a:lnTo>
                  <a:pt x="306" y="772"/>
                </a:lnTo>
                <a:lnTo>
                  <a:pt x="306" y="778"/>
                </a:lnTo>
                <a:lnTo>
                  <a:pt x="305" y="782"/>
                </a:lnTo>
                <a:lnTo>
                  <a:pt x="303" y="784"/>
                </a:lnTo>
                <a:lnTo>
                  <a:pt x="300" y="786"/>
                </a:lnTo>
                <a:lnTo>
                  <a:pt x="298" y="786"/>
                </a:lnTo>
                <a:lnTo>
                  <a:pt x="296" y="784"/>
                </a:lnTo>
                <a:lnTo>
                  <a:pt x="291" y="784"/>
                </a:lnTo>
                <a:lnTo>
                  <a:pt x="287" y="786"/>
                </a:lnTo>
                <a:lnTo>
                  <a:pt x="284" y="788"/>
                </a:lnTo>
                <a:lnTo>
                  <a:pt x="281" y="792"/>
                </a:lnTo>
                <a:lnTo>
                  <a:pt x="281" y="808"/>
                </a:lnTo>
                <a:lnTo>
                  <a:pt x="279" y="820"/>
                </a:lnTo>
                <a:lnTo>
                  <a:pt x="274" y="830"/>
                </a:lnTo>
                <a:lnTo>
                  <a:pt x="269" y="837"/>
                </a:lnTo>
                <a:lnTo>
                  <a:pt x="266" y="844"/>
                </a:lnTo>
                <a:lnTo>
                  <a:pt x="262" y="848"/>
                </a:lnTo>
                <a:lnTo>
                  <a:pt x="256" y="849"/>
                </a:lnTo>
                <a:lnTo>
                  <a:pt x="249" y="848"/>
                </a:lnTo>
                <a:lnTo>
                  <a:pt x="240" y="847"/>
                </a:lnTo>
                <a:lnTo>
                  <a:pt x="237" y="848"/>
                </a:lnTo>
                <a:lnTo>
                  <a:pt x="234" y="848"/>
                </a:lnTo>
                <a:lnTo>
                  <a:pt x="233" y="849"/>
                </a:lnTo>
                <a:lnTo>
                  <a:pt x="233" y="852"/>
                </a:lnTo>
                <a:lnTo>
                  <a:pt x="232" y="854"/>
                </a:lnTo>
                <a:lnTo>
                  <a:pt x="230" y="861"/>
                </a:lnTo>
                <a:lnTo>
                  <a:pt x="226" y="866"/>
                </a:lnTo>
                <a:lnTo>
                  <a:pt x="221" y="865"/>
                </a:lnTo>
                <a:lnTo>
                  <a:pt x="216" y="862"/>
                </a:lnTo>
                <a:lnTo>
                  <a:pt x="210" y="864"/>
                </a:lnTo>
                <a:lnTo>
                  <a:pt x="203" y="867"/>
                </a:lnTo>
                <a:lnTo>
                  <a:pt x="197" y="870"/>
                </a:lnTo>
                <a:lnTo>
                  <a:pt x="190" y="874"/>
                </a:lnTo>
                <a:lnTo>
                  <a:pt x="182" y="876"/>
                </a:lnTo>
                <a:lnTo>
                  <a:pt x="176" y="872"/>
                </a:lnTo>
                <a:lnTo>
                  <a:pt x="171" y="866"/>
                </a:lnTo>
                <a:lnTo>
                  <a:pt x="170" y="864"/>
                </a:lnTo>
                <a:lnTo>
                  <a:pt x="171" y="862"/>
                </a:lnTo>
                <a:lnTo>
                  <a:pt x="190" y="862"/>
                </a:lnTo>
                <a:lnTo>
                  <a:pt x="190" y="860"/>
                </a:lnTo>
                <a:lnTo>
                  <a:pt x="189" y="859"/>
                </a:lnTo>
                <a:lnTo>
                  <a:pt x="186" y="858"/>
                </a:lnTo>
                <a:lnTo>
                  <a:pt x="185" y="856"/>
                </a:lnTo>
                <a:lnTo>
                  <a:pt x="183" y="855"/>
                </a:lnTo>
                <a:lnTo>
                  <a:pt x="182" y="854"/>
                </a:lnTo>
                <a:lnTo>
                  <a:pt x="182" y="853"/>
                </a:lnTo>
                <a:lnTo>
                  <a:pt x="183" y="848"/>
                </a:lnTo>
                <a:lnTo>
                  <a:pt x="183" y="840"/>
                </a:lnTo>
                <a:lnTo>
                  <a:pt x="185" y="818"/>
                </a:lnTo>
                <a:lnTo>
                  <a:pt x="188" y="811"/>
                </a:lnTo>
                <a:lnTo>
                  <a:pt x="190" y="807"/>
                </a:lnTo>
                <a:lnTo>
                  <a:pt x="192" y="805"/>
                </a:lnTo>
                <a:lnTo>
                  <a:pt x="194" y="805"/>
                </a:lnTo>
                <a:lnTo>
                  <a:pt x="196" y="807"/>
                </a:lnTo>
                <a:lnTo>
                  <a:pt x="200" y="807"/>
                </a:lnTo>
                <a:lnTo>
                  <a:pt x="204" y="805"/>
                </a:lnTo>
                <a:lnTo>
                  <a:pt x="212" y="798"/>
                </a:lnTo>
                <a:lnTo>
                  <a:pt x="220" y="790"/>
                </a:lnTo>
                <a:lnTo>
                  <a:pt x="227" y="784"/>
                </a:lnTo>
                <a:lnTo>
                  <a:pt x="233" y="781"/>
                </a:lnTo>
                <a:lnTo>
                  <a:pt x="240" y="780"/>
                </a:lnTo>
                <a:lnTo>
                  <a:pt x="250" y="780"/>
                </a:lnTo>
                <a:lnTo>
                  <a:pt x="260" y="778"/>
                </a:lnTo>
                <a:lnTo>
                  <a:pt x="267" y="777"/>
                </a:lnTo>
                <a:lnTo>
                  <a:pt x="269" y="775"/>
                </a:lnTo>
                <a:lnTo>
                  <a:pt x="267" y="770"/>
                </a:lnTo>
                <a:lnTo>
                  <a:pt x="262" y="764"/>
                </a:lnTo>
                <a:lnTo>
                  <a:pt x="256" y="757"/>
                </a:lnTo>
                <a:lnTo>
                  <a:pt x="251" y="752"/>
                </a:lnTo>
                <a:lnTo>
                  <a:pt x="245" y="751"/>
                </a:lnTo>
                <a:lnTo>
                  <a:pt x="232" y="751"/>
                </a:lnTo>
                <a:lnTo>
                  <a:pt x="225" y="748"/>
                </a:lnTo>
                <a:lnTo>
                  <a:pt x="220" y="745"/>
                </a:lnTo>
                <a:lnTo>
                  <a:pt x="220" y="741"/>
                </a:lnTo>
                <a:lnTo>
                  <a:pt x="221" y="736"/>
                </a:lnTo>
                <a:lnTo>
                  <a:pt x="225" y="730"/>
                </a:lnTo>
                <a:lnTo>
                  <a:pt x="226" y="726"/>
                </a:lnTo>
                <a:lnTo>
                  <a:pt x="226" y="723"/>
                </a:lnTo>
                <a:lnTo>
                  <a:pt x="225" y="721"/>
                </a:lnTo>
                <a:lnTo>
                  <a:pt x="221" y="717"/>
                </a:lnTo>
                <a:lnTo>
                  <a:pt x="219" y="712"/>
                </a:lnTo>
                <a:lnTo>
                  <a:pt x="219" y="709"/>
                </a:lnTo>
                <a:lnTo>
                  <a:pt x="220" y="708"/>
                </a:lnTo>
                <a:lnTo>
                  <a:pt x="225" y="708"/>
                </a:lnTo>
                <a:lnTo>
                  <a:pt x="230" y="705"/>
                </a:lnTo>
                <a:lnTo>
                  <a:pt x="232" y="703"/>
                </a:lnTo>
                <a:lnTo>
                  <a:pt x="233" y="700"/>
                </a:lnTo>
                <a:lnTo>
                  <a:pt x="234" y="697"/>
                </a:lnTo>
                <a:lnTo>
                  <a:pt x="234" y="694"/>
                </a:lnTo>
                <a:lnTo>
                  <a:pt x="233" y="693"/>
                </a:lnTo>
                <a:lnTo>
                  <a:pt x="231" y="692"/>
                </a:lnTo>
                <a:lnTo>
                  <a:pt x="230" y="691"/>
                </a:lnTo>
                <a:lnTo>
                  <a:pt x="227" y="690"/>
                </a:lnTo>
                <a:lnTo>
                  <a:pt x="226" y="687"/>
                </a:lnTo>
                <a:lnTo>
                  <a:pt x="226" y="686"/>
                </a:lnTo>
                <a:lnTo>
                  <a:pt x="227" y="684"/>
                </a:lnTo>
                <a:lnTo>
                  <a:pt x="232" y="681"/>
                </a:lnTo>
                <a:lnTo>
                  <a:pt x="236" y="680"/>
                </a:lnTo>
                <a:lnTo>
                  <a:pt x="238" y="679"/>
                </a:lnTo>
                <a:lnTo>
                  <a:pt x="242" y="678"/>
                </a:lnTo>
                <a:lnTo>
                  <a:pt x="244" y="676"/>
                </a:lnTo>
                <a:lnTo>
                  <a:pt x="248" y="672"/>
                </a:lnTo>
                <a:lnTo>
                  <a:pt x="251" y="666"/>
                </a:lnTo>
                <a:lnTo>
                  <a:pt x="254" y="658"/>
                </a:lnTo>
                <a:lnTo>
                  <a:pt x="256" y="652"/>
                </a:lnTo>
                <a:lnTo>
                  <a:pt x="256" y="649"/>
                </a:lnTo>
                <a:lnTo>
                  <a:pt x="255" y="648"/>
                </a:lnTo>
                <a:lnTo>
                  <a:pt x="252" y="646"/>
                </a:lnTo>
                <a:lnTo>
                  <a:pt x="250" y="646"/>
                </a:lnTo>
                <a:lnTo>
                  <a:pt x="248" y="645"/>
                </a:lnTo>
                <a:lnTo>
                  <a:pt x="245" y="643"/>
                </a:lnTo>
                <a:lnTo>
                  <a:pt x="243" y="638"/>
                </a:lnTo>
                <a:lnTo>
                  <a:pt x="243" y="637"/>
                </a:lnTo>
                <a:lnTo>
                  <a:pt x="244" y="636"/>
                </a:lnTo>
                <a:lnTo>
                  <a:pt x="246" y="636"/>
                </a:lnTo>
                <a:lnTo>
                  <a:pt x="248" y="637"/>
                </a:lnTo>
                <a:lnTo>
                  <a:pt x="254" y="637"/>
                </a:lnTo>
                <a:lnTo>
                  <a:pt x="256" y="634"/>
                </a:lnTo>
                <a:lnTo>
                  <a:pt x="260" y="633"/>
                </a:lnTo>
                <a:lnTo>
                  <a:pt x="263" y="631"/>
                </a:lnTo>
                <a:lnTo>
                  <a:pt x="266" y="628"/>
                </a:lnTo>
                <a:lnTo>
                  <a:pt x="269" y="626"/>
                </a:lnTo>
                <a:lnTo>
                  <a:pt x="273" y="622"/>
                </a:lnTo>
                <a:lnTo>
                  <a:pt x="273" y="619"/>
                </a:lnTo>
                <a:lnTo>
                  <a:pt x="270" y="614"/>
                </a:lnTo>
                <a:lnTo>
                  <a:pt x="269" y="610"/>
                </a:lnTo>
                <a:lnTo>
                  <a:pt x="268" y="608"/>
                </a:lnTo>
                <a:lnTo>
                  <a:pt x="264" y="607"/>
                </a:lnTo>
                <a:lnTo>
                  <a:pt x="260" y="609"/>
                </a:lnTo>
                <a:lnTo>
                  <a:pt x="254" y="613"/>
                </a:lnTo>
                <a:lnTo>
                  <a:pt x="249" y="616"/>
                </a:lnTo>
                <a:lnTo>
                  <a:pt x="244" y="619"/>
                </a:lnTo>
                <a:lnTo>
                  <a:pt x="239" y="616"/>
                </a:lnTo>
                <a:lnTo>
                  <a:pt x="238" y="610"/>
                </a:lnTo>
                <a:lnTo>
                  <a:pt x="238" y="604"/>
                </a:lnTo>
                <a:lnTo>
                  <a:pt x="239" y="598"/>
                </a:lnTo>
                <a:lnTo>
                  <a:pt x="242" y="592"/>
                </a:lnTo>
                <a:lnTo>
                  <a:pt x="242" y="588"/>
                </a:lnTo>
                <a:lnTo>
                  <a:pt x="240" y="583"/>
                </a:lnTo>
                <a:lnTo>
                  <a:pt x="236" y="579"/>
                </a:lnTo>
                <a:lnTo>
                  <a:pt x="232" y="576"/>
                </a:lnTo>
                <a:lnTo>
                  <a:pt x="233" y="571"/>
                </a:lnTo>
                <a:lnTo>
                  <a:pt x="237" y="565"/>
                </a:lnTo>
                <a:lnTo>
                  <a:pt x="238" y="558"/>
                </a:lnTo>
                <a:lnTo>
                  <a:pt x="238" y="553"/>
                </a:lnTo>
                <a:lnTo>
                  <a:pt x="237" y="553"/>
                </a:lnTo>
                <a:lnTo>
                  <a:pt x="236" y="554"/>
                </a:lnTo>
                <a:lnTo>
                  <a:pt x="234" y="554"/>
                </a:lnTo>
                <a:lnTo>
                  <a:pt x="233" y="555"/>
                </a:lnTo>
                <a:lnTo>
                  <a:pt x="228" y="558"/>
                </a:lnTo>
                <a:lnTo>
                  <a:pt x="224" y="558"/>
                </a:lnTo>
                <a:lnTo>
                  <a:pt x="221" y="556"/>
                </a:lnTo>
                <a:lnTo>
                  <a:pt x="220" y="555"/>
                </a:lnTo>
                <a:lnTo>
                  <a:pt x="220" y="554"/>
                </a:lnTo>
                <a:lnTo>
                  <a:pt x="222" y="552"/>
                </a:lnTo>
                <a:lnTo>
                  <a:pt x="225" y="550"/>
                </a:lnTo>
                <a:lnTo>
                  <a:pt x="227" y="548"/>
                </a:lnTo>
                <a:lnTo>
                  <a:pt x="227" y="546"/>
                </a:lnTo>
                <a:lnTo>
                  <a:pt x="226" y="543"/>
                </a:lnTo>
                <a:lnTo>
                  <a:pt x="222" y="540"/>
                </a:lnTo>
                <a:lnTo>
                  <a:pt x="219" y="540"/>
                </a:lnTo>
                <a:lnTo>
                  <a:pt x="214" y="537"/>
                </a:lnTo>
                <a:lnTo>
                  <a:pt x="213" y="535"/>
                </a:lnTo>
                <a:lnTo>
                  <a:pt x="209" y="531"/>
                </a:lnTo>
                <a:lnTo>
                  <a:pt x="207" y="530"/>
                </a:lnTo>
                <a:lnTo>
                  <a:pt x="206" y="530"/>
                </a:lnTo>
                <a:lnTo>
                  <a:pt x="204" y="531"/>
                </a:lnTo>
                <a:lnTo>
                  <a:pt x="204" y="532"/>
                </a:lnTo>
                <a:lnTo>
                  <a:pt x="207" y="537"/>
                </a:lnTo>
                <a:lnTo>
                  <a:pt x="209" y="544"/>
                </a:lnTo>
                <a:lnTo>
                  <a:pt x="209" y="554"/>
                </a:lnTo>
                <a:lnTo>
                  <a:pt x="207" y="556"/>
                </a:lnTo>
                <a:lnTo>
                  <a:pt x="206" y="559"/>
                </a:lnTo>
                <a:lnTo>
                  <a:pt x="203" y="561"/>
                </a:lnTo>
                <a:lnTo>
                  <a:pt x="203" y="567"/>
                </a:lnTo>
                <a:lnTo>
                  <a:pt x="207" y="576"/>
                </a:lnTo>
                <a:lnTo>
                  <a:pt x="212" y="585"/>
                </a:lnTo>
                <a:lnTo>
                  <a:pt x="218" y="594"/>
                </a:lnTo>
                <a:lnTo>
                  <a:pt x="220" y="601"/>
                </a:lnTo>
                <a:lnTo>
                  <a:pt x="219" y="604"/>
                </a:lnTo>
                <a:lnTo>
                  <a:pt x="208" y="604"/>
                </a:lnTo>
                <a:lnTo>
                  <a:pt x="201" y="603"/>
                </a:lnTo>
                <a:lnTo>
                  <a:pt x="195" y="604"/>
                </a:lnTo>
                <a:lnTo>
                  <a:pt x="190" y="608"/>
                </a:lnTo>
                <a:lnTo>
                  <a:pt x="186" y="614"/>
                </a:lnTo>
                <a:lnTo>
                  <a:pt x="184" y="621"/>
                </a:lnTo>
                <a:lnTo>
                  <a:pt x="180" y="630"/>
                </a:lnTo>
                <a:lnTo>
                  <a:pt x="179" y="632"/>
                </a:lnTo>
                <a:lnTo>
                  <a:pt x="177" y="633"/>
                </a:lnTo>
                <a:lnTo>
                  <a:pt x="176" y="633"/>
                </a:lnTo>
                <a:lnTo>
                  <a:pt x="173" y="632"/>
                </a:lnTo>
                <a:lnTo>
                  <a:pt x="172" y="631"/>
                </a:lnTo>
                <a:lnTo>
                  <a:pt x="171" y="628"/>
                </a:lnTo>
                <a:lnTo>
                  <a:pt x="170" y="627"/>
                </a:lnTo>
                <a:lnTo>
                  <a:pt x="168" y="625"/>
                </a:lnTo>
                <a:lnTo>
                  <a:pt x="167" y="624"/>
                </a:lnTo>
                <a:lnTo>
                  <a:pt x="166" y="624"/>
                </a:lnTo>
                <a:lnTo>
                  <a:pt x="162" y="627"/>
                </a:lnTo>
                <a:lnTo>
                  <a:pt x="159" y="633"/>
                </a:lnTo>
                <a:lnTo>
                  <a:pt x="153" y="643"/>
                </a:lnTo>
                <a:lnTo>
                  <a:pt x="149" y="648"/>
                </a:lnTo>
                <a:lnTo>
                  <a:pt x="146" y="649"/>
                </a:lnTo>
                <a:lnTo>
                  <a:pt x="142" y="648"/>
                </a:lnTo>
                <a:lnTo>
                  <a:pt x="137" y="645"/>
                </a:lnTo>
                <a:lnTo>
                  <a:pt x="128" y="644"/>
                </a:lnTo>
                <a:lnTo>
                  <a:pt x="111" y="645"/>
                </a:lnTo>
                <a:lnTo>
                  <a:pt x="95" y="650"/>
                </a:lnTo>
                <a:lnTo>
                  <a:pt x="83" y="656"/>
                </a:lnTo>
                <a:lnTo>
                  <a:pt x="80" y="661"/>
                </a:lnTo>
                <a:lnTo>
                  <a:pt x="77" y="666"/>
                </a:lnTo>
                <a:lnTo>
                  <a:pt x="76" y="672"/>
                </a:lnTo>
                <a:lnTo>
                  <a:pt x="74" y="676"/>
                </a:lnTo>
                <a:lnTo>
                  <a:pt x="68" y="681"/>
                </a:lnTo>
                <a:lnTo>
                  <a:pt x="60" y="684"/>
                </a:lnTo>
                <a:lnTo>
                  <a:pt x="58" y="685"/>
                </a:lnTo>
                <a:lnTo>
                  <a:pt x="52" y="691"/>
                </a:lnTo>
                <a:lnTo>
                  <a:pt x="48" y="687"/>
                </a:lnTo>
                <a:lnTo>
                  <a:pt x="45" y="685"/>
                </a:lnTo>
                <a:lnTo>
                  <a:pt x="40" y="684"/>
                </a:lnTo>
                <a:lnTo>
                  <a:pt x="34" y="682"/>
                </a:lnTo>
                <a:lnTo>
                  <a:pt x="26" y="680"/>
                </a:lnTo>
                <a:lnTo>
                  <a:pt x="14" y="674"/>
                </a:lnTo>
                <a:lnTo>
                  <a:pt x="0" y="667"/>
                </a:lnTo>
                <a:lnTo>
                  <a:pt x="3" y="645"/>
                </a:lnTo>
                <a:lnTo>
                  <a:pt x="4" y="622"/>
                </a:lnTo>
                <a:lnTo>
                  <a:pt x="3" y="603"/>
                </a:lnTo>
                <a:lnTo>
                  <a:pt x="4" y="590"/>
                </a:lnTo>
                <a:lnTo>
                  <a:pt x="14" y="561"/>
                </a:lnTo>
                <a:lnTo>
                  <a:pt x="20" y="548"/>
                </a:lnTo>
                <a:lnTo>
                  <a:pt x="23" y="537"/>
                </a:lnTo>
                <a:lnTo>
                  <a:pt x="26" y="528"/>
                </a:lnTo>
                <a:lnTo>
                  <a:pt x="28" y="506"/>
                </a:lnTo>
                <a:lnTo>
                  <a:pt x="29" y="498"/>
                </a:lnTo>
                <a:lnTo>
                  <a:pt x="32" y="494"/>
                </a:lnTo>
                <a:lnTo>
                  <a:pt x="34" y="493"/>
                </a:lnTo>
                <a:lnTo>
                  <a:pt x="38" y="493"/>
                </a:lnTo>
                <a:lnTo>
                  <a:pt x="40" y="494"/>
                </a:lnTo>
                <a:lnTo>
                  <a:pt x="44" y="496"/>
                </a:lnTo>
                <a:lnTo>
                  <a:pt x="47" y="498"/>
                </a:lnTo>
                <a:lnTo>
                  <a:pt x="50" y="499"/>
                </a:lnTo>
                <a:lnTo>
                  <a:pt x="53" y="499"/>
                </a:lnTo>
                <a:lnTo>
                  <a:pt x="56" y="496"/>
                </a:lnTo>
                <a:lnTo>
                  <a:pt x="56" y="490"/>
                </a:lnTo>
                <a:lnTo>
                  <a:pt x="58" y="488"/>
                </a:lnTo>
                <a:lnTo>
                  <a:pt x="62" y="487"/>
                </a:lnTo>
                <a:lnTo>
                  <a:pt x="74" y="487"/>
                </a:lnTo>
                <a:lnTo>
                  <a:pt x="75" y="486"/>
                </a:lnTo>
                <a:lnTo>
                  <a:pt x="75" y="482"/>
                </a:lnTo>
                <a:lnTo>
                  <a:pt x="74" y="478"/>
                </a:lnTo>
                <a:lnTo>
                  <a:pt x="74" y="476"/>
                </a:lnTo>
                <a:lnTo>
                  <a:pt x="71" y="471"/>
                </a:lnTo>
                <a:lnTo>
                  <a:pt x="71" y="470"/>
                </a:lnTo>
                <a:lnTo>
                  <a:pt x="70" y="469"/>
                </a:lnTo>
                <a:lnTo>
                  <a:pt x="68" y="469"/>
                </a:lnTo>
                <a:lnTo>
                  <a:pt x="63" y="471"/>
                </a:lnTo>
                <a:lnTo>
                  <a:pt x="56" y="478"/>
                </a:lnTo>
                <a:lnTo>
                  <a:pt x="48" y="482"/>
                </a:lnTo>
                <a:lnTo>
                  <a:pt x="40" y="482"/>
                </a:lnTo>
                <a:lnTo>
                  <a:pt x="38" y="480"/>
                </a:lnTo>
                <a:lnTo>
                  <a:pt x="40" y="476"/>
                </a:lnTo>
                <a:lnTo>
                  <a:pt x="44" y="471"/>
                </a:lnTo>
                <a:lnTo>
                  <a:pt x="50" y="465"/>
                </a:lnTo>
                <a:lnTo>
                  <a:pt x="56" y="462"/>
                </a:lnTo>
                <a:lnTo>
                  <a:pt x="59" y="459"/>
                </a:lnTo>
                <a:lnTo>
                  <a:pt x="62" y="458"/>
                </a:lnTo>
                <a:lnTo>
                  <a:pt x="64" y="456"/>
                </a:lnTo>
                <a:lnTo>
                  <a:pt x="66" y="448"/>
                </a:lnTo>
                <a:lnTo>
                  <a:pt x="66" y="444"/>
                </a:lnTo>
                <a:lnTo>
                  <a:pt x="64" y="442"/>
                </a:lnTo>
                <a:lnTo>
                  <a:pt x="59" y="445"/>
                </a:lnTo>
                <a:lnTo>
                  <a:pt x="52" y="447"/>
                </a:lnTo>
                <a:lnTo>
                  <a:pt x="46" y="451"/>
                </a:lnTo>
                <a:lnTo>
                  <a:pt x="41" y="453"/>
                </a:lnTo>
                <a:lnTo>
                  <a:pt x="40" y="451"/>
                </a:lnTo>
                <a:lnTo>
                  <a:pt x="41" y="445"/>
                </a:lnTo>
                <a:lnTo>
                  <a:pt x="42" y="436"/>
                </a:lnTo>
                <a:lnTo>
                  <a:pt x="44" y="427"/>
                </a:lnTo>
                <a:lnTo>
                  <a:pt x="46" y="417"/>
                </a:lnTo>
                <a:lnTo>
                  <a:pt x="47" y="410"/>
                </a:lnTo>
                <a:lnTo>
                  <a:pt x="48" y="405"/>
                </a:lnTo>
                <a:lnTo>
                  <a:pt x="50" y="403"/>
                </a:lnTo>
                <a:lnTo>
                  <a:pt x="52" y="402"/>
                </a:lnTo>
                <a:lnTo>
                  <a:pt x="58" y="402"/>
                </a:lnTo>
                <a:lnTo>
                  <a:pt x="62" y="403"/>
                </a:lnTo>
                <a:lnTo>
                  <a:pt x="64" y="404"/>
                </a:lnTo>
                <a:lnTo>
                  <a:pt x="71" y="405"/>
                </a:lnTo>
                <a:lnTo>
                  <a:pt x="77" y="404"/>
                </a:lnTo>
                <a:lnTo>
                  <a:pt x="84" y="403"/>
                </a:lnTo>
                <a:lnTo>
                  <a:pt x="86" y="402"/>
                </a:lnTo>
                <a:lnTo>
                  <a:pt x="86" y="399"/>
                </a:lnTo>
                <a:lnTo>
                  <a:pt x="84" y="397"/>
                </a:lnTo>
                <a:lnTo>
                  <a:pt x="82" y="394"/>
                </a:lnTo>
                <a:lnTo>
                  <a:pt x="80" y="390"/>
                </a:lnTo>
                <a:lnTo>
                  <a:pt x="77" y="387"/>
                </a:lnTo>
                <a:lnTo>
                  <a:pt x="75" y="386"/>
                </a:lnTo>
                <a:lnTo>
                  <a:pt x="71" y="385"/>
                </a:lnTo>
                <a:lnTo>
                  <a:pt x="64" y="385"/>
                </a:lnTo>
                <a:lnTo>
                  <a:pt x="62" y="386"/>
                </a:lnTo>
                <a:lnTo>
                  <a:pt x="60" y="385"/>
                </a:lnTo>
                <a:lnTo>
                  <a:pt x="59" y="379"/>
                </a:lnTo>
                <a:lnTo>
                  <a:pt x="58" y="370"/>
                </a:lnTo>
                <a:lnTo>
                  <a:pt x="58" y="356"/>
                </a:lnTo>
                <a:lnTo>
                  <a:pt x="57" y="350"/>
                </a:lnTo>
                <a:lnTo>
                  <a:pt x="54" y="339"/>
                </a:lnTo>
                <a:lnTo>
                  <a:pt x="50" y="326"/>
                </a:lnTo>
                <a:lnTo>
                  <a:pt x="46" y="312"/>
                </a:lnTo>
                <a:lnTo>
                  <a:pt x="41" y="298"/>
                </a:lnTo>
                <a:lnTo>
                  <a:pt x="39" y="288"/>
                </a:lnTo>
                <a:lnTo>
                  <a:pt x="34" y="264"/>
                </a:lnTo>
                <a:lnTo>
                  <a:pt x="24" y="235"/>
                </a:lnTo>
                <a:lnTo>
                  <a:pt x="20" y="219"/>
                </a:lnTo>
                <a:lnTo>
                  <a:pt x="15" y="207"/>
                </a:lnTo>
                <a:lnTo>
                  <a:pt x="10" y="199"/>
                </a:lnTo>
                <a:lnTo>
                  <a:pt x="5" y="189"/>
                </a:lnTo>
                <a:lnTo>
                  <a:pt x="4" y="181"/>
                </a:lnTo>
                <a:lnTo>
                  <a:pt x="6" y="175"/>
                </a:lnTo>
                <a:lnTo>
                  <a:pt x="12" y="171"/>
                </a:lnTo>
                <a:lnTo>
                  <a:pt x="16" y="170"/>
                </a:lnTo>
                <a:lnTo>
                  <a:pt x="18" y="170"/>
                </a:lnTo>
                <a:lnTo>
                  <a:pt x="21" y="172"/>
                </a:lnTo>
                <a:lnTo>
                  <a:pt x="21" y="181"/>
                </a:lnTo>
                <a:lnTo>
                  <a:pt x="22" y="184"/>
                </a:lnTo>
                <a:lnTo>
                  <a:pt x="27" y="189"/>
                </a:lnTo>
                <a:lnTo>
                  <a:pt x="29" y="190"/>
                </a:lnTo>
                <a:lnTo>
                  <a:pt x="32" y="193"/>
                </a:lnTo>
                <a:lnTo>
                  <a:pt x="34" y="199"/>
                </a:lnTo>
                <a:lnTo>
                  <a:pt x="36" y="206"/>
                </a:lnTo>
                <a:lnTo>
                  <a:pt x="39" y="214"/>
                </a:lnTo>
                <a:lnTo>
                  <a:pt x="42" y="222"/>
                </a:lnTo>
                <a:lnTo>
                  <a:pt x="44" y="223"/>
                </a:lnTo>
                <a:lnTo>
                  <a:pt x="45" y="223"/>
                </a:lnTo>
                <a:lnTo>
                  <a:pt x="47" y="220"/>
                </a:lnTo>
                <a:lnTo>
                  <a:pt x="47" y="223"/>
                </a:lnTo>
                <a:lnTo>
                  <a:pt x="50" y="228"/>
                </a:lnTo>
                <a:lnTo>
                  <a:pt x="51" y="229"/>
                </a:lnTo>
                <a:lnTo>
                  <a:pt x="56" y="229"/>
                </a:lnTo>
                <a:lnTo>
                  <a:pt x="65" y="224"/>
                </a:lnTo>
                <a:lnTo>
                  <a:pt x="69" y="224"/>
                </a:lnTo>
                <a:lnTo>
                  <a:pt x="71" y="225"/>
                </a:lnTo>
                <a:lnTo>
                  <a:pt x="72" y="228"/>
                </a:lnTo>
                <a:lnTo>
                  <a:pt x="74" y="229"/>
                </a:lnTo>
                <a:lnTo>
                  <a:pt x="76" y="230"/>
                </a:lnTo>
                <a:lnTo>
                  <a:pt x="83" y="230"/>
                </a:lnTo>
                <a:lnTo>
                  <a:pt x="84" y="228"/>
                </a:lnTo>
                <a:lnTo>
                  <a:pt x="87" y="226"/>
                </a:lnTo>
                <a:lnTo>
                  <a:pt x="88" y="224"/>
                </a:lnTo>
                <a:lnTo>
                  <a:pt x="90" y="220"/>
                </a:lnTo>
                <a:lnTo>
                  <a:pt x="92" y="218"/>
                </a:lnTo>
                <a:lnTo>
                  <a:pt x="95" y="214"/>
                </a:lnTo>
                <a:lnTo>
                  <a:pt x="98" y="213"/>
                </a:lnTo>
                <a:lnTo>
                  <a:pt x="100" y="213"/>
                </a:lnTo>
                <a:lnTo>
                  <a:pt x="101" y="214"/>
                </a:lnTo>
                <a:lnTo>
                  <a:pt x="101" y="217"/>
                </a:lnTo>
                <a:lnTo>
                  <a:pt x="104" y="222"/>
                </a:lnTo>
                <a:lnTo>
                  <a:pt x="106" y="223"/>
                </a:lnTo>
                <a:lnTo>
                  <a:pt x="108" y="225"/>
                </a:lnTo>
                <a:lnTo>
                  <a:pt x="117" y="225"/>
                </a:lnTo>
                <a:lnTo>
                  <a:pt x="125" y="222"/>
                </a:lnTo>
                <a:lnTo>
                  <a:pt x="132" y="217"/>
                </a:lnTo>
                <a:lnTo>
                  <a:pt x="142" y="212"/>
                </a:lnTo>
                <a:lnTo>
                  <a:pt x="154" y="200"/>
                </a:lnTo>
                <a:lnTo>
                  <a:pt x="161" y="195"/>
                </a:lnTo>
                <a:lnTo>
                  <a:pt x="164" y="194"/>
                </a:lnTo>
                <a:lnTo>
                  <a:pt x="171" y="192"/>
                </a:lnTo>
                <a:lnTo>
                  <a:pt x="178" y="192"/>
                </a:lnTo>
                <a:lnTo>
                  <a:pt x="180" y="199"/>
                </a:lnTo>
                <a:lnTo>
                  <a:pt x="182" y="201"/>
                </a:lnTo>
                <a:lnTo>
                  <a:pt x="182" y="204"/>
                </a:lnTo>
                <a:lnTo>
                  <a:pt x="188" y="210"/>
                </a:lnTo>
                <a:lnTo>
                  <a:pt x="195" y="213"/>
                </a:lnTo>
                <a:lnTo>
                  <a:pt x="206" y="214"/>
                </a:lnTo>
                <a:lnTo>
                  <a:pt x="215" y="216"/>
                </a:lnTo>
                <a:lnTo>
                  <a:pt x="226" y="217"/>
                </a:lnTo>
                <a:lnTo>
                  <a:pt x="234" y="220"/>
                </a:lnTo>
                <a:lnTo>
                  <a:pt x="240" y="224"/>
                </a:lnTo>
                <a:lnTo>
                  <a:pt x="244" y="223"/>
                </a:lnTo>
                <a:lnTo>
                  <a:pt x="246" y="218"/>
                </a:lnTo>
                <a:lnTo>
                  <a:pt x="245" y="211"/>
                </a:lnTo>
                <a:lnTo>
                  <a:pt x="239" y="204"/>
                </a:lnTo>
                <a:lnTo>
                  <a:pt x="232" y="195"/>
                </a:lnTo>
                <a:lnTo>
                  <a:pt x="228" y="184"/>
                </a:lnTo>
                <a:lnTo>
                  <a:pt x="226" y="174"/>
                </a:lnTo>
                <a:lnTo>
                  <a:pt x="227" y="165"/>
                </a:lnTo>
                <a:lnTo>
                  <a:pt x="228" y="156"/>
                </a:lnTo>
                <a:lnTo>
                  <a:pt x="228" y="144"/>
                </a:lnTo>
                <a:lnTo>
                  <a:pt x="225" y="130"/>
                </a:lnTo>
                <a:lnTo>
                  <a:pt x="215" y="111"/>
                </a:lnTo>
                <a:lnTo>
                  <a:pt x="214" y="102"/>
                </a:lnTo>
                <a:lnTo>
                  <a:pt x="215" y="93"/>
                </a:lnTo>
                <a:lnTo>
                  <a:pt x="219" y="88"/>
                </a:lnTo>
                <a:lnTo>
                  <a:pt x="220" y="84"/>
                </a:lnTo>
                <a:lnTo>
                  <a:pt x="219" y="78"/>
                </a:lnTo>
                <a:lnTo>
                  <a:pt x="216" y="69"/>
                </a:lnTo>
                <a:lnTo>
                  <a:pt x="213" y="61"/>
                </a:lnTo>
                <a:lnTo>
                  <a:pt x="210" y="54"/>
                </a:lnTo>
                <a:lnTo>
                  <a:pt x="210" y="45"/>
                </a:lnTo>
                <a:lnTo>
                  <a:pt x="212" y="39"/>
                </a:lnTo>
                <a:lnTo>
                  <a:pt x="212" y="33"/>
                </a:lnTo>
                <a:lnTo>
                  <a:pt x="207" y="27"/>
                </a:lnTo>
                <a:lnTo>
                  <a:pt x="200" y="20"/>
                </a:lnTo>
                <a:lnTo>
                  <a:pt x="195" y="12"/>
                </a:lnTo>
                <a:lnTo>
                  <a:pt x="191" y="6"/>
                </a:lnTo>
                <a:lnTo>
                  <a:pt x="191" y="1"/>
                </a:lnTo>
                <a:lnTo>
                  <a:pt x="195" y="0"/>
                </a:lnTo>
                <a:close/>
              </a:path>
            </a:pathLst>
          </a:custGeom>
          <a:solidFill>
            <a:srgbClr val="7f7f7f"/>
          </a:solidFill>
          <a:ln w="0">
            <a:solidFill>
              <a:srgbClr val="adada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 4567"/>
          <p:cNvSpPr/>
          <p:nvPr/>
        </p:nvSpPr>
        <p:spPr>
          <a:xfrm>
            <a:off x="6405480" y="2482920"/>
            <a:ext cx="401760" cy="477720"/>
          </a:xfrm>
          <a:custGeom>
            <a:avLst/>
            <a:gdLst>
              <a:gd name="textAreaLeft" fmla="*/ 0 w 401760"/>
              <a:gd name="textAreaRight" fmla="*/ 402120 w 401760"/>
              <a:gd name="textAreaTop" fmla="*/ 0 h 477720"/>
              <a:gd name="textAreaBottom" fmla="*/ 478080 h 477720"/>
            </a:gdLst>
            <a:ahLst/>
            <a:rect l="textAreaLeft" t="textAreaTop" r="textAreaRight" b="textAreaBottom"/>
            <a:pathLst>
              <a:path w="293" h="349">
                <a:moveTo>
                  <a:pt x="212" y="0"/>
                </a:moveTo>
                <a:lnTo>
                  <a:pt x="226" y="7"/>
                </a:lnTo>
                <a:lnTo>
                  <a:pt x="238" y="13"/>
                </a:lnTo>
                <a:lnTo>
                  <a:pt x="246" y="15"/>
                </a:lnTo>
                <a:lnTo>
                  <a:pt x="252" y="17"/>
                </a:lnTo>
                <a:lnTo>
                  <a:pt x="257" y="18"/>
                </a:lnTo>
                <a:lnTo>
                  <a:pt x="260" y="20"/>
                </a:lnTo>
                <a:lnTo>
                  <a:pt x="264" y="24"/>
                </a:lnTo>
                <a:lnTo>
                  <a:pt x="258" y="30"/>
                </a:lnTo>
                <a:lnTo>
                  <a:pt x="253" y="36"/>
                </a:lnTo>
                <a:lnTo>
                  <a:pt x="252" y="39"/>
                </a:lnTo>
                <a:lnTo>
                  <a:pt x="253" y="43"/>
                </a:lnTo>
                <a:lnTo>
                  <a:pt x="256" y="47"/>
                </a:lnTo>
                <a:lnTo>
                  <a:pt x="258" y="51"/>
                </a:lnTo>
                <a:lnTo>
                  <a:pt x="259" y="57"/>
                </a:lnTo>
                <a:lnTo>
                  <a:pt x="259" y="62"/>
                </a:lnTo>
                <a:lnTo>
                  <a:pt x="256" y="65"/>
                </a:lnTo>
                <a:lnTo>
                  <a:pt x="242" y="65"/>
                </a:lnTo>
                <a:lnTo>
                  <a:pt x="238" y="67"/>
                </a:lnTo>
                <a:lnTo>
                  <a:pt x="234" y="72"/>
                </a:lnTo>
                <a:lnTo>
                  <a:pt x="234" y="75"/>
                </a:lnTo>
                <a:lnTo>
                  <a:pt x="235" y="80"/>
                </a:lnTo>
                <a:lnTo>
                  <a:pt x="236" y="90"/>
                </a:lnTo>
                <a:lnTo>
                  <a:pt x="236" y="93"/>
                </a:lnTo>
                <a:lnTo>
                  <a:pt x="235" y="96"/>
                </a:lnTo>
                <a:lnTo>
                  <a:pt x="235" y="97"/>
                </a:lnTo>
                <a:lnTo>
                  <a:pt x="232" y="97"/>
                </a:lnTo>
                <a:lnTo>
                  <a:pt x="230" y="96"/>
                </a:lnTo>
                <a:lnTo>
                  <a:pt x="229" y="96"/>
                </a:lnTo>
                <a:lnTo>
                  <a:pt x="227" y="95"/>
                </a:lnTo>
                <a:lnTo>
                  <a:pt x="226" y="95"/>
                </a:lnTo>
                <a:lnTo>
                  <a:pt x="223" y="96"/>
                </a:lnTo>
                <a:lnTo>
                  <a:pt x="222" y="99"/>
                </a:lnTo>
                <a:lnTo>
                  <a:pt x="228" y="105"/>
                </a:lnTo>
                <a:lnTo>
                  <a:pt x="230" y="110"/>
                </a:lnTo>
                <a:lnTo>
                  <a:pt x="228" y="122"/>
                </a:lnTo>
                <a:lnTo>
                  <a:pt x="229" y="127"/>
                </a:lnTo>
                <a:lnTo>
                  <a:pt x="230" y="133"/>
                </a:lnTo>
                <a:lnTo>
                  <a:pt x="232" y="141"/>
                </a:lnTo>
                <a:lnTo>
                  <a:pt x="232" y="145"/>
                </a:lnTo>
                <a:lnTo>
                  <a:pt x="233" y="146"/>
                </a:lnTo>
                <a:lnTo>
                  <a:pt x="233" y="147"/>
                </a:lnTo>
                <a:lnTo>
                  <a:pt x="240" y="147"/>
                </a:lnTo>
                <a:lnTo>
                  <a:pt x="240" y="149"/>
                </a:lnTo>
                <a:lnTo>
                  <a:pt x="241" y="150"/>
                </a:lnTo>
                <a:lnTo>
                  <a:pt x="241" y="153"/>
                </a:lnTo>
                <a:lnTo>
                  <a:pt x="242" y="161"/>
                </a:lnTo>
                <a:lnTo>
                  <a:pt x="245" y="164"/>
                </a:lnTo>
                <a:lnTo>
                  <a:pt x="252" y="171"/>
                </a:lnTo>
                <a:lnTo>
                  <a:pt x="256" y="177"/>
                </a:lnTo>
                <a:lnTo>
                  <a:pt x="257" y="181"/>
                </a:lnTo>
                <a:lnTo>
                  <a:pt x="257" y="182"/>
                </a:lnTo>
                <a:lnTo>
                  <a:pt x="256" y="185"/>
                </a:lnTo>
                <a:lnTo>
                  <a:pt x="254" y="185"/>
                </a:lnTo>
                <a:lnTo>
                  <a:pt x="252" y="186"/>
                </a:lnTo>
                <a:lnTo>
                  <a:pt x="247" y="186"/>
                </a:lnTo>
                <a:lnTo>
                  <a:pt x="246" y="187"/>
                </a:lnTo>
                <a:lnTo>
                  <a:pt x="245" y="187"/>
                </a:lnTo>
                <a:lnTo>
                  <a:pt x="245" y="192"/>
                </a:lnTo>
                <a:lnTo>
                  <a:pt x="248" y="198"/>
                </a:lnTo>
                <a:lnTo>
                  <a:pt x="252" y="203"/>
                </a:lnTo>
                <a:lnTo>
                  <a:pt x="258" y="206"/>
                </a:lnTo>
                <a:lnTo>
                  <a:pt x="265" y="212"/>
                </a:lnTo>
                <a:lnTo>
                  <a:pt x="276" y="222"/>
                </a:lnTo>
                <a:lnTo>
                  <a:pt x="286" y="233"/>
                </a:lnTo>
                <a:lnTo>
                  <a:pt x="292" y="247"/>
                </a:lnTo>
                <a:lnTo>
                  <a:pt x="293" y="259"/>
                </a:lnTo>
                <a:lnTo>
                  <a:pt x="292" y="271"/>
                </a:lnTo>
                <a:lnTo>
                  <a:pt x="289" y="281"/>
                </a:lnTo>
                <a:lnTo>
                  <a:pt x="286" y="288"/>
                </a:lnTo>
                <a:lnTo>
                  <a:pt x="278" y="295"/>
                </a:lnTo>
                <a:lnTo>
                  <a:pt x="277" y="297"/>
                </a:lnTo>
                <a:lnTo>
                  <a:pt x="276" y="301"/>
                </a:lnTo>
                <a:lnTo>
                  <a:pt x="276" y="306"/>
                </a:lnTo>
                <a:lnTo>
                  <a:pt x="272" y="314"/>
                </a:lnTo>
                <a:lnTo>
                  <a:pt x="264" y="321"/>
                </a:lnTo>
                <a:lnTo>
                  <a:pt x="253" y="329"/>
                </a:lnTo>
                <a:lnTo>
                  <a:pt x="242" y="335"/>
                </a:lnTo>
                <a:lnTo>
                  <a:pt x="238" y="339"/>
                </a:lnTo>
                <a:lnTo>
                  <a:pt x="238" y="347"/>
                </a:lnTo>
                <a:lnTo>
                  <a:pt x="239" y="349"/>
                </a:lnTo>
                <a:lnTo>
                  <a:pt x="221" y="347"/>
                </a:lnTo>
                <a:lnTo>
                  <a:pt x="204" y="343"/>
                </a:lnTo>
                <a:lnTo>
                  <a:pt x="188" y="336"/>
                </a:lnTo>
                <a:lnTo>
                  <a:pt x="174" y="326"/>
                </a:lnTo>
                <a:lnTo>
                  <a:pt x="161" y="313"/>
                </a:lnTo>
                <a:lnTo>
                  <a:pt x="148" y="299"/>
                </a:lnTo>
                <a:lnTo>
                  <a:pt x="133" y="283"/>
                </a:lnTo>
                <a:lnTo>
                  <a:pt x="114" y="270"/>
                </a:lnTo>
                <a:lnTo>
                  <a:pt x="92" y="260"/>
                </a:lnTo>
                <a:lnTo>
                  <a:pt x="31" y="240"/>
                </a:lnTo>
                <a:lnTo>
                  <a:pt x="22" y="231"/>
                </a:lnTo>
                <a:lnTo>
                  <a:pt x="13" y="219"/>
                </a:lnTo>
                <a:lnTo>
                  <a:pt x="7" y="204"/>
                </a:lnTo>
                <a:lnTo>
                  <a:pt x="4" y="188"/>
                </a:lnTo>
                <a:lnTo>
                  <a:pt x="1" y="173"/>
                </a:lnTo>
                <a:lnTo>
                  <a:pt x="0" y="162"/>
                </a:lnTo>
                <a:lnTo>
                  <a:pt x="0" y="155"/>
                </a:lnTo>
                <a:lnTo>
                  <a:pt x="2" y="150"/>
                </a:lnTo>
                <a:lnTo>
                  <a:pt x="10" y="144"/>
                </a:lnTo>
                <a:lnTo>
                  <a:pt x="19" y="137"/>
                </a:lnTo>
                <a:lnTo>
                  <a:pt x="30" y="128"/>
                </a:lnTo>
                <a:lnTo>
                  <a:pt x="41" y="121"/>
                </a:lnTo>
                <a:lnTo>
                  <a:pt x="58" y="113"/>
                </a:lnTo>
                <a:lnTo>
                  <a:pt x="67" y="109"/>
                </a:lnTo>
                <a:lnTo>
                  <a:pt x="82" y="103"/>
                </a:lnTo>
                <a:lnTo>
                  <a:pt x="97" y="97"/>
                </a:lnTo>
                <a:lnTo>
                  <a:pt x="112" y="91"/>
                </a:lnTo>
                <a:lnTo>
                  <a:pt x="122" y="87"/>
                </a:lnTo>
                <a:lnTo>
                  <a:pt x="136" y="87"/>
                </a:lnTo>
                <a:lnTo>
                  <a:pt x="142" y="90"/>
                </a:lnTo>
                <a:lnTo>
                  <a:pt x="148" y="90"/>
                </a:lnTo>
                <a:lnTo>
                  <a:pt x="156" y="87"/>
                </a:lnTo>
                <a:lnTo>
                  <a:pt x="166" y="81"/>
                </a:lnTo>
                <a:lnTo>
                  <a:pt x="180" y="67"/>
                </a:lnTo>
                <a:lnTo>
                  <a:pt x="191" y="50"/>
                </a:lnTo>
                <a:lnTo>
                  <a:pt x="199" y="35"/>
                </a:lnTo>
                <a:lnTo>
                  <a:pt x="206" y="20"/>
                </a:lnTo>
                <a:lnTo>
                  <a:pt x="210" y="12"/>
                </a:lnTo>
                <a:lnTo>
                  <a:pt x="212" y="0"/>
                </a:lnTo>
                <a:close/>
              </a:path>
            </a:pathLst>
          </a:custGeom>
          <a:solidFill>
            <a:srgbClr val="7f7f7f"/>
          </a:solidFill>
          <a:ln w="0">
            <a:solidFill>
              <a:srgbClr val="adada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5281"/>
          <p:cNvSpPr/>
          <p:nvPr/>
        </p:nvSpPr>
        <p:spPr>
          <a:xfrm>
            <a:off x="6570720" y="1405080"/>
            <a:ext cx="368280" cy="476280"/>
          </a:xfrm>
          <a:custGeom>
            <a:avLst/>
            <a:gdLst>
              <a:gd name="textAreaLeft" fmla="*/ 0 w 368280"/>
              <a:gd name="textAreaRight" fmla="*/ 368640 w 36828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69" h="348">
                <a:moveTo>
                  <a:pt x="115" y="0"/>
                </a:moveTo>
                <a:lnTo>
                  <a:pt x="120" y="6"/>
                </a:lnTo>
                <a:lnTo>
                  <a:pt x="127" y="13"/>
                </a:lnTo>
                <a:lnTo>
                  <a:pt x="144" y="32"/>
                </a:lnTo>
                <a:lnTo>
                  <a:pt x="150" y="37"/>
                </a:lnTo>
                <a:lnTo>
                  <a:pt x="156" y="41"/>
                </a:lnTo>
                <a:lnTo>
                  <a:pt x="161" y="44"/>
                </a:lnTo>
                <a:lnTo>
                  <a:pt x="163" y="46"/>
                </a:lnTo>
                <a:lnTo>
                  <a:pt x="163" y="47"/>
                </a:lnTo>
                <a:lnTo>
                  <a:pt x="162" y="49"/>
                </a:lnTo>
                <a:lnTo>
                  <a:pt x="159" y="53"/>
                </a:lnTo>
                <a:lnTo>
                  <a:pt x="155" y="54"/>
                </a:lnTo>
                <a:lnTo>
                  <a:pt x="153" y="56"/>
                </a:lnTo>
                <a:lnTo>
                  <a:pt x="150" y="58"/>
                </a:lnTo>
                <a:lnTo>
                  <a:pt x="149" y="59"/>
                </a:lnTo>
                <a:lnTo>
                  <a:pt x="150" y="61"/>
                </a:lnTo>
                <a:lnTo>
                  <a:pt x="151" y="62"/>
                </a:lnTo>
                <a:lnTo>
                  <a:pt x="162" y="66"/>
                </a:lnTo>
                <a:lnTo>
                  <a:pt x="165" y="68"/>
                </a:lnTo>
                <a:lnTo>
                  <a:pt x="168" y="71"/>
                </a:lnTo>
                <a:lnTo>
                  <a:pt x="169" y="76"/>
                </a:lnTo>
                <a:lnTo>
                  <a:pt x="167" y="78"/>
                </a:lnTo>
                <a:lnTo>
                  <a:pt x="155" y="80"/>
                </a:lnTo>
                <a:lnTo>
                  <a:pt x="149" y="80"/>
                </a:lnTo>
                <a:lnTo>
                  <a:pt x="145" y="82"/>
                </a:lnTo>
                <a:lnTo>
                  <a:pt x="145" y="85"/>
                </a:lnTo>
                <a:lnTo>
                  <a:pt x="150" y="95"/>
                </a:lnTo>
                <a:lnTo>
                  <a:pt x="151" y="100"/>
                </a:lnTo>
                <a:lnTo>
                  <a:pt x="151" y="101"/>
                </a:lnTo>
                <a:lnTo>
                  <a:pt x="150" y="102"/>
                </a:lnTo>
                <a:lnTo>
                  <a:pt x="149" y="101"/>
                </a:lnTo>
                <a:lnTo>
                  <a:pt x="148" y="101"/>
                </a:lnTo>
                <a:lnTo>
                  <a:pt x="145" y="100"/>
                </a:lnTo>
                <a:lnTo>
                  <a:pt x="143" y="97"/>
                </a:lnTo>
                <a:lnTo>
                  <a:pt x="139" y="96"/>
                </a:lnTo>
                <a:lnTo>
                  <a:pt x="137" y="95"/>
                </a:lnTo>
                <a:lnTo>
                  <a:pt x="133" y="94"/>
                </a:lnTo>
                <a:lnTo>
                  <a:pt x="131" y="95"/>
                </a:lnTo>
                <a:lnTo>
                  <a:pt x="131" y="100"/>
                </a:lnTo>
                <a:lnTo>
                  <a:pt x="139" y="116"/>
                </a:lnTo>
                <a:lnTo>
                  <a:pt x="141" y="124"/>
                </a:lnTo>
                <a:lnTo>
                  <a:pt x="145" y="140"/>
                </a:lnTo>
                <a:lnTo>
                  <a:pt x="149" y="146"/>
                </a:lnTo>
                <a:lnTo>
                  <a:pt x="154" y="148"/>
                </a:lnTo>
                <a:lnTo>
                  <a:pt x="160" y="144"/>
                </a:lnTo>
                <a:lnTo>
                  <a:pt x="165" y="140"/>
                </a:lnTo>
                <a:lnTo>
                  <a:pt x="171" y="139"/>
                </a:lnTo>
                <a:lnTo>
                  <a:pt x="172" y="140"/>
                </a:lnTo>
                <a:lnTo>
                  <a:pt x="169" y="144"/>
                </a:lnTo>
                <a:lnTo>
                  <a:pt x="166" y="149"/>
                </a:lnTo>
                <a:lnTo>
                  <a:pt x="161" y="155"/>
                </a:lnTo>
                <a:lnTo>
                  <a:pt x="155" y="158"/>
                </a:lnTo>
                <a:lnTo>
                  <a:pt x="150" y="162"/>
                </a:lnTo>
                <a:lnTo>
                  <a:pt x="145" y="164"/>
                </a:lnTo>
                <a:lnTo>
                  <a:pt x="141" y="169"/>
                </a:lnTo>
                <a:lnTo>
                  <a:pt x="139" y="172"/>
                </a:lnTo>
                <a:lnTo>
                  <a:pt x="139" y="175"/>
                </a:lnTo>
                <a:lnTo>
                  <a:pt x="142" y="178"/>
                </a:lnTo>
                <a:lnTo>
                  <a:pt x="145" y="185"/>
                </a:lnTo>
                <a:lnTo>
                  <a:pt x="144" y="193"/>
                </a:lnTo>
                <a:lnTo>
                  <a:pt x="141" y="200"/>
                </a:lnTo>
                <a:lnTo>
                  <a:pt x="138" y="203"/>
                </a:lnTo>
                <a:lnTo>
                  <a:pt x="136" y="204"/>
                </a:lnTo>
                <a:lnTo>
                  <a:pt x="133" y="203"/>
                </a:lnTo>
                <a:lnTo>
                  <a:pt x="132" y="203"/>
                </a:lnTo>
                <a:lnTo>
                  <a:pt x="129" y="199"/>
                </a:lnTo>
                <a:lnTo>
                  <a:pt x="126" y="198"/>
                </a:lnTo>
                <a:lnTo>
                  <a:pt x="124" y="198"/>
                </a:lnTo>
                <a:lnTo>
                  <a:pt x="123" y="200"/>
                </a:lnTo>
                <a:lnTo>
                  <a:pt x="121" y="202"/>
                </a:lnTo>
                <a:lnTo>
                  <a:pt x="120" y="204"/>
                </a:lnTo>
                <a:lnTo>
                  <a:pt x="118" y="205"/>
                </a:lnTo>
                <a:lnTo>
                  <a:pt x="115" y="208"/>
                </a:lnTo>
                <a:lnTo>
                  <a:pt x="109" y="208"/>
                </a:lnTo>
                <a:lnTo>
                  <a:pt x="107" y="209"/>
                </a:lnTo>
                <a:lnTo>
                  <a:pt x="106" y="211"/>
                </a:lnTo>
                <a:lnTo>
                  <a:pt x="106" y="214"/>
                </a:lnTo>
                <a:lnTo>
                  <a:pt x="109" y="217"/>
                </a:lnTo>
                <a:lnTo>
                  <a:pt x="113" y="218"/>
                </a:lnTo>
                <a:lnTo>
                  <a:pt x="115" y="221"/>
                </a:lnTo>
                <a:lnTo>
                  <a:pt x="118" y="222"/>
                </a:lnTo>
                <a:lnTo>
                  <a:pt x="121" y="224"/>
                </a:lnTo>
                <a:lnTo>
                  <a:pt x="126" y="227"/>
                </a:lnTo>
                <a:lnTo>
                  <a:pt x="130" y="228"/>
                </a:lnTo>
                <a:lnTo>
                  <a:pt x="135" y="228"/>
                </a:lnTo>
                <a:lnTo>
                  <a:pt x="137" y="227"/>
                </a:lnTo>
                <a:lnTo>
                  <a:pt x="139" y="224"/>
                </a:lnTo>
                <a:lnTo>
                  <a:pt x="144" y="222"/>
                </a:lnTo>
                <a:lnTo>
                  <a:pt x="148" y="222"/>
                </a:lnTo>
                <a:lnTo>
                  <a:pt x="153" y="224"/>
                </a:lnTo>
                <a:lnTo>
                  <a:pt x="162" y="234"/>
                </a:lnTo>
                <a:lnTo>
                  <a:pt x="165" y="234"/>
                </a:lnTo>
                <a:lnTo>
                  <a:pt x="167" y="233"/>
                </a:lnTo>
                <a:lnTo>
                  <a:pt x="171" y="232"/>
                </a:lnTo>
                <a:lnTo>
                  <a:pt x="173" y="232"/>
                </a:lnTo>
                <a:lnTo>
                  <a:pt x="175" y="230"/>
                </a:lnTo>
                <a:lnTo>
                  <a:pt x="178" y="230"/>
                </a:lnTo>
                <a:lnTo>
                  <a:pt x="184" y="236"/>
                </a:lnTo>
                <a:lnTo>
                  <a:pt x="189" y="244"/>
                </a:lnTo>
                <a:lnTo>
                  <a:pt x="193" y="248"/>
                </a:lnTo>
                <a:lnTo>
                  <a:pt x="198" y="248"/>
                </a:lnTo>
                <a:lnTo>
                  <a:pt x="204" y="244"/>
                </a:lnTo>
                <a:lnTo>
                  <a:pt x="210" y="240"/>
                </a:lnTo>
                <a:lnTo>
                  <a:pt x="215" y="236"/>
                </a:lnTo>
                <a:lnTo>
                  <a:pt x="217" y="236"/>
                </a:lnTo>
                <a:lnTo>
                  <a:pt x="219" y="238"/>
                </a:lnTo>
                <a:lnTo>
                  <a:pt x="221" y="242"/>
                </a:lnTo>
                <a:lnTo>
                  <a:pt x="221" y="250"/>
                </a:lnTo>
                <a:lnTo>
                  <a:pt x="222" y="252"/>
                </a:lnTo>
                <a:lnTo>
                  <a:pt x="228" y="254"/>
                </a:lnTo>
                <a:lnTo>
                  <a:pt x="235" y="256"/>
                </a:lnTo>
                <a:lnTo>
                  <a:pt x="250" y="256"/>
                </a:lnTo>
                <a:lnTo>
                  <a:pt x="253" y="259"/>
                </a:lnTo>
                <a:lnTo>
                  <a:pt x="258" y="269"/>
                </a:lnTo>
                <a:lnTo>
                  <a:pt x="262" y="282"/>
                </a:lnTo>
                <a:lnTo>
                  <a:pt x="265" y="296"/>
                </a:lnTo>
                <a:lnTo>
                  <a:pt x="269" y="310"/>
                </a:lnTo>
                <a:lnTo>
                  <a:pt x="262" y="310"/>
                </a:lnTo>
                <a:lnTo>
                  <a:pt x="255" y="312"/>
                </a:lnTo>
                <a:lnTo>
                  <a:pt x="252" y="313"/>
                </a:lnTo>
                <a:lnTo>
                  <a:pt x="245" y="318"/>
                </a:lnTo>
                <a:lnTo>
                  <a:pt x="233" y="330"/>
                </a:lnTo>
                <a:lnTo>
                  <a:pt x="223" y="335"/>
                </a:lnTo>
                <a:lnTo>
                  <a:pt x="216" y="340"/>
                </a:lnTo>
                <a:lnTo>
                  <a:pt x="208" y="343"/>
                </a:lnTo>
                <a:lnTo>
                  <a:pt x="199" y="343"/>
                </a:lnTo>
                <a:lnTo>
                  <a:pt x="197" y="341"/>
                </a:lnTo>
                <a:lnTo>
                  <a:pt x="195" y="340"/>
                </a:lnTo>
                <a:lnTo>
                  <a:pt x="192" y="335"/>
                </a:lnTo>
                <a:lnTo>
                  <a:pt x="192" y="332"/>
                </a:lnTo>
                <a:lnTo>
                  <a:pt x="191" y="331"/>
                </a:lnTo>
                <a:lnTo>
                  <a:pt x="189" y="331"/>
                </a:lnTo>
                <a:lnTo>
                  <a:pt x="186" y="332"/>
                </a:lnTo>
                <a:lnTo>
                  <a:pt x="183" y="336"/>
                </a:lnTo>
                <a:lnTo>
                  <a:pt x="181" y="338"/>
                </a:lnTo>
                <a:lnTo>
                  <a:pt x="179" y="342"/>
                </a:lnTo>
                <a:lnTo>
                  <a:pt x="178" y="344"/>
                </a:lnTo>
                <a:lnTo>
                  <a:pt x="175" y="346"/>
                </a:lnTo>
                <a:lnTo>
                  <a:pt x="174" y="348"/>
                </a:lnTo>
                <a:lnTo>
                  <a:pt x="167" y="348"/>
                </a:lnTo>
                <a:lnTo>
                  <a:pt x="165" y="347"/>
                </a:lnTo>
                <a:lnTo>
                  <a:pt x="163" y="346"/>
                </a:lnTo>
                <a:lnTo>
                  <a:pt x="162" y="343"/>
                </a:lnTo>
                <a:lnTo>
                  <a:pt x="160" y="342"/>
                </a:lnTo>
                <a:lnTo>
                  <a:pt x="156" y="342"/>
                </a:lnTo>
                <a:lnTo>
                  <a:pt x="147" y="347"/>
                </a:lnTo>
                <a:lnTo>
                  <a:pt x="142" y="347"/>
                </a:lnTo>
                <a:lnTo>
                  <a:pt x="141" y="346"/>
                </a:lnTo>
                <a:lnTo>
                  <a:pt x="138" y="341"/>
                </a:lnTo>
                <a:lnTo>
                  <a:pt x="138" y="338"/>
                </a:lnTo>
                <a:lnTo>
                  <a:pt x="141" y="331"/>
                </a:lnTo>
                <a:lnTo>
                  <a:pt x="142" y="326"/>
                </a:lnTo>
                <a:lnTo>
                  <a:pt x="143" y="323"/>
                </a:lnTo>
                <a:lnTo>
                  <a:pt x="144" y="320"/>
                </a:lnTo>
                <a:lnTo>
                  <a:pt x="144" y="318"/>
                </a:lnTo>
                <a:lnTo>
                  <a:pt x="143" y="314"/>
                </a:lnTo>
                <a:lnTo>
                  <a:pt x="142" y="312"/>
                </a:lnTo>
                <a:lnTo>
                  <a:pt x="139" y="311"/>
                </a:lnTo>
                <a:lnTo>
                  <a:pt x="136" y="310"/>
                </a:lnTo>
                <a:lnTo>
                  <a:pt x="133" y="308"/>
                </a:lnTo>
                <a:lnTo>
                  <a:pt x="132" y="306"/>
                </a:lnTo>
                <a:lnTo>
                  <a:pt x="136" y="300"/>
                </a:lnTo>
                <a:lnTo>
                  <a:pt x="141" y="294"/>
                </a:lnTo>
                <a:lnTo>
                  <a:pt x="151" y="283"/>
                </a:lnTo>
                <a:lnTo>
                  <a:pt x="153" y="278"/>
                </a:lnTo>
                <a:lnTo>
                  <a:pt x="150" y="271"/>
                </a:lnTo>
                <a:lnTo>
                  <a:pt x="145" y="264"/>
                </a:lnTo>
                <a:lnTo>
                  <a:pt x="139" y="258"/>
                </a:lnTo>
                <a:lnTo>
                  <a:pt x="132" y="252"/>
                </a:lnTo>
                <a:lnTo>
                  <a:pt x="126" y="248"/>
                </a:lnTo>
                <a:lnTo>
                  <a:pt x="119" y="248"/>
                </a:lnTo>
                <a:lnTo>
                  <a:pt x="115" y="252"/>
                </a:lnTo>
                <a:lnTo>
                  <a:pt x="111" y="258"/>
                </a:lnTo>
                <a:lnTo>
                  <a:pt x="107" y="265"/>
                </a:lnTo>
                <a:lnTo>
                  <a:pt x="102" y="269"/>
                </a:lnTo>
                <a:lnTo>
                  <a:pt x="81" y="269"/>
                </a:lnTo>
                <a:lnTo>
                  <a:pt x="77" y="268"/>
                </a:lnTo>
                <a:lnTo>
                  <a:pt x="72" y="262"/>
                </a:lnTo>
                <a:lnTo>
                  <a:pt x="67" y="253"/>
                </a:lnTo>
                <a:lnTo>
                  <a:pt x="61" y="242"/>
                </a:lnTo>
                <a:lnTo>
                  <a:pt x="58" y="232"/>
                </a:lnTo>
                <a:lnTo>
                  <a:pt x="54" y="223"/>
                </a:lnTo>
                <a:lnTo>
                  <a:pt x="52" y="215"/>
                </a:lnTo>
                <a:lnTo>
                  <a:pt x="49" y="204"/>
                </a:lnTo>
                <a:lnTo>
                  <a:pt x="47" y="192"/>
                </a:lnTo>
                <a:lnTo>
                  <a:pt x="45" y="181"/>
                </a:lnTo>
                <a:lnTo>
                  <a:pt x="41" y="174"/>
                </a:lnTo>
                <a:lnTo>
                  <a:pt x="37" y="169"/>
                </a:lnTo>
                <a:lnTo>
                  <a:pt x="31" y="164"/>
                </a:lnTo>
                <a:lnTo>
                  <a:pt x="25" y="156"/>
                </a:lnTo>
                <a:lnTo>
                  <a:pt x="18" y="145"/>
                </a:lnTo>
                <a:lnTo>
                  <a:pt x="12" y="134"/>
                </a:lnTo>
                <a:lnTo>
                  <a:pt x="6" y="126"/>
                </a:lnTo>
                <a:lnTo>
                  <a:pt x="3" y="120"/>
                </a:lnTo>
                <a:lnTo>
                  <a:pt x="0" y="116"/>
                </a:lnTo>
                <a:lnTo>
                  <a:pt x="0" y="112"/>
                </a:lnTo>
                <a:lnTo>
                  <a:pt x="1" y="109"/>
                </a:lnTo>
                <a:lnTo>
                  <a:pt x="3" y="108"/>
                </a:lnTo>
                <a:lnTo>
                  <a:pt x="5" y="108"/>
                </a:lnTo>
                <a:lnTo>
                  <a:pt x="7" y="107"/>
                </a:lnTo>
                <a:lnTo>
                  <a:pt x="13" y="101"/>
                </a:lnTo>
                <a:lnTo>
                  <a:pt x="15" y="98"/>
                </a:lnTo>
                <a:lnTo>
                  <a:pt x="16" y="97"/>
                </a:lnTo>
                <a:lnTo>
                  <a:pt x="19" y="97"/>
                </a:lnTo>
                <a:lnTo>
                  <a:pt x="24" y="102"/>
                </a:lnTo>
                <a:lnTo>
                  <a:pt x="28" y="109"/>
                </a:lnTo>
                <a:lnTo>
                  <a:pt x="33" y="112"/>
                </a:lnTo>
                <a:lnTo>
                  <a:pt x="36" y="113"/>
                </a:lnTo>
                <a:lnTo>
                  <a:pt x="39" y="114"/>
                </a:lnTo>
                <a:lnTo>
                  <a:pt x="41" y="118"/>
                </a:lnTo>
                <a:lnTo>
                  <a:pt x="42" y="121"/>
                </a:lnTo>
                <a:lnTo>
                  <a:pt x="45" y="125"/>
                </a:lnTo>
                <a:lnTo>
                  <a:pt x="47" y="131"/>
                </a:lnTo>
                <a:lnTo>
                  <a:pt x="48" y="137"/>
                </a:lnTo>
                <a:lnTo>
                  <a:pt x="51" y="142"/>
                </a:lnTo>
                <a:lnTo>
                  <a:pt x="55" y="144"/>
                </a:lnTo>
                <a:lnTo>
                  <a:pt x="59" y="142"/>
                </a:lnTo>
                <a:lnTo>
                  <a:pt x="61" y="134"/>
                </a:lnTo>
                <a:lnTo>
                  <a:pt x="63" y="126"/>
                </a:lnTo>
                <a:lnTo>
                  <a:pt x="63" y="118"/>
                </a:lnTo>
                <a:lnTo>
                  <a:pt x="61" y="113"/>
                </a:lnTo>
                <a:lnTo>
                  <a:pt x="61" y="100"/>
                </a:lnTo>
                <a:lnTo>
                  <a:pt x="60" y="91"/>
                </a:lnTo>
                <a:lnTo>
                  <a:pt x="60" y="77"/>
                </a:lnTo>
                <a:lnTo>
                  <a:pt x="59" y="76"/>
                </a:lnTo>
                <a:lnTo>
                  <a:pt x="57" y="77"/>
                </a:lnTo>
                <a:lnTo>
                  <a:pt x="55" y="78"/>
                </a:lnTo>
                <a:lnTo>
                  <a:pt x="53" y="78"/>
                </a:lnTo>
                <a:lnTo>
                  <a:pt x="48" y="80"/>
                </a:lnTo>
                <a:lnTo>
                  <a:pt x="37" y="77"/>
                </a:lnTo>
                <a:lnTo>
                  <a:pt x="34" y="74"/>
                </a:lnTo>
                <a:lnTo>
                  <a:pt x="30" y="73"/>
                </a:lnTo>
                <a:lnTo>
                  <a:pt x="28" y="72"/>
                </a:lnTo>
                <a:lnTo>
                  <a:pt x="27" y="71"/>
                </a:lnTo>
                <a:lnTo>
                  <a:pt x="27" y="65"/>
                </a:lnTo>
                <a:lnTo>
                  <a:pt x="28" y="62"/>
                </a:lnTo>
                <a:lnTo>
                  <a:pt x="30" y="60"/>
                </a:lnTo>
                <a:lnTo>
                  <a:pt x="47" y="60"/>
                </a:lnTo>
                <a:lnTo>
                  <a:pt x="51" y="59"/>
                </a:lnTo>
                <a:lnTo>
                  <a:pt x="53" y="56"/>
                </a:lnTo>
                <a:lnTo>
                  <a:pt x="55" y="55"/>
                </a:lnTo>
                <a:lnTo>
                  <a:pt x="59" y="52"/>
                </a:lnTo>
                <a:lnTo>
                  <a:pt x="60" y="49"/>
                </a:lnTo>
                <a:lnTo>
                  <a:pt x="70" y="47"/>
                </a:lnTo>
                <a:lnTo>
                  <a:pt x="78" y="44"/>
                </a:lnTo>
                <a:lnTo>
                  <a:pt x="84" y="41"/>
                </a:lnTo>
                <a:lnTo>
                  <a:pt x="88" y="35"/>
                </a:lnTo>
                <a:lnTo>
                  <a:pt x="90" y="29"/>
                </a:lnTo>
                <a:lnTo>
                  <a:pt x="93" y="25"/>
                </a:lnTo>
                <a:lnTo>
                  <a:pt x="102" y="18"/>
                </a:lnTo>
                <a:lnTo>
                  <a:pt x="108" y="10"/>
                </a:lnTo>
                <a:lnTo>
                  <a:pt x="115" y="0"/>
                </a:lnTo>
                <a:close/>
              </a:path>
            </a:pathLst>
          </a:custGeom>
          <a:solidFill>
            <a:srgbClr val="7f7f7f"/>
          </a:solidFill>
          <a:ln w="0">
            <a:solidFill>
              <a:srgbClr val="adada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 5534"/>
          <p:cNvSpPr/>
          <p:nvPr/>
        </p:nvSpPr>
        <p:spPr>
          <a:xfrm>
            <a:off x="6059520" y="685800"/>
            <a:ext cx="669960" cy="833400"/>
          </a:xfrm>
          <a:custGeom>
            <a:avLst/>
            <a:gdLst>
              <a:gd name="textAreaLeft" fmla="*/ 0 w 669960"/>
              <a:gd name="textAreaRight" fmla="*/ 670320 w 66996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w="489" h="608">
                <a:moveTo>
                  <a:pt x="92" y="0"/>
                </a:moveTo>
                <a:lnTo>
                  <a:pt x="93" y="0"/>
                </a:lnTo>
                <a:lnTo>
                  <a:pt x="95" y="5"/>
                </a:lnTo>
                <a:lnTo>
                  <a:pt x="95" y="12"/>
                </a:lnTo>
                <a:lnTo>
                  <a:pt x="93" y="20"/>
                </a:lnTo>
                <a:lnTo>
                  <a:pt x="93" y="26"/>
                </a:lnTo>
                <a:lnTo>
                  <a:pt x="91" y="28"/>
                </a:lnTo>
                <a:lnTo>
                  <a:pt x="87" y="28"/>
                </a:lnTo>
                <a:lnTo>
                  <a:pt x="84" y="24"/>
                </a:lnTo>
                <a:lnTo>
                  <a:pt x="78" y="22"/>
                </a:lnTo>
                <a:lnTo>
                  <a:pt x="72" y="21"/>
                </a:lnTo>
                <a:lnTo>
                  <a:pt x="68" y="22"/>
                </a:lnTo>
                <a:lnTo>
                  <a:pt x="66" y="23"/>
                </a:lnTo>
                <a:lnTo>
                  <a:pt x="66" y="24"/>
                </a:lnTo>
                <a:lnTo>
                  <a:pt x="65" y="27"/>
                </a:lnTo>
                <a:lnTo>
                  <a:pt x="71" y="39"/>
                </a:lnTo>
                <a:lnTo>
                  <a:pt x="77" y="44"/>
                </a:lnTo>
                <a:lnTo>
                  <a:pt x="84" y="45"/>
                </a:lnTo>
                <a:lnTo>
                  <a:pt x="90" y="44"/>
                </a:lnTo>
                <a:lnTo>
                  <a:pt x="92" y="44"/>
                </a:lnTo>
                <a:lnTo>
                  <a:pt x="95" y="50"/>
                </a:lnTo>
                <a:lnTo>
                  <a:pt x="97" y="66"/>
                </a:lnTo>
                <a:lnTo>
                  <a:pt x="101" y="75"/>
                </a:lnTo>
                <a:lnTo>
                  <a:pt x="105" y="83"/>
                </a:lnTo>
                <a:lnTo>
                  <a:pt x="114" y="92"/>
                </a:lnTo>
                <a:lnTo>
                  <a:pt x="121" y="100"/>
                </a:lnTo>
                <a:lnTo>
                  <a:pt x="127" y="107"/>
                </a:lnTo>
                <a:lnTo>
                  <a:pt x="129" y="112"/>
                </a:lnTo>
                <a:lnTo>
                  <a:pt x="128" y="114"/>
                </a:lnTo>
                <a:lnTo>
                  <a:pt x="125" y="114"/>
                </a:lnTo>
                <a:lnTo>
                  <a:pt x="119" y="113"/>
                </a:lnTo>
                <a:lnTo>
                  <a:pt x="113" y="113"/>
                </a:lnTo>
                <a:lnTo>
                  <a:pt x="108" y="114"/>
                </a:lnTo>
                <a:lnTo>
                  <a:pt x="107" y="117"/>
                </a:lnTo>
                <a:lnTo>
                  <a:pt x="110" y="122"/>
                </a:lnTo>
                <a:lnTo>
                  <a:pt x="122" y="131"/>
                </a:lnTo>
                <a:lnTo>
                  <a:pt x="128" y="135"/>
                </a:lnTo>
                <a:lnTo>
                  <a:pt x="135" y="141"/>
                </a:lnTo>
                <a:lnTo>
                  <a:pt x="143" y="148"/>
                </a:lnTo>
                <a:lnTo>
                  <a:pt x="150" y="153"/>
                </a:lnTo>
                <a:lnTo>
                  <a:pt x="151" y="155"/>
                </a:lnTo>
                <a:lnTo>
                  <a:pt x="151" y="158"/>
                </a:lnTo>
                <a:lnTo>
                  <a:pt x="149" y="162"/>
                </a:lnTo>
                <a:lnTo>
                  <a:pt x="143" y="168"/>
                </a:lnTo>
                <a:lnTo>
                  <a:pt x="141" y="172"/>
                </a:lnTo>
                <a:lnTo>
                  <a:pt x="145" y="174"/>
                </a:lnTo>
                <a:lnTo>
                  <a:pt x="151" y="177"/>
                </a:lnTo>
                <a:lnTo>
                  <a:pt x="157" y="178"/>
                </a:lnTo>
                <a:lnTo>
                  <a:pt x="162" y="178"/>
                </a:lnTo>
                <a:lnTo>
                  <a:pt x="165" y="176"/>
                </a:lnTo>
                <a:lnTo>
                  <a:pt x="167" y="168"/>
                </a:lnTo>
                <a:lnTo>
                  <a:pt x="168" y="160"/>
                </a:lnTo>
                <a:lnTo>
                  <a:pt x="168" y="153"/>
                </a:lnTo>
                <a:lnTo>
                  <a:pt x="169" y="147"/>
                </a:lnTo>
                <a:lnTo>
                  <a:pt x="180" y="136"/>
                </a:lnTo>
                <a:lnTo>
                  <a:pt x="183" y="131"/>
                </a:lnTo>
                <a:lnTo>
                  <a:pt x="185" y="129"/>
                </a:lnTo>
                <a:lnTo>
                  <a:pt x="185" y="124"/>
                </a:lnTo>
                <a:lnTo>
                  <a:pt x="187" y="122"/>
                </a:lnTo>
                <a:lnTo>
                  <a:pt x="193" y="122"/>
                </a:lnTo>
                <a:lnTo>
                  <a:pt x="195" y="123"/>
                </a:lnTo>
                <a:lnTo>
                  <a:pt x="198" y="125"/>
                </a:lnTo>
                <a:lnTo>
                  <a:pt x="203" y="128"/>
                </a:lnTo>
                <a:lnTo>
                  <a:pt x="206" y="129"/>
                </a:lnTo>
                <a:lnTo>
                  <a:pt x="209" y="130"/>
                </a:lnTo>
                <a:lnTo>
                  <a:pt x="210" y="130"/>
                </a:lnTo>
                <a:lnTo>
                  <a:pt x="210" y="134"/>
                </a:lnTo>
                <a:lnTo>
                  <a:pt x="209" y="136"/>
                </a:lnTo>
                <a:lnTo>
                  <a:pt x="201" y="143"/>
                </a:lnTo>
                <a:lnTo>
                  <a:pt x="195" y="153"/>
                </a:lnTo>
                <a:lnTo>
                  <a:pt x="194" y="162"/>
                </a:lnTo>
                <a:lnTo>
                  <a:pt x="195" y="171"/>
                </a:lnTo>
                <a:lnTo>
                  <a:pt x="199" y="176"/>
                </a:lnTo>
                <a:lnTo>
                  <a:pt x="209" y="179"/>
                </a:lnTo>
                <a:lnTo>
                  <a:pt x="219" y="182"/>
                </a:lnTo>
                <a:lnTo>
                  <a:pt x="224" y="182"/>
                </a:lnTo>
                <a:lnTo>
                  <a:pt x="227" y="177"/>
                </a:lnTo>
                <a:lnTo>
                  <a:pt x="227" y="171"/>
                </a:lnTo>
                <a:lnTo>
                  <a:pt x="229" y="168"/>
                </a:lnTo>
                <a:lnTo>
                  <a:pt x="231" y="168"/>
                </a:lnTo>
                <a:lnTo>
                  <a:pt x="235" y="170"/>
                </a:lnTo>
                <a:lnTo>
                  <a:pt x="237" y="171"/>
                </a:lnTo>
                <a:lnTo>
                  <a:pt x="241" y="172"/>
                </a:lnTo>
                <a:lnTo>
                  <a:pt x="245" y="174"/>
                </a:lnTo>
                <a:lnTo>
                  <a:pt x="248" y="176"/>
                </a:lnTo>
                <a:lnTo>
                  <a:pt x="249" y="177"/>
                </a:lnTo>
                <a:lnTo>
                  <a:pt x="252" y="177"/>
                </a:lnTo>
                <a:lnTo>
                  <a:pt x="253" y="176"/>
                </a:lnTo>
                <a:lnTo>
                  <a:pt x="255" y="176"/>
                </a:lnTo>
                <a:lnTo>
                  <a:pt x="258" y="174"/>
                </a:lnTo>
                <a:lnTo>
                  <a:pt x="264" y="174"/>
                </a:lnTo>
                <a:lnTo>
                  <a:pt x="267" y="178"/>
                </a:lnTo>
                <a:lnTo>
                  <a:pt x="267" y="180"/>
                </a:lnTo>
                <a:lnTo>
                  <a:pt x="269" y="183"/>
                </a:lnTo>
                <a:lnTo>
                  <a:pt x="271" y="185"/>
                </a:lnTo>
                <a:lnTo>
                  <a:pt x="276" y="188"/>
                </a:lnTo>
                <a:lnTo>
                  <a:pt x="277" y="189"/>
                </a:lnTo>
                <a:lnTo>
                  <a:pt x="277" y="191"/>
                </a:lnTo>
                <a:lnTo>
                  <a:pt x="276" y="192"/>
                </a:lnTo>
                <a:lnTo>
                  <a:pt x="275" y="195"/>
                </a:lnTo>
                <a:lnTo>
                  <a:pt x="272" y="196"/>
                </a:lnTo>
                <a:lnTo>
                  <a:pt x="265" y="203"/>
                </a:lnTo>
                <a:lnTo>
                  <a:pt x="265" y="206"/>
                </a:lnTo>
                <a:lnTo>
                  <a:pt x="266" y="208"/>
                </a:lnTo>
                <a:lnTo>
                  <a:pt x="267" y="209"/>
                </a:lnTo>
                <a:lnTo>
                  <a:pt x="271" y="210"/>
                </a:lnTo>
                <a:lnTo>
                  <a:pt x="277" y="210"/>
                </a:lnTo>
                <a:lnTo>
                  <a:pt x="283" y="208"/>
                </a:lnTo>
                <a:lnTo>
                  <a:pt x="295" y="196"/>
                </a:lnTo>
                <a:lnTo>
                  <a:pt x="301" y="191"/>
                </a:lnTo>
                <a:lnTo>
                  <a:pt x="306" y="191"/>
                </a:lnTo>
                <a:lnTo>
                  <a:pt x="311" y="195"/>
                </a:lnTo>
                <a:lnTo>
                  <a:pt x="317" y="200"/>
                </a:lnTo>
                <a:lnTo>
                  <a:pt x="321" y="206"/>
                </a:lnTo>
                <a:lnTo>
                  <a:pt x="326" y="210"/>
                </a:lnTo>
                <a:lnTo>
                  <a:pt x="331" y="213"/>
                </a:lnTo>
                <a:lnTo>
                  <a:pt x="339" y="215"/>
                </a:lnTo>
                <a:lnTo>
                  <a:pt x="348" y="215"/>
                </a:lnTo>
                <a:lnTo>
                  <a:pt x="357" y="216"/>
                </a:lnTo>
                <a:lnTo>
                  <a:pt x="362" y="216"/>
                </a:lnTo>
                <a:lnTo>
                  <a:pt x="367" y="219"/>
                </a:lnTo>
                <a:lnTo>
                  <a:pt x="369" y="221"/>
                </a:lnTo>
                <a:lnTo>
                  <a:pt x="373" y="228"/>
                </a:lnTo>
                <a:lnTo>
                  <a:pt x="374" y="232"/>
                </a:lnTo>
                <a:lnTo>
                  <a:pt x="374" y="236"/>
                </a:lnTo>
                <a:lnTo>
                  <a:pt x="372" y="236"/>
                </a:lnTo>
                <a:lnTo>
                  <a:pt x="367" y="234"/>
                </a:lnTo>
                <a:lnTo>
                  <a:pt x="360" y="231"/>
                </a:lnTo>
                <a:lnTo>
                  <a:pt x="351" y="228"/>
                </a:lnTo>
                <a:lnTo>
                  <a:pt x="347" y="227"/>
                </a:lnTo>
                <a:lnTo>
                  <a:pt x="343" y="227"/>
                </a:lnTo>
                <a:lnTo>
                  <a:pt x="341" y="228"/>
                </a:lnTo>
                <a:lnTo>
                  <a:pt x="339" y="230"/>
                </a:lnTo>
                <a:lnTo>
                  <a:pt x="337" y="234"/>
                </a:lnTo>
                <a:lnTo>
                  <a:pt x="337" y="246"/>
                </a:lnTo>
                <a:lnTo>
                  <a:pt x="338" y="249"/>
                </a:lnTo>
                <a:lnTo>
                  <a:pt x="341" y="250"/>
                </a:lnTo>
                <a:lnTo>
                  <a:pt x="350" y="250"/>
                </a:lnTo>
                <a:lnTo>
                  <a:pt x="353" y="249"/>
                </a:lnTo>
                <a:lnTo>
                  <a:pt x="355" y="249"/>
                </a:lnTo>
                <a:lnTo>
                  <a:pt x="357" y="251"/>
                </a:lnTo>
                <a:lnTo>
                  <a:pt x="359" y="256"/>
                </a:lnTo>
                <a:lnTo>
                  <a:pt x="359" y="268"/>
                </a:lnTo>
                <a:lnTo>
                  <a:pt x="361" y="275"/>
                </a:lnTo>
                <a:lnTo>
                  <a:pt x="366" y="282"/>
                </a:lnTo>
                <a:lnTo>
                  <a:pt x="371" y="288"/>
                </a:lnTo>
                <a:lnTo>
                  <a:pt x="374" y="291"/>
                </a:lnTo>
                <a:lnTo>
                  <a:pt x="377" y="291"/>
                </a:lnTo>
                <a:lnTo>
                  <a:pt x="378" y="288"/>
                </a:lnTo>
                <a:lnTo>
                  <a:pt x="379" y="287"/>
                </a:lnTo>
                <a:lnTo>
                  <a:pt x="381" y="282"/>
                </a:lnTo>
                <a:lnTo>
                  <a:pt x="381" y="280"/>
                </a:lnTo>
                <a:lnTo>
                  <a:pt x="380" y="278"/>
                </a:lnTo>
                <a:lnTo>
                  <a:pt x="378" y="276"/>
                </a:lnTo>
                <a:lnTo>
                  <a:pt x="373" y="272"/>
                </a:lnTo>
                <a:lnTo>
                  <a:pt x="373" y="267"/>
                </a:lnTo>
                <a:lnTo>
                  <a:pt x="374" y="263"/>
                </a:lnTo>
                <a:lnTo>
                  <a:pt x="377" y="261"/>
                </a:lnTo>
                <a:lnTo>
                  <a:pt x="381" y="258"/>
                </a:lnTo>
                <a:lnTo>
                  <a:pt x="383" y="260"/>
                </a:lnTo>
                <a:lnTo>
                  <a:pt x="385" y="260"/>
                </a:lnTo>
                <a:lnTo>
                  <a:pt x="390" y="262"/>
                </a:lnTo>
                <a:lnTo>
                  <a:pt x="392" y="262"/>
                </a:lnTo>
                <a:lnTo>
                  <a:pt x="397" y="260"/>
                </a:lnTo>
                <a:lnTo>
                  <a:pt x="409" y="245"/>
                </a:lnTo>
                <a:lnTo>
                  <a:pt x="419" y="236"/>
                </a:lnTo>
                <a:lnTo>
                  <a:pt x="421" y="237"/>
                </a:lnTo>
                <a:lnTo>
                  <a:pt x="421" y="244"/>
                </a:lnTo>
                <a:lnTo>
                  <a:pt x="420" y="254"/>
                </a:lnTo>
                <a:lnTo>
                  <a:pt x="417" y="263"/>
                </a:lnTo>
                <a:lnTo>
                  <a:pt x="414" y="274"/>
                </a:lnTo>
                <a:lnTo>
                  <a:pt x="413" y="276"/>
                </a:lnTo>
                <a:lnTo>
                  <a:pt x="415" y="281"/>
                </a:lnTo>
                <a:lnTo>
                  <a:pt x="419" y="285"/>
                </a:lnTo>
                <a:lnTo>
                  <a:pt x="421" y="286"/>
                </a:lnTo>
                <a:lnTo>
                  <a:pt x="423" y="291"/>
                </a:lnTo>
                <a:lnTo>
                  <a:pt x="423" y="305"/>
                </a:lnTo>
                <a:lnTo>
                  <a:pt x="425" y="311"/>
                </a:lnTo>
                <a:lnTo>
                  <a:pt x="428" y="315"/>
                </a:lnTo>
                <a:lnTo>
                  <a:pt x="431" y="314"/>
                </a:lnTo>
                <a:lnTo>
                  <a:pt x="434" y="314"/>
                </a:lnTo>
                <a:lnTo>
                  <a:pt x="438" y="310"/>
                </a:lnTo>
                <a:lnTo>
                  <a:pt x="440" y="309"/>
                </a:lnTo>
                <a:lnTo>
                  <a:pt x="444" y="310"/>
                </a:lnTo>
                <a:lnTo>
                  <a:pt x="446" y="316"/>
                </a:lnTo>
                <a:lnTo>
                  <a:pt x="449" y="326"/>
                </a:lnTo>
                <a:lnTo>
                  <a:pt x="451" y="336"/>
                </a:lnTo>
                <a:lnTo>
                  <a:pt x="455" y="346"/>
                </a:lnTo>
                <a:lnTo>
                  <a:pt x="461" y="353"/>
                </a:lnTo>
                <a:lnTo>
                  <a:pt x="467" y="359"/>
                </a:lnTo>
                <a:lnTo>
                  <a:pt x="471" y="366"/>
                </a:lnTo>
                <a:lnTo>
                  <a:pt x="473" y="370"/>
                </a:lnTo>
                <a:lnTo>
                  <a:pt x="474" y="371"/>
                </a:lnTo>
                <a:lnTo>
                  <a:pt x="473" y="374"/>
                </a:lnTo>
                <a:lnTo>
                  <a:pt x="471" y="374"/>
                </a:lnTo>
                <a:lnTo>
                  <a:pt x="467" y="376"/>
                </a:lnTo>
                <a:lnTo>
                  <a:pt x="456" y="380"/>
                </a:lnTo>
                <a:lnTo>
                  <a:pt x="455" y="381"/>
                </a:lnTo>
                <a:lnTo>
                  <a:pt x="455" y="382"/>
                </a:lnTo>
                <a:lnTo>
                  <a:pt x="456" y="383"/>
                </a:lnTo>
                <a:lnTo>
                  <a:pt x="457" y="386"/>
                </a:lnTo>
                <a:lnTo>
                  <a:pt x="459" y="387"/>
                </a:lnTo>
                <a:lnTo>
                  <a:pt x="462" y="389"/>
                </a:lnTo>
                <a:lnTo>
                  <a:pt x="463" y="392"/>
                </a:lnTo>
                <a:lnTo>
                  <a:pt x="465" y="398"/>
                </a:lnTo>
                <a:lnTo>
                  <a:pt x="467" y="404"/>
                </a:lnTo>
                <a:lnTo>
                  <a:pt x="469" y="410"/>
                </a:lnTo>
                <a:lnTo>
                  <a:pt x="474" y="413"/>
                </a:lnTo>
                <a:lnTo>
                  <a:pt x="477" y="416"/>
                </a:lnTo>
                <a:lnTo>
                  <a:pt x="480" y="418"/>
                </a:lnTo>
                <a:lnTo>
                  <a:pt x="480" y="420"/>
                </a:lnTo>
                <a:lnTo>
                  <a:pt x="479" y="423"/>
                </a:lnTo>
                <a:lnTo>
                  <a:pt x="477" y="426"/>
                </a:lnTo>
                <a:lnTo>
                  <a:pt x="476" y="431"/>
                </a:lnTo>
                <a:lnTo>
                  <a:pt x="476" y="437"/>
                </a:lnTo>
                <a:lnTo>
                  <a:pt x="474" y="447"/>
                </a:lnTo>
                <a:lnTo>
                  <a:pt x="471" y="449"/>
                </a:lnTo>
                <a:lnTo>
                  <a:pt x="469" y="446"/>
                </a:lnTo>
                <a:lnTo>
                  <a:pt x="467" y="440"/>
                </a:lnTo>
                <a:lnTo>
                  <a:pt x="464" y="432"/>
                </a:lnTo>
                <a:lnTo>
                  <a:pt x="462" y="426"/>
                </a:lnTo>
                <a:lnTo>
                  <a:pt x="459" y="423"/>
                </a:lnTo>
                <a:lnTo>
                  <a:pt x="455" y="422"/>
                </a:lnTo>
                <a:lnTo>
                  <a:pt x="447" y="422"/>
                </a:lnTo>
                <a:lnTo>
                  <a:pt x="437" y="423"/>
                </a:lnTo>
                <a:lnTo>
                  <a:pt x="427" y="420"/>
                </a:lnTo>
                <a:lnTo>
                  <a:pt x="421" y="417"/>
                </a:lnTo>
                <a:lnTo>
                  <a:pt x="414" y="410"/>
                </a:lnTo>
                <a:lnTo>
                  <a:pt x="411" y="410"/>
                </a:lnTo>
                <a:lnTo>
                  <a:pt x="410" y="413"/>
                </a:lnTo>
                <a:lnTo>
                  <a:pt x="411" y="418"/>
                </a:lnTo>
                <a:lnTo>
                  <a:pt x="411" y="424"/>
                </a:lnTo>
                <a:lnTo>
                  <a:pt x="415" y="431"/>
                </a:lnTo>
                <a:lnTo>
                  <a:pt x="415" y="432"/>
                </a:lnTo>
                <a:lnTo>
                  <a:pt x="416" y="435"/>
                </a:lnTo>
                <a:lnTo>
                  <a:pt x="416" y="436"/>
                </a:lnTo>
                <a:lnTo>
                  <a:pt x="417" y="437"/>
                </a:lnTo>
                <a:lnTo>
                  <a:pt x="419" y="440"/>
                </a:lnTo>
                <a:lnTo>
                  <a:pt x="421" y="440"/>
                </a:lnTo>
                <a:lnTo>
                  <a:pt x="423" y="441"/>
                </a:lnTo>
                <a:lnTo>
                  <a:pt x="435" y="441"/>
                </a:lnTo>
                <a:lnTo>
                  <a:pt x="439" y="442"/>
                </a:lnTo>
                <a:lnTo>
                  <a:pt x="441" y="444"/>
                </a:lnTo>
                <a:lnTo>
                  <a:pt x="445" y="452"/>
                </a:lnTo>
                <a:lnTo>
                  <a:pt x="449" y="464"/>
                </a:lnTo>
                <a:lnTo>
                  <a:pt x="453" y="476"/>
                </a:lnTo>
                <a:lnTo>
                  <a:pt x="456" y="483"/>
                </a:lnTo>
                <a:lnTo>
                  <a:pt x="458" y="488"/>
                </a:lnTo>
                <a:lnTo>
                  <a:pt x="461" y="490"/>
                </a:lnTo>
                <a:lnTo>
                  <a:pt x="464" y="492"/>
                </a:lnTo>
                <a:lnTo>
                  <a:pt x="470" y="498"/>
                </a:lnTo>
                <a:lnTo>
                  <a:pt x="476" y="506"/>
                </a:lnTo>
                <a:lnTo>
                  <a:pt x="477" y="512"/>
                </a:lnTo>
                <a:lnTo>
                  <a:pt x="477" y="514"/>
                </a:lnTo>
                <a:lnTo>
                  <a:pt x="479" y="516"/>
                </a:lnTo>
                <a:lnTo>
                  <a:pt x="481" y="519"/>
                </a:lnTo>
                <a:lnTo>
                  <a:pt x="483" y="522"/>
                </a:lnTo>
                <a:lnTo>
                  <a:pt x="487" y="527"/>
                </a:lnTo>
                <a:lnTo>
                  <a:pt x="487" y="530"/>
                </a:lnTo>
                <a:lnTo>
                  <a:pt x="489" y="532"/>
                </a:lnTo>
                <a:lnTo>
                  <a:pt x="482" y="542"/>
                </a:lnTo>
                <a:lnTo>
                  <a:pt x="476" y="550"/>
                </a:lnTo>
                <a:lnTo>
                  <a:pt x="467" y="557"/>
                </a:lnTo>
                <a:lnTo>
                  <a:pt x="464" y="561"/>
                </a:lnTo>
                <a:lnTo>
                  <a:pt x="462" y="567"/>
                </a:lnTo>
                <a:lnTo>
                  <a:pt x="458" y="573"/>
                </a:lnTo>
                <a:lnTo>
                  <a:pt x="452" y="576"/>
                </a:lnTo>
                <a:lnTo>
                  <a:pt x="444" y="579"/>
                </a:lnTo>
                <a:lnTo>
                  <a:pt x="434" y="581"/>
                </a:lnTo>
                <a:lnTo>
                  <a:pt x="435" y="579"/>
                </a:lnTo>
                <a:lnTo>
                  <a:pt x="435" y="578"/>
                </a:lnTo>
                <a:lnTo>
                  <a:pt x="434" y="575"/>
                </a:lnTo>
                <a:lnTo>
                  <a:pt x="429" y="575"/>
                </a:lnTo>
                <a:lnTo>
                  <a:pt x="417" y="580"/>
                </a:lnTo>
                <a:lnTo>
                  <a:pt x="413" y="581"/>
                </a:lnTo>
                <a:lnTo>
                  <a:pt x="410" y="581"/>
                </a:lnTo>
                <a:lnTo>
                  <a:pt x="408" y="580"/>
                </a:lnTo>
                <a:lnTo>
                  <a:pt x="405" y="578"/>
                </a:lnTo>
                <a:lnTo>
                  <a:pt x="405" y="575"/>
                </a:lnTo>
                <a:lnTo>
                  <a:pt x="404" y="574"/>
                </a:lnTo>
                <a:lnTo>
                  <a:pt x="405" y="572"/>
                </a:lnTo>
                <a:lnTo>
                  <a:pt x="407" y="570"/>
                </a:lnTo>
                <a:lnTo>
                  <a:pt x="411" y="570"/>
                </a:lnTo>
                <a:lnTo>
                  <a:pt x="419" y="563"/>
                </a:lnTo>
                <a:lnTo>
                  <a:pt x="420" y="561"/>
                </a:lnTo>
                <a:lnTo>
                  <a:pt x="422" y="557"/>
                </a:lnTo>
                <a:lnTo>
                  <a:pt x="427" y="552"/>
                </a:lnTo>
                <a:lnTo>
                  <a:pt x="427" y="549"/>
                </a:lnTo>
                <a:lnTo>
                  <a:pt x="426" y="546"/>
                </a:lnTo>
                <a:lnTo>
                  <a:pt x="423" y="544"/>
                </a:lnTo>
                <a:lnTo>
                  <a:pt x="420" y="543"/>
                </a:lnTo>
                <a:lnTo>
                  <a:pt x="416" y="543"/>
                </a:lnTo>
                <a:lnTo>
                  <a:pt x="405" y="540"/>
                </a:lnTo>
                <a:lnTo>
                  <a:pt x="396" y="534"/>
                </a:lnTo>
                <a:lnTo>
                  <a:pt x="393" y="533"/>
                </a:lnTo>
                <a:lnTo>
                  <a:pt x="387" y="533"/>
                </a:lnTo>
                <a:lnTo>
                  <a:pt x="385" y="536"/>
                </a:lnTo>
                <a:lnTo>
                  <a:pt x="383" y="537"/>
                </a:lnTo>
                <a:lnTo>
                  <a:pt x="380" y="542"/>
                </a:lnTo>
                <a:lnTo>
                  <a:pt x="380" y="546"/>
                </a:lnTo>
                <a:lnTo>
                  <a:pt x="385" y="558"/>
                </a:lnTo>
                <a:lnTo>
                  <a:pt x="385" y="563"/>
                </a:lnTo>
                <a:lnTo>
                  <a:pt x="383" y="566"/>
                </a:lnTo>
                <a:lnTo>
                  <a:pt x="378" y="563"/>
                </a:lnTo>
                <a:lnTo>
                  <a:pt x="372" y="557"/>
                </a:lnTo>
                <a:lnTo>
                  <a:pt x="366" y="549"/>
                </a:lnTo>
                <a:lnTo>
                  <a:pt x="359" y="540"/>
                </a:lnTo>
                <a:lnTo>
                  <a:pt x="351" y="534"/>
                </a:lnTo>
                <a:lnTo>
                  <a:pt x="344" y="530"/>
                </a:lnTo>
                <a:lnTo>
                  <a:pt x="338" y="526"/>
                </a:lnTo>
                <a:lnTo>
                  <a:pt x="332" y="524"/>
                </a:lnTo>
                <a:lnTo>
                  <a:pt x="327" y="522"/>
                </a:lnTo>
                <a:lnTo>
                  <a:pt x="325" y="525"/>
                </a:lnTo>
                <a:lnTo>
                  <a:pt x="326" y="530"/>
                </a:lnTo>
                <a:lnTo>
                  <a:pt x="332" y="534"/>
                </a:lnTo>
                <a:lnTo>
                  <a:pt x="341" y="540"/>
                </a:lnTo>
                <a:lnTo>
                  <a:pt x="350" y="548"/>
                </a:lnTo>
                <a:lnTo>
                  <a:pt x="359" y="557"/>
                </a:lnTo>
                <a:lnTo>
                  <a:pt x="363" y="568"/>
                </a:lnTo>
                <a:lnTo>
                  <a:pt x="366" y="579"/>
                </a:lnTo>
                <a:lnTo>
                  <a:pt x="368" y="587"/>
                </a:lnTo>
                <a:lnTo>
                  <a:pt x="371" y="594"/>
                </a:lnTo>
                <a:lnTo>
                  <a:pt x="371" y="598"/>
                </a:lnTo>
                <a:lnTo>
                  <a:pt x="365" y="604"/>
                </a:lnTo>
                <a:lnTo>
                  <a:pt x="361" y="606"/>
                </a:lnTo>
                <a:lnTo>
                  <a:pt x="359" y="608"/>
                </a:lnTo>
                <a:lnTo>
                  <a:pt x="354" y="608"/>
                </a:lnTo>
                <a:lnTo>
                  <a:pt x="351" y="605"/>
                </a:lnTo>
                <a:lnTo>
                  <a:pt x="349" y="602"/>
                </a:lnTo>
                <a:lnTo>
                  <a:pt x="345" y="587"/>
                </a:lnTo>
                <a:lnTo>
                  <a:pt x="336" y="561"/>
                </a:lnTo>
                <a:lnTo>
                  <a:pt x="329" y="549"/>
                </a:lnTo>
                <a:lnTo>
                  <a:pt x="320" y="540"/>
                </a:lnTo>
                <a:lnTo>
                  <a:pt x="312" y="533"/>
                </a:lnTo>
                <a:lnTo>
                  <a:pt x="305" y="525"/>
                </a:lnTo>
                <a:lnTo>
                  <a:pt x="299" y="513"/>
                </a:lnTo>
                <a:lnTo>
                  <a:pt x="293" y="502"/>
                </a:lnTo>
                <a:lnTo>
                  <a:pt x="289" y="494"/>
                </a:lnTo>
                <a:lnTo>
                  <a:pt x="287" y="486"/>
                </a:lnTo>
                <a:lnTo>
                  <a:pt x="283" y="479"/>
                </a:lnTo>
                <a:lnTo>
                  <a:pt x="278" y="471"/>
                </a:lnTo>
                <a:lnTo>
                  <a:pt x="271" y="464"/>
                </a:lnTo>
                <a:lnTo>
                  <a:pt x="265" y="456"/>
                </a:lnTo>
                <a:lnTo>
                  <a:pt x="260" y="453"/>
                </a:lnTo>
                <a:lnTo>
                  <a:pt x="253" y="448"/>
                </a:lnTo>
                <a:lnTo>
                  <a:pt x="245" y="443"/>
                </a:lnTo>
                <a:lnTo>
                  <a:pt x="239" y="436"/>
                </a:lnTo>
                <a:lnTo>
                  <a:pt x="236" y="430"/>
                </a:lnTo>
                <a:lnTo>
                  <a:pt x="231" y="423"/>
                </a:lnTo>
                <a:lnTo>
                  <a:pt x="219" y="404"/>
                </a:lnTo>
                <a:lnTo>
                  <a:pt x="215" y="395"/>
                </a:lnTo>
                <a:lnTo>
                  <a:pt x="211" y="390"/>
                </a:lnTo>
                <a:lnTo>
                  <a:pt x="206" y="384"/>
                </a:lnTo>
                <a:lnTo>
                  <a:pt x="200" y="375"/>
                </a:lnTo>
                <a:lnTo>
                  <a:pt x="193" y="364"/>
                </a:lnTo>
                <a:lnTo>
                  <a:pt x="187" y="352"/>
                </a:lnTo>
                <a:lnTo>
                  <a:pt x="185" y="342"/>
                </a:lnTo>
                <a:lnTo>
                  <a:pt x="188" y="334"/>
                </a:lnTo>
                <a:lnTo>
                  <a:pt x="195" y="326"/>
                </a:lnTo>
                <a:lnTo>
                  <a:pt x="205" y="317"/>
                </a:lnTo>
                <a:lnTo>
                  <a:pt x="216" y="310"/>
                </a:lnTo>
                <a:lnTo>
                  <a:pt x="225" y="304"/>
                </a:lnTo>
                <a:lnTo>
                  <a:pt x="233" y="299"/>
                </a:lnTo>
                <a:lnTo>
                  <a:pt x="236" y="296"/>
                </a:lnTo>
                <a:lnTo>
                  <a:pt x="239" y="292"/>
                </a:lnTo>
                <a:lnTo>
                  <a:pt x="240" y="290"/>
                </a:lnTo>
                <a:lnTo>
                  <a:pt x="240" y="286"/>
                </a:lnTo>
                <a:lnTo>
                  <a:pt x="236" y="282"/>
                </a:lnTo>
                <a:lnTo>
                  <a:pt x="234" y="282"/>
                </a:lnTo>
                <a:lnTo>
                  <a:pt x="230" y="280"/>
                </a:lnTo>
                <a:lnTo>
                  <a:pt x="225" y="268"/>
                </a:lnTo>
                <a:lnTo>
                  <a:pt x="222" y="263"/>
                </a:lnTo>
                <a:lnTo>
                  <a:pt x="221" y="262"/>
                </a:lnTo>
                <a:lnTo>
                  <a:pt x="219" y="262"/>
                </a:lnTo>
                <a:lnTo>
                  <a:pt x="218" y="263"/>
                </a:lnTo>
                <a:lnTo>
                  <a:pt x="218" y="281"/>
                </a:lnTo>
                <a:lnTo>
                  <a:pt x="217" y="288"/>
                </a:lnTo>
                <a:lnTo>
                  <a:pt x="212" y="293"/>
                </a:lnTo>
                <a:lnTo>
                  <a:pt x="205" y="297"/>
                </a:lnTo>
                <a:lnTo>
                  <a:pt x="199" y="298"/>
                </a:lnTo>
                <a:lnTo>
                  <a:pt x="197" y="299"/>
                </a:lnTo>
                <a:lnTo>
                  <a:pt x="195" y="300"/>
                </a:lnTo>
                <a:lnTo>
                  <a:pt x="194" y="303"/>
                </a:lnTo>
                <a:lnTo>
                  <a:pt x="193" y="304"/>
                </a:lnTo>
                <a:lnTo>
                  <a:pt x="191" y="309"/>
                </a:lnTo>
                <a:lnTo>
                  <a:pt x="188" y="310"/>
                </a:lnTo>
                <a:lnTo>
                  <a:pt x="186" y="310"/>
                </a:lnTo>
                <a:lnTo>
                  <a:pt x="183" y="311"/>
                </a:lnTo>
                <a:lnTo>
                  <a:pt x="180" y="312"/>
                </a:lnTo>
                <a:lnTo>
                  <a:pt x="177" y="316"/>
                </a:lnTo>
                <a:lnTo>
                  <a:pt x="175" y="318"/>
                </a:lnTo>
                <a:lnTo>
                  <a:pt x="173" y="322"/>
                </a:lnTo>
                <a:lnTo>
                  <a:pt x="171" y="324"/>
                </a:lnTo>
                <a:lnTo>
                  <a:pt x="169" y="326"/>
                </a:lnTo>
                <a:lnTo>
                  <a:pt x="165" y="324"/>
                </a:lnTo>
                <a:lnTo>
                  <a:pt x="162" y="318"/>
                </a:lnTo>
                <a:lnTo>
                  <a:pt x="157" y="310"/>
                </a:lnTo>
                <a:lnTo>
                  <a:pt x="153" y="300"/>
                </a:lnTo>
                <a:lnTo>
                  <a:pt x="150" y="292"/>
                </a:lnTo>
                <a:lnTo>
                  <a:pt x="146" y="281"/>
                </a:lnTo>
                <a:lnTo>
                  <a:pt x="145" y="280"/>
                </a:lnTo>
                <a:lnTo>
                  <a:pt x="143" y="280"/>
                </a:lnTo>
                <a:lnTo>
                  <a:pt x="141" y="281"/>
                </a:lnTo>
                <a:lnTo>
                  <a:pt x="140" y="284"/>
                </a:lnTo>
                <a:lnTo>
                  <a:pt x="138" y="285"/>
                </a:lnTo>
                <a:lnTo>
                  <a:pt x="137" y="286"/>
                </a:lnTo>
                <a:lnTo>
                  <a:pt x="134" y="286"/>
                </a:lnTo>
                <a:lnTo>
                  <a:pt x="132" y="285"/>
                </a:lnTo>
                <a:lnTo>
                  <a:pt x="131" y="280"/>
                </a:lnTo>
                <a:lnTo>
                  <a:pt x="133" y="268"/>
                </a:lnTo>
                <a:lnTo>
                  <a:pt x="133" y="262"/>
                </a:lnTo>
                <a:lnTo>
                  <a:pt x="128" y="262"/>
                </a:lnTo>
                <a:lnTo>
                  <a:pt x="125" y="263"/>
                </a:lnTo>
                <a:lnTo>
                  <a:pt x="122" y="264"/>
                </a:lnTo>
                <a:lnTo>
                  <a:pt x="119" y="264"/>
                </a:lnTo>
                <a:lnTo>
                  <a:pt x="115" y="262"/>
                </a:lnTo>
                <a:lnTo>
                  <a:pt x="113" y="256"/>
                </a:lnTo>
                <a:lnTo>
                  <a:pt x="110" y="249"/>
                </a:lnTo>
                <a:lnTo>
                  <a:pt x="109" y="240"/>
                </a:lnTo>
                <a:lnTo>
                  <a:pt x="108" y="236"/>
                </a:lnTo>
                <a:lnTo>
                  <a:pt x="108" y="233"/>
                </a:lnTo>
                <a:lnTo>
                  <a:pt x="115" y="233"/>
                </a:lnTo>
                <a:lnTo>
                  <a:pt x="121" y="231"/>
                </a:lnTo>
                <a:lnTo>
                  <a:pt x="128" y="225"/>
                </a:lnTo>
                <a:lnTo>
                  <a:pt x="132" y="216"/>
                </a:lnTo>
                <a:lnTo>
                  <a:pt x="131" y="206"/>
                </a:lnTo>
                <a:lnTo>
                  <a:pt x="127" y="195"/>
                </a:lnTo>
                <a:lnTo>
                  <a:pt x="120" y="182"/>
                </a:lnTo>
                <a:lnTo>
                  <a:pt x="103" y="150"/>
                </a:lnTo>
                <a:lnTo>
                  <a:pt x="92" y="132"/>
                </a:lnTo>
                <a:lnTo>
                  <a:pt x="68" y="99"/>
                </a:lnTo>
                <a:lnTo>
                  <a:pt x="56" y="84"/>
                </a:lnTo>
                <a:lnTo>
                  <a:pt x="47" y="72"/>
                </a:lnTo>
                <a:lnTo>
                  <a:pt x="41" y="65"/>
                </a:lnTo>
                <a:lnTo>
                  <a:pt x="32" y="52"/>
                </a:lnTo>
                <a:lnTo>
                  <a:pt x="20" y="38"/>
                </a:lnTo>
                <a:lnTo>
                  <a:pt x="5" y="26"/>
                </a:lnTo>
                <a:lnTo>
                  <a:pt x="0" y="21"/>
                </a:lnTo>
                <a:lnTo>
                  <a:pt x="1" y="18"/>
                </a:lnTo>
                <a:lnTo>
                  <a:pt x="6" y="16"/>
                </a:lnTo>
                <a:lnTo>
                  <a:pt x="23" y="14"/>
                </a:lnTo>
                <a:lnTo>
                  <a:pt x="30" y="12"/>
                </a:lnTo>
                <a:lnTo>
                  <a:pt x="33" y="12"/>
                </a:lnTo>
                <a:lnTo>
                  <a:pt x="36" y="14"/>
                </a:lnTo>
                <a:lnTo>
                  <a:pt x="39" y="15"/>
                </a:lnTo>
                <a:lnTo>
                  <a:pt x="44" y="15"/>
                </a:lnTo>
                <a:lnTo>
                  <a:pt x="48" y="12"/>
                </a:lnTo>
                <a:lnTo>
                  <a:pt x="50" y="11"/>
                </a:lnTo>
                <a:lnTo>
                  <a:pt x="57" y="6"/>
                </a:lnTo>
                <a:lnTo>
                  <a:pt x="59" y="4"/>
                </a:lnTo>
                <a:lnTo>
                  <a:pt x="62" y="4"/>
                </a:lnTo>
                <a:lnTo>
                  <a:pt x="65" y="5"/>
                </a:lnTo>
                <a:lnTo>
                  <a:pt x="67" y="8"/>
                </a:lnTo>
                <a:lnTo>
                  <a:pt x="74" y="10"/>
                </a:lnTo>
                <a:lnTo>
                  <a:pt x="78" y="10"/>
                </a:lnTo>
                <a:lnTo>
                  <a:pt x="85" y="8"/>
                </a:lnTo>
                <a:lnTo>
                  <a:pt x="89" y="5"/>
                </a:lnTo>
                <a:lnTo>
                  <a:pt x="91" y="3"/>
                </a:lnTo>
                <a:lnTo>
                  <a:pt x="92" y="0"/>
                </a:lnTo>
                <a:close/>
              </a:path>
            </a:pathLst>
          </a:custGeom>
          <a:solidFill>
            <a:srgbClr val="7f7f7f"/>
          </a:solidFill>
          <a:ln w="0">
            <a:solidFill>
              <a:srgbClr val="adada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228"/>
          <p:cNvGrpSpPr/>
          <p:nvPr/>
        </p:nvGrpSpPr>
        <p:grpSpPr>
          <a:xfrm>
            <a:off x="5173560" y="3124080"/>
            <a:ext cx="1219320" cy="1332000"/>
            <a:chOff x="5173560" y="3124080"/>
            <a:chExt cx="1219320" cy="1332000"/>
          </a:xfrm>
        </p:grpSpPr>
        <p:grpSp>
          <p:nvGrpSpPr>
            <p:cNvPr id="526" name="Gruppe 61"/>
            <p:cNvGrpSpPr/>
            <p:nvPr/>
          </p:nvGrpSpPr>
          <p:grpSpPr>
            <a:xfrm>
              <a:off x="5173560" y="3124080"/>
              <a:ext cx="1219320" cy="1332000"/>
              <a:chOff x="5173560" y="3124080"/>
              <a:chExt cx="1219320" cy="1332000"/>
            </a:xfrm>
          </p:grpSpPr>
          <p:sp>
            <p:nvSpPr>
              <p:cNvPr id="527" name="Freeform 6"/>
              <p:cNvSpPr/>
              <p:nvPr/>
            </p:nvSpPr>
            <p:spPr>
              <a:xfrm>
                <a:off x="5216400" y="3139560"/>
                <a:ext cx="1176480" cy="887040"/>
              </a:xfrm>
              <a:custGeom>
                <a:avLst/>
                <a:gdLst>
                  <a:gd name="textAreaLeft" fmla="*/ 0 w 1176480"/>
                  <a:gd name="textAreaRight" fmla="*/ 1176840 w 1176480"/>
                  <a:gd name="textAreaTop" fmla="*/ 0 h 887040"/>
                  <a:gd name="textAreaBottom" fmla="*/ 887400 h 887040"/>
                </a:gdLst>
                <a:ahLst/>
                <a:rect l="textAreaLeft" t="textAreaTop" r="textAreaRight" b="textAreaBottom"/>
                <a:pathLst>
                  <a:path w="2174" h="1642">
                    <a:moveTo>
                      <a:pt x="10" y="102"/>
                    </a:moveTo>
                    <a:lnTo>
                      <a:pt x="10" y="102"/>
                    </a:lnTo>
                    <a:lnTo>
                      <a:pt x="6" y="104"/>
                    </a:lnTo>
                    <a:lnTo>
                      <a:pt x="2" y="106"/>
                    </a:lnTo>
                    <a:lnTo>
                      <a:pt x="0" y="110"/>
                    </a:lnTo>
                    <a:lnTo>
                      <a:pt x="0" y="116"/>
                    </a:lnTo>
                    <a:lnTo>
                      <a:pt x="4" y="126"/>
                    </a:lnTo>
                    <a:lnTo>
                      <a:pt x="12" y="138"/>
                    </a:lnTo>
                    <a:lnTo>
                      <a:pt x="26" y="154"/>
                    </a:lnTo>
                    <a:lnTo>
                      <a:pt x="40" y="170"/>
                    </a:lnTo>
                    <a:lnTo>
                      <a:pt x="62" y="194"/>
                    </a:lnTo>
                    <a:lnTo>
                      <a:pt x="90" y="230"/>
                    </a:lnTo>
                    <a:lnTo>
                      <a:pt x="126" y="276"/>
                    </a:lnTo>
                    <a:lnTo>
                      <a:pt x="164" y="332"/>
                    </a:lnTo>
                    <a:lnTo>
                      <a:pt x="206" y="398"/>
                    </a:lnTo>
                    <a:lnTo>
                      <a:pt x="250" y="472"/>
                    </a:lnTo>
                    <a:lnTo>
                      <a:pt x="292" y="554"/>
                    </a:lnTo>
                    <a:lnTo>
                      <a:pt x="314" y="598"/>
                    </a:lnTo>
                    <a:lnTo>
                      <a:pt x="334" y="644"/>
                    </a:lnTo>
                    <a:lnTo>
                      <a:pt x="354" y="690"/>
                    </a:lnTo>
                    <a:lnTo>
                      <a:pt x="374" y="740"/>
                    </a:lnTo>
                    <a:lnTo>
                      <a:pt x="392" y="792"/>
                    </a:lnTo>
                    <a:lnTo>
                      <a:pt x="408" y="844"/>
                    </a:lnTo>
                    <a:lnTo>
                      <a:pt x="424" y="898"/>
                    </a:lnTo>
                    <a:lnTo>
                      <a:pt x="438" y="954"/>
                    </a:lnTo>
                    <a:lnTo>
                      <a:pt x="450" y="1012"/>
                    </a:lnTo>
                    <a:lnTo>
                      <a:pt x="460" y="1072"/>
                    </a:lnTo>
                    <a:lnTo>
                      <a:pt x="468" y="1132"/>
                    </a:lnTo>
                    <a:lnTo>
                      <a:pt x="474" y="1194"/>
                    </a:lnTo>
                    <a:lnTo>
                      <a:pt x="478" y="1256"/>
                    </a:lnTo>
                    <a:lnTo>
                      <a:pt x="478" y="1320"/>
                    </a:lnTo>
                    <a:lnTo>
                      <a:pt x="476" y="1386"/>
                    </a:lnTo>
                    <a:lnTo>
                      <a:pt x="472" y="1452"/>
                    </a:lnTo>
                    <a:lnTo>
                      <a:pt x="498" y="1542"/>
                    </a:lnTo>
                    <a:lnTo>
                      <a:pt x="514" y="1522"/>
                    </a:lnTo>
                    <a:lnTo>
                      <a:pt x="562" y="1472"/>
                    </a:lnTo>
                    <a:lnTo>
                      <a:pt x="594" y="1440"/>
                    </a:lnTo>
                    <a:lnTo>
                      <a:pt x="630" y="1406"/>
                    </a:lnTo>
                    <a:lnTo>
                      <a:pt x="672" y="1370"/>
                    </a:lnTo>
                    <a:lnTo>
                      <a:pt x="716" y="1334"/>
                    </a:lnTo>
                    <a:lnTo>
                      <a:pt x="762" y="1302"/>
                    </a:lnTo>
                    <a:lnTo>
                      <a:pt x="784" y="1288"/>
                    </a:lnTo>
                    <a:lnTo>
                      <a:pt x="808" y="1274"/>
                    </a:lnTo>
                    <a:lnTo>
                      <a:pt x="832" y="1262"/>
                    </a:lnTo>
                    <a:lnTo>
                      <a:pt x="856" y="1252"/>
                    </a:lnTo>
                    <a:lnTo>
                      <a:pt x="880" y="1244"/>
                    </a:lnTo>
                    <a:lnTo>
                      <a:pt x="904" y="1238"/>
                    </a:lnTo>
                    <a:lnTo>
                      <a:pt x="928" y="1236"/>
                    </a:lnTo>
                    <a:lnTo>
                      <a:pt x="952" y="1234"/>
                    </a:lnTo>
                    <a:lnTo>
                      <a:pt x="974" y="1236"/>
                    </a:lnTo>
                    <a:lnTo>
                      <a:pt x="996" y="1240"/>
                    </a:lnTo>
                    <a:lnTo>
                      <a:pt x="1016" y="1248"/>
                    </a:lnTo>
                    <a:lnTo>
                      <a:pt x="1038" y="1260"/>
                    </a:lnTo>
                    <a:lnTo>
                      <a:pt x="1056" y="1274"/>
                    </a:lnTo>
                    <a:lnTo>
                      <a:pt x="1076" y="1294"/>
                    </a:lnTo>
                    <a:lnTo>
                      <a:pt x="1086" y="1464"/>
                    </a:lnTo>
                    <a:lnTo>
                      <a:pt x="1088" y="1468"/>
                    </a:lnTo>
                    <a:lnTo>
                      <a:pt x="1098" y="1480"/>
                    </a:lnTo>
                    <a:lnTo>
                      <a:pt x="1108" y="1486"/>
                    </a:lnTo>
                    <a:lnTo>
                      <a:pt x="1118" y="1494"/>
                    </a:lnTo>
                    <a:lnTo>
                      <a:pt x="1134" y="1500"/>
                    </a:lnTo>
                    <a:lnTo>
                      <a:pt x="1152" y="1506"/>
                    </a:lnTo>
                    <a:lnTo>
                      <a:pt x="1174" y="1512"/>
                    </a:lnTo>
                    <a:lnTo>
                      <a:pt x="1200" y="1514"/>
                    </a:lnTo>
                    <a:lnTo>
                      <a:pt x="1230" y="1516"/>
                    </a:lnTo>
                    <a:lnTo>
                      <a:pt x="1266" y="1514"/>
                    </a:lnTo>
                    <a:lnTo>
                      <a:pt x="1308" y="1510"/>
                    </a:lnTo>
                    <a:lnTo>
                      <a:pt x="1356" y="1502"/>
                    </a:lnTo>
                    <a:lnTo>
                      <a:pt x="1408" y="1490"/>
                    </a:lnTo>
                    <a:lnTo>
                      <a:pt x="1468" y="1474"/>
                    </a:lnTo>
                    <a:lnTo>
                      <a:pt x="1482" y="1470"/>
                    </a:lnTo>
                    <a:lnTo>
                      <a:pt x="1522" y="1464"/>
                    </a:lnTo>
                    <a:lnTo>
                      <a:pt x="1552" y="1462"/>
                    </a:lnTo>
                    <a:lnTo>
                      <a:pt x="1586" y="1460"/>
                    </a:lnTo>
                    <a:lnTo>
                      <a:pt x="1626" y="1460"/>
                    </a:lnTo>
                    <a:lnTo>
                      <a:pt x="1670" y="1462"/>
                    </a:lnTo>
                    <a:lnTo>
                      <a:pt x="1720" y="1466"/>
                    </a:lnTo>
                    <a:lnTo>
                      <a:pt x="1772" y="1476"/>
                    </a:lnTo>
                    <a:lnTo>
                      <a:pt x="1830" y="1488"/>
                    </a:lnTo>
                    <a:lnTo>
                      <a:pt x="1890" y="1506"/>
                    </a:lnTo>
                    <a:lnTo>
                      <a:pt x="1952" y="1528"/>
                    </a:lnTo>
                    <a:lnTo>
                      <a:pt x="1986" y="1540"/>
                    </a:lnTo>
                    <a:lnTo>
                      <a:pt x="2018" y="1556"/>
                    </a:lnTo>
                    <a:lnTo>
                      <a:pt x="2052" y="1572"/>
                    </a:lnTo>
                    <a:lnTo>
                      <a:pt x="2086" y="1590"/>
                    </a:lnTo>
                    <a:lnTo>
                      <a:pt x="2120" y="1610"/>
                    </a:lnTo>
                    <a:lnTo>
                      <a:pt x="2156" y="1632"/>
                    </a:lnTo>
                    <a:lnTo>
                      <a:pt x="2160" y="1638"/>
                    </a:lnTo>
                    <a:lnTo>
                      <a:pt x="2164" y="1642"/>
                    </a:lnTo>
                    <a:lnTo>
                      <a:pt x="2170" y="1642"/>
                    </a:lnTo>
                    <a:lnTo>
                      <a:pt x="2172" y="1642"/>
                    </a:lnTo>
                    <a:lnTo>
                      <a:pt x="2172" y="1638"/>
                    </a:lnTo>
                    <a:lnTo>
                      <a:pt x="2174" y="1626"/>
                    </a:lnTo>
                    <a:lnTo>
                      <a:pt x="2172" y="1604"/>
                    </a:lnTo>
                    <a:lnTo>
                      <a:pt x="2166" y="1570"/>
                    </a:lnTo>
                    <a:lnTo>
                      <a:pt x="2160" y="1542"/>
                    </a:lnTo>
                    <a:lnTo>
                      <a:pt x="2146" y="1502"/>
                    </a:lnTo>
                    <a:lnTo>
                      <a:pt x="2110" y="1390"/>
                    </a:lnTo>
                    <a:lnTo>
                      <a:pt x="2086" y="1320"/>
                    </a:lnTo>
                    <a:lnTo>
                      <a:pt x="2062" y="1240"/>
                    </a:lnTo>
                    <a:lnTo>
                      <a:pt x="2038" y="1154"/>
                    </a:lnTo>
                    <a:lnTo>
                      <a:pt x="2016" y="1060"/>
                    </a:lnTo>
                    <a:lnTo>
                      <a:pt x="1996" y="962"/>
                    </a:lnTo>
                    <a:lnTo>
                      <a:pt x="1980" y="860"/>
                    </a:lnTo>
                    <a:lnTo>
                      <a:pt x="1972" y="806"/>
                    </a:lnTo>
                    <a:lnTo>
                      <a:pt x="1966" y="752"/>
                    </a:lnTo>
                    <a:lnTo>
                      <a:pt x="1962" y="698"/>
                    </a:lnTo>
                    <a:lnTo>
                      <a:pt x="1960" y="644"/>
                    </a:lnTo>
                    <a:lnTo>
                      <a:pt x="1960" y="588"/>
                    </a:lnTo>
                    <a:lnTo>
                      <a:pt x="1960" y="534"/>
                    </a:lnTo>
                    <a:lnTo>
                      <a:pt x="1964" y="478"/>
                    </a:lnTo>
                    <a:lnTo>
                      <a:pt x="1968" y="422"/>
                    </a:lnTo>
                    <a:lnTo>
                      <a:pt x="1976" y="366"/>
                    </a:lnTo>
                    <a:lnTo>
                      <a:pt x="1986" y="312"/>
                    </a:lnTo>
                    <a:lnTo>
                      <a:pt x="1998" y="256"/>
                    </a:lnTo>
                    <a:lnTo>
                      <a:pt x="2012" y="202"/>
                    </a:lnTo>
                    <a:lnTo>
                      <a:pt x="1960" y="218"/>
                    </a:lnTo>
                    <a:lnTo>
                      <a:pt x="1900" y="232"/>
                    </a:lnTo>
                    <a:lnTo>
                      <a:pt x="1824" y="250"/>
                    </a:lnTo>
                    <a:lnTo>
                      <a:pt x="1738" y="268"/>
                    </a:lnTo>
                    <a:lnTo>
                      <a:pt x="1644" y="282"/>
                    </a:lnTo>
                    <a:lnTo>
                      <a:pt x="1596" y="288"/>
                    </a:lnTo>
                    <a:lnTo>
                      <a:pt x="1550" y="294"/>
                    </a:lnTo>
                    <a:lnTo>
                      <a:pt x="1502" y="296"/>
                    </a:lnTo>
                    <a:lnTo>
                      <a:pt x="1456" y="298"/>
                    </a:lnTo>
                    <a:lnTo>
                      <a:pt x="1368" y="298"/>
                    </a:lnTo>
                    <a:lnTo>
                      <a:pt x="1280" y="298"/>
                    </a:lnTo>
                    <a:lnTo>
                      <a:pt x="1238" y="298"/>
                    </a:lnTo>
                    <a:lnTo>
                      <a:pt x="1198" y="296"/>
                    </a:lnTo>
                    <a:lnTo>
                      <a:pt x="1160" y="292"/>
                    </a:lnTo>
                    <a:lnTo>
                      <a:pt x="1122" y="286"/>
                    </a:lnTo>
                    <a:lnTo>
                      <a:pt x="1088" y="278"/>
                    </a:lnTo>
                    <a:lnTo>
                      <a:pt x="1056" y="266"/>
                    </a:lnTo>
                    <a:lnTo>
                      <a:pt x="1028" y="252"/>
                    </a:lnTo>
                    <a:lnTo>
                      <a:pt x="1016" y="244"/>
                    </a:lnTo>
                    <a:lnTo>
                      <a:pt x="1004" y="236"/>
                    </a:lnTo>
                    <a:lnTo>
                      <a:pt x="992" y="224"/>
                    </a:lnTo>
                    <a:lnTo>
                      <a:pt x="982" y="214"/>
                    </a:lnTo>
                    <a:lnTo>
                      <a:pt x="972" y="202"/>
                    </a:lnTo>
                    <a:lnTo>
                      <a:pt x="964" y="188"/>
                    </a:lnTo>
                    <a:lnTo>
                      <a:pt x="958" y="174"/>
                    </a:lnTo>
                    <a:lnTo>
                      <a:pt x="952" y="158"/>
                    </a:lnTo>
                    <a:lnTo>
                      <a:pt x="946" y="142"/>
                    </a:lnTo>
                    <a:lnTo>
                      <a:pt x="942" y="122"/>
                    </a:lnTo>
                    <a:lnTo>
                      <a:pt x="940" y="114"/>
                    </a:lnTo>
                    <a:lnTo>
                      <a:pt x="934" y="94"/>
                    </a:lnTo>
                    <a:lnTo>
                      <a:pt x="928" y="80"/>
                    </a:lnTo>
                    <a:lnTo>
                      <a:pt x="920" y="66"/>
                    </a:lnTo>
                    <a:lnTo>
                      <a:pt x="910" y="50"/>
                    </a:lnTo>
                    <a:lnTo>
                      <a:pt x="898" y="36"/>
                    </a:lnTo>
                    <a:lnTo>
                      <a:pt x="882" y="24"/>
                    </a:lnTo>
                    <a:lnTo>
                      <a:pt x="864" y="12"/>
                    </a:lnTo>
                    <a:lnTo>
                      <a:pt x="842" y="4"/>
                    </a:lnTo>
                    <a:lnTo>
                      <a:pt x="818" y="0"/>
                    </a:lnTo>
                    <a:lnTo>
                      <a:pt x="804" y="0"/>
                    </a:lnTo>
                    <a:lnTo>
                      <a:pt x="788" y="0"/>
                    </a:lnTo>
                    <a:lnTo>
                      <a:pt x="774" y="2"/>
                    </a:lnTo>
                    <a:lnTo>
                      <a:pt x="756" y="4"/>
                    </a:lnTo>
                    <a:lnTo>
                      <a:pt x="738" y="10"/>
                    </a:lnTo>
                    <a:lnTo>
                      <a:pt x="720" y="16"/>
                    </a:lnTo>
                    <a:lnTo>
                      <a:pt x="678" y="32"/>
                    </a:lnTo>
                    <a:lnTo>
                      <a:pt x="632" y="52"/>
                    </a:lnTo>
                    <a:lnTo>
                      <a:pt x="584" y="68"/>
                    </a:lnTo>
                    <a:lnTo>
                      <a:pt x="534" y="82"/>
                    </a:lnTo>
                    <a:lnTo>
                      <a:pt x="482" y="94"/>
                    </a:lnTo>
                    <a:lnTo>
                      <a:pt x="428" y="104"/>
                    </a:lnTo>
                    <a:lnTo>
                      <a:pt x="376" y="110"/>
                    </a:lnTo>
                    <a:lnTo>
                      <a:pt x="324" y="116"/>
                    </a:lnTo>
                    <a:lnTo>
                      <a:pt x="272" y="118"/>
                    </a:lnTo>
                    <a:lnTo>
                      <a:pt x="224" y="120"/>
                    </a:lnTo>
                    <a:lnTo>
                      <a:pt x="178" y="120"/>
                    </a:lnTo>
                    <a:lnTo>
                      <a:pt x="138" y="120"/>
                    </a:lnTo>
                    <a:lnTo>
                      <a:pt x="100" y="118"/>
                    </a:lnTo>
                    <a:lnTo>
                      <a:pt x="68" y="114"/>
                    </a:lnTo>
                    <a:lnTo>
                      <a:pt x="42" y="110"/>
                    </a:lnTo>
                    <a:lnTo>
                      <a:pt x="22" y="106"/>
                    </a:lnTo>
                    <a:lnTo>
                      <a:pt x="10" y="102"/>
                    </a:lnTo>
                    <a:close/>
                  </a:path>
                </a:pathLst>
              </a:custGeom>
              <a:solidFill>
                <a:srgbClr val="7a7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11"/>
              <p:cNvSpPr/>
              <p:nvPr/>
            </p:nvSpPr>
            <p:spPr>
              <a:xfrm>
                <a:off x="5173560" y="3179160"/>
                <a:ext cx="439560" cy="1276920"/>
              </a:xfrm>
              <a:custGeom>
                <a:avLst/>
                <a:gdLst>
                  <a:gd name="textAreaLeft" fmla="*/ 0 w 439560"/>
                  <a:gd name="textAreaRight" fmla="*/ 439920 w 439560"/>
                  <a:gd name="textAreaTop" fmla="*/ 0 h 1276920"/>
                  <a:gd name="textAreaBottom" fmla="*/ 1277280 h 1276920"/>
                </a:gdLst>
                <a:ahLst/>
                <a:rect l="textAreaLeft" t="textAreaTop" r="textAreaRight" b="textAreaBottom"/>
                <a:pathLst>
                  <a:path w="812" h="2364">
                    <a:moveTo>
                      <a:pt x="810" y="2320"/>
                    </a:moveTo>
                    <a:lnTo>
                      <a:pt x="810" y="2320"/>
                    </a:lnTo>
                    <a:lnTo>
                      <a:pt x="812" y="2334"/>
                    </a:lnTo>
                    <a:lnTo>
                      <a:pt x="810" y="2348"/>
                    </a:lnTo>
                    <a:lnTo>
                      <a:pt x="808" y="2352"/>
                    </a:lnTo>
                    <a:lnTo>
                      <a:pt x="804" y="2358"/>
                    </a:lnTo>
                    <a:lnTo>
                      <a:pt x="800" y="2362"/>
                    </a:lnTo>
                    <a:lnTo>
                      <a:pt x="794" y="2364"/>
                    </a:lnTo>
                    <a:lnTo>
                      <a:pt x="788" y="2364"/>
                    </a:lnTo>
                    <a:lnTo>
                      <a:pt x="784" y="2364"/>
                    </a:lnTo>
                    <a:lnTo>
                      <a:pt x="778" y="2362"/>
                    </a:lnTo>
                    <a:lnTo>
                      <a:pt x="772" y="2360"/>
                    </a:lnTo>
                    <a:lnTo>
                      <a:pt x="762" y="2350"/>
                    </a:lnTo>
                    <a:lnTo>
                      <a:pt x="756" y="2336"/>
                    </a:lnTo>
                    <a:lnTo>
                      <a:pt x="2" y="46"/>
                    </a:lnTo>
                    <a:lnTo>
                      <a:pt x="0" y="32"/>
                    </a:lnTo>
                    <a:lnTo>
                      <a:pt x="2" y="18"/>
                    </a:lnTo>
                    <a:lnTo>
                      <a:pt x="4" y="12"/>
                    </a:lnTo>
                    <a:lnTo>
                      <a:pt x="8" y="8"/>
                    </a:lnTo>
                    <a:lnTo>
                      <a:pt x="12" y="4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40" y="6"/>
                    </a:lnTo>
                    <a:lnTo>
                      <a:pt x="48" y="16"/>
                    </a:lnTo>
                    <a:lnTo>
                      <a:pt x="56" y="28"/>
                    </a:lnTo>
                    <a:lnTo>
                      <a:pt x="810" y="23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c6c5c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12"/>
              <p:cNvSpPr/>
              <p:nvPr/>
            </p:nvSpPr>
            <p:spPr>
              <a:xfrm>
                <a:off x="5189400" y="3126960"/>
                <a:ext cx="1178280" cy="888840"/>
              </a:xfrm>
              <a:custGeom>
                <a:avLst/>
                <a:gdLst>
                  <a:gd name="textAreaLeft" fmla="*/ 0 w 1178280"/>
                  <a:gd name="textAreaRight" fmla="*/ 1178640 w 1178280"/>
                  <a:gd name="textAreaTop" fmla="*/ 0 h 888840"/>
                  <a:gd name="textAreaBottom" fmla="*/ 889200 h 888840"/>
                </a:gdLst>
                <a:ahLst/>
                <a:rect l="textAreaLeft" t="textAreaTop" r="textAreaRight" b="textAreaBottom"/>
                <a:pathLst>
                  <a:path w="2174" h="1644">
                    <a:moveTo>
                      <a:pt x="10" y="102"/>
                    </a:moveTo>
                    <a:lnTo>
                      <a:pt x="10" y="102"/>
                    </a:lnTo>
                    <a:lnTo>
                      <a:pt x="6" y="104"/>
                    </a:lnTo>
                    <a:lnTo>
                      <a:pt x="2" y="106"/>
                    </a:lnTo>
                    <a:lnTo>
                      <a:pt x="0" y="112"/>
                    </a:lnTo>
                    <a:lnTo>
                      <a:pt x="0" y="118"/>
                    </a:lnTo>
                    <a:lnTo>
                      <a:pt x="4" y="128"/>
                    </a:lnTo>
                    <a:lnTo>
                      <a:pt x="12" y="140"/>
                    </a:lnTo>
                    <a:lnTo>
                      <a:pt x="26" y="156"/>
                    </a:lnTo>
                    <a:lnTo>
                      <a:pt x="40" y="170"/>
                    </a:lnTo>
                    <a:lnTo>
                      <a:pt x="62" y="196"/>
                    </a:lnTo>
                    <a:lnTo>
                      <a:pt x="90" y="232"/>
                    </a:lnTo>
                    <a:lnTo>
                      <a:pt x="126" y="278"/>
                    </a:lnTo>
                    <a:lnTo>
                      <a:pt x="164" y="334"/>
                    </a:lnTo>
                    <a:lnTo>
                      <a:pt x="206" y="398"/>
                    </a:lnTo>
                    <a:lnTo>
                      <a:pt x="250" y="472"/>
                    </a:lnTo>
                    <a:lnTo>
                      <a:pt x="292" y="554"/>
                    </a:lnTo>
                    <a:lnTo>
                      <a:pt x="314" y="598"/>
                    </a:lnTo>
                    <a:lnTo>
                      <a:pt x="334" y="644"/>
                    </a:lnTo>
                    <a:lnTo>
                      <a:pt x="354" y="692"/>
                    </a:lnTo>
                    <a:lnTo>
                      <a:pt x="374" y="742"/>
                    </a:lnTo>
                    <a:lnTo>
                      <a:pt x="392" y="792"/>
                    </a:lnTo>
                    <a:lnTo>
                      <a:pt x="408" y="846"/>
                    </a:lnTo>
                    <a:lnTo>
                      <a:pt x="424" y="900"/>
                    </a:lnTo>
                    <a:lnTo>
                      <a:pt x="438" y="956"/>
                    </a:lnTo>
                    <a:lnTo>
                      <a:pt x="450" y="1014"/>
                    </a:lnTo>
                    <a:lnTo>
                      <a:pt x="460" y="1072"/>
                    </a:lnTo>
                    <a:lnTo>
                      <a:pt x="468" y="1132"/>
                    </a:lnTo>
                    <a:lnTo>
                      <a:pt x="474" y="1194"/>
                    </a:lnTo>
                    <a:lnTo>
                      <a:pt x="478" y="1258"/>
                    </a:lnTo>
                    <a:lnTo>
                      <a:pt x="478" y="1322"/>
                    </a:lnTo>
                    <a:lnTo>
                      <a:pt x="476" y="1388"/>
                    </a:lnTo>
                    <a:lnTo>
                      <a:pt x="472" y="1454"/>
                    </a:lnTo>
                    <a:lnTo>
                      <a:pt x="498" y="1544"/>
                    </a:lnTo>
                    <a:lnTo>
                      <a:pt x="514" y="1524"/>
                    </a:lnTo>
                    <a:lnTo>
                      <a:pt x="562" y="1474"/>
                    </a:lnTo>
                    <a:lnTo>
                      <a:pt x="594" y="1442"/>
                    </a:lnTo>
                    <a:lnTo>
                      <a:pt x="630" y="1406"/>
                    </a:lnTo>
                    <a:lnTo>
                      <a:pt x="672" y="1370"/>
                    </a:lnTo>
                    <a:lnTo>
                      <a:pt x="714" y="1336"/>
                    </a:lnTo>
                    <a:lnTo>
                      <a:pt x="762" y="1304"/>
                    </a:lnTo>
                    <a:lnTo>
                      <a:pt x="784" y="1288"/>
                    </a:lnTo>
                    <a:lnTo>
                      <a:pt x="808" y="1276"/>
                    </a:lnTo>
                    <a:lnTo>
                      <a:pt x="832" y="1264"/>
                    </a:lnTo>
                    <a:lnTo>
                      <a:pt x="856" y="1254"/>
                    </a:lnTo>
                    <a:lnTo>
                      <a:pt x="880" y="1246"/>
                    </a:lnTo>
                    <a:lnTo>
                      <a:pt x="904" y="1240"/>
                    </a:lnTo>
                    <a:lnTo>
                      <a:pt x="928" y="1236"/>
                    </a:lnTo>
                    <a:lnTo>
                      <a:pt x="952" y="1236"/>
                    </a:lnTo>
                    <a:lnTo>
                      <a:pt x="974" y="1236"/>
                    </a:lnTo>
                    <a:lnTo>
                      <a:pt x="996" y="1242"/>
                    </a:lnTo>
                    <a:lnTo>
                      <a:pt x="1016" y="1250"/>
                    </a:lnTo>
                    <a:lnTo>
                      <a:pt x="1038" y="1260"/>
                    </a:lnTo>
                    <a:lnTo>
                      <a:pt x="1056" y="1276"/>
                    </a:lnTo>
                    <a:lnTo>
                      <a:pt x="1076" y="1294"/>
                    </a:lnTo>
                    <a:lnTo>
                      <a:pt x="1086" y="1464"/>
                    </a:lnTo>
                    <a:lnTo>
                      <a:pt x="1088" y="1468"/>
                    </a:lnTo>
                    <a:lnTo>
                      <a:pt x="1098" y="1480"/>
                    </a:lnTo>
                    <a:lnTo>
                      <a:pt x="1108" y="1486"/>
                    </a:lnTo>
                    <a:lnTo>
                      <a:pt x="1118" y="1494"/>
                    </a:lnTo>
                    <a:lnTo>
                      <a:pt x="1134" y="1502"/>
                    </a:lnTo>
                    <a:lnTo>
                      <a:pt x="1152" y="1508"/>
                    </a:lnTo>
                    <a:lnTo>
                      <a:pt x="1174" y="1512"/>
                    </a:lnTo>
                    <a:lnTo>
                      <a:pt x="1200" y="1516"/>
                    </a:lnTo>
                    <a:lnTo>
                      <a:pt x="1230" y="1516"/>
                    </a:lnTo>
                    <a:lnTo>
                      <a:pt x="1266" y="1516"/>
                    </a:lnTo>
                    <a:lnTo>
                      <a:pt x="1308" y="1512"/>
                    </a:lnTo>
                    <a:lnTo>
                      <a:pt x="1356" y="1504"/>
                    </a:lnTo>
                    <a:lnTo>
                      <a:pt x="1408" y="1492"/>
                    </a:lnTo>
                    <a:lnTo>
                      <a:pt x="1468" y="1474"/>
                    </a:lnTo>
                    <a:lnTo>
                      <a:pt x="1482" y="1472"/>
                    </a:lnTo>
                    <a:lnTo>
                      <a:pt x="1522" y="1466"/>
                    </a:lnTo>
                    <a:lnTo>
                      <a:pt x="1552" y="1462"/>
                    </a:lnTo>
                    <a:lnTo>
                      <a:pt x="1586" y="1460"/>
                    </a:lnTo>
                    <a:lnTo>
                      <a:pt x="1626" y="1460"/>
                    </a:lnTo>
                    <a:lnTo>
                      <a:pt x="1670" y="1462"/>
                    </a:lnTo>
                    <a:lnTo>
                      <a:pt x="1720" y="1468"/>
                    </a:lnTo>
                    <a:lnTo>
                      <a:pt x="1772" y="1476"/>
                    </a:lnTo>
                    <a:lnTo>
                      <a:pt x="1830" y="1488"/>
                    </a:lnTo>
                    <a:lnTo>
                      <a:pt x="1890" y="1506"/>
                    </a:lnTo>
                    <a:lnTo>
                      <a:pt x="1952" y="1528"/>
                    </a:lnTo>
                    <a:lnTo>
                      <a:pt x="1986" y="1542"/>
                    </a:lnTo>
                    <a:lnTo>
                      <a:pt x="2018" y="1556"/>
                    </a:lnTo>
                    <a:lnTo>
                      <a:pt x="2052" y="1574"/>
                    </a:lnTo>
                    <a:lnTo>
                      <a:pt x="2086" y="1592"/>
                    </a:lnTo>
                    <a:lnTo>
                      <a:pt x="2120" y="1612"/>
                    </a:lnTo>
                    <a:lnTo>
                      <a:pt x="2156" y="1634"/>
                    </a:lnTo>
                    <a:lnTo>
                      <a:pt x="2160" y="1640"/>
                    </a:lnTo>
                    <a:lnTo>
                      <a:pt x="2164" y="1642"/>
                    </a:lnTo>
                    <a:lnTo>
                      <a:pt x="2170" y="1644"/>
                    </a:lnTo>
                    <a:lnTo>
                      <a:pt x="2172" y="1642"/>
                    </a:lnTo>
                    <a:lnTo>
                      <a:pt x="2172" y="1640"/>
                    </a:lnTo>
                    <a:lnTo>
                      <a:pt x="2174" y="1628"/>
                    </a:lnTo>
                    <a:lnTo>
                      <a:pt x="2172" y="1604"/>
                    </a:lnTo>
                    <a:lnTo>
                      <a:pt x="2166" y="1570"/>
                    </a:lnTo>
                    <a:lnTo>
                      <a:pt x="2160" y="1542"/>
                    </a:lnTo>
                    <a:lnTo>
                      <a:pt x="2146" y="1504"/>
                    </a:lnTo>
                    <a:lnTo>
                      <a:pt x="2108" y="1390"/>
                    </a:lnTo>
                    <a:lnTo>
                      <a:pt x="2086" y="1320"/>
                    </a:lnTo>
                    <a:lnTo>
                      <a:pt x="2062" y="1242"/>
                    </a:lnTo>
                    <a:lnTo>
                      <a:pt x="2038" y="1154"/>
                    </a:lnTo>
                    <a:lnTo>
                      <a:pt x="2016" y="1062"/>
                    </a:lnTo>
                    <a:lnTo>
                      <a:pt x="1996" y="964"/>
                    </a:lnTo>
                    <a:lnTo>
                      <a:pt x="1980" y="860"/>
                    </a:lnTo>
                    <a:lnTo>
                      <a:pt x="1972" y="808"/>
                    </a:lnTo>
                    <a:lnTo>
                      <a:pt x="1966" y="754"/>
                    </a:lnTo>
                    <a:lnTo>
                      <a:pt x="1962" y="700"/>
                    </a:lnTo>
                    <a:lnTo>
                      <a:pt x="1960" y="644"/>
                    </a:lnTo>
                    <a:lnTo>
                      <a:pt x="1960" y="590"/>
                    </a:lnTo>
                    <a:lnTo>
                      <a:pt x="1960" y="534"/>
                    </a:lnTo>
                    <a:lnTo>
                      <a:pt x="1964" y="478"/>
                    </a:lnTo>
                    <a:lnTo>
                      <a:pt x="1968" y="424"/>
                    </a:lnTo>
                    <a:lnTo>
                      <a:pt x="1976" y="368"/>
                    </a:lnTo>
                    <a:lnTo>
                      <a:pt x="1986" y="312"/>
                    </a:lnTo>
                    <a:lnTo>
                      <a:pt x="1998" y="258"/>
                    </a:lnTo>
                    <a:lnTo>
                      <a:pt x="2012" y="204"/>
                    </a:lnTo>
                    <a:lnTo>
                      <a:pt x="1960" y="218"/>
                    </a:lnTo>
                    <a:lnTo>
                      <a:pt x="1900" y="234"/>
                    </a:lnTo>
                    <a:lnTo>
                      <a:pt x="1824" y="250"/>
                    </a:lnTo>
                    <a:lnTo>
                      <a:pt x="1738" y="268"/>
                    </a:lnTo>
                    <a:lnTo>
                      <a:pt x="1644" y="284"/>
                    </a:lnTo>
                    <a:lnTo>
                      <a:pt x="1596" y="290"/>
                    </a:lnTo>
                    <a:lnTo>
                      <a:pt x="1548" y="294"/>
                    </a:lnTo>
                    <a:lnTo>
                      <a:pt x="1502" y="298"/>
                    </a:lnTo>
                    <a:lnTo>
                      <a:pt x="1456" y="298"/>
                    </a:lnTo>
                    <a:lnTo>
                      <a:pt x="1368" y="300"/>
                    </a:lnTo>
                    <a:lnTo>
                      <a:pt x="1280" y="300"/>
                    </a:lnTo>
                    <a:lnTo>
                      <a:pt x="1238" y="298"/>
                    </a:lnTo>
                    <a:lnTo>
                      <a:pt x="1198" y="296"/>
                    </a:lnTo>
                    <a:lnTo>
                      <a:pt x="1160" y="292"/>
                    </a:lnTo>
                    <a:lnTo>
                      <a:pt x="1122" y="286"/>
                    </a:lnTo>
                    <a:lnTo>
                      <a:pt x="1088" y="278"/>
                    </a:lnTo>
                    <a:lnTo>
                      <a:pt x="1056" y="268"/>
                    </a:lnTo>
                    <a:lnTo>
                      <a:pt x="1028" y="254"/>
                    </a:lnTo>
                    <a:lnTo>
                      <a:pt x="1016" y="246"/>
                    </a:lnTo>
                    <a:lnTo>
                      <a:pt x="1004" y="236"/>
                    </a:lnTo>
                    <a:lnTo>
                      <a:pt x="992" y="226"/>
                    </a:lnTo>
                    <a:lnTo>
                      <a:pt x="982" y="214"/>
                    </a:lnTo>
                    <a:lnTo>
                      <a:pt x="972" y="202"/>
                    </a:lnTo>
                    <a:lnTo>
                      <a:pt x="964" y="190"/>
                    </a:lnTo>
                    <a:lnTo>
                      <a:pt x="958" y="174"/>
                    </a:lnTo>
                    <a:lnTo>
                      <a:pt x="952" y="158"/>
                    </a:lnTo>
                    <a:lnTo>
                      <a:pt x="946" y="142"/>
                    </a:lnTo>
                    <a:lnTo>
                      <a:pt x="942" y="124"/>
                    </a:lnTo>
                    <a:lnTo>
                      <a:pt x="940" y="116"/>
                    </a:lnTo>
                    <a:lnTo>
                      <a:pt x="934" y="94"/>
                    </a:lnTo>
                    <a:lnTo>
                      <a:pt x="928" y="80"/>
                    </a:lnTo>
                    <a:lnTo>
                      <a:pt x="920" y="66"/>
                    </a:lnTo>
                    <a:lnTo>
                      <a:pt x="910" y="52"/>
                    </a:lnTo>
                    <a:lnTo>
                      <a:pt x="898" y="38"/>
                    </a:lnTo>
                    <a:lnTo>
                      <a:pt x="882" y="24"/>
                    </a:lnTo>
                    <a:lnTo>
                      <a:pt x="864" y="14"/>
                    </a:lnTo>
                    <a:lnTo>
                      <a:pt x="842" y="6"/>
                    </a:lnTo>
                    <a:lnTo>
                      <a:pt x="818" y="0"/>
                    </a:lnTo>
                    <a:lnTo>
                      <a:pt x="804" y="0"/>
                    </a:lnTo>
                    <a:lnTo>
                      <a:pt x="788" y="0"/>
                    </a:lnTo>
                    <a:lnTo>
                      <a:pt x="774" y="2"/>
                    </a:lnTo>
                    <a:lnTo>
                      <a:pt x="756" y="6"/>
                    </a:lnTo>
                    <a:lnTo>
                      <a:pt x="738" y="10"/>
                    </a:lnTo>
                    <a:lnTo>
                      <a:pt x="720" y="16"/>
                    </a:lnTo>
                    <a:lnTo>
                      <a:pt x="678" y="34"/>
                    </a:lnTo>
                    <a:lnTo>
                      <a:pt x="632" y="54"/>
                    </a:lnTo>
                    <a:lnTo>
                      <a:pt x="584" y="70"/>
                    </a:lnTo>
                    <a:lnTo>
                      <a:pt x="534" y="84"/>
                    </a:lnTo>
                    <a:lnTo>
                      <a:pt x="482" y="96"/>
                    </a:lnTo>
                    <a:lnTo>
                      <a:pt x="428" y="104"/>
                    </a:lnTo>
                    <a:lnTo>
                      <a:pt x="376" y="112"/>
                    </a:lnTo>
                    <a:lnTo>
                      <a:pt x="324" y="116"/>
                    </a:lnTo>
                    <a:lnTo>
                      <a:pt x="272" y="120"/>
                    </a:lnTo>
                    <a:lnTo>
                      <a:pt x="224" y="122"/>
                    </a:lnTo>
                    <a:lnTo>
                      <a:pt x="178" y="122"/>
                    </a:lnTo>
                    <a:lnTo>
                      <a:pt x="138" y="120"/>
                    </a:lnTo>
                    <a:lnTo>
                      <a:pt x="100" y="118"/>
                    </a:lnTo>
                    <a:lnTo>
                      <a:pt x="68" y="116"/>
                    </a:lnTo>
                    <a:lnTo>
                      <a:pt x="42" y="112"/>
                    </a:lnTo>
                    <a:lnTo>
                      <a:pt x="22" y="108"/>
                    </a:lnTo>
                    <a:lnTo>
                      <a:pt x="10" y="102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0" name="Freeform 13"/>
              <p:cNvGrpSpPr/>
              <p:nvPr/>
            </p:nvGrpSpPr>
            <p:grpSpPr>
              <a:xfrm>
                <a:off x="5528880" y="3124080"/>
                <a:ext cx="249840" cy="711720"/>
                <a:chOff x="5528880" y="3124080"/>
                <a:chExt cx="249840" cy="711720"/>
              </a:xfrm>
            </p:grpSpPr>
            <p:pic>
              <p:nvPicPr>
                <p:cNvPr id="531" name="Freeform 1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528880" y="3124080"/>
                  <a:ext cx="249840" cy="711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2" name=""/>
                <p:cNvSpPr/>
                <p:nvPr/>
              </p:nvSpPr>
              <p:spPr>
                <a:xfrm>
                  <a:off x="5532840" y="3128040"/>
                  <a:ext cx="23940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3" name="Freeform 15"/>
              <p:cNvGrpSpPr/>
              <p:nvPr/>
            </p:nvGrpSpPr>
            <p:grpSpPr>
              <a:xfrm>
                <a:off x="5839920" y="3282120"/>
                <a:ext cx="335160" cy="650880"/>
                <a:chOff x="5839920" y="3282120"/>
                <a:chExt cx="335160" cy="650880"/>
              </a:xfrm>
            </p:grpSpPr>
            <p:pic>
              <p:nvPicPr>
                <p:cNvPr id="534" name="Freeform 1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839920" y="3282120"/>
                  <a:ext cx="335160" cy="650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5" name=""/>
                <p:cNvSpPr/>
                <p:nvPr/>
              </p:nvSpPr>
              <p:spPr>
                <a:xfrm>
                  <a:off x="5847840" y="3285720"/>
                  <a:ext cx="3225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6" name="Group 44"/>
            <p:cNvGrpSpPr/>
            <p:nvPr/>
          </p:nvGrpSpPr>
          <p:grpSpPr>
            <a:xfrm>
              <a:off x="5268600" y="4156200"/>
              <a:ext cx="901800" cy="290520"/>
              <a:chOff x="5268600" y="4156200"/>
              <a:chExt cx="901800" cy="290520"/>
            </a:xfrm>
          </p:grpSpPr>
          <p:sp>
            <p:nvSpPr>
              <p:cNvPr id="537" name="Freeform 11"/>
              <p:cNvSpPr/>
              <p:nvPr/>
            </p:nvSpPr>
            <p:spPr>
              <a:xfrm>
                <a:off x="5268600" y="4167000"/>
                <a:ext cx="331920" cy="279720"/>
              </a:xfrm>
              <a:custGeom>
                <a:avLst/>
                <a:gdLst>
                  <a:gd name="textAreaLeft" fmla="*/ 0 w 331920"/>
                  <a:gd name="textAreaRight" fmla="*/ 332280 w 33192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812" h="2364">
                    <a:moveTo>
                      <a:pt x="810" y="2320"/>
                    </a:moveTo>
                    <a:lnTo>
                      <a:pt x="810" y="2320"/>
                    </a:lnTo>
                    <a:lnTo>
                      <a:pt x="812" y="2334"/>
                    </a:lnTo>
                    <a:lnTo>
                      <a:pt x="810" y="2348"/>
                    </a:lnTo>
                    <a:lnTo>
                      <a:pt x="808" y="2352"/>
                    </a:lnTo>
                    <a:lnTo>
                      <a:pt x="804" y="2358"/>
                    </a:lnTo>
                    <a:lnTo>
                      <a:pt x="800" y="2362"/>
                    </a:lnTo>
                    <a:lnTo>
                      <a:pt x="794" y="2364"/>
                    </a:lnTo>
                    <a:lnTo>
                      <a:pt x="788" y="2364"/>
                    </a:lnTo>
                    <a:lnTo>
                      <a:pt x="784" y="2364"/>
                    </a:lnTo>
                    <a:lnTo>
                      <a:pt x="778" y="2362"/>
                    </a:lnTo>
                    <a:lnTo>
                      <a:pt x="772" y="2360"/>
                    </a:lnTo>
                    <a:lnTo>
                      <a:pt x="762" y="2350"/>
                    </a:lnTo>
                    <a:lnTo>
                      <a:pt x="756" y="2336"/>
                    </a:lnTo>
                    <a:lnTo>
                      <a:pt x="2" y="46"/>
                    </a:lnTo>
                    <a:lnTo>
                      <a:pt x="0" y="32"/>
                    </a:lnTo>
                    <a:lnTo>
                      <a:pt x="2" y="18"/>
                    </a:lnTo>
                    <a:lnTo>
                      <a:pt x="4" y="12"/>
                    </a:lnTo>
                    <a:lnTo>
                      <a:pt x="8" y="8"/>
                    </a:lnTo>
                    <a:lnTo>
                      <a:pt x="12" y="4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40" y="6"/>
                    </a:lnTo>
                    <a:lnTo>
                      <a:pt x="48" y="16"/>
                    </a:lnTo>
                    <a:lnTo>
                      <a:pt x="56" y="28"/>
                    </a:lnTo>
                    <a:lnTo>
                      <a:pt x="810" y="2320"/>
                    </a:lnTo>
                    <a:close/>
                  </a:path>
                </a:pathLst>
              </a:custGeom>
              <a:solidFill>
                <a:srgbClr val="1e1c11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12"/>
              <p:cNvSpPr/>
              <p:nvPr/>
            </p:nvSpPr>
            <p:spPr>
              <a:xfrm>
                <a:off x="5281200" y="4156200"/>
                <a:ext cx="889200" cy="193680"/>
              </a:xfrm>
              <a:custGeom>
                <a:avLst/>
                <a:gdLst>
                  <a:gd name="textAreaLeft" fmla="*/ 0 w 889200"/>
                  <a:gd name="textAreaRight" fmla="*/ 889560 w 889200"/>
                  <a:gd name="textAreaTop" fmla="*/ 0 h 193680"/>
                  <a:gd name="textAreaBottom" fmla="*/ 194040 h 193680"/>
                </a:gdLst>
                <a:ahLst/>
                <a:rect l="textAreaLeft" t="textAreaTop" r="textAreaRight" b="textAreaBottom"/>
                <a:pathLst>
                  <a:path w="2174" h="1644">
                    <a:moveTo>
                      <a:pt x="10" y="102"/>
                    </a:moveTo>
                    <a:lnTo>
                      <a:pt x="10" y="102"/>
                    </a:lnTo>
                    <a:lnTo>
                      <a:pt x="6" y="104"/>
                    </a:lnTo>
                    <a:lnTo>
                      <a:pt x="2" y="106"/>
                    </a:lnTo>
                    <a:lnTo>
                      <a:pt x="0" y="112"/>
                    </a:lnTo>
                    <a:lnTo>
                      <a:pt x="0" y="118"/>
                    </a:lnTo>
                    <a:lnTo>
                      <a:pt x="4" y="128"/>
                    </a:lnTo>
                    <a:lnTo>
                      <a:pt x="12" y="140"/>
                    </a:lnTo>
                    <a:lnTo>
                      <a:pt x="26" y="156"/>
                    </a:lnTo>
                    <a:lnTo>
                      <a:pt x="40" y="170"/>
                    </a:lnTo>
                    <a:lnTo>
                      <a:pt x="62" y="196"/>
                    </a:lnTo>
                    <a:lnTo>
                      <a:pt x="90" y="232"/>
                    </a:lnTo>
                    <a:lnTo>
                      <a:pt x="126" y="278"/>
                    </a:lnTo>
                    <a:lnTo>
                      <a:pt x="164" y="334"/>
                    </a:lnTo>
                    <a:lnTo>
                      <a:pt x="206" y="398"/>
                    </a:lnTo>
                    <a:lnTo>
                      <a:pt x="250" y="472"/>
                    </a:lnTo>
                    <a:lnTo>
                      <a:pt x="292" y="554"/>
                    </a:lnTo>
                    <a:lnTo>
                      <a:pt x="314" y="598"/>
                    </a:lnTo>
                    <a:lnTo>
                      <a:pt x="334" y="644"/>
                    </a:lnTo>
                    <a:lnTo>
                      <a:pt x="354" y="692"/>
                    </a:lnTo>
                    <a:lnTo>
                      <a:pt x="374" y="742"/>
                    </a:lnTo>
                    <a:lnTo>
                      <a:pt x="392" y="792"/>
                    </a:lnTo>
                    <a:lnTo>
                      <a:pt x="408" y="846"/>
                    </a:lnTo>
                    <a:lnTo>
                      <a:pt x="424" y="900"/>
                    </a:lnTo>
                    <a:lnTo>
                      <a:pt x="438" y="956"/>
                    </a:lnTo>
                    <a:lnTo>
                      <a:pt x="450" y="1014"/>
                    </a:lnTo>
                    <a:lnTo>
                      <a:pt x="460" y="1072"/>
                    </a:lnTo>
                    <a:lnTo>
                      <a:pt x="468" y="1132"/>
                    </a:lnTo>
                    <a:lnTo>
                      <a:pt x="474" y="1194"/>
                    </a:lnTo>
                    <a:lnTo>
                      <a:pt x="478" y="1258"/>
                    </a:lnTo>
                    <a:lnTo>
                      <a:pt x="478" y="1322"/>
                    </a:lnTo>
                    <a:lnTo>
                      <a:pt x="476" y="1388"/>
                    </a:lnTo>
                    <a:lnTo>
                      <a:pt x="472" y="1454"/>
                    </a:lnTo>
                    <a:lnTo>
                      <a:pt x="498" y="1544"/>
                    </a:lnTo>
                    <a:lnTo>
                      <a:pt x="514" y="1524"/>
                    </a:lnTo>
                    <a:lnTo>
                      <a:pt x="562" y="1474"/>
                    </a:lnTo>
                    <a:lnTo>
                      <a:pt x="594" y="1442"/>
                    </a:lnTo>
                    <a:lnTo>
                      <a:pt x="630" y="1406"/>
                    </a:lnTo>
                    <a:lnTo>
                      <a:pt x="672" y="1370"/>
                    </a:lnTo>
                    <a:lnTo>
                      <a:pt x="714" y="1336"/>
                    </a:lnTo>
                    <a:lnTo>
                      <a:pt x="762" y="1304"/>
                    </a:lnTo>
                    <a:lnTo>
                      <a:pt x="784" y="1288"/>
                    </a:lnTo>
                    <a:lnTo>
                      <a:pt x="808" y="1276"/>
                    </a:lnTo>
                    <a:lnTo>
                      <a:pt x="832" y="1264"/>
                    </a:lnTo>
                    <a:lnTo>
                      <a:pt x="856" y="1254"/>
                    </a:lnTo>
                    <a:lnTo>
                      <a:pt x="880" y="1246"/>
                    </a:lnTo>
                    <a:lnTo>
                      <a:pt x="904" y="1240"/>
                    </a:lnTo>
                    <a:lnTo>
                      <a:pt x="928" y="1236"/>
                    </a:lnTo>
                    <a:lnTo>
                      <a:pt x="952" y="1236"/>
                    </a:lnTo>
                    <a:lnTo>
                      <a:pt x="974" y="1236"/>
                    </a:lnTo>
                    <a:lnTo>
                      <a:pt x="996" y="1242"/>
                    </a:lnTo>
                    <a:lnTo>
                      <a:pt x="1016" y="1250"/>
                    </a:lnTo>
                    <a:lnTo>
                      <a:pt x="1038" y="1260"/>
                    </a:lnTo>
                    <a:lnTo>
                      <a:pt x="1056" y="1276"/>
                    </a:lnTo>
                    <a:lnTo>
                      <a:pt x="1076" y="1294"/>
                    </a:lnTo>
                    <a:lnTo>
                      <a:pt x="1086" y="1464"/>
                    </a:lnTo>
                    <a:lnTo>
                      <a:pt x="1088" y="1468"/>
                    </a:lnTo>
                    <a:lnTo>
                      <a:pt x="1098" y="1480"/>
                    </a:lnTo>
                    <a:lnTo>
                      <a:pt x="1108" y="1486"/>
                    </a:lnTo>
                    <a:lnTo>
                      <a:pt x="1118" y="1494"/>
                    </a:lnTo>
                    <a:lnTo>
                      <a:pt x="1134" y="1502"/>
                    </a:lnTo>
                    <a:lnTo>
                      <a:pt x="1152" y="1508"/>
                    </a:lnTo>
                    <a:lnTo>
                      <a:pt x="1174" y="1512"/>
                    </a:lnTo>
                    <a:lnTo>
                      <a:pt x="1200" y="1516"/>
                    </a:lnTo>
                    <a:lnTo>
                      <a:pt x="1230" y="1516"/>
                    </a:lnTo>
                    <a:lnTo>
                      <a:pt x="1266" y="1516"/>
                    </a:lnTo>
                    <a:lnTo>
                      <a:pt x="1308" y="1512"/>
                    </a:lnTo>
                    <a:lnTo>
                      <a:pt x="1356" y="1504"/>
                    </a:lnTo>
                    <a:lnTo>
                      <a:pt x="1408" y="1492"/>
                    </a:lnTo>
                    <a:lnTo>
                      <a:pt x="1468" y="1474"/>
                    </a:lnTo>
                    <a:lnTo>
                      <a:pt x="1482" y="1472"/>
                    </a:lnTo>
                    <a:lnTo>
                      <a:pt x="1522" y="1466"/>
                    </a:lnTo>
                    <a:lnTo>
                      <a:pt x="1552" y="1462"/>
                    </a:lnTo>
                    <a:lnTo>
                      <a:pt x="1586" y="1460"/>
                    </a:lnTo>
                    <a:lnTo>
                      <a:pt x="1626" y="1460"/>
                    </a:lnTo>
                    <a:lnTo>
                      <a:pt x="1670" y="1462"/>
                    </a:lnTo>
                    <a:lnTo>
                      <a:pt x="1720" y="1468"/>
                    </a:lnTo>
                    <a:lnTo>
                      <a:pt x="1772" y="1476"/>
                    </a:lnTo>
                    <a:lnTo>
                      <a:pt x="1830" y="1488"/>
                    </a:lnTo>
                    <a:lnTo>
                      <a:pt x="1890" y="1506"/>
                    </a:lnTo>
                    <a:lnTo>
                      <a:pt x="1952" y="1528"/>
                    </a:lnTo>
                    <a:lnTo>
                      <a:pt x="1986" y="1542"/>
                    </a:lnTo>
                    <a:lnTo>
                      <a:pt x="2018" y="1556"/>
                    </a:lnTo>
                    <a:lnTo>
                      <a:pt x="2052" y="1574"/>
                    </a:lnTo>
                    <a:lnTo>
                      <a:pt x="2086" y="1592"/>
                    </a:lnTo>
                    <a:lnTo>
                      <a:pt x="2120" y="1612"/>
                    </a:lnTo>
                    <a:lnTo>
                      <a:pt x="2156" y="1634"/>
                    </a:lnTo>
                    <a:lnTo>
                      <a:pt x="2160" y="1640"/>
                    </a:lnTo>
                    <a:lnTo>
                      <a:pt x="2164" y="1642"/>
                    </a:lnTo>
                    <a:lnTo>
                      <a:pt x="2170" y="1644"/>
                    </a:lnTo>
                    <a:lnTo>
                      <a:pt x="2172" y="1642"/>
                    </a:lnTo>
                    <a:lnTo>
                      <a:pt x="2172" y="1640"/>
                    </a:lnTo>
                    <a:lnTo>
                      <a:pt x="2174" y="1628"/>
                    </a:lnTo>
                    <a:lnTo>
                      <a:pt x="2172" y="1604"/>
                    </a:lnTo>
                    <a:lnTo>
                      <a:pt x="2166" y="1570"/>
                    </a:lnTo>
                    <a:lnTo>
                      <a:pt x="2160" y="1542"/>
                    </a:lnTo>
                    <a:lnTo>
                      <a:pt x="2146" y="1504"/>
                    </a:lnTo>
                    <a:lnTo>
                      <a:pt x="2108" y="1390"/>
                    </a:lnTo>
                    <a:lnTo>
                      <a:pt x="2086" y="1320"/>
                    </a:lnTo>
                    <a:lnTo>
                      <a:pt x="2062" y="1242"/>
                    </a:lnTo>
                    <a:lnTo>
                      <a:pt x="2038" y="1154"/>
                    </a:lnTo>
                    <a:lnTo>
                      <a:pt x="2016" y="1062"/>
                    </a:lnTo>
                    <a:lnTo>
                      <a:pt x="1996" y="964"/>
                    </a:lnTo>
                    <a:lnTo>
                      <a:pt x="1980" y="860"/>
                    </a:lnTo>
                    <a:lnTo>
                      <a:pt x="1972" y="808"/>
                    </a:lnTo>
                    <a:lnTo>
                      <a:pt x="1966" y="754"/>
                    </a:lnTo>
                    <a:lnTo>
                      <a:pt x="1962" y="700"/>
                    </a:lnTo>
                    <a:lnTo>
                      <a:pt x="1960" y="644"/>
                    </a:lnTo>
                    <a:lnTo>
                      <a:pt x="1960" y="590"/>
                    </a:lnTo>
                    <a:lnTo>
                      <a:pt x="1960" y="534"/>
                    </a:lnTo>
                    <a:lnTo>
                      <a:pt x="1964" y="478"/>
                    </a:lnTo>
                    <a:lnTo>
                      <a:pt x="1968" y="424"/>
                    </a:lnTo>
                    <a:lnTo>
                      <a:pt x="1976" y="368"/>
                    </a:lnTo>
                    <a:lnTo>
                      <a:pt x="1986" y="312"/>
                    </a:lnTo>
                    <a:lnTo>
                      <a:pt x="1998" y="258"/>
                    </a:lnTo>
                    <a:lnTo>
                      <a:pt x="2012" y="204"/>
                    </a:lnTo>
                    <a:lnTo>
                      <a:pt x="1960" y="218"/>
                    </a:lnTo>
                    <a:lnTo>
                      <a:pt x="1900" y="234"/>
                    </a:lnTo>
                    <a:lnTo>
                      <a:pt x="1824" y="250"/>
                    </a:lnTo>
                    <a:lnTo>
                      <a:pt x="1738" y="268"/>
                    </a:lnTo>
                    <a:lnTo>
                      <a:pt x="1644" y="284"/>
                    </a:lnTo>
                    <a:lnTo>
                      <a:pt x="1596" y="290"/>
                    </a:lnTo>
                    <a:lnTo>
                      <a:pt x="1548" y="294"/>
                    </a:lnTo>
                    <a:lnTo>
                      <a:pt x="1502" y="298"/>
                    </a:lnTo>
                    <a:lnTo>
                      <a:pt x="1456" y="298"/>
                    </a:lnTo>
                    <a:lnTo>
                      <a:pt x="1368" y="300"/>
                    </a:lnTo>
                    <a:lnTo>
                      <a:pt x="1280" y="300"/>
                    </a:lnTo>
                    <a:lnTo>
                      <a:pt x="1238" y="298"/>
                    </a:lnTo>
                    <a:lnTo>
                      <a:pt x="1198" y="296"/>
                    </a:lnTo>
                    <a:lnTo>
                      <a:pt x="1160" y="292"/>
                    </a:lnTo>
                    <a:lnTo>
                      <a:pt x="1122" y="286"/>
                    </a:lnTo>
                    <a:lnTo>
                      <a:pt x="1088" y="278"/>
                    </a:lnTo>
                    <a:lnTo>
                      <a:pt x="1056" y="268"/>
                    </a:lnTo>
                    <a:lnTo>
                      <a:pt x="1028" y="254"/>
                    </a:lnTo>
                    <a:lnTo>
                      <a:pt x="1016" y="246"/>
                    </a:lnTo>
                    <a:lnTo>
                      <a:pt x="1004" y="236"/>
                    </a:lnTo>
                    <a:lnTo>
                      <a:pt x="992" y="226"/>
                    </a:lnTo>
                    <a:lnTo>
                      <a:pt x="982" y="214"/>
                    </a:lnTo>
                    <a:lnTo>
                      <a:pt x="972" y="202"/>
                    </a:lnTo>
                    <a:lnTo>
                      <a:pt x="964" y="190"/>
                    </a:lnTo>
                    <a:lnTo>
                      <a:pt x="958" y="174"/>
                    </a:lnTo>
                    <a:lnTo>
                      <a:pt x="952" y="158"/>
                    </a:lnTo>
                    <a:lnTo>
                      <a:pt x="946" y="142"/>
                    </a:lnTo>
                    <a:lnTo>
                      <a:pt x="942" y="124"/>
                    </a:lnTo>
                    <a:lnTo>
                      <a:pt x="940" y="116"/>
                    </a:lnTo>
                    <a:lnTo>
                      <a:pt x="934" y="94"/>
                    </a:lnTo>
                    <a:lnTo>
                      <a:pt x="928" y="80"/>
                    </a:lnTo>
                    <a:lnTo>
                      <a:pt x="920" y="66"/>
                    </a:lnTo>
                    <a:lnTo>
                      <a:pt x="910" y="52"/>
                    </a:lnTo>
                    <a:lnTo>
                      <a:pt x="898" y="38"/>
                    </a:lnTo>
                    <a:lnTo>
                      <a:pt x="882" y="24"/>
                    </a:lnTo>
                    <a:lnTo>
                      <a:pt x="864" y="14"/>
                    </a:lnTo>
                    <a:lnTo>
                      <a:pt x="842" y="6"/>
                    </a:lnTo>
                    <a:lnTo>
                      <a:pt x="818" y="0"/>
                    </a:lnTo>
                    <a:lnTo>
                      <a:pt x="804" y="0"/>
                    </a:lnTo>
                    <a:lnTo>
                      <a:pt x="788" y="0"/>
                    </a:lnTo>
                    <a:lnTo>
                      <a:pt x="774" y="2"/>
                    </a:lnTo>
                    <a:lnTo>
                      <a:pt x="756" y="6"/>
                    </a:lnTo>
                    <a:lnTo>
                      <a:pt x="738" y="10"/>
                    </a:lnTo>
                    <a:lnTo>
                      <a:pt x="720" y="16"/>
                    </a:lnTo>
                    <a:lnTo>
                      <a:pt x="678" y="34"/>
                    </a:lnTo>
                    <a:lnTo>
                      <a:pt x="632" y="54"/>
                    </a:lnTo>
                    <a:lnTo>
                      <a:pt x="584" y="70"/>
                    </a:lnTo>
                    <a:lnTo>
                      <a:pt x="534" y="84"/>
                    </a:lnTo>
                    <a:lnTo>
                      <a:pt x="482" y="96"/>
                    </a:lnTo>
                    <a:lnTo>
                      <a:pt x="428" y="104"/>
                    </a:lnTo>
                    <a:lnTo>
                      <a:pt x="376" y="112"/>
                    </a:lnTo>
                    <a:lnTo>
                      <a:pt x="324" y="116"/>
                    </a:lnTo>
                    <a:lnTo>
                      <a:pt x="272" y="120"/>
                    </a:lnTo>
                    <a:lnTo>
                      <a:pt x="224" y="122"/>
                    </a:lnTo>
                    <a:lnTo>
                      <a:pt x="178" y="122"/>
                    </a:lnTo>
                    <a:lnTo>
                      <a:pt x="138" y="120"/>
                    </a:lnTo>
                    <a:lnTo>
                      <a:pt x="100" y="118"/>
                    </a:lnTo>
                    <a:lnTo>
                      <a:pt x="68" y="116"/>
                    </a:lnTo>
                    <a:lnTo>
                      <a:pt x="42" y="112"/>
                    </a:lnTo>
                    <a:lnTo>
                      <a:pt x="22" y="108"/>
                    </a:lnTo>
                    <a:lnTo>
                      <a:pt x="10" y="102"/>
                    </a:lnTo>
                    <a:close/>
                  </a:path>
                </a:pathLst>
              </a:custGeom>
              <a:solidFill>
                <a:srgbClr val="1e1c11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9" name="Group 88"/>
          <p:cNvGrpSpPr/>
          <p:nvPr/>
        </p:nvGrpSpPr>
        <p:grpSpPr>
          <a:xfrm>
            <a:off x="6872400" y="2041560"/>
            <a:ext cx="599040" cy="927720"/>
            <a:chOff x="6872400" y="2041560"/>
            <a:chExt cx="599040" cy="927720"/>
          </a:xfrm>
        </p:grpSpPr>
        <p:grpSp>
          <p:nvGrpSpPr>
            <p:cNvPr id="540" name="Group 82"/>
            <p:cNvGrpSpPr/>
            <p:nvPr/>
          </p:nvGrpSpPr>
          <p:grpSpPr>
            <a:xfrm>
              <a:off x="6872400" y="2041560"/>
              <a:ext cx="599040" cy="927720"/>
              <a:chOff x="6872400" y="2041560"/>
              <a:chExt cx="599040" cy="927720"/>
            </a:xfrm>
          </p:grpSpPr>
          <p:sp>
            <p:nvSpPr>
              <p:cNvPr id="541" name="Teardrop 3"/>
              <p:cNvSpPr/>
              <p:nvPr/>
            </p:nvSpPr>
            <p:spPr>
              <a:xfrm rot="9244200">
                <a:off x="6946200" y="2116080"/>
                <a:ext cx="443880" cy="441360"/>
              </a:xfrm>
              <a:custGeom>
                <a:avLst/>
                <a:gdLst>
                  <a:gd name="textAreaLeft" fmla="*/ 64800 w 443880"/>
                  <a:gd name="textAreaRight" fmla="*/ 379080 w 443880"/>
                  <a:gd name="textAreaTop" fmla="*/ 64440 h 441360"/>
                  <a:gd name="textAreaBottom" fmla="*/ 376920 h 441360"/>
                </a:gdLst>
                <a:ahLst/>
                <a:rect l="textAreaLeft" t="textAreaTop" r="textAreaRight" b="textAreaBottom"/>
                <a:pathLst>
                  <a:path w="606425" h="611187">
                    <a:moveTo>
                      <a:pt x="0" y="305594"/>
                    </a:moveTo>
                    <a:lnTo>
                      <a:pt x="0" y="305594"/>
                    </a:lnTo>
                    <a:cubicBezTo>
                      <a:pt x="0" y="136819"/>
                      <a:pt x="135753" y="0"/>
                      <a:pt x="303212" y="0"/>
                    </a:cubicBezTo>
                    <a:cubicBezTo>
                      <a:pt x="505354" y="0"/>
                      <a:pt x="707496" y="-101865"/>
                      <a:pt x="909638" y="-305594"/>
                    </a:cubicBezTo>
                    <a:cubicBezTo>
                      <a:pt x="707496" y="-101865"/>
                      <a:pt x="606425" y="101865"/>
                      <a:pt x="606425" y="305594"/>
                    </a:cubicBezTo>
                    <a:cubicBezTo>
                      <a:pt x="606425" y="474368"/>
                      <a:pt x="470671" y="611187"/>
                      <a:pt x="303212" y="611188"/>
                    </a:cubicBezTo>
                    <a:cubicBezTo>
                      <a:pt x="135752" y="611188"/>
                      <a:pt x="-1" y="474368"/>
                      <a:pt x="-1" y="305594"/>
                    </a:cubicBezTo>
                    <a:lnTo>
                      <a:pt x="0" y="305594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Ellipse 591"/>
              <p:cNvSpPr/>
              <p:nvPr/>
            </p:nvSpPr>
            <p:spPr>
              <a:xfrm flipH="1" rot="5556600">
                <a:off x="7108920" y="2600280"/>
                <a:ext cx="206280" cy="508320"/>
              </a:xfrm>
              <a:custGeom>
                <a:avLst/>
                <a:gdLst>
                  <a:gd name="textAreaLeft" fmla="*/ -360 w 206280"/>
                  <a:gd name="textAreaRight" fmla="*/ 206280 w 206280"/>
                  <a:gd name="textAreaTop" fmla="*/ 0 h 508320"/>
                  <a:gd name="textAreaBottom" fmla="*/ 508680 h 508320"/>
                </a:gdLst>
                <a:ahLst/>
                <a:rect l="textAreaLeft" t="textAreaTop" r="textAreaRight" b="textAreaBottom"/>
                <a:pathLst>
                  <a:path w="286124" h="697351">
                    <a:moveTo>
                      <a:pt x="24201" y="219869"/>
                    </a:moveTo>
                    <a:cubicBezTo>
                      <a:pt x="24201" y="180656"/>
                      <a:pt x="30372" y="142157"/>
                      <a:pt x="42074" y="108361"/>
                    </a:cubicBezTo>
                    <a:cubicBezTo>
                      <a:pt x="65322" y="41221"/>
                      <a:pt x="107741" y="0"/>
                      <a:pt x="153582" y="0"/>
                    </a:cubicBezTo>
                    <a:cubicBezTo>
                      <a:pt x="199423" y="0"/>
                      <a:pt x="241841" y="41222"/>
                      <a:pt x="265089" y="108362"/>
                    </a:cubicBezTo>
                    <a:cubicBezTo>
                      <a:pt x="276791" y="142158"/>
                      <a:pt x="286124" y="182211"/>
                      <a:pt x="282962" y="219870"/>
                    </a:cubicBezTo>
                    <a:cubicBezTo>
                      <a:pt x="279800" y="257529"/>
                      <a:pt x="275486" y="275666"/>
                      <a:pt x="246118" y="334319"/>
                    </a:cubicBezTo>
                    <a:cubicBezTo>
                      <a:pt x="220552" y="385446"/>
                      <a:pt x="140268" y="407501"/>
                      <a:pt x="0" y="697351"/>
                    </a:cubicBezTo>
                    <a:cubicBezTo>
                      <a:pt x="83780" y="457266"/>
                      <a:pt x="20167" y="299450"/>
                      <a:pt x="24200" y="219870"/>
                    </a:cubicBezTo>
                    <a:lnTo>
                      <a:pt x="24201" y="219869"/>
                    </a:lnTo>
                    <a:close/>
                  </a:path>
                </a:pathLst>
              </a:custGeom>
              <a:solidFill>
                <a:srgbClr val="1e1c11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3" name="Ellipse 45"/>
            <p:cNvSpPr/>
            <p:nvPr/>
          </p:nvSpPr>
          <p:spPr>
            <a:xfrm rot="1112400">
              <a:off x="6972840" y="2138400"/>
              <a:ext cx="416520" cy="308160"/>
            </a:xfrm>
            <a:prstGeom prst="ellipse">
              <a:avLst/>
            </a:prstGeom>
            <a:gradFill rotWithShape="0">
              <a:gsLst>
                <a:gs pos="0">
                  <a:srgbClr val="fffcf9">
                    <a:alpha val="7725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Group 88"/>
          <p:cNvGrpSpPr/>
          <p:nvPr/>
        </p:nvGrpSpPr>
        <p:grpSpPr>
          <a:xfrm>
            <a:off x="4664520" y="5488200"/>
            <a:ext cx="320400" cy="496440"/>
            <a:chOff x="4664520" y="5488200"/>
            <a:chExt cx="320400" cy="496440"/>
          </a:xfrm>
        </p:grpSpPr>
        <p:grpSp>
          <p:nvGrpSpPr>
            <p:cNvPr id="545" name="Group 82"/>
            <p:cNvGrpSpPr/>
            <p:nvPr/>
          </p:nvGrpSpPr>
          <p:grpSpPr>
            <a:xfrm>
              <a:off x="4664520" y="5488200"/>
              <a:ext cx="320400" cy="496440"/>
              <a:chOff x="4664520" y="5488200"/>
              <a:chExt cx="320400" cy="496440"/>
            </a:xfrm>
          </p:grpSpPr>
          <p:sp>
            <p:nvSpPr>
              <p:cNvPr id="546" name="Teardrop 3"/>
              <p:cNvSpPr/>
              <p:nvPr/>
            </p:nvSpPr>
            <p:spPr>
              <a:xfrm rot="9244200">
                <a:off x="4703760" y="5528520"/>
                <a:ext cx="240120" cy="235440"/>
              </a:xfrm>
              <a:custGeom>
                <a:avLst/>
                <a:gdLst>
                  <a:gd name="textAreaLeft" fmla="*/ 34920 w 240120"/>
                  <a:gd name="textAreaRight" fmla="*/ 205200 w 240120"/>
                  <a:gd name="textAreaTop" fmla="*/ 34200 h 235440"/>
                  <a:gd name="textAreaBottom" fmla="*/ 201240 h 235440"/>
                </a:gdLst>
                <a:ahLst/>
                <a:rect l="textAreaLeft" t="textAreaTop" r="textAreaRight" b="textAreaBottom"/>
                <a:pathLst>
                  <a:path w="606425" h="611187">
                    <a:moveTo>
                      <a:pt x="0" y="305594"/>
                    </a:moveTo>
                    <a:lnTo>
                      <a:pt x="0" y="305594"/>
                    </a:lnTo>
                    <a:cubicBezTo>
                      <a:pt x="0" y="136819"/>
                      <a:pt x="135753" y="0"/>
                      <a:pt x="303212" y="0"/>
                    </a:cubicBezTo>
                    <a:cubicBezTo>
                      <a:pt x="505354" y="0"/>
                      <a:pt x="707496" y="-101865"/>
                      <a:pt x="909638" y="-305594"/>
                    </a:cubicBezTo>
                    <a:cubicBezTo>
                      <a:pt x="707496" y="-101865"/>
                      <a:pt x="606425" y="101865"/>
                      <a:pt x="606425" y="305594"/>
                    </a:cubicBezTo>
                    <a:cubicBezTo>
                      <a:pt x="606425" y="474368"/>
                      <a:pt x="470671" y="611187"/>
                      <a:pt x="303212" y="611188"/>
                    </a:cubicBezTo>
                    <a:cubicBezTo>
                      <a:pt x="135752" y="611188"/>
                      <a:pt x="-1" y="474368"/>
                      <a:pt x="-1" y="305594"/>
                    </a:cubicBezTo>
                    <a:lnTo>
                      <a:pt x="0" y="305594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Ellipse 591"/>
              <p:cNvSpPr/>
              <p:nvPr/>
            </p:nvSpPr>
            <p:spPr>
              <a:xfrm flipH="1" rot="5556600">
                <a:off x="4789800" y="5785920"/>
                <a:ext cx="110520" cy="274320"/>
              </a:xfrm>
              <a:custGeom>
                <a:avLst/>
                <a:gdLst>
                  <a:gd name="textAreaLeft" fmla="*/ -360 w 110520"/>
                  <a:gd name="textAreaRight" fmla="*/ 110520 w 110520"/>
                  <a:gd name="textAreaTop" fmla="*/ 0 h 274320"/>
                  <a:gd name="textAreaBottom" fmla="*/ 274320 h 274320"/>
                </a:gdLst>
                <a:ahLst/>
                <a:rect l="textAreaLeft" t="textAreaTop" r="textAreaRight" b="textAreaBottom"/>
                <a:pathLst>
                  <a:path w="286124" h="697351">
                    <a:moveTo>
                      <a:pt x="24201" y="219869"/>
                    </a:moveTo>
                    <a:cubicBezTo>
                      <a:pt x="24201" y="180656"/>
                      <a:pt x="30372" y="142157"/>
                      <a:pt x="42074" y="108361"/>
                    </a:cubicBezTo>
                    <a:cubicBezTo>
                      <a:pt x="65322" y="41221"/>
                      <a:pt x="107741" y="0"/>
                      <a:pt x="153582" y="0"/>
                    </a:cubicBezTo>
                    <a:cubicBezTo>
                      <a:pt x="199423" y="0"/>
                      <a:pt x="241841" y="41222"/>
                      <a:pt x="265089" y="108362"/>
                    </a:cubicBezTo>
                    <a:cubicBezTo>
                      <a:pt x="276791" y="142158"/>
                      <a:pt x="286124" y="182211"/>
                      <a:pt x="282962" y="219870"/>
                    </a:cubicBezTo>
                    <a:cubicBezTo>
                      <a:pt x="279800" y="257529"/>
                      <a:pt x="275486" y="275666"/>
                      <a:pt x="246118" y="334319"/>
                    </a:cubicBezTo>
                    <a:cubicBezTo>
                      <a:pt x="220552" y="385446"/>
                      <a:pt x="140268" y="407501"/>
                      <a:pt x="0" y="697351"/>
                    </a:cubicBezTo>
                    <a:cubicBezTo>
                      <a:pt x="83780" y="457266"/>
                      <a:pt x="20167" y="299450"/>
                      <a:pt x="24200" y="219870"/>
                    </a:cubicBezTo>
                    <a:lnTo>
                      <a:pt x="24201" y="219869"/>
                    </a:lnTo>
                    <a:close/>
                  </a:path>
                </a:pathLst>
              </a:custGeom>
              <a:solidFill>
                <a:srgbClr val="1e1c11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8" name="Ellipse 45"/>
            <p:cNvSpPr/>
            <p:nvPr/>
          </p:nvSpPr>
          <p:spPr>
            <a:xfrm rot="1112400">
              <a:off x="4719240" y="5542560"/>
              <a:ext cx="226080" cy="163800"/>
            </a:xfrm>
            <a:prstGeom prst="ellipse">
              <a:avLst/>
            </a:prstGeom>
            <a:gradFill rotWithShape="0">
              <a:gsLst>
                <a:gs pos="0">
                  <a:srgbClr val="fffcf9">
                    <a:alpha val="7725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Rectangle 223"/>
          <p:cNvGrpSpPr/>
          <p:nvPr/>
        </p:nvGrpSpPr>
        <p:grpSpPr>
          <a:xfrm>
            <a:off x="-6480" y="2487600"/>
            <a:ext cx="9156600" cy="1865160"/>
            <a:chOff x="-6480" y="2487600"/>
            <a:chExt cx="9156600" cy="1865160"/>
          </a:xfrm>
        </p:grpSpPr>
        <p:pic>
          <p:nvPicPr>
            <p:cNvPr id="55" name="Rectangle 223" descr=""/>
            <p:cNvPicPr/>
            <p:nvPr/>
          </p:nvPicPr>
          <p:blipFill>
            <a:blip r:embed="rId1"/>
            <a:stretch/>
          </p:blipFill>
          <p:spPr>
            <a:xfrm>
              <a:off x="-6480" y="2487600"/>
              <a:ext cx="9156600" cy="18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2495520"/>
              <a:ext cx="914400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uppe 62"/>
          <p:cNvGrpSpPr/>
          <p:nvPr/>
        </p:nvGrpSpPr>
        <p:grpSpPr>
          <a:xfrm>
            <a:off x="1633680" y="2030400"/>
            <a:ext cx="1143000" cy="2102040"/>
            <a:chOff x="1633680" y="2030400"/>
            <a:chExt cx="1143000" cy="2102040"/>
          </a:xfrm>
        </p:grpSpPr>
        <p:sp>
          <p:nvSpPr>
            <p:cNvPr id="58" name="Freeform 6"/>
            <p:cNvSpPr/>
            <p:nvPr/>
          </p:nvSpPr>
          <p:spPr>
            <a:xfrm>
              <a:off x="1635120" y="2044080"/>
              <a:ext cx="770760" cy="2088360"/>
            </a:xfrm>
            <a:custGeom>
              <a:avLst/>
              <a:gdLst>
                <a:gd name="textAreaLeft" fmla="*/ 0 w 770760"/>
                <a:gd name="textAreaRight" fmla="*/ 771120 w 770760"/>
                <a:gd name="textAreaTop" fmla="*/ 0 h 2088360"/>
                <a:gd name="textAreaBottom" fmla="*/ 2088720 h 2088360"/>
              </a:gdLst>
              <a:ahLst/>
              <a:rect l="textAreaLeft" t="textAreaTop" r="textAreaRight" b="textAreaBottom"/>
              <a:pathLst>
                <a:path w="890" h="2410">
                  <a:moveTo>
                    <a:pt x="0" y="672"/>
                  </a:moveTo>
                  <a:lnTo>
                    <a:pt x="6" y="2410"/>
                  </a:lnTo>
                  <a:lnTo>
                    <a:pt x="890" y="1744"/>
                  </a:lnTo>
                  <a:lnTo>
                    <a:pt x="888" y="0"/>
                  </a:lnTo>
                  <a:lnTo>
                    <a:pt x="0" y="672"/>
                  </a:lnTo>
                  <a:close/>
                </a:path>
              </a:pathLst>
            </a:custGeom>
            <a:solidFill>
              <a:srgbClr val="c1c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640520" y="3517200"/>
              <a:ext cx="1125720" cy="582120"/>
            </a:xfrm>
            <a:custGeom>
              <a:avLst/>
              <a:gdLst>
                <a:gd name="textAreaLeft" fmla="*/ 0 w 1125720"/>
                <a:gd name="textAreaRight" fmla="*/ 1126080 w 112572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1300" h="672">
                  <a:moveTo>
                    <a:pt x="0" y="672"/>
                  </a:moveTo>
                  <a:lnTo>
                    <a:pt x="882" y="0"/>
                  </a:lnTo>
                  <a:lnTo>
                    <a:pt x="1300" y="0"/>
                  </a:lnTo>
                  <a:lnTo>
                    <a:pt x="416" y="672"/>
                  </a:lnTo>
                  <a:lnTo>
                    <a:pt x="0" y="672"/>
                  </a:lnTo>
                  <a:close/>
                </a:path>
              </a:pathLst>
            </a:custGeom>
            <a:solidFill>
              <a:srgbClr val="cfd0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2267280" y="3249720"/>
              <a:ext cx="363600" cy="35244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420" h="406">
                  <a:moveTo>
                    <a:pt x="420" y="406"/>
                  </a:moveTo>
                  <a:lnTo>
                    <a:pt x="0" y="406"/>
                  </a:lnTo>
                  <a:lnTo>
                    <a:pt x="0" y="0"/>
                  </a:lnTo>
                  <a:lnTo>
                    <a:pt x="420" y="2"/>
                  </a:lnTo>
                  <a:lnTo>
                    <a:pt x="420" y="406"/>
                  </a:lnTo>
                  <a:close/>
                </a:path>
              </a:pathLst>
            </a:custGeom>
            <a:solidFill>
              <a:srgbClr val="bf9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9"/>
            <p:cNvSpPr/>
            <p:nvPr/>
          </p:nvSpPr>
          <p:spPr>
            <a:xfrm>
              <a:off x="2630880" y="3146400"/>
              <a:ext cx="145800" cy="45720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68" h="528">
                  <a:moveTo>
                    <a:pt x="0" y="528"/>
                  </a:moveTo>
                  <a:lnTo>
                    <a:pt x="0" y="122"/>
                  </a:lnTo>
                  <a:lnTo>
                    <a:pt x="160" y="0"/>
                  </a:lnTo>
                  <a:lnTo>
                    <a:pt x="168" y="402"/>
                  </a:lnTo>
                  <a:lnTo>
                    <a:pt x="0" y="528"/>
                  </a:lnTo>
                  <a:close/>
                </a:path>
              </a:pathLst>
            </a:custGeom>
            <a:solidFill>
              <a:srgbClr val="cbb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0"/>
            <p:cNvSpPr/>
            <p:nvPr/>
          </p:nvSpPr>
          <p:spPr>
            <a:xfrm>
              <a:off x="2267640" y="3146400"/>
              <a:ext cx="502200" cy="105480"/>
            </a:xfrm>
            <a:custGeom>
              <a:avLst/>
              <a:gdLst>
                <a:gd name="textAreaLeft" fmla="*/ 0 w 502200"/>
                <a:gd name="textAreaRight" fmla="*/ 502560 w 5022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580" h="122">
                  <a:moveTo>
                    <a:pt x="164" y="6"/>
                  </a:moveTo>
                  <a:lnTo>
                    <a:pt x="0" y="120"/>
                  </a:lnTo>
                  <a:lnTo>
                    <a:pt x="420" y="122"/>
                  </a:lnTo>
                  <a:lnTo>
                    <a:pt x="580" y="0"/>
                  </a:lnTo>
                  <a:lnTo>
                    <a:pt x="164" y="6"/>
                  </a:lnTo>
                  <a:close/>
                </a:path>
              </a:pathLst>
            </a:custGeom>
            <a:solidFill>
              <a:srgbClr val="817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1"/>
            <p:cNvSpPr/>
            <p:nvPr/>
          </p:nvSpPr>
          <p:spPr>
            <a:xfrm>
              <a:off x="2078280" y="3399120"/>
              <a:ext cx="363600" cy="35244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420" h="406">
                  <a:moveTo>
                    <a:pt x="420" y="406"/>
                  </a:moveTo>
                  <a:lnTo>
                    <a:pt x="0" y="406"/>
                  </a:lnTo>
                  <a:lnTo>
                    <a:pt x="0" y="0"/>
                  </a:lnTo>
                  <a:lnTo>
                    <a:pt x="420" y="2"/>
                  </a:lnTo>
                  <a:lnTo>
                    <a:pt x="420" y="406"/>
                  </a:lnTo>
                  <a:close/>
                </a:path>
              </a:pathLst>
            </a:custGeom>
            <a:solidFill>
              <a:srgbClr val="bf9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2"/>
            <p:cNvSpPr/>
            <p:nvPr/>
          </p:nvSpPr>
          <p:spPr>
            <a:xfrm>
              <a:off x="2441880" y="3295800"/>
              <a:ext cx="145800" cy="45720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68" h="528">
                  <a:moveTo>
                    <a:pt x="0" y="528"/>
                  </a:moveTo>
                  <a:lnTo>
                    <a:pt x="0" y="122"/>
                  </a:lnTo>
                  <a:lnTo>
                    <a:pt x="160" y="0"/>
                  </a:lnTo>
                  <a:lnTo>
                    <a:pt x="168" y="402"/>
                  </a:lnTo>
                  <a:lnTo>
                    <a:pt x="0" y="528"/>
                  </a:lnTo>
                  <a:close/>
                </a:path>
              </a:pathLst>
            </a:custGeom>
            <a:solidFill>
              <a:srgbClr val="cbb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3"/>
            <p:cNvSpPr/>
            <p:nvPr/>
          </p:nvSpPr>
          <p:spPr>
            <a:xfrm>
              <a:off x="2078640" y="3295440"/>
              <a:ext cx="502200" cy="105480"/>
            </a:xfrm>
            <a:custGeom>
              <a:avLst/>
              <a:gdLst>
                <a:gd name="textAreaLeft" fmla="*/ 0 w 502200"/>
                <a:gd name="textAreaRight" fmla="*/ 502560 w 5022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580" h="122">
                  <a:moveTo>
                    <a:pt x="164" y="6"/>
                  </a:moveTo>
                  <a:lnTo>
                    <a:pt x="0" y="120"/>
                  </a:lnTo>
                  <a:lnTo>
                    <a:pt x="420" y="122"/>
                  </a:lnTo>
                  <a:lnTo>
                    <a:pt x="580" y="0"/>
                  </a:lnTo>
                  <a:lnTo>
                    <a:pt x="164" y="6"/>
                  </a:lnTo>
                  <a:close/>
                </a:path>
              </a:pathLst>
            </a:custGeom>
            <a:solidFill>
              <a:srgbClr val="817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4"/>
            <p:cNvSpPr/>
            <p:nvPr/>
          </p:nvSpPr>
          <p:spPr>
            <a:xfrm>
              <a:off x="1878120" y="3559320"/>
              <a:ext cx="363600" cy="35064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420" h="406">
                  <a:moveTo>
                    <a:pt x="420" y="406"/>
                  </a:moveTo>
                  <a:lnTo>
                    <a:pt x="0" y="406"/>
                  </a:lnTo>
                  <a:lnTo>
                    <a:pt x="0" y="0"/>
                  </a:lnTo>
                  <a:lnTo>
                    <a:pt x="420" y="2"/>
                  </a:lnTo>
                  <a:lnTo>
                    <a:pt x="420" y="406"/>
                  </a:lnTo>
                  <a:close/>
                </a:path>
              </a:pathLst>
            </a:custGeom>
            <a:solidFill>
              <a:srgbClr val="bf9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5"/>
            <p:cNvSpPr/>
            <p:nvPr/>
          </p:nvSpPr>
          <p:spPr>
            <a:xfrm>
              <a:off x="2241720" y="3454560"/>
              <a:ext cx="145800" cy="45720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68" h="528">
                  <a:moveTo>
                    <a:pt x="0" y="528"/>
                  </a:moveTo>
                  <a:lnTo>
                    <a:pt x="0" y="122"/>
                  </a:lnTo>
                  <a:lnTo>
                    <a:pt x="160" y="0"/>
                  </a:lnTo>
                  <a:lnTo>
                    <a:pt x="168" y="402"/>
                  </a:lnTo>
                  <a:lnTo>
                    <a:pt x="0" y="528"/>
                  </a:lnTo>
                  <a:close/>
                </a:path>
              </a:pathLst>
            </a:custGeom>
            <a:solidFill>
              <a:srgbClr val="cbb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6"/>
            <p:cNvSpPr/>
            <p:nvPr/>
          </p:nvSpPr>
          <p:spPr>
            <a:xfrm>
              <a:off x="1877760" y="3454920"/>
              <a:ext cx="502200" cy="105480"/>
            </a:xfrm>
            <a:custGeom>
              <a:avLst/>
              <a:gdLst>
                <a:gd name="textAreaLeft" fmla="*/ 0 w 502200"/>
                <a:gd name="textAreaRight" fmla="*/ 502560 w 5022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580" h="122">
                  <a:moveTo>
                    <a:pt x="164" y="6"/>
                  </a:moveTo>
                  <a:lnTo>
                    <a:pt x="0" y="120"/>
                  </a:lnTo>
                  <a:lnTo>
                    <a:pt x="420" y="122"/>
                  </a:lnTo>
                  <a:lnTo>
                    <a:pt x="580" y="0"/>
                  </a:lnTo>
                  <a:lnTo>
                    <a:pt x="164" y="6"/>
                  </a:lnTo>
                  <a:close/>
                </a:path>
              </a:pathLst>
            </a:custGeom>
            <a:solidFill>
              <a:srgbClr val="817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7"/>
            <p:cNvSpPr/>
            <p:nvPr/>
          </p:nvSpPr>
          <p:spPr>
            <a:xfrm>
              <a:off x="1650960" y="3724560"/>
              <a:ext cx="363600" cy="35244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420" h="406">
                  <a:moveTo>
                    <a:pt x="420" y="406"/>
                  </a:moveTo>
                  <a:lnTo>
                    <a:pt x="0" y="406"/>
                  </a:lnTo>
                  <a:lnTo>
                    <a:pt x="0" y="0"/>
                  </a:lnTo>
                  <a:lnTo>
                    <a:pt x="420" y="2"/>
                  </a:lnTo>
                  <a:lnTo>
                    <a:pt x="420" y="406"/>
                  </a:lnTo>
                  <a:close/>
                </a:path>
              </a:pathLst>
            </a:custGeom>
            <a:solidFill>
              <a:srgbClr val="bf9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8"/>
            <p:cNvSpPr/>
            <p:nvPr/>
          </p:nvSpPr>
          <p:spPr>
            <a:xfrm>
              <a:off x="2014560" y="3621240"/>
              <a:ext cx="145800" cy="45720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68" h="528">
                  <a:moveTo>
                    <a:pt x="0" y="528"/>
                  </a:moveTo>
                  <a:lnTo>
                    <a:pt x="0" y="122"/>
                  </a:lnTo>
                  <a:lnTo>
                    <a:pt x="160" y="0"/>
                  </a:lnTo>
                  <a:lnTo>
                    <a:pt x="168" y="402"/>
                  </a:lnTo>
                  <a:lnTo>
                    <a:pt x="0" y="528"/>
                  </a:lnTo>
                  <a:close/>
                </a:path>
              </a:pathLst>
            </a:custGeom>
            <a:solidFill>
              <a:srgbClr val="cbb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9"/>
            <p:cNvSpPr/>
            <p:nvPr/>
          </p:nvSpPr>
          <p:spPr>
            <a:xfrm>
              <a:off x="1650960" y="3621240"/>
              <a:ext cx="502200" cy="105480"/>
            </a:xfrm>
            <a:custGeom>
              <a:avLst/>
              <a:gdLst>
                <a:gd name="textAreaLeft" fmla="*/ 0 w 502200"/>
                <a:gd name="textAreaRight" fmla="*/ 502560 w 5022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580" h="122">
                  <a:moveTo>
                    <a:pt x="164" y="6"/>
                  </a:moveTo>
                  <a:lnTo>
                    <a:pt x="0" y="120"/>
                  </a:lnTo>
                  <a:lnTo>
                    <a:pt x="420" y="122"/>
                  </a:lnTo>
                  <a:lnTo>
                    <a:pt x="580" y="0"/>
                  </a:lnTo>
                  <a:lnTo>
                    <a:pt x="164" y="6"/>
                  </a:lnTo>
                  <a:close/>
                </a:path>
              </a:pathLst>
            </a:custGeom>
            <a:solidFill>
              <a:srgbClr val="817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60"/>
            <p:cNvSpPr/>
            <p:nvPr/>
          </p:nvSpPr>
          <p:spPr>
            <a:xfrm>
              <a:off x="1633680" y="3135960"/>
              <a:ext cx="1125720" cy="582120"/>
            </a:xfrm>
            <a:custGeom>
              <a:avLst/>
              <a:gdLst>
                <a:gd name="textAreaLeft" fmla="*/ 0 w 1125720"/>
                <a:gd name="textAreaRight" fmla="*/ 1126080 w 112572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1300" h="672">
                  <a:moveTo>
                    <a:pt x="0" y="672"/>
                  </a:moveTo>
                  <a:lnTo>
                    <a:pt x="882" y="0"/>
                  </a:lnTo>
                  <a:lnTo>
                    <a:pt x="1300" y="0"/>
                  </a:lnTo>
                  <a:lnTo>
                    <a:pt x="416" y="672"/>
                  </a:lnTo>
                  <a:lnTo>
                    <a:pt x="0" y="672"/>
                  </a:lnTo>
                  <a:close/>
                </a:path>
              </a:pathLst>
            </a:custGeom>
            <a:solidFill>
              <a:srgbClr val="cfd0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261"/>
            <p:cNvSpPr/>
            <p:nvPr/>
          </p:nvSpPr>
          <p:spPr>
            <a:xfrm>
              <a:off x="2007720" y="3344040"/>
              <a:ext cx="720" cy="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262"/>
            <p:cNvSpPr/>
            <p:nvPr/>
          </p:nvSpPr>
          <p:spPr>
            <a:xfrm>
              <a:off x="2007720" y="3344040"/>
              <a:ext cx="720" cy="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263"/>
            <p:cNvSpPr/>
            <p:nvPr/>
          </p:nvSpPr>
          <p:spPr>
            <a:xfrm>
              <a:off x="2262240" y="2876400"/>
              <a:ext cx="363600" cy="35064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420" h="406">
                  <a:moveTo>
                    <a:pt x="420" y="406"/>
                  </a:moveTo>
                  <a:lnTo>
                    <a:pt x="0" y="406"/>
                  </a:lnTo>
                  <a:lnTo>
                    <a:pt x="2" y="0"/>
                  </a:lnTo>
                  <a:lnTo>
                    <a:pt x="420" y="2"/>
                  </a:lnTo>
                  <a:lnTo>
                    <a:pt x="420" y="406"/>
                  </a:lnTo>
                  <a:close/>
                </a:path>
              </a:pathLst>
            </a:custGeom>
            <a:solidFill>
              <a:srgbClr val="bf9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264"/>
            <p:cNvSpPr/>
            <p:nvPr/>
          </p:nvSpPr>
          <p:spPr>
            <a:xfrm>
              <a:off x="2625840" y="2771640"/>
              <a:ext cx="145800" cy="45720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68" h="528">
                  <a:moveTo>
                    <a:pt x="0" y="528"/>
                  </a:moveTo>
                  <a:lnTo>
                    <a:pt x="0" y="122"/>
                  </a:lnTo>
                  <a:lnTo>
                    <a:pt x="162" y="0"/>
                  </a:lnTo>
                  <a:lnTo>
                    <a:pt x="168" y="402"/>
                  </a:lnTo>
                  <a:lnTo>
                    <a:pt x="0" y="528"/>
                  </a:lnTo>
                  <a:close/>
                </a:path>
              </a:pathLst>
            </a:custGeom>
            <a:solidFill>
              <a:srgbClr val="cbb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265"/>
            <p:cNvSpPr/>
            <p:nvPr/>
          </p:nvSpPr>
          <p:spPr>
            <a:xfrm>
              <a:off x="2262240" y="2772000"/>
              <a:ext cx="504000" cy="105480"/>
            </a:xfrm>
            <a:custGeom>
              <a:avLst/>
              <a:gdLst>
                <a:gd name="textAreaLeft" fmla="*/ 0 w 504000"/>
                <a:gd name="textAreaRight" fmla="*/ 504360 w 5040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582" h="122">
                  <a:moveTo>
                    <a:pt x="166" y="6"/>
                  </a:moveTo>
                  <a:lnTo>
                    <a:pt x="0" y="120"/>
                  </a:lnTo>
                  <a:lnTo>
                    <a:pt x="420" y="122"/>
                  </a:lnTo>
                  <a:lnTo>
                    <a:pt x="582" y="0"/>
                  </a:lnTo>
                  <a:lnTo>
                    <a:pt x="166" y="6"/>
                  </a:lnTo>
                  <a:close/>
                </a:path>
              </a:pathLst>
            </a:custGeom>
            <a:solidFill>
              <a:srgbClr val="817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66"/>
            <p:cNvSpPr/>
            <p:nvPr/>
          </p:nvSpPr>
          <p:spPr>
            <a:xfrm>
              <a:off x="2073240" y="3025800"/>
              <a:ext cx="363600" cy="35064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420" h="406">
                  <a:moveTo>
                    <a:pt x="420" y="406"/>
                  </a:moveTo>
                  <a:lnTo>
                    <a:pt x="0" y="406"/>
                  </a:lnTo>
                  <a:lnTo>
                    <a:pt x="2" y="0"/>
                  </a:lnTo>
                  <a:lnTo>
                    <a:pt x="420" y="2"/>
                  </a:lnTo>
                  <a:lnTo>
                    <a:pt x="420" y="406"/>
                  </a:lnTo>
                  <a:close/>
                </a:path>
              </a:pathLst>
            </a:custGeom>
            <a:solidFill>
              <a:srgbClr val="bf9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67"/>
            <p:cNvSpPr/>
            <p:nvPr/>
          </p:nvSpPr>
          <p:spPr>
            <a:xfrm>
              <a:off x="2437200" y="2921040"/>
              <a:ext cx="145800" cy="45720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68" h="528">
                  <a:moveTo>
                    <a:pt x="0" y="528"/>
                  </a:moveTo>
                  <a:lnTo>
                    <a:pt x="0" y="122"/>
                  </a:lnTo>
                  <a:lnTo>
                    <a:pt x="162" y="0"/>
                  </a:lnTo>
                  <a:lnTo>
                    <a:pt x="168" y="402"/>
                  </a:lnTo>
                  <a:lnTo>
                    <a:pt x="0" y="528"/>
                  </a:lnTo>
                  <a:close/>
                </a:path>
              </a:pathLst>
            </a:custGeom>
            <a:solidFill>
              <a:srgbClr val="cbb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68"/>
            <p:cNvSpPr/>
            <p:nvPr/>
          </p:nvSpPr>
          <p:spPr>
            <a:xfrm>
              <a:off x="2073600" y="2921040"/>
              <a:ext cx="504000" cy="105480"/>
            </a:xfrm>
            <a:custGeom>
              <a:avLst/>
              <a:gdLst>
                <a:gd name="textAreaLeft" fmla="*/ 0 w 504000"/>
                <a:gd name="textAreaRight" fmla="*/ 504360 w 5040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582" h="122">
                  <a:moveTo>
                    <a:pt x="166" y="6"/>
                  </a:moveTo>
                  <a:lnTo>
                    <a:pt x="0" y="120"/>
                  </a:lnTo>
                  <a:lnTo>
                    <a:pt x="420" y="122"/>
                  </a:lnTo>
                  <a:lnTo>
                    <a:pt x="582" y="0"/>
                  </a:lnTo>
                  <a:lnTo>
                    <a:pt x="166" y="6"/>
                  </a:lnTo>
                  <a:close/>
                </a:path>
              </a:pathLst>
            </a:custGeom>
            <a:solidFill>
              <a:srgbClr val="817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69"/>
            <p:cNvSpPr/>
            <p:nvPr/>
          </p:nvSpPr>
          <p:spPr>
            <a:xfrm>
              <a:off x="1873440" y="3184560"/>
              <a:ext cx="363600" cy="35244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420" h="406">
                  <a:moveTo>
                    <a:pt x="420" y="406"/>
                  </a:moveTo>
                  <a:lnTo>
                    <a:pt x="0" y="406"/>
                  </a:lnTo>
                  <a:lnTo>
                    <a:pt x="2" y="0"/>
                  </a:lnTo>
                  <a:lnTo>
                    <a:pt x="420" y="2"/>
                  </a:lnTo>
                  <a:lnTo>
                    <a:pt x="420" y="406"/>
                  </a:lnTo>
                  <a:close/>
                </a:path>
              </a:pathLst>
            </a:custGeom>
            <a:solidFill>
              <a:srgbClr val="bf9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70"/>
            <p:cNvSpPr/>
            <p:nvPr/>
          </p:nvSpPr>
          <p:spPr>
            <a:xfrm>
              <a:off x="2237040" y="3079800"/>
              <a:ext cx="144360" cy="4586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68" h="528">
                  <a:moveTo>
                    <a:pt x="0" y="528"/>
                  </a:moveTo>
                  <a:lnTo>
                    <a:pt x="0" y="122"/>
                  </a:lnTo>
                  <a:lnTo>
                    <a:pt x="162" y="0"/>
                  </a:lnTo>
                  <a:lnTo>
                    <a:pt x="168" y="402"/>
                  </a:lnTo>
                  <a:lnTo>
                    <a:pt x="0" y="528"/>
                  </a:lnTo>
                  <a:close/>
                </a:path>
              </a:pathLst>
            </a:custGeom>
            <a:solidFill>
              <a:srgbClr val="cbb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71"/>
            <p:cNvSpPr/>
            <p:nvPr/>
          </p:nvSpPr>
          <p:spPr>
            <a:xfrm>
              <a:off x="1872720" y="3080520"/>
              <a:ext cx="504000" cy="105480"/>
            </a:xfrm>
            <a:custGeom>
              <a:avLst/>
              <a:gdLst>
                <a:gd name="textAreaLeft" fmla="*/ 0 w 504000"/>
                <a:gd name="textAreaRight" fmla="*/ 504360 w 5040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582" h="122">
                  <a:moveTo>
                    <a:pt x="166" y="6"/>
                  </a:moveTo>
                  <a:lnTo>
                    <a:pt x="0" y="120"/>
                  </a:lnTo>
                  <a:lnTo>
                    <a:pt x="420" y="122"/>
                  </a:lnTo>
                  <a:lnTo>
                    <a:pt x="582" y="0"/>
                  </a:lnTo>
                  <a:lnTo>
                    <a:pt x="166" y="6"/>
                  </a:lnTo>
                  <a:close/>
                </a:path>
              </a:pathLst>
            </a:custGeom>
            <a:solidFill>
              <a:srgbClr val="817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72"/>
            <p:cNvSpPr/>
            <p:nvPr/>
          </p:nvSpPr>
          <p:spPr>
            <a:xfrm>
              <a:off x="1646280" y="3351240"/>
              <a:ext cx="363600" cy="35064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420" h="406">
                  <a:moveTo>
                    <a:pt x="420" y="406"/>
                  </a:moveTo>
                  <a:lnTo>
                    <a:pt x="0" y="406"/>
                  </a:lnTo>
                  <a:lnTo>
                    <a:pt x="2" y="0"/>
                  </a:lnTo>
                  <a:lnTo>
                    <a:pt x="420" y="2"/>
                  </a:lnTo>
                  <a:lnTo>
                    <a:pt x="420" y="406"/>
                  </a:lnTo>
                  <a:close/>
                </a:path>
              </a:pathLst>
            </a:custGeom>
            <a:solidFill>
              <a:srgbClr val="bf9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73"/>
            <p:cNvSpPr/>
            <p:nvPr/>
          </p:nvSpPr>
          <p:spPr>
            <a:xfrm>
              <a:off x="2009880" y="3246480"/>
              <a:ext cx="144360" cy="4572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68" h="528">
                  <a:moveTo>
                    <a:pt x="0" y="528"/>
                  </a:moveTo>
                  <a:lnTo>
                    <a:pt x="0" y="122"/>
                  </a:lnTo>
                  <a:lnTo>
                    <a:pt x="162" y="0"/>
                  </a:lnTo>
                  <a:lnTo>
                    <a:pt x="168" y="402"/>
                  </a:lnTo>
                  <a:lnTo>
                    <a:pt x="0" y="528"/>
                  </a:lnTo>
                  <a:close/>
                </a:path>
              </a:pathLst>
            </a:custGeom>
            <a:solidFill>
              <a:srgbClr val="cbb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74"/>
            <p:cNvSpPr/>
            <p:nvPr/>
          </p:nvSpPr>
          <p:spPr>
            <a:xfrm>
              <a:off x="1645560" y="3246840"/>
              <a:ext cx="504000" cy="105480"/>
            </a:xfrm>
            <a:custGeom>
              <a:avLst/>
              <a:gdLst>
                <a:gd name="textAreaLeft" fmla="*/ 0 w 504000"/>
                <a:gd name="textAreaRight" fmla="*/ 504360 w 5040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582" h="122">
                  <a:moveTo>
                    <a:pt x="166" y="6"/>
                  </a:moveTo>
                  <a:lnTo>
                    <a:pt x="0" y="120"/>
                  </a:lnTo>
                  <a:lnTo>
                    <a:pt x="420" y="122"/>
                  </a:lnTo>
                  <a:lnTo>
                    <a:pt x="582" y="0"/>
                  </a:lnTo>
                  <a:lnTo>
                    <a:pt x="166" y="6"/>
                  </a:lnTo>
                  <a:close/>
                </a:path>
              </a:pathLst>
            </a:custGeom>
            <a:solidFill>
              <a:srgbClr val="817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75"/>
            <p:cNvSpPr/>
            <p:nvPr/>
          </p:nvSpPr>
          <p:spPr>
            <a:xfrm>
              <a:off x="1647360" y="2761560"/>
              <a:ext cx="1125720" cy="582120"/>
            </a:xfrm>
            <a:custGeom>
              <a:avLst/>
              <a:gdLst>
                <a:gd name="textAreaLeft" fmla="*/ 0 w 1125720"/>
                <a:gd name="textAreaRight" fmla="*/ 1126080 w 112572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1300" h="672">
                  <a:moveTo>
                    <a:pt x="0" y="672"/>
                  </a:moveTo>
                  <a:lnTo>
                    <a:pt x="882" y="0"/>
                  </a:lnTo>
                  <a:lnTo>
                    <a:pt x="1300" y="0"/>
                  </a:lnTo>
                  <a:lnTo>
                    <a:pt x="416" y="672"/>
                  </a:lnTo>
                  <a:lnTo>
                    <a:pt x="0" y="672"/>
                  </a:lnTo>
                  <a:close/>
                </a:path>
              </a:pathLst>
            </a:custGeom>
            <a:solidFill>
              <a:srgbClr val="cfd0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76"/>
            <p:cNvSpPr/>
            <p:nvPr/>
          </p:nvSpPr>
          <p:spPr>
            <a:xfrm>
              <a:off x="2256120" y="2508120"/>
              <a:ext cx="363600" cy="35244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420" h="406">
                  <a:moveTo>
                    <a:pt x="420" y="406"/>
                  </a:moveTo>
                  <a:lnTo>
                    <a:pt x="0" y="406"/>
                  </a:lnTo>
                  <a:lnTo>
                    <a:pt x="2" y="0"/>
                  </a:lnTo>
                  <a:lnTo>
                    <a:pt x="420" y="2"/>
                  </a:lnTo>
                  <a:lnTo>
                    <a:pt x="420" y="406"/>
                  </a:lnTo>
                  <a:close/>
                </a:path>
              </a:pathLst>
            </a:custGeom>
            <a:solidFill>
              <a:srgbClr val="bf9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77"/>
            <p:cNvSpPr/>
            <p:nvPr/>
          </p:nvSpPr>
          <p:spPr>
            <a:xfrm>
              <a:off x="2619720" y="2404800"/>
              <a:ext cx="144360" cy="4572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68" h="528">
                  <a:moveTo>
                    <a:pt x="0" y="528"/>
                  </a:moveTo>
                  <a:lnTo>
                    <a:pt x="0" y="122"/>
                  </a:lnTo>
                  <a:lnTo>
                    <a:pt x="162" y="0"/>
                  </a:lnTo>
                  <a:lnTo>
                    <a:pt x="168" y="402"/>
                  </a:lnTo>
                  <a:lnTo>
                    <a:pt x="0" y="528"/>
                  </a:lnTo>
                  <a:close/>
                </a:path>
              </a:pathLst>
            </a:custGeom>
            <a:solidFill>
              <a:srgbClr val="cbb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78"/>
            <p:cNvSpPr/>
            <p:nvPr/>
          </p:nvSpPr>
          <p:spPr>
            <a:xfrm>
              <a:off x="2255400" y="2404440"/>
              <a:ext cx="504000" cy="105480"/>
            </a:xfrm>
            <a:custGeom>
              <a:avLst/>
              <a:gdLst>
                <a:gd name="textAreaLeft" fmla="*/ 0 w 504000"/>
                <a:gd name="textAreaRight" fmla="*/ 504360 w 5040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582" h="122">
                  <a:moveTo>
                    <a:pt x="166" y="6"/>
                  </a:moveTo>
                  <a:lnTo>
                    <a:pt x="0" y="120"/>
                  </a:lnTo>
                  <a:lnTo>
                    <a:pt x="420" y="122"/>
                  </a:lnTo>
                  <a:lnTo>
                    <a:pt x="582" y="0"/>
                  </a:lnTo>
                  <a:lnTo>
                    <a:pt x="166" y="6"/>
                  </a:lnTo>
                  <a:close/>
                </a:path>
              </a:pathLst>
            </a:custGeom>
            <a:solidFill>
              <a:srgbClr val="817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79"/>
            <p:cNvSpPr/>
            <p:nvPr/>
          </p:nvSpPr>
          <p:spPr>
            <a:xfrm>
              <a:off x="2067120" y="2657520"/>
              <a:ext cx="363600" cy="35244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420" h="406">
                  <a:moveTo>
                    <a:pt x="420" y="406"/>
                  </a:moveTo>
                  <a:lnTo>
                    <a:pt x="0" y="406"/>
                  </a:lnTo>
                  <a:lnTo>
                    <a:pt x="2" y="0"/>
                  </a:lnTo>
                  <a:lnTo>
                    <a:pt x="420" y="2"/>
                  </a:lnTo>
                  <a:lnTo>
                    <a:pt x="420" y="406"/>
                  </a:lnTo>
                  <a:close/>
                </a:path>
              </a:pathLst>
            </a:custGeom>
            <a:solidFill>
              <a:srgbClr val="bf9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280"/>
            <p:cNvSpPr/>
            <p:nvPr/>
          </p:nvSpPr>
          <p:spPr>
            <a:xfrm>
              <a:off x="2430720" y="2554200"/>
              <a:ext cx="144360" cy="4572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68" h="528">
                  <a:moveTo>
                    <a:pt x="0" y="528"/>
                  </a:moveTo>
                  <a:lnTo>
                    <a:pt x="0" y="122"/>
                  </a:lnTo>
                  <a:lnTo>
                    <a:pt x="162" y="0"/>
                  </a:lnTo>
                  <a:lnTo>
                    <a:pt x="168" y="402"/>
                  </a:lnTo>
                  <a:lnTo>
                    <a:pt x="0" y="528"/>
                  </a:lnTo>
                  <a:close/>
                </a:path>
              </a:pathLst>
            </a:custGeom>
            <a:solidFill>
              <a:srgbClr val="cbb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81"/>
            <p:cNvSpPr/>
            <p:nvPr/>
          </p:nvSpPr>
          <p:spPr>
            <a:xfrm>
              <a:off x="2066760" y="2553480"/>
              <a:ext cx="504000" cy="105480"/>
            </a:xfrm>
            <a:custGeom>
              <a:avLst/>
              <a:gdLst>
                <a:gd name="textAreaLeft" fmla="*/ 0 w 504000"/>
                <a:gd name="textAreaRight" fmla="*/ 504360 w 5040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582" h="122">
                  <a:moveTo>
                    <a:pt x="166" y="6"/>
                  </a:moveTo>
                  <a:lnTo>
                    <a:pt x="0" y="120"/>
                  </a:lnTo>
                  <a:lnTo>
                    <a:pt x="420" y="122"/>
                  </a:lnTo>
                  <a:lnTo>
                    <a:pt x="582" y="0"/>
                  </a:lnTo>
                  <a:lnTo>
                    <a:pt x="166" y="6"/>
                  </a:lnTo>
                  <a:close/>
                </a:path>
              </a:pathLst>
            </a:custGeom>
            <a:solidFill>
              <a:srgbClr val="817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82"/>
            <p:cNvSpPr/>
            <p:nvPr/>
          </p:nvSpPr>
          <p:spPr>
            <a:xfrm>
              <a:off x="1865520" y="2817720"/>
              <a:ext cx="363600" cy="35064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420" h="406">
                  <a:moveTo>
                    <a:pt x="420" y="406"/>
                  </a:moveTo>
                  <a:lnTo>
                    <a:pt x="0" y="406"/>
                  </a:lnTo>
                  <a:lnTo>
                    <a:pt x="2" y="0"/>
                  </a:lnTo>
                  <a:lnTo>
                    <a:pt x="420" y="2"/>
                  </a:lnTo>
                  <a:lnTo>
                    <a:pt x="420" y="406"/>
                  </a:lnTo>
                  <a:close/>
                </a:path>
              </a:pathLst>
            </a:custGeom>
            <a:solidFill>
              <a:srgbClr val="bf9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83"/>
            <p:cNvSpPr/>
            <p:nvPr/>
          </p:nvSpPr>
          <p:spPr>
            <a:xfrm>
              <a:off x="2229120" y="2712960"/>
              <a:ext cx="145800" cy="45720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68" h="528">
                  <a:moveTo>
                    <a:pt x="0" y="528"/>
                  </a:moveTo>
                  <a:lnTo>
                    <a:pt x="0" y="122"/>
                  </a:lnTo>
                  <a:lnTo>
                    <a:pt x="162" y="0"/>
                  </a:lnTo>
                  <a:lnTo>
                    <a:pt x="168" y="402"/>
                  </a:lnTo>
                  <a:lnTo>
                    <a:pt x="0" y="528"/>
                  </a:lnTo>
                  <a:close/>
                </a:path>
              </a:pathLst>
            </a:custGeom>
            <a:solidFill>
              <a:srgbClr val="cbb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284"/>
            <p:cNvSpPr/>
            <p:nvPr/>
          </p:nvSpPr>
          <p:spPr>
            <a:xfrm>
              <a:off x="1865520" y="2712960"/>
              <a:ext cx="504000" cy="105480"/>
            </a:xfrm>
            <a:custGeom>
              <a:avLst/>
              <a:gdLst>
                <a:gd name="textAreaLeft" fmla="*/ 0 w 504000"/>
                <a:gd name="textAreaRight" fmla="*/ 504360 w 5040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582" h="122">
                  <a:moveTo>
                    <a:pt x="166" y="6"/>
                  </a:moveTo>
                  <a:lnTo>
                    <a:pt x="0" y="120"/>
                  </a:lnTo>
                  <a:lnTo>
                    <a:pt x="420" y="122"/>
                  </a:lnTo>
                  <a:lnTo>
                    <a:pt x="582" y="0"/>
                  </a:lnTo>
                  <a:lnTo>
                    <a:pt x="166" y="6"/>
                  </a:lnTo>
                  <a:close/>
                </a:path>
              </a:pathLst>
            </a:custGeom>
            <a:solidFill>
              <a:srgbClr val="817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85"/>
            <p:cNvSpPr/>
            <p:nvPr/>
          </p:nvSpPr>
          <p:spPr>
            <a:xfrm>
              <a:off x="1638360" y="2982960"/>
              <a:ext cx="363600" cy="35244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420" h="406">
                  <a:moveTo>
                    <a:pt x="420" y="406"/>
                  </a:moveTo>
                  <a:lnTo>
                    <a:pt x="0" y="406"/>
                  </a:lnTo>
                  <a:lnTo>
                    <a:pt x="2" y="0"/>
                  </a:lnTo>
                  <a:lnTo>
                    <a:pt x="420" y="2"/>
                  </a:lnTo>
                  <a:lnTo>
                    <a:pt x="420" y="406"/>
                  </a:lnTo>
                  <a:close/>
                </a:path>
              </a:pathLst>
            </a:custGeom>
            <a:solidFill>
              <a:srgbClr val="bf9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86"/>
            <p:cNvSpPr/>
            <p:nvPr/>
          </p:nvSpPr>
          <p:spPr>
            <a:xfrm>
              <a:off x="2001960" y="2879640"/>
              <a:ext cx="145800" cy="45720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68" h="528">
                  <a:moveTo>
                    <a:pt x="0" y="528"/>
                  </a:moveTo>
                  <a:lnTo>
                    <a:pt x="0" y="122"/>
                  </a:lnTo>
                  <a:lnTo>
                    <a:pt x="162" y="0"/>
                  </a:lnTo>
                  <a:lnTo>
                    <a:pt x="168" y="402"/>
                  </a:lnTo>
                  <a:lnTo>
                    <a:pt x="0" y="528"/>
                  </a:lnTo>
                  <a:close/>
                </a:path>
              </a:pathLst>
            </a:custGeom>
            <a:solidFill>
              <a:srgbClr val="cbb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87"/>
            <p:cNvSpPr/>
            <p:nvPr/>
          </p:nvSpPr>
          <p:spPr>
            <a:xfrm>
              <a:off x="1638720" y="2879640"/>
              <a:ext cx="504000" cy="105480"/>
            </a:xfrm>
            <a:custGeom>
              <a:avLst/>
              <a:gdLst>
                <a:gd name="textAreaLeft" fmla="*/ 0 w 504000"/>
                <a:gd name="textAreaRight" fmla="*/ 504360 w 5040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582" h="122">
                  <a:moveTo>
                    <a:pt x="166" y="6"/>
                  </a:moveTo>
                  <a:lnTo>
                    <a:pt x="0" y="120"/>
                  </a:lnTo>
                  <a:lnTo>
                    <a:pt x="420" y="122"/>
                  </a:lnTo>
                  <a:lnTo>
                    <a:pt x="582" y="0"/>
                  </a:lnTo>
                  <a:lnTo>
                    <a:pt x="166" y="6"/>
                  </a:lnTo>
                  <a:close/>
                </a:path>
              </a:pathLst>
            </a:custGeom>
            <a:solidFill>
              <a:srgbClr val="817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88"/>
            <p:cNvSpPr/>
            <p:nvPr/>
          </p:nvSpPr>
          <p:spPr>
            <a:xfrm>
              <a:off x="1640520" y="2394360"/>
              <a:ext cx="1125720" cy="582120"/>
            </a:xfrm>
            <a:custGeom>
              <a:avLst/>
              <a:gdLst>
                <a:gd name="textAreaLeft" fmla="*/ 0 w 1125720"/>
                <a:gd name="textAreaRight" fmla="*/ 1126080 w 112572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1300" h="672">
                  <a:moveTo>
                    <a:pt x="0" y="672"/>
                  </a:moveTo>
                  <a:lnTo>
                    <a:pt x="882" y="0"/>
                  </a:lnTo>
                  <a:lnTo>
                    <a:pt x="1300" y="0"/>
                  </a:lnTo>
                  <a:lnTo>
                    <a:pt x="416" y="672"/>
                  </a:lnTo>
                  <a:lnTo>
                    <a:pt x="0" y="672"/>
                  </a:lnTo>
                  <a:close/>
                </a:path>
              </a:pathLst>
            </a:custGeom>
            <a:solidFill>
              <a:srgbClr val="cfd0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89"/>
            <p:cNvSpPr/>
            <p:nvPr/>
          </p:nvSpPr>
          <p:spPr>
            <a:xfrm>
              <a:off x="2259000" y="2133360"/>
              <a:ext cx="361800" cy="35244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418" h="406">
                  <a:moveTo>
                    <a:pt x="418" y="406"/>
                  </a:moveTo>
                  <a:lnTo>
                    <a:pt x="0" y="406"/>
                  </a:lnTo>
                  <a:lnTo>
                    <a:pt x="0" y="0"/>
                  </a:lnTo>
                  <a:lnTo>
                    <a:pt x="418" y="2"/>
                  </a:lnTo>
                  <a:lnTo>
                    <a:pt x="418" y="406"/>
                  </a:lnTo>
                  <a:close/>
                </a:path>
              </a:pathLst>
            </a:custGeom>
            <a:solidFill>
              <a:srgbClr val="bf9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90"/>
            <p:cNvSpPr/>
            <p:nvPr/>
          </p:nvSpPr>
          <p:spPr>
            <a:xfrm>
              <a:off x="2621160" y="2030400"/>
              <a:ext cx="144360" cy="4572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68" h="528">
                  <a:moveTo>
                    <a:pt x="0" y="528"/>
                  </a:moveTo>
                  <a:lnTo>
                    <a:pt x="2" y="122"/>
                  </a:lnTo>
                  <a:lnTo>
                    <a:pt x="162" y="0"/>
                  </a:lnTo>
                  <a:lnTo>
                    <a:pt x="168" y="402"/>
                  </a:lnTo>
                  <a:lnTo>
                    <a:pt x="0" y="528"/>
                  </a:lnTo>
                  <a:close/>
                </a:path>
              </a:pathLst>
            </a:custGeom>
            <a:solidFill>
              <a:srgbClr val="cbb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91"/>
            <p:cNvSpPr/>
            <p:nvPr/>
          </p:nvSpPr>
          <p:spPr>
            <a:xfrm>
              <a:off x="2259000" y="2030400"/>
              <a:ext cx="501480" cy="10620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580" h="122">
                  <a:moveTo>
                    <a:pt x="164" y="6"/>
                  </a:moveTo>
                  <a:lnTo>
                    <a:pt x="0" y="120"/>
                  </a:lnTo>
                  <a:lnTo>
                    <a:pt x="418" y="122"/>
                  </a:lnTo>
                  <a:lnTo>
                    <a:pt x="580" y="0"/>
                  </a:lnTo>
                  <a:lnTo>
                    <a:pt x="164" y="6"/>
                  </a:lnTo>
                  <a:close/>
                </a:path>
              </a:pathLst>
            </a:custGeom>
            <a:solidFill>
              <a:srgbClr val="b28c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92"/>
            <p:cNvSpPr/>
            <p:nvPr/>
          </p:nvSpPr>
          <p:spPr>
            <a:xfrm>
              <a:off x="2070360" y="2282760"/>
              <a:ext cx="361800" cy="35244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418" h="406">
                  <a:moveTo>
                    <a:pt x="418" y="406"/>
                  </a:moveTo>
                  <a:lnTo>
                    <a:pt x="0" y="406"/>
                  </a:lnTo>
                  <a:lnTo>
                    <a:pt x="0" y="0"/>
                  </a:lnTo>
                  <a:lnTo>
                    <a:pt x="418" y="2"/>
                  </a:lnTo>
                  <a:lnTo>
                    <a:pt x="418" y="406"/>
                  </a:lnTo>
                  <a:close/>
                </a:path>
              </a:pathLst>
            </a:custGeom>
            <a:solidFill>
              <a:srgbClr val="bf9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93"/>
            <p:cNvSpPr/>
            <p:nvPr/>
          </p:nvSpPr>
          <p:spPr>
            <a:xfrm>
              <a:off x="2432160" y="2179440"/>
              <a:ext cx="145800" cy="45720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68" h="528">
                  <a:moveTo>
                    <a:pt x="0" y="528"/>
                  </a:moveTo>
                  <a:lnTo>
                    <a:pt x="2" y="122"/>
                  </a:lnTo>
                  <a:lnTo>
                    <a:pt x="162" y="0"/>
                  </a:lnTo>
                  <a:lnTo>
                    <a:pt x="168" y="402"/>
                  </a:lnTo>
                  <a:lnTo>
                    <a:pt x="0" y="528"/>
                  </a:lnTo>
                  <a:close/>
                </a:path>
              </a:pathLst>
            </a:custGeom>
            <a:solidFill>
              <a:srgbClr val="cbb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94"/>
            <p:cNvSpPr/>
            <p:nvPr/>
          </p:nvSpPr>
          <p:spPr>
            <a:xfrm>
              <a:off x="2070360" y="2179440"/>
              <a:ext cx="501480" cy="10476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580" h="122">
                  <a:moveTo>
                    <a:pt x="164" y="6"/>
                  </a:moveTo>
                  <a:lnTo>
                    <a:pt x="0" y="120"/>
                  </a:lnTo>
                  <a:lnTo>
                    <a:pt x="418" y="122"/>
                  </a:lnTo>
                  <a:lnTo>
                    <a:pt x="580" y="0"/>
                  </a:lnTo>
                  <a:lnTo>
                    <a:pt x="164" y="6"/>
                  </a:lnTo>
                  <a:close/>
                </a:path>
              </a:pathLst>
            </a:custGeom>
            <a:solidFill>
              <a:srgbClr val="b28c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95"/>
            <p:cNvSpPr/>
            <p:nvPr/>
          </p:nvSpPr>
          <p:spPr>
            <a:xfrm>
              <a:off x="1868400" y="2442960"/>
              <a:ext cx="361800" cy="35064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418" h="406">
                  <a:moveTo>
                    <a:pt x="418" y="406"/>
                  </a:moveTo>
                  <a:lnTo>
                    <a:pt x="0" y="406"/>
                  </a:lnTo>
                  <a:lnTo>
                    <a:pt x="0" y="0"/>
                  </a:lnTo>
                  <a:lnTo>
                    <a:pt x="418" y="2"/>
                  </a:lnTo>
                  <a:lnTo>
                    <a:pt x="418" y="406"/>
                  </a:lnTo>
                  <a:close/>
                </a:path>
              </a:pathLst>
            </a:custGeom>
            <a:solidFill>
              <a:srgbClr val="bf9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96"/>
            <p:cNvSpPr/>
            <p:nvPr/>
          </p:nvSpPr>
          <p:spPr>
            <a:xfrm>
              <a:off x="2230560" y="2338200"/>
              <a:ext cx="145800" cy="45720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68" h="528">
                  <a:moveTo>
                    <a:pt x="0" y="528"/>
                  </a:moveTo>
                  <a:lnTo>
                    <a:pt x="2" y="122"/>
                  </a:lnTo>
                  <a:lnTo>
                    <a:pt x="162" y="0"/>
                  </a:lnTo>
                  <a:lnTo>
                    <a:pt x="168" y="402"/>
                  </a:lnTo>
                  <a:lnTo>
                    <a:pt x="0" y="528"/>
                  </a:lnTo>
                  <a:close/>
                </a:path>
              </a:pathLst>
            </a:custGeom>
            <a:solidFill>
              <a:srgbClr val="cbb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97"/>
            <p:cNvSpPr/>
            <p:nvPr/>
          </p:nvSpPr>
          <p:spPr>
            <a:xfrm>
              <a:off x="1868400" y="2338200"/>
              <a:ext cx="503280" cy="10620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580" h="122">
                  <a:moveTo>
                    <a:pt x="164" y="6"/>
                  </a:moveTo>
                  <a:lnTo>
                    <a:pt x="0" y="120"/>
                  </a:lnTo>
                  <a:lnTo>
                    <a:pt x="418" y="122"/>
                  </a:lnTo>
                  <a:lnTo>
                    <a:pt x="580" y="0"/>
                  </a:lnTo>
                  <a:lnTo>
                    <a:pt x="164" y="6"/>
                  </a:lnTo>
                  <a:close/>
                </a:path>
              </a:pathLst>
            </a:custGeom>
            <a:solidFill>
              <a:srgbClr val="b28c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98"/>
            <p:cNvSpPr/>
            <p:nvPr/>
          </p:nvSpPr>
          <p:spPr>
            <a:xfrm>
              <a:off x="1641600" y="2609640"/>
              <a:ext cx="361800" cy="35064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418" h="406">
                  <a:moveTo>
                    <a:pt x="418" y="406"/>
                  </a:moveTo>
                  <a:lnTo>
                    <a:pt x="0" y="406"/>
                  </a:lnTo>
                  <a:lnTo>
                    <a:pt x="0" y="0"/>
                  </a:lnTo>
                  <a:lnTo>
                    <a:pt x="418" y="2"/>
                  </a:lnTo>
                  <a:lnTo>
                    <a:pt x="418" y="406"/>
                  </a:lnTo>
                  <a:close/>
                </a:path>
              </a:pathLst>
            </a:custGeom>
            <a:solidFill>
              <a:srgbClr val="bf9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99"/>
            <p:cNvSpPr/>
            <p:nvPr/>
          </p:nvSpPr>
          <p:spPr>
            <a:xfrm>
              <a:off x="2003400" y="2504880"/>
              <a:ext cx="145800" cy="45720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68" h="528">
                  <a:moveTo>
                    <a:pt x="0" y="528"/>
                  </a:moveTo>
                  <a:lnTo>
                    <a:pt x="2" y="122"/>
                  </a:lnTo>
                  <a:lnTo>
                    <a:pt x="162" y="0"/>
                  </a:lnTo>
                  <a:lnTo>
                    <a:pt x="168" y="402"/>
                  </a:lnTo>
                  <a:lnTo>
                    <a:pt x="0" y="528"/>
                  </a:lnTo>
                  <a:close/>
                </a:path>
              </a:pathLst>
            </a:custGeom>
            <a:solidFill>
              <a:srgbClr val="cbb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00"/>
            <p:cNvSpPr/>
            <p:nvPr/>
          </p:nvSpPr>
          <p:spPr>
            <a:xfrm>
              <a:off x="1641600" y="2504880"/>
              <a:ext cx="503280" cy="10620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580" h="122">
                  <a:moveTo>
                    <a:pt x="164" y="6"/>
                  </a:moveTo>
                  <a:lnTo>
                    <a:pt x="0" y="120"/>
                  </a:lnTo>
                  <a:lnTo>
                    <a:pt x="418" y="122"/>
                  </a:lnTo>
                  <a:lnTo>
                    <a:pt x="580" y="0"/>
                  </a:lnTo>
                  <a:lnTo>
                    <a:pt x="164" y="6"/>
                  </a:lnTo>
                  <a:close/>
                </a:path>
              </a:pathLst>
            </a:custGeom>
            <a:solidFill>
              <a:srgbClr val="b28c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301"/>
            <p:cNvSpPr/>
            <p:nvPr/>
          </p:nvSpPr>
          <p:spPr>
            <a:xfrm>
              <a:off x="1640520" y="4099680"/>
              <a:ext cx="360000" cy="32760"/>
            </a:xfrm>
            <a:prstGeom prst="rect">
              <a:avLst/>
            </a:prstGeom>
            <a:solidFill>
              <a:srgbClr val="c1c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02"/>
            <p:cNvSpPr/>
            <p:nvPr/>
          </p:nvSpPr>
          <p:spPr>
            <a:xfrm>
              <a:off x="2000880" y="3517200"/>
              <a:ext cx="763920" cy="615240"/>
            </a:xfrm>
            <a:custGeom>
              <a:avLst/>
              <a:gdLst>
                <a:gd name="textAreaLeft" fmla="*/ 0 w 763920"/>
                <a:gd name="textAreaRight" fmla="*/ 764280 w 763920"/>
                <a:gd name="textAreaTop" fmla="*/ 0 h 615240"/>
                <a:gd name="textAreaBottom" fmla="*/ 615600 h 615240"/>
              </a:gdLst>
              <a:ahLst/>
              <a:rect l="textAreaLeft" t="textAreaTop" r="textAreaRight" b="textAreaBottom"/>
              <a:pathLst>
                <a:path w="882" h="710">
                  <a:moveTo>
                    <a:pt x="882" y="28"/>
                  </a:moveTo>
                  <a:lnTo>
                    <a:pt x="0" y="710"/>
                  </a:lnTo>
                  <a:lnTo>
                    <a:pt x="0" y="672"/>
                  </a:lnTo>
                  <a:lnTo>
                    <a:pt x="882" y="0"/>
                  </a:lnTo>
                  <a:lnTo>
                    <a:pt x="882" y="28"/>
                  </a:lnTo>
                  <a:close/>
                </a:path>
              </a:pathLst>
            </a:custGeom>
            <a:solidFill>
              <a:srgbClr val="a3a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uppe 146"/>
          <p:cNvGrpSpPr/>
          <p:nvPr/>
        </p:nvGrpSpPr>
        <p:grpSpPr>
          <a:xfrm>
            <a:off x="3739680" y="3154320"/>
            <a:ext cx="394200" cy="219240"/>
            <a:chOff x="3739680" y="3154320"/>
            <a:chExt cx="394200" cy="219240"/>
          </a:xfrm>
        </p:grpSpPr>
        <p:sp>
          <p:nvSpPr>
            <p:cNvPr id="116" name="Kombinationstegning 215"/>
            <p:cNvSpPr/>
            <p:nvPr/>
          </p:nvSpPr>
          <p:spPr>
            <a:xfrm>
              <a:off x="3806640" y="3154320"/>
              <a:ext cx="327240" cy="15912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159120"/>
                <a:gd name="textAreaBottom" fmla="*/ 159480 h 159120"/>
              </a:gdLst>
              <a:ahLst/>
              <a:rect l="textAreaLeft" t="textAreaTop" r="textAreaRight" b="textAreaBottom"/>
              <a:pathLst>
                <a:path w="342900" h="167246">
                  <a:moveTo>
                    <a:pt x="262467" y="114300"/>
                  </a:moveTo>
                  <a:lnTo>
                    <a:pt x="342900" y="114300"/>
                  </a:lnTo>
                  <a:lnTo>
                    <a:pt x="321733" y="0"/>
                  </a:lnTo>
                  <a:lnTo>
                    <a:pt x="0" y="110066"/>
                  </a:lnTo>
                  <a:lnTo>
                    <a:pt x="93133" y="114300"/>
                  </a:lnTo>
                  <a:lnTo>
                    <a:pt x="10554" y="167246"/>
                  </a:lnTo>
                  <a:lnTo>
                    <a:pt x="198967" y="165100"/>
                  </a:lnTo>
                  <a:lnTo>
                    <a:pt x="262467" y="114300"/>
                  </a:lnTo>
                  <a:close/>
                </a:path>
              </a:pathLst>
            </a:custGeom>
            <a:gradFill rotWithShape="0">
              <a:gsLst>
                <a:gs pos="0">
                  <a:srgbClr val="a4d329"/>
                </a:gs>
                <a:gs pos="100000">
                  <a:srgbClr val="c0ff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01"/>
            <p:cNvSpPr/>
            <p:nvPr/>
          </p:nvSpPr>
          <p:spPr>
            <a:xfrm rot="10800000">
              <a:off x="3779280" y="3318120"/>
              <a:ext cx="212760" cy="2376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336" h="42">
                  <a:moveTo>
                    <a:pt x="0" y="42"/>
                  </a:moveTo>
                  <a:lnTo>
                    <a:pt x="284" y="42"/>
                  </a:lnTo>
                  <a:lnTo>
                    <a:pt x="336" y="0"/>
                  </a:lnTo>
                  <a:lnTo>
                    <a:pt x="56" y="0"/>
                  </a:lnTo>
                  <a:lnTo>
                    <a:pt x="0" y="42"/>
                  </a:lnTo>
                  <a:close/>
                </a:path>
              </a:pathLst>
            </a:custGeom>
            <a:gradFill rotWithShape="0">
              <a:gsLst>
                <a:gs pos="0">
                  <a:srgbClr val="c0ff4d"/>
                </a:gs>
                <a:gs pos="100000">
                  <a:srgbClr val="a4d329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01"/>
            <p:cNvSpPr/>
            <p:nvPr/>
          </p:nvSpPr>
          <p:spPr>
            <a:xfrm rot="10800000">
              <a:off x="3739680" y="3349800"/>
              <a:ext cx="212760" cy="2376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336" h="42">
                  <a:moveTo>
                    <a:pt x="0" y="42"/>
                  </a:moveTo>
                  <a:lnTo>
                    <a:pt x="284" y="42"/>
                  </a:lnTo>
                  <a:lnTo>
                    <a:pt x="336" y="0"/>
                  </a:lnTo>
                  <a:lnTo>
                    <a:pt x="56" y="0"/>
                  </a:lnTo>
                  <a:lnTo>
                    <a:pt x="0" y="42"/>
                  </a:lnTo>
                  <a:close/>
                </a:path>
              </a:pathLst>
            </a:custGeom>
            <a:gradFill rotWithShape="0">
              <a:gsLst>
                <a:gs pos="0">
                  <a:srgbClr val="c0ff4d"/>
                </a:gs>
                <a:gs pos="100000">
                  <a:srgbClr val="a4d329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" name="Gruppe 130" descr=""/>
          <p:cNvPicPr/>
          <p:nvPr/>
        </p:nvPicPr>
        <p:blipFill>
          <a:blip r:embed="rId2"/>
          <a:stretch/>
        </p:blipFill>
        <p:spPr>
          <a:xfrm>
            <a:off x="3376440" y="2266920"/>
            <a:ext cx="2597400" cy="873000"/>
          </a:xfrm>
          <a:prstGeom prst="rect">
            <a:avLst/>
          </a:prstGeom>
          <a:ln w="0">
            <a:noFill/>
          </a:ln>
        </p:spPr>
      </p:pic>
      <p:pic>
        <p:nvPicPr>
          <p:cNvPr id="120" name="Gruppe 130" descr=""/>
          <p:cNvPicPr/>
          <p:nvPr/>
        </p:nvPicPr>
        <p:blipFill>
          <a:blip r:embed="rId3"/>
          <a:stretch/>
        </p:blipFill>
        <p:spPr>
          <a:xfrm>
            <a:off x="2073240" y="3432240"/>
            <a:ext cx="2595600" cy="871560"/>
          </a:xfrm>
          <a:prstGeom prst="rect">
            <a:avLst/>
          </a:prstGeom>
          <a:ln w="0">
            <a:noFill/>
          </a:ln>
        </p:spPr>
      </p:pic>
      <p:pic>
        <p:nvPicPr>
          <p:cNvPr id="121" name="Gruppe 135" descr=""/>
          <p:cNvPicPr/>
          <p:nvPr/>
        </p:nvPicPr>
        <p:blipFill>
          <a:blip r:embed="rId4"/>
          <a:stretch/>
        </p:blipFill>
        <p:spPr>
          <a:xfrm>
            <a:off x="573120" y="4602240"/>
            <a:ext cx="2603520" cy="8715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uppe 146"/>
          <p:cNvGrpSpPr/>
          <p:nvPr/>
        </p:nvGrpSpPr>
        <p:grpSpPr>
          <a:xfrm>
            <a:off x="2433240" y="4330800"/>
            <a:ext cx="394200" cy="218880"/>
            <a:chOff x="2433240" y="4330800"/>
            <a:chExt cx="394200" cy="218880"/>
          </a:xfrm>
        </p:grpSpPr>
        <p:sp>
          <p:nvSpPr>
            <p:cNvPr id="123" name="Kombinationstegning 143"/>
            <p:cNvSpPr/>
            <p:nvPr/>
          </p:nvSpPr>
          <p:spPr>
            <a:xfrm>
              <a:off x="2500200" y="4330800"/>
              <a:ext cx="327240" cy="15876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342900" h="167246">
                  <a:moveTo>
                    <a:pt x="262467" y="114300"/>
                  </a:moveTo>
                  <a:lnTo>
                    <a:pt x="342900" y="114300"/>
                  </a:lnTo>
                  <a:lnTo>
                    <a:pt x="321733" y="0"/>
                  </a:lnTo>
                  <a:lnTo>
                    <a:pt x="0" y="110066"/>
                  </a:lnTo>
                  <a:lnTo>
                    <a:pt x="93133" y="114300"/>
                  </a:lnTo>
                  <a:lnTo>
                    <a:pt x="10554" y="167246"/>
                  </a:lnTo>
                  <a:lnTo>
                    <a:pt x="198967" y="165100"/>
                  </a:lnTo>
                  <a:lnTo>
                    <a:pt x="262467" y="114300"/>
                  </a:lnTo>
                  <a:close/>
                </a:path>
              </a:pathLst>
            </a:custGeom>
            <a:gradFill rotWithShape="0">
              <a:gsLst>
                <a:gs pos="0">
                  <a:srgbClr val="a4d329"/>
                </a:gs>
                <a:gs pos="100000">
                  <a:srgbClr val="c0ff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1"/>
            <p:cNvSpPr/>
            <p:nvPr/>
          </p:nvSpPr>
          <p:spPr>
            <a:xfrm rot="10800000">
              <a:off x="2472840" y="4494240"/>
              <a:ext cx="212760" cy="2376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336" h="42">
                  <a:moveTo>
                    <a:pt x="0" y="42"/>
                  </a:moveTo>
                  <a:lnTo>
                    <a:pt x="284" y="42"/>
                  </a:lnTo>
                  <a:lnTo>
                    <a:pt x="336" y="0"/>
                  </a:lnTo>
                  <a:lnTo>
                    <a:pt x="56" y="0"/>
                  </a:lnTo>
                  <a:lnTo>
                    <a:pt x="0" y="42"/>
                  </a:lnTo>
                  <a:close/>
                </a:path>
              </a:pathLst>
            </a:custGeom>
            <a:gradFill rotWithShape="0">
              <a:gsLst>
                <a:gs pos="0">
                  <a:srgbClr val="c0ff4d"/>
                </a:gs>
                <a:gs pos="100000">
                  <a:srgbClr val="a4d329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01"/>
            <p:cNvSpPr/>
            <p:nvPr/>
          </p:nvSpPr>
          <p:spPr>
            <a:xfrm rot="10800000">
              <a:off x="2433240" y="4525920"/>
              <a:ext cx="212760" cy="2376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336" h="42">
                  <a:moveTo>
                    <a:pt x="0" y="42"/>
                  </a:moveTo>
                  <a:lnTo>
                    <a:pt x="284" y="42"/>
                  </a:lnTo>
                  <a:lnTo>
                    <a:pt x="336" y="0"/>
                  </a:lnTo>
                  <a:lnTo>
                    <a:pt x="56" y="0"/>
                  </a:lnTo>
                  <a:lnTo>
                    <a:pt x="0" y="42"/>
                  </a:lnTo>
                  <a:close/>
                </a:path>
              </a:pathLst>
            </a:custGeom>
            <a:gradFill rotWithShape="0">
              <a:gsLst>
                <a:gs pos="0">
                  <a:srgbClr val="c0ff4d"/>
                </a:gs>
                <a:gs pos="100000">
                  <a:srgbClr val="a4d329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uppe 152"/>
          <p:cNvGrpSpPr/>
          <p:nvPr/>
        </p:nvGrpSpPr>
        <p:grpSpPr>
          <a:xfrm>
            <a:off x="5648400" y="2676600"/>
            <a:ext cx="460440" cy="163440"/>
            <a:chOff x="5648400" y="2676600"/>
            <a:chExt cx="460440" cy="163440"/>
          </a:xfrm>
        </p:grpSpPr>
        <p:sp>
          <p:nvSpPr>
            <p:cNvPr id="127" name="Freeform 175"/>
            <p:cNvSpPr/>
            <p:nvPr/>
          </p:nvSpPr>
          <p:spPr>
            <a:xfrm>
              <a:off x="5767560" y="2676600"/>
              <a:ext cx="341280" cy="163440"/>
            </a:xfrm>
            <a:custGeom>
              <a:avLst/>
              <a:gdLst>
                <a:gd name="textAreaLeft" fmla="*/ 0 w 341280"/>
                <a:gd name="textAreaRight" fmla="*/ 341640 w 34128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572" h="276">
                  <a:moveTo>
                    <a:pt x="572" y="108"/>
                  </a:moveTo>
                  <a:lnTo>
                    <a:pt x="512" y="0"/>
                  </a:lnTo>
                  <a:lnTo>
                    <a:pt x="434" y="54"/>
                  </a:lnTo>
                  <a:lnTo>
                    <a:pt x="168" y="54"/>
                  </a:lnTo>
                  <a:lnTo>
                    <a:pt x="0" y="180"/>
                  </a:lnTo>
                  <a:lnTo>
                    <a:pt x="272" y="180"/>
                  </a:lnTo>
                  <a:lnTo>
                    <a:pt x="146" y="276"/>
                  </a:lnTo>
                  <a:lnTo>
                    <a:pt x="572" y="108"/>
                  </a:lnTo>
                  <a:close/>
                </a:path>
              </a:pathLst>
            </a:custGeom>
            <a:gradFill rotWithShape="0">
              <a:gsLst>
                <a:gs pos="0">
                  <a:srgbClr val="a4d329"/>
                </a:gs>
                <a:gs pos="100000">
                  <a:srgbClr val="c0ff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76"/>
            <p:cNvSpPr/>
            <p:nvPr/>
          </p:nvSpPr>
          <p:spPr>
            <a:xfrm>
              <a:off x="5707080" y="2708280"/>
              <a:ext cx="147600" cy="745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48" h="126">
                  <a:moveTo>
                    <a:pt x="170" y="0"/>
                  </a:moveTo>
                  <a:lnTo>
                    <a:pt x="0" y="126"/>
                  </a:lnTo>
                  <a:lnTo>
                    <a:pt x="80" y="126"/>
                  </a:lnTo>
                  <a:lnTo>
                    <a:pt x="248" y="0"/>
                  </a:lnTo>
                  <a:lnTo>
                    <a:pt x="170" y="0"/>
                  </a:lnTo>
                  <a:close/>
                </a:path>
              </a:pathLst>
            </a:custGeom>
            <a:gradFill rotWithShape="0">
              <a:gsLst>
                <a:gs pos="0">
                  <a:srgbClr val="a4d329"/>
                </a:gs>
                <a:gs pos="100000">
                  <a:srgbClr val="c0ff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77"/>
            <p:cNvSpPr/>
            <p:nvPr/>
          </p:nvSpPr>
          <p:spPr>
            <a:xfrm>
              <a:off x="5648400" y="2708280"/>
              <a:ext cx="147600" cy="763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48" h="128">
                  <a:moveTo>
                    <a:pt x="170" y="0"/>
                  </a:moveTo>
                  <a:lnTo>
                    <a:pt x="0" y="128"/>
                  </a:lnTo>
                  <a:lnTo>
                    <a:pt x="78" y="128"/>
                  </a:lnTo>
                  <a:lnTo>
                    <a:pt x="248" y="0"/>
                  </a:lnTo>
                  <a:lnTo>
                    <a:pt x="170" y="0"/>
                  </a:lnTo>
                  <a:close/>
                </a:path>
              </a:pathLst>
            </a:custGeom>
            <a:gradFill rotWithShape="0">
              <a:gsLst>
                <a:gs pos="0">
                  <a:srgbClr val="a4d329"/>
                </a:gs>
                <a:gs pos="100000">
                  <a:srgbClr val="c0ff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" name="Gruppe 157" descr=""/>
          <p:cNvPicPr/>
          <p:nvPr/>
        </p:nvPicPr>
        <p:blipFill>
          <a:blip r:embed="rId5"/>
          <a:stretch/>
        </p:blipFill>
        <p:spPr>
          <a:xfrm>
            <a:off x="6022800" y="2266920"/>
            <a:ext cx="2597400" cy="873000"/>
          </a:xfrm>
          <a:prstGeom prst="rect">
            <a:avLst/>
          </a:prstGeom>
          <a:ln w="0">
            <a:noFill/>
          </a:ln>
        </p:spPr>
      </p:pic>
      <p:grpSp>
        <p:nvGrpSpPr>
          <p:cNvPr id="131" name="Gruppe 147"/>
          <p:cNvGrpSpPr/>
          <p:nvPr/>
        </p:nvGrpSpPr>
        <p:grpSpPr>
          <a:xfrm>
            <a:off x="2862360" y="2592360"/>
            <a:ext cx="1111320" cy="1236600"/>
            <a:chOff x="2862360" y="2592360"/>
            <a:chExt cx="1111320" cy="1236600"/>
          </a:xfrm>
        </p:grpSpPr>
        <p:grpSp>
          <p:nvGrpSpPr>
            <p:cNvPr id="132" name="Group 5"/>
            <p:cNvGrpSpPr/>
            <p:nvPr/>
          </p:nvGrpSpPr>
          <p:grpSpPr>
            <a:xfrm>
              <a:off x="2862360" y="2592360"/>
              <a:ext cx="1110600" cy="1236600"/>
              <a:chOff x="2862360" y="2592360"/>
              <a:chExt cx="1110600" cy="1236600"/>
            </a:xfrm>
          </p:grpSpPr>
          <p:sp>
            <p:nvSpPr>
              <p:cNvPr id="133" name="AutoShape 4"/>
              <p:cNvSpPr/>
              <p:nvPr/>
            </p:nvSpPr>
            <p:spPr>
              <a:xfrm>
                <a:off x="2862360" y="2592360"/>
                <a:ext cx="1110600" cy="12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6"/>
              <p:cNvSpPr/>
              <p:nvPr/>
            </p:nvSpPr>
            <p:spPr>
              <a:xfrm>
                <a:off x="3211200" y="3080880"/>
                <a:ext cx="12960" cy="14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58" h="6">
                    <a:moveTo>
                      <a:pt x="0" y="6"/>
                    </a:moveTo>
                    <a:lnTo>
                      <a:pt x="58" y="6"/>
                    </a:lnTo>
                    <a:lnTo>
                      <a:pt x="12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101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7"/>
              <p:cNvSpPr/>
              <p:nvPr/>
            </p:nvSpPr>
            <p:spPr>
              <a:xfrm>
                <a:off x="3320280" y="29552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101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8"/>
              <p:cNvSpPr/>
              <p:nvPr/>
            </p:nvSpPr>
            <p:spPr>
              <a:xfrm>
                <a:off x="3317040" y="2958120"/>
                <a:ext cx="1800" cy="36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14">
                    <a:moveTo>
                      <a:pt x="8" y="0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2" y="8"/>
                    </a:lnTo>
                    <a:lnTo>
                      <a:pt x="0" y="14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101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9"/>
              <p:cNvSpPr/>
              <p:nvPr/>
            </p:nvSpPr>
            <p:spPr>
              <a:xfrm>
                <a:off x="3317040" y="2958120"/>
                <a:ext cx="1800" cy="36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8" h="14">
                    <a:moveTo>
                      <a:pt x="8" y="0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2" y="8"/>
                    </a:lnTo>
                    <a:lnTo>
                      <a:pt x="0" y="1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0"/>
              <p:cNvSpPr/>
              <p:nvPr/>
            </p:nvSpPr>
            <p:spPr>
              <a:xfrm>
                <a:off x="3340440" y="29916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101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11"/>
              <p:cNvSpPr/>
              <p:nvPr/>
            </p:nvSpPr>
            <p:spPr>
              <a:xfrm>
                <a:off x="3340440" y="29916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12"/>
              <p:cNvSpPr/>
              <p:nvPr/>
            </p:nvSpPr>
            <p:spPr>
              <a:xfrm>
                <a:off x="3351960" y="2986200"/>
                <a:ext cx="2880" cy="3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4" h="2">
                    <a:moveTo>
                      <a:pt x="14" y="0"/>
                    </a:moveTo>
                    <a:lnTo>
                      <a:pt x="14" y="0"/>
                    </a:lnTo>
                    <a:lnTo>
                      <a:pt x="0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101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3"/>
              <p:cNvSpPr/>
              <p:nvPr/>
            </p:nvSpPr>
            <p:spPr>
              <a:xfrm>
                <a:off x="3351960" y="2986200"/>
                <a:ext cx="2880" cy="3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4" h="2">
                    <a:moveTo>
                      <a:pt x="14" y="0"/>
                    </a:moveTo>
                    <a:lnTo>
                      <a:pt x="14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4"/>
              <p:cNvSpPr/>
              <p:nvPr/>
            </p:nvSpPr>
            <p:spPr>
              <a:xfrm>
                <a:off x="3279240" y="2957760"/>
                <a:ext cx="53640" cy="874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236" h="340">
                    <a:moveTo>
                      <a:pt x="54" y="330"/>
                    </a:moveTo>
                    <a:lnTo>
                      <a:pt x="54" y="330"/>
                    </a:lnTo>
                    <a:lnTo>
                      <a:pt x="52" y="334"/>
                    </a:lnTo>
                    <a:lnTo>
                      <a:pt x="48" y="336"/>
                    </a:lnTo>
                    <a:lnTo>
                      <a:pt x="38" y="340"/>
                    </a:lnTo>
                    <a:lnTo>
                      <a:pt x="28" y="338"/>
                    </a:lnTo>
                    <a:lnTo>
                      <a:pt x="16" y="334"/>
                    </a:lnTo>
                    <a:lnTo>
                      <a:pt x="8" y="326"/>
                    </a:lnTo>
                    <a:lnTo>
                      <a:pt x="2" y="316"/>
                    </a:lnTo>
                    <a:lnTo>
                      <a:pt x="0" y="306"/>
                    </a:lnTo>
                    <a:lnTo>
                      <a:pt x="0" y="302"/>
                    </a:lnTo>
                    <a:lnTo>
                      <a:pt x="2" y="298"/>
                    </a:lnTo>
                    <a:lnTo>
                      <a:pt x="180" y="8"/>
                    </a:lnTo>
                    <a:lnTo>
                      <a:pt x="184" y="4"/>
                    </a:lnTo>
                    <a:lnTo>
                      <a:pt x="188" y="2"/>
                    </a:lnTo>
                    <a:lnTo>
                      <a:pt x="196" y="0"/>
                    </a:lnTo>
                    <a:lnTo>
                      <a:pt x="208" y="0"/>
                    </a:lnTo>
                    <a:lnTo>
                      <a:pt x="218" y="4"/>
                    </a:lnTo>
                    <a:lnTo>
                      <a:pt x="228" y="12"/>
                    </a:lnTo>
                    <a:lnTo>
                      <a:pt x="234" y="22"/>
                    </a:lnTo>
                    <a:lnTo>
                      <a:pt x="236" y="32"/>
                    </a:lnTo>
                    <a:lnTo>
                      <a:pt x="236" y="36"/>
                    </a:lnTo>
                    <a:lnTo>
                      <a:pt x="234" y="40"/>
                    </a:lnTo>
                    <a:lnTo>
                      <a:pt x="54" y="330"/>
                    </a:lnTo>
                    <a:close/>
                  </a:path>
                </a:pathLst>
              </a:custGeom>
              <a:solidFill>
                <a:srgbClr val="0101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5"/>
              <p:cNvSpPr/>
              <p:nvPr/>
            </p:nvSpPr>
            <p:spPr>
              <a:xfrm>
                <a:off x="2990160" y="2747880"/>
                <a:ext cx="390600" cy="62424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624240"/>
                  <a:gd name="textAreaBottom" fmla="*/ 624600 h 624240"/>
                </a:gdLst>
                <a:ahLst/>
                <a:rect l="textAreaLeft" t="textAreaTop" r="textAreaRight" b="textAreaBottom"/>
                <a:pathLst>
                  <a:path w="1716" h="2422">
                    <a:moveTo>
                      <a:pt x="1714" y="2282"/>
                    </a:moveTo>
                    <a:lnTo>
                      <a:pt x="1714" y="2282"/>
                    </a:lnTo>
                    <a:lnTo>
                      <a:pt x="1706" y="2254"/>
                    </a:lnTo>
                    <a:lnTo>
                      <a:pt x="1648" y="2258"/>
                    </a:lnTo>
                    <a:lnTo>
                      <a:pt x="1638" y="2262"/>
                    </a:lnTo>
                    <a:lnTo>
                      <a:pt x="1628" y="2266"/>
                    </a:lnTo>
                    <a:lnTo>
                      <a:pt x="1618" y="2272"/>
                    </a:lnTo>
                    <a:lnTo>
                      <a:pt x="1612" y="2274"/>
                    </a:lnTo>
                    <a:lnTo>
                      <a:pt x="1608" y="2274"/>
                    </a:lnTo>
                    <a:lnTo>
                      <a:pt x="1596" y="2266"/>
                    </a:lnTo>
                    <a:lnTo>
                      <a:pt x="1588" y="2258"/>
                    </a:lnTo>
                    <a:lnTo>
                      <a:pt x="1572" y="2236"/>
                    </a:lnTo>
                    <a:lnTo>
                      <a:pt x="1548" y="2206"/>
                    </a:lnTo>
                    <a:lnTo>
                      <a:pt x="1542" y="2196"/>
                    </a:lnTo>
                    <a:lnTo>
                      <a:pt x="1540" y="2194"/>
                    </a:lnTo>
                    <a:lnTo>
                      <a:pt x="1542" y="2194"/>
                    </a:lnTo>
                    <a:lnTo>
                      <a:pt x="1554" y="2186"/>
                    </a:lnTo>
                    <a:lnTo>
                      <a:pt x="1560" y="2180"/>
                    </a:lnTo>
                    <a:lnTo>
                      <a:pt x="1560" y="2178"/>
                    </a:lnTo>
                    <a:lnTo>
                      <a:pt x="1546" y="2148"/>
                    </a:lnTo>
                    <a:lnTo>
                      <a:pt x="1534" y="2122"/>
                    </a:lnTo>
                    <a:lnTo>
                      <a:pt x="1470" y="2002"/>
                    </a:lnTo>
                    <a:lnTo>
                      <a:pt x="1422" y="1912"/>
                    </a:lnTo>
                    <a:lnTo>
                      <a:pt x="1398" y="1866"/>
                    </a:lnTo>
                    <a:lnTo>
                      <a:pt x="1374" y="1822"/>
                    </a:lnTo>
                    <a:lnTo>
                      <a:pt x="1352" y="1772"/>
                    </a:lnTo>
                    <a:lnTo>
                      <a:pt x="1328" y="1720"/>
                    </a:lnTo>
                    <a:lnTo>
                      <a:pt x="1292" y="1640"/>
                    </a:lnTo>
                    <a:lnTo>
                      <a:pt x="1240" y="1518"/>
                    </a:lnTo>
                    <a:lnTo>
                      <a:pt x="1238" y="1512"/>
                    </a:lnTo>
                    <a:lnTo>
                      <a:pt x="1236" y="1506"/>
                    </a:lnTo>
                    <a:lnTo>
                      <a:pt x="1236" y="1482"/>
                    </a:lnTo>
                    <a:lnTo>
                      <a:pt x="1236" y="1446"/>
                    </a:lnTo>
                    <a:lnTo>
                      <a:pt x="1234" y="1440"/>
                    </a:lnTo>
                    <a:lnTo>
                      <a:pt x="1230" y="1432"/>
                    </a:lnTo>
                    <a:lnTo>
                      <a:pt x="1206" y="1382"/>
                    </a:lnTo>
                    <a:lnTo>
                      <a:pt x="1198" y="1366"/>
                    </a:lnTo>
                    <a:lnTo>
                      <a:pt x="1196" y="1362"/>
                    </a:lnTo>
                    <a:lnTo>
                      <a:pt x="1194" y="1358"/>
                    </a:lnTo>
                    <a:lnTo>
                      <a:pt x="1170" y="1338"/>
                    </a:lnTo>
                    <a:lnTo>
                      <a:pt x="1166" y="1336"/>
                    </a:lnTo>
                    <a:lnTo>
                      <a:pt x="1160" y="1334"/>
                    </a:lnTo>
                    <a:lnTo>
                      <a:pt x="1150" y="1332"/>
                    </a:lnTo>
                    <a:lnTo>
                      <a:pt x="1124" y="1326"/>
                    </a:lnTo>
                    <a:lnTo>
                      <a:pt x="1070" y="1310"/>
                    </a:lnTo>
                    <a:lnTo>
                      <a:pt x="1038" y="1302"/>
                    </a:lnTo>
                    <a:lnTo>
                      <a:pt x="1032" y="1300"/>
                    </a:lnTo>
                    <a:lnTo>
                      <a:pt x="1026" y="1298"/>
                    </a:lnTo>
                    <a:lnTo>
                      <a:pt x="970" y="1298"/>
                    </a:lnTo>
                    <a:lnTo>
                      <a:pt x="982" y="1292"/>
                    </a:lnTo>
                    <a:lnTo>
                      <a:pt x="924" y="1282"/>
                    </a:lnTo>
                    <a:lnTo>
                      <a:pt x="916" y="1282"/>
                    </a:lnTo>
                    <a:lnTo>
                      <a:pt x="908" y="1280"/>
                    </a:lnTo>
                    <a:lnTo>
                      <a:pt x="888" y="1270"/>
                    </a:lnTo>
                    <a:lnTo>
                      <a:pt x="826" y="1234"/>
                    </a:lnTo>
                    <a:lnTo>
                      <a:pt x="820" y="1232"/>
                    </a:lnTo>
                    <a:lnTo>
                      <a:pt x="814" y="1232"/>
                    </a:lnTo>
                    <a:lnTo>
                      <a:pt x="780" y="1234"/>
                    </a:lnTo>
                    <a:lnTo>
                      <a:pt x="752" y="1236"/>
                    </a:lnTo>
                    <a:lnTo>
                      <a:pt x="726" y="1234"/>
                    </a:lnTo>
                    <a:lnTo>
                      <a:pt x="702" y="1234"/>
                    </a:lnTo>
                    <a:lnTo>
                      <a:pt x="678" y="1230"/>
                    </a:lnTo>
                    <a:lnTo>
                      <a:pt x="646" y="1224"/>
                    </a:lnTo>
                    <a:lnTo>
                      <a:pt x="642" y="1222"/>
                    </a:lnTo>
                    <a:lnTo>
                      <a:pt x="636" y="1220"/>
                    </a:lnTo>
                    <a:lnTo>
                      <a:pt x="628" y="1212"/>
                    </a:lnTo>
                    <a:lnTo>
                      <a:pt x="608" y="1194"/>
                    </a:lnTo>
                    <a:lnTo>
                      <a:pt x="590" y="1176"/>
                    </a:lnTo>
                    <a:lnTo>
                      <a:pt x="590" y="1170"/>
                    </a:lnTo>
                    <a:lnTo>
                      <a:pt x="590" y="1152"/>
                    </a:lnTo>
                    <a:lnTo>
                      <a:pt x="590" y="1122"/>
                    </a:lnTo>
                    <a:lnTo>
                      <a:pt x="588" y="1118"/>
                    </a:lnTo>
                    <a:lnTo>
                      <a:pt x="576" y="1104"/>
                    </a:lnTo>
                    <a:lnTo>
                      <a:pt x="558" y="1080"/>
                    </a:lnTo>
                    <a:lnTo>
                      <a:pt x="558" y="1078"/>
                    </a:lnTo>
                    <a:lnTo>
                      <a:pt x="560" y="1072"/>
                    </a:lnTo>
                    <a:lnTo>
                      <a:pt x="562" y="1064"/>
                    </a:lnTo>
                    <a:lnTo>
                      <a:pt x="568" y="1026"/>
                    </a:lnTo>
                    <a:lnTo>
                      <a:pt x="572" y="1006"/>
                    </a:lnTo>
                    <a:lnTo>
                      <a:pt x="574" y="988"/>
                    </a:lnTo>
                    <a:lnTo>
                      <a:pt x="574" y="932"/>
                    </a:lnTo>
                    <a:lnTo>
                      <a:pt x="606" y="950"/>
                    </a:lnTo>
                    <a:lnTo>
                      <a:pt x="668" y="990"/>
                    </a:lnTo>
                    <a:lnTo>
                      <a:pt x="702" y="1012"/>
                    </a:lnTo>
                    <a:lnTo>
                      <a:pt x="714" y="1018"/>
                    </a:lnTo>
                    <a:lnTo>
                      <a:pt x="720" y="1022"/>
                    </a:lnTo>
                    <a:lnTo>
                      <a:pt x="724" y="1020"/>
                    </a:lnTo>
                    <a:lnTo>
                      <a:pt x="726" y="1014"/>
                    </a:lnTo>
                    <a:lnTo>
                      <a:pt x="730" y="998"/>
                    </a:lnTo>
                    <a:lnTo>
                      <a:pt x="738" y="980"/>
                    </a:lnTo>
                    <a:lnTo>
                      <a:pt x="742" y="972"/>
                    </a:lnTo>
                    <a:lnTo>
                      <a:pt x="750" y="966"/>
                    </a:lnTo>
                    <a:lnTo>
                      <a:pt x="754" y="964"/>
                    </a:lnTo>
                    <a:lnTo>
                      <a:pt x="758" y="964"/>
                    </a:lnTo>
                    <a:lnTo>
                      <a:pt x="770" y="968"/>
                    </a:lnTo>
                    <a:lnTo>
                      <a:pt x="786" y="974"/>
                    </a:lnTo>
                    <a:lnTo>
                      <a:pt x="804" y="982"/>
                    </a:lnTo>
                    <a:lnTo>
                      <a:pt x="862" y="998"/>
                    </a:lnTo>
                    <a:lnTo>
                      <a:pt x="918" y="1012"/>
                    </a:lnTo>
                    <a:lnTo>
                      <a:pt x="980" y="1024"/>
                    </a:lnTo>
                    <a:lnTo>
                      <a:pt x="1050" y="1032"/>
                    </a:lnTo>
                    <a:lnTo>
                      <a:pt x="1146" y="1042"/>
                    </a:lnTo>
                    <a:lnTo>
                      <a:pt x="1184" y="1046"/>
                    </a:lnTo>
                    <a:lnTo>
                      <a:pt x="1212" y="1050"/>
                    </a:lnTo>
                    <a:lnTo>
                      <a:pt x="1234" y="1054"/>
                    </a:lnTo>
                    <a:lnTo>
                      <a:pt x="1244" y="1058"/>
                    </a:lnTo>
                    <a:lnTo>
                      <a:pt x="1254" y="1058"/>
                    </a:lnTo>
                    <a:lnTo>
                      <a:pt x="1274" y="1062"/>
                    </a:lnTo>
                    <a:lnTo>
                      <a:pt x="1282" y="1060"/>
                    </a:lnTo>
                    <a:lnTo>
                      <a:pt x="1294" y="1056"/>
                    </a:lnTo>
                    <a:lnTo>
                      <a:pt x="1328" y="1042"/>
                    </a:lnTo>
                    <a:lnTo>
                      <a:pt x="1388" y="1012"/>
                    </a:lnTo>
                    <a:lnTo>
                      <a:pt x="1402" y="994"/>
                    </a:lnTo>
                    <a:lnTo>
                      <a:pt x="1418" y="980"/>
                    </a:lnTo>
                    <a:lnTo>
                      <a:pt x="1418" y="978"/>
                    </a:lnTo>
                    <a:lnTo>
                      <a:pt x="1432" y="970"/>
                    </a:lnTo>
                    <a:lnTo>
                      <a:pt x="1446" y="966"/>
                    </a:lnTo>
                    <a:lnTo>
                      <a:pt x="1466" y="958"/>
                    </a:lnTo>
                    <a:lnTo>
                      <a:pt x="1480" y="956"/>
                    </a:lnTo>
                    <a:lnTo>
                      <a:pt x="1482" y="954"/>
                    </a:lnTo>
                    <a:lnTo>
                      <a:pt x="1498" y="950"/>
                    </a:lnTo>
                    <a:lnTo>
                      <a:pt x="1506" y="950"/>
                    </a:lnTo>
                    <a:lnTo>
                      <a:pt x="1524" y="960"/>
                    </a:lnTo>
                    <a:lnTo>
                      <a:pt x="1530" y="966"/>
                    </a:lnTo>
                    <a:lnTo>
                      <a:pt x="1538" y="968"/>
                    </a:lnTo>
                    <a:lnTo>
                      <a:pt x="1550" y="968"/>
                    </a:lnTo>
                    <a:lnTo>
                      <a:pt x="1558" y="966"/>
                    </a:lnTo>
                    <a:lnTo>
                      <a:pt x="1560" y="962"/>
                    </a:lnTo>
                    <a:lnTo>
                      <a:pt x="1560" y="956"/>
                    </a:lnTo>
                    <a:lnTo>
                      <a:pt x="1558" y="952"/>
                    </a:lnTo>
                    <a:lnTo>
                      <a:pt x="1546" y="944"/>
                    </a:lnTo>
                    <a:lnTo>
                      <a:pt x="1536" y="938"/>
                    </a:lnTo>
                    <a:lnTo>
                      <a:pt x="1530" y="934"/>
                    </a:lnTo>
                    <a:lnTo>
                      <a:pt x="1538" y="932"/>
                    </a:lnTo>
                    <a:lnTo>
                      <a:pt x="1546" y="930"/>
                    </a:lnTo>
                    <a:lnTo>
                      <a:pt x="1552" y="928"/>
                    </a:lnTo>
                    <a:lnTo>
                      <a:pt x="1554" y="926"/>
                    </a:lnTo>
                    <a:lnTo>
                      <a:pt x="1554" y="922"/>
                    </a:lnTo>
                    <a:lnTo>
                      <a:pt x="1552" y="916"/>
                    </a:lnTo>
                    <a:lnTo>
                      <a:pt x="1548" y="912"/>
                    </a:lnTo>
                    <a:lnTo>
                      <a:pt x="1544" y="910"/>
                    </a:lnTo>
                    <a:lnTo>
                      <a:pt x="1540" y="910"/>
                    </a:lnTo>
                    <a:lnTo>
                      <a:pt x="1536" y="910"/>
                    </a:lnTo>
                    <a:lnTo>
                      <a:pt x="1530" y="910"/>
                    </a:lnTo>
                    <a:lnTo>
                      <a:pt x="1528" y="910"/>
                    </a:lnTo>
                    <a:lnTo>
                      <a:pt x="1518" y="908"/>
                    </a:lnTo>
                    <a:lnTo>
                      <a:pt x="1508" y="906"/>
                    </a:lnTo>
                    <a:lnTo>
                      <a:pt x="1496" y="902"/>
                    </a:lnTo>
                    <a:lnTo>
                      <a:pt x="1486" y="900"/>
                    </a:lnTo>
                    <a:lnTo>
                      <a:pt x="1478" y="902"/>
                    </a:lnTo>
                    <a:lnTo>
                      <a:pt x="1464" y="902"/>
                    </a:lnTo>
                    <a:lnTo>
                      <a:pt x="1454" y="900"/>
                    </a:lnTo>
                    <a:lnTo>
                      <a:pt x="1444" y="900"/>
                    </a:lnTo>
                    <a:lnTo>
                      <a:pt x="1434" y="898"/>
                    </a:lnTo>
                    <a:lnTo>
                      <a:pt x="1426" y="902"/>
                    </a:lnTo>
                    <a:lnTo>
                      <a:pt x="1416" y="906"/>
                    </a:lnTo>
                    <a:lnTo>
                      <a:pt x="1406" y="910"/>
                    </a:lnTo>
                    <a:lnTo>
                      <a:pt x="1396" y="912"/>
                    </a:lnTo>
                    <a:lnTo>
                      <a:pt x="1394" y="912"/>
                    </a:lnTo>
                    <a:lnTo>
                      <a:pt x="1404" y="898"/>
                    </a:lnTo>
                    <a:lnTo>
                      <a:pt x="1412" y="886"/>
                    </a:lnTo>
                    <a:lnTo>
                      <a:pt x="1414" y="880"/>
                    </a:lnTo>
                    <a:lnTo>
                      <a:pt x="1418" y="872"/>
                    </a:lnTo>
                    <a:lnTo>
                      <a:pt x="1420" y="872"/>
                    </a:lnTo>
                    <a:lnTo>
                      <a:pt x="1426" y="860"/>
                    </a:lnTo>
                    <a:lnTo>
                      <a:pt x="1434" y="852"/>
                    </a:lnTo>
                    <a:lnTo>
                      <a:pt x="1442" y="846"/>
                    </a:lnTo>
                    <a:lnTo>
                      <a:pt x="1450" y="840"/>
                    </a:lnTo>
                    <a:lnTo>
                      <a:pt x="1462" y="838"/>
                    </a:lnTo>
                    <a:lnTo>
                      <a:pt x="1466" y="836"/>
                    </a:lnTo>
                    <a:lnTo>
                      <a:pt x="1474" y="830"/>
                    </a:lnTo>
                    <a:lnTo>
                      <a:pt x="1484" y="826"/>
                    </a:lnTo>
                    <a:lnTo>
                      <a:pt x="1492" y="824"/>
                    </a:lnTo>
                    <a:lnTo>
                      <a:pt x="1506" y="830"/>
                    </a:lnTo>
                    <a:lnTo>
                      <a:pt x="1514" y="832"/>
                    </a:lnTo>
                    <a:lnTo>
                      <a:pt x="1520" y="834"/>
                    </a:lnTo>
                    <a:lnTo>
                      <a:pt x="1528" y="832"/>
                    </a:lnTo>
                    <a:lnTo>
                      <a:pt x="1534" y="830"/>
                    </a:lnTo>
                    <a:lnTo>
                      <a:pt x="1536" y="824"/>
                    </a:lnTo>
                    <a:lnTo>
                      <a:pt x="1536" y="820"/>
                    </a:lnTo>
                    <a:lnTo>
                      <a:pt x="1532" y="818"/>
                    </a:lnTo>
                    <a:lnTo>
                      <a:pt x="1522" y="812"/>
                    </a:lnTo>
                    <a:lnTo>
                      <a:pt x="1514" y="810"/>
                    </a:lnTo>
                    <a:lnTo>
                      <a:pt x="1508" y="808"/>
                    </a:lnTo>
                    <a:lnTo>
                      <a:pt x="1514" y="806"/>
                    </a:lnTo>
                    <a:lnTo>
                      <a:pt x="1520" y="802"/>
                    </a:lnTo>
                    <a:lnTo>
                      <a:pt x="1524" y="800"/>
                    </a:lnTo>
                    <a:lnTo>
                      <a:pt x="1526" y="798"/>
                    </a:lnTo>
                    <a:lnTo>
                      <a:pt x="1526" y="794"/>
                    </a:lnTo>
                    <a:lnTo>
                      <a:pt x="1524" y="790"/>
                    </a:lnTo>
                    <a:lnTo>
                      <a:pt x="1518" y="788"/>
                    </a:lnTo>
                    <a:lnTo>
                      <a:pt x="1514" y="786"/>
                    </a:lnTo>
                    <a:lnTo>
                      <a:pt x="1512" y="786"/>
                    </a:lnTo>
                    <a:lnTo>
                      <a:pt x="1508" y="788"/>
                    </a:lnTo>
                    <a:lnTo>
                      <a:pt x="1506" y="790"/>
                    </a:lnTo>
                    <a:lnTo>
                      <a:pt x="1502" y="790"/>
                    </a:lnTo>
                    <a:lnTo>
                      <a:pt x="1496" y="788"/>
                    </a:lnTo>
                    <a:lnTo>
                      <a:pt x="1486" y="788"/>
                    </a:lnTo>
                    <a:lnTo>
                      <a:pt x="1476" y="788"/>
                    </a:lnTo>
                    <a:lnTo>
                      <a:pt x="1468" y="788"/>
                    </a:lnTo>
                    <a:lnTo>
                      <a:pt x="1462" y="790"/>
                    </a:lnTo>
                    <a:lnTo>
                      <a:pt x="1452" y="794"/>
                    </a:lnTo>
                    <a:lnTo>
                      <a:pt x="1442" y="792"/>
                    </a:lnTo>
                    <a:lnTo>
                      <a:pt x="1434" y="794"/>
                    </a:lnTo>
                    <a:lnTo>
                      <a:pt x="1428" y="794"/>
                    </a:lnTo>
                    <a:lnTo>
                      <a:pt x="1420" y="798"/>
                    </a:lnTo>
                    <a:lnTo>
                      <a:pt x="1414" y="802"/>
                    </a:lnTo>
                    <a:lnTo>
                      <a:pt x="1406" y="808"/>
                    </a:lnTo>
                    <a:lnTo>
                      <a:pt x="1400" y="810"/>
                    </a:lnTo>
                    <a:lnTo>
                      <a:pt x="1378" y="814"/>
                    </a:lnTo>
                    <a:lnTo>
                      <a:pt x="1364" y="820"/>
                    </a:lnTo>
                    <a:lnTo>
                      <a:pt x="1360" y="824"/>
                    </a:lnTo>
                    <a:lnTo>
                      <a:pt x="1354" y="828"/>
                    </a:lnTo>
                    <a:lnTo>
                      <a:pt x="1344" y="838"/>
                    </a:lnTo>
                    <a:lnTo>
                      <a:pt x="1332" y="850"/>
                    </a:lnTo>
                    <a:lnTo>
                      <a:pt x="1310" y="868"/>
                    </a:lnTo>
                    <a:lnTo>
                      <a:pt x="1302" y="878"/>
                    </a:lnTo>
                    <a:lnTo>
                      <a:pt x="1298" y="882"/>
                    </a:lnTo>
                    <a:lnTo>
                      <a:pt x="1294" y="882"/>
                    </a:lnTo>
                    <a:lnTo>
                      <a:pt x="1284" y="884"/>
                    </a:lnTo>
                    <a:lnTo>
                      <a:pt x="1280" y="886"/>
                    </a:lnTo>
                    <a:lnTo>
                      <a:pt x="1242" y="880"/>
                    </a:lnTo>
                    <a:lnTo>
                      <a:pt x="1156" y="870"/>
                    </a:lnTo>
                    <a:lnTo>
                      <a:pt x="1110" y="862"/>
                    </a:lnTo>
                    <a:lnTo>
                      <a:pt x="1070" y="852"/>
                    </a:lnTo>
                    <a:lnTo>
                      <a:pt x="996" y="832"/>
                    </a:lnTo>
                    <a:lnTo>
                      <a:pt x="974" y="828"/>
                    </a:lnTo>
                    <a:lnTo>
                      <a:pt x="954" y="826"/>
                    </a:lnTo>
                    <a:lnTo>
                      <a:pt x="918" y="824"/>
                    </a:lnTo>
                    <a:lnTo>
                      <a:pt x="894" y="826"/>
                    </a:lnTo>
                    <a:lnTo>
                      <a:pt x="884" y="826"/>
                    </a:lnTo>
                    <a:lnTo>
                      <a:pt x="882" y="824"/>
                    </a:lnTo>
                    <a:lnTo>
                      <a:pt x="878" y="822"/>
                    </a:lnTo>
                    <a:lnTo>
                      <a:pt x="846" y="822"/>
                    </a:lnTo>
                    <a:lnTo>
                      <a:pt x="840" y="818"/>
                    </a:lnTo>
                    <a:lnTo>
                      <a:pt x="834" y="816"/>
                    </a:lnTo>
                    <a:lnTo>
                      <a:pt x="830" y="814"/>
                    </a:lnTo>
                    <a:lnTo>
                      <a:pt x="816" y="812"/>
                    </a:lnTo>
                    <a:lnTo>
                      <a:pt x="858" y="718"/>
                    </a:lnTo>
                    <a:lnTo>
                      <a:pt x="848" y="710"/>
                    </a:lnTo>
                    <a:lnTo>
                      <a:pt x="826" y="698"/>
                    </a:lnTo>
                    <a:lnTo>
                      <a:pt x="790" y="678"/>
                    </a:lnTo>
                    <a:lnTo>
                      <a:pt x="658" y="600"/>
                    </a:lnTo>
                    <a:lnTo>
                      <a:pt x="606" y="570"/>
                    </a:lnTo>
                    <a:lnTo>
                      <a:pt x="590" y="560"/>
                    </a:lnTo>
                    <a:lnTo>
                      <a:pt x="586" y="558"/>
                    </a:lnTo>
                    <a:lnTo>
                      <a:pt x="586" y="550"/>
                    </a:lnTo>
                    <a:lnTo>
                      <a:pt x="588" y="544"/>
                    </a:lnTo>
                    <a:lnTo>
                      <a:pt x="588" y="542"/>
                    </a:lnTo>
                    <a:lnTo>
                      <a:pt x="584" y="540"/>
                    </a:lnTo>
                    <a:lnTo>
                      <a:pt x="580" y="538"/>
                    </a:lnTo>
                    <a:lnTo>
                      <a:pt x="564" y="530"/>
                    </a:lnTo>
                    <a:lnTo>
                      <a:pt x="560" y="526"/>
                    </a:lnTo>
                    <a:lnTo>
                      <a:pt x="562" y="522"/>
                    </a:lnTo>
                    <a:lnTo>
                      <a:pt x="566" y="510"/>
                    </a:lnTo>
                    <a:lnTo>
                      <a:pt x="570" y="508"/>
                    </a:lnTo>
                    <a:lnTo>
                      <a:pt x="576" y="506"/>
                    </a:lnTo>
                    <a:lnTo>
                      <a:pt x="588" y="506"/>
                    </a:lnTo>
                    <a:lnTo>
                      <a:pt x="600" y="508"/>
                    </a:lnTo>
                    <a:lnTo>
                      <a:pt x="612" y="510"/>
                    </a:lnTo>
                    <a:lnTo>
                      <a:pt x="624" y="512"/>
                    </a:lnTo>
                    <a:lnTo>
                      <a:pt x="648" y="510"/>
                    </a:lnTo>
                    <a:lnTo>
                      <a:pt x="656" y="510"/>
                    </a:lnTo>
                    <a:lnTo>
                      <a:pt x="660" y="508"/>
                    </a:lnTo>
                    <a:lnTo>
                      <a:pt x="666" y="504"/>
                    </a:lnTo>
                    <a:lnTo>
                      <a:pt x="670" y="498"/>
                    </a:lnTo>
                    <a:lnTo>
                      <a:pt x="674" y="492"/>
                    </a:lnTo>
                    <a:lnTo>
                      <a:pt x="674" y="486"/>
                    </a:lnTo>
                    <a:lnTo>
                      <a:pt x="674" y="474"/>
                    </a:lnTo>
                    <a:lnTo>
                      <a:pt x="676" y="464"/>
                    </a:lnTo>
                    <a:lnTo>
                      <a:pt x="678" y="458"/>
                    </a:lnTo>
                    <a:lnTo>
                      <a:pt x="682" y="450"/>
                    </a:lnTo>
                    <a:lnTo>
                      <a:pt x="686" y="446"/>
                    </a:lnTo>
                    <a:lnTo>
                      <a:pt x="690" y="442"/>
                    </a:lnTo>
                    <a:lnTo>
                      <a:pt x="692" y="436"/>
                    </a:lnTo>
                    <a:lnTo>
                      <a:pt x="692" y="430"/>
                    </a:lnTo>
                    <a:lnTo>
                      <a:pt x="694" y="420"/>
                    </a:lnTo>
                    <a:lnTo>
                      <a:pt x="696" y="414"/>
                    </a:lnTo>
                    <a:lnTo>
                      <a:pt x="700" y="406"/>
                    </a:lnTo>
                    <a:lnTo>
                      <a:pt x="700" y="400"/>
                    </a:lnTo>
                    <a:lnTo>
                      <a:pt x="700" y="394"/>
                    </a:lnTo>
                    <a:lnTo>
                      <a:pt x="702" y="392"/>
                    </a:lnTo>
                    <a:lnTo>
                      <a:pt x="704" y="390"/>
                    </a:lnTo>
                    <a:lnTo>
                      <a:pt x="710" y="388"/>
                    </a:lnTo>
                    <a:lnTo>
                      <a:pt x="716" y="388"/>
                    </a:lnTo>
                    <a:lnTo>
                      <a:pt x="722" y="386"/>
                    </a:lnTo>
                    <a:lnTo>
                      <a:pt x="728" y="382"/>
                    </a:lnTo>
                    <a:lnTo>
                      <a:pt x="730" y="376"/>
                    </a:lnTo>
                    <a:lnTo>
                      <a:pt x="728" y="364"/>
                    </a:lnTo>
                    <a:lnTo>
                      <a:pt x="726" y="350"/>
                    </a:lnTo>
                    <a:lnTo>
                      <a:pt x="726" y="344"/>
                    </a:lnTo>
                    <a:lnTo>
                      <a:pt x="722" y="338"/>
                    </a:lnTo>
                    <a:lnTo>
                      <a:pt x="716" y="324"/>
                    </a:lnTo>
                    <a:lnTo>
                      <a:pt x="716" y="318"/>
                    </a:lnTo>
                    <a:lnTo>
                      <a:pt x="714" y="312"/>
                    </a:lnTo>
                    <a:lnTo>
                      <a:pt x="716" y="300"/>
                    </a:lnTo>
                    <a:lnTo>
                      <a:pt x="716" y="296"/>
                    </a:lnTo>
                    <a:lnTo>
                      <a:pt x="718" y="290"/>
                    </a:lnTo>
                    <a:lnTo>
                      <a:pt x="722" y="284"/>
                    </a:lnTo>
                    <a:lnTo>
                      <a:pt x="722" y="278"/>
                    </a:lnTo>
                    <a:lnTo>
                      <a:pt x="722" y="266"/>
                    </a:lnTo>
                    <a:lnTo>
                      <a:pt x="720" y="254"/>
                    </a:lnTo>
                    <a:lnTo>
                      <a:pt x="718" y="240"/>
                    </a:lnTo>
                    <a:lnTo>
                      <a:pt x="716" y="228"/>
                    </a:lnTo>
                    <a:lnTo>
                      <a:pt x="712" y="214"/>
                    </a:lnTo>
                    <a:lnTo>
                      <a:pt x="712" y="208"/>
                    </a:lnTo>
                    <a:lnTo>
                      <a:pt x="714" y="202"/>
                    </a:lnTo>
                    <a:lnTo>
                      <a:pt x="716" y="196"/>
                    </a:lnTo>
                    <a:lnTo>
                      <a:pt x="718" y="192"/>
                    </a:lnTo>
                    <a:lnTo>
                      <a:pt x="724" y="188"/>
                    </a:lnTo>
                    <a:lnTo>
                      <a:pt x="726" y="186"/>
                    </a:lnTo>
                    <a:lnTo>
                      <a:pt x="728" y="184"/>
                    </a:lnTo>
                    <a:lnTo>
                      <a:pt x="726" y="176"/>
                    </a:lnTo>
                    <a:lnTo>
                      <a:pt x="726" y="166"/>
                    </a:lnTo>
                    <a:lnTo>
                      <a:pt x="824" y="158"/>
                    </a:lnTo>
                    <a:lnTo>
                      <a:pt x="824" y="130"/>
                    </a:lnTo>
                    <a:lnTo>
                      <a:pt x="726" y="146"/>
                    </a:lnTo>
                    <a:lnTo>
                      <a:pt x="712" y="104"/>
                    </a:lnTo>
                    <a:lnTo>
                      <a:pt x="700" y="70"/>
                    </a:lnTo>
                    <a:lnTo>
                      <a:pt x="692" y="58"/>
                    </a:lnTo>
                    <a:lnTo>
                      <a:pt x="684" y="48"/>
                    </a:lnTo>
                    <a:lnTo>
                      <a:pt x="674" y="40"/>
                    </a:lnTo>
                    <a:lnTo>
                      <a:pt x="658" y="28"/>
                    </a:lnTo>
                    <a:lnTo>
                      <a:pt x="636" y="18"/>
                    </a:lnTo>
                    <a:lnTo>
                      <a:pt x="608" y="8"/>
                    </a:lnTo>
                    <a:lnTo>
                      <a:pt x="576" y="2"/>
                    </a:lnTo>
                    <a:lnTo>
                      <a:pt x="558" y="0"/>
                    </a:lnTo>
                    <a:lnTo>
                      <a:pt x="538" y="0"/>
                    </a:lnTo>
                    <a:lnTo>
                      <a:pt x="518" y="0"/>
                    </a:lnTo>
                    <a:lnTo>
                      <a:pt x="496" y="4"/>
                    </a:lnTo>
                    <a:lnTo>
                      <a:pt x="474" y="8"/>
                    </a:lnTo>
                    <a:lnTo>
                      <a:pt x="450" y="14"/>
                    </a:lnTo>
                    <a:lnTo>
                      <a:pt x="432" y="26"/>
                    </a:lnTo>
                    <a:lnTo>
                      <a:pt x="416" y="38"/>
                    </a:lnTo>
                    <a:lnTo>
                      <a:pt x="398" y="58"/>
                    </a:lnTo>
                    <a:lnTo>
                      <a:pt x="390" y="70"/>
                    </a:lnTo>
                    <a:lnTo>
                      <a:pt x="382" y="84"/>
                    </a:lnTo>
                    <a:lnTo>
                      <a:pt x="374" y="98"/>
                    </a:lnTo>
                    <a:lnTo>
                      <a:pt x="368" y="114"/>
                    </a:lnTo>
                    <a:lnTo>
                      <a:pt x="364" y="132"/>
                    </a:lnTo>
                    <a:lnTo>
                      <a:pt x="362" y="152"/>
                    </a:lnTo>
                    <a:lnTo>
                      <a:pt x="364" y="174"/>
                    </a:lnTo>
                    <a:lnTo>
                      <a:pt x="368" y="196"/>
                    </a:lnTo>
                    <a:lnTo>
                      <a:pt x="372" y="196"/>
                    </a:lnTo>
                    <a:lnTo>
                      <a:pt x="368" y="236"/>
                    </a:lnTo>
                    <a:lnTo>
                      <a:pt x="366" y="248"/>
                    </a:lnTo>
                    <a:lnTo>
                      <a:pt x="368" y="260"/>
                    </a:lnTo>
                    <a:lnTo>
                      <a:pt x="370" y="282"/>
                    </a:lnTo>
                    <a:lnTo>
                      <a:pt x="372" y="288"/>
                    </a:lnTo>
                    <a:lnTo>
                      <a:pt x="374" y="296"/>
                    </a:lnTo>
                    <a:lnTo>
                      <a:pt x="384" y="320"/>
                    </a:lnTo>
                    <a:lnTo>
                      <a:pt x="388" y="328"/>
                    </a:lnTo>
                    <a:lnTo>
                      <a:pt x="388" y="338"/>
                    </a:lnTo>
                    <a:lnTo>
                      <a:pt x="388" y="358"/>
                    </a:lnTo>
                    <a:lnTo>
                      <a:pt x="388" y="368"/>
                    </a:lnTo>
                    <a:lnTo>
                      <a:pt x="388" y="374"/>
                    </a:lnTo>
                    <a:lnTo>
                      <a:pt x="388" y="378"/>
                    </a:lnTo>
                    <a:lnTo>
                      <a:pt x="384" y="390"/>
                    </a:lnTo>
                    <a:lnTo>
                      <a:pt x="384" y="400"/>
                    </a:lnTo>
                    <a:lnTo>
                      <a:pt x="384" y="418"/>
                    </a:lnTo>
                    <a:lnTo>
                      <a:pt x="386" y="428"/>
                    </a:lnTo>
                    <a:lnTo>
                      <a:pt x="390" y="438"/>
                    </a:lnTo>
                    <a:lnTo>
                      <a:pt x="380" y="442"/>
                    </a:lnTo>
                    <a:lnTo>
                      <a:pt x="374" y="444"/>
                    </a:lnTo>
                    <a:lnTo>
                      <a:pt x="368" y="446"/>
                    </a:lnTo>
                    <a:lnTo>
                      <a:pt x="354" y="444"/>
                    </a:lnTo>
                    <a:lnTo>
                      <a:pt x="340" y="446"/>
                    </a:lnTo>
                    <a:lnTo>
                      <a:pt x="334" y="474"/>
                    </a:lnTo>
                    <a:lnTo>
                      <a:pt x="330" y="484"/>
                    </a:lnTo>
                    <a:lnTo>
                      <a:pt x="330" y="494"/>
                    </a:lnTo>
                    <a:lnTo>
                      <a:pt x="334" y="526"/>
                    </a:lnTo>
                    <a:lnTo>
                      <a:pt x="334" y="536"/>
                    </a:lnTo>
                    <a:lnTo>
                      <a:pt x="334" y="540"/>
                    </a:lnTo>
                    <a:lnTo>
                      <a:pt x="334" y="542"/>
                    </a:lnTo>
                    <a:lnTo>
                      <a:pt x="284" y="588"/>
                    </a:lnTo>
                    <a:lnTo>
                      <a:pt x="278" y="594"/>
                    </a:lnTo>
                    <a:lnTo>
                      <a:pt x="270" y="600"/>
                    </a:lnTo>
                    <a:lnTo>
                      <a:pt x="246" y="614"/>
                    </a:lnTo>
                    <a:lnTo>
                      <a:pt x="206" y="636"/>
                    </a:lnTo>
                    <a:lnTo>
                      <a:pt x="172" y="656"/>
                    </a:lnTo>
                    <a:lnTo>
                      <a:pt x="164" y="660"/>
                    </a:lnTo>
                    <a:lnTo>
                      <a:pt x="158" y="664"/>
                    </a:lnTo>
                    <a:lnTo>
                      <a:pt x="126" y="704"/>
                    </a:lnTo>
                    <a:lnTo>
                      <a:pt x="102" y="730"/>
                    </a:lnTo>
                    <a:lnTo>
                      <a:pt x="98" y="738"/>
                    </a:lnTo>
                    <a:lnTo>
                      <a:pt x="96" y="748"/>
                    </a:lnTo>
                    <a:lnTo>
                      <a:pt x="86" y="772"/>
                    </a:lnTo>
                    <a:lnTo>
                      <a:pt x="78" y="796"/>
                    </a:lnTo>
                    <a:lnTo>
                      <a:pt x="68" y="816"/>
                    </a:lnTo>
                    <a:lnTo>
                      <a:pt x="60" y="836"/>
                    </a:lnTo>
                    <a:lnTo>
                      <a:pt x="44" y="898"/>
                    </a:lnTo>
                    <a:lnTo>
                      <a:pt x="24" y="966"/>
                    </a:lnTo>
                    <a:lnTo>
                      <a:pt x="22" y="976"/>
                    </a:lnTo>
                    <a:lnTo>
                      <a:pt x="20" y="988"/>
                    </a:lnTo>
                    <a:lnTo>
                      <a:pt x="10" y="1126"/>
                    </a:lnTo>
                    <a:lnTo>
                      <a:pt x="8" y="1174"/>
                    </a:lnTo>
                    <a:lnTo>
                      <a:pt x="2" y="1220"/>
                    </a:lnTo>
                    <a:lnTo>
                      <a:pt x="0" y="1240"/>
                    </a:lnTo>
                    <a:lnTo>
                      <a:pt x="0" y="1260"/>
                    </a:lnTo>
                    <a:lnTo>
                      <a:pt x="4" y="1326"/>
                    </a:lnTo>
                    <a:lnTo>
                      <a:pt x="4" y="1352"/>
                    </a:lnTo>
                    <a:lnTo>
                      <a:pt x="4" y="1378"/>
                    </a:lnTo>
                    <a:lnTo>
                      <a:pt x="6" y="1404"/>
                    </a:lnTo>
                    <a:lnTo>
                      <a:pt x="8" y="1432"/>
                    </a:lnTo>
                    <a:lnTo>
                      <a:pt x="10" y="1456"/>
                    </a:lnTo>
                    <a:lnTo>
                      <a:pt x="10" y="1482"/>
                    </a:lnTo>
                    <a:lnTo>
                      <a:pt x="10" y="1508"/>
                    </a:lnTo>
                    <a:lnTo>
                      <a:pt x="14" y="1536"/>
                    </a:lnTo>
                    <a:lnTo>
                      <a:pt x="18" y="1548"/>
                    </a:lnTo>
                    <a:lnTo>
                      <a:pt x="24" y="1560"/>
                    </a:lnTo>
                    <a:lnTo>
                      <a:pt x="38" y="1582"/>
                    </a:lnTo>
                    <a:lnTo>
                      <a:pt x="50" y="1604"/>
                    </a:lnTo>
                    <a:lnTo>
                      <a:pt x="62" y="1628"/>
                    </a:lnTo>
                    <a:lnTo>
                      <a:pt x="74" y="1648"/>
                    </a:lnTo>
                    <a:lnTo>
                      <a:pt x="90" y="1666"/>
                    </a:lnTo>
                    <a:lnTo>
                      <a:pt x="108" y="1690"/>
                    </a:lnTo>
                    <a:lnTo>
                      <a:pt x="114" y="1696"/>
                    </a:lnTo>
                    <a:lnTo>
                      <a:pt x="120" y="1700"/>
                    </a:lnTo>
                    <a:lnTo>
                      <a:pt x="216" y="1752"/>
                    </a:lnTo>
                    <a:lnTo>
                      <a:pt x="238" y="1762"/>
                    </a:lnTo>
                    <a:lnTo>
                      <a:pt x="260" y="1774"/>
                    </a:lnTo>
                    <a:lnTo>
                      <a:pt x="304" y="1790"/>
                    </a:lnTo>
                    <a:lnTo>
                      <a:pt x="424" y="1836"/>
                    </a:lnTo>
                    <a:lnTo>
                      <a:pt x="430" y="1838"/>
                    </a:lnTo>
                    <a:lnTo>
                      <a:pt x="458" y="1838"/>
                    </a:lnTo>
                    <a:lnTo>
                      <a:pt x="532" y="1842"/>
                    </a:lnTo>
                    <a:lnTo>
                      <a:pt x="550" y="1842"/>
                    </a:lnTo>
                    <a:lnTo>
                      <a:pt x="568" y="1846"/>
                    </a:lnTo>
                    <a:lnTo>
                      <a:pt x="594" y="1848"/>
                    </a:lnTo>
                    <a:lnTo>
                      <a:pt x="620" y="1854"/>
                    </a:lnTo>
                    <a:lnTo>
                      <a:pt x="654" y="1864"/>
                    </a:lnTo>
                    <a:lnTo>
                      <a:pt x="662" y="1868"/>
                    </a:lnTo>
                    <a:lnTo>
                      <a:pt x="672" y="1870"/>
                    </a:lnTo>
                    <a:lnTo>
                      <a:pt x="736" y="1874"/>
                    </a:lnTo>
                    <a:lnTo>
                      <a:pt x="748" y="1874"/>
                    </a:lnTo>
                    <a:lnTo>
                      <a:pt x="760" y="1872"/>
                    </a:lnTo>
                    <a:lnTo>
                      <a:pt x="782" y="1864"/>
                    </a:lnTo>
                    <a:lnTo>
                      <a:pt x="838" y="1850"/>
                    </a:lnTo>
                    <a:lnTo>
                      <a:pt x="854" y="1846"/>
                    </a:lnTo>
                    <a:lnTo>
                      <a:pt x="866" y="1840"/>
                    </a:lnTo>
                    <a:lnTo>
                      <a:pt x="880" y="1838"/>
                    </a:lnTo>
                    <a:lnTo>
                      <a:pt x="912" y="1832"/>
                    </a:lnTo>
                    <a:lnTo>
                      <a:pt x="922" y="1830"/>
                    </a:lnTo>
                    <a:lnTo>
                      <a:pt x="934" y="1826"/>
                    </a:lnTo>
                    <a:lnTo>
                      <a:pt x="942" y="1824"/>
                    </a:lnTo>
                    <a:lnTo>
                      <a:pt x="952" y="1822"/>
                    </a:lnTo>
                    <a:lnTo>
                      <a:pt x="984" y="1822"/>
                    </a:lnTo>
                    <a:lnTo>
                      <a:pt x="1038" y="1822"/>
                    </a:lnTo>
                    <a:lnTo>
                      <a:pt x="1044" y="1822"/>
                    </a:lnTo>
                    <a:lnTo>
                      <a:pt x="1050" y="1822"/>
                    </a:lnTo>
                    <a:lnTo>
                      <a:pt x="1054" y="1836"/>
                    </a:lnTo>
                    <a:lnTo>
                      <a:pt x="1058" y="1846"/>
                    </a:lnTo>
                    <a:lnTo>
                      <a:pt x="1060" y="1852"/>
                    </a:lnTo>
                    <a:lnTo>
                      <a:pt x="1060" y="1858"/>
                    </a:lnTo>
                    <a:lnTo>
                      <a:pt x="1050" y="1890"/>
                    </a:lnTo>
                    <a:lnTo>
                      <a:pt x="1050" y="1894"/>
                    </a:lnTo>
                    <a:lnTo>
                      <a:pt x="1050" y="1896"/>
                    </a:lnTo>
                    <a:lnTo>
                      <a:pt x="1058" y="1908"/>
                    </a:lnTo>
                    <a:lnTo>
                      <a:pt x="1068" y="1918"/>
                    </a:lnTo>
                    <a:lnTo>
                      <a:pt x="1076" y="1928"/>
                    </a:lnTo>
                    <a:lnTo>
                      <a:pt x="1092" y="1952"/>
                    </a:lnTo>
                    <a:lnTo>
                      <a:pt x="1098" y="1962"/>
                    </a:lnTo>
                    <a:lnTo>
                      <a:pt x="1102" y="1972"/>
                    </a:lnTo>
                    <a:lnTo>
                      <a:pt x="1114" y="2002"/>
                    </a:lnTo>
                    <a:lnTo>
                      <a:pt x="1122" y="2022"/>
                    </a:lnTo>
                    <a:lnTo>
                      <a:pt x="1126" y="2044"/>
                    </a:lnTo>
                    <a:lnTo>
                      <a:pt x="1134" y="2064"/>
                    </a:lnTo>
                    <a:lnTo>
                      <a:pt x="1142" y="2086"/>
                    </a:lnTo>
                    <a:lnTo>
                      <a:pt x="1198" y="2198"/>
                    </a:lnTo>
                    <a:lnTo>
                      <a:pt x="1218" y="2244"/>
                    </a:lnTo>
                    <a:lnTo>
                      <a:pt x="1220" y="2254"/>
                    </a:lnTo>
                    <a:lnTo>
                      <a:pt x="1222" y="2262"/>
                    </a:lnTo>
                    <a:lnTo>
                      <a:pt x="1226" y="2296"/>
                    </a:lnTo>
                    <a:lnTo>
                      <a:pt x="1226" y="2300"/>
                    </a:lnTo>
                    <a:lnTo>
                      <a:pt x="1230" y="2306"/>
                    </a:lnTo>
                    <a:lnTo>
                      <a:pt x="1236" y="2318"/>
                    </a:lnTo>
                    <a:lnTo>
                      <a:pt x="1246" y="2334"/>
                    </a:lnTo>
                    <a:lnTo>
                      <a:pt x="1268" y="2364"/>
                    </a:lnTo>
                    <a:lnTo>
                      <a:pt x="1274" y="2370"/>
                    </a:lnTo>
                    <a:lnTo>
                      <a:pt x="1282" y="2370"/>
                    </a:lnTo>
                    <a:lnTo>
                      <a:pt x="1340" y="2366"/>
                    </a:lnTo>
                    <a:lnTo>
                      <a:pt x="1344" y="2366"/>
                    </a:lnTo>
                    <a:lnTo>
                      <a:pt x="1348" y="2366"/>
                    </a:lnTo>
                    <a:lnTo>
                      <a:pt x="1352" y="2384"/>
                    </a:lnTo>
                    <a:lnTo>
                      <a:pt x="1352" y="2388"/>
                    </a:lnTo>
                    <a:lnTo>
                      <a:pt x="1354" y="2392"/>
                    </a:lnTo>
                    <a:lnTo>
                      <a:pt x="1364" y="2396"/>
                    </a:lnTo>
                    <a:lnTo>
                      <a:pt x="1388" y="2406"/>
                    </a:lnTo>
                    <a:lnTo>
                      <a:pt x="1400" y="2412"/>
                    </a:lnTo>
                    <a:lnTo>
                      <a:pt x="1414" y="2414"/>
                    </a:lnTo>
                    <a:lnTo>
                      <a:pt x="1446" y="2422"/>
                    </a:lnTo>
                    <a:lnTo>
                      <a:pt x="1452" y="2422"/>
                    </a:lnTo>
                    <a:lnTo>
                      <a:pt x="1458" y="2420"/>
                    </a:lnTo>
                    <a:lnTo>
                      <a:pt x="1468" y="2416"/>
                    </a:lnTo>
                    <a:lnTo>
                      <a:pt x="1478" y="2410"/>
                    </a:lnTo>
                    <a:lnTo>
                      <a:pt x="1488" y="2408"/>
                    </a:lnTo>
                    <a:lnTo>
                      <a:pt x="1510" y="2408"/>
                    </a:lnTo>
                    <a:lnTo>
                      <a:pt x="1584" y="2406"/>
                    </a:lnTo>
                    <a:lnTo>
                      <a:pt x="1604" y="2406"/>
                    </a:lnTo>
                    <a:lnTo>
                      <a:pt x="1608" y="2404"/>
                    </a:lnTo>
                    <a:lnTo>
                      <a:pt x="1612" y="2400"/>
                    </a:lnTo>
                    <a:lnTo>
                      <a:pt x="1618" y="2392"/>
                    </a:lnTo>
                    <a:lnTo>
                      <a:pt x="1636" y="2370"/>
                    </a:lnTo>
                    <a:lnTo>
                      <a:pt x="1640" y="2368"/>
                    </a:lnTo>
                    <a:lnTo>
                      <a:pt x="1644" y="2366"/>
                    </a:lnTo>
                    <a:lnTo>
                      <a:pt x="1660" y="2356"/>
                    </a:lnTo>
                    <a:lnTo>
                      <a:pt x="1678" y="2342"/>
                    </a:lnTo>
                    <a:lnTo>
                      <a:pt x="1694" y="2326"/>
                    </a:lnTo>
                    <a:lnTo>
                      <a:pt x="1706" y="2312"/>
                    </a:lnTo>
                    <a:lnTo>
                      <a:pt x="1708" y="2310"/>
                    </a:lnTo>
                    <a:lnTo>
                      <a:pt x="1712" y="2306"/>
                    </a:lnTo>
                    <a:lnTo>
                      <a:pt x="1714" y="2294"/>
                    </a:lnTo>
                    <a:lnTo>
                      <a:pt x="1716" y="2288"/>
                    </a:lnTo>
                    <a:lnTo>
                      <a:pt x="1714" y="2282"/>
                    </a:lnTo>
                    <a:close/>
                    <a:moveTo>
                      <a:pt x="1292" y="948"/>
                    </a:moveTo>
                    <a:lnTo>
                      <a:pt x="1292" y="948"/>
                    </a:lnTo>
                    <a:lnTo>
                      <a:pt x="1298" y="948"/>
                    </a:lnTo>
                    <a:lnTo>
                      <a:pt x="1274" y="962"/>
                    </a:lnTo>
                    <a:lnTo>
                      <a:pt x="1260" y="972"/>
                    </a:lnTo>
                    <a:lnTo>
                      <a:pt x="1256" y="976"/>
                    </a:lnTo>
                    <a:lnTo>
                      <a:pt x="1250" y="976"/>
                    </a:lnTo>
                    <a:lnTo>
                      <a:pt x="1240" y="974"/>
                    </a:lnTo>
                    <a:lnTo>
                      <a:pt x="1232" y="976"/>
                    </a:lnTo>
                    <a:lnTo>
                      <a:pt x="1172" y="956"/>
                    </a:lnTo>
                    <a:lnTo>
                      <a:pt x="1252" y="948"/>
                    </a:lnTo>
                    <a:lnTo>
                      <a:pt x="1274" y="946"/>
                    </a:lnTo>
                    <a:lnTo>
                      <a:pt x="1292" y="948"/>
                    </a:lnTo>
                    <a:close/>
                  </a:path>
                </a:pathLst>
              </a:custGeom>
              <a:solidFill>
                <a:srgbClr val="0101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6"/>
              <p:cNvSpPr/>
              <p:nvPr/>
            </p:nvSpPr>
            <p:spPr>
              <a:xfrm>
                <a:off x="2862360" y="2592360"/>
                <a:ext cx="1110600" cy="1236600"/>
              </a:xfrm>
              <a:custGeom>
                <a:avLst/>
                <a:gdLst>
                  <a:gd name="textAreaLeft" fmla="*/ 0 w 1110600"/>
                  <a:gd name="textAreaRight" fmla="*/ 1110960 w 1110600"/>
                  <a:gd name="textAreaTop" fmla="*/ 0 h 1236600"/>
                  <a:gd name="textAreaBottom" fmla="*/ 1236960 h 1236600"/>
                </a:gdLst>
                <a:ahLst/>
                <a:rect l="textAreaLeft" t="textAreaTop" r="textAreaRight" b="textAreaBottom"/>
                <a:pathLst>
                  <a:path w="4878" h="4798">
                    <a:moveTo>
                      <a:pt x="4874" y="3640"/>
                    </a:moveTo>
                    <a:lnTo>
                      <a:pt x="4874" y="3640"/>
                    </a:lnTo>
                    <a:lnTo>
                      <a:pt x="4876" y="3632"/>
                    </a:lnTo>
                    <a:lnTo>
                      <a:pt x="4878" y="3624"/>
                    </a:lnTo>
                    <a:lnTo>
                      <a:pt x="3534" y="3644"/>
                    </a:lnTo>
                    <a:lnTo>
                      <a:pt x="3284" y="3648"/>
                    </a:lnTo>
                    <a:lnTo>
                      <a:pt x="3268" y="2656"/>
                    </a:lnTo>
                    <a:lnTo>
                      <a:pt x="3244" y="962"/>
                    </a:lnTo>
                    <a:lnTo>
                      <a:pt x="3236" y="454"/>
                    </a:lnTo>
                    <a:lnTo>
                      <a:pt x="3234" y="382"/>
                    </a:lnTo>
                    <a:lnTo>
                      <a:pt x="3232" y="198"/>
                    </a:lnTo>
                    <a:lnTo>
                      <a:pt x="3232" y="172"/>
                    </a:lnTo>
                    <a:lnTo>
                      <a:pt x="3232" y="158"/>
                    </a:lnTo>
                    <a:lnTo>
                      <a:pt x="3230" y="148"/>
                    </a:lnTo>
                    <a:lnTo>
                      <a:pt x="3222" y="138"/>
                    </a:lnTo>
                    <a:lnTo>
                      <a:pt x="3204" y="126"/>
                    </a:lnTo>
                    <a:lnTo>
                      <a:pt x="3186" y="114"/>
                    </a:lnTo>
                    <a:lnTo>
                      <a:pt x="3178" y="110"/>
                    </a:lnTo>
                    <a:lnTo>
                      <a:pt x="3174" y="108"/>
                    </a:lnTo>
                    <a:lnTo>
                      <a:pt x="2832" y="108"/>
                    </a:lnTo>
                    <a:lnTo>
                      <a:pt x="2768" y="108"/>
                    </a:lnTo>
                    <a:lnTo>
                      <a:pt x="2762" y="110"/>
                    </a:lnTo>
                    <a:lnTo>
                      <a:pt x="2756" y="112"/>
                    </a:lnTo>
                    <a:lnTo>
                      <a:pt x="2748" y="118"/>
                    </a:lnTo>
                    <a:lnTo>
                      <a:pt x="2734" y="138"/>
                    </a:lnTo>
                    <a:lnTo>
                      <a:pt x="2728" y="150"/>
                    </a:lnTo>
                    <a:lnTo>
                      <a:pt x="2724" y="160"/>
                    </a:lnTo>
                    <a:lnTo>
                      <a:pt x="2722" y="172"/>
                    </a:lnTo>
                    <a:lnTo>
                      <a:pt x="2722" y="184"/>
                    </a:lnTo>
                    <a:lnTo>
                      <a:pt x="2722" y="210"/>
                    </a:lnTo>
                    <a:lnTo>
                      <a:pt x="2724" y="236"/>
                    </a:lnTo>
                    <a:lnTo>
                      <a:pt x="2726" y="616"/>
                    </a:lnTo>
                    <a:lnTo>
                      <a:pt x="2726" y="630"/>
                    </a:lnTo>
                    <a:lnTo>
                      <a:pt x="2726" y="636"/>
                    </a:lnTo>
                    <a:lnTo>
                      <a:pt x="2730" y="640"/>
                    </a:lnTo>
                    <a:lnTo>
                      <a:pt x="2748" y="646"/>
                    </a:lnTo>
                    <a:lnTo>
                      <a:pt x="2770" y="656"/>
                    </a:lnTo>
                    <a:lnTo>
                      <a:pt x="2792" y="666"/>
                    </a:lnTo>
                    <a:lnTo>
                      <a:pt x="2800" y="672"/>
                    </a:lnTo>
                    <a:lnTo>
                      <a:pt x="2806" y="678"/>
                    </a:lnTo>
                    <a:lnTo>
                      <a:pt x="2810" y="686"/>
                    </a:lnTo>
                    <a:lnTo>
                      <a:pt x="2810" y="698"/>
                    </a:lnTo>
                    <a:lnTo>
                      <a:pt x="2810" y="724"/>
                    </a:lnTo>
                    <a:lnTo>
                      <a:pt x="2808" y="752"/>
                    </a:lnTo>
                    <a:lnTo>
                      <a:pt x="2808" y="774"/>
                    </a:lnTo>
                    <a:lnTo>
                      <a:pt x="2814" y="1370"/>
                    </a:lnTo>
                    <a:lnTo>
                      <a:pt x="2818" y="1670"/>
                    </a:lnTo>
                    <a:lnTo>
                      <a:pt x="2820" y="1968"/>
                    </a:lnTo>
                    <a:lnTo>
                      <a:pt x="2822" y="2238"/>
                    </a:lnTo>
                    <a:lnTo>
                      <a:pt x="2824" y="2508"/>
                    </a:lnTo>
                    <a:lnTo>
                      <a:pt x="2824" y="2778"/>
                    </a:lnTo>
                    <a:lnTo>
                      <a:pt x="2822" y="2912"/>
                    </a:lnTo>
                    <a:lnTo>
                      <a:pt x="2818" y="3048"/>
                    </a:lnTo>
                    <a:lnTo>
                      <a:pt x="2614" y="1746"/>
                    </a:lnTo>
                    <a:lnTo>
                      <a:pt x="2534" y="1242"/>
                    </a:lnTo>
                    <a:lnTo>
                      <a:pt x="2526" y="1176"/>
                    </a:lnTo>
                    <a:lnTo>
                      <a:pt x="2518" y="1110"/>
                    </a:lnTo>
                    <a:lnTo>
                      <a:pt x="2512" y="1044"/>
                    </a:lnTo>
                    <a:lnTo>
                      <a:pt x="2504" y="980"/>
                    </a:lnTo>
                    <a:lnTo>
                      <a:pt x="2480" y="838"/>
                    </a:lnTo>
                    <a:lnTo>
                      <a:pt x="2456" y="696"/>
                    </a:lnTo>
                    <a:lnTo>
                      <a:pt x="2444" y="610"/>
                    </a:lnTo>
                    <a:lnTo>
                      <a:pt x="2432" y="524"/>
                    </a:lnTo>
                    <a:lnTo>
                      <a:pt x="2422" y="438"/>
                    </a:lnTo>
                    <a:lnTo>
                      <a:pt x="2416" y="352"/>
                    </a:lnTo>
                    <a:lnTo>
                      <a:pt x="2414" y="304"/>
                    </a:lnTo>
                    <a:lnTo>
                      <a:pt x="2414" y="256"/>
                    </a:lnTo>
                    <a:lnTo>
                      <a:pt x="2418" y="160"/>
                    </a:lnTo>
                    <a:lnTo>
                      <a:pt x="2422" y="120"/>
                    </a:lnTo>
                    <a:lnTo>
                      <a:pt x="2430" y="80"/>
                    </a:lnTo>
                    <a:lnTo>
                      <a:pt x="2436" y="40"/>
                    </a:lnTo>
                    <a:lnTo>
                      <a:pt x="2442" y="0"/>
                    </a:lnTo>
                    <a:lnTo>
                      <a:pt x="2262" y="2"/>
                    </a:lnTo>
                    <a:lnTo>
                      <a:pt x="2142" y="4"/>
                    </a:lnTo>
                    <a:lnTo>
                      <a:pt x="2120" y="2"/>
                    </a:lnTo>
                    <a:lnTo>
                      <a:pt x="2108" y="4"/>
                    </a:lnTo>
                    <a:lnTo>
                      <a:pt x="2098" y="6"/>
                    </a:lnTo>
                    <a:lnTo>
                      <a:pt x="2086" y="2"/>
                    </a:lnTo>
                    <a:lnTo>
                      <a:pt x="2072" y="0"/>
                    </a:lnTo>
                    <a:lnTo>
                      <a:pt x="2036" y="0"/>
                    </a:lnTo>
                    <a:lnTo>
                      <a:pt x="2000" y="2"/>
                    </a:lnTo>
                    <a:lnTo>
                      <a:pt x="1970" y="4"/>
                    </a:lnTo>
                    <a:lnTo>
                      <a:pt x="1898" y="6"/>
                    </a:lnTo>
                    <a:lnTo>
                      <a:pt x="1826" y="8"/>
                    </a:lnTo>
                    <a:lnTo>
                      <a:pt x="1542" y="8"/>
                    </a:lnTo>
                    <a:lnTo>
                      <a:pt x="1244" y="8"/>
                    </a:lnTo>
                    <a:lnTo>
                      <a:pt x="1174" y="10"/>
                    </a:lnTo>
                    <a:lnTo>
                      <a:pt x="1104" y="12"/>
                    </a:lnTo>
                    <a:lnTo>
                      <a:pt x="1032" y="14"/>
                    </a:lnTo>
                    <a:lnTo>
                      <a:pt x="962" y="16"/>
                    </a:lnTo>
                    <a:lnTo>
                      <a:pt x="822" y="18"/>
                    </a:lnTo>
                    <a:lnTo>
                      <a:pt x="682" y="20"/>
                    </a:lnTo>
                    <a:lnTo>
                      <a:pt x="542" y="24"/>
                    </a:lnTo>
                    <a:lnTo>
                      <a:pt x="402" y="32"/>
                    </a:lnTo>
                    <a:lnTo>
                      <a:pt x="362" y="36"/>
                    </a:lnTo>
                    <a:lnTo>
                      <a:pt x="326" y="44"/>
                    </a:lnTo>
                    <a:lnTo>
                      <a:pt x="294" y="54"/>
                    </a:lnTo>
                    <a:lnTo>
                      <a:pt x="262" y="68"/>
                    </a:lnTo>
                    <a:lnTo>
                      <a:pt x="234" y="82"/>
                    </a:lnTo>
                    <a:lnTo>
                      <a:pt x="208" y="100"/>
                    </a:lnTo>
                    <a:lnTo>
                      <a:pt x="184" y="118"/>
                    </a:lnTo>
                    <a:lnTo>
                      <a:pt x="164" y="136"/>
                    </a:lnTo>
                    <a:lnTo>
                      <a:pt x="146" y="156"/>
                    </a:lnTo>
                    <a:lnTo>
                      <a:pt x="130" y="174"/>
                    </a:lnTo>
                    <a:lnTo>
                      <a:pt x="114" y="194"/>
                    </a:lnTo>
                    <a:lnTo>
                      <a:pt x="102" y="212"/>
                    </a:lnTo>
                    <a:lnTo>
                      <a:pt x="86" y="244"/>
                    </a:lnTo>
                    <a:lnTo>
                      <a:pt x="76" y="266"/>
                    </a:lnTo>
                    <a:lnTo>
                      <a:pt x="66" y="304"/>
                    </a:lnTo>
                    <a:lnTo>
                      <a:pt x="56" y="340"/>
                    </a:lnTo>
                    <a:lnTo>
                      <a:pt x="42" y="416"/>
                    </a:lnTo>
                    <a:lnTo>
                      <a:pt x="38" y="450"/>
                    </a:lnTo>
                    <a:lnTo>
                      <a:pt x="34" y="486"/>
                    </a:lnTo>
                    <a:lnTo>
                      <a:pt x="34" y="520"/>
                    </a:lnTo>
                    <a:lnTo>
                      <a:pt x="34" y="556"/>
                    </a:lnTo>
                    <a:lnTo>
                      <a:pt x="36" y="628"/>
                    </a:lnTo>
                    <a:lnTo>
                      <a:pt x="42" y="698"/>
                    </a:lnTo>
                    <a:lnTo>
                      <a:pt x="46" y="766"/>
                    </a:lnTo>
                    <a:lnTo>
                      <a:pt x="48" y="836"/>
                    </a:lnTo>
                    <a:lnTo>
                      <a:pt x="50" y="974"/>
                    </a:lnTo>
                    <a:lnTo>
                      <a:pt x="56" y="1278"/>
                    </a:lnTo>
                    <a:lnTo>
                      <a:pt x="58" y="1582"/>
                    </a:lnTo>
                    <a:lnTo>
                      <a:pt x="56" y="1870"/>
                    </a:lnTo>
                    <a:lnTo>
                      <a:pt x="54" y="2158"/>
                    </a:lnTo>
                    <a:lnTo>
                      <a:pt x="52" y="2556"/>
                    </a:lnTo>
                    <a:lnTo>
                      <a:pt x="50" y="2642"/>
                    </a:lnTo>
                    <a:lnTo>
                      <a:pt x="50" y="2650"/>
                    </a:lnTo>
                    <a:lnTo>
                      <a:pt x="44" y="2660"/>
                    </a:lnTo>
                    <a:lnTo>
                      <a:pt x="32" y="2678"/>
                    </a:lnTo>
                    <a:lnTo>
                      <a:pt x="24" y="2688"/>
                    </a:lnTo>
                    <a:lnTo>
                      <a:pt x="18" y="2696"/>
                    </a:lnTo>
                    <a:lnTo>
                      <a:pt x="14" y="2708"/>
                    </a:lnTo>
                    <a:lnTo>
                      <a:pt x="12" y="2718"/>
                    </a:lnTo>
                    <a:lnTo>
                      <a:pt x="14" y="3406"/>
                    </a:lnTo>
                    <a:lnTo>
                      <a:pt x="14" y="3694"/>
                    </a:lnTo>
                    <a:lnTo>
                      <a:pt x="14" y="3708"/>
                    </a:lnTo>
                    <a:lnTo>
                      <a:pt x="18" y="3720"/>
                    </a:lnTo>
                    <a:lnTo>
                      <a:pt x="20" y="3730"/>
                    </a:lnTo>
                    <a:lnTo>
                      <a:pt x="26" y="3738"/>
                    </a:lnTo>
                    <a:lnTo>
                      <a:pt x="32" y="3748"/>
                    </a:lnTo>
                    <a:lnTo>
                      <a:pt x="38" y="3756"/>
                    </a:lnTo>
                    <a:lnTo>
                      <a:pt x="58" y="3772"/>
                    </a:lnTo>
                    <a:lnTo>
                      <a:pt x="62" y="3774"/>
                    </a:lnTo>
                    <a:lnTo>
                      <a:pt x="70" y="3774"/>
                    </a:lnTo>
                    <a:lnTo>
                      <a:pt x="84" y="3772"/>
                    </a:lnTo>
                    <a:lnTo>
                      <a:pt x="92" y="3770"/>
                    </a:lnTo>
                    <a:lnTo>
                      <a:pt x="100" y="3772"/>
                    </a:lnTo>
                    <a:lnTo>
                      <a:pt x="106" y="3776"/>
                    </a:lnTo>
                    <a:lnTo>
                      <a:pt x="110" y="3782"/>
                    </a:lnTo>
                    <a:lnTo>
                      <a:pt x="132" y="3846"/>
                    </a:lnTo>
                    <a:lnTo>
                      <a:pt x="162" y="3936"/>
                    </a:lnTo>
                    <a:lnTo>
                      <a:pt x="164" y="3948"/>
                    </a:lnTo>
                    <a:lnTo>
                      <a:pt x="162" y="3958"/>
                    </a:lnTo>
                    <a:lnTo>
                      <a:pt x="150" y="3980"/>
                    </a:lnTo>
                    <a:lnTo>
                      <a:pt x="140" y="4004"/>
                    </a:lnTo>
                    <a:lnTo>
                      <a:pt x="108" y="4036"/>
                    </a:lnTo>
                    <a:lnTo>
                      <a:pt x="82" y="4072"/>
                    </a:lnTo>
                    <a:lnTo>
                      <a:pt x="58" y="4110"/>
                    </a:lnTo>
                    <a:lnTo>
                      <a:pt x="36" y="4152"/>
                    </a:lnTo>
                    <a:lnTo>
                      <a:pt x="20" y="4194"/>
                    </a:lnTo>
                    <a:lnTo>
                      <a:pt x="8" y="4240"/>
                    </a:lnTo>
                    <a:lnTo>
                      <a:pt x="4" y="4264"/>
                    </a:lnTo>
                    <a:lnTo>
                      <a:pt x="2" y="4286"/>
                    </a:lnTo>
                    <a:lnTo>
                      <a:pt x="0" y="4310"/>
                    </a:lnTo>
                    <a:lnTo>
                      <a:pt x="0" y="4334"/>
                    </a:lnTo>
                    <a:lnTo>
                      <a:pt x="0" y="4358"/>
                    </a:lnTo>
                    <a:lnTo>
                      <a:pt x="2" y="4382"/>
                    </a:lnTo>
                    <a:lnTo>
                      <a:pt x="8" y="4428"/>
                    </a:lnTo>
                    <a:lnTo>
                      <a:pt x="20" y="4472"/>
                    </a:lnTo>
                    <a:lnTo>
                      <a:pt x="36" y="4516"/>
                    </a:lnTo>
                    <a:lnTo>
                      <a:pt x="56" y="4556"/>
                    </a:lnTo>
                    <a:lnTo>
                      <a:pt x="78" y="4594"/>
                    </a:lnTo>
                    <a:lnTo>
                      <a:pt x="104" y="4630"/>
                    </a:lnTo>
                    <a:lnTo>
                      <a:pt x="134" y="4662"/>
                    </a:lnTo>
                    <a:lnTo>
                      <a:pt x="168" y="4692"/>
                    </a:lnTo>
                    <a:lnTo>
                      <a:pt x="204" y="4718"/>
                    </a:lnTo>
                    <a:lnTo>
                      <a:pt x="242" y="4742"/>
                    </a:lnTo>
                    <a:lnTo>
                      <a:pt x="282" y="4762"/>
                    </a:lnTo>
                    <a:lnTo>
                      <a:pt x="324" y="4778"/>
                    </a:lnTo>
                    <a:lnTo>
                      <a:pt x="368" y="4788"/>
                    </a:lnTo>
                    <a:lnTo>
                      <a:pt x="414" y="4796"/>
                    </a:lnTo>
                    <a:lnTo>
                      <a:pt x="438" y="4798"/>
                    </a:lnTo>
                    <a:lnTo>
                      <a:pt x="462" y="4798"/>
                    </a:lnTo>
                    <a:lnTo>
                      <a:pt x="498" y="4796"/>
                    </a:lnTo>
                    <a:lnTo>
                      <a:pt x="532" y="4792"/>
                    </a:lnTo>
                    <a:lnTo>
                      <a:pt x="564" y="4786"/>
                    </a:lnTo>
                    <a:lnTo>
                      <a:pt x="598" y="4778"/>
                    </a:lnTo>
                    <a:lnTo>
                      <a:pt x="630" y="4768"/>
                    </a:lnTo>
                    <a:lnTo>
                      <a:pt x="660" y="4754"/>
                    </a:lnTo>
                    <a:lnTo>
                      <a:pt x="688" y="4738"/>
                    </a:lnTo>
                    <a:lnTo>
                      <a:pt x="716" y="4722"/>
                    </a:lnTo>
                    <a:lnTo>
                      <a:pt x="744" y="4702"/>
                    </a:lnTo>
                    <a:lnTo>
                      <a:pt x="768" y="4682"/>
                    </a:lnTo>
                    <a:lnTo>
                      <a:pt x="792" y="4660"/>
                    </a:lnTo>
                    <a:lnTo>
                      <a:pt x="814" y="4636"/>
                    </a:lnTo>
                    <a:lnTo>
                      <a:pt x="834" y="4610"/>
                    </a:lnTo>
                    <a:lnTo>
                      <a:pt x="854" y="4582"/>
                    </a:lnTo>
                    <a:lnTo>
                      <a:pt x="870" y="4554"/>
                    </a:lnTo>
                    <a:lnTo>
                      <a:pt x="884" y="4524"/>
                    </a:lnTo>
                    <a:lnTo>
                      <a:pt x="960" y="4528"/>
                    </a:lnTo>
                    <a:lnTo>
                      <a:pt x="986" y="4528"/>
                    </a:lnTo>
                    <a:lnTo>
                      <a:pt x="1002" y="4530"/>
                    </a:lnTo>
                    <a:lnTo>
                      <a:pt x="1006" y="4532"/>
                    </a:lnTo>
                    <a:lnTo>
                      <a:pt x="1008" y="4534"/>
                    </a:lnTo>
                    <a:lnTo>
                      <a:pt x="1010" y="4624"/>
                    </a:lnTo>
                    <a:lnTo>
                      <a:pt x="1012" y="4630"/>
                    </a:lnTo>
                    <a:lnTo>
                      <a:pt x="1018" y="4636"/>
                    </a:lnTo>
                    <a:lnTo>
                      <a:pt x="1024" y="4642"/>
                    </a:lnTo>
                    <a:lnTo>
                      <a:pt x="1032" y="4646"/>
                    </a:lnTo>
                    <a:lnTo>
                      <a:pt x="1052" y="4652"/>
                    </a:lnTo>
                    <a:lnTo>
                      <a:pt x="1068" y="4652"/>
                    </a:lnTo>
                    <a:lnTo>
                      <a:pt x="1342" y="4652"/>
                    </a:lnTo>
                    <a:lnTo>
                      <a:pt x="2146" y="4652"/>
                    </a:lnTo>
                    <a:lnTo>
                      <a:pt x="2242" y="4652"/>
                    </a:lnTo>
                    <a:lnTo>
                      <a:pt x="2252" y="4652"/>
                    </a:lnTo>
                    <a:lnTo>
                      <a:pt x="2262" y="4650"/>
                    </a:lnTo>
                    <a:lnTo>
                      <a:pt x="2270" y="4648"/>
                    </a:lnTo>
                    <a:lnTo>
                      <a:pt x="2278" y="4642"/>
                    </a:lnTo>
                    <a:lnTo>
                      <a:pt x="2284" y="4636"/>
                    </a:lnTo>
                    <a:lnTo>
                      <a:pt x="2290" y="4628"/>
                    </a:lnTo>
                    <a:lnTo>
                      <a:pt x="2300" y="4606"/>
                    </a:lnTo>
                    <a:lnTo>
                      <a:pt x="2306" y="4588"/>
                    </a:lnTo>
                    <a:lnTo>
                      <a:pt x="2310" y="4570"/>
                    </a:lnTo>
                    <a:lnTo>
                      <a:pt x="2318" y="4532"/>
                    </a:lnTo>
                    <a:lnTo>
                      <a:pt x="2320" y="4526"/>
                    </a:lnTo>
                    <a:lnTo>
                      <a:pt x="2324" y="4524"/>
                    </a:lnTo>
                    <a:lnTo>
                      <a:pt x="2330" y="4522"/>
                    </a:lnTo>
                    <a:lnTo>
                      <a:pt x="2336" y="4522"/>
                    </a:lnTo>
                    <a:lnTo>
                      <a:pt x="2362" y="4528"/>
                    </a:lnTo>
                    <a:lnTo>
                      <a:pt x="2404" y="4532"/>
                    </a:lnTo>
                    <a:lnTo>
                      <a:pt x="2420" y="4560"/>
                    </a:lnTo>
                    <a:lnTo>
                      <a:pt x="2436" y="4588"/>
                    </a:lnTo>
                    <a:lnTo>
                      <a:pt x="2454" y="4614"/>
                    </a:lnTo>
                    <a:lnTo>
                      <a:pt x="2476" y="4640"/>
                    </a:lnTo>
                    <a:lnTo>
                      <a:pt x="2498" y="4664"/>
                    </a:lnTo>
                    <a:lnTo>
                      <a:pt x="2520" y="4686"/>
                    </a:lnTo>
                    <a:lnTo>
                      <a:pt x="2546" y="4706"/>
                    </a:lnTo>
                    <a:lnTo>
                      <a:pt x="2572" y="4724"/>
                    </a:lnTo>
                    <a:lnTo>
                      <a:pt x="2600" y="4740"/>
                    </a:lnTo>
                    <a:lnTo>
                      <a:pt x="2630" y="4756"/>
                    </a:lnTo>
                    <a:lnTo>
                      <a:pt x="2660" y="4768"/>
                    </a:lnTo>
                    <a:lnTo>
                      <a:pt x="2690" y="4778"/>
                    </a:lnTo>
                    <a:lnTo>
                      <a:pt x="2722" y="4786"/>
                    </a:lnTo>
                    <a:lnTo>
                      <a:pt x="2756" y="4794"/>
                    </a:lnTo>
                    <a:lnTo>
                      <a:pt x="2790" y="4796"/>
                    </a:lnTo>
                    <a:lnTo>
                      <a:pt x="2824" y="4798"/>
                    </a:lnTo>
                    <a:lnTo>
                      <a:pt x="2848" y="4798"/>
                    </a:lnTo>
                    <a:lnTo>
                      <a:pt x="2870" y="4796"/>
                    </a:lnTo>
                    <a:lnTo>
                      <a:pt x="2916" y="4788"/>
                    </a:lnTo>
                    <a:lnTo>
                      <a:pt x="2962" y="4778"/>
                    </a:lnTo>
                    <a:lnTo>
                      <a:pt x="3004" y="4762"/>
                    </a:lnTo>
                    <a:lnTo>
                      <a:pt x="3044" y="4742"/>
                    </a:lnTo>
                    <a:lnTo>
                      <a:pt x="3082" y="4718"/>
                    </a:lnTo>
                    <a:lnTo>
                      <a:pt x="3118" y="4692"/>
                    </a:lnTo>
                    <a:lnTo>
                      <a:pt x="3150" y="4662"/>
                    </a:lnTo>
                    <a:lnTo>
                      <a:pt x="3180" y="4630"/>
                    </a:lnTo>
                    <a:lnTo>
                      <a:pt x="3208" y="4594"/>
                    </a:lnTo>
                    <a:lnTo>
                      <a:pt x="3230" y="4556"/>
                    </a:lnTo>
                    <a:lnTo>
                      <a:pt x="3250" y="4516"/>
                    </a:lnTo>
                    <a:lnTo>
                      <a:pt x="3266" y="4472"/>
                    </a:lnTo>
                    <a:lnTo>
                      <a:pt x="3278" y="4428"/>
                    </a:lnTo>
                    <a:lnTo>
                      <a:pt x="3284" y="4382"/>
                    </a:lnTo>
                    <a:lnTo>
                      <a:pt x="3286" y="4358"/>
                    </a:lnTo>
                    <a:lnTo>
                      <a:pt x="3286" y="4334"/>
                    </a:lnTo>
                    <a:lnTo>
                      <a:pt x="3284" y="4292"/>
                    </a:lnTo>
                    <a:lnTo>
                      <a:pt x="3278" y="4248"/>
                    </a:lnTo>
                    <a:lnTo>
                      <a:pt x="3268" y="4208"/>
                    </a:lnTo>
                    <a:lnTo>
                      <a:pt x="3256" y="4168"/>
                    </a:lnTo>
                    <a:lnTo>
                      <a:pt x="3238" y="4130"/>
                    </a:lnTo>
                    <a:lnTo>
                      <a:pt x="3218" y="4092"/>
                    </a:lnTo>
                    <a:lnTo>
                      <a:pt x="3196" y="4058"/>
                    </a:lnTo>
                    <a:lnTo>
                      <a:pt x="3170" y="4026"/>
                    </a:lnTo>
                    <a:lnTo>
                      <a:pt x="3140" y="3998"/>
                    </a:lnTo>
                    <a:lnTo>
                      <a:pt x="3110" y="3970"/>
                    </a:lnTo>
                    <a:lnTo>
                      <a:pt x="3076" y="3946"/>
                    </a:lnTo>
                    <a:lnTo>
                      <a:pt x="3040" y="3926"/>
                    </a:lnTo>
                    <a:lnTo>
                      <a:pt x="3002" y="3908"/>
                    </a:lnTo>
                    <a:lnTo>
                      <a:pt x="2962" y="3894"/>
                    </a:lnTo>
                    <a:lnTo>
                      <a:pt x="2922" y="3882"/>
                    </a:lnTo>
                    <a:lnTo>
                      <a:pt x="2880" y="3876"/>
                    </a:lnTo>
                    <a:lnTo>
                      <a:pt x="2886" y="3742"/>
                    </a:lnTo>
                    <a:lnTo>
                      <a:pt x="2888" y="3742"/>
                    </a:lnTo>
                    <a:lnTo>
                      <a:pt x="2878" y="3604"/>
                    </a:lnTo>
                    <a:lnTo>
                      <a:pt x="2874" y="3464"/>
                    </a:lnTo>
                    <a:lnTo>
                      <a:pt x="2874" y="3326"/>
                    </a:lnTo>
                    <a:lnTo>
                      <a:pt x="2876" y="3188"/>
                    </a:lnTo>
                    <a:lnTo>
                      <a:pt x="2878" y="3030"/>
                    </a:lnTo>
                    <a:lnTo>
                      <a:pt x="2880" y="2874"/>
                    </a:lnTo>
                    <a:lnTo>
                      <a:pt x="2880" y="2560"/>
                    </a:lnTo>
                    <a:lnTo>
                      <a:pt x="2876" y="1934"/>
                    </a:lnTo>
                    <a:lnTo>
                      <a:pt x="2872" y="1344"/>
                    </a:lnTo>
                    <a:lnTo>
                      <a:pt x="2872" y="754"/>
                    </a:lnTo>
                    <a:lnTo>
                      <a:pt x="2872" y="628"/>
                    </a:lnTo>
                    <a:lnTo>
                      <a:pt x="2872" y="622"/>
                    </a:lnTo>
                    <a:lnTo>
                      <a:pt x="2868" y="618"/>
                    </a:lnTo>
                    <a:lnTo>
                      <a:pt x="2860" y="610"/>
                    </a:lnTo>
                    <a:lnTo>
                      <a:pt x="2848" y="604"/>
                    </a:lnTo>
                    <a:lnTo>
                      <a:pt x="2834" y="596"/>
                    </a:lnTo>
                    <a:lnTo>
                      <a:pt x="2820" y="590"/>
                    </a:lnTo>
                    <a:lnTo>
                      <a:pt x="2808" y="584"/>
                    </a:lnTo>
                    <a:lnTo>
                      <a:pt x="2798" y="576"/>
                    </a:lnTo>
                    <a:lnTo>
                      <a:pt x="2796" y="570"/>
                    </a:lnTo>
                    <a:lnTo>
                      <a:pt x="2794" y="564"/>
                    </a:lnTo>
                    <a:lnTo>
                      <a:pt x="2792" y="492"/>
                    </a:lnTo>
                    <a:lnTo>
                      <a:pt x="2788" y="418"/>
                    </a:lnTo>
                    <a:lnTo>
                      <a:pt x="2788" y="346"/>
                    </a:lnTo>
                    <a:lnTo>
                      <a:pt x="2790" y="272"/>
                    </a:lnTo>
                    <a:lnTo>
                      <a:pt x="2792" y="234"/>
                    </a:lnTo>
                    <a:lnTo>
                      <a:pt x="2794" y="212"/>
                    </a:lnTo>
                    <a:lnTo>
                      <a:pt x="2796" y="204"/>
                    </a:lnTo>
                    <a:lnTo>
                      <a:pt x="2796" y="200"/>
                    </a:lnTo>
                    <a:lnTo>
                      <a:pt x="2836" y="198"/>
                    </a:lnTo>
                    <a:lnTo>
                      <a:pt x="2874" y="196"/>
                    </a:lnTo>
                    <a:lnTo>
                      <a:pt x="3018" y="196"/>
                    </a:lnTo>
                    <a:lnTo>
                      <a:pt x="3054" y="196"/>
                    </a:lnTo>
                    <a:lnTo>
                      <a:pt x="3090" y="198"/>
                    </a:lnTo>
                    <a:lnTo>
                      <a:pt x="3160" y="202"/>
                    </a:lnTo>
                    <a:lnTo>
                      <a:pt x="3168" y="204"/>
                    </a:lnTo>
                    <a:lnTo>
                      <a:pt x="3174" y="208"/>
                    </a:lnTo>
                    <a:lnTo>
                      <a:pt x="3176" y="214"/>
                    </a:lnTo>
                    <a:lnTo>
                      <a:pt x="3178" y="222"/>
                    </a:lnTo>
                    <a:lnTo>
                      <a:pt x="3176" y="240"/>
                    </a:lnTo>
                    <a:lnTo>
                      <a:pt x="3176" y="258"/>
                    </a:lnTo>
                    <a:lnTo>
                      <a:pt x="3186" y="902"/>
                    </a:lnTo>
                    <a:lnTo>
                      <a:pt x="3190" y="1226"/>
                    </a:lnTo>
                    <a:lnTo>
                      <a:pt x="3192" y="1548"/>
                    </a:lnTo>
                    <a:lnTo>
                      <a:pt x="3194" y="2150"/>
                    </a:lnTo>
                    <a:lnTo>
                      <a:pt x="3194" y="2754"/>
                    </a:lnTo>
                    <a:lnTo>
                      <a:pt x="3194" y="3194"/>
                    </a:lnTo>
                    <a:lnTo>
                      <a:pt x="3196" y="3312"/>
                    </a:lnTo>
                    <a:lnTo>
                      <a:pt x="3196" y="3432"/>
                    </a:lnTo>
                    <a:lnTo>
                      <a:pt x="3196" y="3490"/>
                    </a:lnTo>
                    <a:lnTo>
                      <a:pt x="3196" y="3550"/>
                    </a:lnTo>
                    <a:lnTo>
                      <a:pt x="3192" y="3610"/>
                    </a:lnTo>
                    <a:lnTo>
                      <a:pt x="3188" y="3668"/>
                    </a:lnTo>
                    <a:lnTo>
                      <a:pt x="3150" y="3668"/>
                    </a:lnTo>
                    <a:lnTo>
                      <a:pt x="3130" y="3666"/>
                    </a:lnTo>
                    <a:lnTo>
                      <a:pt x="3122" y="3664"/>
                    </a:lnTo>
                    <a:lnTo>
                      <a:pt x="3116" y="3660"/>
                    </a:lnTo>
                    <a:lnTo>
                      <a:pt x="3116" y="3656"/>
                    </a:lnTo>
                    <a:lnTo>
                      <a:pt x="3116" y="3650"/>
                    </a:lnTo>
                    <a:lnTo>
                      <a:pt x="3116" y="3638"/>
                    </a:lnTo>
                    <a:lnTo>
                      <a:pt x="3114" y="3494"/>
                    </a:lnTo>
                    <a:lnTo>
                      <a:pt x="3106" y="3074"/>
                    </a:lnTo>
                    <a:lnTo>
                      <a:pt x="3104" y="2918"/>
                    </a:lnTo>
                    <a:lnTo>
                      <a:pt x="3104" y="2764"/>
                    </a:lnTo>
                    <a:lnTo>
                      <a:pt x="3100" y="1174"/>
                    </a:lnTo>
                    <a:lnTo>
                      <a:pt x="3098" y="606"/>
                    </a:lnTo>
                    <a:lnTo>
                      <a:pt x="3098" y="566"/>
                    </a:lnTo>
                    <a:lnTo>
                      <a:pt x="3096" y="562"/>
                    </a:lnTo>
                    <a:lnTo>
                      <a:pt x="3094" y="558"/>
                    </a:lnTo>
                    <a:lnTo>
                      <a:pt x="3086" y="552"/>
                    </a:lnTo>
                    <a:lnTo>
                      <a:pt x="3074" y="548"/>
                    </a:lnTo>
                    <a:lnTo>
                      <a:pt x="3060" y="544"/>
                    </a:lnTo>
                    <a:lnTo>
                      <a:pt x="3030" y="540"/>
                    </a:lnTo>
                    <a:lnTo>
                      <a:pt x="3010" y="540"/>
                    </a:lnTo>
                    <a:lnTo>
                      <a:pt x="2946" y="542"/>
                    </a:lnTo>
                    <a:lnTo>
                      <a:pt x="2936" y="544"/>
                    </a:lnTo>
                    <a:lnTo>
                      <a:pt x="2930" y="548"/>
                    </a:lnTo>
                    <a:lnTo>
                      <a:pt x="2924" y="554"/>
                    </a:lnTo>
                    <a:lnTo>
                      <a:pt x="2920" y="560"/>
                    </a:lnTo>
                    <a:lnTo>
                      <a:pt x="2918" y="568"/>
                    </a:lnTo>
                    <a:lnTo>
                      <a:pt x="2916" y="578"/>
                    </a:lnTo>
                    <a:lnTo>
                      <a:pt x="2916" y="594"/>
                    </a:lnTo>
                    <a:lnTo>
                      <a:pt x="2918" y="628"/>
                    </a:lnTo>
                    <a:lnTo>
                      <a:pt x="2920" y="662"/>
                    </a:lnTo>
                    <a:lnTo>
                      <a:pt x="2920" y="730"/>
                    </a:lnTo>
                    <a:lnTo>
                      <a:pt x="2922" y="1300"/>
                    </a:lnTo>
                    <a:lnTo>
                      <a:pt x="2922" y="1584"/>
                    </a:lnTo>
                    <a:lnTo>
                      <a:pt x="2922" y="1870"/>
                    </a:lnTo>
                    <a:lnTo>
                      <a:pt x="2920" y="2480"/>
                    </a:lnTo>
                    <a:lnTo>
                      <a:pt x="2920" y="2630"/>
                    </a:lnTo>
                    <a:lnTo>
                      <a:pt x="2922" y="2780"/>
                    </a:lnTo>
                    <a:lnTo>
                      <a:pt x="2926" y="2930"/>
                    </a:lnTo>
                    <a:lnTo>
                      <a:pt x="2926" y="3078"/>
                    </a:lnTo>
                    <a:lnTo>
                      <a:pt x="2926" y="3396"/>
                    </a:lnTo>
                    <a:lnTo>
                      <a:pt x="2924" y="3554"/>
                    </a:lnTo>
                    <a:lnTo>
                      <a:pt x="2920" y="3712"/>
                    </a:lnTo>
                    <a:lnTo>
                      <a:pt x="2920" y="3718"/>
                    </a:lnTo>
                    <a:lnTo>
                      <a:pt x="2924" y="3724"/>
                    </a:lnTo>
                    <a:lnTo>
                      <a:pt x="2932" y="3736"/>
                    </a:lnTo>
                    <a:lnTo>
                      <a:pt x="2946" y="3746"/>
                    </a:lnTo>
                    <a:lnTo>
                      <a:pt x="2962" y="3758"/>
                    </a:lnTo>
                    <a:lnTo>
                      <a:pt x="2996" y="3780"/>
                    </a:lnTo>
                    <a:lnTo>
                      <a:pt x="3022" y="3796"/>
                    </a:lnTo>
                    <a:lnTo>
                      <a:pt x="3080" y="3836"/>
                    </a:lnTo>
                    <a:lnTo>
                      <a:pt x="3086" y="3840"/>
                    </a:lnTo>
                    <a:lnTo>
                      <a:pt x="3096" y="3842"/>
                    </a:lnTo>
                    <a:lnTo>
                      <a:pt x="3116" y="3842"/>
                    </a:lnTo>
                    <a:lnTo>
                      <a:pt x="3152" y="3840"/>
                    </a:lnTo>
                    <a:lnTo>
                      <a:pt x="3170" y="3842"/>
                    </a:lnTo>
                    <a:lnTo>
                      <a:pt x="3182" y="3844"/>
                    </a:lnTo>
                    <a:lnTo>
                      <a:pt x="3186" y="3846"/>
                    </a:lnTo>
                    <a:lnTo>
                      <a:pt x="3190" y="3850"/>
                    </a:lnTo>
                    <a:lnTo>
                      <a:pt x="3200" y="3864"/>
                    </a:lnTo>
                    <a:lnTo>
                      <a:pt x="3214" y="3892"/>
                    </a:lnTo>
                    <a:lnTo>
                      <a:pt x="3218" y="3898"/>
                    </a:lnTo>
                    <a:lnTo>
                      <a:pt x="3222" y="3904"/>
                    </a:lnTo>
                    <a:lnTo>
                      <a:pt x="3228" y="3908"/>
                    </a:lnTo>
                    <a:lnTo>
                      <a:pt x="3234" y="3910"/>
                    </a:lnTo>
                    <a:lnTo>
                      <a:pt x="3406" y="3904"/>
                    </a:lnTo>
                    <a:lnTo>
                      <a:pt x="3566" y="3900"/>
                    </a:lnTo>
                    <a:lnTo>
                      <a:pt x="3570" y="3898"/>
                    </a:lnTo>
                    <a:lnTo>
                      <a:pt x="3572" y="3894"/>
                    </a:lnTo>
                    <a:lnTo>
                      <a:pt x="3578" y="3882"/>
                    </a:lnTo>
                    <a:lnTo>
                      <a:pt x="3582" y="3868"/>
                    </a:lnTo>
                    <a:lnTo>
                      <a:pt x="3584" y="3864"/>
                    </a:lnTo>
                    <a:lnTo>
                      <a:pt x="3588" y="3864"/>
                    </a:lnTo>
                    <a:lnTo>
                      <a:pt x="3666" y="3866"/>
                    </a:lnTo>
                    <a:lnTo>
                      <a:pt x="3768" y="3870"/>
                    </a:lnTo>
                    <a:lnTo>
                      <a:pt x="3796" y="3870"/>
                    </a:lnTo>
                    <a:lnTo>
                      <a:pt x="3800" y="3872"/>
                    </a:lnTo>
                    <a:lnTo>
                      <a:pt x="3800" y="3876"/>
                    </a:lnTo>
                    <a:lnTo>
                      <a:pt x="3800" y="3882"/>
                    </a:lnTo>
                    <a:lnTo>
                      <a:pt x="3800" y="3884"/>
                    </a:lnTo>
                    <a:lnTo>
                      <a:pt x="3802" y="3886"/>
                    </a:lnTo>
                    <a:lnTo>
                      <a:pt x="3816" y="3892"/>
                    </a:lnTo>
                    <a:lnTo>
                      <a:pt x="3830" y="3896"/>
                    </a:lnTo>
                    <a:lnTo>
                      <a:pt x="3846" y="3898"/>
                    </a:lnTo>
                    <a:lnTo>
                      <a:pt x="3860" y="3900"/>
                    </a:lnTo>
                    <a:lnTo>
                      <a:pt x="3890" y="3900"/>
                    </a:lnTo>
                    <a:lnTo>
                      <a:pt x="3920" y="3900"/>
                    </a:lnTo>
                    <a:lnTo>
                      <a:pt x="4120" y="3900"/>
                    </a:lnTo>
                    <a:lnTo>
                      <a:pt x="4140" y="3900"/>
                    </a:lnTo>
                    <a:lnTo>
                      <a:pt x="4162" y="3900"/>
                    </a:lnTo>
                    <a:lnTo>
                      <a:pt x="4178" y="3902"/>
                    </a:lnTo>
                    <a:lnTo>
                      <a:pt x="4184" y="3900"/>
                    </a:lnTo>
                    <a:lnTo>
                      <a:pt x="4190" y="3896"/>
                    </a:lnTo>
                    <a:lnTo>
                      <a:pt x="4198" y="3878"/>
                    </a:lnTo>
                    <a:lnTo>
                      <a:pt x="4204" y="3868"/>
                    </a:lnTo>
                    <a:lnTo>
                      <a:pt x="4208" y="3864"/>
                    </a:lnTo>
                    <a:lnTo>
                      <a:pt x="4378" y="3864"/>
                    </a:lnTo>
                    <a:lnTo>
                      <a:pt x="4436" y="3864"/>
                    </a:lnTo>
                    <a:lnTo>
                      <a:pt x="4442" y="3864"/>
                    </a:lnTo>
                    <a:lnTo>
                      <a:pt x="4446" y="3868"/>
                    </a:lnTo>
                    <a:lnTo>
                      <a:pt x="4454" y="3882"/>
                    </a:lnTo>
                    <a:lnTo>
                      <a:pt x="4464" y="3894"/>
                    </a:lnTo>
                    <a:lnTo>
                      <a:pt x="4468" y="3898"/>
                    </a:lnTo>
                    <a:lnTo>
                      <a:pt x="4474" y="3900"/>
                    </a:lnTo>
                    <a:lnTo>
                      <a:pt x="4842" y="3900"/>
                    </a:lnTo>
                    <a:lnTo>
                      <a:pt x="4848" y="3898"/>
                    </a:lnTo>
                    <a:lnTo>
                      <a:pt x="4856" y="3898"/>
                    </a:lnTo>
                    <a:lnTo>
                      <a:pt x="4860" y="3894"/>
                    </a:lnTo>
                    <a:lnTo>
                      <a:pt x="4864" y="3890"/>
                    </a:lnTo>
                    <a:lnTo>
                      <a:pt x="4872" y="3880"/>
                    </a:lnTo>
                    <a:lnTo>
                      <a:pt x="4874" y="3868"/>
                    </a:lnTo>
                    <a:lnTo>
                      <a:pt x="4876" y="3852"/>
                    </a:lnTo>
                    <a:lnTo>
                      <a:pt x="4876" y="3838"/>
                    </a:lnTo>
                    <a:lnTo>
                      <a:pt x="4876" y="3810"/>
                    </a:lnTo>
                    <a:lnTo>
                      <a:pt x="4874" y="3640"/>
                    </a:lnTo>
                    <a:close/>
                    <a:moveTo>
                      <a:pt x="2184" y="3000"/>
                    </a:moveTo>
                    <a:lnTo>
                      <a:pt x="2184" y="3000"/>
                    </a:lnTo>
                    <a:lnTo>
                      <a:pt x="2168" y="3004"/>
                    </a:lnTo>
                    <a:lnTo>
                      <a:pt x="2150" y="3004"/>
                    </a:lnTo>
                    <a:lnTo>
                      <a:pt x="2112" y="3004"/>
                    </a:lnTo>
                    <a:lnTo>
                      <a:pt x="2072" y="3002"/>
                    </a:lnTo>
                    <a:lnTo>
                      <a:pt x="2036" y="3000"/>
                    </a:lnTo>
                    <a:lnTo>
                      <a:pt x="1954" y="3000"/>
                    </a:lnTo>
                    <a:lnTo>
                      <a:pt x="1776" y="3004"/>
                    </a:lnTo>
                    <a:lnTo>
                      <a:pt x="1600" y="3006"/>
                    </a:lnTo>
                    <a:lnTo>
                      <a:pt x="1654" y="3000"/>
                    </a:lnTo>
                    <a:lnTo>
                      <a:pt x="1656" y="2972"/>
                    </a:lnTo>
                    <a:lnTo>
                      <a:pt x="1656" y="2900"/>
                    </a:lnTo>
                    <a:lnTo>
                      <a:pt x="1656" y="2794"/>
                    </a:lnTo>
                    <a:lnTo>
                      <a:pt x="1654" y="2736"/>
                    </a:lnTo>
                    <a:lnTo>
                      <a:pt x="1650" y="2676"/>
                    </a:lnTo>
                    <a:lnTo>
                      <a:pt x="1646" y="2614"/>
                    </a:lnTo>
                    <a:lnTo>
                      <a:pt x="1638" y="2554"/>
                    </a:lnTo>
                    <a:lnTo>
                      <a:pt x="1630" y="2500"/>
                    </a:lnTo>
                    <a:lnTo>
                      <a:pt x="1620" y="2448"/>
                    </a:lnTo>
                    <a:lnTo>
                      <a:pt x="1612" y="2426"/>
                    </a:lnTo>
                    <a:lnTo>
                      <a:pt x="1606" y="2406"/>
                    </a:lnTo>
                    <a:lnTo>
                      <a:pt x="1598" y="2388"/>
                    </a:lnTo>
                    <a:lnTo>
                      <a:pt x="1590" y="2372"/>
                    </a:lnTo>
                    <a:lnTo>
                      <a:pt x="1580" y="2360"/>
                    </a:lnTo>
                    <a:lnTo>
                      <a:pt x="1570" y="2350"/>
                    </a:lnTo>
                    <a:lnTo>
                      <a:pt x="1558" y="2344"/>
                    </a:lnTo>
                    <a:lnTo>
                      <a:pt x="1546" y="2340"/>
                    </a:lnTo>
                    <a:lnTo>
                      <a:pt x="1516" y="2340"/>
                    </a:lnTo>
                    <a:lnTo>
                      <a:pt x="1474" y="2340"/>
                    </a:lnTo>
                    <a:lnTo>
                      <a:pt x="1362" y="2342"/>
                    </a:lnTo>
                    <a:lnTo>
                      <a:pt x="1226" y="2346"/>
                    </a:lnTo>
                    <a:lnTo>
                      <a:pt x="1080" y="2350"/>
                    </a:lnTo>
                    <a:lnTo>
                      <a:pt x="1008" y="2350"/>
                    </a:lnTo>
                    <a:lnTo>
                      <a:pt x="940" y="2348"/>
                    </a:lnTo>
                    <a:lnTo>
                      <a:pt x="876" y="2344"/>
                    </a:lnTo>
                    <a:lnTo>
                      <a:pt x="820" y="2340"/>
                    </a:lnTo>
                    <a:lnTo>
                      <a:pt x="772" y="2330"/>
                    </a:lnTo>
                    <a:lnTo>
                      <a:pt x="750" y="2326"/>
                    </a:lnTo>
                    <a:lnTo>
                      <a:pt x="732" y="2320"/>
                    </a:lnTo>
                    <a:lnTo>
                      <a:pt x="718" y="2312"/>
                    </a:lnTo>
                    <a:lnTo>
                      <a:pt x="706" y="2306"/>
                    </a:lnTo>
                    <a:lnTo>
                      <a:pt x="698" y="2296"/>
                    </a:lnTo>
                    <a:lnTo>
                      <a:pt x="694" y="2286"/>
                    </a:lnTo>
                    <a:lnTo>
                      <a:pt x="584" y="1764"/>
                    </a:lnTo>
                    <a:lnTo>
                      <a:pt x="490" y="1320"/>
                    </a:lnTo>
                    <a:lnTo>
                      <a:pt x="476" y="1314"/>
                    </a:lnTo>
                    <a:lnTo>
                      <a:pt x="460" y="1310"/>
                    </a:lnTo>
                    <a:lnTo>
                      <a:pt x="442" y="1308"/>
                    </a:lnTo>
                    <a:lnTo>
                      <a:pt x="434" y="1308"/>
                    </a:lnTo>
                    <a:lnTo>
                      <a:pt x="426" y="1308"/>
                    </a:lnTo>
                    <a:lnTo>
                      <a:pt x="418" y="1312"/>
                    </a:lnTo>
                    <a:lnTo>
                      <a:pt x="410" y="1316"/>
                    </a:lnTo>
                    <a:lnTo>
                      <a:pt x="404" y="1322"/>
                    </a:lnTo>
                    <a:lnTo>
                      <a:pt x="398" y="1332"/>
                    </a:lnTo>
                    <a:lnTo>
                      <a:pt x="396" y="1342"/>
                    </a:lnTo>
                    <a:lnTo>
                      <a:pt x="394" y="1356"/>
                    </a:lnTo>
                    <a:lnTo>
                      <a:pt x="396" y="1378"/>
                    </a:lnTo>
                    <a:lnTo>
                      <a:pt x="402" y="1414"/>
                    </a:lnTo>
                    <a:lnTo>
                      <a:pt x="420" y="1530"/>
                    </a:lnTo>
                    <a:lnTo>
                      <a:pt x="480" y="1882"/>
                    </a:lnTo>
                    <a:lnTo>
                      <a:pt x="554" y="2296"/>
                    </a:lnTo>
                    <a:lnTo>
                      <a:pt x="620" y="2664"/>
                    </a:lnTo>
                    <a:lnTo>
                      <a:pt x="480" y="2674"/>
                    </a:lnTo>
                    <a:lnTo>
                      <a:pt x="338" y="2684"/>
                    </a:lnTo>
                    <a:lnTo>
                      <a:pt x="326" y="2376"/>
                    </a:lnTo>
                    <a:lnTo>
                      <a:pt x="316" y="2066"/>
                    </a:lnTo>
                    <a:lnTo>
                      <a:pt x="308" y="1756"/>
                    </a:lnTo>
                    <a:lnTo>
                      <a:pt x="302" y="1446"/>
                    </a:lnTo>
                    <a:lnTo>
                      <a:pt x="300" y="1202"/>
                    </a:lnTo>
                    <a:lnTo>
                      <a:pt x="296" y="956"/>
                    </a:lnTo>
                    <a:lnTo>
                      <a:pt x="290" y="544"/>
                    </a:lnTo>
                    <a:lnTo>
                      <a:pt x="290" y="526"/>
                    </a:lnTo>
                    <a:lnTo>
                      <a:pt x="292" y="496"/>
                    </a:lnTo>
                    <a:lnTo>
                      <a:pt x="294" y="480"/>
                    </a:lnTo>
                    <a:lnTo>
                      <a:pt x="298" y="460"/>
                    </a:lnTo>
                    <a:lnTo>
                      <a:pt x="304" y="442"/>
                    </a:lnTo>
                    <a:lnTo>
                      <a:pt x="310" y="422"/>
                    </a:lnTo>
                    <a:lnTo>
                      <a:pt x="320" y="402"/>
                    </a:lnTo>
                    <a:lnTo>
                      <a:pt x="332" y="382"/>
                    </a:lnTo>
                    <a:lnTo>
                      <a:pt x="346" y="364"/>
                    </a:lnTo>
                    <a:lnTo>
                      <a:pt x="364" y="348"/>
                    </a:lnTo>
                    <a:lnTo>
                      <a:pt x="384" y="332"/>
                    </a:lnTo>
                    <a:lnTo>
                      <a:pt x="410" y="320"/>
                    </a:lnTo>
                    <a:lnTo>
                      <a:pt x="438" y="310"/>
                    </a:lnTo>
                    <a:lnTo>
                      <a:pt x="472" y="302"/>
                    </a:lnTo>
                    <a:lnTo>
                      <a:pt x="506" y="300"/>
                    </a:lnTo>
                    <a:lnTo>
                      <a:pt x="540" y="296"/>
                    </a:lnTo>
                    <a:lnTo>
                      <a:pt x="610" y="294"/>
                    </a:lnTo>
                    <a:lnTo>
                      <a:pt x="678" y="292"/>
                    </a:lnTo>
                    <a:lnTo>
                      <a:pt x="746" y="290"/>
                    </a:lnTo>
                    <a:lnTo>
                      <a:pt x="884" y="288"/>
                    </a:lnTo>
                    <a:lnTo>
                      <a:pt x="1150" y="282"/>
                    </a:lnTo>
                    <a:lnTo>
                      <a:pt x="1416" y="278"/>
                    </a:lnTo>
                    <a:lnTo>
                      <a:pt x="2088" y="268"/>
                    </a:lnTo>
                    <a:lnTo>
                      <a:pt x="2104" y="268"/>
                    </a:lnTo>
                    <a:lnTo>
                      <a:pt x="2118" y="266"/>
                    </a:lnTo>
                    <a:lnTo>
                      <a:pt x="2126" y="266"/>
                    </a:lnTo>
                    <a:lnTo>
                      <a:pt x="2132" y="268"/>
                    </a:lnTo>
                    <a:lnTo>
                      <a:pt x="2136" y="272"/>
                    </a:lnTo>
                    <a:lnTo>
                      <a:pt x="2138" y="280"/>
                    </a:lnTo>
                    <a:lnTo>
                      <a:pt x="2148" y="356"/>
                    </a:lnTo>
                    <a:lnTo>
                      <a:pt x="2194" y="670"/>
                    </a:lnTo>
                    <a:lnTo>
                      <a:pt x="2360" y="1848"/>
                    </a:lnTo>
                    <a:lnTo>
                      <a:pt x="2000" y="1548"/>
                    </a:lnTo>
                    <a:lnTo>
                      <a:pt x="1962" y="1610"/>
                    </a:lnTo>
                    <a:lnTo>
                      <a:pt x="1942" y="1640"/>
                    </a:lnTo>
                    <a:lnTo>
                      <a:pt x="1922" y="1670"/>
                    </a:lnTo>
                    <a:lnTo>
                      <a:pt x="1920" y="1672"/>
                    </a:lnTo>
                    <a:lnTo>
                      <a:pt x="1922" y="1676"/>
                    </a:lnTo>
                    <a:lnTo>
                      <a:pt x="1926" y="1684"/>
                    </a:lnTo>
                    <a:lnTo>
                      <a:pt x="1936" y="1694"/>
                    </a:lnTo>
                    <a:lnTo>
                      <a:pt x="1946" y="1704"/>
                    </a:lnTo>
                    <a:lnTo>
                      <a:pt x="1986" y="1734"/>
                    </a:lnTo>
                    <a:lnTo>
                      <a:pt x="2280" y="1990"/>
                    </a:lnTo>
                    <a:lnTo>
                      <a:pt x="2304" y="2012"/>
                    </a:lnTo>
                    <a:lnTo>
                      <a:pt x="2308" y="2016"/>
                    </a:lnTo>
                    <a:lnTo>
                      <a:pt x="2310" y="2024"/>
                    </a:lnTo>
                    <a:lnTo>
                      <a:pt x="2312" y="2048"/>
                    </a:lnTo>
                    <a:lnTo>
                      <a:pt x="2312" y="2088"/>
                    </a:lnTo>
                    <a:lnTo>
                      <a:pt x="2320" y="2162"/>
                    </a:lnTo>
                    <a:lnTo>
                      <a:pt x="2330" y="2236"/>
                    </a:lnTo>
                    <a:lnTo>
                      <a:pt x="2346" y="2374"/>
                    </a:lnTo>
                    <a:lnTo>
                      <a:pt x="2354" y="2442"/>
                    </a:lnTo>
                    <a:lnTo>
                      <a:pt x="2360" y="2510"/>
                    </a:lnTo>
                    <a:lnTo>
                      <a:pt x="2370" y="2674"/>
                    </a:lnTo>
                    <a:lnTo>
                      <a:pt x="2374" y="2756"/>
                    </a:lnTo>
                    <a:lnTo>
                      <a:pt x="2376" y="2838"/>
                    </a:lnTo>
                    <a:lnTo>
                      <a:pt x="2376" y="2866"/>
                    </a:lnTo>
                    <a:lnTo>
                      <a:pt x="2376" y="2904"/>
                    </a:lnTo>
                    <a:lnTo>
                      <a:pt x="2374" y="2922"/>
                    </a:lnTo>
                    <a:lnTo>
                      <a:pt x="2372" y="2938"/>
                    </a:lnTo>
                    <a:lnTo>
                      <a:pt x="2366" y="2950"/>
                    </a:lnTo>
                    <a:lnTo>
                      <a:pt x="2362" y="2954"/>
                    </a:lnTo>
                    <a:lnTo>
                      <a:pt x="2358" y="2956"/>
                    </a:lnTo>
                    <a:lnTo>
                      <a:pt x="2184" y="3000"/>
                    </a:lnTo>
                    <a:close/>
                  </a:path>
                </a:pathLst>
              </a:custGeom>
              <a:solidFill>
                <a:srgbClr val="0101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5" name="Gruppe 240" descr=""/>
            <p:cNvPicPr/>
            <p:nvPr/>
          </p:nvPicPr>
          <p:blipFill>
            <a:blip r:embed="rId6"/>
            <a:stretch/>
          </p:blipFill>
          <p:spPr>
            <a:xfrm>
              <a:off x="3522960" y="3182040"/>
              <a:ext cx="420120" cy="44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Gruppe 240" descr=""/>
            <p:cNvPicPr/>
            <p:nvPr/>
          </p:nvPicPr>
          <p:blipFill>
            <a:blip r:embed="rId7"/>
            <a:stretch/>
          </p:blipFill>
          <p:spPr>
            <a:xfrm>
              <a:off x="3553560" y="2950200"/>
              <a:ext cx="420120" cy="44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Gruppe 240" descr=""/>
            <p:cNvPicPr/>
            <p:nvPr/>
          </p:nvPicPr>
          <p:blipFill>
            <a:blip r:embed="rId8"/>
            <a:stretch/>
          </p:blipFill>
          <p:spPr>
            <a:xfrm>
              <a:off x="3498480" y="2700360"/>
              <a:ext cx="420120" cy="43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Rektangel med enkelt afrundet hjørne 377"/>
          <p:cNvSpPr/>
          <p:nvPr/>
        </p:nvSpPr>
        <p:spPr>
          <a:xfrm flipH="1" rot="10800000">
            <a:off x="6094800" y="4701960"/>
            <a:ext cx="2468520" cy="1546200"/>
          </a:xfrm>
          <a:custGeom>
            <a:avLst/>
            <a:gdLst>
              <a:gd name="textAreaLeft" fmla="*/ -360 w 2468520"/>
              <a:gd name="textAreaRight" fmla="*/ 2421720 w 2468520"/>
              <a:gd name="textAreaTop" fmla="*/ 0 h 1546200"/>
              <a:gd name="textAreaBottom" fmla="*/ 1546560 h 1546200"/>
            </a:gdLst>
            <a:ahLst/>
            <a:rect l="textAreaLeft" t="textAreaTop" r="textAreaRight" b="textAreaBottom"/>
            <a:pathLst>
              <a:path w="2468562" h="1546225">
                <a:moveTo>
                  <a:pt x="0" y="0"/>
                </a:moveTo>
                <a:lnTo>
                  <a:pt x="2309471" y="0"/>
                </a:lnTo>
                <a:lnTo>
                  <a:pt x="2309471" y="-1"/>
                </a:lnTo>
                <a:cubicBezTo>
                  <a:pt x="2397334" y="-1"/>
                  <a:pt x="2468562" y="71227"/>
                  <a:pt x="2468562" y="159091"/>
                </a:cubicBezTo>
                <a:lnTo>
                  <a:pt x="2468562" y="1546225"/>
                </a:lnTo>
                <a:lnTo>
                  <a:pt x="0" y="1546225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d9d9d9"/>
            </a:solidFill>
            <a:round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ktangel 378"/>
          <p:cNvSpPr/>
          <p:nvPr/>
        </p:nvSpPr>
        <p:spPr>
          <a:xfrm>
            <a:off x="6157800" y="4735440"/>
            <a:ext cx="2428920" cy="8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1500" spc="-1" strike="noStrike">
                <a:solidFill>
                  <a:srgbClr val="1e1c11"/>
                </a:solidFill>
                <a:latin typeface="Calibri"/>
                <a:ea typeface="Arial"/>
              </a:rPr>
              <a:t>Example 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100" spc="-1" strike="noStrike">
                <a:solidFill>
                  <a:srgbClr val="000000"/>
                </a:solidFill>
                <a:latin typeface="Calibri"/>
                <a:ea typeface="Arial"/>
              </a:rPr>
              <a:t>Go ahead and replace it with your own text. 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Gruppe 176" descr=""/>
          <p:cNvPicPr/>
          <p:nvPr/>
        </p:nvPicPr>
        <p:blipFill>
          <a:blip r:embed="rId9"/>
          <a:stretch/>
        </p:blipFill>
        <p:spPr>
          <a:xfrm>
            <a:off x="3906720" y="1884240"/>
            <a:ext cx="1712880" cy="657360"/>
          </a:xfrm>
          <a:prstGeom prst="rect">
            <a:avLst/>
          </a:prstGeom>
          <a:ln w="0">
            <a:noFill/>
          </a:ln>
        </p:spPr>
      </p:pic>
      <p:sp>
        <p:nvSpPr>
          <p:cNvPr id="151" name="Tekstboks 535"/>
          <p:cNvSpPr/>
          <p:nvPr/>
        </p:nvSpPr>
        <p:spPr>
          <a:xfrm>
            <a:off x="233280" y="612720"/>
            <a:ext cx="5176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esign example: Logistic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uppe 799"/>
          <p:cNvGrpSpPr/>
          <p:nvPr/>
        </p:nvGrpSpPr>
        <p:grpSpPr>
          <a:xfrm>
            <a:off x="1001880" y="3638520"/>
            <a:ext cx="1295280" cy="1390680"/>
            <a:chOff x="1001880" y="3638520"/>
            <a:chExt cx="1295280" cy="1390680"/>
          </a:xfrm>
        </p:grpSpPr>
        <p:grpSp>
          <p:nvGrpSpPr>
            <p:cNvPr id="153" name="Gruppe 312"/>
            <p:cNvGrpSpPr/>
            <p:nvPr/>
          </p:nvGrpSpPr>
          <p:grpSpPr>
            <a:xfrm>
              <a:off x="1474560" y="3638520"/>
              <a:ext cx="430200" cy="1374840"/>
              <a:chOff x="1474560" y="3638520"/>
              <a:chExt cx="430200" cy="1374840"/>
            </a:xfrm>
          </p:grpSpPr>
          <p:sp>
            <p:nvSpPr>
              <p:cNvPr id="154" name="Freeform 256"/>
              <p:cNvSpPr/>
              <p:nvPr/>
            </p:nvSpPr>
            <p:spPr>
              <a:xfrm>
                <a:off x="1483200" y="4297680"/>
                <a:ext cx="66600" cy="10224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02240"/>
                  <a:gd name="textAreaBottom" fmla="*/ 102600 h 102240"/>
                </a:gdLst>
                <a:ahLst/>
                <a:rect l="textAreaLeft" t="textAreaTop" r="textAreaRight" b="textAreaBottom"/>
                <a:pathLst>
                  <a:path w="354" h="542">
                    <a:moveTo>
                      <a:pt x="72" y="16"/>
                    </a:moveTo>
                    <a:lnTo>
                      <a:pt x="88" y="0"/>
                    </a:lnTo>
                    <a:lnTo>
                      <a:pt x="104" y="2"/>
                    </a:lnTo>
                    <a:lnTo>
                      <a:pt x="116" y="8"/>
                    </a:lnTo>
                    <a:lnTo>
                      <a:pt x="118" y="10"/>
                    </a:lnTo>
                    <a:lnTo>
                      <a:pt x="130" y="16"/>
                    </a:lnTo>
                    <a:lnTo>
                      <a:pt x="142" y="24"/>
                    </a:lnTo>
                    <a:lnTo>
                      <a:pt x="150" y="36"/>
                    </a:lnTo>
                    <a:lnTo>
                      <a:pt x="156" y="48"/>
                    </a:lnTo>
                    <a:lnTo>
                      <a:pt x="164" y="64"/>
                    </a:lnTo>
                    <a:lnTo>
                      <a:pt x="172" y="76"/>
                    </a:lnTo>
                    <a:lnTo>
                      <a:pt x="186" y="92"/>
                    </a:lnTo>
                    <a:lnTo>
                      <a:pt x="208" y="124"/>
                    </a:lnTo>
                    <a:lnTo>
                      <a:pt x="228" y="150"/>
                    </a:lnTo>
                    <a:lnTo>
                      <a:pt x="242" y="160"/>
                    </a:lnTo>
                    <a:lnTo>
                      <a:pt x="260" y="170"/>
                    </a:lnTo>
                    <a:lnTo>
                      <a:pt x="280" y="182"/>
                    </a:lnTo>
                    <a:lnTo>
                      <a:pt x="306" y="196"/>
                    </a:lnTo>
                    <a:lnTo>
                      <a:pt x="328" y="204"/>
                    </a:lnTo>
                    <a:lnTo>
                      <a:pt x="342" y="212"/>
                    </a:lnTo>
                    <a:lnTo>
                      <a:pt x="348" y="216"/>
                    </a:lnTo>
                    <a:lnTo>
                      <a:pt x="354" y="224"/>
                    </a:lnTo>
                    <a:lnTo>
                      <a:pt x="354" y="230"/>
                    </a:lnTo>
                    <a:lnTo>
                      <a:pt x="350" y="238"/>
                    </a:lnTo>
                    <a:lnTo>
                      <a:pt x="346" y="246"/>
                    </a:lnTo>
                    <a:lnTo>
                      <a:pt x="336" y="252"/>
                    </a:lnTo>
                    <a:lnTo>
                      <a:pt x="320" y="254"/>
                    </a:lnTo>
                    <a:lnTo>
                      <a:pt x="300" y="254"/>
                    </a:lnTo>
                    <a:lnTo>
                      <a:pt x="286" y="252"/>
                    </a:lnTo>
                    <a:lnTo>
                      <a:pt x="260" y="242"/>
                    </a:lnTo>
                    <a:lnTo>
                      <a:pt x="254" y="240"/>
                    </a:lnTo>
                    <a:lnTo>
                      <a:pt x="234" y="228"/>
                    </a:lnTo>
                    <a:lnTo>
                      <a:pt x="222" y="222"/>
                    </a:lnTo>
                    <a:lnTo>
                      <a:pt x="214" y="210"/>
                    </a:lnTo>
                    <a:lnTo>
                      <a:pt x="208" y="206"/>
                    </a:lnTo>
                    <a:lnTo>
                      <a:pt x="202" y="206"/>
                    </a:lnTo>
                    <a:lnTo>
                      <a:pt x="190" y="202"/>
                    </a:lnTo>
                    <a:lnTo>
                      <a:pt x="170" y="202"/>
                    </a:lnTo>
                    <a:lnTo>
                      <a:pt x="168" y="202"/>
                    </a:lnTo>
                    <a:lnTo>
                      <a:pt x="164" y="206"/>
                    </a:lnTo>
                    <a:lnTo>
                      <a:pt x="160" y="218"/>
                    </a:lnTo>
                    <a:lnTo>
                      <a:pt x="158" y="256"/>
                    </a:lnTo>
                    <a:lnTo>
                      <a:pt x="150" y="308"/>
                    </a:lnTo>
                    <a:lnTo>
                      <a:pt x="148" y="334"/>
                    </a:lnTo>
                    <a:lnTo>
                      <a:pt x="156" y="360"/>
                    </a:lnTo>
                    <a:lnTo>
                      <a:pt x="174" y="440"/>
                    </a:lnTo>
                    <a:lnTo>
                      <a:pt x="182" y="458"/>
                    </a:lnTo>
                    <a:lnTo>
                      <a:pt x="182" y="470"/>
                    </a:lnTo>
                    <a:lnTo>
                      <a:pt x="178" y="480"/>
                    </a:lnTo>
                    <a:lnTo>
                      <a:pt x="174" y="490"/>
                    </a:lnTo>
                    <a:lnTo>
                      <a:pt x="170" y="492"/>
                    </a:lnTo>
                    <a:lnTo>
                      <a:pt x="166" y="498"/>
                    </a:lnTo>
                    <a:lnTo>
                      <a:pt x="160" y="500"/>
                    </a:lnTo>
                    <a:lnTo>
                      <a:pt x="146" y="500"/>
                    </a:lnTo>
                    <a:lnTo>
                      <a:pt x="142" y="496"/>
                    </a:lnTo>
                    <a:lnTo>
                      <a:pt x="140" y="492"/>
                    </a:lnTo>
                    <a:lnTo>
                      <a:pt x="128" y="474"/>
                    </a:lnTo>
                    <a:lnTo>
                      <a:pt x="102" y="416"/>
                    </a:lnTo>
                    <a:lnTo>
                      <a:pt x="94" y="404"/>
                    </a:lnTo>
                    <a:lnTo>
                      <a:pt x="92" y="404"/>
                    </a:lnTo>
                    <a:lnTo>
                      <a:pt x="94" y="408"/>
                    </a:lnTo>
                    <a:lnTo>
                      <a:pt x="92" y="426"/>
                    </a:lnTo>
                    <a:lnTo>
                      <a:pt x="84" y="450"/>
                    </a:lnTo>
                    <a:lnTo>
                      <a:pt x="60" y="502"/>
                    </a:lnTo>
                    <a:lnTo>
                      <a:pt x="56" y="510"/>
                    </a:lnTo>
                    <a:lnTo>
                      <a:pt x="48" y="520"/>
                    </a:lnTo>
                    <a:lnTo>
                      <a:pt x="42" y="530"/>
                    </a:lnTo>
                    <a:lnTo>
                      <a:pt x="34" y="534"/>
                    </a:lnTo>
                    <a:lnTo>
                      <a:pt x="16" y="542"/>
                    </a:lnTo>
                    <a:lnTo>
                      <a:pt x="8" y="540"/>
                    </a:lnTo>
                    <a:lnTo>
                      <a:pt x="2" y="536"/>
                    </a:lnTo>
                    <a:lnTo>
                      <a:pt x="0" y="532"/>
                    </a:lnTo>
                    <a:lnTo>
                      <a:pt x="2" y="526"/>
                    </a:lnTo>
                    <a:lnTo>
                      <a:pt x="6" y="514"/>
                    </a:lnTo>
                    <a:lnTo>
                      <a:pt x="8" y="496"/>
                    </a:lnTo>
                    <a:lnTo>
                      <a:pt x="14" y="472"/>
                    </a:lnTo>
                    <a:lnTo>
                      <a:pt x="16" y="452"/>
                    </a:lnTo>
                    <a:lnTo>
                      <a:pt x="22" y="432"/>
                    </a:lnTo>
                    <a:lnTo>
                      <a:pt x="24" y="406"/>
                    </a:lnTo>
                    <a:lnTo>
                      <a:pt x="28" y="372"/>
                    </a:lnTo>
                    <a:lnTo>
                      <a:pt x="34" y="338"/>
                    </a:lnTo>
                    <a:lnTo>
                      <a:pt x="38" y="304"/>
                    </a:lnTo>
                    <a:lnTo>
                      <a:pt x="36" y="276"/>
                    </a:lnTo>
                    <a:lnTo>
                      <a:pt x="30" y="234"/>
                    </a:lnTo>
                    <a:lnTo>
                      <a:pt x="20" y="140"/>
                    </a:lnTo>
                    <a:lnTo>
                      <a:pt x="12" y="88"/>
                    </a:lnTo>
                    <a:lnTo>
                      <a:pt x="22" y="62"/>
                    </a:lnTo>
                    <a:lnTo>
                      <a:pt x="28" y="56"/>
                    </a:lnTo>
                    <a:lnTo>
                      <a:pt x="72" y="16"/>
                    </a:lnTo>
                    <a:close/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257"/>
              <p:cNvSpPr/>
              <p:nvPr/>
            </p:nvSpPr>
            <p:spPr>
              <a:xfrm>
                <a:off x="1827360" y="4294800"/>
                <a:ext cx="77400" cy="9432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94320"/>
                  <a:gd name="textAreaBottom" fmla="*/ 94680 h 94320"/>
                </a:gdLst>
                <a:ahLst/>
                <a:rect l="textAreaLeft" t="textAreaTop" r="textAreaRight" b="textAreaBottom"/>
                <a:pathLst>
                  <a:path w="412" h="500">
                    <a:moveTo>
                      <a:pt x="202" y="10"/>
                    </a:moveTo>
                    <a:lnTo>
                      <a:pt x="182" y="0"/>
                    </a:lnTo>
                    <a:lnTo>
                      <a:pt x="170" y="6"/>
                    </a:lnTo>
                    <a:lnTo>
                      <a:pt x="160" y="14"/>
                    </a:lnTo>
                    <a:lnTo>
                      <a:pt x="158" y="16"/>
                    </a:lnTo>
                    <a:lnTo>
                      <a:pt x="148" y="26"/>
                    </a:lnTo>
                    <a:lnTo>
                      <a:pt x="140" y="36"/>
                    </a:lnTo>
                    <a:lnTo>
                      <a:pt x="136" y="50"/>
                    </a:lnTo>
                    <a:lnTo>
                      <a:pt x="134" y="62"/>
                    </a:lnTo>
                    <a:lnTo>
                      <a:pt x="130" y="82"/>
                    </a:lnTo>
                    <a:lnTo>
                      <a:pt x="128" y="94"/>
                    </a:lnTo>
                    <a:lnTo>
                      <a:pt x="118" y="114"/>
                    </a:lnTo>
                    <a:lnTo>
                      <a:pt x="108" y="152"/>
                    </a:lnTo>
                    <a:lnTo>
                      <a:pt x="96" y="182"/>
                    </a:lnTo>
                    <a:lnTo>
                      <a:pt x="86" y="194"/>
                    </a:lnTo>
                    <a:lnTo>
                      <a:pt x="72" y="210"/>
                    </a:lnTo>
                    <a:lnTo>
                      <a:pt x="56" y="226"/>
                    </a:lnTo>
                    <a:lnTo>
                      <a:pt x="38" y="248"/>
                    </a:lnTo>
                    <a:lnTo>
                      <a:pt x="20" y="262"/>
                    </a:lnTo>
                    <a:lnTo>
                      <a:pt x="8" y="272"/>
                    </a:lnTo>
                    <a:lnTo>
                      <a:pt x="4" y="278"/>
                    </a:lnTo>
                    <a:lnTo>
                      <a:pt x="0" y="286"/>
                    </a:lnTo>
                    <a:lnTo>
                      <a:pt x="2" y="292"/>
                    </a:lnTo>
                    <a:lnTo>
                      <a:pt x="8" y="298"/>
                    </a:lnTo>
                    <a:lnTo>
                      <a:pt x="14" y="306"/>
                    </a:lnTo>
                    <a:lnTo>
                      <a:pt x="24" y="310"/>
                    </a:lnTo>
                    <a:lnTo>
                      <a:pt x="40" y="308"/>
                    </a:lnTo>
                    <a:lnTo>
                      <a:pt x="58" y="302"/>
                    </a:lnTo>
                    <a:lnTo>
                      <a:pt x="72" y="296"/>
                    </a:lnTo>
                    <a:lnTo>
                      <a:pt x="92" y="280"/>
                    </a:lnTo>
                    <a:lnTo>
                      <a:pt x="96" y="274"/>
                    </a:lnTo>
                    <a:lnTo>
                      <a:pt x="112" y="258"/>
                    </a:lnTo>
                    <a:lnTo>
                      <a:pt x="122" y="248"/>
                    </a:lnTo>
                    <a:lnTo>
                      <a:pt x="126" y="234"/>
                    </a:lnTo>
                    <a:lnTo>
                      <a:pt x="130" y="230"/>
                    </a:lnTo>
                    <a:lnTo>
                      <a:pt x="136" y="228"/>
                    </a:lnTo>
                    <a:lnTo>
                      <a:pt x="146" y="222"/>
                    </a:lnTo>
                    <a:lnTo>
                      <a:pt x="164" y="216"/>
                    </a:lnTo>
                    <a:lnTo>
                      <a:pt x="166" y="216"/>
                    </a:lnTo>
                    <a:lnTo>
                      <a:pt x="170" y="218"/>
                    </a:lnTo>
                    <a:lnTo>
                      <a:pt x="178" y="228"/>
                    </a:lnTo>
                    <a:lnTo>
                      <a:pt x="190" y="264"/>
                    </a:lnTo>
                    <a:lnTo>
                      <a:pt x="212" y="312"/>
                    </a:lnTo>
                    <a:lnTo>
                      <a:pt x="220" y="336"/>
                    </a:lnTo>
                    <a:lnTo>
                      <a:pt x="220" y="364"/>
                    </a:lnTo>
                    <a:lnTo>
                      <a:pt x="226" y="446"/>
                    </a:lnTo>
                    <a:lnTo>
                      <a:pt x="224" y="464"/>
                    </a:lnTo>
                    <a:lnTo>
                      <a:pt x="226" y="476"/>
                    </a:lnTo>
                    <a:lnTo>
                      <a:pt x="232" y="484"/>
                    </a:lnTo>
                    <a:lnTo>
                      <a:pt x="240" y="492"/>
                    </a:lnTo>
                    <a:lnTo>
                      <a:pt x="244" y="494"/>
                    </a:lnTo>
                    <a:lnTo>
                      <a:pt x="250" y="498"/>
                    </a:lnTo>
                    <a:lnTo>
                      <a:pt x="256" y="500"/>
                    </a:lnTo>
                    <a:lnTo>
                      <a:pt x="268" y="496"/>
                    </a:lnTo>
                    <a:lnTo>
                      <a:pt x="270" y="490"/>
                    </a:lnTo>
                    <a:lnTo>
                      <a:pt x="272" y="486"/>
                    </a:lnTo>
                    <a:lnTo>
                      <a:pt x="278" y="464"/>
                    </a:lnTo>
                    <a:lnTo>
                      <a:pt x="286" y="402"/>
                    </a:lnTo>
                    <a:lnTo>
                      <a:pt x="288" y="388"/>
                    </a:lnTo>
                    <a:lnTo>
                      <a:pt x="290" y="388"/>
                    </a:lnTo>
                    <a:lnTo>
                      <a:pt x="292" y="392"/>
                    </a:lnTo>
                    <a:lnTo>
                      <a:pt x="298" y="408"/>
                    </a:lnTo>
                    <a:lnTo>
                      <a:pt x="312" y="428"/>
                    </a:lnTo>
                    <a:lnTo>
                      <a:pt x="346" y="472"/>
                    </a:lnTo>
                    <a:lnTo>
                      <a:pt x="354" y="480"/>
                    </a:lnTo>
                    <a:lnTo>
                      <a:pt x="364" y="488"/>
                    </a:lnTo>
                    <a:lnTo>
                      <a:pt x="372" y="494"/>
                    </a:lnTo>
                    <a:lnTo>
                      <a:pt x="382" y="498"/>
                    </a:lnTo>
                    <a:lnTo>
                      <a:pt x="400" y="498"/>
                    </a:lnTo>
                    <a:lnTo>
                      <a:pt x="406" y="494"/>
                    </a:lnTo>
                    <a:lnTo>
                      <a:pt x="410" y="490"/>
                    </a:lnTo>
                    <a:lnTo>
                      <a:pt x="412" y="486"/>
                    </a:lnTo>
                    <a:lnTo>
                      <a:pt x="408" y="480"/>
                    </a:lnTo>
                    <a:lnTo>
                      <a:pt x="402" y="470"/>
                    </a:lnTo>
                    <a:lnTo>
                      <a:pt x="394" y="454"/>
                    </a:lnTo>
                    <a:lnTo>
                      <a:pt x="382" y="432"/>
                    </a:lnTo>
                    <a:lnTo>
                      <a:pt x="374" y="412"/>
                    </a:lnTo>
                    <a:lnTo>
                      <a:pt x="364" y="394"/>
                    </a:lnTo>
                    <a:lnTo>
                      <a:pt x="354" y="370"/>
                    </a:lnTo>
                    <a:lnTo>
                      <a:pt x="342" y="340"/>
                    </a:lnTo>
                    <a:lnTo>
                      <a:pt x="326" y="308"/>
                    </a:lnTo>
                    <a:lnTo>
                      <a:pt x="314" y="278"/>
                    </a:lnTo>
                    <a:lnTo>
                      <a:pt x="308" y="248"/>
                    </a:lnTo>
                    <a:lnTo>
                      <a:pt x="302" y="208"/>
                    </a:lnTo>
                    <a:lnTo>
                      <a:pt x="284" y="114"/>
                    </a:lnTo>
                    <a:lnTo>
                      <a:pt x="276" y="62"/>
                    </a:lnTo>
                    <a:lnTo>
                      <a:pt x="262" y="40"/>
                    </a:lnTo>
                    <a:lnTo>
                      <a:pt x="254" y="36"/>
                    </a:lnTo>
                    <a:lnTo>
                      <a:pt x="202" y="10"/>
                    </a:lnTo>
                    <a:close/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21"/>
              <p:cNvSpPr/>
              <p:nvPr/>
            </p:nvSpPr>
            <p:spPr>
              <a:xfrm>
                <a:off x="1474560" y="3827880"/>
                <a:ext cx="425160" cy="1185480"/>
              </a:xfrm>
              <a:custGeom>
                <a:avLst/>
                <a:gdLst>
                  <a:gd name="textAreaLeft" fmla="*/ 0 w 425160"/>
                  <a:gd name="textAreaRight" fmla="*/ 425520 w 425160"/>
                  <a:gd name="textAreaTop" fmla="*/ 0 h 1185480"/>
                  <a:gd name="textAreaBottom" fmla="*/ 1185480 h 1185480"/>
                </a:gdLst>
                <a:ahLst/>
                <a:rect l="textAreaLeft" t="textAreaTop" r="textAreaRight" b="textAreaBottom"/>
                <a:pathLst>
                  <a:path w="2256" h="6284">
                    <a:moveTo>
                      <a:pt x="1860" y="426"/>
                    </a:moveTo>
                    <a:lnTo>
                      <a:pt x="1860" y="426"/>
                    </a:lnTo>
                    <a:lnTo>
                      <a:pt x="1854" y="418"/>
                    </a:lnTo>
                    <a:lnTo>
                      <a:pt x="1846" y="410"/>
                    </a:lnTo>
                    <a:lnTo>
                      <a:pt x="1824" y="390"/>
                    </a:lnTo>
                    <a:lnTo>
                      <a:pt x="1796" y="370"/>
                    </a:lnTo>
                    <a:lnTo>
                      <a:pt x="1766" y="350"/>
                    </a:lnTo>
                    <a:lnTo>
                      <a:pt x="1710" y="318"/>
                    </a:lnTo>
                    <a:lnTo>
                      <a:pt x="1684" y="302"/>
                    </a:lnTo>
                    <a:lnTo>
                      <a:pt x="1650" y="282"/>
                    </a:lnTo>
                    <a:lnTo>
                      <a:pt x="1634" y="272"/>
                    </a:lnTo>
                    <a:lnTo>
                      <a:pt x="1618" y="264"/>
                    </a:lnTo>
                    <a:lnTo>
                      <a:pt x="1574" y="250"/>
                    </a:lnTo>
                    <a:lnTo>
                      <a:pt x="1526" y="236"/>
                    </a:lnTo>
                    <a:lnTo>
                      <a:pt x="1500" y="230"/>
                    </a:lnTo>
                    <a:lnTo>
                      <a:pt x="1476" y="226"/>
                    </a:lnTo>
                    <a:lnTo>
                      <a:pt x="1454" y="222"/>
                    </a:lnTo>
                    <a:lnTo>
                      <a:pt x="1434" y="218"/>
                    </a:lnTo>
                    <a:lnTo>
                      <a:pt x="1422" y="214"/>
                    </a:lnTo>
                    <a:lnTo>
                      <a:pt x="1412" y="212"/>
                    </a:lnTo>
                    <a:lnTo>
                      <a:pt x="1408" y="212"/>
                    </a:lnTo>
                    <a:lnTo>
                      <a:pt x="1366" y="160"/>
                    </a:lnTo>
                    <a:lnTo>
                      <a:pt x="1362" y="158"/>
                    </a:lnTo>
                    <a:lnTo>
                      <a:pt x="1356" y="148"/>
                    </a:lnTo>
                    <a:lnTo>
                      <a:pt x="1346" y="130"/>
                    </a:lnTo>
                    <a:lnTo>
                      <a:pt x="1330" y="98"/>
                    </a:lnTo>
                    <a:lnTo>
                      <a:pt x="1320" y="78"/>
                    </a:lnTo>
                    <a:lnTo>
                      <a:pt x="1310" y="66"/>
                    </a:lnTo>
                    <a:lnTo>
                      <a:pt x="1302" y="56"/>
                    </a:lnTo>
                    <a:lnTo>
                      <a:pt x="1290" y="52"/>
                    </a:lnTo>
                    <a:lnTo>
                      <a:pt x="1282" y="48"/>
                    </a:lnTo>
                    <a:lnTo>
                      <a:pt x="1276" y="44"/>
                    </a:lnTo>
                    <a:lnTo>
                      <a:pt x="1274" y="44"/>
                    </a:lnTo>
                    <a:lnTo>
                      <a:pt x="1272" y="44"/>
                    </a:lnTo>
                    <a:lnTo>
                      <a:pt x="1268" y="44"/>
                    </a:lnTo>
                    <a:lnTo>
                      <a:pt x="1258" y="40"/>
                    </a:lnTo>
                    <a:lnTo>
                      <a:pt x="1244" y="40"/>
                    </a:lnTo>
                    <a:lnTo>
                      <a:pt x="1224" y="34"/>
                    </a:lnTo>
                    <a:lnTo>
                      <a:pt x="1200" y="30"/>
                    </a:lnTo>
                    <a:lnTo>
                      <a:pt x="1174" y="24"/>
                    </a:lnTo>
                    <a:lnTo>
                      <a:pt x="1144" y="18"/>
                    </a:lnTo>
                    <a:lnTo>
                      <a:pt x="1114" y="16"/>
                    </a:lnTo>
                    <a:lnTo>
                      <a:pt x="1080" y="10"/>
                    </a:lnTo>
                    <a:lnTo>
                      <a:pt x="1050" y="6"/>
                    </a:lnTo>
                    <a:lnTo>
                      <a:pt x="1018" y="2"/>
                    </a:lnTo>
                    <a:lnTo>
                      <a:pt x="988" y="0"/>
                    </a:lnTo>
                    <a:lnTo>
                      <a:pt x="962" y="0"/>
                    </a:lnTo>
                    <a:lnTo>
                      <a:pt x="938" y="2"/>
                    </a:lnTo>
                    <a:lnTo>
                      <a:pt x="916" y="4"/>
                    </a:lnTo>
                    <a:lnTo>
                      <a:pt x="902" y="10"/>
                    </a:lnTo>
                    <a:lnTo>
                      <a:pt x="876" y="28"/>
                    </a:lnTo>
                    <a:lnTo>
                      <a:pt x="848" y="56"/>
                    </a:lnTo>
                    <a:lnTo>
                      <a:pt x="820" y="86"/>
                    </a:lnTo>
                    <a:lnTo>
                      <a:pt x="794" y="120"/>
                    </a:lnTo>
                    <a:lnTo>
                      <a:pt x="774" y="150"/>
                    </a:lnTo>
                    <a:lnTo>
                      <a:pt x="756" y="178"/>
                    </a:lnTo>
                    <a:lnTo>
                      <a:pt x="744" y="196"/>
                    </a:lnTo>
                    <a:lnTo>
                      <a:pt x="738" y="204"/>
                    </a:lnTo>
                    <a:lnTo>
                      <a:pt x="734" y="204"/>
                    </a:lnTo>
                    <a:lnTo>
                      <a:pt x="722" y="210"/>
                    </a:lnTo>
                    <a:lnTo>
                      <a:pt x="704" y="218"/>
                    </a:lnTo>
                    <a:lnTo>
                      <a:pt x="684" y="226"/>
                    </a:lnTo>
                    <a:lnTo>
                      <a:pt x="662" y="236"/>
                    </a:lnTo>
                    <a:lnTo>
                      <a:pt x="640" y="246"/>
                    </a:lnTo>
                    <a:lnTo>
                      <a:pt x="622" y="256"/>
                    </a:lnTo>
                    <a:lnTo>
                      <a:pt x="610" y="266"/>
                    </a:lnTo>
                    <a:lnTo>
                      <a:pt x="596" y="274"/>
                    </a:lnTo>
                    <a:lnTo>
                      <a:pt x="576" y="284"/>
                    </a:lnTo>
                    <a:lnTo>
                      <a:pt x="552" y="300"/>
                    </a:lnTo>
                    <a:lnTo>
                      <a:pt x="526" y="314"/>
                    </a:lnTo>
                    <a:lnTo>
                      <a:pt x="500" y="328"/>
                    </a:lnTo>
                    <a:lnTo>
                      <a:pt x="478" y="344"/>
                    </a:lnTo>
                    <a:lnTo>
                      <a:pt x="458" y="354"/>
                    </a:lnTo>
                    <a:lnTo>
                      <a:pt x="446" y="362"/>
                    </a:lnTo>
                    <a:lnTo>
                      <a:pt x="436" y="370"/>
                    </a:lnTo>
                    <a:lnTo>
                      <a:pt x="418" y="380"/>
                    </a:lnTo>
                    <a:lnTo>
                      <a:pt x="398" y="392"/>
                    </a:lnTo>
                    <a:lnTo>
                      <a:pt x="376" y="410"/>
                    </a:lnTo>
                    <a:lnTo>
                      <a:pt x="352" y="426"/>
                    </a:lnTo>
                    <a:lnTo>
                      <a:pt x="330" y="444"/>
                    </a:lnTo>
                    <a:lnTo>
                      <a:pt x="308" y="462"/>
                    </a:lnTo>
                    <a:lnTo>
                      <a:pt x="290" y="478"/>
                    </a:lnTo>
                    <a:lnTo>
                      <a:pt x="272" y="496"/>
                    </a:lnTo>
                    <a:lnTo>
                      <a:pt x="258" y="522"/>
                    </a:lnTo>
                    <a:lnTo>
                      <a:pt x="244" y="550"/>
                    </a:lnTo>
                    <a:lnTo>
                      <a:pt x="232" y="586"/>
                    </a:lnTo>
                    <a:lnTo>
                      <a:pt x="220" y="620"/>
                    </a:lnTo>
                    <a:lnTo>
                      <a:pt x="210" y="660"/>
                    </a:lnTo>
                    <a:lnTo>
                      <a:pt x="204" y="698"/>
                    </a:lnTo>
                    <a:lnTo>
                      <a:pt x="196" y="734"/>
                    </a:lnTo>
                    <a:lnTo>
                      <a:pt x="192" y="758"/>
                    </a:lnTo>
                    <a:lnTo>
                      <a:pt x="190" y="786"/>
                    </a:lnTo>
                    <a:lnTo>
                      <a:pt x="184" y="820"/>
                    </a:lnTo>
                    <a:lnTo>
                      <a:pt x="178" y="858"/>
                    </a:lnTo>
                    <a:lnTo>
                      <a:pt x="0" y="2486"/>
                    </a:lnTo>
                    <a:lnTo>
                      <a:pt x="48" y="2578"/>
                    </a:lnTo>
                    <a:lnTo>
                      <a:pt x="264" y="2578"/>
                    </a:lnTo>
                    <a:lnTo>
                      <a:pt x="380" y="2478"/>
                    </a:lnTo>
                    <a:lnTo>
                      <a:pt x="394" y="2434"/>
                    </a:lnTo>
                    <a:lnTo>
                      <a:pt x="398" y="2404"/>
                    </a:lnTo>
                    <a:lnTo>
                      <a:pt x="410" y="2326"/>
                    </a:lnTo>
                    <a:lnTo>
                      <a:pt x="422" y="2226"/>
                    </a:lnTo>
                    <a:lnTo>
                      <a:pt x="434" y="2126"/>
                    </a:lnTo>
                    <a:lnTo>
                      <a:pt x="442" y="2042"/>
                    </a:lnTo>
                    <a:lnTo>
                      <a:pt x="444" y="1966"/>
                    </a:lnTo>
                    <a:lnTo>
                      <a:pt x="446" y="1914"/>
                    </a:lnTo>
                    <a:lnTo>
                      <a:pt x="446" y="1894"/>
                    </a:lnTo>
                    <a:lnTo>
                      <a:pt x="450" y="1866"/>
                    </a:lnTo>
                    <a:lnTo>
                      <a:pt x="452" y="1854"/>
                    </a:lnTo>
                    <a:lnTo>
                      <a:pt x="452" y="1840"/>
                    </a:lnTo>
                    <a:lnTo>
                      <a:pt x="448" y="1802"/>
                    </a:lnTo>
                    <a:lnTo>
                      <a:pt x="446" y="1764"/>
                    </a:lnTo>
                    <a:lnTo>
                      <a:pt x="446" y="1748"/>
                    </a:lnTo>
                    <a:lnTo>
                      <a:pt x="448" y="1738"/>
                    </a:lnTo>
                    <a:lnTo>
                      <a:pt x="450" y="1726"/>
                    </a:lnTo>
                    <a:lnTo>
                      <a:pt x="454" y="1720"/>
                    </a:lnTo>
                    <a:lnTo>
                      <a:pt x="458" y="1716"/>
                    </a:lnTo>
                    <a:lnTo>
                      <a:pt x="462" y="1714"/>
                    </a:lnTo>
                    <a:lnTo>
                      <a:pt x="468" y="1712"/>
                    </a:lnTo>
                    <a:lnTo>
                      <a:pt x="472" y="1708"/>
                    </a:lnTo>
                    <a:lnTo>
                      <a:pt x="476" y="1702"/>
                    </a:lnTo>
                    <a:lnTo>
                      <a:pt x="478" y="1692"/>
                    </a:lnTo>
                    <a:lnTo>
                      <a:pt x="498" y="1574"/>
                    </a:lnTo>
                    <a:lnTo>
                      <a:pt x="518" y="1450"/>
                    </a:lnTo>
                    <a:lnTo>
                      <a:pt x="536" y="1340"/>
                    </a:lnTo>
                    <a:lnTo>
                      <a:pt x="546" y="1254"/>
                    </a:lnTo>
                    <a:lnTo>
                      <a:pt x="550" y="1208"/>
                    </a:lnTo>
                    <a:lnTo>
                      <a:pt x="558" y="1204"/>
                    </a:lnTo>
                    <a:lnTo>
                      <a:pt x="570" y="1252"/>
                    </a:lnTo>
                    <a:lnTo>
                      <a:pt x="584" y="1310"/>
                    </a:lnTo>
                    <a:lnTo>
                      <a:pt x="590" y="1340"/>
                    </a:lnTo>
                    <a:lnTo>
                      <a:pt x="596" y="1364"/>
                    </a:lnTo>
                    <a:lnTo>
                      <a:pt x="604" y="1426"/>
                    </a:lnTo>
                    <a:lnTo>
                      <a:pt x="618" y="1500"/>
                    </a:lnTo>
                    <a:lnTo>
                      <a:pt x="630" y="1558"/>
                    </a:lnTo>
                    <a:lnTo>
                      <a:pt x="638" y="1586"/>
                    </a:lnTo>
                    <a:lnTo>
                      <a:pt x="648" y="1622"/>
                    </a:lnTo>
                    <a:lnTo>
                      <a:pt x="660" y="1666"/>
                    </a:lnTo>
                    <a:lnTo>
                      <a:pt x="676" y="1710"/>
                    </a:lnTo>
                    <a:lnTo>
                      <a:pt x="686" y="1754"/>
                    </a:lnTo>
                    <a:lnTo>
                      <a:pt x="696" y="1796"/>
                    </a:lnTo>
                    <a:lnTo>
                      <a:pt x="698" y="1828"/>
                    </a:lnTo>
                    <a:lnTo>
                      <a:pt x="696" y="1850"/>
                    </a:lnTo>
                    <a:lnTo>
                      <a:pt x="684" y="1884"/>
                    </a:lnTo>
                    <a:lnTo>
                      <a:pt x="680" y="1920"/>
                    </a:lnTo>
                    <a:lnTo>
                      <a:pt x="682" y="1958"/>
                    </a:lnTo>
                    <a:lnTo>
                      <a:pt x="686" y="1992"/>
                    </a:lnTo>
                    <a:lnTo>
                      <a:pt x="694" y="2022"/>
                    </a:lnTo>
                    <a:lnTo>
                      <a:pt x="700" y="2046"/>
                    </a:lnTo>
                    <a:lnTo>
                      <a:pt x="706" y="2064"/>
                    </a:lnTo>
                    <a:lnTo>
                      <a:pt x="706" y="2066"/>
                    </a:lnTo>
                    <a:lnTo>
                      <a:pt x="678" y="2120"/>
                    </a:lnTo>
                    <a:lnTo>
                      <a:pt x="676" y="2142"/>
                    </a:lnTo>
                    <a:lnTo>
                      <a:pt x="674" y="2140"/>
                    </a:lnTo>
                    <a:lnTo>
                      <a:pt x="672" y="2140"/>
                    </a:lnTo>
                    <a:lnTo>
                      <a:pt x="652" y="2276"/>
                    </a:lnTo>
                    <a:lnTo>
                      <a:pt x="654" y="2272"/>
                    </a:lnTo>
                    <a:lnTo>
                      <a:pt x="610" y="2536"/>
                    </a:lnTo>
                    <a:lnTo>
                      <a:pt x="606" y="2536"/>
                    </a:lnTo>
                    <a:lnTo>
                      <a:pt x="618" y="2824"/>
                    </a:lnTo>
                    <a:lnTo>
                      <a:pt x="618" y="3158"/>
                    </a:lnTo>
                    <a:lnTo>
                      <a:pt x="628" y="3430"/>
                    </a:lnTo>
                    <a:lnTo>
                      <a:pt x="636" y="3702"/>
                    </a:lnTo>
                    <a:lnTo>
                      <a:pt x="636" y="4216"/>
                    </a:lnTo>
                    <a:lnTo>
                      <a:pt x="626" y="4240"/>
                    </a:lnTo>
                    <a:lnTo>
                      <a:pt x="606" y="4282"/>
                    </a:lnTo>
                    <a:lnTo>
                      <a:pt x="584" y="4400"/>
                    </a:lnTo>
                    <a:lnTo>
                      <a:pt x="572" y="4546"/>
                    </a:lnTo>
                    <a:lnTo>
                      <a:pt x="566" y="4676"/>
                    </a:lnTo>
                    <a:lnTo>
                      <a:pt x="572" y="4814"/>
                    </a:lnTo>
                    <a:lnTo>
                      <a:pt x="584" y="4934"/>
                    </a:lnTo>
                    <a:lnTo>
                      <a:pt x="606" y="5132"/>
                    </a:lnTo>
                    <a:lnTo>
                      <a:pt x="626" y="5250"/>
                    </a:lnTo>
                    <a:lnTo>
                      <a:pt x="626" y="5448"/>
                    </a:lnTo>
                    <a:lnTo>
                      <a:pt x="618" y="5512"/>
                    </a:lnTo>
                    <a:lnTo>
                      <a:pt x="618" y="5504"/>
                    </a:lnTo>
                    <a:lnTo>
                      <a:pt x="592" y="5656"/>
                    </a:lnTo>
                    <a:lnTo>
                      <a:pt x="584" y="5796"/>
                    </a:lnTo>
                    <a:lnTo>
                      <a:pt x="602" y="5822"/>
                    </a:lnTo>
                    <a:lnTo>
                      <a:pt x="618" y="5808"/>
                    </a:lnTo>
                    <a:lnTo>
                      <a:pt x="618" y="5796"/>
                    </a:lnTo>
                    <a:lnTo>
                      <a:pt x="636" y="5896"/>
                    </a:lnTo>
                    <a:lnTo>
                      <a:pt x="636" y="6026"/>
                    </a:lnTo>
                    <a:lnTo>
                      <a:pt x="642" y="6078"/>
                    </a:lnTo>
                    <a:lnTo>
                      <a:pt x="666" y="6164"/>
                    </a:lnTo>
                    <a:lnTo>
                      <a:pt x="684" y="6210"/>
                    </a:lnTo>
                    <a:lnTo>
                      <a:pt x="744" y="6264"/>
                    </a:lnTo>
                    <a:lnTo>
                      <a:pt x="780" y="6276"/>
                    </a:lnTo>
                    <a:lnTo>
                      <a:pt x="814" y="6284"/>
                    </a:lnTo>
                    <a:lnTo>
                      <a:pt x="882" y="6276"/>
                    </a:lnTo>
                    <a:lnTo>
                      <a:pt x="934" y="6264"/>
                    </a:lnTo>
                    <a:lnTo>
                      <a:pt x="958" y="6254"/>
                    </a:lnTo>
                    <a:lnTo>
                      <a:pt x="968" y="6190"/>
                    </a:lnTo>
                    <a:lnTo>
                      <a:pt x="968" y="6158"/>
                    </a:lnTo>
                    <a:lnTo>
                      <a:pt x="958" y="6112"/>
                    </a:lnTo>
                    <a:lnTo>
                      <a:pt x="934" y="6060"/>
                    </a:lnTo>
                    <a:lnTo>
                      <a:pt x="882" y="5940"/>
                    </a:lnTo>
                    <a:lnTo>
                      <a:pt x="822" y="5646"/>
                    </a:lnTo>
                    <a:lnTo>
                      <a:pt x="814" y="5624"/>
                    </a:lnTo>
                    <a:lnTo>
                      <a:pt x="804" y="5558"/>
                    </a:lnTo>
                    <a:lnTo>
                      <a:pt x="804" y="5262"/>
                    </a:lnTo>
                    <a:lnTo>
                      <a:pt x="954" y="4336"/>
                    </a:lnTo>
                    <a:lnTo>
                      <a:pt x="1020" y="4336"/>
                    </a:lnTo>
                    <a:lnTo>
                      <a:pt x="1090" y="4314"/>
                    </a:lnTo>
                    <a:lnTo>
                      <a:pt x="1208" y="4286"/>
                    </a:lnTo>
                    <a:lnTo>
                      <a:pt x="1284" y="4262"/>
                    </a:lnTo>
                    <a:lnTo>
                      <a:pt x="1380" y="4228"/>
                    </a:lnTo>
                    <a:lnTo>
                      <a:pt x="1386" y="4296"/>
                    </a:lnTo>
                    <a:lnTo>
                      <a:pt x="1386" y="4426"/>
                    </a:lnTo>
                    <a:lnTo>
                      <a:pt x="1396" y="4512"/>
                    </a:lnTo>
                    <a:lnTo>
                      <a:pt x="1422" y="4676"/>
                    </a:lnTo>
                    <a:lnTo>
                      <a:pt x="1472" y="4926"/>
                    </a:lnTo>
                    <a:lnTo>
                      <a:pt x="1472" y="5034"/>
                    </a:lnTo>
                    <a:lnTo>
                      <a:pt x="1464" y="5078"/>
                    </a:lnTo>
                    <a:lnTo>
                      <a:pt x="1446" y="5120"/>
                    </a:lnTo>
                    <a:lnTo>
                      <a:pt x="1430" y="5198"/>
                    </a:lnTo>
                    <a:lnTo>
                      <a:pt x="1422" y="5274"/>
                    </a:lnTo>
                    <a:lnTo>
                      <a:pt x="1430" y="5308"/>
                    </a:lnTo>
                    <a:lnTo>
                      <a:pt x="1438" y="5328"/>
                    </a:lnTo>
                    <a:lnTo>
                      <a:pt x="1446" y="5362"/>
                    </a:lnTo>
                    <a:lnTo>
                      <a:pt x="1456" y="5394"/>
                    </a:lnTo>
                    <a:lnTo>
                      <a:pt x="1464" y="5472"/>
                    </a:lnTo>
                    <a:lnTo>
                      <a:pt x="1472" y="5568"/>
                    </a:lnTo>
                    <a:lnTo>
                      <a:pt x="1498" y="5578"/>
                    </a:lnTo>
                    <a:lnTo>
                      <a:pt x="1516" y="5558"/>
                    </a:lnTo>
                    <a:lnTo>
                      <a:pt x="1498" y="5328"/>
                    </a:lnTo>
                    <a:lnTo>
                      <a:pt x="1524" y="5362"/>
                    </a:lnTo>
                    <a:lnTo>
                      <a:pt x="1576" y="5394"/>
                    </a:lnTo>
                    <a:lnTo>
                      <a:pt x="1602" y="5426"/>
                    </a:lnTo>
                    <a:lnTo>
                      <a:pt x="1610" y="5460"/>
                    </a:lnTo>
                    <a:lnTo>
                      <a:pt x="1620" y="5482"/>
                    </a:lnTo>
                    <a:lnTo>
                      <a:pt x="1644" y="5568"/>
                    </a:lnTo>
                    <a:lnTo>
                      <a:pt x="1670" y="5624"/>
                    </a:lnTo>
                    <a:lnTo>
                      <a:pt x="1684" y="5664"/>
                    </a:lnTo>
                    <a:lnTo>
                      <a:pt x="1704" y="5688"/>
                    </a:lnTo>
                    <a:lnTo>
                      <a:pt x="1738" y="5698"/>
                    </a:lnTo>
                    <a:lnTo>
                      <a:pt x="1822" y="5710"/>
                    </a:lnTo>
                    <a:lnTo>
                      <a:pt x="1946" y="5722"/>
                    </a:lnTo>
                    <a:lnTo>
                      <a:pt x="1952" y="5698"/>
                    </a:lnTo>
                    <a:lnTo>
                      <a:pt x="1960" y="5676"/>
                    </a:lnTo>
                    <a:lnTo>
                      <a:pt x="1970" y="5632"/>
                    </a:lnTo>
                    <a:lnTo>
                      <a:pt x="1976" y="5612"/>
                    </a:lnTo>
                    <a:lnTo>
                      <a:pt x="1970" y="5568"/>
                    </a:lnTo>
                    <a:lnTo>
                      <a:pt x="1960" y="5524"/>
                    </a:lnTo>
                    <a:lnTo>
                      <a:pt x="1952" y="5512"/>
                    </a:lnTo>
                    <a:lnTo>
                      <a:pt x="1926" y="5492"/>
                    </a:lnTo>
                    <a:lnTo>
                      <a:pt x="1892" y="5448"/>
                    </a:lnTo>
                    <a:lnTo>
                      <a:pt x="1842" y="5404"/>
                    </a:lnTo>
                    <a:lnTo>
                      <a:pt x="1816" y="5362"/>
                    </a:lnTo>
                    <a:lnTo>
                      <a:pt x="1782" y="5316"/>
                    </a:lnTo>
                    <a:lnTo>
                      <a:pt x="1764" y="5284"/>
                    </a:lnTo>
                    <a:lnTo>
                      <a:pt x="1738" y="5242"/>
                    </a:lnTo>
                    <a:lnTo>
                      <a:pt x="1714" y="5164"/>
                    </a:lnTo>
                    <a:lnTo>
                      <a:pt x="1684" y="5066"/>
                    </a:lnTo>
                    <a:lnTo>
                      <a:pt x="1678" y="4098"/>
                    </a:lnTo>
                    <a:lnTo>
                      <a:pt x="1696" y="4088"/>
                    </a:lnTo>
                    <a:lnTo>
                      <a:pt x="1780" y="4024"/>
                    </a:lnTo>
                    <a:lnTo>
                      <a:pt x="1774" y="3808"/>
                    </a:lnTo>
                    <a:lnTo>
                      <a:pt x="1764" y="3484"/>
                    </a:lnTo>
                    <a:lnTo>
                      <a:pt x="1764" y="3030"/>
                    </a:lnTo>
                    <a:lnTo>
                      <a:pt x="1764" y="2640"/>
                    </a:lnTo>
                    <a:lnTo>
                      <a:pt x="1764" y="2566"/>
                    </a:lnTo>
                    <a:lnTo>
                      <a:pt x="1754" y="2500"/>
                    </a:lnTo>
                    <a:lnTo>
                      <a:pt x="1720" y="2360"/>
                    </a:lnTo>
                    <a:lnTo>
                      <a:pt x="1696" y="2272"/>
                    </a:lnTo>
                    <a:lnTo>
                      <a:pt x="1684" y="2228"/>
                    </a:lnTo>
                    <a:lnTo>
                      <a:pt x="1678" y="2164"/>
                    </a:lnTo>
                    <a:lnTo>
                      <a:pt x="1680" y="2164"/>
                    </a:lnTo>
                    <a:lnTo>
                      <a:pt x="1690" y="2158"/>
                    </a:lnTo>
                    <a:lnTo>
                      <a:pt x="1698" y="2150"/>
                    </a:lnTo>
                    <a:lnTo>
                      <a:pt x="1706" y="2144"/>
                    </a:lnTo>
                    <a:lnTo>
                      <a:pt x="1712" y="2134"/>
                    </a:lnTo>
                    <a:lnTo>
                      <a:pt x="1716" y="2126"/>
                    </a:lnTo>
                    <a:lnTo>
                      <a:pt x="1726" y="2110"/>
                    </a:lnTo>
                    <a:lnTo>
                      <a:pt x="1736" y="2094"/>
                    </a:lnTo>
                    <a:lnTo>
                      <a:pt x="1744" y="2078"/>
                    </a:lnTo>
                    <a:lnTo>
                      <a:pt x="1750" y="2056"/>
                    </a:lnTo>
                    <a:lnTo>
                      <a:pt x="1754" y="2030"/>
                    </a:lnTo>
                    <a:lnTo>
                      <a:pt x="1760" y="1998"/>
                    </a:lnTo>
                    <a:lnTo>
                      <a:pt x="1760" y="1958"/>
                    </a:lnTo>
                    <a:lnTo>
                      <a:pt x="1754" y="1908"/>
                    </a:lnTo>
                    <a:lnTo>
                      <a:pt x="1750" y="1806"/>
                    </a:lnTo>
                    <a:lnTo>
                      <a:pt x="1750" y="1722"/>
                    </a:lnTo>
                    <a:lnTo>
                      <a:pt x="1754" y="1654"/>
                    </a:lnTo>
                    <a:lnTo>
                      <a:pt x="1744" y="1562"/>
                    </a:lnTo>
                    <a:lnTo>
                      <a:pt x="1724" y="1374"/>
                    </a:lnTo>
                    <a:lnTo>
                      <a:pt x="1714" y="1276"/>
                    </a:lnTo>
                    <a:lnTo>
                      <a:pt x="1706" y="1188"/>
                    </a:lnTo>
                    <a:lnTo>
                      <a:pt x="1702" y="1126"/>
                    </a:lnTo>
                    <a:lnTo>
                      <a:pt x="1704" y="1106"/>
                    </a:lnTo>
                    <a:lnTo>
                      <a:pt x="1704" y="1098"/>
                    </a:lnTo>
                    <a:lnTo>
                      <a:pt x="1740" y="1390"/>
                    </a:lnTo>
                    <a:lnTo>
                      <a:pt x="1766" y="1596"/>
                    </a:lnTo>
                    <a:lnTo>
                      <a:pt x="1780" y="1708"/>
                    </a:lnTo>
                    <a:lnTo>
                      <a:pt x="1784" y="1730"/>
                    </a:lnTo>
                    <a:lnTo>
                      <a:pt x="1788" y="1734"/>
                    </a:lnTo>
                    <a:lnTo>
                      <a:pt x="1790" y="1738"/>
                    </a:lnTo>
                    <a:lnTo>
                      <a:pt x="1792" y="1752"/>
                    </a:lnTo>
                    <a:lnTo>
                      <a:pt x="1800" y="1818"/>
                    </a:lnTo>
                    <a:lnTo>
                      <a:pt x="1808" y="1882"/>
                    </a:lnTo>
                    <a:lnTo>
                      <a:pt x="1812" y="1910"/>
                    </a:lnTo>
                    <a:lnTo>
                      <a:pt x="1812" y="1930"/>
                    </a:lnTo>
                    <a:lnTo>
                      <a:pt x="1814" y="1982"/>
                    </a:lnTo>
                    <a:lnTo>
                      <a:pt x="1816" y="2058"/>
                    </a:lnTo>
                    <a:lnTo>
                      <a:pt x="1826" y="2144"/>
                    </a:lnTo>
                    <a:lnTo>
                      <a:pt x="1836" y="2242"/>
                    </a:lnTo>
                    <a:lnTo>
                      <a:pt x="1850" y="2342"/>
                    </a:lnTo>
                    <a:lnTo>
                      <a:pt x="1860" y="2422"/>
                    </a:lnTo>
                    <a:lnTo>
                      <a:pt x="1864" y="2452"/>
                    </a:lnTo>
                    <a:lnTo>
                      <a:pt x="1878" y="2496"/>
                    </a:lnTo>
                    <a:lnTo>
                      <a:pt x="1994" y="2596"/>
                    </a:lnTo>
                    <a:lnTo>
                      <a:pt x="2208" y="2596"/>
                    </a:lnTo>
                    <a:lnTo>
                      <a:pt x="2256" y="2502"/>
                    </a:lnTo>
                    <a:lnTo>
                      <a:pt x="2244" y="2390"/>
                    </a:lnTo>
                    <a:lnTo>
                      <a:pt x="2226" y="2262"/>
                    </a:lnTo>
                    <a:lnTo>
                      <a:pt x="2202" y="2118"/>
                    </a:lnTo>
                    <a:lnTo>
                      <a:pt x="2178" y="1962"/>
                    </a:lnTo>
                    <a:lnTo>
                      <a:pt x="2120" y="1634"/>
                    </a:lnTo>
                    <a:lnTo>
                      <a:pt x="2056" y="1298"/>
                    </a:lnTo>
                    <a:lnTo>
                      <a:pt x="1994" y="984"/>
                    </a:lnTo>
                    <a:lnTo>
                      <a:pt x="1936" y="716"/>
                    </a:lnTo>
                    <a:lnTo>
                      <a:pt x="1912" y="608"/>
                    </a:lnTo>
                    <a:lnTo>
                      <a:pt x="1890" y="522"/>
                    </a:lnTo>
                    <a:lnTo>
                      <a:pt x="1872" y="460"/>
                    </a:lnTo>
                    <a:lnTo>
                      <a:pt x="1866" y="438"/>
                    </a:lnTo>
                    <a:lnTo>
                      <a:pt x="1860" y="426"/>
                    </a:lnTo>
                    <a:close/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" name="Gruppe 225"/>
              <p:cNvGrpSpPr/>
              <p:nvPr/>
            </p:nvGrpSpPr>
            <p:grpSpPr>
              <a:xfrm>
                <a:off x="1592280" y="3638520"/>
                <a:ext cx="182520" cy="329400"/>
                <a:chOff x="1592280" y="3638520"/>
                <a:chExt cx="182520" cy="329400"/>
              </a:xfrm>
            </p:grpSpPr>
            <p:sp>
              <p:nvSpPr>
                <p:cNvPr id="158" name="Freeform 7"/>
                <p:cNvSpPr/>
                <p:nvPr/>
              </p:nvSpPr>
              <p:spPr>
                <a:xfrm>
                  <a:off x="1752480" y="3777840"/>
                  <a:ext cx="5760" cy="9360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29" h="456">
                      <a:moveTo>
                        <a:pt x="0" y="207"/>
                      </a:moveTo>
                      <a:lnTo>
                        <a:pt x="2" y="262"/>
                      </a:lnTo>
                      <a:lnTo>
                        <a:pt x="7" y="336"/>
                      </a:lnTo>
                      <a:lnTo>
                        <a:pt x="13" y="408"/>
                      </a:lnTo>
                      <a:lnTo>
                        <a:pt x="22" y="456"/>
                      </a:lnTo>
                      <a:lnTo>
                        <a:pt x="29" y="455"/>
                      </a:lnTo>
                      <a:lnTo>
                        <a:pt x="19" y="408"/>
                      </a:lnTo>
                      <a:lnTo>
                        <a:pt x="13" y="336"/>
                      </a:lnTo>
                      <a:lnTo>
                        <a:pt x="8" y="262"/>
                      </a:lnTo>
                      <a:lnTo>
                        <a:pt x="8" y="207"/>
                      </a:lnTo>
                      <a:lnTo>
                        <a:pt x="11" y="154"/>
                      </a:lnTo>
                      <a:lnTo>
                        <a:pt x="15" y="86"/>
                      </a:lnTo>
                      <a:lnTo>
                        <a:pt x="19" y="27"/>
                      </a:lnTo>
                      <a:lnTo>
                        <a:pt x="21" y="0"/>
                      </a:lnTo>
                      <a:lnTo>
                        <a:pt x="15" y="0"/>
                      </a:lnTo>
                      <a:lnTo>
                        <a:pt x="13" y="27"/>
                      </a:lnTo>
                      <a:lnTo>
                        <a:pt x="8" y="86"/>
                      </a:lnTo>
                      <a:lnTo>
                        <a:pt x="4" y="154"/>
                      </a:lnTo>
                      <a:lnTo>
                        <a:pt x="0" y="207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10"/>
                <p:cNvSpPr/>
                <p:nvPr/>
              </p:nvSpPr>
              <p:spPr>
                <a:xfrm>
                  <a:off x="1596960" y="3638520"/>
                  <a:ext cx="163800" cy="184320"/>
                </a:xfrm>
                <a:custGeom>
                  <a:avLst/>
                  <a:gdLst>
                    <a:gd name="textAreaLeft" fmla="*/ 0 w 163800"/>
                    <a:gd name="textAreaRight" fmla="*/ 164160 w 163800"/>
                    <a:gd name="textAreaTop" fmla="*/ 0 h 184320"/>
                    <a:gd name="textAreaBottom" fmla="*/ 184680 h 184320"/>
                  </a:gdLst>
                  <a:ahLst/>
                  <a:rect l="textAreaLeft" t="textAreaTop" r="textAreaRight" b="textAreaBottom"/>
                  <a:pathLst>
                    <a:path w="798" h="897">
                      <a:moveTo>
                        <a:pt x="735" y="653"/>
                      </a:moveTo>
                      <a:lnTo>
                        <a:pt x="735" y="648"/>
                      </a:lnTo>
                      <a:lnTo>
                        <a:pt x="738" y="632"/>
                      </a:lnTo>
                      <a:lnTo>
                        <a:pt x="741" y="607"/>
                      </a:lnTo>
                      <a:lnTo>
                        <a:pt x="748" y="574"/>
                      </a:lnTo>
                      <a:lnTo>
                        <a:pt x="751" y="556"/>
                      </a:lnTo>
                      <a:lnTo>
                        <a:pt x="752" y="556"/>
                      </a:lnTo>
                      <a:lnTo>
                        <a:pt x="755" y="556"/>
                      </a:lnTo>
                      <a:lnTo>
                        <a:pt x="766" y="534"/>
                      </a:lnTo>
                      <a:lnTo>
                        <a:pt x="782" y="501"/>
                      </a:lnTo>
                      <a:lnTo>
                        <a:pt x="795" y="474"/>
                      </a:lnTo>
                      <a:lnTo>
                        <a:pt x="798" y="446"/>
                      </a:lnTo>
                      <a:lnTo>
                        <a:pt x="788" y="408"/>
                      </a:lnTo>
                      <a:lnTo>
                        <a:pt x="777" y="363"/>
                      </a:lnTo>
                      <a:lnTo>
                        <a:pt x="773" y="320"/>
                      </a:lnTo>
                      <a:lnTo>
                        <a:pt x="766" y="281"/>
                      </a:lnTo>
                      <a:lnTo>
                        <a:pt x="752" y="243"/>
                      </a:lnTo>
                      <a:lnTo>
                        <a:pt x="746" y="232"/>
                      </a:lnTo>
                      <a:lnTo>
                        <a:pt x="738" y="218"/>
                      </a:lnTo>
                      <a:lnTo>
                        <a:pt x="729" y="201"/>
                      </a:lnTo>
                      <a:lnTo>
                        <a:pt x="716" y="182"/>
                      </a:lnTo>
                      <a:lnTo>
                        <a:pt x="702" y="160"/>
                      </a:lnTo>
                      <a:lnTo>
                        <a:pt x="685" y="138"/>
                      </a:lnTo>
                      <a:lnTo>
                        <a:pt x="667" y="116"/>
                      </a:lnTo>
                      <a:lnTo>
                        <a:pt x="645" y="94"/>
                      </a:lnTo>
                      <a:lnTo>
                        <a:pt x="623" y="74"/>
                      </a:lnTo>
                      <a:lnTo>
                        <a:pt x="598" y="54"/>
                      </a:lnTo>
                      <a:lnTo>
                        <a:pt x="572" y="36"/>
                      </a:lnTo>
                      <a:lnTo>
                        <a:pt x="542" y="22"/>
                      </a:lnTo>
                      <a:lnTo>
                        <a:pt x="510" y="10"/>
                      </a:lnTo>
                      <a:lnTo>
                        <a:pt x="476" y="3"/>
                      </a:lnTo>
                      <a:lnTo>
                        <a:pt x="440" y="0"/>
                      </a:lnTo>
                      <a:lnTo>
                        <a:pt x="402" y="3"/>
                      </a:lnTo>
                      <a:lnTo>
                        <a:pt x="397" y="3"/>
                      </a:lnTo>
                      <a:lnTo>
                        <a:pt x="386" y="3"/>
                      </a:lnTo>
                      <a:lnTo>
                        <a:pt x="369" y="3"/>
                      </a:lnTo>
                      <a:lnTo>
                        <a:pt x="347" y="7"/>
                      </a:lnTo>
                      <a:lnTo>
                        <a:pt x="320" y="10"/>
                      </a:lnTo>
                      <a:lnTo>
                        <a:pt x="292" y="14"/>
                      </a:lnTo>
                      <a:lnTo>
                        <a:pt x="262" y="22"/>
                      </a:lnTo>
                      <a:lnTo>
                        <a:pt x="232" y="33"/>
                      </a:lnTo>
                      <a:lnTo>
                        <a:pt x="187" y="62"/>
                      </a:lnTo>
                      <a:lnTo>
                        <a:pt x="146" y="104"/>
                      </a:lnTo>
                      <a:lnTo>
                        <a:pt x="110" y="154"/>
                      </a:lnTo>
                      <a:lnTo>
                        <a:pt x="78" y="209"/>
                      </a:lnTo>
                      <a:lnTo>
                        <a:pt x="53" y="262"/>
                      </a:lnTo>
                      <a:lnTo>
                        <a:pt x="34" y="309"/>
                      </a:lnTo>
                      <a:lnTo>
                        <a:pt x="22" y="345"/>
                      </a:lnTo>
                      <a:lnTo>
                        <a:pt x="17" y="364"/>
                      </a:lnTo>
                      <a:lnTo>
                        <a:pt x="12" y="403"/>
                      </a:lnTo>
                      <a:lnTo>
                        <a:pt x="6" y="450"/>
                      </a:lnTo>
                      <a:lnTo>
                        <a:pt x="1" y="493"/>
                      </a:lnTo>
                      <a:lnTo>
                        <a:pt x="0" y="519"/>
                      </a:lnTo>
                      <a:lnTo>
                        <a:pt x="3" y="562"/>
                      </a:lnTo>
                      <a:lnTo>
                        <a:pt x="11" y="637"/>
                      </a:lnTo>
                      <a:lnTo>
                        <a:pt x="25" y="712"/>
                      </a:lnTo>
                      <a:lnTo>
                        <a:pt x="40" y="759"/>
                      </a:lnTo>
                      <a:lnTo>
                        <a:pt x="55" y="785"/>
                      </a:lnTo>
                      <a:lnTo>
                        <a:pt x="66" y="813"/>
                      </a:lnTo>
                      <a:lnTo>
                        <a:pt x="70" y="838"/>
                      </a:lnTo>
                      <a:lnTo>
                        <a:pt x="67" y="855"/>
                      </a:lnTo>
                      <a:lnTo>
                        <a:pt x="61" y="866"/>
                      </a:lnTo>
                      <a:lnTo>
                        <a:pt x="58" y="877"/>
                      </a:lnTo>
                      <a:lnTo>
                        <a:pt x="55" y="886"/>
                      </a:lnTo>
                      <a:lnTo>
                        <a:pt x="55" y="890"/>
                      </a:lnTo>
                      <a:lnTo>
                        <a:pt x="62" y="886"/>
                      </a:lnTo>
                      <a:lnTo>
                        <a:pt x="78" y="877"/>
                      </a:lnTo>
                      <a:lnTo>
                        <a:pt x="92" y="860"/>
                      </a:lnTo>
                      <a:lnTo>
                        <a:pt x="100" y="838"/>
                      </a:lnTo>
                      <a:lnTo>
                        <a:pt x="100" y="817"/>
                      </a:lnTo>
                      <a:lnTo>
                        <a:pt x="100" y="808"/>
                      </a:lnTo>
                      <a:lnTo>
                        <a:pt x="100" y="803"/>
                      </a:lnTo>
                      <a:lnTo>
                        <a:pt x="127" y="855"/>
                      </a:lnTo>
                      <a:lnTo>
                        <a:pt x="130" y="861"/>
                      </a:lnTo>
                      <a:lnTo>
                        <a:pt x="136" y="874"/>
                      </a:lnTo>
                      <a:lnTo>
                        <a:pt x="147" y="888"/>
                      </a:lnTo>
                      <a:lnTo>
                        <a:pt x="161" y="897"/>
                      </a:lnTo>
                      <a:lnTo>
                        <a:pt x="171" y="896"/>
                      </a:lnTo>
                      <a:lnTo>
                        <a:pt x="190" y="888"/>
                      </a:lnTo>
                      <a:lnTo>
                        <a:pt x="220" y="877"/>
                      </a:lnTo>
                      <a:lnTo>
                        <a:pt x="257" y="861"/>
                      </a:lnTo>
                      <a:lnTo>
                        <a:pt x="301" y="843"/>
                      </a:lnTo>
                      <a:lnTo>
                        <a:pt x="348" y="822"/>
                      </a:lnTo>
                      <a:lnTo>
                        <a:pt x="400" y="800"/>
                      </a:lnTo>
                      <a:lnTo>
                        <a:pt x="454" y="777"/>
                      </a:lnTo>
                      <a:lnTo>
                        <a:pt x="506" y="753"/>
                      </a:lnTo>
                      <a:lnTo>
                        <a:pt x="557" y="731"/>
                      </a:lnTo>
                      <a:lnTo>
                        <a:pt x="605" y="711"/>
                      </a:lnTo>
                      <a:lnTo>
                        <a:pt x="647" y="692"/>
                      </a:lnTo>
                      <a:lnTo>
                        <a:pt x="683" y="676"/>
                      </a:lnTo>
                      <a:lnTo>
                        <a:pt x="711" y="664"/>
                      </a:lnTo>
                      <a:lnTo>
                        <a:pt x="729" y="656"/>
                      </a:lnTo>
                      <a:lnTo>
                        <a:pt x="735" y="6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11"/>
                <p:cNvSpPr/>
                <p:nvPr/>
              </p:nvSpPr>
              <p:spPr>
                <a:xfrm>
                  <a:off x="1605600" y="3649680"/>
                  <a:ext cx="145800" cy="51840"/>
                </a:xfrm>
                <a:custGeom>
                  <a:avLst/>
                  <a:gdLst>
                    <a:gd name="textAreaLeft" fmla="*/ 0 w 145800"/>
                    <a:gd name="textAreaRight" fmla="*/ 146160 w 14580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709" h="253">
                      <a:moveTo>
                        <a:pt x="0" y="221"/>
                      </a:moveTo>
                      <a:lnTo>
                        <a:pt x="6" y="225"/>
                      </a:lnTo>
                      <a:lnTo>
                        <a:pt x="8" y="221"/>
                      </a:lnTo>
                      <a:lnTo>
                        <a:pt x="11" y="214"/>
                      </a:lnTo>
                      <a:lnTo>
                        <a:pt x="19" y="203"/>
                      </a:lnTo>
                      <a:lnTo>
                        <a:pt x="28" y="187"/>
                      </a:lnTo>
                      <a:lnTo>
                        <a:pt x="41" y="170"/>
                      </a:lnTo>
                      <a:lnTo>
                        <a:pt x="57" y="149"/>
                      </a:lnTo>
                      <a:lnTo>
                        <a:pt x="75" y="129"/>
                      </a:lnTo>
                      <a:lnTo>
                        <a:pt x="97" y="107"/>
                      </a:lnTo>
                      <a:lnTo>
                        <a:pt x="123" y="87"/>
                      </a:lnTo>
                      <a:lnTo>
                        <a:pt x="149" y="66"/>
                      </a:lnTo>
                      <a:lnTo>
                        <a:pt x="181" y="49"/>
                      </a:lnTo>
                      <a:lnTo>
                        <a:pt x="215" y="33"/>
                      </a:lnTo>
                      <a:lnTo>
                        <a:pt x="253" y="21"/>
                      </a:lnTo>
                      <a:lnTo>
                        <a:pt x="295" y="13"/>
                      </a:lnTo>
                      <a:lnTo>
                        <a:pt x="339" y="8"/>
                      </a:lnTo>
                      <a:lnTo>
                        <a:pt x="388" y="10"/>
                      </a:lnTo>
                      <a:lnTo>
                        <a:pt x="391" y="10"/>
                      </a:lnTo>
                      <a:lnTo>
                        <a:pt x="399" y="11"/>
                      </a:lnTo>
                      <a:lnTo>
                        <a:pt x="412" y="11"/>
                      </a:lnTo>
                      <a:lnTo>
                        <a:pt x="427" y="14"/>
                      </a:lnTo>
                      <a:lnTo>
                        <a:pt x="446" y="19"/>
                      </a:lnTo>
                      <a:lnTo>
                        <a:pt x="468" y="24"/>
                      </a:lnTo>
                      <a:lnTo>
                        <a:pt x="492" y="33"/>
                      </a:lnTo>
                      <a:lnTo>
                        <a:pt x="517" y="43"/>
                      </a:lnTo>
                      <a:lnTo>
                        <a:pt x="544" y="57"/>
                      </a:lnTo>
                      <a:lnTo>
                        <a:pt x="569" y="72"/>
                      </a:lnTo>
                      <a:lnTo>
                        <a:pt x="596" y="93"/>
                      </a:lnTo>
                      <a:lnTo>
                        <a:pt x="621" y="115"/>
                      </a:lnTo>
                      <a:lnTo>
                        <a:pt x="644" y="143"/>
                      </a:lnTo>
                      <a:lnTo>
                        <a:pt x="666" y="174"/>
                      </a:lnTo>
                      <a:lnTo>
                        <a:pt x="687" y="212"/>
                      </a:lnTo>
                      <a:lnTo>
                        <a:pt x="702" y="253"/>
                      </a:lnTo>
                      <a:lnTo>
                        <a:pt x="709" y="251"/>
                      </a:lnTo>
                      <a:lnTo>
                        <a:pt x="691" y="209"/>
                      </a:lnTo>
                      <a:lnTo>
                        <a:pt x="673" y="171"/>
                      </a:lnTo>
                      <a:lnTo>
                        <a:pt x="651" y="140"/>
                      </a:lnTo>
                      <a:lnTo>
                        <a:pt x="625" y="112"/>
                      </a:lnTo>
                      <a:lnTo>
                        <a:pt x="600" y="87"/>
                      </a:lnTo>
                      <a:lnTo>
                        <a:pt x="574" y="66"/>
                      </a:lnTo>
                      <a:lnTo>
                        <a:pt x="547" y="50"/>
                      </a:lnTo>
                      <a:lnTo>
                        <a:pt x="520" y="36"/>
                      </a:lnTo>
                      <a:lnTo>
                        <a:pt x="493" y="25"/>
                      </a:lnTo>
                      <a:lnTo>
                        <a:pt x="470" y="17"/>
                      </a:lnTo>
                      <a:lnTo>
                        <a:pt x="448" y="11"/>
                      </a:lnTo>
                      <a:lnTo>
                        <a:pt x="427" y="7"/>
                      </a:lnTo>
                      <a:lnTo>
                        <a:pt x="412" y="5"/>
                      </a:lnTo>
                      <a:lnTo>
                        <a:pt x="399" y="3"/>
                      </a:lnTo>
                      <a:lnTo>
                        <a:pt x="391" y="2"/>
                      </a:lnTo>
                      <a:lnTo>
                        <a:pt x="388" y="2"/>
                      </a:lnTo>
                      <a:lnTo>
                        <a:pt x="339" y="0"/>
                      </a:lnTo>
                      <a:lnTo>
                        <a:pt x="294" y="5"/>
                      </a:lnTo>
                      <a:lnTo>
                        <a:pt x="251" y="14"/>
                      </a:lnTo>
                      <a:lnTo>
                        <a:pt x="214" y="27"/>
                      </a:lnTo>
                      <a:lnTo>
                        <a:pt x="178" y="43"/>
                      </a:lnTo>
                      <a:lnTo>
                        <a:pt x="146" y="61"/>
                      </a:lnTo>
                      <a:lnTo>
                        <a:pt x="118" y="82"/>
                      </a:lnTo>
                      <a:lnTo>
                        <a:pt x="93" y="102"/>
                      </a:lnTo>
                      <a:lnTo>
                        <a:pt x="71" y="124"/>
                      </a:lnTo>
                      <a:lnTo>
                        <a:pt x="52" y="146"/>
                      </a:lnTo>
                      <a:lnTo>
                        <a:pt x="36" y="165"/>
                      </a:lnTo>
                      <a:lnTo>
                        <a:pt x="24" y="184"/>
                      </a:lnTo>
                      <a:lnTo>
                        <a:pt x="13" y="199"/>
                      </a:lnTo>
                      <a:lnTo>
                        <a:pt x="6" y="210"/>
                      </a:lnTo>
                      <a:lnTo>
                        <a:pt x="2" y="218"/>
                      </a:lnTo>
                      <a:lnTo>
                        <a:pt x="0" y="22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12"/>
                <p:cNvSpPr/>
                <p:nvPr/>
              </p:nvSpPr>
              <p:spPr>
                <a:xfrm>
                  <a:off x="1607040" y="3771360"/>
                  <a:ext cx="20880" cy="61920"/>
                </a:xfrm>
                <a:custGeom>
                  <a:avLst/>
                  <a:gdLst>
                    <a:gd name="textAreaLeft" fmla="*/ 0 w 20880"/>
                    <a:gd name="textAreaRight" fmla="*/ 21240 w 2088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102" h="301">
                      <a:moveTo>
                        <a:pt x="16" y="92"/>
                      </a:moveTo>
                      <a:lnTo>
                        <a:pt x="24" y="114"/>
                      </a:lnTo>
                      <a:lnTo>
                        <a:pt x="33" y="136"/>
                      </a:lnTo>
                      <a:lnTo>
                        <a:pt x="43" y="158"/>
                      </a:lnTo>
                      <a:lnTo>
                        <a:pt x="54" y="180"/>
                      </a:lnTo>
                      <a:lnTo>
                        <a:pt x="69" y="211"/>
                      </a:lnTo>
                      <a:lnTo>
                        <a:pt x="84" y="243"/>
                      </a:lnTo>
                      <a:lnTo>
                        <a:pt x="93" y="272"/>
                      </a:lnTo>
                      <a:lnTo>
                        <a:pt x="96" y="301"/>
                      </a:lnTo>
                      <a:lnTo>
                        <a:pt x="102" y="301"/>
                      </a:lnTo>
                      <a:lnTo>
                        <a:pt x="99" y="271"/>
                      </a:lnTo>
                      <a:lnTo>
                        <a:pt x="90" y="241"/>
                      </a:lnTo>
                      <a:lnTo>
                        <a:pt x="76" y="210"/>
                      </a:lnTo>
                      <a:lnTo>
                        <a:pt x="60" y="177"/>
                      </a:lnTo>
                      <a:lnTo>
                        <a:pt x="49" y="155"/>
                      </a:lnTo>
                      <a:lnTo>
                        <a:pt x="40" y="134"/>
                      </a:lnTo>
                      <a:lnTo>
                        <a:pt x="30" y="112"/>
                      </a:lnTo>
                      <a:lnTo>
                        <a:pt x="22" y="90"/>
                      </a:lnTo>
                      <a:lnTo>
                        <a:pt x="11" y="47"/>
                      </a:lnTo>
                      <a:lnTo>
                        <a:pt x="7" y="20"/>
                      </a:lnTo>
                      <a:lnTo>
                        <a:pt x="7" y="6"/>
                      </a:lnTo>
                      <a:lnTo>
                        <a:pt x="8" y="3"/>
                      </a:lnTo>
                      <a:lnTo>
                        <a:pt x="3" y="0"/>
                      </a:lnTo>
                      <a:lnTo>
                        <a:pt x="2" y="4"/>
                      </a:lnTo>
                      <a:lnTo>
                        <a:pt x="0" y="18"/>
                      </a:lnTo>
                      <a:lnTo>
                        <a:pt x="3" y="47"/>
                      </a:lnTo>
                      <a:lnTo>
                        <a:pt x="16" y="92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13"/>
                <p:cNvSpPr/>
                <p:nvPr/>
              </p:nvSpPr>
              <p:spPr>
                <a:xfrm>
                  <a:off x="1738440" y="3693960"/>
                  <a:ext cx="36360" cy="8568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85680"/>
                    <a:gd name="textAreaBottom" fmla="*/ 86040 h 85680"/>
                  </a:gdLst>
                  <a:ahLst/>
                  <a:rect l="textAreaLeft" t="textAreaTop" r="textAreaRight" b="textAreaBottom"/>
                  <a:pathLst>
                    <a:path w="181" h="413">
                      <a:moveTo>
                        <a:pt x="72" y="218"/>
                      </a:moveTo>
                      <a:lnTo>
                        <a:pt x="74" y="214"/>
                      </a:lnTo>
                      <a:lnTo>
                        <a:pt x="76" y="203"/>
                      </a:lnTo>
                      <a:lnTo>
                        <a:pt x="79" y="185"/>
                      </a:lnTo>
                      <a:lnTo>
                        <a:pt x="80" y="160"/>
                      </a:lnTo>
                      <a:lnTo>
                        <a:pt x="79" y="132"/>
                      </a:lnTo>
                      <a:lnTo>
                        <a:pt x="72" y="97"/>
                      </a:lnTo>
                      <a:lnTo>
                        <a:pt x="61" y="60"/>
                      </a:lnTo>
                      <a:lnTo>
                        <a:pt x="44" y="19"/>
                      </a:lnTo>
                      <a:lnTo>
                        <a:pt x="66" y="0"/>
                      </a:lnTo>
                      <a:lnTo>
                        <a:pt x="69" y="5"/>
                      </a:lnTo>
                      <a:lnTo>
                        <a:pt x="77" y="21"/>
                      </a:lnTo>
                      <a:lnTo>
                        <a:pt x="88" y="47"/>
                      </a:lnTo>
                      <a:lnTo>
                        <a:pt x="101" y="82"/>
                      </a:lnTo>
                      <a:lnTo>
                        <a:pt x="112" y="127"/>
                      </a:lnTo>
                      <a:lnTo>
                        <a:pt x="120" y="182"/>
                      </a:lnTo>
                      <a:lnTo>
                        <a:pt x="123" y="245"/>
                      </a:lnTo>
                      <a:lnTo>
                        <a:pt x="118" y="315"/>
                      </a:lnTo>
                      <a:lnTo>
                        <a:pt x="168" y="320"/>
                      </a:lnTo>
                      <a:lnTo>
                        <a:pt x="171" y="326"/>
                      </a:lnTo>
                      <a:lnTo>
                        <a:pt x="178" y="342"/>
                      </a:lnTo>
                      <a:lnTo>
                        <a:pt x="181" y="363"/>
                      </a:lnTo>
                      <a:lnTo>
                        <a:pt x="173" y="388"/>
                      </a:lnTo>
                      <a:lnTo>
                        <a:pt x="58" y="402"/>
                      </a:lnTo>
                      <a:lnTo>
                        <a:pt x="57" y="403"/>
                      </a:lnTo>
                      <a:lnTo>
                        <a:pt x="55" y="405"/>
                      </a:lnTo>
                      <a:lnTo>
                        <a:pt x="50" y="408"/>
                      </a:lnTo>
                      <a:lnTo>
                        <a:pt x="44" y="411"/>
                      </a:lnTo>
                      <a:lnTo>
                        <a:pt x="36" y="413"/>
                      </a:lnTo>
                      <a:lnTo>
                        <a:pt x="27" y="410"/>
                      </a:lnTo>
                      <a:lnTo>
                        <a:pt x="14" y="405"/>
                      </a:lnTo>
                      <a:lnTo>
                        <a:pt x="0" y="394"/>
                      </a:lnTo>
                      <a:lnTo>
                        <a:pt x="2" y="370"/>
                      </a:lnTo>
                      <a:lnTo>
                        <a:pt x="5" y="319"/>
                      </a:lnTo>
                      <a:lnTo>
                        <a:pt x="6" y="259"/>
                      </a:lnTo>
                      <a:lnTo>
                        <a:pt x="6" y="218"/>
                      </a:lnTo>
                      <a:lnTo>
                        <a:pt x="72" y="2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e1c11"/>
                    </a:gs>
                    <a:gs pos="100000">
                      <a:srgbClr val="4274a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3" name="Gruppe 38"/>
                <p:cNvGrpSpPr/>
                <p:nvPr/>
              </p:nvGrpSpPr>
              <p:grpSpPr>
                <a:xfrm>
                  <a:off x="1603440" y="3677760"/>
                  <a:ext cx="140760" cy="290160"/>
                  <a:chOff x="1603440" y="3677760"/>
                  <a:chExt cx="140760" cy="290160"/>
                </a:xfrm>
              </p:grpSpPr>
              <p:sp>
                <p:nvSpPr>
                  <p:cNvPr id="164" name="Freeform 14"/>
                  <p:cNvSpPr/>
                  <p:nvPr/>
                </p:nvSpPr>
                <p:spPr>
                  <a:xfrm>
                    <a:off x="1627200" y="3788640"/>
                    <a:ext cx="91080" cy="179280"/>
                  </a:xfrm>
                  <a:custGeom>
                    <a:avLst/>
                    <a:gdLst>
                      <a:gd name="textAreaLeft" fmla="*/ 0 w 91080"/>
                      <a:gd name="textAreaRight" fmla="*/ 91440 w 91080"/>
                      <a:gd name="textAreaTop" fmla="*/ 0 h 179280"/>
                      <a:gd name="textAreaBottom" fmla="*/ 179640 h 179280"/>
                    </a:gdLst>
                    <a:ahLst/>
                    <a:rect l="textAreaLeft" t="textAreaTop" r="textAreaRight" b="textAreaBottom"/>
                    <a:pathLst>
                      <a:path w="443" h="871">
                        <a:moveTo>
                          <a:pt x="167" y="218"/>
                        </a:moveTo>
                        <a:lnTo>
                          <a:pt x="197" y="246"/>
                        </a:lnTo>
                        <a:lnTo>
                          <a:pt x="228" y="262"/>
                        </a:lnTo>
                        <a:lnTo>
                          <a:pt x="258" y="270"/>
                        </a:lnTo>
                        <a:lnTo>
                          <a:pt x="289" y="270"/>
                        </a:lnTo>
                        <a:lnTo>
                          <a:pt x="319" y="261"/>
                        </a:lnTo>
                        <a:lnTo>
                          <a:pt x="349" y="245"/>
                        </a:lnTo>
                        <a:lnTo>
                          <a:pt x="379" y="223"/>
                        </a:lnTo>
                        <a:lnTo>
                          <a:pt x="406" y="196"/>
                        </a:lnTo>
                        <a:lnTo>
                          <a:pt x="410" y="192"/>
                        </a:lnTo>
                        <a:lnTo>
                          <a:pt x="420" y="185"/>
                        </a:lnTo>
                        <a:lnTo>
                          <a:pt x="432" y="179"/>
                        </a:lnTo>
                        <a:lnTo>
                          <a:pt x="443" y="171"/>
                        </a:lnTo>
                        <a:lnTo>
                          <a:pt x="439" y="187"/>
                        </a:lnTo>
                        <a:lnTo>
                          <a:pt x="436" y="214"/>
                        </a:lnTo>
                        <a:lnTo>
                          <a:pt x="432" y="240"/>
                        </a:lnTo>
                        <a:lnTo>
                          <a:pt x="431" y="251"/>
                        </a:lnTo>
                        <a:lnTo>
                          <a:pt x="426" y="270"/>
                        </a:lnTo>
                        <a:lnTo>
                          <a:pt x="418" y="314"/>
                        </a:lnTo>
                        <a:lnTo>
                          <a:pt x="409" y="361"/>
                        </a:lnTo>
                        <a:lnTo>
                          <a:pt x="404" y="388"/>
                        </a:lnTo>
                        <a:lnTo>
                          <a:pt x="398" y="425"/>
                        </a:lnTo>
                        <a:lnTo>
                          <a:pt x="387" y="463"/>
                        </a:lnTo>
                        <a:lnTo>
                          <a:pt x="376" y="496"/>
                        </a:lnTo>
                        <a:lnTo>
                          <a:pt x="373" y="516"/>
                        </a:lnTo>
                        <a:lnTo>
                          <a:pt x="373" y="540"/>
                        </a:lnTo>
                        <a:lnTo>
                          <a:pt x="370" y="576"/>
                        </a:lnTo>
                        <a:lnTo>
                          <a:pt x="360" y="613"/>
                        </a:lnTo>
                        <a:lnTo>
                          <a:pt x="343" y="645"/>
                        </a:lnTo>
                        <a:lnTo>
                          <a:pt x="332" y="664"/>
                        </a:lnTo>
                        <a:lnTo>
                          <a:pt x="321" y="693"/>
                        </a:lnTo>
                        <a:lnTo>
                          <a:pt x="310" y="731"/>
                        </a:lnTo>
                        <a:lnTo>
                          <a:pt x="300" y="770"/>
                        </a:lnTo>
                        <a:lnTo>
                          <a:pt x="293" y="808"/>
                        </a:lnTo>
                        <a:lnTo>
                          <a:pt x="286" y="839"/>
                        </a:lnTo>
                        <a:lnTo>
                          <a:pt x="283" y="863"/>
                        </a:lnTo>
                        <a:lnTo>
                          <a:pt x="282" y="871"/>
                        </a:lnTo>
                        <a:lnTo>
                          <a:pt x="277" y="858"/>
                        </a:lnTo>
                        <a:lnTo>
                          <a:pt x="263" y="825"/>
                        </a:lnTo>
                        <a:lnTo>
                          <a:pt x="242" y="778"/>
                        </a:lnTo>
                        <a:lnTo>
                          <a:pt x="219" y="723"/>
                        </a:lnTo>
                        <a:lnTo>
                          <a:pt x="194" y="668"/>
                        </a:lnTo>
                        <a:lnTo>
                          <a:pt x="172" y="620"/>
                        </a:lnTo>
                        <a:lnTo>
                          <a:pt x="154" y="584"/>
                        </a:lnTo>
                        <a:lnTo>
                          <a:pt x="143" y="566"/>
                        </a:lnTo>
                        <a:lnTo>
                          <a:pt x="135" y="560"/>
                        </a:lnTo>
                        <a:lnTo>
                          <a:pt x="128" y="554"/>
                        </a:lnTo>
                        <a:lnTo>
                          <a:pt x="120" y="544"/>
                        </a:lnTo>
                        <a:lnTo>
                          <a:pt x="112" y="537"/>
                        </a:lnTo>
                        <a:lnTo>
                          <a:pt x="104" y="529"/>
                        </a:lnTo>
                        <a:lnTo>
                          <a:pt x="98" y="522"/>
                        </a:lnTo>
                        <a:lnTo>
                          <a:pt x="95" y="518"/>
                        </a:lnTo>
                        <a:lnTo>
                          <a:pt x="93" y="516"/>
                        </a:lnTo>
                        <a:lnTo>
                          <a:pt x="91" y="496"/>
                        </a:lnTo>
                        <a:lnTo>
                          <a:pt x="88" y="447"/>
                        </a:lnTo>
                        <a:lnTo>
                          <a:pt x="84" y="394"/>
                        </a:lnTo>
                        <a:lnTo>
                          <a:pt x="77" y="355"/>
                        </a:lnTo>
                        <a:lnTo>
                          <a:pt x="73" y="336"/>
                        </a:lnTo>
                        <a:lnTo>
                          <a:pt x="66" y="306"/>
                        </a:lnTo>
                        <a:lnTo>
                          <a:pt x="57" y="268"/>
                        </a:lnTo>
                        <a:lnTo>
                          <a:pt x="49" y="228"/>
                        </a:lnTo>
                        <a:lnTo>
                          <a:pt x="40" y="188"/>
                        </a:lnTo>
                        <a:lnTo>
                          <a:pt x="32" y="151"/>
                        </a:lnTo>
                        <a:lnTo>
                          <a:pt x="25" y="121"/>
                        </a:lnTo>
                        <a:lnTo>
                          <a:pt x="21" y="102"/>
                        </a:lnTo>
                        <a:lnTo>
                          <a:pt x="18" y="88"/>
                        </a:lnTo>
                        <a:lnTo>
                          <a:pt x="14" y="66"/>
                        </a:lnTo>
                        <a:lnTo>
                          <a:pt x="10" y="38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19" y="36"/>
                        </a:lnTo>
                        <a:lnTo>
                          <a:pt x="36" y="66"/>
                        </a:lnTo>
                        <a:lnTo>
                          <a:pt x="55" y="94"/>
                        </a:lnTo>
                        <a:lnTo>
                          <a:pt x="76" y="119"/>
                        </a:lnTo>
                        <a:lnTo>
                          <a:pt x="96" y="145"/>
                        </a:lnTo>
                        <a:lnTo>
                          <a:pt x="118" y="168"/>
                        </a:lnTo>
                        <a:lnTo>
                          <a:pt x="142" y="193"/>
                        </a:lnTo>
                        <a:lnTo>
                          <a:pt x="167" y="218"/>
                        </a:lnTo>
                        <a:close/>
                      </a:path>
                    </a:pathLst>
                  </a:custGeom>
                  <a:solidFill>
                    <a:srgbClr val="9898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Freeform 15"/>
                  <p:cNvSpPr/>
                  <p:nvPr/>
                </p:nvSpPr>
                <p:spPr>
                  <a:xfrm>
                    <a:off x="1603440" y="3677760"/>
                    <a:ext cx="140760" cy="167760"/>
                  </a:xfrm>
                  <a:custGeom>
                    <a:avLst/>
                    <a:gdLst>
                      <a:gd name="textAreaLeft" fmla="*/ 0 w 140760"/>
                      <a:gd name="textAreaRight" fmla="*/ 140760 w 140760"/>
                      <a:gd name="textAreaTop" fmla="*/ 0 h 167760"/>
                      <a:gd name="textAreaBottom" fmla="*/ 168120 h 167760"/>
                    </a:gdLst>
                    <a:ahLst/>
                    <a:rect l="textAreaLeft" t="textAreaTop" r="textAreaRight" b="textAreaBottom"/>
                    <a:pathLst>
                      <a:path w="685" h="815">
                        <a:moveTo>
                          <a:pt x="3" y="240"/>
                        </a:moveTo>
                        <a:lnTo>
                          <a:pt x="13" y="222"/>
                        </a:lnTo>
                        <a:lnTo>
                          <a:pt x="24" y="215"/>
                        </a:lnTo>
                        <a:lnTo>
                          <a:pt x="35" y="221"/>
                        </a:lnTo>
                        <a:lnTo>
                          <a:pt x="49" y="244"/>
                        </a:lnTo>
                        <a:lnTo>
                          <a:pt x="52" y="249"/>
                        </a:lnTo>
                        <a:lnTo>
                          <a:pt x="60" y="258"/>
                        </a:lnTo>
                        <a:lnTo>
                          <a:pt x="69" y="271"/>
                        </a:lnTo>
                        <a:lnTo>
                          <a:pt x="79" y="282"/>
                        </a:lnTo>
                        <a:lnTo>
                          <a:pt x="87" y="293"/>
                        </a:lnTo>
                        <a:lnTo>
                          <a:pt x="95" y="304"/>
                        </a:lnTo>
                        <a:lnTo>
                          <a:pt x="98" y="313"/>
                        </a:lnTo>
                        <a:lnTo>
                          <a:pt x="99" y="318"/>
                        </a:lnTo>
                        <a:lnTo>
                          <a:pt x="102" y="321"/>
                        </a:lnTo>
                        <a:lnTo>
                          <a:pt x="109" y="323"/>
                        </a:lnTo>
                        <a:lnTo>
                          <a:pt x="113" y="317"/>
                        </a:lnTo>
                        <a:lnTo>
                          <a:pt x="117" y="293"/>
                        </a:lnTo>
                        <a:lnTo>
                          <a:pt x="120" y="258"/>
                        </a:lnTo>
                        <a:lnTo>
                          <a:pt x="128" y="229"/>
                        </a:lnTo>
                        <a:lnTo>
                          <a:pt x="134" y="207"/>
                        </a:lnTo>
                        <a:lnTo>
                          <a:pt x="137" y="199"/>
                        </a:lnTo>
                        <a:lnTo>
                          <a:pt x="142" y="193"/>
                        </a:lnTo>
                        <a:lnTo>
                          <a:pt x="156" y="174"/>
                        </a:lnTo>
                        <a:lnTo>
                          <a:pt x="178" y="149"/>
                        </a:lnTo>
                        <a:lnTo>
                          <a:pt x="206" y="119"/>
                        </a:lnTo>
                        <a:lnTo>
                          <a:pt x="238" y="86"/>
                        </a:lnTo>
                        <a:lnTo>
                          <a:pt x="272" y="56"/>
                        </a:lnTo>
                        <a:lnTo>
                          <a:pt x="307" y="31"/>
                        </a:lnTo>
                        <a:lnTo>
                          <a:pt x="340" y="15"/>
                        </a:lnTo>
                        <a:lnTo>
                          <a:pt x="370" y="8"/>
                        </a:lnTo>
                        <a:lnTo>
                          <a:pt x="393" y="1"/>
                        </a:lnTo>
                        <a:lnTo>
                          <a:pt x="410" y="0"/>
                        </a:lnTo>
                        <a:lnTo>
                          <a:pt x="425" y="0"/>
                        </a:lnTo>
                        <a:lnTo>
                          <a:pt x="434" y="0"/>
                        </a:lnTo>
                        <a:lnTo>
                          <a:pt x="440" y="3"/>
                        </a:lnTo>
                        <a:lnTo>
                          <a:pt x="443" y="4"/>
                        </a:lnTo>
                        <a:lnTo>
                          <a:pt x="445" y="4"/>
                        </a:lnTo>
                        <a:lnTo>
                          <a:pt x="448" y="4"/>
                        </a:lnTo>
                        <a:lnTo>
                          <a:pt x="456" y="4"/>
                        </a:lnTo>
                        <a:lnTo>
                          <a:pt x="469" y="4"/>
                        </a:lnTo>
                        <a:lnTo>
                          <a:pt x="484" y="6"/>
                        </a:lnTo>
                        <a:lnTo>
                          <a:pt x="502" y="9"/>
                        </a:lnTo>
                        <a:lnTo>
                          <a:pt x="519" y="14"/>
                        </a:lnTo>
                        <a:lnTo>
                          <a:pt x="536" y="22"/>
                        </a:lnTo>
                        <a:lnTo>
                          <a:pt x="550" y="33"/>
                        </a:lnTo>
                        <a:lnTo>
                          <a:pt x="566" y="48"/>
                        </a:lnTo>
                        <a:lnTo>
                          <a:pt x="583" y="69"/>
                        </a:lnTo>
                        <a:lnTo>
                          <a:pt x="602" y="94"/>
                        </a:lnTo>
                        <a:lnTo>
                          <a:pt x="621" y="124"/>
                        </a:lnTo>
                        <a:lnTo>
                          <a:pt x="638" y="153"/>
                        </a:lnTo>
                        <a:lnTo>
                          <a:pt x="652" y="185"/>
                        </a:lnTo>
                        <a:lnTo>
                          <a:pt x="663" y="218"/>
                        </a:lnTo>
                        <a:lnTo>
                          <a:pt x="670" y="247"/>
                        </a:lnTo>
                        <a:lnTo>
                          <a:pt x="674" y="266"/>
                        </a:lnTo>
                        <a:lnTo>
                          <a:pt x="684" y="315"/>
                        </a:lnTo>
                        <a:lnTo>
                          <a:pt x="685" y="387"/>
                        </a:lnTo>
                        <a:lnTo>
                          <a:pt x="670" y="476"/>
                        </a:lnTo>
                        <a:lnTo>
                          <a:pt x="657" y="514"/>
                        </a:lnTo>
                        <a:lnTo>
                          <a:pt x="643" y="552"/>
                        </a:lnTo>
                        <a:lnTo>
                          <a:pt x="627" y="586"/>
                        </a:lnTo>
                        <a:lnTo>
                          <a:pt x="612" y="619"/>
                        </a:lnTo>
                        <a:lnTo>
                          <a:pt x="594" y="647"/>
                        </a:lnTo>
                        <a:lnTo>
                          <a:pt x="579" y="674"/>
                        </a:lnTo>
                        <a:lnTo>
                          <a:pt x="566" y="694"/>
                        </a:lnTo>
                        <a:lnTo>
                          <a:pt x="553" y="710"/>
                        </a:lnTo>
                        <a:lnTo>
                          <a:pt x="546" y="723"/>
                        </a:lnTo>
                        <a:lnTo>
                          <a:pt x="533" y="734"/>
                        </a:lnTo>
                        <a:lnTo>
                          <a:pt x="520" y="743"/>
                        </a:lnTo>
                        <a:lnTo>
                          <a:pt x="513" y="749"/>
                        </a:lnTo>
                        <a:lnTo>
                          <a:pt x="484" y="776"/>
                        </a:lnTo>
                        <a:lnTo>
                          <a:pt x="456" y="796"/>
                        </a:lnTo>
                        <a:lnTo>
                          <a:pt x="428" y="809"/>
                        </a:lnTo>
                        <a:lnTo>
                          <a:pt x="398" y="815"/>
                        </a:lnTo>
                        <a:lnTo>
                          <a:pt x="366" y="814"/>
                        </a:lnTo>
                        <a:lnTo>
                          <a:pt x="337" y="804"/>
                        </a:lnTo>
                        <a:lnTo>
                          <a:pt x="307" y="785"/>
                        </a:lnTo>
                        <a:lnTo>
                          <a:pt x="277" y="757"/>
                        </a:lnTo>
                        <a:lnTo>
                          <a:pt x="252" y="732"/>
                        </a:lnTo>
                        <a:lnTo>
                          <a:pt x="228" y="709"/>
                        </a:lnTo>
                        <a:lnTo>
                          <a:pt x="208" y="684"/>
                        </a:lnTo>
                        <a:lnTo>
                          <a:pt x="187" y="660"/>
                        </a:lnTo>
                        <a:lnTo>
                          <a:pt x="167" y="633"/>
                        </a:lnTo>
                        <a:lnTo>
                          <a:pt x="148" y="607"/>
                        </a:lnTo>
                        <a:lnTo>
                          <a:pt x="131" y="575"/>
                        </a:lnTo>
                        <a:lnTo>
                          <a:pt x="112" y="541"/>
                        </a:lnTo>
                        <a:lnTo>
                          <a:pt x="112" y="539"/>
                        </a:lnTo>
                        <a:lnTo>
                          <a:pt x="110" y="539"/>
                        </a:lnTo>
                        <a:lnTo>
                          <a:pt x="104" y="509"/>
                        </a:lnTo>
                        <a:lnTo>
                          <a:pt x="99" y="484"/>
                        </a:lnTo>
                        <a:lnTo>
                          <a:pt x="96" y="465"/>
                        </a:lnTo>
                        <a:lnTo>
                          <a:pt x="95" y="459"/>
                        </a:lnTo>
                        <a:lnTo>
                          <a:pt x="93" y="459"/>
                        </a:lnTo>
                        <a:lnTo>
                          <a:pt x="91" y="461"/>
                        </a:lnTo>
                        <a:lnTo>
                          <a:pt x="87" y="464"/>
                        </a:lnTo>
                        <a:lnTo>
                          <a:pt x="80" y="465"/>
                        </a:lnTo>
                        <a:lnTo>
                          <a:pt x="76" y="455"/>
                        </a:lnTo>
                        <a:lnTo>
                          <a:pt x="69" y="445"/>
                        </a:lnTo>
                        <a:lnTo>
                          <a:pt x="62" y="436"/>
                        </a:lnTo>
                        <a:lnTo>
                          <a:pt x="51" y="428"/>
                        </a:lnTo>
                        <a:lnTo>
                          <a:pt x="62" y="436"/>
                        </a:lnTo>
                        <a:lnTo>
                          <a:pt x="69" y="445"/>
                        </a:lnTo>
                        <a:lnTo>
                          <a:pt x="76" y="455"/>
                        </a:lnTo>
                        <a:lnTo>
                          <a:pt x="80" y="465"/>
                        </a:lnTo>
                        <a:lnTo>
                          <a:pt x="74" y="467"/>
                        </a:lnTo>
                        <a:lnTo>
                          <a:pt x="66" y="467"/>
                        </a:lnTo>
                        <a:lnTo>
                          <a:pt x="60" y="465"/>
                        </a:lnTo>
                        <a:lnTo>
                          <a:pt x="51" y="464"/>
                        </a:lnTo>
                        <a:lnTo>
                          <a:pt x="43" y="461"/>
                        </a:lnTo>
                        <a:lnTo>
                          <a:pt x="33" y="455"/>
                        </a:lnTo>
                        <a:lnTo>
                          <a:pt x="25" y="445"/>
                        </a:lnTo>
                        <a:lnTo>
                          <a:pt x="16" y="434"/>
                        </a:lnTo>
                        <a:lnTo>
                          <a:pt x="13" y="407"/>
                        </a:lnTo>
                        <a:lnTo>
                          <a:pt x="5" y="348"/>
                        </a:lnTo>
                        <a:lnTo>
                          <a:pt x="0" y="282"/>
                        </a:lnTo>
                        <a:lnTo>
                          <a:pt x="3" y="240"/>
                        </a:lnTo>
                        <a:close/>
                      </a:path>
                    </a:pathLst>
                  </a:custGeom>
                  <a:solidFill>
                    <a:srgbClr val="9898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" name="Freeform 22"/>
                <p:cNvSpPr/>
                <p:nvPr/>
              </p:nvSpPr>
              <p:spPr>
                <a:xfrm>
                  <a:off x="1592280" y="3689280"/>
                  <a:ext cx="31680" cy="8424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154" h="409">
                      <a:moveTo>
                        <a:pt x="39" y="218"/>
                      </a:moveTo>
                      <a:lnTo>
                        <a:pt x="128" y="219"/>
                      </a:lnTo>
                      <a:lnTo>
                        <a:pt x="130" y="222"/>
                      </a:lnTo>
                      <a:lnTo>
                        <a:pt x="135" y="233"/>
                      </a:lnTo>
                      <a:lnTo>
                        <a:pt x="141" y="251"/>
                      </a:lnTo>
                      <a:lnTo>
                        <a:pt x="147" y="274"/>
                      </a:lnTo>
                      <a:lnTo>
                        <a:pt x="152" y="302"/>
                      </a:lnTo>
                      <a:lnTo>
                        <a:pt x="154" y="334"/>
                      </a:lnTo>
                      <a:lnTo>
                        <a:pt x="149" y="370"/>
                      </a:lnTo>
                      <a:lnTo>
                        <a:pt x="139" y="409"/>
                      </a:lnTo>
                      <a:lnTo>
                        <a:pt x="33" y="409"/>
                      </a:lnTo>
                      <a:lnTo>
                        <a:pt x="28" y="400"/>
                      </a:lnTo>
                      <a:lnTo>
                        <a:pt x="18" y="375"/>
                      </a:lnTo>
                      <a:lnTo>
                        <a:pt x="7" y="348"/>
                      </a:lnTo>
                      <a:lnTo>
                        <a:pt x="4" y="326"/>
                      </a:lnTo>
                      <a:lnTo>
                        <a:pt x="15" y="321"/>
                      </a:lnTo>
                      <a:lnTo>
                        <a:pt x="15" y="299"/>
                      </a:lnTo>
                      <a:lnTo>
                        <a:pt x="0" y="295"/>
                      </a:lnTo>
                      <a:lnTo>
                        <a:pt x="0" y="284"/>
                      </a:lnTo>
                      <a:lnTo>
                        <a:pt x="3" y="257"/>
                      </a:lnTo>
                      <a:lnTo>
                        <a:pt x="6" y="216"/>
                      </a:lnTo>
                      <a:lnTo>
                        <a:pt x="11" y="168"/>
                      </a:lnTo>
                      <a:lnTo>
                        <a:pt x="18" y="117"/>
                      </a:lnTo>
                      <a:lnTo>
                        <a:pt x="29" y="70"/>
                      </a:lnTo>
                      <a:lnTo>
                        <a:pt x="42" y="28"/>
                      </a:lnTo>
                      <a:lnTo>
                        <a:pt x="59" y="0"/>
                      </a:lnTo>
                      <a:lnTo>
                        <a:pt x="83" y="11"/>
                      </a:lnTo>
                      <a:lnTo>
                        <a:pt x="77" y="26"/>
                      </a:lnTo>
                      <a:lnTo>
                        <a:pt x="61" y="70"/>
                      </a:lnTo>
                      <a:lnTo>
                        <a:pt x="45" y="136"/>
                      </a:lnTo>
                      <a:lnTo>
                        <a:pt x="39" y="2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e1c11"/>
                    </a:gs>
                    <a:gs pos="100000">
                      <a:srgbClr val="4274a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696320" y="3772440"/>
                  <a:ext cx="72360" cy="61200"/>
                </a:xfrm>
                <a:custGeom>
                  <a:avLst/>
                  <a:gdLst>
                    <a:gd name="textAreaLeft" fmla="*/ 0 w 72360"/>
                    <a:gd name="textAreaRight" fmla="*/ 72720 w 72360"/>
                    <a:gd name="textAreaTop" fmla="*/ 0 h 61200"/>
                    <a:gd name="textAreaBottom" fmla="*/ 61560 h 61200"/>
                  </a:gdLst>
                  <a:ahLst/>
                  <a:rect l="textAreaLeft" t="textAreaTop" r="textAreaRight" b="textAreaBottom"/>
                  <a:pathLst>
                    <a:path w="352" h="298">
                      <a:moveTo>
                        <a:pt x="346" y="0"/>
                      </a:moveTo>
                      <a:lnTo>
                        <a:pt x="343" y="2"/>
                      </a:lnTo>
                      <a:lnTo>
                        <a:pt x="341" y="3"/>
                      </a:lnTo>
                      <a:lnTo>
                        <a:pt x="339" y="6"/>
                      </a:lnTo>
                      <a:lnTo>
                        <a:pt x="339" y="8"/>
                      </a:lnTo>
                      <a:lnTo>
                        <a:pt x="339" y="14"/>
                      </a:lnTo>
                      <a:lnTo>
                        <a:pt x="339" y="28"/>
                      </a:lnTo>
                      <a:lnTo>
                        <a:pt x="339" y="52"/>
                      </a:lnTo>
                      <a:lnTo>
                        <a:pt x="335" y="80"/>
                      </a:lnTo>
                      <a:lnTo>
                        <a:pt x="328" y="112"/>
                      </a:lnTo>
                      <a:lnTo>
                        <a:pt x="316" y="146"/>
                      </a:lnTo>
                      <a:lnTo>
                        <a:pt x="297" y="181"/>
                      </a:lnTo>
                      <a:lnTo>
                        <a:pt x="272" y="212"/>
                      </a:lnTo>
                      <a:lnTo>
                        <a:pt x="261" y="223"/>
                      </a:lnTo>
                      <a:lnTo>
                        <a:pt x="250" y="232"/>
                      </a:lnTo>
                      <a:lnTo>
                        <a:pt x="237" y="240"/>
                      </a:lnTo>
                      <a:lnTo>
                        <a:pt x="223" y="248"/>
                      </a:lnTo>
                      <a:lnTo>
                        <a:pt x="211" y="256"/>
                      </a:lnTo>
                      <a:lnTo>
                        <a:pt x="195" y="262"/>
                      </a:lnTo>
                      <a:lnTo>
                        <a:pt x="181" y="267"/>
                      </a:lnTo>
                      <a:lnTo>
                        <a:pt x="163" y="272"/>
                      </a:lnTo>
                      <a:lnTo>
                        <a:pt x="148" y="276"/>
                      </a:lnTo>
                      <a:lnTo>
                        <a:pt x="130" y="279"/>
                      </a:lnTo>
                      <a:lnTo>
                        <a:pt x="112" y="281"/>
                      </a:lnTo>
                      <a:lnTo>
                        <a:pt x="93" y="283"/>
                      </a:lnTo>
                      <a:lnTo>
                        <a:pt x="72" y="284"/>
                      </a:lnTo>
                      <a:lnTo>
                        <a:pt x="52" y="284"/>
                      </a:lnTo>
                      <a:lnTo>
                        <a:pt x="30" y="283"/>
                      </a:lnTo>
                      <a:lnTo>
                        <a:pt x="8" y="281"/>
                      </a:lnTo>
                      <a:lnTo>
                        <a:pt x="6" y="281"/>
                      </a:lnTo>
                      <a:lnTo>
                        <a:pt x="3" y="283"/>
                      </a:lnTo>
                      <a:lnTo>
                        <a:pt x="2" y="286"/>
                      </a:lnTo>
                      <a:lnTo>
                        <a:pt x="0" y="287"/>
                      </a:lnTo>
                      <a:lnTo>
                        <a:pt x="0" y="290"/>
                      </a:lnTo>
                      <a:lnTo>
                        <a:pt x="2" y="294"/>
                      </a:lnTo>
                      <a:lnTo>
                        <a:pt x="5" y="295"/>
                      </a:lnTo>
                      <a:lnTo>
                        <a:pt x="6" y="295"/>
                      </a:lnTo>
                      <a:lnTo>
                        <a:pt x="30" y="297"/>
                      </a:lnTo>
                      <a:lnTo>
                        <a:pt x="52" y="298"/>
                      </a:lnTo>
                      <a:lnTo>
                        <a:pt x="74" y="298"/>
                      </a:lnTo>
                      <a:lnTo>
                        <a:pt x="94" y="297"/>
                      </a:lnTo>
                      <a:lnTo>
                        <a:pt x="113" y="295"/>
                      </a:lnTo>
                      <a:lnTo>
                        <a:pt x="134" y="292"/>
                      </a:lnTo>
                      <a:lnTo>
                        <a:pt x="151" y="289"/>
                      </a:lnTo>
                      <a:lnTo>
                        <a:pt x="168" y="284"/>
                      </a:lnTo>
                      <a:lnTo>
                        <a:pt x="185" y="279"/>
                      </a:lnTo>
                      <a:lnTo>
                        <a:pt x="201" y="273"/>
                      </a:lnTo>
                      <a:lnTo>
                        <a:pt x="217" y="267"/>
                      </a:lnTo>
                      <a:lnTo>
                        <a:pt x="231" y="259"/>
                      </a:lnTo>
                      <a:lnTo>
                        <a:pt x="245" y="251"/>
                      </a:lnTo>
                      <a:lnTo>
                        <a:pt x="258" y="242"/>
                      </a:lnTo>
                      <a:lnTo>
                        <a:pt x="270" y="231"/>
                      </a:lnTo>
                      <a:lnTo>
                        <a:pt x="281" y="220"/>
                      </a:lnTo>
                      <a:lnTo>
                        <a:pt x="308" y="187"/>
                      </a:lnTo>
                      <a:lnTo>
                        <a:pt x="327" y="151"/>
                      </a:lnTo>
                      <a:lnTo>
                        <a:pt x="341" y="116"/>
                      </a:lnTo>
                      <a:lnTo>
                        <a:pt x="347" y="83"/>
                      </a:lnTo>
                      <a:lnTo>
                        <a:pt x="352" y="54"/>
                      </a:lnTo>
                      <a:lnTo>
                        <a:pt x="352" y="30"/>
                      </a:lnTo>
                      <a:lnTo>
                        <a:pt x="352" y="13"/>
                      </a:lnTo>
                      <a:lnTo>
                        <a:pt x="352" y="6"/>
                      </a:lnTo>
                      <a:lnTo>
                        <a:pt x="352" y="5"/>
                      </a:lnTo>
                      <a:lnTo>
                        <a:pt x="350" y="2"/>
                      </a:lnTo>
                      <a:lnTo>
                        <a:pt x="347" y="0"/>
                      </a:lnTo>
                      <a:lnTo>
                        <a:pt x="346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681200" y="3821040"/>
                  <a:ext cx="23760" cy="1728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20" h="80">
                      <a:moveTo>
                        <a:pt x="120" y="39"/>
                      </a:moveTo>
                      <a:lnTo>
                        <a:pt x="118" y="47"/>
                      </a:lnTo>
                      <a:lnTo>
                        <a:pt x="115" y="55"/>
                      </a:lnTo>
                      <a:lnTo>
                        <a:pt x="110" y="61"/>
                      </a:lnTo>
                      <a:lnTo>
                        <a:pt x="102" y="67"/>
                      </a:lnTo>
                      <a:lnTo>
                        <a:pt x="94" y="72"/>
                      </a:lnTo>
                      <a:lnTo>
                        <a:pt x="83" y="77"/>
                      </a:lnTo>
                      <a:lnTo>
                        <a:pt x="72" y="78"/>
                      </a:lnTo>
                      <a:lnTo>
                        <a:pt x="60" y="80"/>
                      </a:lnTo>
                      <a:lnTo>
                        <a:pt x="49" y="78"/>
                      </a:lnTo>
                      <a:lnTo>
                        <a:pt x="38" y="77"/>
                      </a:lnTo>
                      <a:lnTo>
                        <a:pt x="27" y="72"/>
                      </a:lnTo>
                      <a:lnTo>
                        <a:pt x="19" y="67"/>
                      </a:lnTo>
                      <a:lnTo>
                        <a:pt x="11" y="61"/>
                      </a:lnTo>
                      <a:lnTo>
                        <a:pt x="5" y="55"/>
                      </a:lnTo>
                      <a:lnTo>
                        <a:pt x="2" y="47"/>
                      </a:lnTo>
                      <a:lnTo>
                        <a:pt x="0" y="39"/>
                      </a:lnTo>
                      <a:lnTo>
                        <a:pt x="2" y="31"/>
                      </a:lnTo>
                      <a:lnTo>
                        <a:pt x="5" y="23"/>
                      </a:lnTo>
                      <a:lnTo>
                        <a:pt x="11" y="17"/>
                      </a:lnTo>
                      <a:lnTo>
                        <a:pt x="19" y="11"/>
                      </a:lnTo>
                      <a:lnTo>
                        <a:pt x="27" y="6"/>
                      </a:lnTo>
                      <a:lnTo>
                        <a:pt x="38" y="3"/>
                      </a:lnTo>
                      <a:lnTo>
                        <a:pt x="49" y="0"/>
                      </a:lnTo>
                      <a:lnTo>
                        <a:pt x="60" y="0"/>
                      </a:lnTo>
                      <a:lnTo>
                        <a:pt x="72" y="0"/>
                      </a:lnTo>
                      <a:lnTo>
                        <a:pt x="83" y="3"/>
                      </a:lnTo>
                      <a:lnTo>
                        <a:pt x="94" y="6"/>
                      </a:lnTo>
                      <a:lnTo>
                        <a:pt x="102" y="11"/>
                      </a:lnTo>
                      <a:lnTo>
                        <a:pt x="110" y="17"/>
                      </a:lnTo>
                      <a:lnTo>
                        <a:pt x="115" y="23"/>
                      </a:lnTo>
                      <a:lnTo>
                        <a:pt x="118" y="31"/>
                      </a:lnTo>
                      <a:lnTo>
                        <a:pt x="120" y="3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e1c11"/>
                    </a:gs>
                    <a:gs pos="100000">
                      <a:srgbClr val="4274a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9" name="Rektangel 370"/>
            <p:cNvSpPr/>
            <p:nvPr/>
          </p:nvSpPr>
          <p:spPr>
            <a:xfrm>
              <a:off x="1001880" y="4179960"/>
              <a:ext cx="1295280" cy="849240"/>
            </a:xfrm>
            <a:prstGeom prst="rect">
              <a:avLst/>
            </a:prstGeom>
            <a:solidFill>
              <a:srgbClr val="a3a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41"/>
            <p:cNvSpPr/>
            <p:nvPr/>
          </p:nvSpPr>
          <p:spPr>
            <a:xfrm>
              <a:off x="1136520" y="4363920"/>
              <a:ext cx="422280" cy="42840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70" h="71">
                  <a:moveTo>
                    <a:pt x="51" y="68"/>
                  </a:moveTo>
                  <a:cubicBezTo>
                    <a:pt x="45" y="70"/>
                    <a:pt x="40" y="71"/>
                    <a:pt x="32" y="71"/>
                  </a:cubicBezTo>
                  <a:cubicBezTo>
                    <a:pt x="15" y="71"/>
                    <a:pt x="0" y="59"/>
                    <a:pt x="0" y="39"/>
                  </a:cubicBezTo>
                  <a:cubicBezTo>
                    <a:pt x="0" y="18"/>
                    <a:pt x="16" y="0"/>
                    <a:pt x="39" y="0"/>
                  </a:cubicBezTo>
                  <a:cubicBezTo>
                    <a:pt x="57" y="0"/>
                    <a:pt x="70" y="12"/>
                    <a:pt x="70" y="30"/>
                  </a:cubicBezTo>
                  <a:cubicBezTo>
                    <a:pt x="70" y="45"/>
                    <a:pt x="61" y="54"/>
                    <a:pt x="50" y="54"/>
                  </a:cubicBezTo>
                  <a:cubicBezTo>
                    <a:pt x="45" y="54"/>
                    <a:pt x="42" y="51"/>
                    <a:pt x="41" y="46"/>
                  </a:cubicBezTo>
                  <a:cubicBezTo>
                    <a:pt x="41" y="46"/>
                    <a:pt x="41" y="46"/>
                    <a:pt x="41" y="46"/>
                  </a:cubicBezTo>
                  <a:cubicBezTo>
                    <a:pt x="38" y="51"/>
                    <a:pt x="33" y="54"/>
                    <a:pt x="28" y="54"/>
                  </a:cubicBezTo>
                  <a:cubicBezTo>
                    <a:pt x="21" y="54"/>
                    <a:pt x="17" y="49"/>
                    <a:pt x="17" y="41"/>
                  </a:cubicBezTo>
                  <a:cubicBezTo>
                    <a:pt x="17" y="28"/>
                    <a:pt x="26" y="17"/>
                    <a:pt x="40" y="17"/>
                  </a:cubicBezTo>
                  <a:cubicBezTo>
                    <a:pt x="45" y="17"/>
                    <a:pt x="50" y="18"/>
                    <a:pt x="53" y="19"/>
                  </a:cubicBezTo>
                  <a:cubicBezTo>
                    <a:pt x="50" y="38"/>
                    <a:pt x="50" y="38"/>
                    <a:pt x="50" y="38"/>
                  </a:cubicBezTo>
                  <a:cubicBezTo>
                    <a:pt x="48" y="44"/>
                    <a:pt x="49" y="47"/>
                    <a:pt x="52" y="47"/>
                  </a:cubicBezTo>
                  <a:cubicBezTo>
                    <a:pt x="56" y="47"/>
                    <a:pt x="62" y="42"/>
                    <a:pt x="62" y="30"/>
                  </a:cubicBezTo>
                  <a:cubicBezTo>
                    <a:pt x="62" y="17"/>
                    <a:pt x="53" y="6"/>
                    <a:pt x="38" y="6"/>
                  </a:cubicBezTo>
                  <a:cubicBezTo>
                    <a:pt x="22" y="6"/>
                    <a:pt x="8" y="19"/>
                    <a:pt x="8" y="38"/>
                  </a:cubicBezTo>
                  <a:cubicBezTo>
                    <a:pt x="8" y="55"/>
                    <a:pt x="19" y="65"/>
                    <a:pt x="34" y="65"/>
                  </a:cubicBezTo>
                  <a:cubicBezTo>
                    <a:pt x="40" y="65"/>
                    <a:pt x="45" y="64"/>
                    <a:pt x="49" y="62"/>
                  </a:cubicBezTo>
                  <a:lnTo>
                    <a:pt x="51" y="68"/>
                  </a:lnTo>
                  <a:close/>
                  <a:moveTo>
                    <a:pt x="42" y="25"/>
                  </a:moveTo>
                  <a:cubicBezTo>
                    <a:pt x="41" y="25"/>
                    <a:pt x="40" y="25"/>
                    <a:pt x="39" y="25"/>
                  </a:cubicBezTo>
                  <a:cubicBezTo>
                    <a:pt x="32" y="25"/>
                    <a:pt x="27" y="32"/>
                    <a:pt x="27" y="39"/>
                  </a:cubicBezTo>
                  <a:cubicBezTo>
                    <a:pt x="27" y="43"/>
                    <a:pt x="28" y="46"/>
                    <a:pt x="32" y="46"/>
                  </a:cubicBezTo>
                  <a:cubicBezTo>
                    <a:pt x="36" y="46"/>
                    <a:pt x="40" y="41"/>
                    <a:pt x="41" y="35"/>
                  </a:cubicBezTo>
                  <a:lnTo>
                    <a:pt x="42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Gruppe 444"/>
            <p:cNvGrpSpPr/>
            <p:nvPr/>
          </p:nvGrpSpPr>
          <p:grpSpPr>
            <a:xfrm>
              <a:off x="1698840" y="4375080"/>
              <a:ext cx="444240" cy="446040"/>
              <a:chOff x="1698840" y="4375080"/>
              <a:chExt cx="444240" cy="446040"/>
            </a:xfrm>
          </p:grpSpPr>
          <p:sp>
            <p:nvSpPr>
              <p:cNvPr id="172" name="Ellipse 363"/>
              <p:cNvSpPr/>
              <p:nvPr/>
            </p:nvSpPr>
            <p:spPr>
              <a:xfrm>
                <a:off x="1698840" y="4375080"/>
                <a:ext cx="444240" cy="446040"/>
              </a:xfrm>
              <a:prstGeom prst="ellipse">
                <a:avLst/>
              </a:prstGeom>
              <a:solidFill>
                <a:srgbClr val="bfbfb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3" name="Group 3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822680" y="4431600"/>
                <a:ext cx="158400" cy="335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4" name="Rektangel 404"/>
          <p:cNvSpPr/>
          <p:nvPr/>
        </p:nvSpPr>
        <p:spPr>
          <a:xfrm>
            <a:off x="1219320" y="5106960"/>
            <a:ext cx="1001520" cy="239760"/>
          </a:xfrm>
          <a:prstGeom prst="rect">
            <a:avLst/>
          </a:prstGeom>
          <a:solidFill>
            <a:srgbClr val="ffffff"/>
          </a:solidFill>
          <a:ln w="3240">
            <a:solidFill>
              <a:srgbClr val="d9d9d9"/>
            </a:solidFill>
            <a:miter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ktangel 405"/>
          <p:cNvSpPr/>
          <p:nvPr/>
        </p:nvSpPr>
        <p:spPr>
          <a:xfrm>
            <a:off x="1219320" y="5084640"/>
            <a:ext cx="104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1400" spc="-1" strike="noStrike">
                <a:solidFill>
                  <a:srgbClr val="1e1c11"/>
                </a:solidFill>
                <a:latin typeface="Calibri"/>
                <a:ea typeface="Arial"/>
              </a:rPr>
              <a:t>Or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ktangel 406"/>
          <p:cNvSpPr/>
          <p:nvPr/>
        </p:nvSpPr>
        <p:spPr>
          <a:xfrm>
            <a:off x="2732040" y="3921120"/>
            <a:ext cx="1001880" cy="239760"/>
          </a:xfrm>
          <a:prstGeom prst="rect">
            <a:avLst/>
          </a:prstGeom>
          <a:solidFill>
            <a:srgbClr val="ffffff"/>
          </a:solidFill>
          <a:ln w="3240">
            <a:solidFill>
              <a:srgbClr val="d9d9d9"/>
            </a:solidFill>
            <a:miter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ktangel 407"/>
          <p:cNvSpPr/>
          <p:nvPr/>
        </p:nvSpPr>
        <p:spPr>
          <a:xfrm>
            <a:off x="2720880" y="3897360"/>
            <a:ext cx="104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1400" spc="-1" strike="noStrike">
                <a:solidFill>
                  <a:srgbClr val="1e1c11"/>
                </a:solidFill>
                <a:latin typeface="Calibri"/>
                <a:ea typeface="Arial"/>
              </a:rPr>
              <a:t>P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ktangel 408"/>
          <p:cNvSpPr/>
          <p:nvPr/>
        </p:nvSpPr>
        <p:spPr>
          <a:xfrm>
            <a:off x="4038480" y="2755800"/>
            <a:ext cx="1001880" cy="239760"/>
          </a:xfrm>
          <a:prstGeom prst="rect">
            <a:avLst/>
          </a:prstGeom>
          <a:solidFill>
            <a:srgbClr val="ffffff"/>
          </a:solidFill>
          <a:ln w="3240">
            <a:solidFill>
              <a:srgbClr val="d9d9d9"/>
            </a:solidFill>
            <a:miter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ktangel 409"/>
          <p:cNvSpPr/>
          <p:nvPr/>
        </p:nvSpPr>
        <p:spPr>
          <a:xfrm>
            <a:off x="4038480" y="273204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1400" spc="-1" strike="noStrike">
                <a:solidFill>
                  <a:srgbClr val="1e1c11"/>
                </a:solidFill>
                <a:latin typeface="Calibri"/>
                <a:ea typeface="Arial"/>
              </a:rPr>
              <a:t>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ktangel 410"/>
          <p:cNvSpPr/>
          <p:nvPr/>
        </p:nvSpPr>
        <p:spPr>
          <a:xfrm>
            <a:off x="6389640" y="2755800"/>
            <a:ext cx="1328760" cy="238320"/>
          </a:xfrm>
          <a:prstGeom prst="rect">
            <a:avLst/>
          </a:prstGeom>
          <a:solidFill>
            <a:srgbClr val="ffffff"/>
          </a:solidFill>
          <a:ln w="3240">
            <a:solidFill>
              <a:srgbClr val="d9d9d9"/>
            </a:solidFill>
            <a:miter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ktangel 411"/>
          <p:cNvSpPr/>
          <p:nvPr/>
        </p:nvSpPr>
        <p:spPr>
          <a:xfrm>
            <a:off x="6443640" y="2732040"/>
            <a:ext cx="127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1400" spc="-1" strike="noStrike">
                <a:solidFill>
                  <a:srgbClr val="1e1c11"/>
                </a:solidFill>
                <a:latin typeface="Calibri"/>
                <a:ea typeface="Arial"/>
              </a:rPr>
              <a:t>Bill 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uppe 412"/>
          <p:cNvGrpSpPr/>
          <p:nvPr/>
        </p:nvGrpSpPr>
        <p:grpSpPr>
          <a:xfrm>
            <a:off x="7118280" y="1405080"/>
            <a:ext cx="692280" cy="1250640"/>
            <a:chOff x="7118280" y="1405080"/>
            <a:chExt cx="692280" cy="1250640"/>
          </a:xfrm>
        </p:grpSpPr>
        <p:grpSp>
          <p:nvGrpSpPr>
            <p:cNvPr id="183" name="Gruppe 832"/>
            <p:cNvGrpSpPr/>
            <p:nvPr/>
          </p:nvGrpSpPr>
          <p:grpSpPr>
            <a:xfrm>
              <a:off x="7118280" y="1405080"/>
              <a:ext cx="692280" cy="1250640"/>
              <a:chOff x="7118280" y="1405080"/>
              <a:chExt cx="692280" cy="1250640"/>
            </a:xfrm>
          </p:grpSpPr>
          <p:sp>
            <p:nvSpPr>
              <p:cNvPr id="184" name="Freeform 60"/>
              <p:cNvSpPr/>
              <p:nvPr/>
            </p:nvSpPr>
            <p:spPr>
              <a:xfrm>
                <a:off x="7118280" y="1405080"/>
                <a:ext cx="461880" cy="1250640"/>
              </a:xfrm>
              <a:custGeom>
                <a:avLst/>
                <a:gdLst>
                  <a:gd name="textAreaLeft" fmla="*/ 0 w 461880"/>
                  <a:gd name="textAreaRight" fmla="*/ 462240 w 461880"/>
                  <a:gd name="textAreaTop" fmla="*/ 0 h 1250640"/>
                  <a:gd name="textAreaBottom" fmla="*/ 1251000 h 1250640"/>
                </a:gdLst>
                <a:ahLst/>
                <a:rect l="textAreaLeft" t="textAreaTop" r="textAreaRight" b="textAreaBottom"/>
                <a:pathLst>
                  <a:path w="1130" h="3060">
                    <a:moveTo>
                      <a:pt x="1126" y="1622"/>
                    </a:moveTo>
                    <a:lnTo>
                      <a:pt x="1122" y="1610"/>
                    </a:lnTo>
                    <a:lnTo>
                      <a:pt x="1118" y="1598"/>
                    </a:lnTo>
                    <a:lnTo>
                      <a:pt x="1114" y="1582"/>
                    </a:lnTo>
                    <a:lnTo>
                      <a:pt x="1110" y="1562"/>
                    </a:lnTo>
                    <a:lnTo>
                      <a:pt x="1106" y="1544"/>
                    </a:lnTo>
                    <a:lnTo>
                      <a:pt x="1102" y="1524"/>
                    </a:lnTo>
                    <a:lnTo>
                      <a:pt x="1098" y="1504"/>
                    </a:lnTo>
                    <a:lnTo>
                      <a:pt x="1094" y="1480"/>
                    </a:lnTo>
                    <a:lnTo>
                      <a:pt x="1090" y="1462"/>
                    </a:lnTo>
                    <a:lnTo>
                      <a:pt x="1086" y="1438"/>
                    </a:lnTo>
                    <a:lnTo>
                      <a:pt x="1082" y="1414"/>
                    </a:lnTo>
                    <a:lnTo>
                      <a:pt x="1078" y="1392"/>
                    </a:lnTo>
                    <a:lnTo>
                      <a:pt x="1074" y="1364"/>
                    </a:lnTo>
                    <a:lnTo>
                      <a:pt x="1070" y="1348"/>
                    </a:lnTo>
                    <a:lnTo>
                      <a:pt x="1076" y="1348"/>
                    </a:lnTo>
                    <a:lnTo>
                      <a:pt x="1066" y="1320"/>
                    </a:lnTo>
                    <a:lnTo>
                      <a:pt x="970" y="538"/>
                    </a:lnTo>
                    <a:lnTo>
                      <a:pt x="970" y="534"/>
                    </a:lnTo>
                    <a:lnTo>
                      <a:pt x="962" y="534"/>
                    </a:lnTo>
                    <a:lnTo>
                      <a:pt x="962" y="526"/>
                    </a:lnTo>
                    <a:lnTo>
                      <a:pt x="958" y="518"/>
                    </a:lnTo>
                    <a:lnTo>
                      <a:pt x="954" y="510"/>
                    </a:lnTo>
                    <a:lnTo>
                      <a:pt x="950" y="506"/>
                    </a:lnTo>
                    <a:lnTo>
                      <a:pt x="946" y="498"/>
                    </a:lnTo>
                    <a:lnTo>
                      <a:pt x="942" y="492"/>
                    </a:lnTo>
                    <a:lnTo>
                      <a:pt x="938" y="488"/>
                    </a:lnTo>
                    <a:lnTo>
                      <a:pt x="934" y="484"/>
                    </a:lnTo>
                    <a:lnTo>
                      <a:pt x="930" y="480"/>
                    </a:lnTo>
                    <a:lnTo>
                      <a:pt x="926" y="476"/>
                    </a:lnTo>
                    <a:lnTo>
                      <a:pt x="922" y="472"/>
                    </a:lnTo>
                    <a:lnTo>
                      <a:pt x="920" y="468"/>
                    </a:lnTo>
                    <a:lnTo>
                      <a:pt x="916" y="464"/>
                    </a:lnTo>
                    <a:lnTo>
                      <a:pt x="908" y="460"/>
                    </a:lnTo>
                    <a:lnTo>
                      <a:pt x="892" y="456"/>
                    </a:lnTo>
                    <a:lnTo>
                      <a:pt x="888" y="452"/>
                    </a:lnTo>
                    <a:lnTo>
                      <a:pt x="880" y="448"/>
                    </a:lnTo>
                    <a:lnTo>
                      <a:pt x="872" y="444"/>
                    </a:lnTo>
                    <a:lnTo>
                      <a:pt x="864" y="440"/>
                    </a:lnTo>
                    <a:lnTo>
                      <a:pt x="852" y="436"/>
                    </a:lnTo>
                    <a:lnTo>
                      <a:pt x="842" y="432"/>
                    </a:lnTo>
                    <a:lnTo>
                      <a:pt x="822" y="428"/>
                    </a:lnTo>
                    <a:lnTo>
                      <a:pt x="806" y="424"/>
                    </a:lnTo>
                    <a:lnTo>
                      <a:pt x="794" y="422"/>
                    </a:lnTo>
                    <a:lnTo>
                      <a:pt x="774" y="418"/>
                    </a:lnTo>
                    <a:lnTo>
                      <a:pt x="760" y="414"/>
                    </a:lnTo>
                    <a:lnTo>
                      <a:pt x="744" y="410"/>
                    </a:lnTo>
                    <a:lnTo>
                      <a:pt x="744" y="402"/>
                    </a:lnTo>
                    <a:lnTo>
                      <a:pt x="748" y="386"/>
                    </a:lnTo>
                    <a:lnTo>
                      <a:pt x="748" y="378"/>
                    </a:lnTo>
                    <a:lnTo>
                      <a:pt x="760" y="378"/>
                    </a:lnTo>
                    <a:lnTo>
                      <a:pt x="766" y="374"/>
                    </a:lnTo>
                    <a:lnTo>
                      <a:pt x="770" y="366"/>
                    </a:lnTo>
                    <a:lnTo>
                      <a:pt x="770" y="354"/>
                    </a:lnTo>
                    <a:lnTo>
                      <a:pt x="766" y="344"/>
                    </a:lnTo>
                    <a:lnTo>
                      <a:pt x="766" y="336"/>
                    </a:lnTo>
                    <a:lnTo>
                      <a:pt x="770" y="320"/>
                    </a:lnTo>
                    <a:lnTo>
                      <a:pt x="770" y="292"/>
                    </a:lnTo>
                    <a:lnTo>
                      <a:pt x="770" y="288"/>
                    </a:lnTo>
                    <a:lnTo>
                      <a:pt x="772" y="276"/>
                    </a:lnTo>
                    <a:lnTo>
                      <a:pt x="778" y="280"/>
                    </a:lnTo>
                    <a:lnTo>
                      <a:pt x="786" y="280"/>
                    </a:lnTo>
                    <a:lnTo>
                      <a:pt x="786" y="276"/>
                    </a:lnTo>
                    <a:lnTo>
                      <a:pt x="782" y="272"/>
                    </a:lnTo>
                    <a:lnTo>
                      <a:pt x="778" y="266"/>
                    </a:lnTo>
                    <a:lnTo>
                      <a:pt x="782" y="262"/>
                    </a:lnTo>
                    <a:lnTo>
                      <a:pt x="786" y="258"/>
                    </a:lnTo>
                    <a:lnTo>
                      <a:pt x="790" y="254"/>
                    </a:lnTo>
                    <a:lnTo>
                      <a:pt x="794" y="250"/>
                    </a:lnTo>
                    <a:lnTo>
                      <a:pt x="798" y="246"/>
                    </a:lnTo>
                    <a:lnTo>
                      <a:pt x="798" y="238"/>
                    </a:lnTo>
                    <a:lnTo>
                      <a:pt x="794" y="194"/>
                    </a:lnTo>
                    <a:lnTo>
                      <a:pt x="790" y="164"/>
                    </a:lnTo>
                    <a:lnTo>
                      <a:pt x="786" y="152"/>
                    </a:lnTo>
                    <a:lnTo>
                      <a:pt x="782" y="120"/>
                    </a:lnTo>
                    <a:lnTo>
                      <a:pt x="778" y="110"/>
                    </a:lnTo>
                    <a:lnTo>
                      <a:pt x="774" y="98"/>
                    </a:lnTo>
                    <a:lnTo>
                      <a:pt x="770" y="90"/>
                    </a:lnTo>
                    <a:lnTo>
                      <a:pt x="766" y="82"/>
                    </a:lnTo>
                    <a:lnTo>
                      <a:pt x="764" y="78"/>
                    </a:lnTo>
                    <a:lnTo>
                      <a:pt x="760" y="70"/>
                    </a:lnTo>
                    <a:lnTo>
                      <a:pt x="756" y="66"/>
                    </a:lnTo>
                    <a:lnTo>
                      <a:pt x="752" y="58"/>
                    </a:lnTo>
                    <a:lnTo>
                      <a:pt x="748" y="54"/>
                    </a:lnTo>
                    <a:lnTo>
                      <a:pt x="744" y="50"/>
                    </a:lnTo>
                    <a:lnTo>
                      <a:pt x="740" y="46"/>
                    </a:lnTo>
                    <a:lnTo>
                      <a:pt x="736" y="44"/>
                    </a:lnTo>
                    <a:lnTo>
                      <a:pt x="732" y="40"/>
                    </a:lnTo>
                    <a:lnTo>
                      <a:pt x="724" y="36"/>
                    </a:lnTo>
                    <a:lnTo>
                      <a:pt x="720" y="32"/>
                    </a:lnTo>
                    <a:lnTo>
                      <a:pt x="712" y="28"/>
                    </a:lnTo>
                    <a:lnTo>
                      <a:pt x="708" y="24"/>
                    </a:lnTo>
                    <a:lnTo>
                      <a:pt x="700" y="20"/>
                    </a:lnTo>
                    <a:lnTo>
                      <a:pt x="692" y="16"/>
                    </a:lnTo>
                    <a:lnTo>
                      <a:pt x="686" y="12"/>
                    </a:lnTo>
                    <a:lnTo>
                      <a:pt x="674" y="8"/>
                    </a:lnTo>
                    <a:lnTo>
                      <a:pt x="654" y="4"/>
                    </a:lnTo>
                    <a:lnTo>
                      <a:pt x="638" y="0"/>
                    </a:lnTo>
                    <a:lnTo>
                      <a:pt x="600" y="0"/>
                    </a:lnTo>
                    <a:lnTo>
                      <a:pt x="588" y="4"/>
                    </a:lnTo>
                    <a:lnTo>
                      <a:pt x="564" y="8"/>
                    </a:lnTo>
                    <a:lnTo>
                      <a:pt x="556" y="12"/>
                    </a:lnTo>
                    <a:lnTo>
                      <a:pt x="548" y="16"/>
                    </a:lnTo>
                    <a:lnTo>
                      <a:pt x="540" y="20"/>
                    </a:lnTo>
                    <a:lnTo>
                      <a:pt x="534" y="24"/>
                    </a:lnTo>
                    <a:lnTo>
                      <a:pt x="526" y="28"/>
                    </a:lnTo>
                    <a:lnTo>
                      <a:pt x="514" y="32"/>
                    </a:lnTo>
                    <a:lnTo>
                      <a:pt x="510" y="36"/>
                    </a:lnTo>
                    <a:lnTo>
                      <a:pt x="506" y="40"/>
                    </a:lnTo>
                    <a:lnTo>
                      <a:pt x="502" y="44"/>
                    </a:lnTo>
                    <a:lnTo>
                      <a:pt x="498" y="46"/>
                    </a:lnTo>
                    <a:lnTo>
                      <a:pt x="490" y="50"/>
                    </a:lnTo>
                    <a:lnTo>
                      <a:pt x="486" y="54"/>
                    </a:lnTo>
                    <a:lnTo>
                      <a:pt x="482" y="58"/>
                    </a:lnTo>
                    <a:lnTo>
                      <a:pt x="474" y="62"/>
                    </a:lnTo>
                    <a:lnTo>
                      <a:pt x="474" y="70"/>
                    </a:lnTo>
                    <a:lnTo>
                      <a:pt x="466" y="70"/>
                    </a:lnTo>
                    <a:lnTo>
                      <a:pt x="464" y="82"/>
                    </a:lnTo>
                    <a:lnTo>
                      <a:pt x="464" y="90"/>
                    </a:lnTo>
                    <a:lnTo>
                      <a:pt x="464" y="94"/>
                    </a:lnTo>
                    <a:lnTo>
                      <a:pt x="460" y="98"/>
                    </a:lnTo>
                    <a:lnTo>
                      <a:pt x="460" y="106"/>
                    </a:lnTo>
                    <a:lnTo>
                      <a:pt x="460" y="118"/>
                    </a:lnTo>
                    <a:lnTo>
                      <a:pt x="456" y="168"/>
                    </a:lnTo>
                    <a:lnTo>
                      <a:pt x="452" y="180"/>
                    </a:lnTo>
                    <a:lnTo>
                      <a:pt x="452" y="184"/>
                    </a:lnTo>
                    <a:lnTo>
                      <a:pt x="456" y="258"/>
                    </a:lnTo>
                    <a:lnTo>
                      <a:pt x="460" y="262"/>
                    </a:lnTo>
                    <a:lnTo>
                      <a:pt x="464" y="266"/>
                    </a:lnTo>
                    <a:lnTo>
                      <a:pt x="466" y="276"/>
                    </a:lnTo>
                    <a:lnTo>
                      <a:pt x="470" y="284"/>
                    </a:lnTo>
                    <a:lnTo>
                      <a:pt x="444" y="284"/>
                    </a:lnTo>
                    <a:lnTo>
                      <a:pt x="436" y="288"/>
                    </a:lnTo>
                    <a:lnTo>
                      <a:pt x="428" y="292"/>
                    </a:lnTo>
                    <a:lnTo>
                      <a:pt x="424" y="296"/>
                    </a:lnTo>
                    <a:lnTo>
                      <a:pt x="420" y="304"/>
                    </a:lnTo>
                    <a:lnTo>
                      <a:pt x="416" y="308"/>
                    </a:lnTo>
                    <a:lnTo>
                      <a:pt x="412" y="312"/>
                    </a:lnTo>
                    <a:lnTo>
                      <a:pt x="408" y="320"/>
                    </a:lnTo>
                    <a:lnTo>
                      <a:pt x="404" y="324"/>
                    </a:lnTo>
                    <a:lnTo>
                      <a:pt x="400" y="332"/>
                    </a:lnTo>
                    <a:lnTo>
                      <a:pt x="396" y="336"/>
                    </a:lnTo>
                    <a:lnTo>
                      <a:pt x="392" y="340"/>
                    </a:lnTo>
                    <a:lnTo>
                      <a:pt x="390" y="344"/>
                    </a:lnTo>
                    <a:lnTo>
                      <a:pt x="386" y="350"/>
                    </a:lnTo>
                    <a:lnTo>
                      <a:pt x="382" y="354"/>
                    </a:lnTo>
                    <a:lnTo>
                      <a:pt x="378" y="358"/>
                    </a:lnTo>
                    <a:lnTo>
                      <a:pt x="346" y="362"/>
                    </a:lnTo>
                    <a:lnTo>
                      <a:pt x="318" y="366"/>
                    </a:lnTo>
                    <a:lnTo>
                      <a:pt x="300" y="370"/>
                    </a:lnTo>
                    <a:lnTo>
                      <a:pt x="292" y="374"/>
                    </a:lnTo>
                    <a:lnTo>
                      <a:pt x="284" y="378"/>
                    </a:lnTo>
                    <a:lnTo>
                      <a:pt x="276" y="382"/>
                    </a:lnTo>
                    <a:lnTo>
                      <a:pt x="230" y="386"/>
                    </a:lnTo>
                    <a:lnTo>
                      <a:pt x="210" y="390"/>
                    </a:lnTo>
                    <a:lnTo>
                      <a:pt x="194" y="394"/>
                    </a:lnTo>
                    <a:lnTo>
                      <a:pt x="182" y="398"/>
                    </a:lnTo>
                    <a:lnTo>
                      <a:pt x="166" y="402"/>
                    </a:lnTo>
                    <a:lnTo>
                      <a:pt x="156" y="406"/>
                    </a:lnTo>
                    <a:lnTo>
                      <a:pt x="144" y="410"/>
                    </a:lnTo>
                    <a:lnTo>
                      <a:pt x="140" y="414"/>
                    </a:lnTo>
                    <a:lnTo>
                      <a:pt x="128" y="418"/>
                    </a:lnTo>
                    <a:lnTo>
                      <a:pt x="116" y="422"/>
                    </a:lnTo>
                    <a:lnTo>
                      <a:pt x="112" y="424"/>
                    </a:lnTo>
                    <a:lnTo>
                      <a:pt x="108" y="428"/>
                    </a:lnTo>
                    <a:lnTo>
                      <a:pt x="104" y="436"/>
                    </a:lnTo>
                    <a:lnTo>
                      <a:pt x="100" y="448"/>
                    </a:lnTo>
                    <a:lnTo>
                      <a:pt x="96" y="468"/>
                    </a:lnTo>
                    <a:lnTo>
                      <a:pt x="92" y="526"/>
                    </a:lnTo>
                    <a:lnTo>
                      <a:pt x="92" y="542"/>
                    </a:lnTo>
                    <a:lnTo>
                      <a:pt x="96" y="550"/>
                    </a:lnTo>
                    <a:lnTo>
                      <a:pt x="100" y="558"/>
                    </a:lnTo>
                    <a:lnTo>
                      <a:pt x="100" y="600"/>
                    </a:lnTo>
                    <a:lnTo>
                      <a:pt x="92" y="604"/>
                    </a:lnTo>
                    <a:lnTo>
                      <a:pt x="88" y="608"/>
                    </a:lnTo>
                    <a:lnTo>
                      <a:pt x="86" y="612"/>
                    </a:lnTo>
                    <a:lnTo>
                      <a:pt x="82" y="616"/>
                    </a:lnTo>
                    <a:lnTo>
                      <a:pt x="78" y="648"/>
                    </a:lnTo>
                    <a:lnTo>
                      <a:pt x="66" y="650"/>
                    </a:lnTo>
                    <a:lnTo>
                      <a:pt x="62" y="654"/>
                    </a:lnTo>
                    <a:lnTo>
                      <a:pt x="58" y="658"/>
                    </a:lnTo>
                    <a:lnTo>
                      <a:pt x="54" y="662"/>
                    </a:lnTo>
                    <a:lnTo>
                      <a:pt x="50" y="678"/>
                    </a:lnTo>
                    <a:lnTo>
                      <a:pt x="46" y="694"/>
                    </a:lnTo>
                    <a:lnTo>
                      <a:pt x="42" y="706"/>
                    </a:lnTo>
                    <a:lnTo>
                      <a:pt x="38" y="714"/>
                    </a:lnTo>
                    <a:lnTo>
                      <a:pt x="34" y="724"/>
                    </a:lnTo>
                    <a:lnTo>
                      <a:pt x="30" y="732"/>
                    </a:lnTo>
                    <a:lnTo>
                      <a:pt x="26" y="744"/>
                    </a:lnTo>
                    <a:lnTo>
                      <a:pt x="22" y="752"/>
                    </a:lnTo>
                    <a:lnTo>
                      <a:pt x="18" y="760"/>
                    </a:lnTo>
                    <a:lnTo>
                      <a:pt x="14" y="772"/>
                    </a:lnTo>
                    <a:lnTo>
                      <a:pt x="12" y="780"/>
                    </a:lnTo>
                    <a:lnTo>
                      <a:pt x="8" y="792"/>
                    </a:lnTo>
                    <a:lnTo>
                      <a:pt x="4" y="802"/>
                    </a:lnTo>
                    <a:lnTo>
                      <a:pt x="0" y="826"/>
                    </a:lnTo>
                    <a:lnTo>
                      <a:pt x="0" y="884"/>
                    </a:lnTo>
                    <a:lnTo>
                      <a:pt x="4" y="912"/>
                    </a:lnTo>
                    <a:lnTo>
                      <a:pt x="8" y="920"/>
                    </a:lnTo>
                    <a:lnTo>
                      <a:pt x="12" y="928"/>
                    </a:lnTo>
                    <a:lnTo>
                      <a:pt x="14" y="936"/>
                    </a:lnTo>
                    <a:lnTo>
                      <a:pt x="18" y="940"/>
                    </a:lnTo>
                    <a:lnTo>
                      <a:pt x="22" y="948"/>
                    </a:lnTo>
                    <a:lnTo>
                      <a:pt x="26" y="952"/>
                    </a:lnTo>
                    <a:lnTo>
                      <a:pt x="30" y="954"/>
                    </a:lnTo>
                    <a:lnTo>
                      <a:pt x="38" y="958"/>
                    </a:lnTo>
                    <a:lnTo>
                      <a:pt x="42" y="962"/>
                    </a:lnTo>
                    <a:lnTo>
                      <a:pt x="46" y="966"/>
                    </a:lnTo>
                    <a:lnTo>
                      <a:pt x="50" y="970"/>
                    </a:lnTo>
                    <a:lnTo>
                      <a:pt x="66" y="974"/>
                    </a:lnTo>
                    <a:lnTo>
                      <a:pt x="116" y="978"/>
                    </a:lnTo>
                    <a:lnTo>
                      <a:pt x="128" y="982"/>
                    </a:lnTo>
                    <a:lnTo>
                      <a:pt x="148" y="986"/>
                    </a:lnTo>
                    <a:lnTo>
                      <a:pt x="162" y="990"/>
                    </a:lnTo>
                    <a:lnTo>
                      <a:pt x="174" y="990"/>
                    </a:lnTo>
                    <a:lnTo>
                      <a:pt x="174" y="1014"/>
                    </a:lnTo>
                    <a:lnTo>
                      <a:pt x="178" y="1028"/>
                    </a:lnTo>
                    <a:lnTo>
                      <a:pt x="178" y="1044"/>
                    </a:lnTo>
                    <a:lnTo>
                      <a:pt x="174" y="1106"/>
                    </a:lnTo>
                    <a:lnTo>
                      <a:pt x="170" y="1126"/>
                    </a:lnTo>
                    <a:lnTo>
                      <a:pt x="166" y="1146"/>
                    </a:lnTo>
                    <a:lnTo>
                      <a:pt x="162" y="1166"/>
                    </a:lnTo>
                    <a:lnTo>
                      <a:pt x="160" y="1192"/>
                    </a:lnTo>
                    <a:lnTo>
                      <a:pt x="156" y="1208"/>
                    </a:lnTo>
                    <a:lnTo>
                      <a:pt x="152" y="1220"/>
                    </a:lnTo>
                    <a:lnTo>
                      <a:pt x="148" y="1236"/>
                    </a:lnTo>
                    <a:lnTo>
                      <a:pt x="144" y="1248"/>
                    </a:lnTo>
                    <a:lnTo>
                      <a:pt x="140" y="1332"/>
                    </a:lnTo>
                    <a:lnTo>
                      <a:pt x="136" y="1462"/>
                    </a:lnTo>
                    <a:lnTo>
                      <a:pt x="132" y="1630"/>
                    </a:lnTo>
                    <a:lnTo>
                      <a:pt x="132" y="1640"/>
                    </a:lnTo>
                    <a:lnTo>
                      <a:pt x="152" y="1644"/>
                    </a:lnTo>
                    <a:lnTo>
                      <a:pt x="160" y="1644"/>
                    </a:lnTo>
                    <a:lnTo>
                      <a:pt x="156" y="1660"/>
                    </a:lnTo>
                    <a:lnTo>
                      <a:pt x="156" y="1726"/>
                    </a:lnTo>
                    <a:lnTo>
                      <a:pt x="160" y="1758"/>
                    </a:lnTo>
                    <a:lnTo>
                      <a:pt x="162" y="1788"/>
                    </a:lnTo>
                    <a:lnTo>
                      <a:pt x="166" y="1816"/>
                    </a:lnTo>
                    <a:lnTo>
                      <a:pt x="170" y="1844"/>
                    </a:lnTo>
                    <a:lnTo>
                      <a:pt x="174" y="1934"/>
                    </a:lnTo>
                    <a:lnTo>
                      <a:pt x="178" y="1948"/>
                    </a:lnTo>
                    <a:lnTo>
                      <a:pt x="182" y="1960"/>
                    </a:lnTo>
                    <a:lnTo>
                      <a:pt x="186" y="1968"/>
                    </a:lnTo>
                    <a:lnTo>
                      <a:pt x="190" y="2018"/>
                    </a:lnTo>
                    <a:lnTo>
                      <a:pt x="194" y="2038"/>
                    </a:lnTo>
                    <a:lnTo>
                      <a:pt x="194" y="2062"/>
                    </a:lnTo>
                    <a:lnTo>
                      <a:pt x="190" y="2082"/>
                    </a:lnTo>
                    <a:lnTo>
                      <a:pt x="186" y="2096"/>
                    </a:lnTo>
                    <a:lnTo>
                      <a:pt x="182" y="2112"/>
                    </a:lnTo>
                    <a:lnTo>
                      <a:pt x="178" y="2128"/>
                    </a:lnTo>
                    <a:lnTo>
                      <a:pt x="174" y="2178"/>
                    </a:lnTo>
                    <a:lnTo>
                      <a:pt x="170" y="2198"/>
                    </a:lnTo>
                    <a:lnTo>
                      <a:pt x="166" y="2222"/>
                    </a:lnTo>
                    <a:lnTo>
                      <a:pt x="162" y="2244"/>
                    </a:lnTo>
                    <a:lnTo>
                      <a:pt x="160" y="2272"/>
                    </a:lnTo>
                    <a:lnTo>
                      <a:pt x="156" y="2300"/>
                    </a:lnTo>
                    <a:lnTo>
                      <a:pt x="152" y="2322"/>
                    </a:lnTo>
                    <a:lnTo>
                      <a:pt x="148" y="2354"/>
                    </a:lnTo>
                    <a:lnTo>
                      <a:pt x="148" y="2466"/>
                    </a:lnTo>
                    <a:lnTo>
                      <a:pt x="152" y="2518"/>
                    </a:lnTo>
                    <a:lnTo>
                      <a:pt x="156" y="2548"/>
                    </a:lnTo>
                    <a:lnTo>
                      <a:pt x="160" y="2572"/>
                    </a:lnTo>
                    <a:lnTo>
                      <a:pt x="160" y="2626"/>
                    </a:lnTo>
                    <a:lnTo>
                      <a:pt x="160" y="2744"/>
                    </a:lnTo>
                    <a:lnTo>
                      <a:pt x="162" y="2774"/>
                    </a:lnTo>
                    <a:lnTo>
                      <a:pt x="166" y="2798"/>
                    </a:lnTo>
                    <a:lnTo>
                      <a:pt x="170" y="2826"/>
                    </a:lnTo>
                    <a:lnTo>
                      <a:pt x="174" y="2872"/>
                    </a:lnTo>
                    <a:lnTo>
                      <a:pt x="174" y="2916"/>
                    </a:lnTo>
                    <a:lnTo>
                      <a:pt x="170" y="2918"/>
                    </a:lnTo>
                    <a:lnTo>
                      <a:pt x="166" y="2926"/>
                    </a:lnTo>
                    <a:lnTo>
                      <a:pt x="162" y="2930"/>
                    </a:lnTo>
                    <a:lnTo>
                      <a:pt x="160" y="2934"/>
                    </a:lnTo>
                    <a:lnTo>
                      <a:pt x="156" y="2938"/>
                    </a:lnTo>
                    <a:lnTo>
                      <a:pt x="152" y="2942"/>
                    </a:lnTo>
                    <a:lnTo>
                      <a:pt x="148" y="2946"/>
                    </a:lnTo>
                    <a:lnTo>
                      <a:pt x="144" y="2950"/>
                    </a:lnTo>
                    <a:lnTo>
                      <a:pt x="140" y="2954"/>
                    </a:lnTo>
                    <a:lnTo>
                      <a:pt x="136" y="2958"/>
                    </a:lnTo>
                    <a:lnTo>
                      <a:pt x="132" y="2966"/>
                    </a:lnTo>
                    <a:lnTo>
                      <a:pt x="128" y="2970"/>
                    </a:lnTo>
                    <a:lnTo>
                      <a:pt x="124" y="2974"/>
                    </a:lnTo>
                    <a:lnTo>
                      <a:pt x="120" y="2982"/>
                    </a:lnTo>
                    <a:lnTo>
                      <a:pt x="116" y="3012"/>
                    </a:lnTo>
                    <a:lnTo>
                      <a:pt x="112" y="3020"/>
                    </a:lnTo>
                    <a:lnTo>
                      <a:pt x="112" y="3052"/>
                    </a:lnTo>
                    <a:lnTo>
                      <a:pt x="116" y="3056"/>
                    </a:lnTo>
                    <a:lnTo>
                      <a:pt x="124" y="3060"/>
                    </a:lnTo>
                    <a:lnTo>
                      <a:pt x="160" y="3060"/>
                    </a:lnTo>
                    <a:lnTo>
                      <a:pt x="234" y="3056"/>
                    </a:lnTo>
                    <a:lnTo>
                      <a:pt x="276" y="3052"/>
                    </a:lnTo>
                    <a:lnTo>
                      <a:pt x="288" y="3048"/>
                    </a:lnTo>
                    <a:lnTo>
                      <a:pt x="300" y="3044"/>
                    </a:lnTo>
                    <a:lnTo>
                      <a:pt x="308" y="3040"/>
                    </a:lnTo>
                    <a:lnTo>
                      <a:pt x="312" y="3036"/>
                    </a:lnTo>
                    <a:lnTo>
                      <a:pt x="316" y="3032"/>
                    </a:lnTo>
                    <a:lnTo>
                      <a:pt x="318" y="3028"/>
                    </a:lnTo>
                    <a:lnTo>
                      <a:pt x="322" y="3024"/>
                    </a:lnTo>
                    <a:lnTo>
                      <a:pt x="326" y="3020"/>
                    </a:lnTo>
                    <a:lnTo>
                      <a:pt x="330" y="3012"/>
                    </a:lnTo>
                    <a:lnTo>
                      <a:pt x="330" y="3000"/>
                    </a:lnTo>
                    <a:lnTo>
                      <a:pt x="346" y="2996"/>
                    </a:lnTo>
                    <a:lnTo>
                      <a:pt x="358" y="2992"/>
                    </a:lnTo>
                    <a:lnTo>
                      <a:pt x="366" y="2990"/>
                    </a:lnTo>
                    <a:lnTo>
                      <a:pt x="370" y="2986"/>
                    </a:lnTo>
                    <a:lnTo>
                      <a:pt x="374" y="2982"/>
                    </a:lnTo>
                    <a:lnTo>
                      <a:pt x="382" y="2978"/>
                    </a:lnTo>
                    <a:lnTo>
                      <a:pt x="386" y="2970"/>
                    </a:lnTo>
                    <a:lnTo>
                      <a:pt x="386" y="2962"/>
                    </a:lnTo>
                    <a:lnTo>
                      <a:pt x="382" y="2926"/>
                    </a:lnTo>
                    <a:lnTo>
                      <a:pt x="378" y="2912"/>
                    </a:lnTo>
                    <a:lnTo>
                      <a:pt x="374" y="2896"/>
                    </a:lnTo>
                    <a:lnTo>
                      <a:pt x="382" y="2896"/>
                    </a:lnTo>
                    <a:lnTo>
                      <a:pt x="386" y="2864"/>
                    </a:lnTo>
                    <a:lnTo>
                      <a:pt x="390" y="2848"/>
                    </a:lnTo>
                    <a:lnTo>
                      <a:pt x="392" y="2826"/>
                    </a:lnTo>
                    <a:lnTo>
                      <a:pt x="396" y="2818"/>
                    </a:lnTo>
                    <a:lnTo>
                      <a:pt x="400" y="2806"/>
                    </a:lnTo>
                    <a:lnTo>
                      <a:pt x="404" y="2790"/>
                    </a:lnTo>
                    <a:lnTo>
                      <a:pt x="408" y="2778"/>
                    </a:lnTo>
                    <a:lnTo>
                      <a:pt x="412" y="2762"/>
                    </a:lnTo>
                    <a:lnTo>
                      <a:pt x="416" y="2752"/>
                    </a:lnTo>
                    <a:lnTo>
                      <a:pt x="420" y="2736"/>
                    </a:lnTo>
                    <a:lnTo>
                      <a:pt x="424" y="2720"/>
                    </a:lnTo>
                    <a:lnTo>
                      <a:pt x="428" y="2700"/>
                    </a:lnTo>
                    <a:lnTo>
                      <a:pt x="432" y="2678"/>
                    </a:lnTo>
                    <a:lnTo>
                      <a:pt x="436" y="2654"/>
                    </a:lnTo>
                    <a:lnTo>
                      <a:pt x="440" y="2630"/>
                    </a:lnTo>
                    <a:lnTo>
                      <a:pt x="444" y="2588"/>
                    </a:lnTo>
                    <a:lnTo>
                      <a:pt x="448" y="2514"/>
                    </a:lnTo>
                    <a:lnTo>
                      <a:pt x="448" y="2408"/>
                    </a:lnTo>
                    <a:lnTo>
                      <a:pt x="444" y="2272"/>
                    </a:lnTo>
                    <a:lnTo>
                      <a:pt x="440" y="2162"/>
                    </a:lnTo>
                    <a:lnTo>
                      <a:pt x="440" y="1948"/>
                    </a:lnTo>
                    <a:lnTo>
                      <a:pt x="444" y="1918"/>
                    </a:lnTo>
                    <a:lnTo>
                      <a:pt x="448" y="1906"/>
                    </a:lnTo>
                    <a:lnTo>
                      <a:pt x="452" y="1894"/>
                    </a:lnTo>
                    <a:lnTo>
                      <a:pt x="456" y="1878"/>
                    </a:lnTo>
                    <a:lnTo>
                      <a:pt x="460" y="1866"/>
                    </a:lnTo>
                    <a:lnTo>
                      <a:pt x="464" y="1852"/>
                    </a:lnTo>
                    <a:lnTo>
                      <a:pt x="466" y="1840"/>
                    </a:lnTo>
                    <a:lnTo>
                      <a:pt x="470" y="1832"/>
                    </a:lnTo>
                    <a:lnTo>
                      <a:pt x="474" y="1824"/>
                    </a:lnTo>
                    <a:lnTo>
                      <a:pt x="478" y="1816"/>
                    </a:lnTo>
                    <a:lnTo>
                      <a:pt x="482" y="1808"/>
                    </a:lnTo>
                    <a:lnTo>
                      <a:pt x="486" y="1792"/>
                    </a:lnTo>
                    <a:lnTo>
                      <a:pt x="490" y="1780"/>
                    </a:lnTo>
                    <a:lnTo>
                      <a:pt x="494" y="1766"/>
                    </a:lnTo>
                    <a:lnTo>
                      <a:pt x="498" y="1746"/>
                    </a:lnTo>
                    <a:lnTo>
                      <a:pt x="502" y="1730"/>
                    </a:lnTo>
                    <a:lnTo>
                      <a:pt x="502" y="1754"/>
                    </a:lnTo>
                    <a:lnTo>
                      <a:pt x="506" y="1784"/>
                    </a:lnTo>
                    <a:lnTo>
                      <a:pt x="510" y="1812"/>
                    </a:lnTo>
                    <a:lnTo>
                      <a:pt x="514" y="1836"/>
                    </a:lnTo>
                    <a:lnTo>
                      <a:pt x="518" y="1856"/>
                    </a:lnTo>
                    <a:lnTo>
                      <a:pt x="522" y="1878"/>
                    </a:lnTo>
                    <a:lnTo>
                      <a:pt x="526" y="1898"/>
                    </a:lnTo>
                    <a:lnTo>
                      <a:pt x="530" y="1918"/>
                    </a:lnTo>
                    <a:lnTo>
                      <a:pt x="534" y="1936"/>
                    </a:lnTo>
                    <a:lnTo>
                      <a:pt x="538" y="1952"/>
                    </a:lnTo>
                    <a:lnTo>
                      <a:pt x="540" y="1968"/>
                    </a:lnTo>
                    <a:lnTo>
                      <a:pt x="544" y="2038"/>
                    </a:lnTo>
                    <a:lnTo>
                      <a:pt x="548" y="2140"/>
                    </a:lnTo>
                    <a:lnTo>
                      <a:pt x="548" y="2182"/>
                    </a:lnTo>
                    <a:lnTo>
                      <a:pt x="544" y="2222"/>
                    </a:lnTo>
                    <a:lnTo>
                      <a:pt x="540" y="2264"/>
                    </a:lnTo>
                    <a:lnTo>
                      <a:pt x="538" y="2338"/>
                    </a:lnTo>
                    <a:lnTo>
                      <a:pt x="538" y="2580"/>
                    </a:lnTo>
                    <a:lnTo>
                      <a:pt x="540" y="2626"/>
                    </a:lnTo>
                    <a:lnTo>
                      <a:pt x="544" y="2658"/>
                    </a:lnTo>
                    <a:lnTo>
                      <a:pt x="548" y="2682"/>
                    </a:lnTo>
                    <a:lnTo>
                      <a:pt x="552" y="2704"/>
                    </a:lnTo>
                    <a:lnTo>
                      <a:pt x="556" y="2732"/>
                    </a:lnTo>
                    <a:lnTo>
                      <a:pt x="560" y="2748"/>
                    </a:lnTo>
                    <a:lnTo>
                      <a:pt x="564" y="2762"/>
                    </a:lnTo>
                    <a:lnTo>
                      <a:pt x="568" y="2778"/>
                    </a:lnTo>
                    <a:lnTo>
                      <a:pt x="572" y="2794"/>
                    </a:lnTo>
                    <a:lnTo>
                      <a:pt x="576" y="2806"/>
                    </a:lnTo>
                    <a:lnTo>
                      <a:pt x="580" y="2826"/>
                    </a:lnTo>
                    <a:lnTo>
                      <a:pt x="584" y="2840"/>
                    </a:lnTo>
                    <a:lnTo>
                      <a:pt x="588" y="2848"/>
                    </a:lnTo>
                    <a:lnTo>
                      <a:pt x="592" y="2860"/>
                    </a:lnTo>
                    <a:lnTo>
                      <a:pt x="596" y="2868"/>
                    </a:lnTo>
                    <a:lnTo>
                      <a:pt x="596" y="2884"/>
                    </a:lnTo>
                    <a:lnTo>
                      <a:pt x="592" y="2922"/>
                    </a:lnTo>
                    <a:lnTo>
                      <a:pt x="592" y="2938"/>
                    </a:lnTo>
                    <a:lnTo>
                      <a:pt x="596" y="2942"/>
                    </a:lnTo>
                    <a:lnTo>
                      <a:pt x="600" y="2946"/>
                    </a:lnTo>
                    <a:lnTo>
                      <a:pt x="608" y="2950"/>
                    </a:lnTo>
                    <a:lnTo>
                      <a:pt x="618" y="2954"/>
                    </a:lnTo>
                    <a:lnTo>
                      <a:pt x="638" y="2954"/>
                    </a:lnTo>
                    <a:lnTo>
                      <a:pt x="638" y="2974"/>
                    </a:lnTo>
                    <a:lnTo>
                      <a:pt x="642" y="2982"/>
                    </a:lnTo>
                    <a:lnTo>
                      <a:pt x="650" y="2986"/>
                    </a:lnTo>
                    <a:lnTo>
                      <a:pt x="654" y="2990"/>
                    </a:lnTo>
                    <a:lnTo>
                      <a:pt x="658" y="2992"/>
                    </a:lnTo>
                    <a:lnTo>
                      <a:pt x="666" y="2996"/>
                    </a:lnTo>
                    <a:lnTo>
                      <a:pt x="686" y="3000"/>
                    </a:lnTo>
                    <a:lnTo>
                      <a:pt x="696" y="3000"/>
                    </a:lnTo>
                    <a:lnTo>
                      <a:pt x="752" y="2996"/>
                    </a:lnTo>
                    <a:lnTo>
                      <a:pt x="794" y="2992"/>
                    </a:lnTo>
                    <a:lnTo>
                      <a:pt x="826" y="2990"/>
                    </a:lnTo>
                    <a:lnTo>
                      <a:pt x="838" y="2986"/>
                    </a:lnTo>
                    <a:lnTo>
                      <a:pt x="842" y="2982"/>
                    </a:lnTo>
                    <a:lnTo>
                      <a:pt x="844" y="2974"/>
                    </a:lnTo>
                    <a:lnTo>
                      <a:pt x="844" y="2962"/>
                    </a:lnTo>
                    <a:lnTo>
                      <a:pt x="842" y="2942"/>
                    </a:lnTo>
                    <a:lnTo>
                      <a:pt x="838" y="2938"/>
                    </a:lnTo>
                    <a:lnTo>
                      <a:pt x="834" y="2916"/>
                    </a:lnTo>
                    <a:lnTo>
                      <a:pt x="830" y="2908"/>
                    </a:lnTo>
                    <a:lnTo>
                      <a:pt x="826" y="2904"/>
                    </a:lnTo>
                    <a:lnTo>
                      <a:pt x="822" y="2900"/>
                    </a:lnTo>
                    <a:lnTo>
                      <a:pt x="818" y="2896"/>
                    </a:lnTo>
                    <a:lnTo>
                      <a:pt x="814" y="2892"/>
                    </a:lnTo>
                    <a:lnTo>
                      <a:pt x="810" y="2888"/>
                    </a:lnTo>
                    <a:lnTo>
                      <a:pt x="806" y="2884"/>
                    </a:lnTo>
                    <a:lnTo>
                      <a:pt x="802" y="2880"/>
                    </a:lnTo>
                    <a:lnTo>
                      <a:pt x="798" y="2876"/>
                    </a:lnTo>
                    <a:lnTo>
                      <a:pt x="794" y="2872"/>
                    </a:lnTo>
                    <a:lnTo>
                      <a:pt x="794" y="2860"/>
                    </a:lnTo>
                    <a:lnTo>
                      <a:pt x="798" y="2844"/>
                    </a:lnTo>
                    <a:lnTo>
                      <a:pt x="802" y="2830"/>
                    </a:lnTo>
                    <a:lnTo>
                      <a:pt x="806" y="2822"/>
                    </a:lnTo>
                    <a:lnTo>
                      <a:pt x="810" y="2810"/>
                    </a:lnTo>
                    <a:lnTo>
                      <a:pt x="814" y="2798"/>
                    </a:lnTo>
                    <a:lnTo>
                      <a:pt x="818" y="2790"/>
                    </a:lnTo>
                    <a:lnTo>
                      <a:pt x="822" y="2778"/>
                    </a:lnTo>
                    <a:lnTo>
                      <a:pt x="826" y="2766"/>
                    </a:lnTo>
                    <a:lnTo>
                      <a:pt x="830" y="2744"/>
                    </a:lnTo>
                    <a:lnTo>
                      <a:pt x="830" y="2530"/>
                    </a:lnTo>
                    <a:lnTo>
                      <a:pt x="830" y="2502"/>
                    </a:lnTo>
                    <a:lnTo>
                      <a:pt x="834" y="2482"/>
                    </a:lnTo>
                    <a:lnTo>
                      <a:pt x="838" y="2460"/>
                    </a:lnTo>
                    <a:lnTo>
                      <a:pt x="842" y="2428"/>
                    </a:lnTo>
                    <a:lnTo>
                      <a:pt x="842" y="2268"/>
                    </a:lnTo>
                    <a:lnTo>
                      <a:pt x="838" y="2236"/>
                    </a:lnTo>
                    <a:lnTo>
                      <a:pt x="838" y="1968"/>
                    </a:lnTo>
                    <a:lnTo>
                      <a:pt x="842" y="1934"/>
                    </a:lnTo>
                    <a:lnTo>
                      <a:pt x="844" y="1902"/>
                    </a:lnTo>
                    <a:lnTo>
                      <a:pt x="848" y="1866"/>
                    </a:lnTo>
                    <a:lnTo>
                      <a:pt x="852" y="1824"/>
                    </a:lnTo>
                    <a:lnTo>
                      <a:pt x="852" y="1630"/>
                    </a:lnTo>
                    <a:lnTo>
                      <a:pt x="848" y="1578"/>
                    </a:lnTo>
                    <a:lnTo>
                      <a:pt x="868" y="1578"/>
                    </a:lnTo>
                    <a:lnTo>
                      <a:pt x="912" y="1578"/>
                    </a:lnTo>
                    <a:lnTo>
                      <a:pt x="920" y="1582"/>
                    </a:lnTo>
                    <a:lnTo>
                      <a:pt x="926" y="1586"/>
                    </a:lnTo>
                    <a:lnTo>
                      <a:pt x="938" y="1590"/>
                    </a:lnTo>
                    <a:lnTo>
                      <a:pt x="946" y="1594"/>
                    </a:lnTo>
                    <a:lnTo>
                      <a:pt x="954" y="1598"/>
                    </a:lnTo>
                    <a:lnTo>
                      <a:pt x="962" y="1602"/>
                    </a:lnTo>
                    <a:lnTo>
                      <a:pt x="974" y="1606"/>
                    </a:lnTo>
                    <a:lnTo>
                      <a:pt x="986" y="1610"/>
                    </a:lnTo>
                    <a:lnTo>
                      <a:pt x="996" y="1614"/>
                    </a:lnTo>
                    <a:lnTo>
                      <a:pt x="1008" y="1618"/>
                    </a:lnTo>
                    <a:lnTo>
                      <a:pt x="1020" y="1622"/>
                    </a:lnTo>
                    <a:lnTo>
                      <a:pt x="1032" y="1626"/>
                    </a:lnTo>
                    <a:lnTo>
                      <a:pt x="1048" y="1630"/>
                    </a:lnTo>
                    <a:lnTo>
                      <a:pt x="1060" y="1632"/>
                    </a:lnTo>
                    <a:lnTo>
                      <a:pt x="1074" y="1636"/>
                    </a:lnTo>
                    <a:lnTo>
                      <a:pt x="1090" y="1640"/>
                    </a:lnTo>
                    <a:lnTo>
                      <a:pt x="1094" y="1644"/>
                    </a:lnTo>
                    <a:lnTo>
                      <a:pt x="1102" y="1648"/>
                    </a:lnTo>
                    <a:lnTo>
                      <a:pt x="1106" y="1652"/>
                    </a:lnTo>
                    <a:lnTo>
                      <a:pt x="1114" y="1656"/>
                    </a:lnTo>
                    <a:lnTo>
                      <a:pt x="1126" y="1656"/>
                    </a:lnTo>
                    <a:lnTo>
                      <a:pt x="1130" y="1652"/>
                    </a:lnTo>
                    <a:lnTo>
                      <a:pt x="1130" y="1640"/>
                    </a:lnTo>
                    <a:lnTo>
                      <a:pt x="1126" y="1622"/>
                    </a:lnTo>
                    <a:close/>
                    <a:moveTo>
                      <a:pt x="584" y="774"/>
                    </a:moveTo>
                    <a:lnTo>
                      <a:pt x="584" y="774"/>
                    </a:lnTo>
                    <a:lnTo>
                      <a:pt x="562" y="680"/>
                    </a:lnTo>
                    <a:lnTo>
                      <a:pt x="538" y="586"/>
                    </a:lnTo>
                    <a:lnTo>
                      <a:pt x="524" y="540"/>
                    </a:lnTo>
                    <a:lnTo>
                      <a:pt x="510" y="494"/>
                    </a:lnTo>
                    <a:lnTo>
                      <a:pt x="494" y="448"/>
                    </a:lnTo>
                    <a:lnTo>
                      <a:pt x="474" y="404"/>
                    </a:lnTo>
                    <a:lnTo>
                      <a:pt x="460" y="382"/>
                    </a:lnTo>
                    <a:lnTo>
                      <a:pt x="448" y="360"/>
                    </a:lnTo>
                    <a:lnTo>
                      <a:pt x="444" y="348"/>
                    </a:lnTo>
                    <a:lnTo>
                      <a:pt x="442" y="336"/>
                    </a:lnTo>
                    <a:lnTo>
                      <a:pt x="442" y="322"/>
                    </a:lnTo>
                    <a:lnTo>
                      <a:pt x="446" y="308"/>
                    </a:lnTo>
                    <a:lnTo>
                      <a:pt x="452" y="298"/>
                    </a:lnTo>
                    <a:lnTo>
                      <a:pt x="456" y="294"/>
                    </a:lnTo>
                    <a:lnTo>
                      <a:pt x="454" y="292"/>
                    </a:lnTo>
                    <a:lnTo>
                      <a:pt x="456" y="292"/>
                    </a:lnTo>
                    <a:lnTo>
                      <a:pt x="468" y="290"/>
                    </a:lnTo>
                    <a:lnTo>
                      <a:pt x="474" y="290"/>
                    </a:lnTo>
                    <a:lnTo>
                      <a:pt x="472" y="292"/>
                    </a:lnTo>
                    <a:lnTo>
                      <a:pt x="466" y="294"/>
                    </a:lnTo>
                    <a:lnTo>
                      <a:pt x="460" y="298"/>
                    </a:lnTo>
                    <a:lnTo>
                      <a:pt x="458" y="302"/>
                    </a:lnTo>
                    <a:lnTo>
                      <a:pt x="454" y="308"/>
                    </a:lnTo>
                    <a:lnTo>
                      <a:pt x="454" y="316"/>
                    </a:lnTo>
                    <a:lnTo>
                      <a:pt x="454" y="324"/>
                    </a:lnTo>
                    <a:lnTo>
                      <a:pt x="462" y="346"/>
                    </a:lnTo>
                    <a:lnTo>
                      <a:pt x="478" y="378"/>
                    </a:lnTo>
                    <a:lnTo>
                      <a:pt x="488" y="394"/>
                    </a:lnTo>
                    <a:lnTo>
                      <a:pt x="502" y="412"/>
                    </a:lnTo>
                    <a:lnTo>
                      <a:pt x="516" y="430"/>
                    </a:lnTo>
                    <a:lnTo>
                      <a:pt x="534" y="450"/>
                    </a:lnTo>
                    <a:lnTo>
                      <a:pt x="556" y="472"/>
                    </a:lnTo>
                    <a:lnTo>
                      <a:pt x="580" y="494"/>
                    </a:lnTo>
                    <a:lnTo>
                      <a:pt x="564" y="520"/>
                    </a:lnTo>
                    <a:lnTo>
                      <a:pt x="562" y="522"/>
                    </a:lnTo>
                    <a:lnTo>
                      <a:pt x="562" y="524"/>
                    </a:lnTo>
                    <a:lnTo>
                      <a:pt x="562" y="528"/>
                    </a:lnTo>
                    <a:lnTo>
                      <a:pt x="574" y="538"/>
                    </a:lnTo>
                    <a:lnTo>
                      <a:pt x="586" y="548"/>
                    </a:lnTo>
                    <a:lnTo>
                      <a:pt x="590" y="554"/>
                    </a:lnTo>
                    <a:lnTo>
                      <a:pt x="592" y="560"/>
                    </a:lnTo>
                    <a:lnTo>
                      <a:pt x="592" y="568"/>
                    </a:lnTo>
                    <a:lnTo>
                      <a:pt x="594" y="576"/>
                    </a:lnTo>
                    <a:lnTo>
                      <a:pt x="594" y="578"/>
                    </a:lnTo>
                    <a:lnTo>
                      <a:pt x="590" y="584"/>
                    </a:lnTo>
                    <a:lnTo>
                      <a:pt x="588" y="598"/>
                    </a:lnTo>
                    <a:lnTo>
                      <a:pt x="586" y="648"/>
                    </a:lnTo>
                    <a:lnTo>
                      <a:pt x="586" y="678"/>
                    </a:lnTo>
                    <a:lnTo>
                      <a:pt x="588" y="710"/>
                    </a:lnTo>
                    <a:lnTo>
                      <a:pt x="590" y="740"/>
                    </a:lnTo>
                    <a:lnTo>
                      <a:pt x="594" y="770"/>
                    </a:lnTo>
                    <a:lnTo>
                      <a:pt x="590" y="774"/>
                    </a:lnTo>
                    <a:lnTo>
                      <a:pt x="584" y="774"/>
                    </a:lnTo>
                    <a:close/>
                    <a:moveTo>
                      <a:pt x="606" y="1288"/>
                    </a:moveTo>
                    <a:lnTo>
                      <a:pt x="596" y="1288"/>
                    </a:lnTo>
                    <a:lnTo>
                      <a:pt x="592" y="1284"/>
                    </a:lnTo>
                    <a:lnTo>
                      <a:pt x="588" y="1284"/>
                    </a:lnTo>
                    <a:lnTo>
                      <a:pt x="598" y="1212"/>
                    </a:lnTo>
                    <a:lnTo>
                      <a:pt x="608" y="1138"/>
                    </a:lnTo>
                    <a:lnTo>
                      <a:pt x="606" y="1288"/>
                    </a:lnTo>
                    <a:close/>
                    <a:moveTo>
                      <a:pt x="676" y="506"/>
                    </a:moveTo>
                    <a:lnTo>
                      <a:pt x="676" y="506"/>
                    </a:lnTo>
                    <a:lnTo>
                      <a:pt x="680" y="504"/>
                    </a:lnTo>
                    <a:lnTo>
                      <a:pt x="684" y="502"/>
                    </a:lnTo>
                    <a:lnTo>
                      <a:pt x="688" y="500"/>
                    </a:lnTo>
                    <a:lnTo>
                      <a:pt x="694" y="500"/>
                    </a:lnTo>
                    <a:lnTo>
                      <a:pt x="692" y="510"/>
                    </a:lnTo>
                    <a:lnTo>
                      <a:pt x="690" y="520"/>
                    </a:lnTo>
                    <a:lnTo>
                      <a:pt x="690" y="530"/>
                    </a:lnTo>
                    <a:lnTo>
                      <a:pt x="692" y="540"/>
                    </a:lnTo>
                    <a:lnTo>
                      <a:pt x="686" y="542"/>
                    </a:lnTo>
                    <a:lnTo>
                      <a:pt x="682" y="532"/>
                    </a:lnTo>
                    <a:lnTo>
                      <a:pt x="678" y="524"/>
                    </a:lnTo>
                    <a:lnTo>
                      <a:pt x="666" y="510"/>
                    </a:lnTo>
                    <a:lnTo>
                      <a:pt x="676" y="506"/>
                    </a:lnTo>
                    <a:close/>
                    <a:moveTo>
                      <a:pt x="662" y="606"/>
                    </a:moveTo>
                    <a:lnTo>
                      <a:pt x="662" y="606"/>
                    </a:lnTo>
                    <a:lnTo>
                      <a:pt x="654" y="596"/>
                    </a:lnTo>
                    <a:lnTo>
                      <a:pt x="652" y="592"/>
                    </a:lnTo>
                    <a:lnTo>
                      <a:pt x="648" y="586"/>
                    </a:lnTo>
                    <a:lnTo>
                      <a:pt x="644" y="578"/>
                    </a:lnTo>
                    <a:lnTo>
                      <a:pt x="642" y="570"/>
                    </a:lnTo>
                    <a:lnTo>
                      <a:pt x="646" y="560"/>
                    </a:lnTo>
                    <a:lnTo>
                      <a:pt x="650" y="552"/>
                    </a:lnTo>
                    <a:lnTo>
                      <a:pt x="654" y="546"/>
                    </a:lnTo>
                    <a:lnTo>
                      <a:pt x="658" y="542"/>
                    </a:lnTo>
                    <a:lnTo>
                      <a:pt x="660" y="540"/>
                    </a:lnTo>
                    <a:lnTo>
                      <a:pt x="664" y="540"/>
                    </a:lnTo>
                    <a:lnTo>
                      <a:pt x="666" y="572"/>
                    </a:lnTo>
                    <a:lnTo>
                      <a:pt x="666" y="582"/>
                    </a:lnTo>
                    <a:lnTo>
                      <a:pt x="668" y="596"/>
                    </a:lnTo>
                    <a:lnTo>
                      <a:pt x="670" y="606"/>
                    </a:lnTo>
                    <a:lnTo>
                      <a:pt x="666" y="608"/>
                    </a:lnTo>
                    <a:lnTo>
                      <a:pt x="662" y="606"/>
                    </a:lnTo>
                    <a:close/>
                    <a:moveTo>
                      <a:pt x="732" y="1306"/>
                    </a:moveTo>
                    <a:lnTo>
                      <a:pt x="744" y="1338"/>
                    </a:lnTo>
                    <a:lnTo>
                      <a:pt x="734" y="1350"/>
                    </a:lnTo>
                    <a:lnTo>
                      <a:pt x="732" y="13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66"/>
              <p:cNvSpPr/>
              <p:nvPr/>
            </p:nvSpPr>
            <p:spPr>
              <a:xfrm>
                <a:off x="7488360" y="1625400"/>
                <a:ext cx="322200" cy="460080"/>
              </a:xfrm>
              <a:custGeom>
                <a:avLst/>
                <a:gdLst>
                  <a:gd name="textAreaLeft" fmla="*/ 0 w 322200"/>
                  <a:gd name="textAreaRight" fmla="*/ 322560 w 322200"/>
                  <a:gd name="textAreaTop" fmla="*/ 0 h 460080"/>
                  <a:gd name="textAreaBottom" fmla="*/ 460440 h 460080"/>
                </a:gdLst>
                <a:ahLst/>
                <a:rect l="textAreaLeft" t="textAreaTop" r="textAreaRight" b="textAreaBottom"/>
                <a:pathLst>
                  <a:path w="172" h="246">
                    <a:moveTo>
                      <a:pt x="172" y="28"/>
                    </a:moveTo>
                    <a:lnTo>
                      <a:pt x="146" y="0"/>
                    </a:lnTo>
                    <a:lnTo>
                      <a:pt x="146" y="28"/>
                    </a:lnTo>
                    <a:lnTo>
                      <a:pt x="172" y="28"/>
                    </a:lnTo>
                    <a:close/>
                    <a:moveTo>
                      <a:pt x="0" y="246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138" y="36"/>
                    </a:lnTo>
                    <a:lnTo>
                      <a:pt x="172" y="36"/>
                    </a:lnTo>
                    <a:lnTo>
                      <a:pt x="172" y="246"/>
                    </a:lnTo>
                    <a:lnTo>
                      <a:pt x="0" y="24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d9d9d9"/>
                </a:solidFill>
                <a:round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61"/>
              <p:cNvSpPr/>
              <p:nvPr/>
            </p:nvSpPr>
            <p:spPr>
              <a:xfrm>
                <a:off x="7481160" y="1749240"/>
                <a:ext cx="42120" cy="7128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72" h="122">
                    <a:moveTo>
                      <a:pt x="18" y="118"/>
                    </a:moveTo>
                    <a:lnTo>
                      <a:pt x="18" y="118"/>
                    </a:lnTo>
                    <a:lnTo>
                      <a:pt x="26" y="114"/>
                    </a:lnTo>
                    <a:lnTo>
                      <a:pt x="34" y="108"/>
                    </a:lnTo>
                    <a:lnTo>
                      <a:pt x="40" y="100"/>
                    </a:lnTo>
                    <a:lnTo>
                      <a:pt x="44" y="92"/>
                    </a:lnTo>
                    <a:lnTo>
                      <a:pt x="46" y="78"/>
                    </a:lnTo>
                    <a:lnTo>
                      <a:pt x="48" y="70"/>
                    </a:lnTo>
                    <a:lnTo>
                      <a:pt x="52" y="64"/>
                    </a:lnTo>
                    <a:lnTo>
                      <a:pt x="54" y="64"/>
                    </a:lnTo>
                    <a:lnTo>
                      <a:pt x="56" y="62"/>
                    </a:lnTo>
                    <a:lnTo>
                      <a:pt x="62" y="62"/>
                    </a:lnTo>
                    <a:lnTo>
                      <a:pt x="66" y="60"/>
                    </a:lnTo>
                    <a:lnTo>
                      <a:pt x="70" y="56"/>
                    </a:lnTo>
                    <a:lnTo>
                      <a:pt x="72" y="50"/>
                    </a:lnTo>
                    <a:lnTo>
                      <a:pt x="70" y="44"/>
                    </a:lnTo>
                    <a:lnTo>
                      <a:pt x="68" y="42"/>
                    </a:lnTo>
                    <a:lnTo>
                      <a:pt x="66" y="40"/>
                    </a:lnTo>
                    <a:lnTo>
                      <a:pt x="62" y="36"/>
                    </a:lnTo>
                    <a:lnTo>
                      <a:pt x="54" y="34"/>
                    </a:lnTo>
                    <a:lnTo>
                      <a:pt x="38" y="32"/>
                    </a:lnTo>
                    <a:lnTo>
                      <a:pt x="32" y="28"/>
                    </a:lnTo>
                    <a:lnTo>
                      <a:pt x="26" y="26"/>
                    </a:lnTo>
                    <a:lnTo>
                      <a:pt x="20" y="24"/>
                    </a:lnTo>
                    <a:lnTo>
                      <a:pt x="16" y="24"/>
                    </a:lnTo>
                    <a:lnTo>
                      <a:pt x="12" y="22"/>
                    </a:lnTo>
                    <a:lnTo>
                      <a:pt x="6" y="18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6" y="120"/>
                    </a:lnTo>
                    <a:lnTo>
                      <a:pt x="14" y="122"/>
                    </a:lnTo>
                    <a:lnTo>
                      <a:pt x="18" y="118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7" name="Gruppe 805"/>
              <p:cNvGrpSpPr/>
              <p:nvPr/>
            </p:nvGrpSpPr>
            <p:grpSpPr>
              <a:xfrm>
                <a:off x="7558560" y="1620000"/>
                <a:ext cx="63000" cy="51840"/>
                <a:chOff x="7558560" y="1620000"/>
                <a:chExt cx="63000" cy="51840"/>
              </a:xfrm>
            </p:grpSpPr>
            <p:sp>
              <p:nvSpPr>
                <p:cNvPr id="188" name="Freeform 61"/>
                <p:cNvSpPr/>
                <p:nvPr/>
              </p:nvSpPr>
              <p:spPr>
                <a:xfrm flipH="1" rot="16860000">
                  <a:off x="7571520" y="1620360"/>
                  <a:ext cx="35640" cy="57240"/>
                </a:xfrm>
                <a:custGeom>
                  <a:avLst/>
                  <a:gdLst>
                    <a:gd name="textAreaLeft" fmla="*/ -360 w 35640"/>
                    <a:gd name="textAreaRight" fmla="*/ 35640 w 35640"/>
                    <a:gd name="textAreaTop" fmla="*/ 0 h 57240"/>
                    <a:gd name="textAreaBottom" fmla="*/ 57600 h 57240"/>
                  </a:gdLst>
                  <a:ahLst/>
                  <a:rect l="textAreaLeft" t="textAreaTop" r="textAreaRight" b="textAreaBottom"/>
                  <a:pathLst>
                    <a:path w="72" h="122">
                      <a:moveTo>
                        <a:pt x="18" y="118"/>
                      </a:moveTo>
                      <a:lnTo>
                        <a:pt x="18" y="118"/>
                      </a:lnTo>
                      <a:lnTo>
                        <a:pt x="26" y="114"/>
                      </a:lnTo>
                      <a:lnTo>
                        <a:pt x="34" y="108"/>
                      </a:lnTo>
                      <a:lnTo>
                        <a:pt x="40" y="100"/>
                      </a:lnTo>
                      <a:lnTo>
                        <a:pt x="44" y="92"/>
                      </a:lnTo>
                      <a:lnTo>
                        <a:pt x="46" y="78"/>
                      </a:lnTo>
                      <a:lnTo>
                        <a:pt x="48" y="70"/>
                      </a:lnTo>
                      <a:lnTo>
                        <a:pt x="52" y="64"/>
                      </a:lnTo>
                      <a:lnTo>
                        <a:pt x="54" y="64"/>
                      </a:lnTo>
                      <a:lnTo>
                        <a:pt x="56" y="62"/>
                      </a:lnTo>
                      <a:lnTo>
                        <a:pt x="62" y="62"/>
                      </a:lnTo>
                      <a:lnTo>
                        <a:pt x="66" y="60"/>
                      </a:lnTo>
                      <a:lnTo>
                        <a:pt x="70" y="56"/>
                      </a:lnTo>
                      <a:lnTo>
                        <a:pt x="72" y="50"/>
                      </a:lnTo>
                      <a:lnTo>
                        <a:pt x="70" y="44"/>
                      </a:lnTo>
                      <a:lnTo>
                        <a:pt x="68" y="42"/>
                      </a:lnTo>
                      <a:lnTo>
                        <a:pt x="66" y="40"/>
                      </a:lnTo>
                      <a:lnTo>
                        <a:pt x="62" y="36"/>
                      </a:lnTo>
                      <a:lnTo>
                        <a:pt x="54" y="34"/>
                      </a:lnTo>
                      <a:lnTo>
                        <a:pt x="38" y="32"/>
                      </a:lnTo>
                      <a:lnTo>
                        <a:pt x="32" y="28"/>
                      </a:lnTo>
                      <a:lnTo>
                        <a:pt x="26" y="26"/>
                      </a:lnTo>
                      <a:lnTo>
                        <a:pt x="20" y="24"/>
                      </a:lnTo>
                      <a:lnTo>
                        <a:pt x="16" y="24"/>
                      </a:lnTo>
                      <a:lnTo>
                        <a:pt x="12" y="22"/>
                      </a:lnTo>
                      <a:lnTo>
                        <a:pt x="6" y="18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6" y="120"/>
                      </a:lnTo>
                      <a:lnTo>
                        <a:pt x="14" y="122"/>
                      </a:lnTo>
                      <a:lnTo>
                        <a:pt x="18" y="118"/>
                      </a:lnTo>
                      <a:close/>
                    </a:path>
                  </a:pathLst>
                </a:custGeom>
                <a:solidFill>
                  <a:srgbClr val="1c1c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Kombinationstegning 27"/>
                <p:cNvSpPr/>
                <p:nvPr/>
              </p:nvSpPr>
              <p:spPr>
                <a:xfrm rot="16800000">
                  <a:off x="7583760" y="1604880"/>
                  <a:ext cx="16200" cy="55080"/>
                </a:xfrm>
                <a:custGeom>
                  <a:avLst/>
                  <a:gdLst>
                    <a:gd name="textAreaLeft" fmla="*/ 0 w 16200"/>
                    <a:gd name="textAreaRight" fmla="*/ 16560 w 16200"/>
                    <a:gd name="textAreaTop" fmla="*/ 0 h 55080"/>
                    <a:gd name="textAreaBottom" fmla="*/ 55440 h 55080"/>
                  </a:gdLst>
                  <a:ahLst/>
                  <a:rect l="textAreaLeft" t="textAreaTop" r="textAreaRight" b="textAreaBottom"/>
                  <a:pathLst>
                    <a:path w="77539" h="279400">
                      <a:moveTo>
                        <a:pt x="25400" y="279400"/>
                      </a:moveTo>
                      <a:cubicBezTo>
                        <a:pt x="35983" y="273050"/>
                        <a:pt x="48423" y="269077"/>
                        <a:pt x="57150" y="260350"/>
                      </a:cubicBezTo>
                      <a:cubicBezTo>
                        <a:pt x="61883" y="255617"/>
                        <a:pt x="63500" y="241300"/>
                        <a:pt x="63500" y="241300"/>
                      </a:cubicBezTo>
                      <a:cubicBezTo>
                        <a:pt x="77539" y="199184"/>
                        <a:pt x="76200" y="216587"/>
                        <a:pt x="76200" y="190500"/>
                      </a:cubicBezTo>
                      <a:lnTo>
                        <a:pt x="76200" y="120650"/>
                      </a:lnTo>
                      <a:lnTo>
                        <a:pt x="69850" y="31750"/>
                      </a:lnTo>
                      <a:lnTo>
                        <a:pt x="44450" y="0"/>
                      </a:lnTo>
                      <a:lnTo>
                        <a:pt x="25400" y="69850"/>
                      </a:lnTo>
                      <a:lnTo>
                        <a:pt x="0" y="133350"/>
                      </a:lnTo>
                      <a:lnTo>
                        <a:pt x="25400" y="279400"/>
                      </a:lnTo>
                      <a:close/>
                    </a:path>
                  </a:pathLst>
                </a:custGeom>
                <a:solidFill>
                  <a:srgbClr val="1c1c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0" name="Freeform 231"/>
            <p:cNvSpPr/>
            <p:nvPr/>
          </p:nvSpPr>
          <p:spPr>
            <a:xfrm>
              <a:off x="7544160" y="1693800"/>
              <a:ext cx="249120" cy="36000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245" h="353">
                  <a:moveTo>
                    <a:pt x="114" y="316"/>
                  </a:moveTo>
                  <a:lnTo>
                    <a:pt x="100" y="315"/>
                  </a:lnTo>
                  <a:lnTo>
                    <a:pt x="86" y="314"/>
                  </a:lnTo>
                  <a:lnTo>
                    <a:pt x="74" y="311"/>
                  </a:lnTo>
                  <a:lnTo>
                    <a:pt x="63" y="308"/>
                  </a:lnTo>
                  <a:lnTo>
                    <a:pt x="53" y="303"/>
                  </a:lnTo>
                  <a:lnTo>
                    <a:pt x="44" y="298"/>
                  </a:lnTo>
                  <a:lnTo>
                    <a:pt x="35" y="292"/>
                  </a:lnTo>
                  <a:lnTo>
                    <a:pt x="28" y="286"/>
                  </a:lnTo>
                  <a:lnTo>
                    <a:pt x="22" y="279"/>
                  </a:lnTo>
                  <a:lnTo>
                    <a:pt x="16" y="271"/>
                  </a:lnTo>
                  <a:lnTo>
                    <a:pt x="11" y="263"/>
                  </a:lnTo>
                  <a:lnTo>
                    <a:pt x="8" y="255"/>
                  </a:lnTo>
                  <a:lnTo>
                    <a:pt x="5" y="246"/>
                  </a:lnTo>
                  <a:lnTo>
                    <a:pt x="3" y="237"/>
                  </a:lnTo>
                  <a:lnTo>
                    <a:pt x="1" y="228"/>
                  </a:lnTo>
                  <a:lnTo>
                    <a:pt x="0" y="218"/>
                  </a:lnTo>
                  <a:lnTo>
                    <a:pt x="82" y="218"/>
                  </a:lnTo>
                  <a:lnTo>
                    <a:pt x="83" y="224"/>
                  </a:lnTo>
                  <a:lnTo>
                    <a:pt x="84" y="229"/>
                  </a:lnTo>
                  <a:lnTo>
                    <a:pt x="85" y="235"/>
                  </a:lnTo>
                  <a:lnTo>
                    <a:pt x="88" y="241"/>
                  </a:lnTo>
                  <a:lnTo>
                    <a:pt x="92" y="246"/>
                  </a:lnTo>
                  <a:lnTo>
                    <a:pt x="97" y="251"/>
                  </a:lnTo>
                  <a:lnTo>
                    <a:pt x="104" y="254"/>
                  </a:lnTo>
                  <a:lnTo>
                    <a:pt x="114" y="255"/>
                  </a:lnTo>
                  <a:lnTo>
                    <a:pt x="114" y="202"/>
                  </a:lnTo>
                  <a:lnTo>
                    <a:pt x="110" y="201"/>
                  </a:lnTo>
                  <a:lnTo>
                    <a:pt x="106" y="199"/>
                  </a:lnTo>
                  <a:lnTo>
                    <a:pt x="103" y="198"/>
                  </a:lnTo>
                  <a:lnTo>
                    <a:pt x="99" y="197"/>
                  </a:lnTo>
                  <a:lnTo>
                    <a:pt x="94" y="196"/>
                  </a:lnTo>
                  <a:lnTo>
                    <a:pt x="90" y="195"/>
                  </a:lnTo>
                  <a:lnTo>
                    <a:pt x="86" y="194"/>
                  </a:lnTo>
                  <a:lnTo>
                    <a:pt x="81" y="192"/>
                  </a:lnTo>
                  <a:lnTo>
                    <a:pt x="66" y="187"/>
                  </a:lnTo>
                  <a:lnTo>
                    <a:pt x="52" y="181"/>
                  </a:lnTo>
                  <a:lnTo>
                    <a:pt x="41" y="175"/>
                  </a:lnTo>
                  <a:lnTo>
                    <a:pt x="30" y="167"/>
                  </a:lnTo>
                  <a:lnTo>
                    <a:pt x="22" y="158"/>
                  </a:lnTo>
                  <a:lnTo>
                    <a:pt x="17" y="147"/>
                  </a:lnTo>
                  <a:lnTo>
                    <a:pt x="12" y="134"/>
                  </a:lnTo>
                  <a:lnTo>
                    <a:pt x="11" y="119"/>
                  </a:lnTo>
                  <a:lnTo>
                    <a:pt x="12" y="108"/>
                  </a:lnTo>
                  <a:lnTo>
                    <a:pt x="14" y="98"/>
                  </a:lnTo>
                  <a:lnTo>
                    <a:pt x="17" y="88"/>
                  </a:lnTo>
                  <a:lnTo>
                    <a:pt x="21" y="79"/>
                  </a:lnTo>
                  <a:lnTo>
                    <a:pt x="26" y="71"/>
                  </a:lnTo>
                  <a:lnTo>
                    <a:pt x="31" y="64"/>
                  </a:lnTo>
                  <a:lnTo>
                    <a:pt x="38" y="58"/>
                  </a:lnTo>
                  <a:lnTo>
                    <a:pt x="45" y="52"/>
                  </a:lnTo>
                  <a:lnTo>
                    <a:pt x="52" y="47"/>
                  </a:lnTo>
                  <a:lnTo>
                    <a:pt x="60" y="43"/>
                  </a:lnTo>
                  <a:lnTo>
                    <a:pt x="69" y="39"/>
                  </a:lnTo>
                  <a:lnTo>
                    <a:pt x="78" y="36"/>
                  </a:lnTo>
                  <a:lnTo>
                    <a:pt x="87" y="33"/>
                  </a:lnTo>
                  <a:lnTo>
                    <a:pt x="96" y="32"/>
                  </a:lnTo>
                  <a:lnTo>
                    <a:pt x="105" y="31"/>
                  </a:lnTo>
                  <a:lnTo>
                    <a:pt x="114" y="30"/>
                  </a:lnTo>
                  <a:lnTo>
                    <a:pt x="114" y="0"/>
                  </a:lnTo>
                  <a:lnTo>
                    <a:pt x="134" y="0"/>
                  </a:lnTo>
                  <a:lnTo>
                    <a:pt x="134" y="30"/>
                  </a:lnTo>
                  <a:lnTo>
                    <a:pt x="144" y="31"/>
                  </a:lnTo>
                  <a:lnTo>
                    <a:pt x="154" y="32"/>
                  </a:lnTo>
                  <a:lnTo>
                    <a:pt x="163" y="33"/>
                  </a:lnTo>
                  <a:lnTo>
                    <a:pt x="172" y="36"/>
                  </a:lnTo>
                  <a:lnTo>
                    <a:pt x="181" y="39"/>
                  </a:lnTo>
                  <a:lnTo>
                    <a:pt x="189" y="42"/>
                  </a:lnTo>
                  <a:lnTo>
                    <a:pt x="197" y="46"/>
                  </a:lnTo>
                  <a:lnTo>
                    <a:pt x="205" y="51"/>
                  </a:lnTo>
                  <a:lnTo>
                    <a:pt x="211" y="57"/>
                  </a:lnTo>
                  <a:lnTo>
                    <a:pt x="217" y="63"/>
                  </a:lnTo>
                  <a:lnTo>
                    <a:pt x="222" y="71"/>
                  </a:lnTo>
                  <a:lnTo>
                    <a:pt x="227" y="79"/>
                  </a:lnTo>
                  <a:lnTo>
                    <a:pt x="230" y="88"/>
                  </a:lnTo>
                  <a:lnTo>
                    <a:pt x="233" y="97"/>
                  </a:lnTo>
                  <a:lnTo>
                    <a:pt x="234" y="108"/>
                  </a:lnTo>
                  <a:lnTo>
                    <a:pt x="235" y="119"/>
                  </a:lnTo>
                  <a:lnTo>
                    <a:pt x="162" y="119"/>
                  </a:lnTo>
                  <a:lnTo>
                    <a:pt x="161" y="112"/>
                  </a:lnTo>
                  <a:lnTo>
                    <a:pt x="159" y="107"/>
                  </a:lnTo>
                  <a:lnTo>
                    <a:pt x="157" y="103"/>
                  </a:lnTo>
                  <a:lnTo>
                    <a:pt x="155" y="99"/>
                  </a:lnTo>
                  <a:lnTo>
                    <a:pt x="151" y="96"/>
                  </a:lnTo>
                  <a:lnTo>
                    <a:pt x="146" y="94"/>
                  </a:lnTo>
                  <a:lnTo>
                    <a:pt x="141" y="92"/>
                  </a:lnTo>
                  <a:lnTo>
                    <a:pt x="134" y="90"/>
                  </a:lnTo>
                  <a:lnTo>
                    <a:pt x="134" y="133"/>
                  </a:lnTo>
                  <a:lnTo>
                    <a:pt x="152" y="137"/>
                  </a:lnTo>
                  <a:lnTo>
                    <a:pt x="167" y="142"/>
                  </a:lnTo>
                  <a:lnTo>
                    <a:pt x="181" y="146"/>
                  </a:lnTo>
                  <a:lnTo>
                    <a:pt x="193" y="151"/>
                  </a:lnTo>
                  <a:lnTo>
                    <a:pt x="204" y="156"/>
                  </a:lnTo>
                  <a:lnTo>
                    <a:pt x="213" y="161"/>
                  </a:lnTo>
                  <a:lnTo>
                    <a:pt x="220" y="167"/>
                  </a:lnTo>
                  <a:lnTo>
                    <a:pt x="227" y="172"/>
                  </a:lnTo>
                  <a:lnTo>
                    <a:pt x="232" y="178"/>
                  </a:lnTo>
                  <a:lnTo>
                    <a:pt x="236" y="184"/>
                  </a:lnTo>
                  <a:lnTo>
                    <a:pt x="239" y="191"/>
                  </a:lnTo>
                  <a:lnTo>
                    <a:pt x="242" y="198"/>
                  </a:lnTo>
                  <a:lnTo>
                    <a:pt x="244" y="205"/>
                  </a:lnTo>
                  <a:lnTo>
                    <a:pt x="245" y="212"/>
                  </a:lnTo>
                  <a:lnTo>
                    <a:pt x="245" y="220"/>
                  </a:lnTo>
                  <a:lnTo>
                    <a:pt x="245" y="228"/>
                  </a:lnTo>
                  <a:lnTo>
                    <a:pt x="245" y="236"/>
                  </a:lnTo>
                  <a:lnTo>
                    <a:pt x="244" y="243"/>
                  </a:lnTo>
                  <a:lnTo>
                    <a:pt x="242" y="251"/>
                  </a:lnTo>
                  <a:lnTo>
                    <a:pt x="239" y="259"/>
                  </a:lnTo>
                  <a:lnTo>
                    <a:pt x="236" y="266"/>
                  </a:lnTo>
                  <a:lnTo>
                    <a:pt x="231" y="274"/>
                  </a:lnTo>
                  <a:lnTo>
                    <a:pt x="226" y="281"/>
                  </a:lnTo>
                  <a:lnTo>
                    <a:pt x="220" y="287"/>
                  </a:lnTo>
                  <a:lnTo>
                    <a:pt x="213" y="293"/>
                  </a:lnTo>
                  <a:lnTo>
                    <a:pt x="205" y="299"/>
                  </a:lnTo>
                  <a:lnTo>
                    <a:pt x="196" y="304"/>
                  </a:lnTo>
                  <a:lnTo>
                    <a:pt x="186" y="308"/>
                  </a:lnTo>
                  <a:lnTo>
                    <a:pt x="175" y="311"/>
                  </a:lnTo>
                  <a:lnTo>
                    <a:pt x="162" y="314"/>
                  </a:lnTo>
                  <a:lnTo>
                    <a:pt x="149" y="315"/>
                  </a:lnTo>
                  <a:lnTo>
                    <a:pt x="134" y="316"/>
                  </a:lnTo>
                  <a:lnTo>
                    <a:pt x="134" y="353"/>
                  </a:lnTo>
                  <a:lnTo>
                    <a:pt x="114" y="353"/>
                  </a:lnTo>
                  <a:lnTo>
                    <a:pt x="114" y="316"/>
                  </a:lnTo>
                  <a:close/>
                  <a:moveTo>
                    <a:pt x="114" y="90"/>
                  </a:moveTo>
                  <a:lnTo>
                    <a:pt x="109" y="90"/>
                  </a:lnTo>
                  <a:lnTo>
                    <a:pt x="104" y="91"/>
                  </a:lnTo>
                  <a:lnTo>
                    <a:pt x="100" y="92"/>
                  </a:lnTo>
                  <a:lnTo>
                    <a:pt x="96" y="93"/>
                  </a:lnTo>
                  <a:lnTo>
                    <a:pt x="92" y="96"/>
                  </a:lnTo>
                  <a:lnTo>
                    <a:pt x="89" y="99"/>
                  </a:lnTo>
                  <a:lnTo>
                    <a:pt x="88" y="103"/>
                  </a:lnTo>
                  <a:lnTo>
                    <a:pt x="87" y="108"/>
                  </a:lnTo>
                  <a:lnTo>
                    <a:pt x="88" y="112"/>
                  </a:lnTo>
                  <a:lnTo>
                    <a:pt x="89" y="115"/>
                  </a:lnTo>
                  <a:lnTo>
                    <a:pt x="91" y="118"/>
                  </a:lnTo>
                  <a:lnTo>
                    <a:pt x="94" y="121"/>
                  </a:lnTo>
                  <a:lnTo>
                    <a:pt x="98" y="123"/>
                  </a:lnTo>
                  <a:lnTo>
                    <a:pt x="103" y="125"/>
                  </a:lnTo>
                  <a:lnTo>
                    <a:pt x="108" y="127"/>
                  </a:lnTo>
                  <a:lnTo>
                    <a:pt x="114" y="128"/>
                  </a:lnTo>
                  <a:lnTo>
                    <a:pt x="114" y="90"/>
                  </a:lnTo>
                  <a:close/>
                  <a:moveTo>
                    <a:pt x="134" y="255"/>
                  </a:moveTo>
                  <a:lnTo>
                    <a:pt x="141" y="255"/>
                  </a:lnTo>
                  <a:lnTo>
                    <a:pt x="147" y="254"/>
                  </a:lnTo>
                  <a:lnTo>
                    <a:pt x="152" y="251"/>
                  </a:lnTo>
                  <a:lnTo>
                    <a:pt x="157" y="249"/>
                  </a:lnTo>
                  <a:lnTo>
                    <a:pt x="160" y="246"/>
                  </a:lnTo>
                  <a:lnTo>
                    <a:pt x="163" y="242"/>
                  </a:lnTo>
                  <a:lnTo>
                    <a:pt x="165" y="237"/>
                  </a:lnTo>
                  <a:lnTo>
                    <a:pt x="166" y="232"/>
                  </a:lnTo>
                  <a:lnTo>
                    <a:pt x="165" y="228"/>
                  </a:lnTo>
                  <a:lnTo>
                    <a:pt x="163" y="224"/>
                  </a:lnTo>
                  <a:lnTo>
                    <a:pt x="161" y="220"/>
                  </a:lnTo>
                  <a:lnTo>
                    <a:pt x="157" y="217"/>
                  </a:lnTo>
                  <a:lnTo>
                    <a:pt x="153" y="214"/>
                  </a:lnTo>
                  <a:lnTo>
                    <a:pt x="148" y="212"/>
                  </a:lnTo>
                  <a:lnTo>
                    <a:pt x="141" y="209"/>
                  </a:lnTo>
                  <a:lnTo>
                    <a:pt x="134" y="207"/>
                  </a:lnTo>
                  <a:lnTo>
                    <a:pt x="134" y="255"/>
                  </a:lnTo>
                  <a:close/>
                </a:path>
              </a:pathLst>
            </a:cu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TextBox 54"/>
          <p:cNvSpPr/>
          <p:nvPr/>
        </p:nvSpPr>
        <p:spPr>
          <a:xfrm>
            <a:off x="233280" y="378000"/>
            <a:ext cx="3100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b-NO" sz="1500" spc="-1" strike="noStrike">
                <a:solidFill>
                  <a:srgbClr val="262626"/>
                </a:solidFill>
                <a:latin typeface="Calibri"/>
              </a:rPr>
              <a:t>WORK FLOW </a:t>
            </a:r>
            <a:r>
              <a:rPr b="0" lang="nb-NO" sz="1500" spc="-1" strike="noStrike">
                <a:solidFill>
                  <a:srgbClr val="262626"/>
                </a:solidFill>
                <a:latin typeface="Calibri"/>
              </a:rPr>
              <a:t>PROCES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Oval 3"/>
          <p:cNvSpPr/>
          <p:nvPr/>
        </p:nvSpPr>
        <p:spPr>
          <a:xfrm>
            <a:off x="2563920" y="5742000"/>
            <a:ext cx="3949560" cy="399960"/>
          </a:xfrm>
          <a:prstGeom prst="ellipse">
            <a:avLst/>
          </a:prstGeom>
          <a:gradFill rotWithShape="0">
            <a:gsLst>
              <a:gs pos="0">
                <a:srgbClr val="a6a6a6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3"/>
          <p:cNvSpPr/>
          <p:nvPr/>
        </p:nvSpPr>
        <p:spPr>
          <a:xfrm>
            <a:off x="6529320" y="4741920"/>
            <a:ext cx="1800360" cy="0"/>
          </a:xfrm>
          <a:prstGeom prst="line">
            <a:avLst/>
          </a:prstGeom>
          <a:ln w="19080">
            <a:solidFill>
              <a:srgbClr val="35363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3"/>
          <p:cNvSpPr/>
          <p:nvPr/>
        </p:nvSpPr>
        <p:spPr>
          <a:xfrm>
            <a:off x="6135840" y="1812960"/>
            <a:ext cx="1800000" cy="0"/>
          </a:xfrm>
          <a:prstGeom prst="line">
            <a:avLst/>
          </a:prstGeom>
          <a:ln w="19080">
            <a:solidFill>
              <a:srgbClr val="35363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3"/>
          <p:cNvSpPr/>
          <p:nvPr/>
        </p:nvSpPr>
        <p:spPr>
          <a:xfrm>
            <a:off x="1401840" y="5742000"/>
            <a:ext cx="2743200" cy="0"/>
          </a:xfrm>
          <a:prstGeom prst="line">
            <a:avLst/>
          </a:prstGeom>
          <a:ln w="19080">
            <a:solidFill>
              <a:srgbClr val="35363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33"/>
          <p:cNvSpPr/>
          <p:nvPr/>
        </p:nvSpPr>
        <p:spPr>
          <a:xfrm>
            <a:off x="1214280" y="1812960"/>
            <a:ext cx="1800360" cy="0"/>
          </a:xfrm>
          <a:prstGeom prst="line">
            <a:avLst/>
          </a:prstGeom>
          <a:ln w="19080">
            <a:solidFill>
              <a:srgbClr val="35363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Rectangle 8"/>
          <p:cNvGrpSpPr/>
          <p:nvPr/>
        </p:nvGrpSpPr>
        <p:grpSpPr>
          <a:xfrm>
            <a:off x="-6480" y="4309920"/>
            <a:ext cx="9156600" cy="1859040"/>
            <a:chOff x="-6480" y="4309920"/>
            <a:chExt cx="9156600" cy="1859040"/>
          </a:xfrm>
        </p:grpSpPr>
        <p:pic>
          <p:nvPicPr>
            <p:cNvPr id="198" name="Rectangle 8" descr=""/>
            <p:cNvPicPr/>
            <p:nvPr/>
          </p:nvPicPr>
          <p:blipFill>
            <a:blip r:embed="rId1"/>
            <a:stretch/>
          </p:blipFill>
          <p:spPr>
            <a:xfrm>
              <a:off x="-6480" y="4309920"/>
              <a:ext cx="915660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0" y="4317840"/>
              <a:ext cx="914400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Oval 9"/>
          <p:cNvSpPr/>
          <p:nvPr/>
        </p:nvSpPr>
        <p:spPr>
          <a:xfrm>
            <a:off x="2936880" y="1809720"/>
            <a:ext cx="3206880" cy="3206880"/>
          </a:xfrm>
          <a:prstGeom prst="ellipse">
            <a:avLst/>
          </a:prstGeom>
          <a:gradFill rotWithShape="0">
            <a:gsLst>
              <a:gs pos="0">
                <a:srgbClr val="bfbfbf"/>
              </a:gs>
              <a:gs pos="100000">
                <a:srgbClr val="f2f2f2"/>
              </a:gs>
            </a:gsLst>
            <a:lin ang="5400000"/>
          </a:gradFill>
          <a:ln w="9360">
            <a:solidFill>
              <a:srgbClr val="7f7f7f">
                <a:alpha val="26000"/>
              </a:srgbClr>
            </a:solidFill>
            <a:miter/>
          </a:ln>
          <a:effectLst>
            <a:outerShdw dist="23040" dir="5400000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12"/>
          <p:cNvGrpSpPr/>
          <p:nvPr/>
        </p:nvGrpSpPr>
        <p:grpSpPr>
          <a:xfrm>
            <a:off x="2081160" y="990720"/>
            <a:ext cx="4903920" cy="4849560"/>
            <a:chOff x="2081160" y="990720"/>
            <a:chExt cx="4903920" cy="4849560"/>
          </a:xfrm>
        </p:grpSpPr>
        <p:sp>
          <p:nvSpPr>
            <p:cNvPr id="202" name="Freeform 256"/>
            <p:cNvSpPr/>
            <p:nvPr/>
          </p:nvSpPr>
          <p:spPr>
            <a:xfrm>
              <a:off x="2261880" y="990720"/>
              <a:ext cx="2594160" cy="1776240"/>
            </a:xfrm>
            <a:custGeom>
              <a:avLst/>
              <a:gdLst>
                <a:gd name="textAreaLeft" fmla="*/ 0 w 2594160"/>
                <a:gd name="textAreaRight" fmla="*/ 2594520 w 2594160"/>
                <a:gd name="textAreaTop" fmla="*/ 0 h 1776240"/>
                <a:gd name="textAreaBottom" fmla="*/ 1776600 h 1776240"/>
              </a:gdLst>
              <a:ahLst/>
              <a:rect l="textAreaLeft" t="textAreaTop" r="textAreaRight" b="textAreaBottom"/>
              <a:pathLst>
                <a:path w="969" h="664">
                  <a:moveTo>
                    <a:pt x="232" y="664"/>
                  </a:moveTo>
                  <a:lnTo>
                    <a:pt x="232" y="664"/>
                  </a:lnTo>
                  <a:lnTo>
                    <a:pt x="241" y="644"/>
                  </a:lnTo>
                  <a:lnTo>
                    <a:pt x="251" y="622"/>
                  </a:lnTo>
                  <a:lnTo>
                    <a:pt x="261" y="601"/>
                  </a:lnTo>
                  <a:lnTo>
                    <a:pt x="273" y="580"/>
                  </a:lnTo>
                  <a:lnTo>
                    <a:pt x="285" y="561"/>
                  </a:lnTo>
                  <a:lnTo>
                    <a:pt x="298" y="541"/>
                  </a:lnTo>
                  <a:lnTo>
                    <a:pt x="311" y="522"/>
                  </a:lnTo>
                  <a:lnTo>
                    <a:pt x="325" y="504"/>
                  </a:lnTo>
                  <a:lnTo>
                    <a:pt x="339" y="485"/>
                  </a:lnTo>
                  <a:lnTo>
                    <a:pt x="355" y="469"/>
                  </a:lnTo>
                  <a:lnTo>
                    <a:pt x="372" y="452"/>
                  </a:lnTo>
                  <a:lnTo>
                    <a:pt x="387" y="435"/>
                  </a:lnTo>
                  <a:lnTo>
                    <a:pt x="404" y="419"/>
                  </a:lnTo>
                  <a:lnTo>
                    <a:pt x="422" y="404"/>
                  </a:lnTo>
                  <a:lnTo>
                    <a:pt x="440" y="389"/>
                  </a:lnTo>
                  <a:lnTo>
                    <a:pt x="460" y="375"/>
                  </a:lnTo>
                  <a:lnTo>
                    <a:pt x="478" y="362"/>
                  </a:lnTo>
                  <a:lnTo>
                    <a:pt x="499" y="349"/>
                  </a:lnTo>
                  <a:lnTo>
                    <a:pt x="518" y="338"/>
                  </a:lnTo>
                  <a:lnTo>
                    <a:pt x="539" y="326"/>
                  </a:lnTo>
                  <a:lnTo>
                    <a:pt x="560" y="316"/>
                  </a:lnTo>
                  <a:lnTo>
                    <a:pt x="582" y="305"/>
                  </a:lnTo>
                  <a:lnTo>
                    <a:pt x="604" y="296"/>
                  </a:lnTo>
                  <a:lnTo>
                    <a:pt x="626" y="288"/>
                  </a:lnTo>
                  <a:lnTo>
                    <a:pt x="648" y="281"/>
                  </a:lnTo>
                  <a:lnTo>
                    <a:pt x="671" y="274"/>
                  </a:lnTo>
                  <a:lnTo>
                    <a:pt x="694" y="268"/>
                  </a:lnTo>
                  <a:lnTo>
                    <a:pt x="718" y="262"/>
                  </a:lnTo>
                  <a:lnTo>
                    <a:pt x="742" y="258"/>
                  </a:lnTo>
                  <a:lnTo>
                    <a:pt x="767" y="255"/>
                  </a:lnTo>
                  <a:lnTo>
                    <a:pt x="792" y="252"/>
                  </a:lnTo>
                  <a:lnTo>
                    <a:pt x="816" y="251"/>
                  </a:lnTo>
                  <a:lnTo>
                    <a:pt x="969" y="129"/>
                  </a:lnTo>
                  <a:lnTo>
                    <a:pt x="849" y="0"/>
                  </a:lnTo>
                  <a:lnTo>
                    <a:pt x="812" y="2"/>
                  </a:lnTo>
                  <a:lnTo>
                    <a:pt x="777" y="3"/>
                  </a:lnTo>
                  <a:lnTo>
                    <a:pt x="741" y="7"/>
                  </a:lnTo>
                  <a:lnTo>
                    <a:pt x="707" y="12"/>
                  </a:lnTo>
                  <a:lnTo>
                    <a:pt x="672" y="17"/>
                  </a:lnTo>
                  <a:lnTo>
                    <a:pt x="639" y="25"/>
                  </a:lnTo>
                  <a:lnTo>
                    <a:pt x="605" y="33"/>
                  </a:lnTo>
                  <a:lnTo>
                    <a:pt x="573" y="43"/>
                  </a:lnTo>
                  <a:lnTo>
                    <a:pt x="540" y="54"/>
                  </a:lnTo>
                  <a:lnTo>
                    <a:pt x="509" y="65"/>
                  </a:lnTo>
                  <a:lnTo>
                    <a:pt x="478" y="78"/>
                  </a:lnTo>
                  <a:lnTo>
                    <a:pt x="447" y="93"/>
                  </a:lnTo>
                  <a:lnTo>
                    <a:pt x="417" y="108"/>
                  </a:lnTo>
                  <a:lnTo>
                    <a:pt x="387" y="124"/>
                  </a:lnTo>
                  <a:lnTo>
                    <a:pt x="359" y="142"/>
                  </a:lnTo>
                  <a:lnTo>
                    <a:pt x="331" y="160"/>
                  </a:lnTo>
                  <a:lnTo>
                    <a:pt x="304" y="179"/>
                  </a:lnTo>
                  <a:lnTo>
                    <a:pt x="277" y="199"/>
                  </a:lnTo>
                  <a:lnTo>
                    <a:pt x="251" y="220"/>
                  </a:lnTo>
                  <a:lnTo>
                    <a:pt x="226" y="242"/>
                  </a:lnTo>
                  <a:lnTo>
                    <a:pt x="202" y="265"/>
                  </a:lnTo>
                  <a:lnTo>
                    <a:pt x="180" y="288"/>
                  </a:lnTo>
                  <a:lnTo>
                    <a:pt x="156" y="313"/>
                  </a:lnTo>
                  <a:lnTo>
                    <a:pt x="136" y="339"/>
                  </a:lnTo>
                  <a:lnTo>
                    <a:pt x="115" y="365"/>
                  </a:lnTo>
                  <a:lnTo>
                    <a:pt x="95" y="392"/>
                  </a:lnTo>
                  <a:lnTo>
                    <a:pt x="77" y="419"/>
                  </a:lnTo>
                  <a:lnTo>
                    <a:pt x="59" y="448"/>
                  </a:lnTo>
                  <a:lnTo>
                    <a:pt x="42" y="476"/>
                  </a:lnTo>
                  <a:lnTo>
                    <a:pt x="27" y="506"/>
                  </a:lnTo>
                  <a:lnTo>
                    <a:pt x="12" y="536"/>
                  </a:lnTo>
                  <a:lnTo>
                    <a:pt x="0" y="567"/>
                  </a:lnTo>
                  <a:lnTo>
                    <a:pt x="156" y="492"/>
                  </a:lnTo>
                  <a:lnTo>
                    <a:pt x="232" y="664"/>
                  </a:lnTo>
                  <a:close/>
                </a:path>
              </a:pathLst>
            </a:custGeom>
            <a:gradFill rotWithShape="0">
              <a:gsLst>
                <a:gs pos="0">
                  <a:srgbClr val="92d050"/>
                </a:gs>
                <a:gs pos="100000">
                  <a:srgbClr val="619527"/>
                </a:gs>
              </a:gsLst>
              <a:lin ang="3600000"/>
            </a:gradFill>
            <a:ln w="9360">
              <a:solidFill>
                <a:srgbClr val="619527"/>
              </a:solidFill>
              <a:round/>
            </a:ln>
            <a:effectLst>
              <a:outerShdw dist="23040" dir="5400000" blurRad="0" rotWithShape="0">
                <a:srgbClr val="000000">
                  <a:alpha val="3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57"/>
            <p:cNvSpPr/>
            <p:nvPr/>
          </p:nvSpPr>
          <p:spPr>
            <a:xfrm>
              <a:off x="4551480" y="996840"/>
              <a:ext cx="2338560" cy="2143080"/>
            </a:xfrm>
            <a:custGeom>
              <a:avLst/>
              <a:gdLst>
                <a:gd name="textAreaLeft" fmla="*/ 0 w 2338560"/>
                <a:gd name="textAreaRight" fmla="*/ 2338920 w 2338560"/>
                <a:gd name="textAreaTop" fmla="*/ 0 h 2143080"/>
                <a:gd name="textAreaBottom" fmla="*/ 2143440 h 2143080"/>
              </a:gdLst>
              <a:ahLst/>
              <a:rect l="textAreaLeft" t="textAreaTop" r="textAreaRight" b="textAreaBottom"/>
              <a:pathLst>
                <a:path w="875" h="801">
                  <a:moveTo>
                    <a:pt x="0" y="249"/>
                  </a:moveTo>
                  <a:lnTo>
                    <a:pt x="0" y="249"/>
                  </a:lnTo>
                  <a:lnTo>
                    <a:pt x="26" y="249"/>
                  </a:lnTo>
                  <a:lnTo>
                    <a:pt x="53" y="251"/>
                  </a:lnTo>
                  <a:lnTo>
                    <a:pt x="79" y="254"/>
                  </a:lnTo>
                  <a:lnTo>
                    <a:pt x="105" y="258"/>
                  </a:lnTo>
                  <a:lnTo>
                    <a:pt x="131" y="262"/>
                  </a:lnTo>
                  <a:lnTo>
                    <a:pt x="156" y="268"/>
                  </a:lnTo>
                  <a:lnTo>
                    <a:pt x="180" y="275"/>
                  </a:lnTo>
                  <a:lnTo>
                    <a:pt x="205" y="282"/>
                  </a:lnTo>
                  <a:lnTo>
                    <a:pt x="228" y="290"/>
                  </a:lnTo>
                  <a:lnTo>
                    <a:pt x="253" y="299"/>
                  </a:lnTo>
                  <a:lnTo>
                    <a:pt x="275" y="310"/>
                  </a:lnTo>
                  <a:lnTo>
                    <a:pt x="298" y="320"/>
                  </a:lnTo>
                  <a:lnTo>
                    <a:pt x="320" y="333"/>
                  </a:lnTo>
                  <a:lnTo>
                    <a:pt x="341" y="345"/>
                  </a:lnTo>
                  <a:lnTo>
                    <a:pt x="363" y="359"/>
                  </a:lnTo>
                  <a:lnTo>
                    <a:pt x="384" y="372"/>
                  </a:lnTo>
                  <a:lnTo>
                    <a:pt x="403" y="387"/>
                  </a:lnTo>
                  <a:lnTo>
                    <a:pt x="423" y="403"/>
                  </a:lnTo>
                  <a:lnTo>
                    <a:pt x="441" y="419"/>
                  </a:lnTo>
                  <a:lnTo>
                    <a:pt x="459" y="435"/>
                  </a:lnTo>
                  <a:lnTo>
                    <a:pt x="477" y="454"/>
                  </a:lnTo>
                  <a:lnTo>
                    <a:pt x="494" y="472"/>
                  </a:lnTo>
                  <a:lnTo>
                    <a:pt x="510" y="491"/>
                  </a:lnTo>
                  <a:lnTo>
                    <a:pt x="525" y="511"/>
                  </a:lnTo>
                  <a:lnTo>
                    <a:pt x="540" y="530"/>
                  </a:lnTo>
                  <a:lnTo>
                    <a:pt x="554" y="551"/>
                  </a:lnTo>
                  <a:lnTo>
                    <a:pt x="567" y="572"/>
                  </a:lnTo>
                  <a:lnTo>
                    <a:pt x="580" y="594"/>
                  </a:lnTo>
                  <a:lnTo>
                    <a:pt x="591" y="616"/>
                  </a:lnTo>
                  <a:lnTo>
                    <a:pt x="602" y="638"/>
                  </a:lnTo>
                  <a:lnTo>
                    <a:pt x="611" y="661"/>
                  </a:lnTo>
                  <a:lnTo>
                    <a:pt x="620" y="684"/>
                  </a:lnTo>
                  <a:lnTo>
                    <a:pt x="778" y="801"/>
                  </a:lnTo>
                  <a:lnTo>
                    <a:pt x="875" y="652"/>
                  </a:lnTo>
                  <a:lnTo>
                    <a:pt x="864" y="618"/>
                  </a:lnTo>
                  <a:lnTo>
                    <a:pt x="852" y="584"/>
                  </a:lnTo>
                  <a:lnTo>
                    <a:pt x="839" y="552"/>
                  </a:lnTo>
                  <a:lnTo>
                    <a:pt x="823" y="520"/>
                  </a:lnTo>
                  <a:lnTo>
                    <a:pt x="808" y="487"/>
                  </a:lnTo>
                  <a:lnTo>
                    <a:pt x="791" y="457"/>
                  </a:lnTo>
                  <a:lnTo>
                    <a:pt x="773" y="426"/>
                  </a:lnTo>
                  <a:lnTo>
                    <a:pt x="753" y="398"/>
                  </a:lnTo>
                  <a:lnTo>
                    <a:pt x="733" y="369"/>
                  </a:lnTo>
                  <a:lnTo>
                    <a:pt x="712" y="341"/>
                  </a:lnTo>
                  <a:lnTo>
                    <a:pt x="689" y="314"/>
                  </a:lnTo>
                  <a:lnTo>
                    <a:pt x="665" y="288"/>
                  </a:lnTo>
                  <a:lnTo>
                    <a:pt x="641" y="263"/>
                  </a:lnTo>
                  <a:lnTo>
                    <a:pt x="616" y="238"/>
                  </a:lnTo>
                  <a:lnTo>
                    <a:pt x="589" y="215"/>
                  </a:lnTo>
                  <a:lnTo>
                    <a:pt x="562" y="193"/>
                  </a:lnTo>
                  <a:lnTo>
                    <a:pt x="534" y="172"/>
                  </a:lnTo>
                  <a:lnTo>
                    <a:pt x="505" y="153"/>
                  </a:lnTo>
                  <a:lnTo>
                    <a:pt x="475" y="133"/>
                  </a:lnTo>
                  <a:lnTo>
                    <a:pt x="445" y="115"/>
                  </a:lnTo>
                  <a:lnTo>
                    <a:pt x="412" y="98"/>
                  </a:lnTo>
                  <a:lnTo>
                    <a:pt x="381" y="83"/>
                  </a:lnTo>
                  <a:lnTo>
                    <a:pt x="348" y="69"/>
                  </a:lnTo>
                  <a:lnTo>
                    <a:pt x="315" y="56"/>
                  </a:lnTo>
                  <a:lnTo>
                    <a:pt x="280" y="44"/>
                  </a:lnTo>
                  <a:lnTo>
                    <a:pt x="247" y="33"/>
                  </a:lnTo>
                  <a:lnTo>
                    <a:pt x="212" y="24"/>
                  </a:lnTo>
                  <a:lnTo>
                    <a:pt x="175" y="17"/>
                  </a:lnTo>
                  <a:lnTo>
                    <a:pt x="139" y="10"/>
                  </a:lnTo>
                  <a:lnTo>
                    <a:pt x="103" y="5"/>
                  </a:lnTo>
                  <a:lnTo>
                    <a:pt x="65" y="1"/>
                  </a:lnTo>
                  <a:lnTo>
                    <a:pt x="27" y="0"/>
                  </a:lnTo>
                  <a:lnTo>
                    <a:pt x="149" y="128"/>
                  </a:lnTo>
                  <a:lnTo>
                    <a:pt x="0" y="249"/>
                  </a:lnTo>
                  <a:close/>
                </a:path>
              </a:pathLst>
            </a:custGeom>
            <a:gradFill rotWithShape="0">
              <a:gsLst>
                <a:gs pos="0">
                  <a:srgbClr val="92d050"/>
                </a:gs>
                <a:gs pos="100000">
                  <a:srgbClr val="619527"/>
                </a:gs>
              </a:gsLst>
              <a:lin ang="3000000"/>
            </a:gradFill>
            <a:ln w="9360">
              <a:solidFill>
                <a:srgbClr val="619527"/>
              </a:solidFill>
              <a:round/>
            </a:ln>
            <a:effectLst>
              <a:outerShdw dist="23040" dir="5400000" blurRad="0" rotWithShape="0">
                <a:srgbClr val="000000">
                  <a:alpha val="3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58"/>
            <p:cNvSpPr/>
            <p:nvPr/>
          </p:nvSpPr>
          <p:spPr>
            <a:xfrm>
              <a:off x="5604120" y="2825640"/>
              <a:ext cx="1380960" cy="2466720"/>
            </a:xfrm>
            <a:custGeom>
              <a:avLst/>
              <a:gdLst>
                <a:gd name="textAreaLeft" fmla="*/ 0 w 1380960"/>
                <a:gd name="textAreaRight" fmla="*/ 1381320 w 1380960"/>
                <a:gd name="textAreaTop" fmla="*/ 0 h 2466720"/>
                <a:gd name="textAreaBottom" fmla="*/ 2467080 h 2466720"/>
              </a:gdLst>
              <a:ahLst/>
              <a:rect l="textAreaLeft" t="textAreaTop" r="textAreaRight" b="textAreaBottom"/>
              <a:pathLst>
                <a:path w="516" h="922">
                  <a:moveTo>
                    <a:pt x="516" y="221"/>
                  </a:moveTo>
                  <a:lnTo>
                    <a:pt x="516" y="221"/>
                  </a:lnTo>
                  <a:lnTo>
                    <a:pt x="516" y="192"/>
                  </a:lnTo>
                  <a:lnTo>
                    <a:pt x="515" y="164"/>
                  </a:lnTo>
                  <a:lnTo>
                    <a:pt x="512" y="136"/>
                  </a:lnTo>
                  <a:lnTo>
                    <a:pt x="510" y="108"/>
                  </a:lnTo>
                  <a:lnTo>
                    <a:pt x="506" y="81"/>
                  </a:lnTo>
                  <a:lnTo>
                    <a:pt x="501" y="53"/>
                  </a:lnTo>
                  <a:lnTo>
                    <a:pt x="496" y="26"/>
                  </a:lnTo>
                  <a:lnTo>
                    <a:pt x="489" y="0"/>
                  </a:lnTo>
                  <a:lnTo>
                    <a:pt x="391" y="152"/>
                  </a:lnTo>
                  <a:lnTo>
                    <a:pt x="239" y="39"/>
                  </a:lnTo>
                  <a:lnTo>
                    <a:pt x="245" y="61"/>
                  </a:lnTo>
                  <a:lnTo>
                    <a:pt x="251" y="83"/>
                  </a:lnTo>
                  <a:lnTo>
                    <a:pt x="254" y="105"/>
                  </a:lnTo>
                  <a:lnTo>
                    <a:pt x="258" y="129"/>
                  </a:lnTo>
                  <a:lnTo>
                    <a:pt x="261" y="151"/>
                  </a:lnTo>
                  <a:lnTo>
                    <a:pt x="264" y="174"/>
                  </a:lnTo>
                  <a:lnTo>
                    <a:pt x="265" y="197"/>
                  </a:lnTo>
                  <a:lnTo>
                    <a:pt x="265" y="221"/>
                  </a:lnTo>
                  <a:lnTo>
                    <a:pt x="264" y="258"/>
                  </a:lnTo>
                  <a:lnTo>
                    <a:pt x="261" y="295"/>
                  </a:lnTo>
                  <a:lnTo>
                    <a:pt x="256" y="331"/>
                  </a:lnTo>
                  <a:lnTo>
                    <a:pt x="249" y="366"/>
                  </a:lnTo>
                  <a:lnTo>
                    <a:pt x="240" y="400"/>
                  </a:lnTo>
                  <a:lnTo>
                    <a:pt x="228" y="433"/>
                  </a:lnTo>
                  <a:lnTo>
                    <a:pt x="217" y="467"/>
                  </a:lnTo>
                  <a:lnTo>
                    <a:pt x="203" y="499"/>
                  </a:lnTo>
                  <a:lnTo>
                    <a:pt x="187" y="531"/>
                  </a:lnTo>
                  <a:lnTo>
                    <a:pt x="169" y="560"/>
                  </a:lnTo>
                  <a:lnTo>
                    <a:pt x="151" y="590"/>
                  </a:lnTo>
                  <a:lnTo>
                    <a:pt x="130" y="617"/>
                  </a:lnTo>
                  <a:lnTo>
                    <a:pt x="108" y="645"/>
                  </a:lnTo>
                  <a:lnTo>
                    <a:pt x="85" y="671"/>
                  </a:lnTo>
                  <a:lnTo>
                    <a:pt x="60" y="695"/>
                  </a:lnTo>
                  <a:lnTo>
                    <a:pt x="34" y="719"/>
                  </a:lnTo>
                  <a:lnTo>
                    <a:pt x="0" y="899"/>
                  </a:lnTo>
                  <a:lnTo>
                    <a:pt x="181" y="922"/>
                  </a:lnTo>
                  <a:lnTo>
                    <a:pt x="218" y="890"/>
                  </a:lnTo>
                  <a:lnTo>
                    <a:pt x="254" y="856"/>
                  </a:lnTo>
                  <a:lnTo>
                    <a:pt x="288" y="820"/>
                  </a:lnTo>
                  <a:lnTo>
                    <a:pt x="319" y="782"/>
                  </a:lnTo>
                  <a:lnTo>
                    <a:pt x="349" y="743"/>
                  </a:lnTo>
                  <a:lnTo>
                    <a:pt x="378" y="702"/>
                  </a:lnTo>
                  <a:lnTo>
                    <a:pt x="402" y="659"/>
                  </a:lnTo>
                  <a:lnTo>
                    <a:pt x="426" y="615"/>
                  </a:lnTo>
                  <a:lnTo>
                    <a:pt x="446" y="569"/>
                  </a:lnTo>
                  <a:lnTo>
                    <a:pt x="464" y="523"/>
                  </a:lnTo>
                  <a:lnTo>
                    <a:pt x="480" y="475"/>
                  </a:lnTo>
                  <a:lnTo>
                    <a:pt x="493" y="427"/>
                  </a:lnTo>
                  <a:lnTo>
                    <a:pt x="503" y="376"/>
                  </a:lnTo>
                  <a:lnTo>
                    <a:pt x="511" y="326"/>
                  </a:lnTo>
                  <a:lnTo>
                    <a:pt x="515" y="274"/>
                  </a:lnTo>
                  <a:lnTo>
                    <a:pt x="516" y="221"/>
                  </a:lnTo>
                  <a:close/>
                </a:path>
              </a:pathLst>
            </a:custGeom>
            <a:gradFill rotWithShape="0">
              <a:gsLst>
                <a:gs pos="0">
                  <a:srgbClr val="92d050"/>
                </a:gs>
                <a:gs pos="100000">
                  <a:srgbClr val="619527"/>
                </a:gs>
              </a:gsLst>
              <a:lin ang="4800000"/>
            </a:gradFill>
            <a:ln w="9360">
              <a:solidFill>
                <a:srgbClr val="619527"/>
              </a:solidFill>
              <a:round/>
            </a:ln>
            <a:effectLst>
              <a:outerShdw dist="23040" dir="5400000" blurRad="0" rotWithShape="0">
                <a:srgbClr val="000000">
                  <a:alpha val="3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59"/>
            <p:cNvSpPr/>
            <p:nvPr/>
          </p:nvSpPr>
          <p:spPr>
            <a:xfrm>
              <a:off x="2955960" y="4810320"/>
              <a:ext cx="3057480" cy="1029960"/>
            </a:xfrm>
            <a:custGeom>
              <a:avLst/>
              <a:gdLst>
                <a:gd name="textAreaLeft" fmla="*/ 0 w 3057480"/>
                <a:gd name="textAreaRight" fmla="*/ 3057840 w 3057480"/>
                <a:gd name="textAreaTop" fmla="*/ 0 h 1029960"/>
                <a:gd name="textAreaBottom" fmla="*/ 1030320 h 1029960"/>
              </a:gdLst>
              <a:ahLst/>
              <a:rect l="textAreaLeft" t="textAreaTop" r="textAreaRight" b="textAreaBottom"/>
              <a:pathLst>
                <a:path w="1143" h="385">
                  <a:moveTo>
                    <a:pt x="996" y="0"/>
                  </a:moveTo>
                  <a:lnTo>
                    <a:pt x="996" y="0"/>
                  </a:lnTo>
                  <a:lnTo>
                    <a:pt x="975" y="15"/>
                  </a:lnTo>
                  <a:lnTo>
                    <a:pt x="953" y="30"/>
                  </a:lnTo>
                  <a:lnTo>
                    <a:pt x="929" y="44"/>
                  </a:lnTo>
                  <a:lnTo>
                    <a:pt x="906" y="57"/>
                  </a:lnTo>
                  <a:lnTo>
                    <a:pt x="883" y="69"/>
                  </a:lnTo>
                  <a:lnTo>
                    <a:pt x="858" y="80"/>
                  </a:lnTo>
                  <a:lnTo>
                    <a:pt x="833" y="91"/>
                  </a:lnTo>
                  <a:lnTo>
                    <a:pt x="808" y="100"/>
                  </a:lnTo>
                  <a:lnTo>
                    <a:pt x="783" y="108"/>
                  </a:lnTo>
                  <a:lnTo>
                    <a:pt x="756" y="115"/>
                  </a:lnTo>
                  <a:lnTo>
                    <a:pt x="730" y="122"/>
                  </a:lnTo>
                  <a:lnTo>
                    <a:pt x="702" y="127"/>
                  </a:lnTo>
                  <a:lnTo>
                    <a:pt x="675" y="131"/>
                  </a:lnTo>
                  <a:lnTo>
                    <a:pt x="647" y="133"/>
                  </a:lnTo>
                  <a:lnTo>
                    <a:pt x="618" y="136"/>
                  </a:lnTo>
                  <a:lnTo>
                    <a:pt x="590" y="136"/>
                  </a:lnTo>
                  <a:lnTo>
                    <a:pt x="562" y="136"/>
                  </a:lnTo>
                  <a:lnTo>
                    <a:pt x="534" y="133"/>
                  </a:lnTo>
                  <a:lnTo>
                    <a:pt x="507" y="131"/>
                  </a:lnTo>
                  <a:lnTo>
                    <a:pt x="480" y="127"/>
                  </a:lnTo>
                  <a:lnTo>
                    <a:pt x="454" y="122"/>
                  </a:lnTo>
                  <a:lnTo>
                    <a:pt x="426" y="115"/>
                  </a:lnTo>
                  <a:lnTo>
                    <a:pt x="400" y="109"/>
                  </a:lnTo>
                  <a:lnTo>
                    <a:pt x="374" y="101"/>
                  </a:lnTo>
                  <a:lnTo>
                    <a:pt x="350" y="92"/>
                  </a:lnTo>
                  <a:lnTo>
                    <a:pt x="325" y="82"/>
                  </a:lnTo>
                  <a:lnTo>
                    <a:pt x="302" y="71"/>
                  </a:lnTo>
                  <a:lnTo>
                    <a:pt x="277" y="58"/>
                  </a:lnTo>
                  <a:lnTo>
                    <a:pt x="255" y="47"/>
                  </a:lnTo>
                  <a:lnTo>
                    <a:pt x="232" y="32"/>
                  </a:lnTo>
                  <a:lnTo>
                    <a:pt x="211" y="18"/>
                  </a:lnTo>
                  <a:lnTo>
                    <a:pt x="189" y="3"/>
                  </a:lnTo>
                  <a:lnTo>
                    <a:pt x="0" y="26"/>
                  </a:lnTo>
                  <a:lnTo>
                    <a:pt x="27" y="193"/>
                  </a:lnTo>
                  <a:lnTo>
                    <a:pt x="56" y="215"/>
                  </a:lnTo>
                  <a:lnTo>
                    <a:pt x="87" y="236"/>
                  </a:lnTo>
                  <a:lnTo>
                    <a:pt x="118" y="255"/>
                  </a:lnTo>
                  <a:lnTo>
                    <a:pt x="150" y="273"/>
                  </a:lnTo>
                  <a:lnTo>
                    <a:pt x="184" y="292"/>
                  </a:lnTo>
                  <a:lnTo>
                    <a:pt x="218" y="307"/>
                  </a:lnTo>
                  <a:lnTo>
                    <a:pt x="251" y="321"/>
                  </a:lnTo>
                  <a:lnTo>
                    <a:pt x="286" y="334"/>
                  </a:lnTo>
                  <a:lnTo>
                    <a:pt x="323" y="346"/>
                  </a:lnTo>
                  <a:lnTo>
                    <a:pt x="359" y="356"/>
                  </a:lnTo>
                  <a:lnTo>
                    <a:pt x="397" y="366"/>
                  </a:lnTo>
                  <a:lnTo>
                    <a:pt x="434" y="372"/>
                  </a:lnTo>
                  <a:lnTo>
                    <a:pt x="473" y="377"/>
                  </a:lnTo>
                  <a:lnTo>
                    <a:pt x="512" y="382"/>
                  </a:lnTo>
                  <a:lnTo>
                    <a:pt x="551" y="385"/>
                  </a:lnTo>
                  <a:lnTo>
                    <a:pt x="590" y="385"/>
                  </a:lnTo>
                  <a:lnTo>
                    <a:pt x="629" y="385"/>
                  </a:lnTo>
                  <a:lnTo>
                    <a:pt x="667" y="382"/>
                  </a:lnTo>
                  <a:lnTo>
                    <a:pt x="705" y="378"/>
                  </a:lnTo>
                  <a:lnTo>
                    <a:pt x="743" y="373"/>
                  </a:lnTo>
                  <a:lnTo>
                    <a:pt x="780" y="366"/>
                  </a:lnTo>
                  <a:lnTo>
                    <a:pt x="817" y="358"/>
                  </a:lnTo>
                  <a:lnTo>
                    <a:pt x="852" y="347"/>
                  </a:lnTo>
                  <a:lnTo>
                    <a:pt x="887" y="337"/>
                  </a:lnTo>
                  <a:lnTo>
                    <a:pt x="922" y="324"/>
                  </a:lnTo>
                  <a:lnTo>
                    <a:pt x="955" y="310"/>
                  </a:lnTo>
                  <a:lnTo>
                    <a:pt x="989" y="296"/>
                  </a:lnTo>
                  <a:lnTo>
                    <a:pt x="1021" y="279"/>
                  </a:lnTo>
                  <a:lnTo>
                    <a:pt x="1054" y="262"/>
                  </a:lnTo>
                  <a:lnTo>
                    <a:pt x="1084" y="242"/>
                  </a:lnTo>
                  <a:lnTo>
                    <a:pt x="1115" y="223"/>
                  </a:lnTo>
                  <a:lnTo>
                    <a:pt x="1143" y="201"/>
                  </a:lnTo>
                  <a:lnTo>
                    <a:pt x="962" y="178"/>
                  </a:lnTo>
                  <a:lnTo>
                    <a:pt x="996" y="0"/>
                  </a:lnTo>
                  <a:close/>
                </a:path>
              </a:pathLst>
            </a:custGeom>
            <a:gradFill rotWithShape="0">
              <a:gsLst>
                <a:gs pos="0">
                  <a:srgbClr val="92d050"/>
                </a:gs>
                <a:gs pos="100000">
                  <a:srgbClr val="619527"/>
                </a:gs>
              </a:gsLst>
              <a:lin ang="2400000"/>
            </a:gradFill>
            <a:ln w="9360">
              <a:solidFill>
                <a:srgbClr val="619527"/>
              </a:solidFill>
              <a:round/>
            </a:ln>
            <a:effectLst>
              <a:outerShdw dist="23040" dir="5400000" blurRad="0" rotWithShape="0">
                <a:srgbClr val="000000">
                  <a:alpha val="3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60"/>
            <p:cNvSpPr/>
            <p:nvPr/>
          </p:nvSpPr>
          <p:spPr>
            <a:xfrm>
              <a:off x="2081160" y="2392200"/>
              <a:ext cx="1309680" cy="2873160"/>
            </a:xfrm>
            <a:custGeom>
              <a:avLst/>
              <a:gdLst>
                <a:gd name="textAreaLeft" fmla="*/ 0 w 1309680"/>
                <a:gd name="textAreaRight" fmla="*/ 1310040 w 1309680"/>
                <a:gd name="textAreaTop" fmla="*/ 0 h 2873160"/>
                <a:gd name="textAreaBottom" fmla="*/ 2873520 h 2873160"/>
              </a:gdLst>
              <a:ahLst/>
              <a:rect l="textAreaLeft" t="textAreaTop" r="textAreaRight" b="textAreaBottom"/>
              <a:pathLst>
                <a:path w="490" h="1074">
                  <a:moveTo>
                    <a:pt x="490" y="886"/>
                  </a:moveTo>
                  <a:lnTo>
                    <a:pt x="490" y="886"/>
                  </a:lnTo>
                  <a:lnTo>
                    <a:pt x="463" y="862"/>
                  </a:lnTo>
                  <a:lnTo>
                    <a:pt x="438" y="838"/>
                  </a:lnTo>
                  <a:lnTo>
                    <a:pt x="414" y="812"/>
                  </a:lnTo>
                  <a:lnTo>
                    <a:pt x="392" y="785"/>
                  </a:lnTo>
                  <a:lnTo>
                    <a:pt x="371" y="756"/>
                  </a:lnTo>
                  <a:lnTo>
                    <a:pt x="351" y="726"/>
                  </a:lnTo>
                  <a:lnTo>
                    <a:pt x="333" y="696"/>
                  </a:lnTo>
                  <a:lnTo>
                    <a:pt x="316" y="665"/>
                  </a:lnTo>
                  <a:lnTo>
                    <a:pt x="302" y="632"/>
                  </a:lnTo>
                  <a:lnTo>
                    <a:pt x="289" y="599"/>
                  </a:lnTo>
                  <a:lnTo>
                    <a:pt x="279" y="564"/>
                  </a:lnTo>
                  <a:lnTo>
                    <a:pt x="270" y="529"/>
                  </a:lnTo>
                  <a:lnTo>
                    <a:pt x="262" y="494"/>
                  </a:lnTo>
                  <a:lnTo>
                    <a:pt x="257" y="458"/>
                  </a:lnTo>
                  <a:lnTo>
                    <a:pt x="254" y="420"/>
                  </a:lnTo>
                  <a:lnTo>
                    <a:pt x="253" y="383"/>
                  </a:lnTo>
                  <a:lnTo>
                    <a:pt x="253" y="356"/>
                  </a:lnTo>
                  <a:lnTo>
                    <a:pt x="255" y="328"/>
                  </a:lnTo>
                  <a:lnTo>
                    <a:pt x="258" y="302"/>
                  </a:lnTo>
                  <a:lnTo>
                    <a:pt x="262" y="275"/>
                  </a:lnTo>
                  <a:lnTo>
                    <a:pt x="267" y="249"/>
                  </a:lnTo>
                  <a:lnTo>
                    <a:pt x="272" y="223"/>
                  </a:lnTo>
                  <a:lnTo>
                    <a:pt x="280" y="199"/>
                  </a:lnTo>
                  <a:lnTo>
                    <a:pt x="288" y="174"/>
                  </a:lnTo>
                  <a:lnTo>
                    <a:pt x="211" y="0"/>
                  </a:lnTo>
                  <a:lnTo>
                    <a:pt x="55" y="77"/>
                  </a:lnTo>
                  <a:lnTo>
                    <a:pt x="42" y="113"/>
                  </a:lnTo>
                  <a:lnTo>
                    <a:pt x="31" y="149"/>
                  </a:lnTo>
                  <a:lnTo>
                    <a:pt x="22" y="187"/>
                  </a:lnTo>
                  <a:lnTo>
                    <a:pt x="14" y="226"/>
                  </a:lnTo>
                  <a:lnTo>
                    <a:pt x="8" y="263"/>
                  </a:lnTo>
                  <a:lnTo>
                    <a:pt x="4" y="304"/>
                  </a:lnTo>
                  <a:lnTo>
                    <a:pt x="1" y="343"/>
                  </a:lnTo>
                  <a:lnTo>
                    <a:pt x="0" y="383"/>
                  </a:lnTo>
                  <a:lnTo>
                    <a:pt x="3" y="435"/>
                  </a:lnTo>
                  <a:lnTo>
                    <a:pt x="7" y="485"/>
                  </a:lnTo>
                  <a:lnTo>
                    <a:pt x="13" y="536"/>
                  </a:lnTo>
                  <a:lnTo>
                    <a:pt x="23" y="585"/>
                  </a:lnTo>
                  <a:lnTo>
                    <a:pt x="36" y="633"/>
                  </a:lnTo>
                  <a:lnTo>
                    <a:pt x="51" y="680"/>
                  </a:lnTo>
                  <a:lnTo>
                    <a:pt x="69" y="725"/>
                  </a:lnTo>
                  <a:lnTo>
                    <a:pt x="88" y="770"/>
                  </a:lnTo>
                  <a:lnTo>
                    <a:pt x="110" y="813"/>
                  </a:lnTo>
                  <a:lnTo>
                    <a:pt x="135" y="856"/>
                  </a:lnTo>
                  <a:lnTo>
                    <a:pt x="162" y="896"/>
                  </a:lnTo>
                  <a:lnTo>
                    <a:pt x="191" y="935"/>
                  </a:lnTo>
                  <a:lnTo>
                    <a:pt x="222" y="973"/>
                  </a:lnTo>
                  <a:lnTo>
                    <a:pt x="254" y="1008"/>
                  </a:lnTo>
                  <a:lnTo>
                    <a:pt x="288" y="1043"/>
                  </a:lnTo>
                  <a:lnTo>
                    <a:pt x="324" y="1074"/>
                  </a:lnTo>
                  <a:lnTo>
                    <a:pt x="298" y="909"/>
                  </a:lnTo>
                  <a:lnTo>
                    <a:pt x="490" y="886"/>
                  </a:lnTo>
                  <a:close/>
                </a:path>
              </a:pathLst>
            </a:custGeom>
            <a:gradFill rotWithShape="0">
              <a:gsLst>
                <a:gs pos="0">
                  <a:srgbClr val="92d050"/>
                </a:gs>
                <a:gs pos="100000">
                  <a:srgbClr val="619527"/>
                </a:gs>
              </a:gsLst>
              <a:lin ang="5400000"/>
            </a:gradFill>
            <a:ln w="9360">
              <a:solidFill>
                <a:srgbClr val="619527"/>
              </a:solidFill>
              <a:round/>
            </a:ln>
            <a:effectLst>
              <a:outerShdw dist="23040" dir="5400000" blurRad="0" rotWithShape="0">
                <a:srgbClr val="000000">
                  <a:alpha val="3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Box 15"/>
          <p:cNvSpPr/>
          <p:nvPr/>
        </p:nvSpPr>
        <p:spPr>
          <a:xfrm rot="2295600">
            <a:off x="5204160" y="1690560"/>
            <a:ext cx="13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7"/>
          <p:cNvSpPr/>
          <p:nvPr/>
        </p:nvSpPr>
        <p:spPr>
          <a:xfrm rot="19630800">
            <a:off x="2745720" y="1479600"/>
            <a:ext cx="13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8"/>
          <p:cNvSpPr/>
          <p:nvPr/>
        </p:nvSpPr>
        <p:spPr>
          <a:xfrm rot="15219000">
            <a:off x="1827000" y="3687840"/>
            <a:ext cx="13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9"/>
          <p:cNvSpPr/>
          <p:nvPr/>
        </p:nvSpPr>
        <p:spPr>
          <a:xfrm rot="6909000">
            <a:off x="5855040" y="3926520"/>
            <a:ext cx="13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0"/>
          <p:cNvSpPr/>
          <p:nvPr/>
        </p:nvSpPr>
        <p:spPr>
          <a:xfrm>
            <a:off x="3784680" y="5257800"/>
            <a:ext cx="13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Oval 21"/>
          <p:cNvGrpSpPr/>
          <p:nvPr/>
        </p:nvGrpSpPr>
        <p:grpSpPr>
          <a:xfrm>
            <a:off x="3395520" y="1914480"/>
            <a:ext cx="2292480" cy="1414440"/>
            <a:chOff x="3395520" y="1914480"/>
            <a:chExt cx="2292480" cy="1414440"/>
          </a:xfrm>
        </p:grpSpPr>
        <p:pic>
          <p:nvPicPr>
            <p:cNvPr id="213" name="Oval 21" descr=""/>
            <p:cNvPicPr/>
            <p:nvPr/>
          </p:nvPicPr>
          <p:blipFill>
            <a:blip r:embed="rId2"/>
            <a:stretch/>
          </p:blipFill>
          <p:spPr>
            <a:xfrm>
              <a:off x="3395520" y="1914480"/>
              <a:ext cx="22924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3736800" y="2124000"/>
              <a:ext cx="1609920" cy="9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228"/>
          <p:cNvGrpSpPr/>
          <p:nvPr/>
        </p:nvGrpSpPr>
        <p:grpSpPr>
          <a:xfrm>
            <a:off x="3470400" y="2315880"/>
            <a:ext cx="2219040" cy="2246760"/>
            <a:chOff x="3470400" y="2315880"/>
            <a:chExt cx="2219040" cy="2246760"/>
          </a:xfrm>
        </p:grpSpPr>
        <p:grpSp>
          <p:nvGrpSpPr>
            <p:cNvPr id="216" name="Freeform 29"/>
            <p:cNvGrpSpPr/>
            <p:nvPr/>
          </p:nvGrpSpPr>
          <p:grpSpPr>
            <a:xfrm>
              <a:off x="3950280" y="3383280"/>
              <a:ext cx="493560" cy="335160"/>
              <a:chOff x="3950280" y="3383280"/>
              <a:chExt cx="493560" cy="335160"/>
            </a:xfrm>
          </p:grpSpPr>
          <p:pic>
            <p:nvPicPr>
              <p:cNvPr id="217" name="Freeform 2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50280" y="3383280"/>
                <a:ext cx="49356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8" name=""/>
              <p:cNvSpPr/>
              <p:nvPr/>
            </p:nvSpPr>
            <p:spPr>
              <a:xfrm>
                <a:off x="3957480" y="3388680"/>
                <a:ext cx="47880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Group 214"/>
            <p:cNvGrpSpPr/>
            <p:nvPr/>
          </p:nvGrpSpPr>
          <p:grpSpPr>
            <a:xfrm>
              <a:off x="3470400" y="2315880"/>
              <a:ext cx="2219040" cy="2246760"/>
              <a:chOff x="3470400" y="2315880"/>
              <a:chExt cx="2219040" cy="2246760"/>
            </a:xfrm>
          </p:grpSpPr>
          <p:sp>
            <p:nvSpPr>
              <p:cNvPr id="220" name="Freeform 26"/>
              <p:cNvSpPr/>
              <p:nvPr/>
            </p:nvSpPr>
            <p:spPr>
              <a:xfrm>
                <a:off x="4287960" y="3137760"/>
                <a:ext cx="525240" cy="306000"/>
              </a:xfrm>
              <a:custGeom>
                <a:avLst/>
                <a:gdLst>
                  <a:gd name="textAreaLeft" fmla="*/ 0 w 525240"/>
                  <a:gd name="textAreaRight" fmla="*/ 525240 w 52524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5092" h="3018">
                    <a:moveTo>
                      <a:pt x="0" y="1502"/>
                    </a:moveTo>
                    <a:lnTo>
                      <a:pt x="0" y="1502"/>
                    </a:lnTo>
                    <a:lnTo>
                      <a:pt x="8" y="1484"/>
                    </a:lnTo>
                    <a:lnTo>
                      <a:pt x="36" y="1436"/>
                    </a:lnTo>
                    <a:lnTo>
                      <a:pt x="82" y="1362"/>
                    </a:lnTo>
                    <a:lnTo>
                      <a:pt x="112" y="1316"/>
                    </a:lnTo>
                    <a:lnTo>
                      <a:pt x="148" y="1264"/>
                    </a:lnTo>
                    <a:lnTo>
                      <a:pt x="186" y="1210"/>
                    </a:lnTo>
                    <a:lnTo>
                      <a:pt x="232" y="1150"/>
                    </a:lnTo>
                    <a:lnTo>
                      <a:pt x="282" y="1088"/>
                    </a:lnTo>
                    <a:lnTo>
                      <a:pt x="336" y="1022"/>
                    </a:lnTo>
                    <a:lnTo>
                      <a:pt x="396" y="956"/>
                    </a:lnTo>
                    <a:lnTo>
                      <a:pt x="462" y="886"/>
                    </a:lnTo>
                    <a:lnTo>
                      <a:pt x="532" y="816"/>
                    </a:lnTo>
                    <a:lnTo>
                      <a:pt x="608" y="746"/>
                    </a:lnTo>
                    <a:lnTo>
                      <a:pt x="688" y="676"/>
                    </a:lnTo>
                    <a:lnTo>
                      <a:pt x="774" y="606"/>
                    </a:lnTo>
                    <a:lnTo>
                      <a:pt x="866" y="536"/>
                    </a:lnTo>
                    <a:lnTo>
                      <a:pt x="914" y="502"/>
                    </a:lnTo>
                    <a:lnTo>
                      <a:pt x="962" y="470"/>
                    </a:lnTo>
                    <a:lnTo>
                      <a:pt x="1014" y="436"/>
                    </a:lnTo>
                    <a:lnTo>
                      <a:pt x="1066" y="404"/>
                    </a:lnTo>
                    <a:lnTo>
                      <a:pt x="1118" y="372"/>
                    </a:lnTo>
                    <a:lnTo>
                      <a:pt x="1174" y="342"/>
                    </a:lnTo>
                    <a:lnTo>
                      <a:pt x="1230" y="312"/>
                    </a:lnTo>
                    <a:lnTo>
                      <a:pt x="1288" y="284"/>
                    </a:lnTo>
                    <a:lnTo>
                      <a:pt x="1346" y="256"/>
                    </a:lnTo>
                    <a:lnTo>
                      <a:pt x="1406" y="228"/>
                    </a:lnTo>
                    <a:lnTo>
                      <a:pt x="1468" y="204"/>
                    </a:lnTo>
                    <a:lnTo>
                      <a:pt x="1532" y="178"/>
                    </a:lnTo>
                    <a:lnTo>
                      <a:pt x="1596" y="156"/>
                    </a:lnTo>
                    <a:lnTo>
                      <a:pt x="1662" y="134"/>
                    </a:lnTo>
                    <a:lnTo>
                      <a:pt x="1730" y="112"/>
                    </a:lnTo>
                    <a:lnTo>
                      <a:pt x="1798" y="94"/>
                    </a:lnTo>
                    <a:lnTo>
                      <a:pt x="1870" y="76"/>
                    </a:lnTo>
                    <a:lnTo>
                      <a:pt x="1942" y="60"/>
                    </a:lnTo>
                    <a:lnTo>
                      <a:pt x="2014" y="46"/>
                    </a:lnTo>
                    <a:lnTo>
                      <a:pt x="2090" y="34"/>
                    </a:lnTo>
                    <a:lnTo>
                      <a:pt x="2166" y="22"/>
                    </a:lnTo>
                    <a:lnTo>
                      <a:pt x="2244" y="14"/>
                    </a:lnTo>
                    <a:lnTo>
                      <a:pt x="2324" y="8"/>
                    </a:lnTo>
                    <a:lnTo>
                      <a:pt x="2404" y="2"/>
                    </a:lnTo>
                    <a:lnTo>
                      <a:pt x="2486" y="0"/>
                    </a:lnTo>
                    <a:lnTo>
                      <a:pt x="2570" y="0"/>
                    </a:lnTo>
                    <a:lnTo>
                      <a:pt x="2654" y="2"/>
                    </a:lnTo>
                    <a:lnTo>
                      <a:pt x="2736" y="4"/>
                    </a:lnTo>
                    <a:lnTo>
                      <a:pt x="2818" y="10"/>
                    </a:lnTo>
                    <a:lnTo>
                      <a:pt x="2896" y="18"/>
                    </a:lnTo>
                    <a:lnTo>
                      <a:pt x="2974" y="28"/>
                    </a:lnTo>
                    <a:lnTo>
                      <a:pt x="3050" y="40"/>
                    </a:lnTo>
                    <a:lnTo>
                      <a:pt x="3126" y="54"/>
                    </a:lnTo>
                    <a:lnTo>
                      <a:pt x="3198" y="68"/>
                    </a:lnTo>
                    <a:lnTo>
                      <a:pt x="3270" y="86"/>
                    </a:lnTo>
                    <a:lnTo>
                      <a:pt x="3340" y="104"/>
                    </a:lnTo>
                    <a:lnTo>
                      <a:pt x="3408" y="124"/>
                    </a:lnTo>
                    <a:lnTo>
                      <a:pt x="3474" y="146"/>
                    </a:lnTo>
                    <a:lnTo>
                      <a:pt x="3540" y="168"/>
                    </a:lnTo>
                    <a:lnTo>
                      <a:pt x="3604" y="192"/>
                    </a:lnTo>
                    <a:lnTo>
                      <a:pt x="3666" y="218"/>
                    </a:lnTo>
                    <a:lnTo>
                      <a:pt x="3728" y="244"/>
                    </a:lnTo>
                    <a:lnTo>
                      <a:pt x="3786" y="270"/>
                    </a:lnTo>
                    <a:lnTo>
                      <a:pt x="3844" y="300"/>
                    </a:lnTo>
                    <a:lnTo>
                      <a:pt x="3902" y="328"/>
                    </a:lnTo>
                    <a:lnTo>
                      <a:pt x="3956" y="360"/>
                    </a:lnTo>
                    <a:lnTo>
                      <a:pt x="4010" y="390"/>
                    </a:lnTo>
                    <a:lnTo>
                      <a:pt x="4062" y="422"/>
                    </a:lnTo>
                    <a:lnTo>
                      <a:pt x="4112" y="456"/>
                    </a:lnTo>
                    <a:lnTo>
                      <a:pt x="4162" y="488"/>
                    </a:lnTo>
                    <a:lnTo>
                      <a:pt x="4210" y="522"/>
                    </a:lnTo>
                    <a:lnTo>
                      <a:pt x="4258" y="556"/>
                    </a:lnTo>
                    <a:lnTo>
                      <a:pt x="4346" y="626"/>
                    </a:lnTo>
                    <a:lnTo>
                      <a:pt x="4430" y="696"/>
                    </a:lnTo>
                    <a:lnTo>
                      <a:pt x="4508" y="768"/>
                    </a:lnTo>
                    <a:lnTo>
                      <a:pt x="4582" y="840"/>
                    </a:lnTo>
                    <a:lnTo>
                      <a:pt x="4650" y="910"/>
                    </a:lnTo>
                    <a:lnTo>
                      <a:pt x="4712" y="980"/>
                    </a:lnTo>
                    <a:lnTo>
                      <a:pt x="4770" y="1046"/>
                    </a:lnTo>
                    <a:lnTo>
                      <a:pt x="4822" y="1112"/>
                    </a:lnTo>
                    <a:lnTo>
                      <a:pt x="4870" y="1176"/>
                    </a:lnTo>
                    <a:lnTo>
                      <a:pt x="4914" y="1234"/>
                    </a:lnTo>
                    <a:lnTo>
                      <a:pt x="4952" y="1290"/>
                    </a:lnTo>
                    <a:lnTo>
                      <a:pt x="4984" y="1342"/>
                    </a:lnTo>
                    <a:lnTo>
                      <a:pt x="5014" y="1388"/>
                    </a:lnTo>
                    <a:lnTo>
                      <a:pt x="5056" y="1462"/>
                    </a:lnTo>
                    <a:lnTo>
                      <a:pt x="5082" y="1510"/>
                    </a:lnTo>
                    <a:lnTo>
                      <a:pt x="5092" y="1526"/>
                    </a:lnTo>
                    <a:lnTo>
                      <a:pt x="5082" y="1542"/>
                    </a:lnTo>
                    <a:lnTo>
                      <a:pt x="5054" y="1588"/>
                    </a:lnTo>
                    <a:lnTo>
                      <a:pt x="5008" y="1658"/>
                    </a:lnTo>
                    <a:lnTo>
                      <a:pt x="4944" y="1750"/>
                    </a:lnTo>
                    <a:lnTo>
                      <a:pt x="4904" y="1804"/>
                    </a:lnTo>
                    <a:lnTo>
                      <a:pt x="4860" y="1860"/>
                    </a:lnTo>
                    <a:lnTo>
                      <a:pt x="4812" y="1920"/>
                    </a:lnTo>
                    <a:lnTo>
                      <a:pt x="4758" y="1982"/>
                    </a:lnTo>
                    <a:lnTo>
                      <a:pt x="4698" y="2046"/>
                    </a:lnTo>
                    <a:lnTo>
                      <a:pt x="4636" y="2112"/>
                    </a:lnTo>
                    <a:lnTo>
                      <a:pt x="4568" y="2180"/>
                    </a:lnTo>
                    <a:lnTo>
                      <a:pt x="4494" y="2248"/>
                    </a:lnTo>
                    <a:lnTo>
                      <a:pt x="4416" y="2316"/>
                    </a:lnTo>
                    <a:lnTo>
                      <a:pt x="4334" y="2384"/>
                    </a:lnTo>
                    <a:lnTo>
                      <a:pt x="4246" y="2452"/>
                    </a:lnTo>
                    <a:lnTo>
                      <a:pt x="4154" y="2516"/>
                    </a:lnTo>
                    <a:lnTo>
                      <a:pt x="4056" y="2580"/>
                    </a:lnTo>
                    <a:lnTo>
                      <a:pt x="4004" y="2612"/>
                    </a:lnTo>
                    <a:lnTo>
                      <a:pt x="3952" y="2642"/>
                    </a:lnTo>
                    <a:lnTo>
                      <a:pt x="3900" y="2672"/>
                    </a:lnTo>
                    <a:lnTo>
                      <a:pt x="3846" y="2702"/>
                    </a:lnTo>
                    <a:lnTo>
                      <a:pt x="3790" y="2730"/>
                    </a:lnTo>
                    <a:lnTo>
                      <a:pt x="3732" y="2756"/>
                    </a:lnTo>
                    <a:lnTo>
                      <a:pt x="3674" y="2782"/>
                    </a:lnTo>
                    <a:lnTo>
                      <a:pt x="3614" y="2808"/>
                    </a:lnTo>
                    <a:lnTo>
                      <a:pt x="3554" y="2832"/>
                    </a:lnTo>
                    <a:lnTo>
                      <a:pt x="3492" y="2856"/>
                    </a:lnTo>
                    <a:lnTo>
                      <a:pt x="3428" y="2876"/>
                    </a:lnTo>
                    <a:lnTo>
                      <a:pt x="3364" y="2898"/>
                    </a:lnTo>
                    <a:lnTo>
                      <a:pt x="3298" y="2916"/>
                    </a:lnTo>
                    <a:lnTo>
                      <a:pt x="3230" y="2934"/>
                    </a:lnTo>
                    <a:lnTo>
                      <a:pt x="3162" y="2950"/>
                    </a:lnTo>
                    <a:lnTo>
                      <a:pt x="3092" y="2964"/>
                    </a:lnTo>
                    <a:lnTo>
                      <a:pt x="3022" y="2978"/>
                    </a:lnTo>
                    <a:lnTo>
                      <a:pt x="2950" y="2988"/>
                    </a:lnTo>
                    <a:lnTo>
                      <a:pt x="2876" y="2998"/>
                    </a:lnTo>
                    <a:lnTo>
                      <a:pt x="2800" y="3006"/>
                    </a:lnTo>
                    <a:lnTo>
                      <a:pt x="2724" y="3012"/>
                    </a:lnTo>
                    <a:lnTo>
                      <a:pt x="2648" y="3016"/>
                    </a:lnTo>
                    <a:lnTo>
                      <a:pt x="2570" y="3018"/>
                    </a:lnTo>
                    <a:lnTo>
                      <a:pt x="2494" y="3018"/>
                    </a:lnTo>
                    <a:lnTo>
                      <a:pt x="2418" y="3016"/>
                    </a:lnTo>
                    <a:lnTo>
                      <a:pt x="2344" y="3012"/>
                    </a:lnTo>
                    <a:lnTo>
                      <a:pt x="2270" y="3006"/>
                    </a:lnTo>
                    <a:lnTo>
                      <a:pt x="2198" y="3000"/>
                    </a:lnTo>
                    <a:lnTo>
                      <a:pt x="2128" y="2990"/>
                    </a:lnTo>
                    <a:lnTo>
                      <a:pt x="2058" y="2980"/>
                    </a:lnTo>
                    <a:lnTo>
                      <a:pt x="1990" y="2968"/>
                    </a:lnTo>
                    <a:lnTo>
                      <a:pt x="1922" y="2954"/>
                    </a:lnTo>
                    <a:lnTo>
                      <a:pt x="1856" y="2938"/>
                    </a:lnTo>
                    <a:lnTo>
                      <a:pt x="1790" y="2922"/>
                    </a:lnTo>
                    <a:lnTo>
                      <a:pt x="1726" y="2904"/>
                    </a:lnTo>
                    <a:lnTo>
                      <a:pt x="1664" y="2884"/>
                    </a:lnTo>
                    <a:lnTo>
                      <a:pt x="1602" y="2864"/>
                    </a:lnTo>
                    <a:lnTo>
                      <a:pt x="1540" y="2842"/>
                    </a:lnTo>
                    <a:lnTo>
                      <a:pt x="1482" y="2820"/>
                    </a:lnTo>
                    <a:lnTo>
                      <a:pt x="1422" y="2796"/>
                    </a:lnTo>
                    <a:lnTo>
                      <a:pt x="1366" y="2770"/>
                    </a:lnTo>
                    <a:lnTo>
                      <a:pt x="1310" y="2744"/>
                    </a:lnTo>
                    <a:lnTo>
                      <a:pt x="1254" y="2718"/>
                    </a:lnTo>
                    <a:lnTo>
                      <a:pt x="1200" y="2690"/>
                    </a:lnTo>
                    <a:lnTo>
                      <a:pt x="1148" y="2662"/>
                    </a:lnTo>
                    <a:lnTo>
                      <a:pt x="1096" y="2632"/>
                    </a:lnTo>
                    <a:lnTo>
                      <a:pt x="998" y="2572"/>
                    </a:lnTo>
                    <a:lnTo>
                      <a:pt x="902" y="2508"/>
                    </a:lnTo>
                    <a:lnTo>
                      <a:pt x="812" y="2444"/>
                    </a:lnTo>
                    <a:lnTo>
                      <a:pt x="726" y="2378"/>
                    </a:lnTo>
                    <a:lnTo>
                      <a:pt x="646" y="2312"/>
                    </a:lnTo>
                    <a:lnTo>
                      <a:pt x="570" y="2244"/>
                    </a:lnTo>
                    <a:lnTo>
                      <a:pt x="498" y="2176"/>
                    </a:lnTo>
                    <a:lnTo>
                      <a:pt x="432" y="2110"/>
                    </a:lnTo>
                    <a:lnTo>
                      <a:pt x="368" y="2044"/>
                    </a:lnTo>
                    <a:lnTo>
                      <a:pt x="312" y="1978"/>
                    </a:lnTo>
                    <a:lnTo>
                      <a:pt x="258" y="1916"/>
                    </a:lnTo>
                    <a:lnTo>
                      <a:pt x="210" y="1854"/>
                    </a:lnTo>
                    <a:lnTo>
                      <a:pt x="168" y="1796"/>
                    </a:lnTo>
                    <a:lnTo>
                      <a:pt x="130" y="1742"/>
                    </a:lnTo>
                    <a:lnTo>
                      <a:pt x="96" y="1690"/>
                    </a:lnTo>
                    <a:lnTo>
                      <a:pt x="66" y="1642"/>
                    </a:lnTo>
                    <a:lnTo>
                      <a:pt x="42" y="1600"/>
                    </a:lnTo>
                    <a:lnTo>
                      <a:pt x="24" y="1562"/>
                    </a:lnTo>
                    <a:lnTo>
                      <a:pt x="10" y="1528"/>
                    </a:lnTo>
                    <a:lnTo>
                      <a:pt x="0" y="15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ec234"/>
                  </a:gs>
                  <a:gs pos="100000">
                    <a:srgbClr val="6195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1" name="Freeform 27"/>
              <p:cNvGrpSpPr/>
              <p:nvPr/>
            </p:nvGrpSpPr>
            <p:grpSpPr>
              <a:xfrm>
                <a:off x="4652640" y="2735280"/>
                <a:ext cx="533520" cy="404640"/>
                <a:chOff x="4652640" y="2735280"/>
                <a:chExt cx="533520" cy="404640"/>
              </a:xfrm>
            </p:grpSpPr>
            <p:pic>
              <p:nvPicPr>
                <p:cNvPr id="222" name="Freeform 27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652640" y="2735280"/>
                  <a:ext cx="533520" cy="404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3" name=""/>
                <p:cNvSpPr/>
                <p:nvPr/>
              </p:nvSpPr>
              <p:spPr>
                <a:xfrm>
                  <a:off x="4660200" y="2738880"/>
                  <a:ext cx="52200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Freeform 28"/>
              <p:cNvGrpSpPr/>
              <p:nvPr/>
            </p:nvGrpSpPr>
            <p:grpSpPr>
              <a:xfrm>
                <a:off x="3900600" y="2735280"/>
                <a:ext cx="533520" cy="404640"/>
                <a:chOff x="3900600" y="2735280"/>
                <a:chExt cx="533520" cy="404640"/>
              </a:xfrm>
            </p:grpSpPr>
            <p:pic>
              <p:nvPicPr>
                <p:cNvPr id="225" name="Freeform 28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900600" y="2735280"/>
                  <a:ext cx="533520" cy="404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6" name=""/>
                <p:cNvSpPr/>
                <p:nvPr/>
              </p:nvSpPr>
              <p:spPr>
                <a:xfrm>
                  <a:off x="3905640" y="2738880"/>
                  <a:ext cx="521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Freeform 30"/>
              <p:cNvGrpSpPr/>
              <p:nvPr/>
            </p:nvGrpSpPr>
            <p:grpSpPr>
              <a:xfrm>
                <a:off x="3597480" y="3033000"/>
                <a:ext cx="594000" cy="374760"/>
                <a:chOff x="3597480" y="3033000"/>
                <a:chExt cx="594000" cy="374760"/>
              </a:xfrm>
            </p:grpSpPr>
            <p:pic>
              <p:nvPicPr>
                <p:cNvPr id="228" name="Freeform 30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597480" y="3033000"/>
                  <a:ext cx="594000" cy="374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9" name=""/>
                <p:cNvSpPr/>
                <p:nvPr/>
              </p:nvSpPr>
              <p:spPr>
                <a:xfrm>
                  <a:off x="3605400" y="3038400"/>
                  <a:ext cx="5788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Freeform 31"/>
              <p:cNvGrpSpPr/>
              <p:nvPr/>
            </p:nvGrpSpPr>
            <p:grpSpPr>
              <a:xfrm>
                <a:off x="4889160" y="3033000"/>
                <a:ext cx="594000" cy="374760"/>
                <a:chOff x="4889160" y="3033000"/>
                <a:chExt cx="594000" cy="374760"/>
              </a:xfrm>
            </p:grpSpPr>
            <p:pic>
              <p:nvPicPr>
                <p:cNvPr id="231" name="Freeform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889160" y="3033000"/>
                  <a:ext cx="594000" cy="374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2" name=""/>
                <p:cNvSpPr/>
                <p:nvPr/>
              </p:nvSpPr>
              <p:spPr>
                <a:xfrm>
                  <a:off x="4897080" y="3038400"/>
                  <a:ext cx="5788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Freeform 32"/>
              <p:cNvGrpSpPr/>
              <p:nvPr/>
            </p:nvGrpSpPr>
            <p:grpSpPr>
              <a:xfrm>
                <a:off x="4671000" y="3396240"/>
                <a:ext cx="576000" cy="386640"/>
                <a:chOff x="4671000" y="3396240"/>
                <a:chExt cx="576000" cy="386640"/>
              </a:xfrm>
            </p:grpSpPr>
            <p:pic>
              <p:nvPicPr>
                <p:cNvPr id="234" name="Freeform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671000" y="3396240"/>
                  <a:ext cx="57600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5" name=""/>
                <p:cNvSpPr/>
                <p:nvPr/>
              </p:nvSpPr>
              <p:spPr>
                <a:xfrm>
                  <a:off x="4674600" y="3403800"/>
                  <a:ext cx="567720" cy="37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Freeform 33"/>
              <p:cNvGrpSpPr/>
              <p:nvPr/>
            </p:nvGrpSpPr>
            <p:grpSpPr>
              <a:xfrm>
                <a:off x="4361760" y="2426040"/>
                <a:ext cx="363600" cy="601200"/>
                <a:chOff x="4361760" y="2426040"/>
                <a:chExt cx="363600" cy="601200"/>
              </a:xfrm>
            </p:grpSpPr>
            <p:pic>
              <p:nvPicPr>
                <p:cNvPr id="237" name="Freeform 3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361760" y="2426040"/>
                  <a:ext cx="363600" cy="601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8" name=""/>
                <p:cNvSpPr/>
                <p:nvPr/>
              </p:nvSpPr>
              <p:spPr>
                <a:xfrm>
                  <a:off x="4365360" y="2429640"/>
                  <a:ext cx="356760" cy="59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Freeform 34"/>
              <p:cNvGrpSpPr/>
              <p:nvPr/>
            </p:nvGrpSpPr>
            <p:grpSpPr>
              <a:xfrm>
                <a:off x="4252320" y="3473640"/>
                <a:ext cx="594000" cy="1089000"/>
                <a:chOff x="4252320" y="3473640"/>
                <a:chExt cx="594000" cy="1089000"/>
              </a:xfrm>
            </p:grpSpPr>
            <p:pic>
              <p:nvPicPr>
                <p:cNvPr id="240" name="Freeform 3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252320" y="3473640"/>
                  <a:ext cx="594000" cy="108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1" name=""/>
                <p:cNvSpPr/>
                <p:nvPr/>
              </p:nvSpPr>
              <p:spPr>
                <a:xfrm>
                  <a:off x="4256280" y="3478320"/>
                  <a:ext cx="585360" cy="108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Freeform 32"/>
              <p:cNvGrpSpPr/>
              <p:nvPr/>
            </p:nvGrpSpPr>
            <p:grpSpPr>
              <a:xfrm>
                <a:off x="5234760" y="3420000"/>
                <a:ext cx="454680" cy="297360"/>
                <a:chOff x="5234760" y="3420000"/>
                <a:chExt cx="454680" cy="297360"/>
              </a:xfrm>
            </p:grpSpPr>
            <p:pic>
              <p:nvPicPr>
                <p:cNvPr id="243" name="Freeform 32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5234760" y="3420000"/>
                  <a:ext cx="454680" cy="297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4" name=""/>
                <p:cNvSpPr/>
                <p:nvPr/>
              </p:nvSpPr>
              <p:spPr>
                <a:xfrm>
                  <a:off x="5241960" y="3424320"/>
                  <a:ext cx="443520" cy="28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Freeform 32"/>
              <p:cNvGrpSpPr/>
              <p:nvPr/>
            </p:nvGrpSpPr>
            <p:grpSpPr>
              <a:xfrm>
                <a:off x="4704480" y="3753000"/>
                <a:ext cx="326520" cy="303840"/>
                <a:chOff x="4704480" y="3753000"/>
                <a:chExt cx="326520" cy="303840"/>
              </a:xfrm>
            </p:grpSpPr>
            <p:pic>
              <p:nvPicPr>
                <p:cNvPr id="246" name="Freeform 32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761000" y="3771000"/>
                  <a:ext cx="214920" cy="267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7" name=""/>
                <p:cNvSpPr/>
                <p:nvPr/>
              </p:nvSpPr>
              <p:spPr>
                <a:xfrm rot="1659600">
                  <a:off x="4737240" y="3801600"/>
                  <a:ext cx="260640" cy="20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Freeform 32"/>
              <p:cNvGrpSpPr/>
              <p:nvPr/>
            </p:nvGrpSpPr>
            <p:grpSpPr>
              <a:xfrm>
                <a:off x="5209920" y="2713320"/>
                <a:ext cx="340200" cy="340920"/>
                <a:chOff x="5209920" y="2713320"/>
                <a:chExt cx="340200" cy="340920"/>
              </a:xfrm>
            </p:grpSpPr>
            <p:pic>
              <p:nvPicPr>
                <p:cNvPr id="249" name="Freeform 32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5210640" y="2792520"/>
                  <a:ext cx="339480" cy="182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0" name=""/>
                <p:cNvSpPr/>
                <p:nvPr/>
              </p:nvSpPr>
              <p:spPr>
                <a:xfrm rot="18793200">
                  <a:off x="5254920" y="2767680"/>
                  <a:ext cx="249840" cy="23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Freeform 32"/>
              <p:cNvGrpSpPr/>
              <p:nvPr/>
            </p:nvGrpSpPr>
            <p:grpSpPr>
              <a:xfrm>
                <a:off x="3470400" y="2741400"/>
                <a:ext cx="442440" cy="285480"/>
                <a:chOff x="3470400" y="2741400"/>
                <a:chExt cx="442440" cy="285480"/>
              </a:xfrm>
            </p:grpSpPr>
            <p:pic>
              <p:nvPicPr>
                <p:cNvPr id="252" name="Freeform 32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3470400" y="2741400"/>
                  <a:ext cx="44244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3" name=""/>
                <p:cNvSpPr/>
                <p:nvPr/>
              </p:nvSpPr>
              <p:spPr>
                <a:xfrm>
                  <a:off x="3477960" y="2745360"/>
                  <a:ext cx="427680" cy="27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Freeform 32"/>
              <p:cNvGrpSpPr/>
              <p:nvPr/>
            </p:nvGrpSpPr>
            <p:grpSpPr>
              <a:xfrm>
                <a:off x="3939840" y="2315880"/>
                <a:ext cx="443160" cy="429120"/>
                <a:chOff x="3939840" y="2315880"/>
                <a:chExt cx="443160" cy="429120"/>
              </a:xfrm>
            </p:grpSpPr>
            <p:pic>
              <p:nvPicPr>
                <p:cNvPr id="255" name="Freeform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4028760" y="2336760"/>
                  <a:ext cx="26064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6" name=""/>
                <p:cNvSpPr/>
                <p:nvPr/>
              </p:nvSpPr>
              <p:spPr>
                <a:xfrm rot="2041200">
                  <a:off x="3991320" y="2386080"/>
                  <a:ext cx="339480" cy="28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Freeform 32"/>
              <p:cNvGrpSpPr/>
              <p:nvPr/>
            </p:nvGrpSpPr>
            <p:grpSpPr>
              <a:xfrm>
                <a:off x="4728600" y="2446920"/>
                <a:ext cx="287280" cy="326880"/>
                <a:chOff x="4728600" y="2446920"/>
                <a:chExt cx="287280" cy="326880"/>
              </a:xfrm>
            </p:grpSpPr>
            <p:pic>
              <p:nvPicPr>
                <p:cNvPr id="258" name="Freeform 3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4749840" y="2489760"/>
                  <a:ext cx="248400" cy="241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9" name=""/>
                <p:cNvSpPr/>
                <p:nvPr/>
              </p:nvSpPr>
              <p:spPr>
                <a:xfrm rot="6534000">
                  <a:off x="4735440" y="2505240"/>
                  <a:ext cx="273600" cy="20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Freeform 32"/>
              <p:cNvGrpSpPr/>
              <p:nvPr/>
            </p:nvGrpSpPr>
            <p:grpSpPr>
              <a:xfrm>
                <a:off x="3573360" y="3355200"/>
                <a:ext cx="339480" cy="336600"/>
                <a:chOff x="3573360" y="3355200"/>
                <a:chExt cx="339480" cy="336600"/>
              </a:xfrm>
            </p:grpSpPr>
            <p:pic>
              <p:nvPicPr>
                <p:cNvPr id="261" name="Freeform 32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3573360" y="3436920"/>
                  <a:ext cx="339480" cy="173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2" name=""/>
                <p:cNvSpPr/>
                <p:nvPr/>
              </p:nvSpPr>
              <p:spPr>
                <a:xfrm rot="18793200">
                  <a:off x="3622320" y="3407040"/>
                  <a:ext cx="243720" cy="23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" name="Freeform 32"/>
              <p:cNvGrpSpPr/>
              <p:nvPr/>
            </p:nvGrpSpPr>
            <p:grpSpPr>
              <a:xfrm>
                <a:off x="4179600" y="3705480"/>
                <a:ext cx="236160" cy="345240"/>
                <a:chOff x="4179600" y="3705480"/>
                <a:chExt cx="236160" cy="345240"/>
              </a:xfrm>
            </p:grpSpPr>
            <p:pic>
              <p:nvPicPr>
                <p:cNvPr id="264" name="Freeform 32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4179600" y="3705480"/>
                  <a:ext cx="236160" cy="345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5" name=""/>
                <p:cNvSpPr/>
                <p:nvPr/>
              </p:nvSpPr>
              <p:spPr>
                <a:xfrm rot="5400000">
                  <a:off x="4134240" y="3766680"/>
                  <a:ext cx="331920" cy="22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66" name="Line 33"/>
          <p:cNvSpPr/>
          <p:nvPr/>
        </p:nvSpPr>
        <p:spPr>
          <a:xfrm>
            <a:off x="306360" y="3976560"/>
            <a:ext cx="1800360" cy="0"/>
          </a:xfrm>
          <a:prstGeom prst="line">
            <a:avLst/>
          </a:prstGeom>
          <a:ln w="19080">
            <a:solidFill>
              <a:srgbClr val="35363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ktangel 63"/>
          <p:cNvSpPr/>
          <p:nvPr/>
        </p:nvSpPr>
        <p:spPr>
          <a:xfrm>
            <a:off x="299880" y="3276720"/>
            <a:ext cx="13003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500" spc="-1" strike="noStrike">
                <a:solidFill>
                  <a:srgbClr val="080808"/>
                </a:solidFill>
                <a:latin typeface="Calibri"/>
                <a:ea typeface="Arial"/>
              </a:rPr>
              <a:t>Example 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100" spc="-1" strike="noStrike">
                <a:solidFill>
                  <a:srgbClr val="080808"/>
                </a:solidFill>
                <a:latin typeface="Calibri"/>
                <a:ea typeface="Arial"/>
              </a:rPr>
              <a:t>This is an example tex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ktangel 63"/>
          <p:cNvSpPr/>
          <p:nvPr/>
        </p:nvSpPr>
        <p:spPr>
          <a:xfrm>
            <a:off x="1214280" y="1066680"/>
            <a:ext cx="13003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500" spc="-1" strike="noStrike">
                <a:solidFill>
                  <a:srgbClr val="080808"/>
                </a:solidFill>
                <a:latin typeface="Calibri"/>
                <a:ea typeface="Arial"/>
              </a:rPr>
              <a:t>Example 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100" spc="-1" strike="noStrike">
                <a:solidFill>
                  <a:srgbClr val="080808"/>
                </a:solidFill>
                <a:latin typeface="Calibri"/>
                <a:ea typeface="Arial"/>
              </a:rPr>
              <a:t>This is an example tex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ktangel 63"/>
          <p:cNvSpPr/>
          <p:nvPr/>
        </p:nvSpPr>
        <p:spPr>
          <a:xfrm>
            <a:off x="1428840" y="5003640"/>
            <a:ext cx="129996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500" spc="-1" strike="noStrike">
                <a:solidFill>
                  <a:srgbClr val="080808"/>
                </a:solidFill>
                <a:latin typeface="Calibri"/>
                <a:ea typeface="Arial"/>
              </a:rPr>
              <a:t>Example 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100" spc="-1" strike="noStrike">
                <a:solidFill>
                  <a:srgbClr val="080808"/>
                </a:solidFill>
                <a:latin typeface="Calibri"/>
                <a:ea typeface="Arial"/>
              </a:rPr>
              <a:t>This is an example tex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ktangel 63"/>
          <p:cNvSpPr/>
          <p:nvPr/>
        </p:nvSpPr>
        <p:spPr>
          <a:xfrm>
            <a:off x="6678720" y="1066680"/>
            <a:ext cx="129996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500" spc="-1" strike="noStrike">
                <a:solidFill>
                  <a:srgbClr val="080808"/>
                </a:solidFill>
                <a:latin typeface="Calibri"/>
                <a:ea typeface="Arial"/>
              </a:rPr>
              <a:t>Example 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100" spc="-1" strike="noStrike">
                <a:solidFill>
                  <a:srgbClr val="080808"/>
                </a:solidFill>
                <a:latin typeface="Calibri"/>
                <a:ea typeface="Arial"/>
              </a:rPr>
              <a:t>This is an example tex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ktangel 63"/>
          <p:cNvSpPr/>
          <p:nvPr/>
        </p:nvSpPr>
        <p:spPr>
          <a:xfrm>
            <a:off x="7072200" y="4029120"/>
            <a:ext cx="13003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500" spc="-1" strike="noStrike">
                <a:solidFill>
                  <a:srgbClr val="080808"/>
                </a:solidFill>
                <a:latin typeface="Calibri"/>
                <a:ea typeface="Arial"/>
              </a:rPr>
              <a:t>Example 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100" spc="-1" strike="noStrike">
                <a:solidFill>
                  <a:srgbClr val="080808"/>
                </a:solidFill>
                <a:latin typeface="Calibri"/>
                <a:ea typeface="Arial"/>
              </a:rPr>
              <a:t>This is an example tex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54"/>
          <p:cNvSpPr/>
          <p:nvPr/>
        </p:nvSpPr>
        <p:spPr>
          <a:xfrm>
            <a:off x="233280" y="378000"/>
            <a:ext cx="3100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b-NO" sz="1500" spc="-1" strike="noStrike">
                <a:solidFill>
                  <a:srgbClr val="262626"/>
                </a:solidFill>
                <a:latin typeface="Calibri"/>
              </a:rPr>
              <a:t>CAUSE AND EFFEC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ktangel 39"/>
          <p:cNvSpPr/>
          <p:nvPr/>
        </p:nvSpPr>
        <p:spPr>
          <a:xfrm flipV="1" rot="10800000">
            <a:off x="0" y="-1080"/>
            <a:ext cx="9144000" cy="5165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f3f3f3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Gruppe 16" descr=""/>
          <p:cNvPicPr/>
          <p:nvPr/>
        </p:nvPicPr>
        <p:blipFill>
          <a:blip r:embed="rId1"/>
          <a:stretch/>
        </p:blipFill>
        <p:spPr>
          <a:xfrm>
            <a:off x="2017800" y="1920960"/>
            <a:ext cx="5138640" cy="3773520"/>
          </a:xfrm>
          <a:prstGeom prst="rect">
            <a:avLst/>
          </a:prstGeom>
          <a:ln w="0">
            <a:noFill/>
          </a:ln>
        </p:spPr>
      </p:pic>
      <p:grpSp>
        <p:nvGrpSpPr>
          <p:cNvPr id="275" name="Ellipse 18"/>
          <p:cNvGrpSpPr/>
          <p:nvPr/>
        </p:nvGrpSpPr>
        <p:grpSpPr>
          <a:xfrm>
            <a:off x="2724120" y="5668920"/>
            <a:ext cx="3676680" cy="671400"/>
            <a:chOff x="2724120" y="5668920"/>
            <a:chExt cx="3676680" cy="671400"/>
          </a:xfrm>
        </p:grpSpPr>
        <p:pic>
          <p:nvPicPr>
            <p:cNvPr id="276" name="Ellipse 18" descr=""/>
            <p:cNvPicPr/>
            <p:nvPr/>
          </p:nvPicPr>
          <p:blipFill>
            <a:blip r:embed="rId2"/>
            <a:stretch/>
          </p:blipFill>
          <p:spPr>
            <a:xfrm>
              <a:off x="2724120" y="5668920"/>
              <a:ext cx="367668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3268800" y="5770440"/>
              <a:ext cx="259056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Line 33"/>
          <p:cNvSpPr/>
          <p:nvPr/>
        </p:nvSpPr>
        <p:spPr>
          <a:xfrm>
            <a:off x="831960" y="3079800"/>
            <a:ext cx="1800000" cy="0"/>
          </a:xfrm>
          <a:prstGeom prst="line">
            <a:avLst/>
          </a:prstGeom>
          <a:ln w="19080">
            <a:solidFill>
              <a:srgbClr val="35363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ktangel 28"/>
          <p:cNvSpPr/>
          <p:nvPr/>
        </p:nvSpPr>
        <p:spPr>
          <a:xfrm>
            <a:off x="833400" y="2336760"/>
            <a:ext cx="13003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500" spc="-1" strike="noStrike">
                <a:solidFill>
                  <a:srgbClr val="080808"/>
                </a:solidFill>
                <a:latin typeface="Calibri"/>
                <a:ea typeface="Arial"/>
              </a:rPr>
              <a:t>Example 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100" spc="-1" strike="noStrike">
                <a:solidFill>
                  <a:srgbClr val="080808"/>
                </a:solidFill>
                <a:latin typeface="Calibri"/>
                <a:ea typeface="Arial"/>
              </a:rPr>
              <a:t>This is an example tex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33"/>
          <p:cNvSpPr/>
          <p:nvPr/>
        </p:nvSpPr>
        <p:spPr>
          <a:xfrm>
            <a:off x="5429160" y="4616280"/>
            <a:ext cx="3105360" cy="46080"/>
          </a:xfrm>
          <a:prstGeom prst="line">
            <a:avLst/>
          </a:prstGeom>
          <a:ln w="19080">
            <a:solidFill>
              <a:srgbClr val="35363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ktangel 37"/>
          <p:cNvSpPr/>
          <p:nvPr/>
        </p:nvSpPr>
        <p:spPr>
          <a:xfrm>
            <a:off x="7234200" y="3886200"/>
            <a:ext cx="13003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500" spc="-1" strike="noStrike">
                <a:solidFill>
                  <a:srgbClr val="080808"/>
                </a:solidFill>
                <a:latin typeface="Calibri"/>
                <a:ea typeface="Arial"/>
              </a:rPr>
              <a:t>Example 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100" spc="-1" strike="noStrike">
                <a:solidFill>
                  <a:srgbClr val="080808"/>
                </a:solidFill>
                <a:latin typeface="Calibri"/>
                <a:ea typeface="Arial"/>
              </a:rPr>
              <a:t>This is an example tex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54"/>
          <p:cNvSpPr/>
          <p:nvPr/>
        </p:nvSpPr>
        <p:spPr>
          <a:xfrm>
            <a:off x="233280" y="378000"/>
            <a:ext cx="3100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b-NO" sz="1500" spc="-1" strike="noStrike">
                <a:solidFill>
                  <a:srgbClr val="262626"/>
                </a:solidFill>
                <a:latin typeface="Calibri"/>
              </a:rPr>
              <a:t>PUZZLE </a:t>
            </a:r>
            <a:r>
              <a:rPr b="0" lang="nb-NO" sz="1500" spc="-1" strike="noStrike">
                <a:solidFill>
                  <a:srgbClr val="262626"/>
                </a:solidFill>
                <a:latin typeface="Calibri"/>
              </a:rPr>
              <a:t>PIE CHAR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2200" y="5975280"/>
            <a:ext cx="4803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ppt图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Arc 16"/>
          <p:cNvSpPr/>
          <p:nvPr/>
        </p:nvSpPr>
        <p:spPr>
          <a:xfrm>
            <a:off x="-9156600" y="3009960"/>
            <a:ext cx="18300600" cy="7715160"/>
          </a:xfrm>
          <a:custGeom>
            <a:avLst/>
            <a:gdLst>
              <a:gd name="textAreaLeft" fmla="*/ 9147600 w 18300600"/>
              <a:gd name="textAreaRight" fmla="*/ 18300960 w 18300600"/>
              <a:gd name="textAreaTop" fmla="*/ 0 h 7715160"/>
              <a:gd name="textAreaBottom" fmla="*/ 3878640 h 7715160"/>
            </a:gdLst>
            <a:ahLst/>
            <a:rect l="textAreaLeft" t="textAreaTop" r="textAreaRight" b="textAreaBottom"/>
            <a:pathLst>
              <a:path stroke="0" w="18300700" h="7715250">
                <a:moveTo>
                  <a:pt x="9147715" y="0"/>
                </a:moveTo>
                <a:lnTo>
                  <a:pt x="9147715" y="0"/>
                </a:lnTo>
                <a:arcTo wR="9150350" hR="3857625" stAng="-5402348" swAng="5410301"/>
                <a:lnTo>
                  <a:pt x="9150350" y="3857625"/>
                </a:lnTo>
                <a:close/>
              </a:path>
              <a:path fill="none" w="18300700" h="7715250">
                <a:moveTo>
                  <a:pt x="9147715" y="0"/>
                </a:moveTo>
                <a:lnTo>
                  <a:pt x="9147715" y="0"/>
                </a:lnTo>
                <a:arcTo wR="9150350" hR="3857625" stAng="-5402348" swAng="5410301"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rc 17"/>
          <p:cNvSpPr/>
          <p:nvPr/>
        </p:nvSpPr>
        <p:spPr>
          <a:xfrm>
            <a:off x="-5448240" y="3187800"/>
            <a:ext cx="10896480" cy="7340400"/>
          </a:xfrm>
          <a:custGeom>
            <a:avLst/>
            <a:gdLst>
              <a:gd name="textAreaLeft" fmla="*/ 5449320 w 10896480"/>
              <a:gd name="textAreaRight" fmla="*/ 10896840 w 10896480"/>
              <a:gd name="textAreaTop" fmla="*/ 0 h 7340400"/>
              <a:gd name="textAreaBottom" fmla="*/ 3681360 h 7340400"/>
            </a:gdLst>
            <a:ahLst/>
            <a:rect l="textAreaLeft" t="textAreaTop" r="textAreaRight" b="textAreaBottom"/>
            <a:pathLst>
              <a:path stroke="0" w="10896600" h="7340600">
                <a:moveTo>
                  <a:pt x="5449449" y="0"/>
                </a:moveTo>
                <a:lnTo>
                  <a:pt x="5449449" y="0"/>
                </a:lnTo>
                <a:arcTo wR="5448300" hR="3670300" stAng="-5398924" swAng="5406057"/>
                <a:lnTo>
                  <a:pt x="5448300" y="3670300"/>
                </a:lnTo>
                <a:close/>
              </a:path>
              <a:path fill="none" w="10896600" h="7340600">
                <a:moveTo>
                  <a:pt x="5449449" y="0"/>
                </a:moveTo>
                <a:lnTo>
                  <a:pt x="5449449" y="0"/>
                </a:lnTo>
                <a:arcTo wR="5448300" hR="3670300" stAng="-5398924" swAng="5406057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8" descr="Hotel-And-Restaurant-Table-l.jpg"/>
          <p:cNvPicPr/>
          <p:nvPr/>
        </p:nvPicPr>
        <p:blipFill>
          <a:blip r:embed="rId1"/>
          <a:stretch/>
        </p:blipFill>
        <p:spPr>
          <a:xfrm>
            <a:off x="2127240" y="2432160"/>
            <a:ext cx="1158840" cy="17319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9" descr="Health-Care-Professional-Blue-l.jpg"/>
          <p:cNvPicPr/>
          <p:nvPr/>
        </p:nvPicPr>
        <p:blipFill>
          <a:blip r:embed="rId2"/>
          <a:stretch/>
        </p:blipFill>
        <p:spPr>
          <a:xfrm>
            <a:off x="2328840" y="2481120"/>
            <a:ext cx="1170000" cy="17258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0" descr="World-Wide-Web-Grey-l.jpg"/>
          <p:cNvPicPr/>
          <p:nvPr/>
        </p:nvPicPr>
        <p:blipFill>
          <a:blip r:embed="rId3"/>
          <a:stretch/>
        </p:blipFill>
        <p:spPr>
          <a:xfrm>
            <a:off x="2577960" y="2530440"/>
            <a:ext cx="1262160" cy="18590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1" descr="wedding.jpg"/>
          <p:cNvPicPr/>
          <p:nvPr/>
        </p:nvPicPr>
        <p:blipFill>
          <a:blip r:embed="rId4"/>
          <a:stretch/>
        </p:blipFill>
        <p:spPr>
          <a:xfrm>
            <a:off x="3005280" y="2646360"/>
            <a:ext cx="1218960" cy="18288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2" descr="education.jpg"/>
          <p:cNvPicPr/>
          <p:nvPr/>
        </p:nvPicPr>
        <p:blipFill>
          <a:blip r:embed="rId5"/>
          <a:stretch/>
        </p:blipFill>
        <p:spPr>
          <a:xfrm>
            <a:off x="3255840" y="2676600"/>
            <a:ext cx="1432080" cy="21081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3" descr="science.jpg"/>
          <p:cNvPicPr/>
          <p:nvPr/>
        </p:nvPicPr>
        <p:blipFill>
          <a:blip r:embed="rId6"/>
          <a:stretch/>
        </p:blipFill>
        <p:spPr>
          <a:xfrm>
            <a:off x="3724200" y="2792520"/>
            <a:ext cx="1683000" cy="24746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4" descr="Billede til free sample-templates.jpg"/>
          <p:cNvPicPr/>
          <p:nvPr/>
        </p:nvPicPr>
        <p:blipFill>
          <a:blip r:embed="rId7"/>
          <a:stretch/>
        </p:blipFill>
        <p:spPr>
          <a:xfrm>
            <a:off x="4254480" y="2987640"/>
            <a:ext cx="1897200" cy="28036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25" descr="music.jpg"/>
          <p:cNvPicPr/>
          <p:nvPr/>
        </p:nvPicPr>
        <p:blipFill>
          <a:blip r:embed="rId8"/>
          <a:stretch/>
        </p:blipFill>
        <p:spPr>
          <a:xfrm>
            <a:off x="4876920" y="3468600"/>
            <a:ext cx="2000160" cy="30114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6" descr="buddism.jpg"/>
          <p:cNvPicPr/>
          <p:nvPr/>
        </p:nvPicPr>
        <p:blipFill>
          <a:blip r:embed="rId9"/>
          <a:stretch/>
        </p:blipFill>
        <p:spPr>
          <a:xfrm>
            <a:off x="5321160" y="4078440"/>
            <a:ext cx="2444760" cy="3644640"/>
          </a:xfrm>
          <a:prstGeom prst="rect">
            <a:avLst/>
          </a:prstGeom>
          <a:ln w="0">
            <a:noFill/>
          </a:ln>
        </p:spPr>
      </p:pic>
      <p:sp>
        <p:nvSpPr>
          <p:cNvPr id="295" name="TextBox 54"/>
          <p:cNvSpPr/>
          <p:nvPr/>
        </p:nvSpPr>
        <p:spPr>
          <a:xfrm>
            <a:off x="457200" y="822240"/>
            <a:ext cx="75819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b-NO" sz="2400" spc="-1" strike="noStrike">
                <a:solidFill>
                  <a:srgbClr val="262626"/>
                </a:solidFill>
                <a:latin typeface="Calibri"/>
              </a:rPr>
              <a:t>TEMP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alibri"/>
                <a:ea typeface="Arial"/>
              </a:rPr>
              <a:t>Pre-designed presentations with 22 slid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0" descr="20100802_Medical_Front page 2.jpg"/>
          <p:cNvPicPr/>
          <p:nvPr/>
        </p:nvPicPr>
        <p:blipFill>
          <a:blip r:embed="rId1"/>
          <a:srcRect l="9604" t="0" r="1735" b="0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grpSp>
        <p:nvGrpSpPr>
          <p:cNvPr id="297" name="Gruppe 7"/>
          <p:cNvGrpSpPr/>
          <p:nvPr/>
        </p:nvGrpSpPr>
        <p:grpSpPr>
          <a:xfrm>
            <a:off x="-15840" y="5073480"/>
            <a:ext cx="9159840" cy="1327320"/>
            <a:chOff x="-15840" y="5073480"/>
            <a:chExt cx="9159840" cy="1327320"/>
          </a:xfrm>
        </p:grpSpPr>
        <p:sp>
          <p:nvSpPr>
            <p:cNvPr id="298" name="Rektangel 8"/>
            <p:cNvSpPr/>
            <p:nvPr/>
          </p:nvSpPr>
          <p:spPr>
            <a:xfrm>
              <a:off x="-15840" y="5073480"/>
              <a:ext cx="9159840" cy="1327320"/>
            </a:xfrm>
            <a:prstGeom prst="rect">
              <a:avLst/>
            </a:prstGeom>
            <a:gradFill rotWithShape="0">
              <a:gsLst>
                <a:gs pos="0">
                  <a:srgbClr val="f3f3f3">
                    <a:alpha val="44313"/>
                  </a:srgbClr>
                </a:gs>
                <a:gs pos="100000">
                  <a:srgbClr val="e6e6e6"/>
                </a:gs>
              </a:gsLst>
              <a:lin ang="10800000"/>
            </a:gradFill>
            <a:ln w="9360">
              <a:solidFill>
                <a:srgbClr val="e1e1e1"/>
              </a:solidFill>
              <a:miter/>
            </a:ln>
            <a:effectLst>
              <a:outerShdw dist="23040" dir="5400000" blurRad="0" rotWithShape="0">
                <a:srgbClr val="000000">
                  <a:alpha val="3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4"/>
            <p:cNvSpPr/>
            <p:nvPr/>
          </p:nvSpPr>
          <p:spPr>
            <a:xfrm>
              <a:off x="519120" y="5652360"/>
              <a:ext cx="485280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US" sz="1800" spc="-1" strike="noStrike">
                  <a:solidFill>
                    <a:srgbClr val="171717"/>
                  </a:solidFill>
                  <a:latin typeface="Arial Narrow"/>
                </a:rPr>
                <a:t>Your own sub headline </a:t>
              </a:r>
              <a:r>
                <a:rPr b="0" lang="nb-NO" sz="1800" spc="-1" strike="noStrike">
                  <a:solidFill>
                    <a:srgbClr val="171717"/>
                  </a:solidFill>
                  <a:latin typeface="Arial Narrow"/>
                </a:rPr>
                <a:t> </a:t>
              </a:r>
              <a:r>
                <a:rPr b="0" lang="en-US" sz="1800" spc="-1" strike="noStrike">
                  <a:solidFill>
                    <a:srgbClr val="171717"/>
                  </a:solidFill>
                  <a:latin typeface="Arial Narrow"/>
                </a:rPr>
                <a:t>This is an ex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5"/>
            <p:cNvSpPr/>
            <p:nvPr/>
          </p:nvSpPr>
          <p:spPr>
            <a:xfrm>
              <a:off x="519120" y="5259240"/>
              <a:ext cx="2673360" cy="5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171717"/>
                  </a:solidFill>
                  <a:latin typeface="Arial Narrow"/>
                </a:rPr>
                <a:t>Template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4"/>
          <p:cNvSpPr/>
          <p:nvPr/>
        </p:nvSpPr>
        <p:spPr>
          <a:xfrm>
            <a:off x="531720" y="5965920"/>
            <a:ext cx="15382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 Narrow"/>
              </a:rPr>
              <a:t>Your own foo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6767640" y="5965920"/>
            <a:ext cx="15382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 Narrow"/>
              </a:rPr>
              <a:t>Your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nb-NO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b-NO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nb-NO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nb-NO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nb-NO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nb-NO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nb-NO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nb-NO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nb-NO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nb-NO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nb-NO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nb-NO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nb-NO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nb-NO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nb-NO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nb-NO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nb-NO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nb-NO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nb-NO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nb-NO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nb-NO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nb-NO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nb-NO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nb-NO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b-NO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nb-NO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nb-NO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nb-NO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nb-NO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nb-NO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nb-NO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nb-NO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nb-NO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nb-NO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nb-NO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nb-NO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nb-NO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nb-NO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nb-NO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nb-NO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nb-NO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nb-NO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nb-NO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nb-NO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nb-NO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nb-NO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1041-F1C3-4837-91CC-48D8FE4226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ktangel 70"/>
          <p:cNvSpPr/>
          <p:nvPr/>
        </p:nvSpPr>
        <p:spPr>
          <a:xfrm>
            <a:off x="876240" y="4648320"/>
            <a:ext cx="344520" cy="34452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adadad"/>
              </a:gs>
            </a:gsLst>
            <a:lin ang="5400000"/>
          </a:gradFill>
          <a:ln w="0">
            <a:noFill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ktangel 70"/>
          <p:cNvSpPr/>
          <p:nvPr/>
        </p:nvSpPr>
        <p:spPr>
          <a:xfrm>
            <a:off x="876240" y="5076720"/>
            <a:ext cx="344520" cy="34452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adadad"/>
              </a:gs>
            </a:gsLst>
            <a:lin ang="5400000"/>
          </a:gradFill>
          <a:ln w="0">
            <a:noFill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ktangel 70"/>
          <p:cNvSpPr/>
          <p:nvPr/>
        </p:nvSpPr>
        <p:spPr>
          <a:xfrm>
            <a:off x="876240" y="3786120"/>
            <a:ext cx="344520" cy="34452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adadad"/>
              </a:gs>
            </a:gsLst>
            <a:lin ang="5400000"/>
          </a:gradFill>
          <a:ln w="0">
            <a:noFill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ktangel 70"/>
          <p:cNvSpPr/>
          <p:nvPr/>
        </p:nvSpPr>
        <p:spPr>
          <a:xfrm>
            <a:off x="876240" y="4214880"/>
            <a:ext cx="344520" cy="34452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adadad"/>
              </a:gs>
            </a:gsLst>
            <a:lin ang="5400000"/>
          </a:gradFill>
          <a:ln w="0">
            <a:noFill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ktangel 70"/>
          <p:cNvSpPr/>
          <p:nvPr/>
        </p:nvSpPr>
        <p:spPr>
          <a:xfrm>
            <a:off x="866880" y="2511360"/>
            <a:ext cx="344520" cy="34452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adadad"/>
              </a:gs>
            </a:gsLst>
            <a:lin ang="5400000"/>
          </a:gradFill>
          <a:ln w="0">
            <a:noFill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ktangel 70"/>
          <p:cNvSpPr/>
          <p:nvPr/>
        </p:nvSpPr>
        <p:spPr>
          <a:xfrm>
            <a:off x="866880" y="2936880"/>
            <a:ext cx="344520" cy="34452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adadad"/>
              </a:gs>
            </a:gsLst>
            <a:lin ang="5400000"/>
          </a:gradFill>
          <a:ln w="0">
            <a:noFill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ktangel 75"/>
          <p:cNvSpPr/>
          <p:nvPr/>
        </p:nvSpPr>
        <p:spPr>
          <a:xfrm>
            <a:off x="876240" y="3363840"/>
            <a:ext cx="336600" cy="343080"/>
          </a:xfrm>
          <a:prstGeom prst="rect">
            <a:avLst/>
          </a:prstGeom>
          <a:gradFill rotWithShape="0">
            <a:gsLst>
              <a:gs pos="0">
                <a:srgbClr val="1f88c8"/>
              </a:gs>
              <a:gs pos="100000">
                <a:srgbClr val="78f8ff"/>
              </a:gs>
            </a:gsLst>
            <a:lin ang="8100000"/>
          </a:gradFill>
          <a:ln w="0">
            <a:noFill/>
          </a:ln>
          <a:effectLst>
            <a:outerShdw dist="38183" dir="2700000" blurRad="0" rotWithShape="0">
              <a:srgbClr val="80808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ktangel 75"/>
          <p:cNvSpPr/>
          <p:nvPr/>
        </p:nvSpPr>
        <p:spPr>
          <a:xfrm>
            <a:off x="874800" y="3363840"/>
            <a:ext cx="336600" cy="343080"/>
          </a:xfrm>
          <a:prstGeom prst="rect">
            <a:avLst/>
          </a:prstGeom>
          <a:gradFill rotWithShape="0">
            <a:gsLst>
              <a:gs pos="0">
                <a:srgbClr val="1f88c8"/>
              </a:gs>
              <a:gs pos="100000">
                <a:srgbClr val="78f8ff"/>
              </a:gs>
            </a:gsLst>
            <a:lin ang="8100000"/>
          </a:gradFill>
          <a:ln w="0">
            <a:noFill/>
          </a:ln>
          <a:effectLst>
            <a:outerShdw dist="38183" dir="2700000" blurRad="0" rotWithShape="0">
              <a:srgbClr val="80808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874800" y="1355760"/>
            <a:ext cx="48528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171717"/>
                </a:solidFill>
                <a:latin typeface="Arial Narrow"/>
              </a:rPr>
              <a:t>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874800" y="779400"/>
            <a:ext cx="26733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71717"/>
                </a:solidFill>
                <a:latin typeface="Arial Narrow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6767640" y="6162840"/>
            <a:ext cx="15382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171717"/>
                </a:solidFill>
                <a:latin typeface="Arial Narrow"/>
              </a:rPr>
              <a:t>Your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ktangel 30"/>
          <p:cNvSpPr/>
          <p:nvPr/>
        </p:nvSpPr>
        <p:spPr>
          <a:xfrm>
            <a:off x="1260360" y="2500200"/>
            <a:ext cx="4000680" cy="35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cf9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ktangel 31"/>
          <p:cNvSpPr/>
          <p:nvPr/>
        </p:nvSpPr>
        <p:spPr>
          <a:xfrm>
            <a:off x="1260360" y="5070600"/>
            <a:ext cx="4000680" cy="353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cf9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ktangel 32"/>
          <p:cNvSpPr/>
          <p:nvPr/>
        </p:nvSpPr>
        <p:spPr>
          <a:xfrm>
            <a:off x="1260360" y="3357720"/>
            <a:ext cx="4000680" cy="3524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adadad"/>
              </a:gs>
            </a:gsLst>
            <a:lin ang="5400000"/>
          </a:gradFill>
          <a:ln w="0">
            <a:noFill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ktangel 33"/>
          <p:cNvSpPr/>
          <p:nvPr/>
        </p:nvSpPr>
        <p:spPr>
          <a:xfrm>
            <a:off x="1260360" y="3786120"/>
            <a:ext cx="4000680" cy="352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cf9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ktangel 34"/>
          <p:cNvSpPr/>
          <p:nvPr/>
        </p:nvSpPr>
        <p:spPr>
          <a:xfrm>
            <a:off x="1260360" y="2928960"/>
            <a:ext cx="4000680" cy="352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cf9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ktangel 35"/>
          <p:cNvSpPr/>
          <p:nvPr/>
        </p:nvSpPr>
        <p:spPr>
          <a:xfrm>
            <a:off x="1260360" y="4214880"/>
            <a:ext cx="4000680" cy="352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cf9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ktangel 36"/>
          <p:cNvSpPr/>
          <p:nvPr/>
        </p:nvSpPr>
        <p:spPr>
          <a:xfrm>
            <a:off x="1260360" y="4643280"/>
            <a:ext cx="4000680" cy="352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cf9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kstboks 44"/>
          <p:cNvSpPr/>
          <p:nvPr/>
        </p:nvSpPr>
        <p:spPr>
          <a:xfrm>
            <a:off x="1295280" y="2540160"/>
            <a:ext cx="4000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171717"/>
                </a:solidFill>
                <a:latin typeface="Arial Narrow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kstboks 45"/>
          <p:cNvSpPr/>
          <p:nvPr/>
        </p:nvSpPr>
        <p:spPr>
          <a:xfrm>
            <a:off x="1295280" y="5118120"/>
            <a:ext cx="4000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171717"/>
                </a:solidFill>
                <a:latin typeface="Arial Narrow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kstboks 46"/>
          <p:cNvSpPr/>
          <p:nvPr/>
        </p:nvSpPr>
        <p:spPr>
          <a:xfrm>
            <a:off x="1295280" y="3398760"/>
            <a:ext cx="4000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 Narrow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kstboks 47"/>
          <p:cNvSpPr/>
          <p:nvPr/>
        </p:nvSpPr>
        <p:spPr>
          <a:xfrm>
            <a:off x="1295280" y="4259160"/>
            <a:ext cx="4000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171717"/>
                </a:solidFill>
                <a:latin typeface="Arial Narrow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kstboks 48"/>
          <p:cNvSpPr/>
          <p:nvPr/>
        </p:nvSpPr>
        <p:spPr>
          <a:xfrm>
            <a:off x="1295280" y="2970360"/>
            <a:ext cx="4000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171717"/>
                </a:solidFill>
                <a:latin typeface="Arial Narrow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kstboks 49"/>
          <p:cNvSpPr/>
          <p:nvPr/>
        </p:nvSpPr>
        <p:spPr>
          <a:xfrm>
            <a:off x="1295280" y="3828960"/>
            <a:ext cx="4000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171717"/>
                </a:solidFill>
                <a:latin typeface="Arial Narrow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kstboks 50"/>
          <p:cNvSpPr/>
          <p:nvPr/>
        </p:nvSpPr>
        <p:spPr>
          <a:xfrm>
            <a:off x="1295280" y="4687920"/>
            <a:ext cx="4000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171717"/>
                </a:solidFill>
                <a:latin typeface="Arial Narrow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kstboks 53"/>
          <p:cNvSpPr/>
          <p:nvPr/>
        </p:nvSpPr>
        <p:spPr>
          <a:xfrm>
            <a:off x="533520" y="336564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a-DK" sz="1800" spc="-1" strike="noStrike">
                <a:solidFill>
                  <a:srgbClr val="171717"/>
                </a:solidFill>
                <a:latin typeface="Zapf Dingbats"/>
                <a:ea typeface="Zapf Dingbats"/>
              </a:rPr>
              <a:t>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kstboks 55"/>
          <p:cNvSpPr/>
          <p:nvPr/>
        </p:nvSpPr>
        <p:spPr>
          <a:xfrm>
            <a:off x="890640" y="2548080"/>
            <a:ext cx="322200" cy="27432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200" spc="-1" strike="noStrike">
                <a:solidFill>
                  <a:srgbClr val="ffffff"/>
                </a:solidFill>
                <a:latin typeface="Arial Narrow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kstboks 56"/>
          <p:cNvSpPr/>
          <p:nvPr/>
        </p:nvSpPr>
        <p:spPr>
          <a:xfrm>
            <a:off x="890640" y="2986200"/>
            <a:ext cx="322200" cy="27612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200" spc="-1" strike="noStrike">
                <a:solidFill>
                  <a:srgbClr val="ffffff"/>
                </a:solidFill>
                <a:latin typeface="Arial Narrow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kstboks 57"/>
          <p:cNvSpPr/>
          <p:nvPr/>
        </p:nvSpPr>
        <p:spPr>
          <a:xfrm>
            <a:off x="888840" y="3400560"/>
            <a:ext cx="322560" cy="27612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200" spc="-1" strike="noStrike">
                <a:solidFill>
                  <a:srgbClr val="ffffff"/>
                </a:solidFill>
                <a:latin typeface="Arial Narrow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kstboks 60"/>
          <p:cNvSpPr/>
          <p:nvPr/>
        </p:nvSpPr>
        <p:spPr>
          <a:xfrm>
            <a:off x="890640" y="3822840"/>
            <a:ext cx="322200" cy="27936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200" spc="-1" strike="noStrike">
                <a:solidFill>
                  <a:srgbClr val="ffffff"/>
                </a:solidFill>
                <a:latin typeface="Arial Narrow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kstboks 62"/>
          <p:cNvSpPr/>
          <p:nvPr/>
        </p:nvSpPr>
        <p:spPr>
          <a:xfrm>
            <a:off x="890640" y="4238640"/>
            <a:ext cx="322200" cy="276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7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kstboks 64"/>
          <p:cNvSpPr/>
          <p:nvPr/>
        </p:nvSpPr>
        <p:spPr>
          <a:xfrm>
            <a:off x="890640" y="4683240"/>
            <a:ext cx="322200" cy="276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7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kstboks 66"/>
          <p:cNvSpPr/>
          <p:nvPr/>
        </p:nvSpPr>
        <p:spPr>
          <a:xfrm>
            <a:off x="890640" y="5103720"/>
            <a:ext cx="322200" cy="276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7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uppe 199"/>
          <p:cNvGrpSpPr/>
          <p:nvPr/>
        </p:nvGrpSpPr>
        <p:grpSpPr>
          <a:xfrm>
            <a:off x="5373720" y="2832120"/>
            <a:ext cx="3300480" cy="2286000"/>
            <a:chOff x="5373720" y="2832120"/>
            <a:chExt cx="3300480" cy="2286000"/>
          </a:xfrm>
        </p:grpSpPr>
        <p:grpSp>
          <p:nvGrpSpPr>
            <p:cNvPr id="340" name="Ellipse 59"/>
            <p:cNvGrpSpPr/>
            <p:nvPr/>
          </p:nvGrpSpPr>
          <p:grpSpPr>
            <a:xfrm>
              <a:off x="5373720" y="4438080"/>
              <a:ext cx="3300480" cy="680040"/>
              <a:chOff x="5373720" y="4438080"/>
              <a:chExt cx="3300480" cy="680040"/>
            </a:xfrm>
          </p:grpSpPr>
          <p:pic>
            <p:nvPicPr>
              <p:cNvPr id="341" name="Ellipse 59" descr=""/>
              <p:cNvPicPr/>
              <p:nvPr/>
            </p:nvPicPr>
            <p:blipFill>
              <a:blip r:embed="rId1"/>
              <a:stretch/>
            </p:blipFill>
            <p:spPr>
              <a:xfrm>
                <a:off x="5373720" y="4438080"/>
                <a:ext cx="3300480" cy="68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2" name=""/>
              <p:cNvSpPr/>
              <p:nvPr/>
            </p:nvSpPr>
            <p:spPr>
              <a:xfrm>
                <a:off x="5858640" y="4542840"/>
                <a:ext cx="2327040" cy="46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Gruppe 91"/>
            <p:cNvGrpSpPr/>
            <p:nvPr/>
          </p:nvGrpSpPr>
          <p:grpSpPr>
            <a:xfrm>
              <a:off x="5960160" y="2832120"/>
              <a:ext cx="2055240" cy="2032920"/>
              <a:chOff x="5960160" y="2832120"/>
              <a:chExt cx="2055240" cy="2032920"/>
            </a:xfrm>
          </p:grpSpPr>
          <p:grpSp>
            <p:nvGrpSpPr>
              <p:cNvPr id="344" name="Ellipse 44"/>
              <p:cNvGrpSpPr/>
              <p:nvPr/>
            </p:nvGrpSpPr>
            <p:grpSpPr>
              <a:xfrm>
                <a:off x="5960160" y="2832120"/>
                <a:ext cx="2055240" cy="2032920"/>
                <a:chOff x="5960160" y="2832120"/>
                <a:chExt cx="2055240" cy="2032920"/>
              </a:xfrm>
            </p:grpSpPr>
            <p:pic>
              <p:nvPicPr>
                <p:cNvPr id="345" name="Ellipse 44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960160" y="2832120"/>
                  <a:ext cx="2055240" cy="2032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6" name=""/>
                <p:cNvSpPr/>
                <p:nvPr/>
              </p:nvSpPr>
              <p:spPr>
                <a:xfrm rot="21051600">
                  <a:off x="6268680" y="3136320"/>
                  <a:ext cx="1439640" cy="14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7" name="Ellipse 45"/>
              <p:cNvSpPr/>
              <p:nvPr/>
            </p:nvSpPr>
            <p:spPr>
              <a:xfrm>
                <a:off x="6257880" y="2883600"/>
                <a:ext cx="1479960" cy="1092600"/>
              </a:xfrm>
              <a:prstGeom prst="ellipse">
                <a:avLst/>
              </a:prstGeom>
              <a:gradFill rotWithShape="0">
                <a:gsLst>
                  <a:gs pos="0">
                    <a:srgbClr val="fffcf9">
                      <a:alpha val="7725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8" name="Måne 63"/>
              <p:cNvGrpSpPr/>
              <p:nvPr/>
            </p:nvGrpSpPr>
            <p:grpSpPr>
              <a:xfrm>
                <a:off x="5990400" y="3824640"/>
                <a:ext cx="1982520" cy="998280"/>
                <a:chOff x="5990400" y="3824640"/>
                <a:chExt cx="1982520" cy="998280"/>
              </a:xfrm>
            </p:grpSpPr>
            <p:pic>
              <p:nvPicPr>
                <p:cNvPr id="349" name="Måne 6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990400" y="3824640"/>
                  <a:ext cx="1982520" cy="99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0" name=""/>
                <p:cNvSpPr/>
                <p:nvPr/>
              </p:nvSpPr>
              <p:spPr>
                <a:xfrm rot="16551600">
                  <a:off x="6845040" y="4379040"/>
                  <a:ext cx="118440" cy="64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Freeform 84"/>
          <p:cNvSpPr/>
          <p:nvPr/>
        </p:nvSpPr>
        <p:spPr>
          <a:xfrm>
            <a:off x="5969160" y="3505320"/>
            <a:ext cx="2070000" cy="622080"/>
          </a:xfrm>
          <a:custGeom>
            <a:avLst/>
            <a:gdLst>
              <a:gd name="textAreaLeft" fmla="*/ 0 w 2070000"/>
              <a:gd name="textAreaRight" fmla="*/ 2070360 w 2070000"/>
              <a:gd name="textAreaTop" fmla="*/ 0 h 622080"/>
              <a:gd name="textAreaBottom" fmla="*/ 622440 h 622080"/>
            </a:gdLst>
            <a:ahLst/>
            <a:rect l="textAreaLeft" t="textAreaTop" r="textAreaRight" b="textAreaBottom"/>
            <a:pathLst>
              <a:path w="2070100" h="622300">
                <a:moveTo>
                  <a:pt x="0" y="406400"/>
                </a:moveTo>
                <a:lnTo>
                  <a:pt x="63500" y="406400"/>
                </a:lnTo>
                <a:lnTo>
                  <a:pt x="292100" y="0"/>
                </a:lnTo>
                <a:lnTo>
                  <a:pt x="292100" y="622300"/>
                </a:lnTo>
                <a:lnTo>
                  <a:pt x="419100" y="406400"/>
                </a:lnTo>
                <a:lnTo>
                  <a:pt x="533400" y="393700"/>
                </a:lnTo>
                <a:lnTo>
                  <a:pt x="787400" y="12700"/>
                </a:lnTo>
                <a:lnTo>
                  <a:pt x="774700" y="622300"/>
                </a:lnTo>
                <a:lnTo>
                  <a:pt x="889000" y="406400"/>
                </a:lnTo>
                <a:lnTo>
                  <a:pt x="1041400" y="419100"/>
                </a:lnTo>
                <a:lnTo>
                  <a:pt x="1257300" y="0"/>
                </a:lnTo>
                <a:lnTo>
                  <a:pt x="1244600" y="622300"/>
                </a:lnTo>
                <a:lnTo>
                  <a:pt x="1397000" y="406400"/>
                </a:lnTo>
                <a:lnTo>
                  <a:pt x="1524000" y="406400"/>
                </a:lnTo>
                <a:lnTo>
                  <a:pt x="1765300" y="0"/>
                </a:lnTo>
                <a:lnTo>
                  <a:pt x="1765300" y="609600"/>
                </a:lnTo>
                <a:lnTo>
                  <a:pt x="1892300" y="406400"/>
                </a:lnTo>
                <a:lnTo>
                  <a:pt x="2070100" y="39370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ktangel 3"/>
          <p:cNvSpPr/>
          <p:nvPr/>
        </p:nvSpPr>
        <p:spPr>
          <a:xfrm flipV="1" rot="10800000">
            <a:off x="0" y="-1080"/>
            <a:ext cx="9144000" cy="519588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bfbfbf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80808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165"/>
          <p:cNvSpPr/>
          <p:nvPr/>
        </p:nvSpPr>
        <p:spPr>
          <a:xfrm>
            <a:off x="5830920" y="2374920"/>
            <a:ext cx="430200" cy="782640"/>
          </a:xfrm>
          <a:custGeom>
            <a:avLst/>
            <a:gdLst>
              <a:gd name="textAreaLeft" fmla="*/ 0 w 430200"/>
              <a:gd name="textAreaRight" fmla="*/ 430560 w 430200"/>
              <a:gd name="textAreaTop" fmla="*/ 0 h 782640"/>
              <a:gd name="textAreaBottom" fmla="*/ 783000 h 782640"/>
            </a:gdLst>
            <a:ahLst/>
            <a:rect l="textAreaLeft" t="textAreaTop" r="textAreaRight" b="textAreaBottom"/>
            <a:pathLst>
              <a:path w="288" h="524">
                <a:moveTo>
                  <a:pt x="92" y="498"/>
                </a:moveTo>
                <a:lnTo>
                  <a:pt x="172" y="444"/>
                </a:lnTo>
                <a:lnTo>
                  <a:pt x="200" y="458"/>
                </a:lnTo>
                <a:lnTo>
                  <a:pt x="250" y="350"/>
                </a:lnTo>
                <a:lnTo>
                  <a:pt x="288" y="310"/>
                </a:lnTo>
                <a:lnTo>
                  <a:pt x="284" y="298"/>
                </a:lnTo>
                <a:lnTo>
                  <a:pt x="284" y="296"/>
                </a:lnTo>
                <a:lnTo>
                  <a:pt x="216" y="0"/>
                </a:lnTo>
                <a:lnTo>
                  <a:pt x="26" y="6"/>
                </a:lnTo>
                <a:lnTo>
                  <a:pt x="0" y="28"/>
                </a:lnTo>
                <a:lnTo>
                  <a:pt x="38" y="392"/>
                </a:lnTo>
                <a:lnTo>
                  <a:pt x="24" y="464"/>
                </a:lnTo>
                <a:lnTo>
                  <a:pt x="20" y="484"/>
                </a:lnTo>
                <a:lnTo>
                  <a:pt x="14" y="524"/>
                </a:lnTo>
                <a:lnTo>
                  <a:pt x="68" y="484"/>
                </a:lnTo>
                <a:lnTo>
                  <a:pt x="92" y="498"/>
                </a:lnTo>
                <a:close/>
              </a:path>
            </a:pathLst>
          </a:custGeom>
          <a:solidFill>
            <a:srgbClr val="ffe500"/>
          </a:solidFill>
          <a:ln w="0">
            <a:solidFill>
              <a:srgbClr val="8b8d9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Gruppe 649"/>
          <p:cNvGrpSpPr/>
          <p:nvPr/>
        </p:nvGrpSpPr>
        <p:grpSpPr>
          <a:xfrm>
            <a:off x="914400" y="689040"/>
            <a:ext cx="7118280" cy="5006880"/>
            <a:chOff x="914400" y="689040"/>
            <a:chExt cx="7118280" cy="5006880"/>
          </a:xfrm>
        </p:grpSpPr>
        <p:pic>
          <p:nvPicPr>
            <p:cNvPr id="355" name="Gruppe 251" descr=""/>
            <p:cNvPicPr/>
            <p:nvPr/>
          </p:nvPicPr>
          <p:blipFill>
            <a:blip r:embed="rId1"/>
            <a:stretch/>
          </p:blipFill>
          <p:spPr>
            <a:xfrm>
              <a:off x="914400" y="736560"/>
              <a:ext cx="7118280" cy="495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Gruppe 251" descr=""/>
            <p:cNvPicPr/>
            <p:nvPr/>
          </p:nvPicPr>
          <p:blipFill>
            <a:blip r:embed="rId2"/>
            <a:stretch/>
          </p:blipFill>
          <p:spPr>
            <a:xfrm>
              <a:off x="932040" y="689040"/>
              <a:ext cx="7004520" cy="4857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7" name="Gruppe 170"/>
          <p:cNvGrpSpPr/>
          <p:nvPr/>
        </p:nvGrpSpPr>
        <p:grpSpPr>
          <a:xfrm>
            <a:off x="6421320" y="3905280"/>
            <a:ext cx="1317600" cy="1603440"/>
            <a:chOff x="6421320" y="3905280"/>
            <a:chExt cx="1317600" cy="1603440"/>
          </a:xfrm>
        </p:grpSpPr>
        <p:grpSp>
          <p:nvGrpSpPr>
            <p:cNvPr id="358" name="Ellipse 494"/>
            <p:cNvGrpSpPr/>
            <p:nvPr/>
          </p:nvGrpSpPr>
          <p:grpSpPr>
            <a:xfrm>
              <a:off x="6421320" y="5235840"/>
              <a:ext cx="1150920" cy="272880"/>
              <a:chOff x="6421320" y="5235840"/>
              <a:chExt cx="1150920" cy="272880"/>
            </a:xfrm>
          </p:grpSpPr>
          <p:pic>
            <p:nvPicPr>
              <p:cNvPr id="359" name="Ellipse 494" descr=""/>
              <p:cNvPicPr/>
              <p:nvPr/>
            </p:nvPicPr>
            <p:blipFill>
              <a:blip r:embed="rId3"/>
              <a:stretch/>
            </p:blipFill>
            <p:spPr>
              <a:xfrm>
                <a:off x="6421320" y="5235840"/>
                <a:ext cx="1150920" cy="27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"/>
              <p:cNvSpPr/>
              <p:nvPr/>
            </p:nvSpPr>
            <p:spPr>
              <a:xfrm>
                <a:off x="6596280" y="5281920"/>
                <a:ext cx="804240" cy="1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1" name="Gruppe 156"/>
            <p:cNvGrpSpPr/>
            <p:nvPr/>
          </p:nvGrpSpPr>
          <p:grpSpPr>
            <a:xfrm>
              <a:off x="6707160" y="3905280"/>
              <a:ext cx="1031760" cy="1539360"/>
              <a:chOff x="6707160" y="3905280"/>
              <a:chExt cx="1031760" cy="1539360"/>
            </a:xfrm>
          </p:grpSpPr>
          <p:sp>
            <p:nvSpPr>
              <p:cNvPr id="362" name="Freeform 7"/>
              <p:cNvSpPr/>
              <p:nvPr/>
            </p:nvSpPr>
            <p:spPr>
              <a:xfrm>
                <a:off x="6800040" y="5154840"/>
                <a:ext cx="938880" cy="262080"/>
              </a:xfrm>
              <a:custGeom>
                <a:avLst/>
                <a:gdLst>
                  <a:gd name="textAreaLeft" fmla="*/ 0 w 938880"/>
                  <a:gd name="textAreaRight" fmla="*/ 939240 w 93888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884" h="662">
                    <a:moveTo>
                      <a:pt x="516" y="614"/>
                    </a:moveTo>
                    <a:lnTo>
                      <a:pt x="624" y="256"/>
                    </a:lnTo>
                    <a:lnTo>
                      <a:pt x="662" y="260"/>
                    </a:lnTo>
                    <a:lnTo>
                      <a:pt x="700" y="264"/>
                    </a:lnTo>
                    <a:lnTo>
                      <a:pt x="736" y="262"/>
                    </a:lnTo>
                    <a:lnTo>
                      <a:pt x="768" y="258"/>
                    </a:lnTo>
                    <a:lnTo>
                      <a:pt x="798" y="252"/>
                    </a:lnTo>
                    <a:lnTo>
                      <a:pt x="826" y="242"/>
                    </a:lnTo>
                    <a:lnTo>
                      <a:pt x="848" y="230"/>
                    </a:lnTo>
                    <a:lnTo>
                      <a:pt x="858" y="222"/>
                    </a:lnTo>
                    <a:lnTo>
                      <a:pt x="866" y="214"/>
                    </a:lnTo>
                    <a:lnTo>
                      <a:pt x="874" y="204"/>
                    </a:lnTo>
                    <a:lnTo>
                      <a:pt x="880" y="192"/>
                    </a:lnTo>
                    <a:lnTo>
                      <a:pt x="884" y="180"/>
                    </a:lnTo>
                    <a:lnTo>
                      <a:pt x="884" y="168"/>
                    </a:lnTo>
                    <a:lnTo>
                      <a:pt x="882" y="156"/>
                    </a:lnTo>
                    <a:lnTo>
                      <a:pt x="878" y="144"/>
                    </a:lnTo>
                    <a:lnTo>
                      <a:pt x="872" y="130"/>
                    </a:lnTo>
                    <a:lnTo>
                      <a:pt x="864" y="118"/>
                    </a:lnTo>
                    <a:lnTo>
                      <a:pt x="854" y="106"/>
                    </a:lnTo>
                    <a:lnTo>
                      <a:pt x="842" y="94"/>
                    </a:lnTo>
                    <a:lnTo>
                      <a:pt x="828" y="82"/>
                    </a:lnTo>
                    <a:lnTo>
                      <a:pt x="812" y="70"/>
                    </a:lnTo>
                    <a:lnTo>
                      <a:pt x="794" y="58"/>
                    </a:lnTo>
                    <a:lnTo>
                      <a:pt x="774" y="48"/>
                    </a:lnTo>
                    <a:lnTo>
                      <a:pt x="752" y="38"/>
                    </a:lnTo>
                    <a:lnTo>
                      <a:pt x="730" y="30"/>
                    </a:lnTo>
                    <a:lnTo>
                      <a:pt x="706" y="22"/>
                    </a:lnTo>
                    <a:lnTo>
                      <a:pt x="682" y="14"/>
                    </a:lnTo>
                    <a:lnTo>
                      <a:pt x="658" y="10"/>
                    </a:lnTo>
                    <a:lnTo>
                      <a:pt x="634" y="4"/>
                    </a:lnTo>
                    <a:lnTo>
                      <a:pt x="586" y="0"/>
                    </a:lnTo>
                    <a:lnTo>
                      <a:pt x="562" y="0"/>
                    </a:lnTo>
                    <a:lnTo>
                      <a:pt x="540" y="0"/>
                    </a:lnTo>
                    <a:lnTo>
                      <a:pt x="520" y="2"/>
                    </a:lnTo>
                    <a:lnTo>
                      <a:pt x="500" y="6"/>
                    </a:lnTo>
                    <a:lnTo>
                      <a:pt x="480" y="10"/>
                    </a:lnTo>
                    <a:lnTo>
                      <a:pt x="462" y="16"/>
                    </a:lnTo>
                    <a:lnTo>
                      <a:pt x="446" y="22"/>
                    </a:lnTo>
                    <a:lnTo>
                      <a:pt x="432" y="30"/>
                    </a:lnTo>
                    <a:lnTo>
                      <a:pt x="420" y="38"/>
                    </a:lnTo>
                    <a:lnTo>
                      <a:pt x="408" y="48"/>
                    </a:lnTo>
                    <a:lnTo>
                      <a:pt x="402" y="58"/>
                    </a:lnTo>
                    <a:lnTo>
                      <a:pt x="396" y="66"/>
                    </a:lnTo>
                    <a:lnTo>
                      <a:pt x="394" y="76"/>
                    </a:lnTo>
                    <a:lnTo>
                      <a:pt x="392" y="84"/>
                    </a:lnTo>
                    <a:lnTo>
                      <a:pt x="390" y="94"/>
                    </a:lnTo>
                    <a:lnTo>
                      <a:pt x="392" y="104"/>
                    </a:lnTo>
                    <a:lnTo>
                      <a:pt x="394" y="114"/>
                    </a:lnTo>
                    <a:lnTo>
                      <a:pt x="398" y="124"/>
                    </a:lnTo>
                    <a:lnTo>
                      <a:pt x="410" y="144"/>
                    </a:lnTo>
                    <a:lnTo>
                      <a:pt x="426" y="164"/>
                    </a:lnTo>
                    <a:lnTo>
                      <a:pt x="450" y="184"/>
                    </a:lnTo>
                    <a:lnTo>
                      <a:pt x="476" y="202"/>
                    </a:lnTo>
                    <a:lnTo>
                      <a:pt x="44" y="444"/>
                    </a:lnTo>
                    <a:lnTo>
                      <a:pt x="42" y="442"/>
                    </a:lnTo>
                    <a:lnTo>
                      <a:pt x="0" y="490"/>
                    </a:lnTo>
                    <a:lnTo>
                      <a:pt x="474" y="662"/>
                    </a:lnTo>
                    <a:lnTo>
                      <a:pt x="516" y="616"/>
                    </a:lnTo>
                    <a:lnTo>
                      <a:pt x="516" y="614"/>
                    </a:lnTo>
                    <a:close/>
                  </a:path>
                </a:pathLst>
              </a:custGeom>
              <a:solidFill>
                <a:srgbClr val="000000">
                  <a:alpha val="1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3" name="Gruppe 155"/>
              <p:cNvGrpSpPr/>
              <p:nvPr/>
            </p:nvGrpSpPr>
            <p:grpSpPr>
              <a:xfrm>
                <a:off x="6707160" y="3905280"/>
                <a:ext cx="584640" cy="1539360"/>
                <a:chOff x="6707160" y="3905280"/>
                <a:chExt cx="584640" cy="1539360"/>
              </a:xfrm>
            </p:grpSpPr>
            <p:grpSp>
              <p:nvGrpSpPr>
                <p:cNvPr id="364" name="Gruppe 151"/>
                <p:cNvGrpSpPr/>
                <p:nvPr/>
              </p:nvGrpSpPr>
              <p:grpSpPr>
                <a:xfrm>
                  <a:off x="6707160" y="3905280"/>
                  <a:ext cx="584640" cy="1539360"/>
                  <a:chOff x="6707160" y="3905280"/>
                  <a:chExt cx="584640" cy="1539360"/>
                </a:xfrm>
              </p:grpSpPr>
              <p:sp>
                <p:nvSpPr>
                  <p:cNvPr id="365" name="Freeform 40"/>
                  <p:cNvSpPr/>
                  <p:nvPr/>
                </p:nvSpPr>
                <p:spPr>
                  <a:xfrm>
                    <a:off x="6707160" y="3905280"/>
                    <a:ext cx="583200" cy="1427400"/>
                  </a:xfrm>
                  <a:custGeom>
                    <a:avLst/>
                    <a:gdLst>
                      <a:gd name="textAreaLeft" fmla="*/ 0 w 583200"/>
                      <a:gd name="textAreaRight" fmla="*/ 583560 w 583200"/>
                      <a:gd name="textAreaTop" fmla="*/ 0 h 1427400"/>
                      <a:gd name="textAreaBottom" fmla="*/ 1427760 h 1427400"/>
                    </a:gdLst>
                    <a:ahLst/>
                    <a:rect l="textAreaLeft" t="textAreaTop" r="textAreaRight" b="textAreaBottom"/>
                    <a:pathLst>
                      <a:path w="682" h="1668">
                        <a:moveTo>
                          <a:pt x="678" y="1608"/>
                        </a:moveTo>
                        <a:lnTo>
                          <a:pt x="450" y="654"/>
                        </a:lnTo>
                        <a:lnTo>
                          <a:pt x="474" y="644"/>
                        </a:lnTo>
                        <a:lnTo>
                          <a:pt x="498" y="634"/>
                        </a:lnTo>
                        <a:lnTo>
                          <a:pt x="520" y="620"/>
                        </a:lnTo>
                        <a:lnTo>
                          <a:pt x="540" y="606"/>
                        </a:lnTo>
                        <a:lnTo>
                          <a:pt x="560" y="590"/>
                        </a:lnTo>
                        <a:lnTo>
                          <a:pt x="580" y="572"/>
                        </a:lnTo>
                        <a:lnTo>
                          <a:pt x="596" y="554"/>
                        </a:lnTo>
                        <a:lnTo>
                          <a:pt x="612" y="534"/>
                        </a:lnTo>
                        <a:lnTo>
                          <a:pt x="626" y="512"/>
                        </a:lnTo>
                        <a:lnTo>
                          <a:pt x="640" y="490"/>
                        </a:lnTo>
                        <a:lnTo>
                          <a:pt x="650" y="466"/>
                        </a:lnTo>
                        <a:lnTo>
                          <a:pt x="660" y="442"/>
                        </a:lnTo>
                        <a:lnTo>
                          <a:pt x="666" y="416"/>
                        </a:lnTo>
                        <a:lnTo>
                          <a:pt x="672" y="390"/>
                        </a:lnTo>
                        <a:lnTo>
                          <a:pt x="676" y="364"/>
                        </a:lnTo>
                        <a:lnTo>
                          <a:pt x="676" y="336"/>
                        </a:lnTo>
                        <a:lnTo>
                          <a:pt x="674" y="302"/>
                        </a:lnTo>
                        <a:lnTo>
                          <a:pt x="670" y="268"/>
                        </a:lnTo>
                        <a:lnTo>
                          <a:pt x="662" y="236"/>
                        </a:lnTo>
                        <a:lnTo>
                          <a:pt x="650" y="206"/>
                        </a:lnTo>
                        <a:lnTo>
                          <a:pt x="636" y="176"/>
                        </a:lnTo>
                        <a:lnTo>
                          <a:pt x="618" y="148"/>
                        </a:lnTo>
                        <a:lnTo>
                          <a:pt x="600" y="122"/>
                        </a:lnTo>
                        <a:lnTo>
                          <a:pt x="578" y="98"/>
                        </a:lnTo>
                        <a:lnTo>
                          <a:pt x="554" y="76"/>
                        </a:lnTo>
                        <a:lnTo>
                          <a:pt x="528" y="58"/>
                        </a:lnTo>
                        <a:lnTo>
                          <a:pt x="500" y="40"/>
                        </a:lnTo>
                        <a:lnTo>
                          <a:pt x="472" y="26"/>
                        </a:lnTo>
                        <a:lnTo>
                          <a:pt x="440" y="16"/>
                        </a:lnTo>
                        <a:lnTo>
                          <a:pt x="408" y="8"/>
                        </a:lnTo>
                        <a:lnTo>
                          <a:pt x="374" y="2"/>
                        </a:lnTo>
                        <a:lnTo>
                          <a:pt x="340" y="0"/>
                        </a:lnTo>
                        <a:lnTo>
                          <a:pt x="306" y="2"/>
                        </a:lnTo>
                        <a:lnTo>
                          <a:pt x="272" y="8"/>
                        </a:lnTo>
                        <a:lnTo>
                          <a:pt x="240" y="16"/>
                        </a:lnTo>
                        <a:lnTo>
                          <a:pt x="210" y="26"/>
                        </a:lnTo>
                        <a:lnTo>
                          <a:pt x="180" y="40"/>
                        </a:lnTo>
                        <a:lnTo>
                          <a:pt x="152" y="58"/>
                        </a:lnTo>
                        <a:lnTo>
                          <a:pt x="126" y="76"/>
                        </a:lnTo>
                        <a:lnTo>
                          <a:pt x="102" y="98"/>
                        </a:lnTo>
                        <a:lnTo>
                          <a:pt x="80" y="122"/>
                        </a:lnTo>
                        <a:lnTo>
                          <a:pt x="62" y="148"/>
                        </a:lnTo>
                        <a:lnTo>
                          <a:pt x="44" y="176"/>
                        </a:lnTo>
                        <a:lnTo>
                          <a:pt x="30" y="206"/>
                        </a:lnTo>
                        <a:lnTo>
                          <a:pt x="20" y="236"/>
                        </a:lnTo>
                        <a:lnTo>
                          <a:pt x="12" y="268"/>
                        </a:lnTo>
                        <a:lnTo>
                          <a:pt x="6" y="302"/>
                        </a:lnTo>
                        <a:lnTo>
                          <a:pt x="4" y="336"/>
                        </a:lnTo>
                        <a:lnTo>
                          <a:pt x="6" y="364"/>
                        </a:lnTo>
                        <a:lnTo>
                          <a:pt x="8" y="390"/>
                        </a:lnTo>
                        <a:lnTo>
                          <a:pt x="14" y="416"/>
                        </a:lnTo>
                        <a:lnTo>
                          <a:pt x="22" y="442"/>
                        </a:lnTo>
                        <a:lnTo>
                          <a:pt x="30" y="466"/>
                        </a:lnTo>
                        <a:lnTo>
                          <a:pt x="42" y="490"/>
                        </a:lnTo>
                        <a:lnTo>
                          <a:pt x="54" y="512"/>
                        </a:lnTo>
                        <a:lnTo>
                          <a:pt x="68" y="534"/>
                        </a:lnTo>
                        <a:lnTo>
                          <a:pt x="84" y="554"/>
                        </a:lnTo>
                        <a:lnTo>
                          <a:pt x="102" y="572"/>
                        </a:lnTo>
                        <a:lnTo>
                          <a:pt x="120" y="590"/>
                        </a:lnTo>
                        <a:lnTo>
                          <a:pt x="140" y="606"/>
                        </a:lnTo>
                        <a:lnTo>
                          <a:pt x="162" y="620"/>
                        </a:lnTo>
                        <a:lnTo>
                          <a:pt x="184" y="634"/>
                        </a:lnTo>
                        <a:lnTo>
                          <a:pt x="206" y="644"/>
                        </a:lnTo>
                        <a:lnTo>
                          <a:pt x="232" y="654"/>
                        </a:lnTo>
                        <a:lnTo>
                          <a:pt x="2" y="1608"/>
                        </a:lnTo>
                        <a:lnTo>
                          <a:pt x="0" y="1618"/>
                        </a:lnTo>
                        <a:lnTo>
                          <a:pt x="42" y="1630"/>
                        </a:lnTo>
                        <a:lnTo>
                          <a:pt x="84" y="1640"/>
                        </a:lnTo>
                        <a:lnTo>
                          <a:pt x="126" y="1648"/>
                        </a:lnTo>
                        <a:lnTo>
                          <a:pt x="170" y="1656"/>
                        </a:lnTo>
                        <a:lnTo>
                          <a:pt x="214" y="1662"/>
                        </a:lnTo>
                        <a:lnTo>
                          <a:pt x="260" y="1666"/>
                        </a:lnTo>
                        <a:lnTo>
                          <a:pt x="304" y="1668"/>
                        </a:lnTo>
                        <a:lnTo>
                          <a:pt x="350" y="1668"/>
                        </a:lnTo>
                        <a:lnTo>
                          <a:pt x="390" y="1668"/>
                        </a:lnTo>
                        <a:lnTo>
                          <a:pt x="410" y="1666"/>
                        </a:lnTo>
                        <a:lnTo>
                          <a:pt x="426" y="1666"/>
                        </a:lnTo>
                        <a:lnTo>
                          <a:pt x="454" y="1664"/>
                        </a:lnTo>
                        <a:lnTo>
                          <a:pt x="462" y="1664"/>
                        </a:lnTo>
                        <a:lnTo>
                          <a:pt x="494" y="1660"/>
                        </a:lnTo>
                        <a:lnTo>
                          <a:pt x="524" y="1656"/>
                        </a:lnTo>
                        <a:lnTo>
                          <a:pt x="562" y="1650"/>
                        </a:lnTo>
                        <a:lnTo>
                          <a:pt x="600" y="1644"/>
                        </a:lnTo>
                        <a:lnTo>
                          <a:pt x="644" y="1634"/>
                        </a:lnTo>
                        <a:lnTo>
                          <a:pt x="682" y="1624"/>
                        </a:lnTo>
                        <a:lnTo>
                          <a:pt x="678" y="1608"/>
                        </a:lnTo>
                        <a:close/>
                      </a:path>
                    </a:pathLst>
                  </a:custGeom>
                  <a:blipFill rotWithShape="0">
                    <a:blip r:embed="rId4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Freeform 43"/>
                  <p:cNvSpPr/>
                  <p:nvPr/>
                </p:nvSpPr>
                <p:spPr>
                  <a:xfrm>
                    <a:off x="7003440" y="4475880"/>
                    <a:ext cx="239400" cy="851760"/>
                  </a:xfrm>
                  <a:custGeom>
                    <a:avLst/>
                    <a:gdLst>
                      <a:gd name="textAreaLeft" fmla="*/ 0 w 239400"/>
                      <a:gd name="textAreaRight" fmla="*/ 239760 w 239400"/>
                      <a:gd name="textAreaTop" fmla="*/ 0 h 851760"/>
                      <a:gd name="textAreaBottom" fmla="*/ 852120 h 851760"/>
                    </a:gdLst>
                    <a:ahLst/>
                    <a:rect l="textAreaLeft" t="textAreaTop" r="textAreaRight" b="textAreaBottom"/>
                    <a:pathLst>
                      <a:path w="280" h="996">
                        <a:moveTo>
                          <a:pt x="270" y="936"/>
                        </a:moveTo>
                        <a:lnTo>
                          <a:pt x="72" y="0"/>
                        </a:lnTo>
                        <a:lnTo>
                          <a:pt x="0" y="0"/>
                        </a:lnTo>
                        <a:lnTo>
                          <a:pt x="130" y="936"/>
                        </a:lnTo>
                        <a:lnTo>
                          <a:pt x="136" y="996"/>
                        </a:lnTo>
                        <a:lnTo>
                          <a:pt x="202" y="988"/>
                        </a:lnTo>
                        <a:lnTo>
                          <a:pt x="240" y="980"/>
                        </a:lnTo>
                        <a:lnTo>
                          <a:pt x="280" y="972"/>
                        </a:lnTo>
                        <a:lnTo>
                          <a:pt x="270" y="93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100000">
                        <a:srgbClr val="fffcf9">
                          <a:alpha val="77254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Freeform 44"/>
                  <p:cNvSpPr/>
                  <p:nvPr/>
                </p:nvSpPr>
                <p:spPr>
                  <a:xfrm>
                    <a:off x="6708600" y="5277240"/>
                    <a:ext cx="583200" cy="167400"/>
                  </a:xfrm>
                  <a:custGeom>
                    <a:avLst/>
                    <a:gdLst>
                      <a:gd name="textAreaLeft" fmla="*/ 0 w 583200"/>
                      <a:gd name="textAreaRight" fmla="*/ 583200 w 583200"/>
                      <a:gd name="textAreaTop" fmla="*/ 0 h 167400"/>
                      <a:gd name="textAreaBottom" fmla="*/ 167760 h 167400"/>
                    </a:gdLst>
                    <a:ahLst/>
                    <a:rect l="textAreaLeft" t="textAreaTop" r="textAreaRight" b="textAreaBottom"/>
                    <a:pathLst>
                      <a:path w="686" h="196">
                        <a:moveTo>
                          <a:pt x="684" y="6"/>
                        </a:moveTo>
                        <a:lnTo>
                          <a:pt x="684" y="6"/>
                        </a:lnTo>
                        <a:lnTo>
                          <a:pt x="646" y="16"/>
                        </a:lnTo>
                        <a:lnTo>
                          <a:pt x="602" y="28"/>
                        </a:lnTo>
                        <a:lnTo>
                          <a:pt x="564" y="36"/>
                        </a:lnTo>
                        <a:lnTo>
                          <a:pt x="526" y="44"/>
                        </a:lnTo>
                        <a:lnTo>
                          <a:pt x="496" y="48"/>
                        </a:lnTo>
                        <a:lnTo>
                          <a:pt x="464" y="52"/>
                        </a:lnTo>
                        <a:lnTo>
                          <a:pt x="456" y="52"/>
                        </a:lnTo>
                        <a:lnTo>
                          <a:pt x="428" y="54"/>
                        </a:lnTo>
                        <a:lnTo>
                          <a:pt x="410" y="56"/>
                        </a:lnTo>
                        <a:lnTo>
                          <a:pt x="390" y="56"/>
                        </a:lnTo>
                        <a:lnTo>
                          <a:pt x="350" y="58"/>
                        </a:lnTo>
                        <a:lnTo>
                          <a:pt x="306" y="56"/>
                        </a:lnTo>
                        <a:lnTo>
                          <a:pt x="260" y="54"/>
                        </a:lnTo>
                        <a:lnTo>
                          <a:pt x="216" y="48"/>
                        </a:lnTo>
                        <a:lnTo>
                          <a:pt x="172" y="42"/>
                        </a:lnTo>
                        <a:lnTo>
                          <a:pt x="128" y="34"/>
                        </a:lnTo>
                        <a:lnTo>
                          <a:pt x="84" y="24"/>
                        </a:lnTo>
                        <a:lnTo>
                          <a:pt x="42" y="12"/>
                        </a:lnTo>
                        <a:lnTo>
                          <a:pt x="0" y="0"/>
                        </a:lnTo>
                        <a:lnTo>
                          <a:pt x="0" y="142"/>
                        </a:lnTo>
                        <a:lnTo>
                          <a:pt x="42" y="154"/>
                        </a:lnTo>
                        <a:lnTo>
                          <a:pt x="86" y="166"/>
                        </a:lnTo>
                        <a:lnTo>
                          <a:pt x="128" y="174"/>
                        </a:lnTo>
                        <a:lnTo>
                          <a:pt x="172" y="182"/>
                        </a:lnTo>
                        <a:lnTo>
                          <a:pt x="216" y="188"/>
                        </a:lnTo>
                        <a:lnTo>
                          <a:pt x="260" y="192"/>
                        </a:lnTo>
                        <a:lnTo>
                          <a:pt x="306" y="194"/>
                        </a:lnTo>
                        <a:lnTo>
                          <a:pt x="350" y="196"/>
                        </a:lnTo>
                        <a:lnTo>
                          <a:pt x="394" y="194"/>
                        </a:lnTo>
                        <a:lnTo>
                          <a:pt x="436" y="192"/>
                        </a:lnTo>
                        <a:lnTo>
                          <a:pt x="480" y="188"/>
                        </a:lnTo>
                        <a:lnTo>
                          <a:pt x="522" y="182"/>
                        </a:lnTo>
                        <a:lnTo>
                          <a:pt x="564" y="176"/>
                        </a:lnTo>
                        <a:lnTo>
                          <a:pt x="604" y="168"/>
                        </a:lnTo>
                        <a:lnTo>
                          <a:pt x="646" y="158"/>
                        </a:lnTo>
                        <a:lnTo>
                          <a:pt x="686" y="148"/>
                        </a:lnTo>
                        <a:lnTo>
                          <a:pt x="686" y="14"/>
                        </a:lnTo>
                        <a:lnTo>
                          <a:pt x="684" y="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000"/>
                      </a:gs>
                      <a:gs pos="100000">
                        <a:srgbClr val="a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8" name="Ellipse 45"/>
                <p:cNvSpPr/>
                <p:nvPr/>
              </p:nvSpPr>
              <p:spPr>
                <a:xfrm>
                  <a:off x="6796800" y="3917880"/>
                  <a:ext cx="413280" cy="307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fffcf9">
                        <a:alpha val="77254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69" name="Gruppe 170"/>
          <p:cNvGrpSpPr/>
          <p:nvPr/>
        </p:nvGrpSpPr>
        <p:grpSpPr>
          <a:xfrm>
            <a:off x="7070760" y="4537080"/>
            <a:ext cx="1095480" cy="1333440"/>
            <a:chOff x="7070760" y="4537080"/>
            <a:chExt cx="1095480" cy="1333440"/>
          </a:xfrm>
        </p:grpSpPr>
        <p:grpSp>
          <p:nvGrpSpPr>
            <p:cNvPr id="370" name="Ellipse 504"/>
            <p:cNvGrpSpPr/>
            <p:nvPr/>
          </p:nvGrpSpPr>
          <p:grpSpPr>
            <a:xfrm>
              <a:off x="7070760" y="5646240"/>
              <a:ext cx="958680" cy="224280"/>
              <a:chOff x="7070760" y="5646240"/>
              <a:chExt cx="958680" cy="224280"/>
            </a:xfrm>
          </p:grpSpPr>
          <p:pic>
            <p:nvPicPr>
              <p:cNvPr id="371" name="Ellipse 504" descr=""/>
              <p:cNvPicPr/>
              <p:nvPr/>
            </p:nvPicPr>
            <p:blipFill>
              <a:blip r:embed="rId5"/>
              <a:stretch/>
            </p:blipFill>
            <p:spPr>
              <a:xfrm>
                <a:off x="7070760" y="5646240"/>
                <a:ext cx="958680" cy="22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2" name=""/>
              <p:cNvSpPr/>
              <p:nvPr/>
            </p:nvSpPr>
            <p:spPr>
              <a:xfrm>
                <a:off x="7214760" y="5682960"/>
                <a:ext cx="669960" cy="15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" name="Gruppe 156"/>
            <p:cNvGrpSpPr/>
            <p:nvPr/>
          </p:nvGrpSpPr>
          <p:grpSpPr>
            <a:xfrm>
              <a:off x="7307280" y="4537080"/>
              <a:ext cx="858960" cy="1280880"/>
              <a:chOff x="7307280" y="4537080"/>
              <a:chExt cx="858960" cy="1280880"/>
            </a:xfrm>
          </p:grpSpPr>
          <p:sp>
            <p:nvSpPr>
              <p:cNvPr id="374" name="Freeform 7"/>
              <p:cNvSpPr/>
              <p:nvPr/>
            </p:nvSpPr>
            <p:spPr>
              <a:xfrm>
                <a:off x="7383960" y="5575680"/>
                <a:ext cx="782280" cy="219600"/>
              </a:xfrm>
              <a:custGeom>
                <a:avLst/>
                <a:gdLst>
                  <a:gd name="textAreaLeft" fmla="*/ 0 w 782280"/>
                  <a:gd name="textAreaRight" fmla="*/ 782640 w 78228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884" h="662">
                    <a:moveTo>
                      <a:pt x="516" y="614"/>
                    </a:moveTo>
                    <a:lnTo>
                      <a:pt x="624" y="256"/>
                    </a:lnTo>
                    <a:lnTo>
                      <a:pt x="662" y="260"/>
                    </a:lnTo>
                    <a:lnTo>
                      <a:pt x="700" y="264"/>
                    </a:lnTo>
                    <a:lnTo>
                      <a:pt x="736" y="262"/>
                    </a:lnTo>
                    <a:lnTo>
                      <a:pt x="768" y="258"/>
                    </a:lnTo>
                    <a:lnTo>
                      <a:pt x="798" y="252"/>
                    </a:lnTo>
                    <a:lnTo>
                      <a:pt x="826" y="242"/>
                    </a:lnTo>
                    <a:lnTo>
                      <a:pt x="848" y="230"/>
                    </a:lnTo>
                    <a:lnTo>
                      <a:pt x="858" y="222"/>
                    </a:lnTo>
                    <a:lnTo>
                      <a:pt x="866" y="214"/>
                    </a:lnTo>
                    <a:lnTo>
                      <a:pt x="874" y="204"/>
                    </a:lnTo>
                    <a:lnTo>
                      <a:pt x="880" y="192"/>
                    </a:lnTo>
                    <a:lnTo>
                      <a:pt x="884" y="180"/>
                    </a:lnTo>
                    <a:lnTo>
                      <a:pt x="884" y="168"/>
                    </a:lnTo>
                    <a:lnTo>
                      <a:pt x="882" y="156"/>
                    </a:lnTo>
                    <a:lnTo>
                      <a:pt x="878" y="144"/>
                    </a:lnTo>
                    <a:lnTo>
                      <a:pt x="872" y="130"/>
                    </a:lnTo>
                    <a:lnTo>
                      <a:pt x="864" y="118"/>
                    </a:lnTo>
                    <a:lnTo>
                      <a:pt x="854" y="106"/>
                    </a:lnTo>
                    <a:lnTo>
                      <a:pt x="842" y="94"/>
                    </a:lnTo>
                    <a:lnTo>
                      <a:pt x="828" y="82"/>
                    </a:lnTo>
                    <a:lnTo>
                      <a:pt x="812" y="70"/>
                    </a:lnTo>
                    <a:lnTo>
                      <a:pt x="794" y="58"/>
                    </a:lnTo>
                    <a:lnTo>
                      <a:pt x="774" y="48"/>
                    </a:lnTo>
                    <a:lnTo>
                      <a:pt x="752" y="38"/>
                    </a:lnTo>
                    <a:lnTo>
                      <a:pt x="730" y="30"/>
                    </a:lnTo>
                    <a:lnTo>
                      <a:pt x="706" y="22"/>
                    </a:lnTo>
                    <a:lnTo>
                      <a:pt x="682" y="14"/>
                    </a:lnTo>
                    <a:lnTo>
                      <a:pt x="658" y="10"/>
                    </a:lnTo>
                    <a:lnTo>
                      <a:pt x="634" y="4"/>
                    </a:lnTo>
                    <a:lnTo>
                      <a:pt x="586" y="0"/>
                    </a:lnTo>
                    <a:lnTo>
                      <a:pt x="562" y="0"/>
                    </a:lnTo>
                    <a:lnTo>
                      <a:pt x="540" y="0"/>
                    </a:lnTo>
                    <a:lnTo>
                      <a:pt x="520" y="2"/>
                    </a:lnTo>
                    <a:lnTo>
                      <a:pt x="500" y="6"/>
                    </a:lnTo>
                    <a:lnTo>
                      <a:pt x="480" y="10"/>
                    </a:lnTo>
                    <a:lnTo>
                      <a:pt x="462" y="16"/>
                    </a:lnTo>
                    <a:lnTo>
                      <a:pt x="446" y="22"/>
                    </a:lnTo>
                    <a:lnTo>
                      <a:pt x="432" y="30"/>
                    </a:lnTo>
                    <a:lnTo>
                      <a:pt x="420" y="38"/>
                    </a:lnTo>
                    <a:lnTo>
                      <a:pt x="408" y="48"/>
                    </a:lnTo>
                    <a:lnTo>
                      <a:pt x="402" y="58"/>
                    </a:lnTo>
                    <a:lnTo>
                      <a:pt x="396" y="66"/>
                    </a:lnTo>
                    <a:lnTo>
                      <a:pt x="394" y="76"/>
                    </a:lnTo>
                    <a:lnTo>
                      <a:pt x="392" y="84"/>
                    </a:lnTo>
                    <a:lnTo>
                      <a:pt x="390" y="94"/>
                    </a:lnTo>
                    <a:lnTo>
                      <a:pt x="392" y="104"/>
                    </a:lnTo>
                    <a:lnTo>
                      <a:pt x="394" y="114"/>
                    </a:lnTo>
                    <a:lnTo>
                      <a:pt x="398" y="124"/>
                    </a:lnTo>
                    <a:lnTo>
                      <a:pt x="410" y="144"/>
                    </a:lnTo>
                    <a:lnTo>
                      <a:pt x="426" y="164"/>
                    </a:lnTo>
                    <a:lnTo>
                      <a:pt x="450" y="184"/>
                    </a:lnTo>
                    <a:lnTo>
                      <a:pt x="476" y="202"/>
                    </a:lnTo>
                    <a:lnTo>
                      <a:pt x="44" y="444"/>
                    </a:lnTo>
                    <a:lnTo>
                      <a:pt x="42" y="442"/>
                    </a:lnTo>
                    <a:lnTo>
                      <a:pt x="0" y="490"/>
                    </a:lnTo>
                    <a:lnTo>
                      <a:pt x="474" y="662"/>
                    </a:lnTo>
                    <a:lnTo>
                      <a:pt x="516" y="616"/>
                    </a:lnTo>
                    <a:lnTo>
                      <a:pt x="516" y="614"/>
                    </a:lnTo>
                    <a:close/>
                  </a:path>
                </a:pathLst>
              </a:custGeom>
              <a:solidFill>
                <a:srgbClr val="000000">
                  <a:alpha val="1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5" name="Gruppe 155"/>
              <p:cNvGrpSpPr/>
              <p:nvPr/>
            </p:nvGrpSpPr>
            <p:grpSpPr>
              <a:xfrm>
                <a:off x="7307280" y="4537080"/>
                <a:ext cx="486720" cy="1280880"/>
                <a:chOff x="7307280" y="4537080"/>
                <a:chExt cx="486720" cy="1280880"/>
              </a:xfrm>
            </p:grpSpPr>
            <p:grpSp>
              <p:nvGrpSpPr>
                <p:cNvPr id="376" name="Gruppe 151"/>
                <p:cNvGrpSpPr/>
                <p:nvPr/>
              </p:nvGrpSpPr>
              <p:grpSpPr>
                <a:xfrm>
                  <a:off x="7307280" y="4537080"/>
                  <a:ext cx="486720" cy="1280880"/>
                  <a:chOff x="7307280" y="4537080"/>
                  <a:chExt cx="486720" cy="1280880"/>
                </a:xfrm>
              </p:grpSpPr>
              <p:sp>
                <p:nvSpPr>
                  <p:cNvPr id="377" name="Freeform 40"/>
                  <p:cNvSpPr/>
                  <p:nvPr/>
                </p:nvSpPr>
                <p:spPr>
                  <a:xfrm>
                    <a:off x="7307280" y="4537080"/>
                    <a:ext cx="485280" cy="1187640"/>
                  </a:xfrm>
                  <a:custGeom>
                    <a:avLst/>
                    <a:gdLst>
                      <a:gd name="textAreaLeft" fmla="*/ 0 w 485280"/>
                      <a:gd name="textAreaRight" fmla="*/ 485640 w 485280"/>
                      <a:gd name="textAreaTop" fmla="*/ 0 h 1187640"/>
                      <a:gd name="textAreaBottom" fmla="*/ 1188000 h 1187640"/>
                    </a:gdLst>
                    <a:ahLst/>
                    <a:rect l="textAreaLeft" t="textAreaTop" r="textAreaRight" b="textAreaBottom"/>
                    <a:pathLst>
                      <a:path w="682" h="1668">
                        <a:moveTo>
                          <a:pt x="678" y="1608"/>
                        </a:moveTo>
                        <a:lnTo>
                          <a:pt x="450" y="654"/>
                        </a:lnTo>
                        <a:lnTo>
                          <a:pt x="474" y="644"/>
                        </a:lnTo>
                        <a:lnTo>
                          <a:pt x="498" y="634"/>
                        </a:lnTo>
                        <a:lnTo>
                          <a:pt x="520" y="620"/>
                        </a:lnTo>
                        <a:lnTo>
                          <a:pt x="540" y="606"/>
                        </a:lnTo>
                        <a:lnTo>
                          <a:pt x="560" y="590"/>
                        </a:lnTo>
                        <a:lnTo>
                          <a:pt x="580" y="572"/>
                        </a:lnTo>
                        <a:lnTo>
                          <a:pt x="596" y="554"/>
                        </a:lnTo>
                        <a:lnTo>
                          <a:pt x="612" y="534"/>
                        </a:lnTo>
                        <a:lnTo>
                          <a:pt x="626" y="512"/>
                        </a:lnTo>
                        <a:lnTo>
                          <a:pt x="640" y="490"/>
                        </a:lnTo>
                        <a:lnTo>
                          <a:pt x="650" y="466"/>
                        </a:lnTo>
                        <a:lnTo>
                          <a:pt x="660" y="442"/>
                        </a:lnTo>
                        <a:lnTo>
                          <a:pt x="666" y="416"/>
                        </a:lnTo>
                        <a:lnTo>
                          <a:pt x="672" y="390"/>
                        </a:lnTo>
                        <a:lnTo>
                          <a:pt x="676" y="364"/>
                        </a:lnTo>
                        <a:lnTo>
                          <a:pt x="676" y="336"/>
                        </a:lnTo>
                        <a:lnTo>
                          <a:pt x="674" y="302"/>
                        </a:lnTo>
                        <a:lnTo>
                          <a:pt x="670" y="268"/>
                        </a:lnTo>
                        <a:lnTo>
                          <a:pt x="662" y="236"/>
                        </a:lnTo>
                        <a:lnTo>
                          <a:pt x="650" y="206"/>
                        </a:lnTo>
                        <a:lnTo>
                          <a:pt x="636" y="176"/>
                        </a:lnTo>
                        <a:lnTo>
                          <a:pt x="618" y="148"/>
                        </a:lnTo>
                        <a:lnTo>
                          <a:pt x="600" y="122"/>
                        </a:lnTo>
                        <a:lnTo>
                          <a:pt x="578" y="98"/>
                        </a:lnTo>
                        <a:lnTo>
                          <a:pt x="554" y="76"/>
                        </a:lnTo>
                        <a:lnTo>
                          <a:pt x="528" y="58"/>
                        </a:lnTo>
                        <a:lnTo>
                          <a:pt x="500" y="40"/>
                        </a:lnTo>
                        <a:lnTo>
                          <a:pt x="472" y="26"/>
                        </a:lnTo>
                        <a:lnTo>
                          <a:pt x="440" y="16"/>
                        </a:lnTo>
                        <a:lnTo>
                          <a:pt x="408" y="8"/>
                        </a:lnTo>
                        <a:lnTo>
                          <a:pt x="374" y="2"/>
                        </a:lnTo>
                        <a:lnTo>
                          <a:pt x="340" y="0"/>
                        </a:lnTo>
                        <a:lnTo>
                          <a:pt x="306" y="2"/>
                        </a:lnTo>
                        <a:lnTo>
                          <a:pt x="272" y="8"/>
                        </a:lnTo>
                        <a:lnTo>
                          <a:pt x="240" y="16"/>
                        </a:lnTo>
                        <a:lnTo>
                          <a:pt x="210" y="26"/>
                        </a:lnTo>
                        <a:lnTo>
                          <a:pt x="180" y="40"/>
                        </a:lnTo>
                        <a:lnTo>
                          <a:pt x="152" y="58"/>
                        </a:lnTo>
                        <a:lnTo>
                          <a:pt x="126" y="76"/>
                        </a:lnTo>
                        <a:lnTo>
                          <a:pt x="102" y="98"/>
                        </a:lnTo>
                        <a:lnTo>
                          <a:pt x="80" y="122"/>
                        </a:lnTo>
                        <a:lnTo>
                          <a:pt x="62" y="148"/>
                        </a:lnTo>
                        <a:lnTo>
                          <a:pt x="44" y="176"/>
                        </a:lnTo>
                        <a:lnTo>
                          <a:pt x="30" y="206"/>
                        </a:lnTo>
                        <a:lnTo>
                          <a:pt x="20" y="236"/>
                        </a:lnTo>
                        <a:lnTo>
                          <a:pt x="12" y="268"/>
                        </a:lnTo>
                        <a:lnTo>
                          <a:pt x="6" y="302"/>
                        </a:lnTo>
                        <a:lnTo>
                          <a:pt x="4" y="336"/>
                        </a:lnTo>
                        <a:lnTo>
                          <a:pt x="6" y="364"/>
                        </a:lnTo>
                        <a:lnTo>
                          <a:pt x="8" y="390"/>
                        </a:lnTo>
                        <a:lnTo>
                          <a:pt x="14" y="416"/>
                        </a:lnTo>
                        <a:lnTo>
                          <a:pt x="22" y="442"/>
                        </a:lnTo>
                        <a:lnTo>
                          <a:pt x="30" y="466"/>
                        </a:lnTo>
                        <a:lnTo>
                          <a:pt x="42" y="490"/>
                        </a:lnTo>
                        <a:lnTo>
                          <a:pt x="54" y="512"/>
                        </a:lnTo>
                        <a:lnTo>
                          <a:pt x="68" y="534"/>
                        </a:lnTo>
                        <a:lnTo>
                          <a:pt x="84" y="554"/>
                        </a:lnTo>
                        <a:lnTo>
                          <a:pt x="102" y="572"/>
                        </a:lnTo>
                        <a:lnTo>
                          <a:pt x="120" y="590"/>
                        </a:lnTo>
                        <a:lnTo>
                          <a:pt x="140" y="606"/>
                        </a:lnTo>
                        <a:lnTo>
                          <a:pt x="162" y="620"/>
                        </a:lnTo>
                        <a:lnTo>
                          <a:pt x="184" y="634"/>
                        </a:lnTo>
                        <a:lnTo>
                          <a:pt x="206" y="644"/>
                        </a:lnTo>
                        <a:lnTo>
                          <a:pt x="232" y="654"/>
                        </a:lnTo>
                        <a:lnTo>
                          <a:pt x="2" y="1608"/>
                        </a:lnTo>
                        <a:lnTo>
                          <a:pt x="0" y="1618"/>
                        </a:lnTo>
                        <a:lnTo>
                          <a:pt x="42" y="1630"/>
                        </a:lnTo>
                        <a:lnTo>
                          <a:pt x="84" y="1640"/>
                        </a:lnTo>
                        <a:lnTo>
                          <a:pt x="126" y="1648"/>
                        </a:lnTo>
                        <a:lnTo>
                          <a:pt x="170" y="1656"/>
                        </a:lnTo>
                        <a:lnTo>
                          <a:pt x="214" y="1662"/>
                        </a:lnTo>
                        <a:lnTo>
                          <a:pt x="260" y="1666"/>
                        </a:lnTo>
                        <a:lnTo>
                          <a:pt x="304" y="1668"/>
                        </a:lnTo>
                        <a:lnTo>
                          <a:pt x="350" y="1668"/>
                        </a:lnTo>
                        <a:lnTo>
                          <a:pt x="390" y="1668"/>
                        </a:lnTo>
                        <a:lnTo>
                          <a:pt x="410" y="1666"/>
                        </a:lnTo>
                        <a:lnTo>
                          <a:pt x="426" y="1666"/>
                        </a:lnTo>
                        <a:lnTo>
                          <a:pt x="454" y="1664"/>
                        </a:lnTo>
                        <a:lnTo>
                          <a:pt x="462" y="1664"/>
                        </a:lnTo>
                        <a:lnTo>
                          <a:pt x="494" y="1660"/>
                        </a:lnTo>
                        <a:lnTo>
                          <a:pt x="524" y="1656"/>
                        </a:lnTo>
                        <a:lnTo>
                          <a:pt x="562" y="1650"/>
                        </a:lnTo>
                        <a:lnTo>
                          <a:pt x="600" y="1644"/>
                        </a:lnTo>
                        <a:lnTo>
                          <a:pt x="644" y="1634"/>
                        </a:lnTo>
                        <a:lnTo>
                          <a:pt x="682" y="1624"/>
                        </a:lnTo>
                        <a:lnTo>
                          <a:pt x="678" y="1608"/>
                        </a:lnTo>
                        <a:close/>
                      </a:path>
                    </a:pathLst>
                  </a:custGeom>
                  <a:blipFill rotWithShape="0">
                    <a:blip r:embed="rId6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Freeform 43"/>
                  <p:cNvSpPr/>
                  <p:nvPr/>
                </p:nvSpPr>
                <p:spPr>
                  <a:xfrm>
                    <a:off x="7553880" y="5011560"/>
                    <a:ext cx="199080" cy="708480"/>
                  </a:xfrm>
                  <a:custGeom>
                    <a:avLst/>
                    <a:gdLst>
                      <a:gd name="textAreaLeft" fmla="*/ 0 w 199080"/>
                      <a:gd name="textAreaRight" fmla="*/ 199440 w 199080"/>
                      <a:gd name="textAreaTop" fmla="*/ 0 h 708480"/>
                      <a:gd name="textAreaBottom" fmla="*/ 708840 h 708480"/>
                    </a:gdLst>
                    <a:ahLst/>
                    <a:rect l="textAreaLeft" t="textAreaTop" r="textAreaRight" b="textAreaBottom"/>
                    <a:pathLst>
                      <a:path w="280" h="996">
                        <a:moveTo>
                          <a:pt x="270" y="936"/>
                        </a:moveTo>
                        <a:lnTo>
                          <a:pt x="72" y="0"/>
                        </a:lnTo>
                        <a:lnTo>
                          <a:pt x="0" y="0"/>
                        </a:lnTo>
                        <a:lnTo>
                          <a:pt x="130" y="936"/>
                        </a:lnTo>
                        <a:lnTo>
                          <a:pt x="136" y="996"/>
                        </a:lnTo>
                        <a:lnTo>
                          <a:pt x="202" y="988"/>
                        </a:lnTo>
                        <a:lnTo>
                          <a:pt x="240" y="980"/>
                        </a:lnTo>
                        <a:lnTo>
                          <a:pt x="280" y="972"/>
                        </a:lnTo>
                        <a:lnTo>
                          <a:pt x="270" y="93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100000">
                        <a:srgbClr val="fffcf9">
                          <a:alpha val="77254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Freeform 44"/>
                  <p:cNvSpPr/>
                  <p:nvPr/>
                </p:nvSpPr>
                <p:spPr>
                  <a:xfrm>
                    <a:off x="7307280" y="5679000"/>
                    <a:ext cx="486720" cy="138960"/>
                  </a:xfrm>
                  <a:custGeom>
                    <a:avLst/>
                    <a:gdLst>
                      <a:gd name="textAreaLeft" fmla="*/ 0 w 486720"/>
                      <a:gd name="textAreaRight" fmla="*/ 487080 w 486720"/>
                      <a:gd name="textAreaTop" fmla="*/ 0 h 138960"/>
                      <a:gd name="textAreaBottom" fmla="*/ 139320 h 138960"/>
                    </a:gdLst>
                    <a:ahLst/>
                    <a:rect l="textAreaLeft" t="textAreaTop" r="textAreaRight" b="textAreaBottom"/>
                    <a:pathLst>
                      <a:path w="686" h="196">
                        <a:moveTo>
                          <a:pt x="684" y="6"/>
                        </a:moveTo>
                        <a:lnTo>
                          <a:pt x="684" y="6"/>
                        </a:lnTo>
                        <a:lnTo>
                          <a:pt x="646" y="16"/>
                        </a:lnTo>
                        <a:lnTo>
                          <a:pt x="602" y="28"/>
                        </a:lnTo>
                        <a:lnTo>
                          <a:pt x="564" y="36"/>
                        </a:lnTo>
                        <a:lnTo>
                          <a:pt x="526" y="44"/>
                        </a:lnTo>
                        <a:lnTo>
                          <a:pt x="496" y="48"/>
                        </a:lnTo>
                        <a:lnTo>
                          <a:pt x="464" y="52"/>
                        </a:lnTo>
                        <a:lnTo>
                          <a:pt x="456" y="52"/>
                        </a:lnTo>
                        <a:lnTo>
                          <a:pt x="428" y="54"/>
                        </a:lnTo>
                        <a:lnTo>
                          <a:pt x="410" y="56"/>
                        </a:lnTo>
                        <a:lnTo>
                          <a:pt x="390" y="56"/>
                        </a:lnTo>
                        <a:lnTo>
                          <a:pt x="350" y="58"/>
                        </a:lnTo>
                        <a:lnTo>
                          <a:pt x="306" y="56"/>
                        </a:lnTo>
                        <a:lnTo>
                          <a:pt x="260" y="54"/>
                        </a:lnTo>
                        <a:lnTo>
                          <a:pt x="216" y="48"/>
                        </a:lnTo>
                        <a:lnTo>
                          <a:pt x="172" y="42"/>
                        </a:lnTo>
                        <a:lnTo>
                          <a:pt x="128" y="34"/>
                        </a:lnTo>
                        <a:lnTo>
                          <a:pt x="84" y="24"/>
                        </a:lnTo>
                        <a:lnTo>
                          <a:pt x="42" y="12"/>
                        </a:lnTo>
                        <a:lnTo>
                          <a:pt x="0" y="0"/>
                        </a:lnTo>
                        <a:lnTo>
                          <a:pt x="0" y="142"/>
                        </a:lnTo>
                        <a:lnTo>
                          <a:pt x="42" y="154"/>
                        </a:lnTo>
                        <a:lnTo>
                          <a:pt x="86" y="166"/>
                        </a:lnTo>
                        <a:lnTo>
                          <a:pt x="128" y="174"/>
                        </a:lnTo>
                        <a:lnTo>
                          <a:pt x="172" y="182"/>
                        </a:lnTo>
                        <a:lnTo>
                          <a:pt x="216" y="188"/>
                        </a:lnTo>
                        <a:lnTo>
                          <a:pt x="260" y="192"/>
                        </a:lnTo>
                        <a:lnTo>
                          <a:pt x="306" y="194"/>
                        </a:lnTo>
                        <a:lnTo>
                          <a:pt x="350" y="196"/>
                        </a:lnTo>
                        <a:lnTo>
                          <a:pt x="394" y="194"/>
                        </a:lnTo>
                        <a:lnTo>
                          <a:pt x="436" y="192"/>
                        </a:lnTo>
                        <a:lnTo>
                          <a:pt x="480" y="188"/>
                        </a:lnTo>
                        <a:lnTo>
                          <a:pt x="522" y="182"/>
                        </a:lnTo>
                        <a:lnTo>
                          <a:pt x="564" y="176"/>
                        </a:lnTo>
                        <a:lnTo>
                          <a:pt x="604" y="168"/>
                        </a:lnTo>
                        <a:lnTo>
                          <a:pt x="646" y="158"/>
                        </a:lnTo>
                        <a:lnTo>
                          <a:pt x="686" y="148"/>
                        </a:lnTo>
                        <a:lnTo>
                          <a:pt x="686" y="14"/>
                        </a:lnTo>
                        <a:lnTo>
                          <a:pt x="684" y="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000"/>
                      </a:gs>
                      <a:gs pos="100000">
                        <a:srgbClr val="a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0" name="Ellipse 45"/>
                <p:cNvSpPr/>
                <p:nvPr/>
              </p:nvSpPr>
              <p:spPr>
                <a:xfrm>
                  <a:off x="7380720" y="4547880"/>
                  <a:ext cx="344520" cy="25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fffcf9">
                        <a:alpha val="77254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81" name="Gruppe 170"/>
          <p:cNvGrpSpPr/>
          <p:nvPr/>
        </p:nvGrpSpPr>
        <p:grpSpPr>
          <a:xfrm>
            <a:off x="5889600" y="4594320"/>
            <a:ext cx="1095480" cy="1333440"/>
            <a:chOff x="5889600" y="4594320"/>
            <a:chExt cx="1095480" cy="1333440"/>
          </a:xfrm>
        </p:grpSpPr>
        <p:grpSp>
          <p:nvGrpSpPr>
            <p:cNvPr id="382" name="Ellipse 514"/>
            <p:cNvGrpSpPr/>
            <p:nvPr/>
          </p:nvGrpSpPr>
          <p:grpSpPr>
            <a:xfrm>
              <a:off x="5889600" y="5703120"/>
              <a:ext cx="957240" cy="224640"/>
              <a:chOff x="5889600" y="5703120"/>
              <a:chExt cx="957240" cy="224640"/>
            </a:xfrm>
          </p:grpSpPr>
          <p:pic>
            <p:nvPicPr>
              <p:cNvPr id="383" name="Ellipse 514" descr=""/>
              <p:cNvPicPr/>
              <p:nvPr/>
            </p:nvPicPr>
            <p:blipFill>
              <a:blip r:embed="rId7"/>
              <a:stretch/>
            </p:blipFill>
            <p:spPr>
              <a:xfrm>
                <a:off x="5889600" y="5703120"/>
                <a:ext cx="957240" cy="22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4" name=""/>
              <p:cNvSpPr/>
              <p:nvPr/>
            </p:nvSpPr>
            <p:spPr>
              <a:xfrm>
                <a:off x="6035040" y="5742000"/>
                <a:ext cx="66888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Gruppe 156"/>
            <p:cNvGrpSpPr/>
            <p:nvPr/>
          </p:nvGrpSpPr>
          <p:grpSpPr>
            <a:xfrm>
              <a:off x="6127200" y="4594320"/>
              <a:ext cx="857880" cy="1283040"/>
              <a:chOff x="6127200" y="4594320"/>
              <a:chExt cx="857880" cy="1283040"/>
            </a:xfrm>
          </p:grpSpPr>
          <p:sp>
            <p:nvSpPr>
              <p:cNvPr id="386" name="Freeform 7"/>
              <p:cNvSpPr/>
              <p:nvPr/>
            </p:nvSpPr>
            <p:spPr>
              <a:xfrm>
                <a:off x="6203880" y="5634360"/>
                <a:ext cx="781200" cy="219960"/>
              </a:xfrm>
              <a:custGeom>
                <a:avLst/>
                <a:gdLst>
                  <a:gd name="textAreaLeft" fmla="*/ 0 w 781200"/>
                  <a:gd name="textAreaRight" fmla="*/ 781560 w 781200"/>
                  <a:gd name="textAreaTop" fmla="*/ 0 h 219960"/>
                  <a:gd name="textAreaBottom" fmla="*/ 220320 h 219960"/>
                </a:gdLst>
                <a:ahLst/>
                <a:rect l="textAreaLeft" t="textAreaTop" r="textAreaRight" b="textAreaBottom"/>
                <a:pathLst>
                  <a:path w="884" h="662">
                    <a:moveTo>
                      <a:pt x="516" y="614"/>
                    </a:moveTo>
                    <a:lnTo>
                      <a:pt x="624" y="256"/>
                    </a:lnTo>
                    <a:lnTo>
                      <a:pt x="662" y="260"/>
                    </a:lnTo>
                    <a:lnTo>
                      <a:pt x="700" y="264"/>
                    </a:lnTo>
                    <a:lnTo>
                      <a:pt x="736" y="262"/>
                    </a:lnTo>
                    <a:lnTo>
                      <a:pt x="768" y="258"/>
                    </a:lnTo>
                    <a:lnTo>
                      <a:pt x="798" y="252"/>
                    </a:lnTo>
                    <a:lnTo>
                      <a:pt x="826" y="242"/>
                    </a:lnTo>
                    <a:lnTo>
                      <a:pt x="848" y="230"/>
                    </a:lnTo>
                    <a:lnTo>
                      <a:pt x="858" y="222"/>
                    </a:lnTo>
                    <a:lnTo>
                      <a:pt x="866" y="214"/>
                    </a:lnTo>
                    <a:lnTo>
                      <a:pt x="874" y="204"/>
                    </a:lnTo>
                    <a:lnTo>
                      <a:pt x="880" y="192"/>
                    </a:lnTo>
                    <a:lnTo>
                      <a:pt x="884" y="180"/>
                    </a:lnTo>
                    <a:lnTo>
                      <a:pt x="884" y="168"/>
                    </a:lnTo>
                    <a:lnTo>
                      <a:pt x="882" y="156"/>
                    </a:lnTo>
                    <a:lnTo>
                      <a:pt x="878" y="144"/>
                    </a:lnTo>
                    <a:lnTo>
                      <a:pt x="872" y="130"/>
                    </a:lnTo>
                    <a:lnTo>
                      <a:pt x="864" y="118"/>
                    </a:lnTo>
                    <a:lnTo>
                      <a:pt x="854" y="106"/>
                    </a:lnTo>
                    <a:lnTo>
                      <a:pt x="842" y="94"/>
                    </a:lnTo>
                    <a:lnTo>
                      <a:pt x="828" y="82"/>
                    </a:lnTo>
                    <a:lnTo>
                      <a:pt x="812" y="70"/>
                    </a:lnTo>
                    <a:lnTo>
                      <a:pt x="794" y="58"/>
                    </a:lnTo>
                    <a:lnTo>
                      <a:pt x="774" y="48"/>
                    </a:lnTo>
                    <a:lnTo>
                      <a:pt x="752" y="38"/>
                    </a:lnTo>
                    <a:lnTo>
                      <a:pt x="730" y="30"/>
                    </a:lnTo>
                    <a:lnTo>
                      <a:pt x="706" y="22"/>
                    </a:lnTo>
                    <a:lnTo>
                      <a:pt x="682" y="14"/>
                    </a:lnTo>
                    <a:lnTo>
                      <a:pt x="658" y="10"/>
                    </a:lnTo>
                    <a:lnTo>
                      <a:pt x="634" y="4"/>
                    </a:lnTo>
                    <a:lnTo>
                      <a:pt x="586" y="0"/>
                    </a:lnTo>
                    <a:lnTo>
                      <a:pt x="562" y="0"/>
                    </a:lnTo>
                    <a:lnTo>
                      <a:pt x="540" y="0"/>
                    </a:lnTo>
                    <a:lnTo>
                      <a:pt x="520" y="2"/>
                    </a:lnTo>
                    <a:lnTo>
                      <a:pt x="500" y="6"/>
                    </a:lnTo>
                    <a:lnTo>
                      <a:pt x="480" y="10"/>
                    </a:lnTo>
                    <a:lnTo>
                      <a:pt x="462" y="16"/>
                    </a:lnTo>
                    <a:lnTo>
                      <a:pt x="446" y="22"/>
                    </a:lnTo>
                    <a:lnTo>
                      <a:pt x="432" y="30"/>
                    </a:lnTo>
                    <a:lnTo>
                      <a:pt x="420" y="38"/>
                    </a:lnTo>
                    <a:lnTo>
                      <a:pt x="408" y="48"/>
                    </a:lnTo>
                    <a:lnTo>
                      <a:pt x="402" y="58"/>
                    </a:lnTo>
                    <a:lnTo>
                      <a:pt x="396" y="66"/>
                    </a:lnTo>
                    <a:lnTo>
                      <a:pt x="394" y="76"/>
                    </a:lnTo>
                    <a:lnTo>
                      <a:pt x="392" y="84"/>
                    </a:lnTo>
                    <a:lnTo>
                      <a:pt x="390" y="94"/>
                    </a:lnTo>
                    <a:lnTo>
                      <a:pt x="392" y="104"/>
                    </a:lnTo>
                    <a:lnTo>
                      <a:pt x="394" y="114"/>
                    </a:lnTo>
                    <a:lnTo>
                      <a:pt x="398" y="124"/>
                    </a:lnTo>
                    <a:lnTo>
                      <a:pt x="410" y="144"/>
                    </a:lnTo>
                    <a:lnTo>
                      <a:pt x="426" y="164"/>
                    </a:lnTo>
                    <a:lnTo>
                      <a:pt x="450" y="184"/>
                    </a:lnTo>
                    <a:lnTo>
                      <a:pt x="476" y="202"/>
                    </a:lnTo>
                    <a:lnTo>
                      <a:pt x="44" y="444"/>
                    </a:lnTo>
                    <a:lnTo>
                      <a:pt x="42" y="442"/>
                    </a:lnTo>
                    <a:lnTo>
                      <a:pt x="0" y="490"/>
                    </a:lnTo>
                    <a:lnTo>
                      <a:pt x="474" y="662"/>
                    </a:lnTo>
                    <a:lnTo>
                      <a:pt x="516" y="616"/>
                    </a:lnTo>
                    <a:lnTo>
                      <a:pt x="516" y="614"/>
                    </a:lnTo>
                    <a:close/>
                  </a:path>
                </a:pathLst>
              </a:custGeom>
              <a:solidFill>
                <a:srgbClr val="000000">
                  <a:alpha val="1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7" name="Gruppe 155"/>
              <p:cNvGrpSpPr/>
              <p:nvPr/>
            </p:nvGrpSpPr>
            <p:grpSpPr>
              <a:xfrm>
                <a:off x="6127200" y="4594320"/>
                <a:ext cx="486360" cy="1283040"/>
                <a:chOff x="6127200" y="4594320"/>
                <a:chExt cx="486360" cy="1283040"/>
              </a:xfrm>
            </p:grpSpPr>
            <p:grpSp>
              <p:nvGrpSpPr>
                <p:cNvPr id="388" name="Gruppe 151"/>
                <p:cNvGrpSpPr/>
                <p:nvPr/>
              </p:nvGrpSpPr>
              <p:grpSpPr>
                <a:xfrm>
                  <a:off x="6127200" y="4594320"/>
                  <a:ext cx="486360" cy="1283040"/>
                  <a:chOff x="6127200" y="4594320"/>
                  <a:chExt cx="486360" cy="1283040"/>
                </a:xfrm>
              </p:grpSpPr>
              <p:sp>
                <p:nvSpPr>
                  <p:cNvPr id="389" name="Freeform 40"/>
                  <p:cNvSpPr/>
                  <p:nvPr/>
                </p:nvSpPr>
                <p:spPr>
                  <a:xfrm>
                    <a:off x="6127200" y="4594320"/>
                    <a:ext cx="484920" cy="1189800"/>
                  </a:xfrm>
                  <a:custGeom>
                    <a:avLst/>
                    <a:gdLst>
                      <a:gd name="textAreaLeft" fmla="*/ 0 w 484920"/>
                      <a:gd name="textAreaRight" fmla="*/ 485280 w 484920"/>
                      <a:gd name="textAreaTop" fmla="*/ 0 h 1189800"/>
                      <a:gd name="textAreaBottom" fmla="*/ 1190160 h 1189800"/>
                    </a:gdLst>
                    <a:ahLst/>
                    <a:rect l="textAreaLeft" t="textAreaTop" r="textAreaRight" b="textAreaBottom"/>
                    <a:pathLst>
                      <a:path w="682" h="1668">
                        <a:moveTo>
                          <a:pt x="678" y="1608"/>
                        </a:moveTo>
                        <a:lnTo>
                          <a:pt x="450" y="654"/>
                        </a:lnTo>
                        <a:lnTo>
                          <a:pt x="474" y="644"/>
                        </a:lnTo>
                        <a:lnTo>
                          <a:pt x="498" y="634"/>
                        </a:lnTo>
                        <a:lnTo>
                          <a:pt x="520" y="620"/>
                        </a:lnTo>
                        <a:lnTo>
                          <a:pt x="540" y="606"/>
                        </a:lnTo>
                        <a:lnTo>
                          <a:pt x="560" y="590"/>
                        </a:lnTo>
                        <a:lnTo>
                          <a:pt x="580" y="572"/>
                        </a:lnTo>
                        <a:lnTo>
                          <a:pt x="596" y="554"/>
                        </a:lnTo>
                        <a:lnTo>
                          <a:pt x="612" y="534"/>
                        </a:lnTo>
                        <a:lnTo>
                          <a:pt x="626" y="512"/>
                        </a:lnTo>
                        <a:lnTo>
                          <a:pt x="640" y="490"/>
                        </a:lnTo>
                        <a:lnTo>
                          <a:pt x="650" y="466"/>
                        </a:lnTo>
                        <a:lnTo>
                          <a:pt x="660" y="442"/>
                        </a:lnTo>
                        <a:lnTo>
                          <a:pt x="666" y="416"/>
                        </a:lnTo>
                        <a:lnTo>
                          <a:pt x="672" y="390"/>
                        </a:lnTo>
                        <a:lnTo>
                          <a:pt x="676" y="364"/>
                        </a:lnTo>
                        <a:lnTo>
                          <a:pt x="676" y="336"/>
                        </a:lnTo>
                        <a:lnTo>
                          <a:pt x="674" y="302"/>
                        </a:lnTo>
                        <a:lnTo>
                          <a:pt x="670" y="268"/>
                        </a:lnTo>
                        <a:lnTo>
                          <a:pt x="662" y="236"/>
                        </a:lnTo>
                        <a:lnTo>
                          <a:pt x="650" y="206"/>
                        </a:lnTo>
                        <a:lnTo>
                          <a:pt x="636" y="176"/>
                        </a:lnTo>
                        <a:lnTo>
                          <a:pt x="618" y="148"/>
                        </a:lnTo>
                        <a:lnTo>
                          <a:pt x="600" y="122"/>
                        </a:lnTo>
                        <a:lnTo>
                          <a:pt x="578" y="98"/>
                        </a:lnTo>
                        <a:lnTo>
                          <a:pt x="554" y="76"/>
                        </a:lnTo>
                        <a:lnTo>
                          <a:pt x="528" y="58"/>
                        </a:lnTo>
                        <a:lnTo>
                          <a:pt x="500" y="40"/>
                        </a:lnTo>
                        <a:lnTo>
                          <a:pt x="472" y="26"/>
                        </a:lnTo>
                        <a:lnTo>
                          <a:pt x="440" y="16"/>
                        </a:lnTo>
                        <a:lnTo>
                          <a:pt x="408" y="8"/>
                        </a:lnTo>
                        <a:lnTo>
                          <a:pt x="374" y="2"/>
                        </a:lnTo>
                        <a:lnTo>
                          <a:pt x="340" y="0"/>
                        </a:lnTo>
                        <a:lnTo>
                          <a:pt x="306" y="2"/>
                        </a:lnTo>
                        <a:lnTo>
                          <a:pt x="272" y="8"/>
                        </a:lnTo>
                        <a:lnTo>
                          <a:pt x="240" y="16"/>
                        </a:lnTo>
                        <a:lnTo>
                          <a:pt x="210" y="26"/>
                        </a:lnTo>
                        <a:lnTo>
                          <a:pt x="180" y="40"/>
                        </a:lnTo>
                        <a:lnTo>
                          <a:pt x="152" y="58"/>
                        </a:lnTo>
                        <a:lnTo>
                          <a:pt x="126" y="76"/>
                        </a:lnTo>
                        <a:lnTo>
                          <a:pt x="102" y="98"/>
                        </a:lnTo>
                        <a:lnTo>
                          <a:pt x="80" y="122"/>
                        </a:lnTo>
                        <a:lnTo>
                          <a:pt x="62" y="148"/>
                        </a:lnTo>
                        <a:lnTo>
                          <a:pt x="44" y="176"/>
                        </a:lnTo>
                        <a:lnTo>
                          <a:pt x="30" y="206"/>
                        </a:lnTo>
                        <a:lnTo>
                          <a:pt x="20" y="236"/>
                        </a:lnTo>
                        <a:lnTo>
                          <a:pt x="12" y="268"/>
                        </a:lnTo>
                        <a:lnTo>
                          <a:pt x="6" y="302"/>
                        </a:lnTo>
                        <a:lnTo>
                          <a:pt x="4" y="336"/>
                        </a:lnTo>
                        <a:lnTo>
                          <a:pt x="6" y="364"/>
                        </a:lnTo>
                        <a:lnTo>
                          <a:pt x="8" y="390"/>
                        </a:lnTo>
                        <a:lnTo>
                          <a:pt x="14" y="416"/>
                        </a:lnTo>
                        <a:lnTo>
                          <a:pt x="22" y="442"/>
                        </a:lnTo>
                        <a:lnTo>
                          <a:pt x="30" y="466"/>
                        </a:lnTo>
                        <a:lnTo>
                          <a:pt x="42" y="490"/>
                        </a:lnTo>
                        <a:lnTo>
                          <a:pt x="54" y="512"/>
                        </a:lnTo>
                        <a:lnTo>
                          <a:pt x="68" y="534"/>
                        </a:lnTo>
                        <a:lnTo>
                          <a:pt x="84" y="554"/>
                        </a:lnTo>
                        <a:lnTo>
                          <a:pt x="102" y="572"/>
                        </a:lnTo>
                        <a:lnTo>
                          <a:pt x="120" y="590"/>
                        </a:lnTo>
                        <a:lnTo>
                          <a:pt x="140" y="606"/>
                        </a:lnTo>
                        <a:lnTo>
                          <a:pt x="162" y="620"/>
                        </a:lnTo>
                        <a:lnTo>
                          <a:pt x="184" y="634"/>
                        </a:lnTo>
                        <a:lnTo>
                          <a:pt x="206" y="644"/>
                        </a:lnTo>
                        <a:lnTo>
                          <a:pt x="232" y="654"/>
                        </a:lnTo>
                        <a:lnTo>
                          <a:pt x="2" y="1608"/>
                        </a:lnTo>
                        <a:lnTo>
                          <a:pt x="0" y="1618"/>
                        </a:lnTo>
                        <a:lnTo>
                          <a:pt x="42" y="1630"/>
                        </a:lnTo>
                        <a:lnTo>
                          <a:pt x="84" y="1640"/>
                        </a:lnTo>
                        <a:lnTo>
                          <a:pt x="126" y="1648"/>
                        </a:lnTo>
                        <a:lnTo>
                          <a:pt x="170" y="1656"/>
                        </a:lnTo>
                        <a:lnTo>
                          <a:pt x="214" y="1662"/>
                        </a:lnTo>
                        <a:lnTo>
                          <a:pt x="260" y="1666"/>
                        </a:lnTo>
                        <a:lnTo>
                          <a:pt x="304" y="1668"/>
                        </a:lnTo>
                        <a:lnTo>
                          <a:pt x="350" y="1668"/>
                        </a:lnTo>
                        <a:lnTo>
                          <a:pt x="390" y="1668"/>
                        </a:lnTo>
                        <a:lnTo>
                          <a:pt x="410" y="1666"/>
                        </a:lnTo>
                        <a:lnTo>
                          <a:pt x="426" y="1666"/>
                        </a:lnTo>
                        <a:lnTo>
                          <a:pt x="454" y="1664"/>
                        </a:lnTo>
                        <a:lnTo>
                          <a:pt x="462" y="1664"/>
                        </a:lnTo>
                        <a:lnTo>
                          <a:pt x="494" y="1660"/>
                        </a:lnTo>
                        <a:lnTo>
                          <a:pt x="524" y="1656"/>
                        </a:lnTo>
                        <a:lnTo>
                          <a:pt x="562" y="1650"/>
                        </a:lnTo>
                        <a:lnTo>
                          <a:pt x="600" y="1644"/>
                        </a:lnTo>
                        <a:lnTo>
                          <a:pt x="644" y="1634"/>
                        </a:lnTo>
                        <a:lnTo>
                          <a:pt x="682" y="1624"/>
                        </a:lnTo>
                        <a:lnTo>
                          <a:pt x="678" y="1608"/>
                        </a:lnTo>
                        <a:close/>
                      </a:path>
                    </a:pathLst>
                  </a:custGeom>
                  <a:blipFill rotWithShape="0">
                    <a:blip r:embed="rId8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43"/>
                  <p:cNvSpPr/>
                  <p:nvPr/>
                </p:nvSpPr>
                <p:spPr>
                  <a:xfrm>
                    <a:off x="6373440" y="5069520"/>
                    <a:ext cx="199080" cy="709560"/>
                  </a:xfrm>
                  <a:custGeom>
                    <a:avLst/>
                    <a:gdLst>
                      <a:gd name="textAreaLeft" fmla="*/ 0 w 199080"/>
                      <a:gd name="textAreaRight" fmla="*/ 199440 w 199080"/>
                      <a:gd name="textAreaTop" fmla="*/ 0 h 709560"/>
                      <a:gd name="textAreaBottom" fmla="*/ 709920 h 709560"/>
                    </a:gdLst>
                    <a:ahLst/>
                    <a:rect l="textAreaLeft" t="textAreaTop" r="textAreaRight" b="textAreaBottom"/>
                    <a:pathLst>
                      <a:path w="280" h="996">
                        <a:moveTo>
                          <a:pt x="270" y="936"/>
                        </a:moveTo>
                        <a:lnTo>
                          <a:pt x="72" y="0"/>
                        </a:lnTo>
                        <a:lnTo>
                          <a:pt x="0" y="0"/>
                        </a:lnTo>
                        <a:lnTo>
                          <a:pt x="130" y="936"/>
                        </a:lnTo>
                        <a:lnTo>
                          <a:pt x="136" y="996"/>
                        </a:lnTo>
                        <a:lnTo>
                          <a:pt x="202" y="988"/>
                        </a:lnTo>
                        <a:lnTo>
                          <a:pt x="240" y="980"/>
                        </a:lnTo>
                        <a:lnTo>
                          <a:pt x="280" y="972"/>
                        </a:lnTo>
                        <a:lnTo>
                          <a:pt x="270" y="93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100000">
                        <a:srgbClr val="fffcf9">
                          <a:alpha val="77254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Freeform 44"/>
                  <p:cNvSpPr/>
                  <p:nvPr/>
                </p:nvSpPr>
                <p:spPr>
                  <a:xfrm>
                    <a:off x="6127200" y="5738040"/>
                    <a:ext cx="486360" cy="139320"/>
                  </a:xfrm>
                  <a:custGeom>
                    <a:avLst/>
                    <a:gdLst>
                      <a:gd name="textAreaLeft" fmla="*/ 0 w 486360"/>
                      <a:gd name="textAreaRight" fmla="*/ 486720 w 486360"/>
                      <a:gd name="textAreaTop" fmla="*/ 0 h 139320"/>
                      <a:gd name="textAreaBottom" fmla="*/ 139680 h 139320"/>
                    </a:gdLst>
                    <a:ahLst/>
                    <a:rect l="textAreaLeft" t="textAreaTop" r="textAreaRight" b="textAreaBottom"/>
                    <a:pathLst>
                      <a:path w="686" h="196">
                        <a:moveTo>
                          <a:pt x="684" y="6"/>
                        </a:moveTo>
                        <a:lnTo>
                          <a:pt x="684" y="6"/>
                        </a:lnTo>
                        <a:lnTo>
                          <a:pt x="646" y="16"/>
                        </a:lnTo>
                        <a:lnTo>
                          <a:pt x="602" y="28"/>
                        </a:lnTo>
                        <a:lnTo>
                          <a:pt x="564" y="36"/>
                        </a:lnTo>
                        <a:lnTo>
                          <a:pt x="526" y="44"/>
                        </a:lnTo>
                        <a:lnTo>
                          <a:pt x="496" y="48"/>
                        </a:lnTo>
                        <a:lnTo>
                          <a:pt x="464" y="52"/>
                        </a:lnTo>
                        <a:lnTo>
                          <a:pt x="456" y="52"/>
                        </a:lnTo>
                        <a:lnTo>
                          <a:pt x="428" y="54"/>
                        </a:lnTo>
                        <a:lnTo>
                          <a:pt x="410" y="56"/>
                        </a:lnTo>
                        <a:lnTo>
                          <a:pt x="390" y="56"/>
                        </a:lnTo>
                        <a:lnTo>
                          <a:pt x="350" y="58"/>
                        </a:lnTo>
                        <a:lnTo>
                          <a:pt x="306" y="56"/>
                        </a:lnTo>
                        <a:lnTo>
                          <a:pt x="260" y="54"/>
                        </a:lnTo>
                        <a:lnTo>
                          <a:pt x="216" y="48"/>
                        </a:lnTo>
                        <a:lnTo>
                          <a:pt x="172" y="42"/>
                        </a:lnTo>
                        <a:lnTo>
                          <a:pt x="128" y="34"/>
                        </a:lnTo>
                        <a:lnTo>
                          <a:pt x="84" y="24"/>
                        </a:lnTo>
                        <a:lnTo>
                          <a:pt x="42" y="12"/>
                        </a:lnTo>
                        <a:lnTo>
                          <a:pt x="0" y="0"/>
                        </a:lnTo>
                        <a:lnTo>
                          <a:pt x="0" y="142"/>
                        </a:lnTo>
                        <a:lnTo>
                          <a:pt x="42" y="154"/>
                        </a:lnTo>
                        <a:lnTo>
                          <a:pt x="86" y="166"/>
                        </a:lnTo>
                        <a:lnTo>
                          <a:pt x="128" y="174"/>
                        </a:lnTo>
                        <a:lnTo>
                          <a:pt x="172" y="182"/>
                        </a:lnTo>
                        <a:lnTo>
                          <a:pt x="216" y="188"/>
                        </a:lnTo>
                        <a:lnTo>
                          <a:pt x="260" y="192"/>
                        </a:lnTo>
                        <a:lnTo>
                          <a:pt x="306" y="194"/>
                        </a:lnTo>
                        <a:lnTo>
                          <a:pt x="350" y="196"/>
                        </a:lnTo>
                        <a:lnTo>
                          <a:pt x="394" y="194"/>
                        </a:lnTo>
                        <a:lnTo>
                          <a:pt x="436" y="192"/>
                        </a:lnTo>
                        <a:lnTo>
                          <a:pt x="480" y="188"/>
                        </a:lnTo>
                        <a:lnTo>
                          <a:pt x="522" y="182"/>
                        </a:lnTo>
                        <a:lnTo>
                          <a:pt x="564" y="176"/>
                        </a:lnTo>
                        <a:lnTo>
                          <a:pt x="604" y="168"/>
                        </a:lnTo>
                        <a:lnTo>
                          <a:pt x="646" y="158"/>
                        </a:lnTo>
                        <a:lnTo>
                          <a:pt x="686" y="148"/>
                        </a:lnTo>
                        <a:lnTo>
                          <a:pt x="686" y="14"/>
                        </a:lnTo>
                        <a:lnTo>
                          <a:pt x="684" y="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000"/>
                      </a:gs>
                      <a:gs pos="100000">
                        <a:srgbClr val="a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2" name="Ellipse 45"/>
                <p:cNvSpPr/>
                <p:nvPr/>
              </p:nvSpPr>
              <p:spPr>
                <a:xfrm>
                  <a:off x="6200640" y="4605120"/>
                  <a:ext cx="344160" cy="25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fffcf9">
                        <a:alpha val="77254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93" name="Gruppe 170"/>
          <p:cNvGrpSpPr/>
          <p:nvPr/>
        </p:nvGrpSpPr>
        <p:grpSpPr>
          <a:xfrm>
            <a:off x="4608360" y="3195720"/>
            <a:ext cx="636840" cy="774720"/>
            <a:chOff x="4608360" y="3195720"/>
            <a:chExt cx="636840" cy="774720"/>
          </a:xfrm>
        </p:grpSpPr>
        <p:grpSp>
          <p:nvGrpSpPr>
            <p:cNvPr id="394" name="Ellipse 524"/>
            <p:cNvGrpSpPr/>
            <p:nvPr/>
          </p:nvGrpSpPr>
          <p:grpSpPr>
            <a:xfrm>
              <a:off x="4608360" y="3837240"/>
              <a:ext cx="561960" cy="133200"/>
              <a:chOff x="4608360" y="3837240"/>
              <a:chExt cx="561960" cy="133200"/>
            </a:xfrm>
          </p:grpSpPr>
          <p:pic>
            <p:nvPicPr>
              <p:cNvPr id="395" name="Ellipse 524" descr=""/>
              <p:cNvPicPr/>
              <p:nvPr/>
            </p:nvPicPr>
            <p:blipFill>
              <a:blip r:embed="rId9"/>
              <a:stretch/>
            </p:blipFill>
            <p:spPr>
              <a:xfrm>
                <a:off x="4608360" y="3837240"/>
                <a:ext cx="561960" cy="13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4694400" y="3860640"/>
                <a:ext cx="387720" cy="8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Gruppe 156"/>
            <p:cNvGrpSpPr/>
            <p:nvPr/>
          </p:nvGrpSpPr>
          <p:grpSpPr>
            <a:xfrm>
              <a:off x="4748040" y="3195720"/>
              <a:ext cx="497160" cy="743400"/>
              <a:chOff x="4748040" y="3195720"/>
              <a:chExt cx="497160" cy="743400"/>
            </a:xfrm>
          </p:grpSpPr>
          <p:sp>
            <p:nvSpPr>
              <p:cNvPr id="398" name="Freeform 7"/>
              <p:cNvSpPr/>
              <p:nvPr/>
            </p:nvSpPr>
            <p:spPr>
              <a:xfrm>
                <a:off x="4793400" y="3799080"/>
                <a:ext cx="451800" cy="127800"/>
              </a:xfrm>
              <a:custGeom>
                <a:avLst/>
                <a:gdLst>
                  <a:gd name="textAreaLeft" fmla="*/ 0 w 451800"/>
                  <a:gd name="textAreaRight" fmla="*/ 452160 w 45180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884" h="662">
                    <a:moveTo>
                      <a:pt x="516" y="614"/>
                    </a:moveTo>
                    <a:lnTo>
                      <a:pt x="624" y="256"/>
                    </a:lnTo>
                    <a:lnTo>
                      <a:pt x="662" y="260"/>
                    </a:lnTo>
                    <a:lnTo>
                      <a:pt x="700" y="264"/>
                    </a:lnTo>
                    <a:lnTo>
                      <a:pt x="736" y="262"/>
                    </a:lnTo>
                    <a:lnTo>
                      <a:pt x="768" y="258"/>
                    </a:lnTo>
                    <a:lnTo>
                      <a:pt x="798" y="252"/>
                    </a:lnTo>
                    <a:lnTo>
                      <a:pt x="826" y="242"/>
                    </a:lnTo>
                    <a:lnTo>
                      <a:pt x="848" y="230"/>
                    </a:lnTo>
                    <a:lnTo>
                      <a:pt x="858" y="222"/>
                    </a:lnTo>
                    <a:lnTo>
                      <a:pt x="866" y="214"/>
                    </a:lnTo>
                    <a:lnTo>
                      <a:pt x="874" y="204"/>
                    </a:lnTo>
                    <a:lnTo>
                      <a:pt x="880" y="192"/>
                    </a:lnTo>
                    <a:lnTo>
                      <a:pt x="884" y="180"/>
                    </a:lnTo>
                    <a:lnTo>
                      <a:pt x="884" y="168"/>
                    </a:lnTo>
                    <a:lnTo>
                      <a:pt x="882" y="156"/>
                    </a:lnTo>
                    <a:lnTo>
                      <a:pt x="878" y="144"/>
                    </a:lnTo>
                    <a:lnTo>
                      <a:pt x="872" y="130"/>
                    </a:lnTo>
                    <a:lnTo>
                      <a:pt x="864" y="118"/>
                    </a:lnTo>
                    <a:lnTo>
                      <a:pt x="854" y="106"/>
                    </a:lnTo>
                    <a:lnTo>
                      <a:pt x="842" y="94"/>
                    </a:lnTo>
                    <a:lnTo>
                      <a:pt x="828" y="82"/>
                    </a:lnTo>
                    <a:lnTo>
                      <a:pt x="812" y="70"/>
                    </a:lnTo>
                    <a:lnTo>
                      <a:pt x="794" y="58"/>
                    </a:lnTo>
                    <a:lnTo>
                      <a:pt x="774" y="48"/>
                    </a:lnTo>
                    <a:lnTo>
                      <a:pt x="752" y="38"/>
                    </a:lnTo>
                    <a:lnTo>
                      <a:pt x="730" y="30"/>
                    </a:lnTo>
                    <a:lnTo>
                      <a:pt x="706" y="22"/>
                    </a:lnTo>
                    <a:lnTo>
                      <a:pt x="682" y="14"/>
                    </a:lnTo>
                    <a:lnTo>
                      <a:pt x="658" y="10"/>
                    </a:lnTo>
                    <a:lnTo>
                      <a:pt x="634" y="4"/>
                    </a:lnTo>
                    <a:lnTo>
                      <a:pt x="586" y="0"/>
                    </a:lnTo>
                    <a:lnTo>
                      <a:pt x="562" y="0"/>
                    </a:lnTo>
                    <a:lnTo>
                      <a:pt x="540" y="0"/>
                    </a:lnTo>
                    <a:lnTo>
                      <a:pt x="520" y="2"/>
                    </a:lnTo>
                    <a:lnTo>
                      <a:pt x="500" y="6"/>
                    </a:lnTo>
                    <a:lnTo>
                      <a:pt x="480" y="10"/>
                    </a:lnTo>
                    <a:lnTo>
                      <a:pt x="462" y="16"/>
                    </a:lnTo>
                    <a:lnTo>
                      <a:pt x="446" y="22"/>
                    </a:lnTo>
                    <a:lnTo>
                      <a:pt x="432" y="30"/>
                    </a:lnTo>
                    <a:lnTo>
                      <a:pt x="420" y="38"/>
                    </a:lnTo>
                    <a:lnTo>
                      <a:pt x="408" y="48"/>
                    </a:lnTo>
                    <a:lnTo>
                      <a:pt x="402" y="58"/>
                    </a:lnTo>
                    <a:lnTo>
                      <a:pt x="396" y="66"/>
                    </a:lnTo>
                    <a:lnTo>
                      <a:pt x="394" y="76"/>
                    </a:lnTo>
                    <a:lnTo>
                      <a:pt x="392" y="84"/>
                    </a:lnTo>
                    <a:lnTo>
                      <a:pt x="390" y="94"/>
                    </a:lnTo>
                    <a:lnTo>
                      <a:pt x="392" y="104"/>
                    </a:lnTo>
                    <a:lnTo>
                      <a:pt x="394" y="114"/>
                    </a:lnTo>
                    <a:lnTo>
                      <a:pt x="398" y="124"/>
                    </a:lnTo>
                    <a:lnTo>
                      <a:pt x="410" y="144"/>
                    </a:lnTo>
                    <a:lnTo>
                      <a:pt x="426" y="164"/>
                    </a:lnTo>
                    <a:lnTo>
                      <a:pt x="450" y="184"/>
                    </a:lnTo>
                    <a:lnTo>
                      <a:pt x="476" y="202"/>
                    </a:lnTo>
                    <a:lnTo>
                      <a:pt x="44" y="444"/>
                    </a:lnTo>
                    <a:lnTo>
                      <a:pt x="42" y="442"/>
                    </a:lnTo>
                    <a:lnTo>
                      <a:pt x="0" y="490"/>
                    </a:lnTo>
                    <a:lnTo>
                      <a:pt x="474" y="662"/>
                    </a:lnTo>
                    <a:lnTo>
                      <a:pt x="516" y="616"/>
                    </a:lnTo>
                    <a:lnTo>
                      <a:pt x="516" y="614"/>
                    </a:lnTo>
                    <a:close/>
                  </a:path>
                </a:pathLst>
              </a:custGeom>
              <a:solidFill>
                <a:srgbClr val="000000">
                  <a:alpha val="1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9" name="Gruppe 155"/>
              <p:cNvGrpSpPr/>
              <p:nvPr/>
            </p:nvGrpSpPr>
            <p:grpSpPr>
              <a:xfrm>
                <a:off x="4748040" y="3195720"/>
                <a:ext cx="281880" cy="743400"/>
                <a:chOff x="4748040" y="3195720"/>
                <a:chExt cx="281880" cy="743400"/>
              </a:xfrm>
            </p:grpSpPr>
            <p:grpSp>
              <p:nvGrpSpPr>
                <p:cNvPr id="400" name="Gruppe 151"/>
                <p:cNvGrpSpPr/>
                <p:nvPr/>
              </p:nvGrpSpPr>
              <p:grpSpPr>
                <a:xfrm>
                  <a:off x="4748040" y="3195720"/>
                  <a:ext cx="281880" cy="743400"/>
                  <a:chOff x="4748040" y="3195720"/>
                  <a:chExt cx="281880" cy="743400"/>
                </a:xfrm>
              </p:grpSpPr>
              <p:sp>
                <p:nvSpPr>
                  <p:cNvPr id="401" name="Freeform 40"/>
                  <p:cNvSpPr/>
                  <p:nvPr/>
                </p:nvSpPr>
                <p:spPr>
                  <a:xfrm>
                    <a:off x="4748040" y="3195720"/>
                    <a:ext cx="280440" cy="689760"/>
                  </a:xfrm>
                  <a:custGeom>
                    <a:avLst/>
                    <a:gdLst>
                      <a:gd name="textAreaLeft" fmla="*/ 0 w 280440"/>
                      <a:gd name="textAreaRight" fmla="*/ 280800 w 280440"/>
                      <a:gd name="textAreaTop" fmla="*/ 0 h 689760"/>
                      <a:gd name="textAreaBottom" fmla="*/ 690120 h 689760"/>
                    </a:gdLst>
                    <a:ahLst/>
                    <a:rect l="textAreaLeft" t="textAreaTop" r="textAreaRight" b="textAreaBottom"/>
                    <a:pathLst>
                      <a:path w="682" h="1668">
                        <a:moveTo>
                          <a:pt x="678" y="1608"/>
                        </a:moveTo>
                        <a:lnTo>
                          <a:pt x="450" y="654"/>
                        </a:lnTo>
                        <a:lnTo>
                          <a:pt x="474" y="644"/>
                        </a:lnTo>
                        <a:lnTo>
                          <a:pt x="498" y="634"/>
                        </a:lnTo>
                        <a:lnTo>
                          <a:pt x="520" y="620"/>
                        </a:lnTo>
                        <a:lnTo>
                          <a:pt x="540" y="606"/>
                        </a:lnTo>
                        <a:lnTo>
                          <a:pt x="560" y="590"/>
                        </a:lnTo>
                        <a:lnTo>
                          <a:pt x="580" y="572"/>
                        </a:lnTo>
                        <a:lnTo>
                          <a:pt x="596" y="554"/>
                        </a:lnTo>
                        <a:lnTo>
                          <a:pt x="612" y="534"/>
                        </a:lnTo>
                        <a:lnTo>
                          <a:pt x="626" y="512"/>
                        </a:lnTo>
                        <a:lnTo>
                          <a:pt x="640" y="490"/>
                        </a:lnTo>
                        <a:lnTo>
                          <a:pt x="650" y="466"/>
                        </a:lnTo>
                        <a:lnTo>
                          <a:pt x="660" y="442"/>
                        </a:lnTo>
                        <a:lnTo>
                          <a:pt x="666" y="416"/>
                        </a:lnTo>
                        <a:lnTo>
                          <a:pt x="672" y="390"/>
                        </a:lnTo>
                        <a:lnTo>
                          <a:pt x="676" y="364"/>
                        </a:lnTo>
                        <a:lnTo>
                          <a:pt x="676" y="336"/>
                        </a:lnTo>
                        <a:lnTo>
                          <a:pt x="674" y="302"/>
                        </a:lnTo>
                        <a:lnTo>
                          <a:pt x="670" y="268"/>
                        </a:lnTo>
                        <a:lnTo>
                          <a:pt x="662" y="236"/>
                        </a:lnTo>
                        <a:lnTo>
                          <a:pt x="650" y="206"/>
                        </a:lnTo>
                        <a:lnTo>
                          <a:pt x="636" y="176"/>
                        </a:lnTo>
                        <a:lnTo>
                          <a:pt x="618" y="148"/>
                        </a:lnTo>
                        <a:lnTo>
                          <a:pt x="600" y="122"/>
                        </a:lnTo>
                        <a:lnTo>
                          <a:pt x="578" y="98"/>
                        </a:lnTo>
                        <a:lnTo>
                          <a:pt x="554" y="76"/>
                        </a:lnTo>
                        <a:lnTo>
                          <a:pt x="528" y="58"/>
                        </a:lnTo>
                        <a:lnTo>
                          <a:pt x="500" y="40"/>
                        </a:lnTo>
                        <a:lnTo>
                          <a:pt x="472" y="26"/>
                        </a:lnTo>
                        <a:lnTo>
                          <a:pt x="440" y="16"/>
                        </a:lnTo>
                        <a:lnTo>
                          <a:pt x="408" y="8"/>
                        </a:lnTo>
                        <a:lnTo>
                          <a:pt x="374" y="2"/>
                        </a:lnTo>
                        <a:lnTo>
                          <a:pt x="340" y="0"/>
                        </a:lnTo>
                        <a:lnTo>
                          <a:pt x="306" y="2"/>
                        </a:lnTo>
                        <a:lnTo>
                          <a:pt x="272" y="8"/>
                        </a:lnTo>
                        <a:lnTo>
                          <a:pt x="240" y="16"/>
                        </a:lnTo>
                        <a:lnTo>
                          <a:pt x="210" y="26"/>
                        </a:lnTo>
                        <a:lnTo>
                          <a:pt x="180" y="40"/>
                        </a:lnTo>
                        <a:lnTo>
                          <a:pt x="152" y="58"/>
                        </a:lnTo>
                        <a:lnTo>
                          <a:pt x="126" y="76"/>
                        </a:lnTo>
                        <a:lnTo>
                          <a:pt x="102" y="98"/>
                        </a:lnTo>
                        <a:lnTo>
                          <a:pt x="80" y="122"/>
                        </a:lnTo>
                        <a:lnTo>
                          <a:pt x="62" y="148"/>
                        </a:lnTo>
                        <a:lnTo>
                          <a:pt x="44" y="176"/>
                        </a:lnTo>
                        <a:lnTo>
                          <a:pt x="30" y="206"/>
                        </a:lnTo>
                        <a:lnTo>
                          <a:pt x="20" y="236"/>
                        </a:lnTo>
                        <a:lnTo>
                          <a:pt x="12" y="268"/>
                        </a:lnTo>
                        <a:lnTo>
                          <a:pt x="6" y="302"/>
                        </a:lnTo>
                        <a:lnTo>
                          <a:pt x="4" y="336"/>
                        </a:lnTo>
                        <a:lnTo>
                          <a:pt x="6" y="364"/>
                        </a:lnTo>
                        <a:lnTo>
                          <a:pt x="8" y="390"/>
                        </a:lnTo>
                        <a:lnTo>
                          <a:pt x="14" y="416"/>
                        </a:lnTo>
                        <a:lnTo>
                          <a:pt x="22" y="442"/>
                        </a:lnTo>
                        <a:lnTo>
                          <a:pt x="30" y="466"/>
                        </a:lnTo>
                        <a:lnTo>
                          <a:pt x="42" y="490"/>
                        </a:lnTo>
                        <a:lnTo>
                          <a:pt x="54" y="512"/>
                        </a:lnTo>
                        <a:lnTo>
                          <a:pt x="68" y="534"/>
                        </a:lnTo>
                        <a:lnTo>
                          <a:pt x="84" y="554"/>
                        </a:lnTo>
                        <a:lnTo>
                          <a:pt x="102" y="572"/>
                        </a:lnTo>
                        <a:lnTo>
                          <a:pt x="120" y="590"/>
                        </a:lnTo>
                        <a:lnTo>
                          <a:pt x="140" y="606"/>
                        </a:lnTo>
                        <a:lnTo>
                          <a:pt x="162" y="620"/>
                        </a:lnTo>
                        <a:lnTo>
                          <a:pt x="184" y="634"/>
                        </a:lnTo>
                        <a:lnTo>
                          <a:pt x="206" y="644"/>
                        </a:lnTo>
                        <a:lnTo>
                          <a:pt x="232" y="654"/>
                        </a:lnTo>
                        <a:lnTo>
                          <a:pt x="2" y="1608"/>
                        </a:lnTo>
                        <a:lnTo>
                          <a:pt x="0" y="1618"/>
                        </a:lnTo>
                        <a:lnTo>
                          <a:pt x="42" y="1630"/>
                        </a:lnTo>
                        <a:lnTo>
                          <a:pt x="84" y="1640"/>
                        </a:lnTo>
                        <a:lnTo>
                          <a:pt x="126" y="1648"/>
                        </a:lnTo>
                        <a:lnTo>
                          <a:pt x="170" y="1656"/>
                        </a:lnTo>
                        <a:lnTo>
                          <a:pt x="214" y="1662"/>
                        </a:lnTo>
                        <a:lnTo>
                          <a:pt x="260" y="1666"/>
                        </a:lnTo>
                        <a:lnTo>
                          <a:pt x="304" y="1668"/>
                        </a:lnTo>
                        <a:lnTo>
                          <a:pt x="350" y="1668"/>
                        </a:lnTo>
                        <a:lnTo>
                          <a:pt x="390" y="1668"/>
                        </a:lnTo>
                        <a:lnTo>
                          <a:pt x="410" y="1666"/>
                        </a:lnTo>
                        <a:lnTo>
                          <a:pt x="426" y="1666"/>
                        </a:lnTo>
                        <a:lnTo>
                          <a:pt x="454" y="1664"/>
                        </a:lnTo>
                        <a:lnTo>
                          <a:pt x="462" y="1664"/>
                        </a:lnTo>
                        <a:lnTo>
                          <a:pt x="494" y="1660"/>
                        </a:lnTo>
                        <a:lnTo>
                          <a:pt x="524" y="1656"/>
                        </a:lnTo>
                        <a:lnTo>
                          <a:pt x="562" y="1650"/>
                        </a:lnTo>
                        <a:lnTo>
                          <a:pt x="600" y="1644"/>
                        </a:lnTo>
                        <a:lnTo>
                          <a:pt x="644" y="1634"/>
                        </a:lnTo>
                        <a:lnTo>
                          <a:pt x="682" y="1624"/>
                        </a:lnTo>
                        <a:lnTo>
                          <a:pt x="678" y="1608"/>
                        </a:lnTo>
                        <a:close/>
                      </a:path>
                    </a:pathLst>
                  </a:custGeom>
                  <a:blipFill rotWithShape="0">
                    <a:blip r:embed="rId10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Freeform 43"/>
                  <p:cNvSpPr/>
                  <p:nvPr/>
                </p:nvSpPr>
                <p:spPr>
                  <a:xfrm>
                    <a:off x="4891320" y="3470400"/>
                    <a:ext cx="114840" cy="411840"/>
                  </a:xfrm>
                  <a:custGeom>
                    <a:avLst/>
                    <a:gdLst>
                      <a:gd name="textAreaLeft" fmla="*/ 0 w 114840"/>
                      <a:gd name="textAreaRight" fmla="*/ 115200 w 114840"/>
                      <a:gd name="textAreaTop" fmla="*/ 0 h 411840"/>
                      <a:gd name="textAreaBottom" fmla="*/ 412200 h 411840"/>
                    </a:gdLst>
                    <a:ahLst/>
                    <a:rect l="textAreaLeft" t="textAreaTop" r="textAreaRight" b="textAreaBottom"/>
                    <a:pathLst>
                      <a:path w="280" h="996">
                        <a:moveTo>
                          <a:pt x="270" y="936"/>
                        </a:moveTo>
                        <a:lnTo>
                          <a:pt x="72" y="0"/>
                        </a:lnTo>
                        <a:lnTo>
                          <a:pt x="0" y="0"/>
                        </a:lnTo>
                        <a:lnTo>
                          <a:pt x="130" y="936"/>
                        </a:lnTo>
                        <a:lnTo>
                          <a:pt x="136" y="996"/>
                        </a:lnTo>
                        <a:lnTo>
                          <a:pt x="202" y="988"/>
                        </a:lnTo>
                        <a:lnTo>
                          <a:pt x="240" y="980"/>
                        </a:lnTo>
                        <a:lnTo>
                          <a:pt x="280" y="972"/>
                        </a:lnTo>
                        <a:lnTo>
                          <a:pt x="270" y="93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100000">
                        <a:srgbClr val="fffcf9">
                          <a:alpha val="77254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Freeform 44"/>
                  <p:cNvSpPr/>
                  <p:nvPr/>
                </p:nvSpPr>
                <p:spPr>
                  <a:xfrm>
                    <a:off x="4748040" y="3858840"/>
                    <a:ext cx="281880" cy="80280"/>
                  </a:xfrm>
                  <a:custGeom>
                    <a:avLst/>
                    <a:gdLst>
                      <a:gd name="textAreaLeft" fmla="*/ 0 w 281880"/>
                      <a:gd name="textAreaRight" fmla="*/ 282240 w 281880"/>
                      <a:gd name="textAreaTop" fmla="*/ 0 h 80280"/>
                      <a:gd name="textAreaBottom" fmla="*/ 80640 h 80280"/>
                    </a:gdLst>
                    <a:ahLst/>
                    <a:rect l="textAreaLeft" t="textAreaTop" r="textAreaRight" b="textAreaBottom"/>
                    <a:pathLst>
                      <a:path w="686" h="196">
                        <a:moveTo>
                          <a:pt x="684" y="6"/>
                        </a:moveTo>
                        <a:lnTo>
                          <a:pt x="684" y="6"/>
                        </a:lnTo>
                        <a:lnTo>
                          <a:pt x="646" y="16"/>
                        </a:lnTo>
                        <a:lnTo>
                          <a:pt x="602" y="28"/>
                        </a:lnTo>
                        <a:lnTo>
                          <a:pt x="564" y="36"/>
                        </a:lnTo>
                        <a:lnTo>
                          <a:pt x="526" y="44"/>
                        </a:lnTo>
                        <a:lnTo>
                          <a:pt x="496" y="48"/>
                        </a:lnTo>
                        <a:lnTo>
                          <a:pt x="464" y="52"/>
                        </a:lnTo>
                        <a:lnTo>
                          <a:pt x="456" y="52"/>
                        </a:lnTo>
                        <a:lnTo>
                          <a:pt x="428" y="54"/>
                        </a:lnTo>
                        <a:lnTo>
                          <a:pt x="410" y="56"/>
                        </a:lnTo>
                        <a:lnTo>
                          <a:pt x="390" y="56"/>
                        </a:lnTo>
                        <a:lnTo>
                          <a:pt x="350" y="58"/>
                        </a:lnTo>
                        <a:lnTo>
                          <a:pt x="306" y="56"/>
                        </a:lnTo>
                        <a:lnTo>
                          <a:pt x="260" y="54"/>
                        </a:lnTo>
                        <a:lnTo>
                          <a:pt x="216" y="48"/>
                        </a:lnTo>
                        <a:lnTo>
                          <a:pt x="172" y="42"/>
                        </a:lnTo>
                        <a:lnTo>
                          <a:pt x="128" y="34"/>
                        </a:lnTo>
                        <a:lnTo>
                          <a:pt x="84" y="24"/>
                        </a:lnTo>
                        <a:lnTo>
                          <a:pt x="42" y="12"/>
                        </a:lnTo>
                        <a:lnTo>
                          <a:pt x="0" y="0"/>
                        </a:lnTo>
                        <a:lnTo>
                          <a:pt x="0" y="142"/>
                        </a:lnTo>
                        <a:lnTo>
                          <a:pt x="42" y="154"/>
                        </a:lnTo>
                        <a:lnTo>
                          <a:pt x="86" y="166"/>
                        </a:lnTo>
                        <a:lnTo>
                          <a:pt x="128" y="174"/>
                        </a:lnTo>
                        <a:lnTo>
                          <a:pt x="172" y="182"/>
                        </a:lnTo>
                        <a:lnTo>
                          <a:pt x="216" y="188"/>
                        </a:lnTo>
                        <a:lnTo>
                          <a:pt x="260" y="192"/>
                        </a:lnTo>
                        <a:lnTo>
                          <a:pt x="306" y="194"/>
                        </a:lnTo>
                        <a:lnTo>
                          <a:pt x="350" y="196"/>
                        </a:lnTo>
                        <a:lnTo>
                          <a:pt x="394" y="194"/>
                        </a:lnTo>
                        <a:lnTo>
                          <a:pt x="436" y="192"/>
                        </a:lnTo>
                        <a:lnTo>
                          <a:pt x="480" y="188"/>
                        </a:lnTo>
                        <a:lnTo>
                          <a:pt x="522" y="182"/>
                        </a:lnTo>
                        <a:lnTo>
                          <a:pt x="564" y="176"/>
                        </a:lnTo>
                        <a:lnTo>
                          <a:pt x="604" y="168"/>
                        </a:lnTo>
                        <a:lnTo>
                          <a:pt x="646" y="158"/>
                        </a:lnTo>
                        <a:lnTo>
                          <a:pt x="686" y="148"/>
                        </a:lnTo>
                        <a:lnTo>
                          <a:pt x="686" y="14"/>
                        </a:lnTo>
                        <a:lnTo>
                          <a:pt x="684" y="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000"/>
                      </a:gs>
                      <a:gs pos="100000">
                        <a:srgbClr val="a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840" bIns="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4" name="Ellipse 45"/>
                <p:cNvSpPr/>
                <p:nvPr/>
              </p:nvSpPr>
              <p:spPr>
                <a:xfrm>
                  <a:off x="4790520" y="3201840"/>
                  <a:ext cx="200160" cy="14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fffcf9">
                        <a:alpha val="77254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05" name="Gruppe 170"/>
          <p:cNvGrpSpPr/>
          <p:nvPr/>
        </p:nvGrpSpPr>
        <p:grpSpPr>
          <a:xfrm>
            <a:off x="4330800" y="3124080"/>
            <a:ext cx="528480" cy="644760"/>
            <a:chOff x="4330800" y="3124080"/>
            <a:chExt cx="528480" cy="644760"/>
          </a:xfrm>
        </p:grpSpPr>
        <p:grpSp>
          <p:nvGrpSpPr>
            <p:cNvPr id="406" name="Ellipse 534"/>
            <p:cNvGrpSpPr/>
            <p:nvPr/>
          </p:nvGrpSpPr>
          <p:grpSpPr>
            <a:xfrm>
              <a:off x="4330800" y="3654000"/>
              <a:ext cx="468000" cy="114840"/>
              <a:chOff x="4330800" y="3654000"/>
              <a:chExt cx="468000" cy="114840"/>
            </a:xfrm>
          </p:grpSpPr>
          <p:pic>
            <p:nvPicPr>
              <p:cNvPr id="407" name="Ellipse 5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4330800" y="3654000"/>
                <a:ext cx="468000" cy="11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>
                <a:off x="4405320" y="3676680"/>
                <a:ext cx="319680" cy="7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Gruppe 156"/>
            <p:cNvGrpSpPr/>
            <p:nvPr/>
          </p:nvGrpSpPr>
          <p:grpSpPr>
            <a:xfrm>
              <a:off x="4449600" y="3124080"/>
              <a:ext cx="409680" cy="617760"/>
              <a:chOff x="4449600" y="3124080"/>
              <a:chExt cx="409680" cy="617760"/>
            </a:xfrm>
          </p:grpSpPr>
          <p:sp>
            <p:nvSpPr>
              <p:cNvPr id="410" name="Freeform 7"/>
              <p:cNvSpPr/>
              <p:nvPr/>
            </p:nvSpPr>
            <p:spPr>
              <a:xfrm>
                <a:off x="4487400" y="3625560"/>
                <a:ext cx="371880" cy="105480"/>
              </a:xfrm>
              <a:custGeom>
                <a:avLst/>
                <a:gdLst>
                  <a:gd name="textAreaLeft" fmla="*/ 0 w 371880"/>
                  <a:gd name="textAreaRight" fmla="*/ 372240 w 37188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884" h="662">
                    <a:moveTo>
                      <a:pt x="516" y="614"/>
                    </a:moveTo>
                    <a:lnTo>
                      <a:pt x="624" y="256"/>
                    </a:lnTo>
                    <a:lnTo>
                      <a:pt x="662" y="260"/>
                    </a:lnTo>
                    <a:lnTo>
                      <a:pt x="700" y="264"/>
                    </a:lnTo>
                    <a:lnTo>
                      <a:pt x="736" y="262"/>
                    </a:lnTo>
                    <a:lnTo>
                      <a:pt x="768" y="258"/>
                    </a:lnTo>
                    <a:lnTo>
                      <a:pt x="798" y="252"/>
                    </a:lnTo>
                    <a:lnTo>
                      <a:pt x="826" y="242"/>
                    </a:lnTo>
                    <a:lnTo>
                      <a:pt x="848" y="230"/>
                    </a:lnTo>
                    <a:lnTo>
                      <a:pt x="858" y="222"/>
                    </a:lnTo>
                    <a:lnTo>
                      <a:pt x="866" y="214"/>
                    </a:lnTo>
                    <a:lnTo>
                      <a:pt x="874" y="204"/>
                    </a:lnTo>
                    <a:lnTo>
                      <a:pt x="880" y="192"/>
                    </a:lnTo>
                    <a:lnTo>
                      <a:pt x="884" y="180"/>
                    </a:lnTo>
                    <a:lnTo>
                      <a:pt x="884" y="168"/>
                    </a:lnTo>
                    <a:lnTo>
                      <a:pt x="882" y="156"/>
                    </a:lnTo>
                    <a:lnTo>
                      <a:pt x="878" y="144"/>
                    </a:lnTo>
                    <a:lnTo>
                      <a:pt x="872" y="130"/>
                    </a:lnTo>
                    <a:lnTo>
                      <a:pt x="864" y="118"/>
                    </a:lnTo>
                    <a:lnTo>
                      <a:pt x="854" y="106"/>
                    </a:lnTo>
                    <a:lnTo>
                      <a:pt x="842" y="94"/>
                    </a:lnTo>
                    <a:lnTo>
                      <a:pt x="828" y="82"/>
                    </a:lnTo>
                    <a:lnTo>
                      <a:pt x="812" y="70"/>
                    </a:lnTo>
                    <a:lnTo>
                      <a:pt x="794" y="58"/>
                    </a:lnTo>
                    <a:lnTo>
                      <a:pt x="774" y="48"/>
                    </a:lnTo>
                    <a:lnTo>
                      <a:pt x="752" y="38"/>
                    </a:lnTo>
                    <a:lnTo>
                      <a:pt x="730" y="30"/>
                    </a:lnTo>
                    <a:lnTo>
                      <a:pt x="706" y="22"/>
                    </a:lnTo>
                    <a:lnTo>
                      <a:pt x="682" y="14"/>
                    </a:lnTo>
                    <a:lnTo>
                      <a:pt x="658" y="10"/>
                    </a:lnTo>
                    <a:lnTo>
                      <a:pt x="634" y="4"/>
                    </a:lnTo>
                    <a:lnTo>
                      <a:pt x="586" y="0"/>
                    </a:lnTo>
                    <a:lnTo>
                      <a:pt x="562" y="0"/>
                    </a:lnTo>
                    <a:lnTo>
                      <a:pt x="540" y="0"/>
                    </a:lnTo>
                    <a:lnTo>
                      <a:pt x="520" y="2"/>
                    </a:lnTo>
                    <a:lnTo>
                      <a:pt x="500" y="6"/>
                    </a:lnTo>
                    <a:lnTo>
                      <a:pt x="480" y="10"/>
                    </a:lnTo>
                    <a:lnTo>
                      <a:pt x="462" y="16"/>
                    </a:lnTo>
                    <a:lnTo>
                      <a:pt x="446" y="22"/>
                    </a:lnTo>
                    <a:lnTo>
                      <a:pt x="432" y="30"/>
                    </a:lnTo>
                    <a:lnTo>
                      <a:pt x="420" y="38"/>
                    </a:lnTo>
                    <a:lnTo>
                      <a:pt x="408" y="48"/>
                    </a:lnTo>
                    <a:lnTo>
                      <a:pt x="402" y="58"/>
                    </a:lnTo>
                    <a:lnTo>
                      <a:pt x="396" y="66"/>
                    </a:lnTo>
                    <a:lnTo>
                      <a:pt x="394" y="76"/>
                    </a:lnTo>
                    <a:lnTo>
                      <a:pt x="392" y="84"/>
                    </a:lnTo>
                    <a:lnTo>
                      <a:pt x="390" y="94"/>
                    </a:lnTo>
                    <a:lnTo>
                      <a:pt x="392" y="104"/>
                    </a:lnTo>
                    <a:lnTo>
                      <a:pt x="394" y="114"/>
                    </a:lnTo>
                    <a:lnTo>
                      <a:pt x="398" y="124"/>
                    </a:lnTo>
                    <a:lnTo>
                      <a:pt x="410" y="144"/>
                    </a:lnTo>
                    <a:lnTo>
                      <a:pt x="426" y="164"/>
                    </a:lnTo>
                    <a:lnTo>
                      <a:pt x="450" y="184"/>
                    </a:lnTo>
                    <a:lnTo>
                      <a:pt x="476" y="202"/>
                    </a:lnTo>
                    <a:lnTo>
                      <a:pt x="44" y="444"/>
                    </a:lnTo>
                    <a:lnTo>
                      <a:pt x="42" y="442"/>
                    </a:lnTo>
                    <a:lnTo>
                      <a:pt x="0" y="490"/>
                    </a:lnTo>
                    <a:lnTo>
                      <a:pt x="474" y="662"/>
                    </a:lnTo>
                    <a:lnTo>
                      <a:pt x="516" y="616"/>
                    </a:lnTo>
                    <a:lnTo>
                      <a:pt x="516" y="614"/>
                    </a:lnTo>
                    <a:close/>
                  </a:path>
                </a:pathLst>
              </a:custGeom>
              <a:solidFill>
                <a:srgbClr val="000000">
                  <a:alpha val="1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Gruppe 155"/>
              <p:cNvGrpSpPr/>
              <p:nvPr/>
            </p:nvGrpSpPr>
            <p:grpSpPr>
              <a:xfrm>
                <a:off x="4449600" y="3124080"/>
                <a:ext cx="232200" cy="617760"/>
                <a:chOff x="4449600" y="3124080"/>
                <a:chExt cx="232200" cy="617760"/>
              </a:xfrm>
            </p:grpSpPr>
            <p:grpSp>
              <p:nvGrpSpPr>
                <p:cNvPr id="412" name="Gruppe 151"/>
                <p:cNvGrpSpPr/>
                <p:nvPr/>
              </p:nvGrpSpPr>
              <p:grpSpPr>
                <a:xfrm>
                  <a:off x="4449600" y="3124080"/>
                  <a:ext cx="232200" cy="617760"/>
                  <a:chOff x="4449600" y="3124080"/>
                  <a:chExt cx="232200" cy="617760"/>
                </a:xfrm>
              </p:grpSpPr>
              <p:sp>
                <p:nvSpPr>
                  <p:cNvPr id="413" name="Freeform 40"/>
                  <p:cNvSpPr/>
                  <p:nvPr/>
                </p:nvSpPr>
                <p:spPr>
                  <a:xfrm>
                    <a:off x="4449600" y="3124080"/>
                    <a:ext cx="232200" cy="573840"/>
                  </a:xfrm>
                  <a:custGeom>
                    <a:avLst/>
                    <a:gdLst>
                      <a:gd name="textAreaLeft" fmla="*/ 0 w 232200"/>
                      <a:gd name="textAreaRight" fmla="*/ 232560 w 232200"/>
                      <a:gd name="textAreaTop" fmla="*/ 0 h 573840"/>
                      <a:gd name="textAreaBottom" fmla="*/ 574200 h 573840"/>
                    </a:gdLst>
                    <a:ahLst/>
                    <a:rect l="textAreaLeft" t="textAreaTop" r="textAreaRight" b="textAreaBottom"/>
                    <a:pathLst>
                      <a:path w="682" h="1668">
                        <a:moveTo>
                          <a:pt x="678" y="1608"/>
                        </a:moveTo>
                        <a:lnTo>
                          <a:pt x="450" y="654"/>
                        </a:lnTo>
                        <a:lnTo>
                          <a:pt x="474" y="644"/>
                        </a:lnTo>
                        <a:lnTo>
                          <a:pt x="498" y="634"/>
                        </a:lnTo>
                        <a:lnTo>
                          <a:pt x="520" y="620"/>
                        </a:lnTo>
                        <a:lnTo>
                          <a:pt x="540" y="606"/>
                        </a:lnTo>
                        <a:lnTo>
                          <a:pt x="560" y="590"/>
                        </a:lnTo>
                        <a:lnTo>
                          <a:pt x="580" y="572"/>
                        </a:lnTo>
                        <a:lnTo>
                          <a:pt x="596" y="554"/>
                        </a:lnTo>
                        <a:lnTo>
                          <a:pt x="612" y="534"/>
                        </a:lnTo>
                        <a:lnTo>
                          <a:pt x="626" y="512"/>
                        </a:lnTo>
                        <a:lnTo>
                          <a:pt x="640" y="490"/>
                        </a:lnTo>
                        <a:lnTo>
                          <a:pt x="650" y="466"/>
                        </a:lnTo>
                        <a:lnTo>
                          <a:pt x="660" y="442"/>
                        </a:lnTo>
                        <a:lnTo>
                          <a:pt x="666" y="416"/>
                        </a:lnTo>
                        <a:lnTo>
                          <a:pt x="672" y="390"/>
                        </a:lnTo>
                        <a:lnTo>
                          <a:pt x="676" y="364"/>
                        </a:lnTo>
                        <a:lnTo>
                          <a:pt x="676" y="336"/>
                        </a:lnTo>
                        <a:lnTo>
                          <a:pt x="674" y="302"/>
                        </a:lnTo>
                        <a:lnTo>
                          <a:pt x="670" y="268"/>
                        </a:lnTo>
                        <a:lnTo>
                          <a:pt x="662" y="236"/>
                        </a:lnTo>
                        <a:lnTo>
                          <a:pt x="650" y="206"/>
                        </a:lnTo>
                        <a:lnTo>
                          <a:pt x="636" y="176"/>
                        </a:lnTo>
                        <a:lnTo>
                          <a:pt x="618" y="148"/>
                        </a:lnTo>
                        <a:lnTo>
                          <a:pt x="600" y="122"/>
                        </a:lnTo>
                        <a:lnTo>
                          <a:pt x="578" y="98"/>
                        </a:lnTo>
                        <a:lnTo>
                          <a:pt x="554" y="76"/>
                        </a:lnTo>
                        <a:lnTo>
                          <a:pt x="528" y="58"/>
                        </a:lnTo>
                        <a:lnTo>
                          <a:pt x="500" y="40"/>
                        </a:lnTo>
                        <a:lnTo>
                          <a:pt x="472" y="26"/>
                        </a:lnTo>
                        <a:lnTo>
                          <a:pt x="440" y="16"/>
                        </a:lnTo>
                        <a:lnTo>
                          <a:pt x="408" y="8"/>
                        </a:lnTo>
                        <a:lnTo>
                          <a:pt x="374" y="2"/>
                        </a:lnTo>
                        <a:lnTo>
                          <a:pt x="340" y="0"/>
                        </a:lnTo>
                        <a:lnTo>
                          <a:pt x="306" y="2"/>
                        </a:lnTo>
                        <a:lnTo>
                          <a:pt x="272" y="8"/>
                        </a:lnTo>
                        <a:lnTo>
                          <a:pt x="240" y="16"/>
                        </a:lnTo>
                        <a:lnTo>
                          <a:pt x="210" y="26"/>
                        </a:lnTo>
                        <a:lnTo>
                          <a:pt x="180" y="40"/>
                        </a:lnTo>
                        <a:lnTo>
                          <a:pt x="152" y="58"/>
                        </a:lnTo>
                        <a:lnTo>
                          <a:pt x="126" y="76"/>
                        </a:lnTo>
                        <a:lnTo>
                          <a:pt x="102" y="98"/>
                        </a:lnTo>
                        <a:lnTo>
                          <a:pt x="80" y="122"/>
                        </a:lnTo>
                        <a:lnTo>
                          <a:pt x="62" y="148"/>
                        </a:lnTo>
                        <a:lnTo>
                          <a:pt x="44" y="176"/>
                        </a:lnTo>
                        <a:lnTo>
                          <a:pt x="30" y="206"/>
                        </a:lnTo>
                        <a:lnTo>
                          <a:pt x="20" y="236"/>
                        </a:lnTo>
                        <a:lnTo>
                          <a:pt x="12" y="268"/>
                        </a:lnTo>
                        <a:lnTo>
                          <a:pt x="6" y="302"/>
                        </a:lnTo>
                        <a:lnTo>
                          <a:pt x="4" y="336"/>
                        </a:lnTo>
                        <a:lnTo>
                          <a:pt x="6" y="364"/>
                        </a:lnTo>
                        <a:lnTo>
                          <a:pt x="8" y="390"/>
                        </a:lnTo>
                        <a:lnTo>
                          <a:pt x="14" y="416"/>
                        </a:lnTo>
                        <a:lnTo>
                          <a:pt x="22" y="442"/>
                        </a:lnTo>
                        <a:lnTo>
                          <a:pt x="30" y="466"/>
                        </a:lnTo>
                        <a:lnTo>
                          <a:pt x="42" y="490"/>
                        </a:lnTo>
                        <a:lnTo>
                          <a:pt x="54" y="512"/>
                        </a:lnTo>
                        <a:lnTo>
                          <a:pt x="68" y="534"/>
                        </a:lnTo>
                        <a:lnTo>
                          <a:pt x="84" y="554"/>
                        </a:lnTo>
                        <a:lnTo>
                          <a:pt x="102" y="572"/>
                        </a:lnTo>
                        <a:lnTo>
                          <a:pt x="120" y="590"/>
                        </a:lnTo>
                        <a:lnTo>
                          <a:pt x="140" y="606"/>
                        </a:lnTo>
                        <a:lnTo>
                          <a:pt x="162" y="620"/>
                        </a:lnTo>
                        <a:lnTo>
                          <a:pt x="184" y="634"/>
                        </a:lnTo>
                        <a:lnTo>
                          <a:pt x="206" y="644"/>
                        </a:lnTo>
                        <a:lnTo>
                          <a:pt x="232" y="654"/>
                        </a:lnTo>
                        <a:lnTo>
                          <a:pt x="2" y="1608"/>
                        </a:lnTo>
                        <a:lnTo>
                          <a:pt x="0" y="1618"/>
                        </a:lnTo>
                        <a:lnTo>
                          <a:pt x="42" y="1630"/>
                        </a:lnTo>
                        <a:lnTo>
                          <a:pt x="84" y="1640"/>
                        </a:lnTo>
                        <a:lnTo>
                          <a:pt x="126" y="1648"/>
                        </a:lnTo>
                        <a:lnTo>
                          <a:pt x="170" y="1656"/>
                        </a:lnTo>
                        <a:lnTo>
                          <a:pt x="214" y="1662"/>
                        </a:lnTo>
                        <a:lnTo>
                          <a:pt x="260" y="1666"/>
                        </a:lnTo>
                        <a:lnTo>
                          <a:pt x="304" y="1668"/>
                        </a:lnTo>
                        <a:lnTo>
                          <a:pt x="350" y="1668"/>
                        </a:lnTo>
                        <a:lnTo>
                          <a:pt x="390" y="1668"/>
                        </a:lnTo>
                        <a:lnTo>
                          <a:pt x="410" y="1666"/>
                        </a:lnTo>
                        <a:lnTo>
                          <a:pt x="426" y="1666"/>
                        </a:lnTo>
                        <a:lnTo>
                          <a:pt x="454" y="1664"/>
                        </a:lnTo>
                        <a:lnTo>
                          <a:pt x="462" y="1664"/>
                        </a:lnTo>
                        <a:lnTo>
                          <a:pt x="494" y="1660"/>
                        </a:lnTo>
                        <a:lnTo>
                          <a:pt x="524" y="1656"/>
                        </a:lnTo>
                        <a:lnTo>
                          <a:pt x="562" y="1650"/>
                        </a:lnTo>
                        <a:lnTo>
                          <a:pt x="600" y="1644"/>
                        </a:lnTo>
                        <a:lnTo>
                          <a:pt x="644" y="1634"/>
                        </a:lnTo>
                        <a:lnTo>
                          <a:pt x="682" y="1624"/>
                        </a:lnTo>
                        <a:lnTo>
                          <a:pt x="678" y="1608"/>
                        </a:lnTo>
                        <a:close/>
                      </a:path>
                    </a:pathLst>
                  </a:custGeom>
                  <a:blipFill rotWithShape="0">
                    <a:blip r:embed="rId12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Freeform 43"/>
                  <p:cNvSpPr/>
                  <p:nvPr/>
                </p:nvSpPr>
                <p:spPr>
                  <a:xfrm>
                    <a:off x="4567320" y="3352680"/>
                    <a:ext cx="95760" cy="342000"/>
                  </a:xfrm>
                  <a:custGeom>
                    <a:avLst/>
                    <a:gdLst>
                      <a:gd name="textAreaLeft" fmla="*/ 0 w 95760"/>
                      <a:gd name="textAreaRight" fmla="*/ 96120 w 95760"/>
                      <a:gd name="textAreaTop" fmla="*/ 0 h 342000"/>
                      <a:gd name="textAreaBottom" fmla="*/ 342360 h 342000"/>
                    </a:gdLst>
                    <a:ahLst/>
                    <a:rect l="textAreaLeft" t="textAreaTop" r="textAreaRight" b="textAreaBottom"/>
                    <a:pathLst>
                      <a:path w="280" h="996">
                        <a:moveTo>
                          <a:pt x="270" y="936"/>
                        </a:moveTo>
                        <a:lnTo>
                          <a:pt x="72" y="0"/>
                        </a:lnTo>
                        <a:lnTo>
                          <a:pt x="0" y="0"/>
                        </a:lnTo>
                        <a:lnTo>
                          <a:pt x="130" y="936"/>
                        </a:lnTo>
                        <a:lnTo>
                          <a:pt x="136" y="996"/>
                        </a:lnTo>
                        <a:lnTo>
                          <a:pt x="202" y="988"/>
                        </a:lnTo>
                        <a:lnTo>
                          <a:pt x="240" y="980"/>
                        </a:lnTo>
                        <a:lnTo>
                          <a:pt x="280" y="972"/>
                        </a:lnTo>
                        <a:lnTo>
                          <a:pt x="270" y="93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100000">
                        <a:srgbClr val="fffcf9">
                          <a:alpha val="77254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Freeform 44"/>
                  <p:cNvSpPr/>
                  <p:nvPr/>
                </p:nvSpPr>
                <p:spPr>
                  <a:xfrm>
                    <a:off x="4449600" y="3674160"/>
                    <a:ext cx="232200" cy="67680"/>
                  </a:xfrm>
                  <a:custGeom>
                    <a:avLst/>
                    <a:gdLst>
                      <a:gd name="textAreaLeft" fmla="*/ 0 w 232200"/>
                      <a:gd name="textAreaRight" fmla="*/ 232560 w 232200"/>
                      <a:gd name="textAreaTop" fmla="*/ 0 h 67680"/>
                      <a:gd name="textAreaBottom" fmla="*/ 68040 h 67680"/>
                    </a:gdLst>
                    <a:ahLst/>
                    <a:rect l="textAreaLeft" t="textAreaTop" r="textAreaRight" b="textAreaBottom"/>
                    <a:pathLst>
                      <a:path w="686" h="196">
                        <a:moveTo>
                          <a:pt x="684" y="6"/>
                        </a:moveTo>
                        <a:lnTo>
                          <a:pt x="684" y="6"/>
                        </a:lnTo>
                        <a:lnTo>
                          <a:pt x="646" y="16"/>
                        </a:lnTo>
                        <a:lnTo>
                          <a:pt x="602" y="28"/>
                        </a:lnTo>
                        <a:lnTo>
                          <a:pt x="564" y="36"/>
                        </a:lnTo>
                        <a:lnTo>
                          <a:pt x="526" y="44"/>
                        </a:lnTo>
                        <a:lnTo>
                          <a:pt x="496" y="48"/>
                        </a:lnTo>
                        <a:lnTo>
                          <a:pt x="464" y="52"/>
                        </a:lnTo>
                        <a:lnTo>
                          <a:pt x="456" y="52"/>
                        </a:lnTo>
                        <a:lnTo>
                          <a:pt x="428" y="54"/>
                        </a:lnTo>
                        <a:lnTo>
                          <a:pt x="410" y="56"/>
                        </a:lnTo>
                        <a:lnTo>
                          <a:pt x="390" y="56"/>
                        </a:lnTo>
                        <a:lnTo>
                          <a:pt x="350" y="58"/>
                        </a:lnTo>
                        <a:lnTo>
                          <a:pt x="306" y="56"/>
                        </a:lnTo>
                        <a:lnTo>
                          <a:pt x="260" y="54"/>
                        </a:lnTo>
                        <a:lnTo>
                          <a:pt x="216" y="48"/>
                        </a:lnTo>
                        <a:lnTo>
                          <a:pt x="172" y="42"/>
                        </a:lnTo>
                        <a:lnTo>
                          <a:pt x="128" y="34"/>
                        </a:lnTo>
                        <a:lnTo>
                          <a:pt x="84" y="24"/>
                        </a:lnTo>
                        <a:lnTo>
                          <a:pt x="42" y="12"/>
                        </a:lnTo>
                        <a:lnTo>
                          <a:pt x="0" y="0"/>
                        </a:lnTo>
                        <a:lnTo>
                          <a:pt x="0" y="142"/>
                        </a:lnTo>
                        <a:lnTo>
                          <a:pt x="42" y="154"/>
                        </a:lnTo>
                        <a:lnTo>
                          <a:pt x="86" y="166"/>
                        </a:lnTo>
                        <a:lnTo>
                          <a:pt x="128" y="174"/>
                        </a:lnTo>
                        <a:lnTo>
                          <a:pt x="172" y="182"/>
                        </a:lnTo>
                        <a:lnTo>
                          <a:pt x="216" y="188"/>
                        </a:lnTo>
                        <a:lnTo>
                          <a:pt x="260" y="192"/>
                        </a:lnTo>
                        <a:lnTo>
                          <a:pt x="306" y="194"/>
                        </a:lnTo>
                        <a:lnTo>
                          <a:pt x="350" y="196"/>
                        </a:lnTo>
                        <a:lnTo>
                          <a:pt x="394" y="194"/>
                        </a:lnTo>
                        <a:lnTo>
                          <a:pt x="436" y="192"/>
                        </a:lnTo>
                        <a:lnTo>
                          <a:pt x="480" y="188"/>
                        </a:lnTo>
                        <a:lnTo>
                          <a:pt x="522" y="182"/>
                        </a:lnTo>
                        <a:lnTo>
                          <a:pt x="564" y="176"/>
                        </a:lnTo>
                        <a:lnTo>
                          <a:pt x="604" y="168"/>
                        </a:lnTo>
                        <a:lnTo>
                          <a:pt x="646" y="158"/>
                        </a:lnTo>
                        <a:lnTo>
                          <a:pt x="686" y="148"/>
                        </a:lnTo>
                        <a:lnTo>
                          <a:pt x="686" y="14"/>
                        </a:lnTo>
                        <a:lnTo>
                          <a:pt x="684" y="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000"/>
                      </a:gs>
                      <a:gs pos="100000">
                        <a:srgbClr val="a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6" name="Ellipse 45"/>
                <p:cNvSpPr/>
                <p:nvPr/>
              </p:nvSpPr>
              <p:spPr>
                <a:xfrm>
                  <a:off x="4485960" y="3128760"/>
                  <a:ext cx="162360" cy="12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fffcf9">
                        <a:alpha val="77254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17" name="Gruppe 170"/>
          <p:cNvGrpSpPr/>
          <p:nvPr/>
        </p:nvGrpSpPr>
        <p:grpSpPr>
          <a:xfrm>
            <a:off x="4064040" y="3287880"/>
            <a:ext cx="528480" cy="644400"/>
            <a:chOff x="4064040" y="3287880"/>
            <a:chExt cx="528480" cy="644400"/>
          </a:xfrm>
        </p:grpSpPr>
        <p:grpSp>
          <p:nvGrpSpPr>
            <p:cNvPr id="418" name="Ellipse 544"/>
            <p:cNvGrpSpPr/>
            <p:nvPr/>
          </p:nvGrpSpPr>
          <p:grpSpPr>
            <a:xfrm>
              <a:off x="4064040" y="3817800"/>
              <a:ext cx="465840" cy="114480"/>
              <a:chOff x="4064040" y="3817800"/>
              <a:chExt cx="465840" cy="114480"/>
            </a:xfrm>
          </p:grpSpPr>
          <p:pic>
            <p:nvPicPr>
              <p:cNvPr id="419" name="Ellipse 544" descr=""/>
              <p:cNvPicPr/>
              <p:nvPr/>
            </p:nvPicPr>
            <p:blipFill>
              <a:blip r:embed="rId13"/>
              <a:stretch/>
            </p:blipFill>
            <p:spPr>
              <a:xfrm>
                <a:off x="4064040" y="3817800"/>
                <a:ext cx="465840" cy="11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0" name=""/>
              <p:cNvSpPr/>
              <p:nvPr/>
            </p:nvSpPr>
            <p:spPr>
              <a:xfrm>
                <a:off x="4134600" y="3839400"/>
                <a:ext cx="322200" cy="7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uppe 156"/>
            <p:cNvGrpSpPr/>
            <p:nvPr/>
          </p:nvGrpSpPr>
          <p:grpSpPr>
            <a:xfrm>
              <a:off x="4179240" y="3287880"/>
              <a:ext cx="413280" cy="616320"/>
              <a:chOff x="4179240" y="3287880"/>
              <a:chExt cx="413280" cy="616320"/>
            </a:xfrm>
          </p:grpSpPr>
          <p:sp>
            <p:nvSpPr>
              <p:cNvPr id="422" name="Freeform 7"/>
              <p:cNvSpPr/>
              <p:nvPr/>
            </p:nvSpPr>
            <p:spPr>
              <a:xfrm>
                <a:off x="4217400" y="3788280"/>
                <a:ext cx="375120" cy="10512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884" h="662">
                    <a:moveTo>
                      <a:pt x="516" y="614"/>
                    </a:moveTo>
                    <a:lnTo>
                      <a:pt x="624" y="256"/>
                    </a:lnTo>
                    <a:lnTo>
                      <a:pt x="662" y="260"/>
                    </a:lnTo>
                    <a:lnTo>
                      <a:pt x="700" y="264"/>
                    </a:lnTo>
                    <a:lnTo>
                      <a:pt x="736" y="262"/>
                    </a:lnTo>
                    <a:lnTo>
                      <a:pt x="768" y="258"/>
                    </a:lnTo>
                    <a:lnTo>
                      <a:pt x="798" y="252"/>
                    </a:lnTo>
                    <a:lnTo>
                      <a:pt x="826" y="242"/>
                    </a:lnTo>
                    <a:lnTo>
                      <a:pt x="848" y="230"/>
                    </a:lnTo>
                    <a:lnTo>
                      <a:pt x="858" y="222"/>
                    </a:lnTo>
                    <a:lnTo>
                      <a:pt x="866" y="214"/>
                    </a:lnTo>
                    <a:lnTo>
                      <a:pt x="874" y="204"/>
                    </a:lnTo>
                    <a:lnTo>
                      <a:pt x="880" y="192"/>
                    </a:lnTo>
                    <a:lnTo>
                      <a:pt x="884" y="180"/>
                    </a:lnTo>
                    <a:lnTo>
                      <a:pt x="884" y="168"/>
                    </a:lnTo>
                    <a:lnTo>
                      <a:pt x="882" y="156"/>
                    </a:lnTo>
                    <a:lnTo>
                      <a:pt x="878" y="144"/>
                    </a:lnTo>
                    <a:lnTo>
                      <a:pt x="872" y="130"/>
                    </a:lnTo>
                    <a:lnTo>
                      <a:pt x="864" y="118"/>
                    </a:lnTo>
                    <a:lnTo>
                      <a:pt x="854" y="106"/>
                    </a:lnTo>
                    <a:lnTo>
                      <a:pt x="842" y="94"/>
                    </a:lnTo>
                    <a:lnTo>
                      <a:pt x="828" y="82"/>
                    </a:lnTo>
                    <a:lnTo>
                      <a:pt x="812" y="70"/>
                    </a:lnTo>
                    <a:lnTo>
                      <a:pt x="794" y="58"/>
                    </a:lnTo>
                    <a:lnTo>
                      <a:pt x="774" y="48"/>
                    </a:lnTo>
                    <a:lnTo>
                      <a:pt x="752" y="38"/>
                    </a:lnTo>
                    <a:lnTo>
                      <a:pt x="730" y="30"/>
                    </a:lnTo>
                    <a:lnTo>
                      <a:pt x="706" y="22"/>
                    </a:lnTo>
                    <a:lnTo>
                      <a:pt x="682" y="14"/>
                    </a:lnTo>
                    <a:lnTo>
                      <a:pt x="658" y="10"/>
                    </a:lnTo>
                    <a:lnTo>
                      <a:pt x="634" y="4"/>
                    </a:lnTo>
                    <a:lnTo>
                      <a:pt x="586" y="0"/>
                    </a:lnTo>
                    <a:lnTo>
                      <a:pt x="562" y="0"/>
                    </a:lnTo>
                    <a:lnTo>
                      <a:pt x="540" y="0"/>
                    </a:lnTo>
                    <a:lnTo>
                      <a:pt x="520" y="2"/>
                    </a:lnTo>
                    <a:lnTo>
                      <a:pt x="500" y="6"/>
                    </a:lnTo>
                    <a:lnTo>
                      <a:pt x="480" y="10"/>
                    </a:lnTo>
                    <a:lnTo>
                      <a:pt x="462" y="16"/>
                    </a:lnTo>
                    <a:lnTo>
                      <a:pt x="446" y="22"/>
                    </a:lnTo>
                    <a:lnTo>
                      <a:pt x="432" y="30"/>
                    </a:lnTo>
                    <a:lnTo>
                      <a:pt x="420" y="38"/>
                    </a:lnTo>
                    <a:lnTo>
                      <a:pt x="408" y="48"/>
                    </a:lnTo>
                    <a:lnTo>
                      <a:pt x="402" y="58"/>
                    </a:lnTo>
                    <a:lnTo>
                      <a:pt x="396" y="66"/>
                    </a:lnTo>
                    <a:lnTo>
                      <a:pt x="394" y="76"/>
                    </a:lnTo>
                    <a:lnTo>
                      <a:pt x="392" y="84"/>
                    </a:lnTo>
                    <a:lnTo>
                      <a:pt x="390" y="94"/>
                    </a:lnTo>
                    <a:lnTo>
                      <a:pt x="392" y="104"/>
                    </a:lnTo>
                    <a:lnTo>
                      <a:pt x="394" y="114"/>
                    </a:lnTo>
                    <a:lnTo>
                      <a:pt x="398" y="124"/>
                    </a:lnTo>
                    <a:lnTo>
                      <a:pt x="410" y="144"/>
                    </a:lnTo>
                    <a:lnTo>
                      <a:pt x="426" y="164"/>
                    </a:lnTo>
                    <a:lnTo>
                      <a:pt x="450" y="184"/>
                    </a:lnTo>
                    <a:lnTo>
                      <a:pt x="476" y="202"/>
                    </a:lnTo>
                    <a:lnTo>
                      <a:pt x="44" y="444"/>
                    </a:lnTo>
                    <a:lnTo>
                      <a:pt x="42" y="442"/>
                    </a:lnTo>
                    <a:lnTo>
                      <a:pt x="0" y="490"/>
                    </a:lnTo>
                    <a:lnTo>
                      <a:pt x="474" y="662"/>
                    </a:lnTo>
                    <a:lnTo>
                      <a:pt x="516" y="616"/>
                    </a:lnTo>
                    <a:lnTo>
                      <a:pt x="516" y="614"/>
                    </a:lnTo>
                    <a:close/>
                  </a:path>
                </a:pathLst>
              </a:custGeom>
              <a:solidFill>
                <a:srgbClr val="000000">
                  <a:alpha val="1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3" name="Gruppe 155"/>
              <p:cNvGrpSpPr/>
              <p:nvPr/>
            </p:nvGrpSpPr>
            <p:grpSpPr>
              <a:xfrm>
                <a:off x="4179240" y="3287880"/>
                <a:ext cx="234360" cy="616320"/>
                <a:chOff x="4179240" y="3287880"/>
                <a:chExt cx="234360" cy="616320"/>
              </a:xfrm>
            </p:grpSpPr>
            <p:grpSp>
              <p:nvGrpSpPr>
                <p:cNvPr id="424" name="Gruppe 151"/>
                <p:cNvGrpSpPr/>
                <p:nvPr/>
              </p:nvGrpSpPr>
              <p:grpSpPr>
                <a:xfrm>
                  <a:off x="4179240" y="3287880"/>
                  <a:ext cx="234360" cy="616320"/>
                  <a:chOff x="4179240" y="3287880"/>
                  <a:chExt cx="234360" cy="616320"/>
                </a:xfrm>
              </p:grpSpPr>
              <p:sp>
                <p:nvSpPr>
                  <p:cNvPr id="425" name="Freeform 40"/>
                  <p:cNvSpPr/>
                  <p:nvPr/>
                </p:nvSpPr>
                <p:spPr>
                  <a:xfrm>
                    <a:off x="4179240" y="3287880"/>
                    <a:ext cx="234360" cy="572400"/>
                  </a:xfrm>
                  <a:custGeom>
                    <a:avLst/>
                    <a:gdLst>
                      <a:gd name="textAreaLeft" fmla="*/ 0 w 234360"/>
                      <a:gd name="textAreaRight" fmla="*/ 234720 w 234360"/>
                      <a:gd name="textAreaTop" fmla="*/ 0 h 572400"/>
                      <a:gd name="textAreaBottom" fmla="*/ 572760 h 572400"/>
                    </a:gdLst>
                    <a:ahLst/>
                    <a:rect l="textAreaLeft" t="textAreaTop" r="textAreaRight" b="textAreaBottom"/>
                    <a:pathLst>
                      <a:path w="682" h="1668">
                        <a:moveTo>
                          <a:pt x="678" y="1608"/>
                        </a:moveTo>
                        <a:lnTo>
                          <a:pt x="450" y="654"/>
                        </a:lnTo>
                        <a:lnTo>
                          <a:pt x="474" y="644"/>
                        </a:lnTo>
                        <a:lnTo>
                          <a:pt x="498" y="634"/>
                        </a:lnTo>
                        <a:lnTo>
                          <a:pt x="520" y="620"/>
                        </a:lnTo>
                        <a:lnTo>
                          <a:pt x="540" y="606"/>
                        </a:lnTo>
                        <a:lnTo>
                          <a:pt x="560" y="590"/>
                        </a:lnTo>
                        <a:lnTo>
                          <a:pt x="580" y="572"/>
                        </a:lnTo>
                        <a:lnTo>
                          <a:pt x="596" y="554"/>
                        </a:lnTo>
                        <a:lnTo>
                          <a:pt x="612" y="534"/>
                        </a:lnTo>
                        <a:lnTo>
                          <a:pt x="626" y="512"/>
                        </a:lnTo>
                        <a:lnTo>
                          <a:pt x="640" y="490"/>
                        </a:lnTo>
                        <a:lnTo>
                          <a:pt x="650" y="466"/>
                        </a:lnTo>
                        <a:lnTo>
                          <a:pt x="660" y="442"/>
                        </a:lnTo>
                        <a:lnTo>
                          <a:pt x="666" y="416"/>
                        </a:lnTo>
                        <a:lnTo>
                          <a:pt x="672" y="390"/>
                        </a:lnTo>
                        <a:lnTo>
                          <a:pt x="676" y="364"/>
                        </a:lnTo>
                        <a:lnTo>
                          <a:pt x="676" y="336"/>
                        </a:lnTo>
                        <a:lnTo>
                          <a:pt x="674" y="302"/>
                        </a:lnTo>
                        <a:lnTo>
                          <a:pt x="670" y="268"/>
                        </a:lnTo>
                        <a:lnTo>
                          <a:pt x="662" y="236"/>
                        </a:lnTo>
                        <a:lnTo>
                          <a:pt x="650" y="206"/>
                        </a:lnTo>
                        <a:lnTo>
                          <a:pt x="636" y="176"/>
                        </a:lnTo>
                        <a:lnTo>
                          <a:pt x="618" y="148"/>
                        </a:lnTo>
                        <a:lnTo>
                          <a:pt x="600" y="122"/>
                        </a:lnTo>
                        <a:lnTo>
                          <a:pt x="578" y="98"/>
                        </a:lnTo>
                        <a:lnTo>
                          <a:pt x="554" y="76"/>
                        </a:lnTo>
                        <a:lnTo>
                          <a:pt x="528" y="58"/>
                        </a:lnTo>
                        <a:lnTo>
                          <a:pt x="500" y="40"/>
                        </a:lnTo>
                        <a:lnTo>
                          <a:pt x="472" y="26"/>
                        </a:lnTo>
                        <a:lnTo>
                          <a:pt x="440" y="16"/>
                        </a:lnTo>
                        <a:lnTo>
                          <a:pt x="408" y="8"/>
                        </a:lnTo>
                        <a:lnTo>
                          <a:pt x="374" y="2"/>
                        </a:lnTo>
                        <a:lnTo>
                          <a:pt x="340" y="0"/>
                        </a:lnTo>
                        <a:lnTo>
                          <a:pt x="306" y="2"/>
                        </a:lnTo>
                        <a:lnTo>
                          <a:pt x="272" y="8"/>
                        </a:lnTo>
                        <a:lnTo>
                          <a:pt x="240" y="16"/>
                        </a:lnTo>
                        <a:lnTo>
                          <a:pt x="210" y="26"/>
                        </a:lnTo>
                        <a:lnTo>
                          <a:pt x="180" y="40"/>
                        </a:lnTo>
                        <a:lnTo>
                          <a:pt x="152" y="58"/>
                        </a:lnTo>
                        <a:lnTo>
                          <a:pt x="126" y="76"/>
                        </a:lnTo>
                        <a:lnTo>
                          <a:pt x="102" y="98"/>
                        </a:lnTo>
                        <a:lnTo>
                          <a:pt x="80" y="122"/>
                        </a:lnTo>
                        <a:lnTo>
                          <a:pt x="62" y="148"/>
                        </a:lnTo>
                        <a:lnTo>
                          <a:pt x="44" y="176"/>
                        </a:lnTo>
                        <a:lnTo>
                          <a:pt x="30" y="206"/>
                        </a:lnTo>
                        <a:lnTo>
                          <a:pt x="20" y="236"/>
                        </a:lnTo>
                        <a:lnTo>
                          <a:pt x="12" y="268"/>
                        </a:lnTo>
                        <a:lnTo>
                          <a:pt x="6" y="302"/>
                        </a:lnTo>
                        <a:lnTo>
                          <a:pt x="4" y="336"/>
                        </a:lnTo>
                        <a:lnTo>
                          <a:pt x="6" y="364"/>
                        </a:lnTo>
                        <a:lnTo>
                          <a:pt x="8" y="390"/>
                        </a:lnTo>
                        <a:lnTo>
                          <a:pt x="14" y="416"/>
                        </a:lnTo>
                        <a:lnTo>
                          <a:pt x="22" y="442"/>
                        </a:lnTo>
                        <a:lnTo>
                          <a:pt x="30" y="466"/>
                        </a:lnTo>
                        <a:lnTo>
                          <a:pt x="42" y="490"/>
                        </a:lnTo>
                        <a:lnTo>
                          <a:pt x="54" y="512"/>
                        </a:lnTo>
                        <a:lnTo>
                          <a:pt x="68" y="534"/>
                        </a:lnTo>
                        <a:lnTo>
                          <a:pt x="84" y="554"/>
                        </a:lnTo>
                        <a:lnTo>
                          <a:pt x="102" y="572"/>
                        </a:lnTo>
                        <a:lnTo>
                          <a:pt x="120" y="590"/>
                        </a:lnTo>
                        <a:lnTo>
                          <a:pt x="140" y="606"/>
                        </a:lnTo>
                        <a:lnTo>
                          <a:pt x="162" y="620"/>
                        </a:lnTo>
                        <a:lnTo>
                          <a:pt x="184" y="634"/>
                        </a:lnTo>
                        <a:lnTo>
                          <a:pt x="206" y="644"/>
                        </a:lnTo>
                        <a:lnTo>
                          <a:pt x="232" y="654"/>
                        </a:lnTo>
                        <a:lnTo>
                          <a:pt x="2" y="1608"/>
                        </a:lnTo>
                        <a:lnTo>
                          <a:pt x="0" y="1618"/>
                        </a:lnTo>
                        <a:lnTo>
                          <a:pt x="42" y="1630"/>
                        </a:lnTo>
                        <a:lnTo>
                          <a:pt x="84" y="1640"/>
                        </a:lnTo>
                        <a:lnTo>
                          <a:pt x="126" y="1648"/>
                        </a:lnTo>
                        <a:lnTo>
                          <a:pt x="170" y="1656"/>
                        </a:lnTo>
                        <a:lnTo>
                          <a:pt x="214" y="1662"/>
                        </a:lnTo>
                        <a:lnTo>
                          <a:pt x="260" y="1666"/>
                        </a:lnTo>
                        <a:lnTo>
                          <a:pt x="304" y="1668"/>
                        </a:lnTo>
                        <a:lnTo>
                          <a:pt x="350" y="1668"/>
                        </a:lnTo>
                        <a:lnTo>
                          <a:pt x="390" y="1668"/>
                        </a:lnTo>
                        <a:lnTo>
                          <a:pt x="410" y="1666"/>
                        </a:lnTo>
                        <a:lnTo>
                          <a:pt x="426" y="1666"/>
                        </a:lnTo>
                        <a:lnTo>
                          <a:pt x="454" y="1664"/>
                        </a:lnTo>
                        <a:lnTo>
                          <a:pt x="462" y="1664"/>
                        </a:lnTo>
                        <a:lnTo>
                          <a:pt x="494" y="1660"/>
                        </a:lnTo>
                        <a:lnTo>
                          <a:pt x="524" y="1656"/>
                        </a:lnTo>
                        <a:lnTo>
                          <a:pt x="562" y="1650"/>
                        </a:lnTo>
                        <a:lnTo>
                          <a:pt x="600" y="1644"/>
                        </a:lnTo>
                        <a:lnTo>
                          <a:pt x="644" y="1634"/>
                        </a:lnTo>
                        <a:lnTo>
                          <a:pt x="682" y="1624"/>
                        </a:lnTo>
                        <a:lnTo>
                          <a:pt x="678" y="1608"/>
                        </a:lnTo>
                        <a:close/>
                      </a:path>
                    </a:pathLst>
                  </a:custGeom>
                  <a:blipFill rotWithShape="0">
                    <a:blip r:embed="rId14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Freeform 43"/>
                  <p:cNvSpPr/>
                  <p:nvPr/>
                </p:nvSpPr>
                <p:spPr>
                  <a:xfrm>
                    <a:off x="4298040" y="3515760"/>
                    <a:ext cx="96480" cy="341280"/>
                  </a:xfrm>
                  <a:custGeom>
                    <a:avLst/>
                    <a:gdLst>
                      <a:gd name="textAreaLeft" fmla="*/ 0 w 96480"/>
                      <a:gd name="textAreaRight" fmla="*/ 96840 w 96480"/>
                      <a:gd name="textAreaTop" fmla="*/ 0 h 341280"/>
                      <a:gd name="textAreaBottom" fmla="*/ 341640 h 341280"/>
                    </a:gdLst>
                    <a:ahLst/>
                    <a:rect l="textAreaLeft" t="textAreaTop" r="textAreaRight" b="textAreaBottom"/>
                    <a:pathLst>
                      <a:path w="280" h="996">
                        <a:moveTo>
                          <a:pt x="270" y="936"/>
                        </a:moveTo>
                        <a:lnTo>
                          <a:pt x="72" y="0"/>
                        </a:lnTo>
                        <a:lnTo>
                          <a:pt x="0" y="0"/>
                        </a:lnTo>
                        <a:lnTo>
                          <a:pt x="130" y="936"/>
                        </a:lnTo>
                        <a:lnTo>
                          <a:pt x="136" y="996"/>
                        </a:lnTo>
                        <a:lnTo>
                          <a:pt x="202" y="988"/>
                        </a:lnTo>
                        <a:lnTo>
                          <a:pt x="240" y="980"/>
                        </a:lnTo>
                        <a:lnTo>
                          <a:pt x="280" y="972"/>
                        </a:lnTo>
                        <a:lnTo>
                          <a:pt x="270" y="93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100000">
                        <a:srgbClr val="fffcf9">
                          <a:alpha val="77254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Freeform 44"/>
                  <p:cNvSpPr/>
                  <p:nvPr/>
                </p:nvSpPr>
                <p:spPr>
                  <a:xfrm>
                    <a:off x="4179240" y="3836880"/>
                    <a:ext cx="234360" cy="67320"/>
                  </a:xfrm>
                  <a:custGeom>
                    <a:avLst/>
                    <a:gdLst>
                      <a:gd name="textAreaLeft" fmla="*/ 0 w 234360"/>
                      <a:gd name="textAreaRight" fmla="*/ 234720 w 234360"/>
                      <a:gd name="textAreaTop" fmla="*/ 0 h 67320"/>
                      <a:gd name="textAreaBottom" fmla="*/ 67680 h 67320"/>
                    </a:gdLst>
                    <a:ahLst/>
                    <a:rect l="textAreaLeft" t="textAreaTop" r="textAreaRight" b="textAreaBottom"/>
                    <a:pathLst>
                      <a:path w="686" h="196">
                        <a:moveTo>
                          <a:pt x="684" y="6"/>
                        </a:moveTo>
                        <a:lnTo>
                          <a:pt x="684" y="6"/>
                        </a:lnTo>
                        <a:lnTo>
                          <a:pt x="646" y="16"/>
                        </a:lnTo>
                        <a:lnTo>
                          <a:pt x="602" y="28"/>
                        </a:lnTo>
                        <a:lnTo>
                          <a:pt x="564" y="36"/>
                        </a:lnTo>
                        <a:lnTo>
                          <a:pt x="526" y="44"/>
                        </a:lnTo>
                        <a:lnTo>
                          <a:pt x="496" y="48"/>
                        </a:lnTo>
                        <a:lnTo>
                          <a:pt x="464" y="52"/>
                        </a:lnTo>
                        <a:lnTo>
                          <a:pt x="456" y="52"/>
                        </a:lnTo>
                        <a:lnTo>
                          <a:pt x="428" y="54"/>
                        </a:lnTo>
                        <a:lnTo>
                          <a:pt x="410" y="56"/>
                        </a:lnTo>
                        <a:lnTo>
                          <a:pt x="390" y="56"/>
                        </a:lnTo>
                        <a:lnTo>
                          <a:pt x="350" y="58"/>
                        </a:lnTo>
                        <a:lnTo>
                          <a:pt x="306" y="56"/>
                        </a:lnTo>
                        <a:lnTo>
                          <a:pt x="260" y="54"/>
                        </a:lnTo>
                        <a:lnTo>
                          <a:pt x="216" y="48"/>
                        </a:lnTo>
                        <a:lnTo>
                          <a:pt x="172" y="42"/>
                        </a:lnTo>
                        <a:lnTo>
                          <a:pt x="128" y="34"/>
                        </a:lnTo>
                        <a:lnTo>
                          <a:pt x="84" y="24"/>
                        </a:lnTo>
                        <a:lnTo>
                          <a:pt x="42" y="12"/>
                        </a:lnTo>
                        <a:lnTo>
                          <a:pt x="0" y="0"/>
                        </a:lnTo>
                        <a:lnTo>
                          <a:pt x="0" y="142"/>
                        </a:lnTo>
                        <a:lnTo>
                          <a:pt x="42" y="154"/>
                        </a:lnTo>
                        <a:lnTo>
                          <a:pt x="86" y="166"/>
                        </a:lnTo>
                        <a:lnTo>
                          <a:pt x="128" y="174"/>
                        </a:lnTo>
                        <a:lnTo>
                          <a:pt x="172" y="182"/>
                        </a:lnTo>
                        <a:lnTo>
                          <a:pt x="216" y="188"/>
                        </a:lnTo>
                        <a:lnTo>
                          <a:pt x="260" y="192"/>
                        </a:lnTo>
                        <a:lnTo>
                          <a:pt x="306" y="194"/>
                        </a:lnTo>
                        <a:lnTo>
                          <a:pt x="350" y="196"/>
                        </a:lnTo>
                        <a:lnTo>
                          <a:pt x="394" y="194"/>
                        </a:lnTo>
                        <a:lnTo>
                          <a:pt x="436" y="192"/>
                        </a:lnTo>
                        <a:lnTo>
                          <a:pt x="480" y="188"/>
                        </a:lnTo>
                        <a:lnTo>
                          <a:pt x="522" y="182"/>
                        </a:lnTo>
                        <a:lnTo>
                          <a:pt x="564" y="176"/>
                        </a:lnTo>
                        <a:lnTo>
                          <a:pt x="604" y="168"/>
                        </a:lnTo>
                        <a:lnTo>
                          <a:pt x="646" y="158"/>
                        </a:lnTo>
                        <a:lnTo>
                          <a:pt x="686" y="148"/>
                        </a:lnTo>
                        <a:lnTo>
                          <a:pt x="686" y="14"/>
                        </a:lnTo>
                        <a:lnTo>
                          <a:pt x="684" y="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000"/>
                      </a:gs>
                      <a:gs pos="100000">
                        <a:srgbClr val="a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8" name="Ellipse 45"/>
                <p:cNvSpPr/>
                <p:nvPr/>
              </p:nvSpPr>
              <p:spPr>
                <a:xfrm>
                  <a:off x="4215960" y="3292560"/>
                  <a:ext cx="164160" cy="12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fffcf9">
                        <a:alpha val="77254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29" name="Gruppe 170"/>
          <p:cNvGrpSpPr/>
          <p:nvPr/>
        </p:nvGrpSpPr>
        <p:grpSpPr>
          <a:xfrm>
            <a:off x="2521080" y="1452600"/>
            <a:ext cx="365040" cy="444600"/>
            <a:chOff x="2521080" y="1452600"/>
            <a:chExt cx="365040" cy="444600"/>
          </a:xfrm>
        </p:grpSpPr>
        <p:grpSp>
          <p:nvGrpSpPr>
            <p:cNvPr id="430" name="Ellipse 554"/>
            <p:cNvGrpSpPr/>
            <p:nvPr/>
          </p:nvGrpSpPr>
          <p:grpSpPr>
            <a:xfrm>
              <a:off x="2521080" y="1819080"/>
              <a:ext cx="326160" cy="78120"/>
              <a:chOff x="2521080" y="1819080"/>
              <a:chExt cx="326160" cy="78120"/>
            </a:xfrm>
          </p:grpSpPr>
          <p:pic>
            <p:nvPicPr>
              <p:cNvPr id="431" name="Ellipse 554" descr=""/>
              <p:cNvPicPr/>
              <p:nvPr/>
            </p:nvPicPr>
            <p:blipFill>
              <a:blip r:embed="rId15"/>
              <a:stretch/>
            </p:blipFill>
            <p:spPr>
              <a:xfrm>
                <a:off x="2521080" y="1819080"/>
                <a:ext cx="326160" cy="7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2" name=""/>
              <p:cNvSpPr/>
              <p:nvPr/>
            </p:nvSpPr>
            <p:spPr>
              <a:xfrm>
                <a:off x="2570400" y="1832400"/>
                <a:ext cx="22212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Gruppe 156"/>
            <p:cNvGrpSpPr/>
            <p:nvPr/>
          </p:nvGrpSpPr>
          <p:grpSpPr>
            <a:xfrm>
              <a:off x="2601000" y="1452600"/>
              <a:ext cx="285120" cy="424440"/>
              <a:chOff x="2601000" y="1452600"/>
              <a:chExt cx="285120" cy="424440"/>
            </a:xfrm>
          </p:grpSpPr>
          <p:sp>
            <p:nvSpPr>
              <p:cNvPr id="434" name="Freeform 7"/>
              <p:cNvSpPr/>
              <p:nvPr/>
            </p:nvSpPr>
            <p:spPr>
              <a:xfrm>
                <a:off x="2626200" y="1796760"/>
                <a:ext cx="259920" cy="72000"/>
              </a:xfrm>
              <a:custGeom>
                <a:avLst/>
                <a:gdLst>
                  <a:gd name="textAreaLeft" fmla="*/ 0 w 259920"/>
                  <a:gd name="textAreaRight" fmla="*/ 260280 w 25992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884" h="662">
                    <a:moveTo>
                      <a:pt x="516" y="614"/>
                    </a:moveTo>
                    <a:lnTo>
                      <a:pt x="624" y="256"/>
                    </a:lnTo>
                    <a:lnTo>
                      <a:pt x="662" y="260"/>
                    </a:lnTo>
                    <a:lnTo>
                      <a:pt x="700" y="264"/>
                    </a:lnTo>
                    <a:lnTo>
                      <a:pt x="736" y="262"/>
                    </a:lnTo>
                    <a:lnTo>
                      <a:pt x="768" y="258"/>
                    </a:lnTo>
                    <a:lnTo>
                      <a:pt x="798" y="252"/>
                    </a:lnTo>
                    <a:lnTo>
                      <a:pt x="826" y="242"/>
                    </a:lnTo>
                    <a:lnTo>
                      <a:pt x="848" y="230"/>
                    </a:lnTo>
                    <a:lnTo>
                      <a:pt x="858" y="222"/>
                    </a:lnTo>
                    <a:lnTo>
                      <a:pt x="866" y="214"/>
                    </a:lnTo>
                    <a:lnTo>
                      <a:pt x="874" y="204"/>
                    </a:lnTo>
                    <a:lnTo>
                      <a:pt x="880" y="192"/>
                    </a:lnTo>
                    <a:lnTo>
                      <a:pt x="884" y="180"/>
                    </a:lnTo>
                    <a:lnTo>
                      <a:pt x="884" y="168"/>
                    </a:lnTo>
                    <a:lnTo>
                      <a:pt x="882" y="156"/>
                    </a:lnTo>
                    <a:lnTo>
                      <a:pt x="878" y="144"/>
                    </a:lnTo>
                    <a:lnTo>
                      <a:pt x="872" y="130"/>
                    </a:lnTo>
                    <a:lnTo>
                      <a:pt x="864" y="118"/>
                    </a:lnTo>
                    <a:lnTo>
                      <a:pt x="854" y="106"/>
                    </a:lnTo>
                    <a:lnTo>
                      <a:pt x="842" y="94"/>
                    </a:lnTo>
                    <a:lnTo>
                      <a:pt x="828" y="82"/>
                    </a:lnTo>
                    <a:lnTo>
                      <a:pt x="812" y="70"/>
                    </a:lnTo>
                    <a:lnTo>
                      <a:pt x="794" y="58"/>
                    </a:lnTo>
                    <a:lnTo>
                      <a:pt x="774" y="48"/>
                    </a:lnTo>
                    <a:lnTo>
                      <a:pt x="752" y="38"/>
                    </a:lnTo>
                    <a:lnTo>
                      <a:pt x="730" y="30"/>
                    </a:lnTo>
                    <a:lnTo>
                      <a:pt x="706" y="22"/>
                    </a:lnTo>
                    <a:lnTo>
                      <a:pt x="682" y="14"/>
                    </a:lnTo>
                    <a:lnTo>
                      <a:pt x="658" y="10"/>
                    </a:lnTo>
                    <a:lnTo>
                      <a:pt x="634" y="4"/>
                    </a:lnTo>
                    <a:lnTo>
                      <a:pt x="586" y="0"/>
                    </a:lnTo>
                    <a:lnTo>
                      <a:pt x="562" y="0"/>
                    </a:lnTo>
                    <a:lnTo>
                      <a:pt x="540" y="0"/>
                    </a:lnTo>
                    <a:lnTo>
                      <a:pt x="520" y="2"/>
                    </a:lnTo>
                    <a:lnTo>
                      <a:pt x="500" y="6"/>
                    </a:lnTo>
                    <a:lnTo>
                      <a:pt x="480" y="10"/>
                    </a:lnTo>
                    <a:lnTo>
                      <a:pt x="462" y="16"/>
                    </a:lnTo>
                    <a:lnTo>
                      <a:pt x="446" y="22"/>
                    </a:lnTo>
                    <a:lnTo>
                      <a:pt x="432" y="30"/>
                    </a:lnTo>
                    <a:lnTo>
                      <a:pt x="420" y="38"/>
                    </a:lnTo>
                    <a:lnTo>
                      <a:pt x="408" y="48"/>
                    </a:lnTo>
                    <a:lnTo>
                      <a:pt x="402" y="58"/>
                    </a:lnTo>
                    <a:lnTo>
                      <a:pt x="396" y="66"/>
                    </a:lnTo>
                    <a:lnTo>
                      <a:pt x="394" y="76"/>
                    </a:lnTo>
                    <a:lnTo>
                      <a:pt x="392" y="84"/>
                    </a:lnTo>
                    <a:lnTo>
                      <a:pt x="390" y="94"/>
                    </a:lnTo>
                    <a:lnTo>
                      <a:pt x="392" y="104"/>
                    </a:lnTo>
                    <a:lnTo>
                      <a:pt x="394" y="114"/>
                    </a:lnTo>
                    <a:lnTo>
                      <a:pt x="398" y="124"/>
                    </a:lnTo>
                    <a:lnTo>
                      <a:pt x="410" y="144"/>
                    </a:lnTo>
                    <a:lnTo>
                      <a:pt x="426" y="164"/>
                    </a:lnTo>
                    <a:lnTo>
                      <a:pt x="450" y="184"/>
                    </a:lnTo>
                    <a:lnTo>
                      <a:pt x="476" y="202"/>
                    </a:lnTo>
                    <a:lnTo>
                      <a:pt x="44" y="444"/>
                    </a:lnTo>
                    <a:lnTo>
                      <a:pt x="42" y="442"/>
                    </a:lnTo>
                    <a:lnTo>
                      <a:pt x="0" y="490"/>
                    </a:lnTo>
                    <a:lnTo>
                      <a:pt x="474" y="662"/>
                    </a:lnTo>
                    <a:lnTo>
                      <a:pt x="516" y="616"/>
                    </a:lnTo>
                    <a:lnTo>
                      <a:pt x="516" y="614"/>
                    </a:lnTo>
                    <a:close/>
                  </a:path>
                </a:pathLst>
              </a:custGeom>
              <a:solidFill>
                <a:srgbClr val="000000">
                  <a:alpha val="1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5" name="Gruppe 155"/>
              <p:cNvGrpSpPr/>
              <p:nvPr/>
            </p:nvGrpSpPr>
            <p:grpSpPr>
              <a:xfrm>
                <a:off x="2601000" y="1452600"/>
                <a:ext cx="161640" cy="424440"/>
                <a:chOff x="2601000" y="1452600"/>
                <a:chExt cx="161640" cy="424440"/>
              </a:xfrm>
            </p:grpSpPr>
            <p:grpSp>
              <p:nvGrpSpPr>
                <p:cNvPr id="436" name="Gruppe 151"/>
                <p:cNvGrpSpPr/>
                <p:nvPr/>
              </p:nvGrpSpPr>
              <p:grpSpPr>
                <a:xfrm>
                  <a:off x="2601000" y="1452600"/>
                  <a:ext cx="161640" cy="424440"/>
                  <a:chOff x="2601000" y="1452600"/>
                  <a:chExt cx="161640" cy="424440"/>
                </a:xfrm>
              </p:grpSpPr>
              <p:sp>
                <p:nvSpPr>
                  <p:cNvPr id="437" name="Freeform 40"/>
                  <p:cNvSpPr/>
                  <p:nvPr/>
                </p:nvSpPr>
                <p:spPr>
                  <a:xfrm>
                    <a:off x="2601000" y="1452600"/>
                    <a:ext cx="161640" cy="39312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393120"/>
                      <a:gd name="textAreaBottom" fmla="*/ 393480 h 393120"/>
                    </a:gdLst>
                    <a:ahLst/>
                    <a:rect l="textAreaLeft" t="textAreaTop" r="textAreaRight" b="textAreaBottom"/>
                    <a:pathLst>
                      <a:path w="682" h="1668">
                        <a:moveTo>
                          <a:pt x="678" y="1608"/>
                        </a:moveTo>
                        <a:lnTo>
                          <a:pt x="450" y="654"/>
                        </a:lnTo>
                        <a:lnTo>
                          <a:pt x="474" y="644"/>
                        </a:lnTo>
                        <a:lnTo>
                          <a:pt x="498" y="634"/>
                        </a:lnTo>
                        <a:lnTo>
                          <a:pt x="520" y="620"/>
                        </a:lnTo>
                        <a:lnTo>
                          <a:pt x="540" y="606"/>
                        </a:lnTo>
                        <a:lnTo>
                          <a:pt x="560" y="590"/>
                        </a:lnTo>
                        <a:lnTo>
                          <a:pt x="580" y="572"/>
                        </a:lnTo>
                        <a:lnTo>
                          <a:pt x="596" y="554"/>
                        </a:lnTo>
                        <a:lnTo>
                          <a:pt x="612" y="534"/>
                        </a:lnTo>
                        <a:lnTo>
                          <a:pt x="626" y="512"/>
                        </a:lnTo>
                        <a:lnTo>
                          <a:pt x="640" y="490"/>
                        </a:lnTo>
                        <a:lnTo>
                          <a:pt x="650" y="466"/>
                        </a:lnTo>
                        <a:lnTo>
                          <a:pt x="660" y="442"/>
                        </a:lnTo>
                        <a:lnTo>
                          <a:pt x="666" y="416"/>
                        </a:lnTo>
                        <a:lnTo>
                          <a:pt x="672" y="390"/>
                        </a:lnTo>
                        <a:lnTo>
                          <a:pt x="676" y="364"/>
                        </a:lnTo>
                        <a:lnTo>
                          <a:pt x="676" y="336"/>
                        </a:lnTo>
                        <a:lnTo>
                          <a:pt x="674" y="302"/>
                        </a:lnTo>
                        <a:lnTo>
                          <a:pt x="670" y="268"/>
                        </a:lnTo>
                        <a:lnTo>
                          <a:pt x="662" y="236"/>
                        </a:lnTo>
                        <a:lnTo>
                          <a:pt x="650" y="206"/>
                        </a:lnTo>
                        <a:lnTo>
                          <a:pt x="636" y="176"/>
                        </a:lnTo>
                        <a:lnTo>
                          <a:pt x="618" y="148"/>
                        </a:lnTo>
                        <a:lnTo>
                          <a:pt x="600" y="122"/>
                        </a:lnTo>
                        <a:lnTo>
                          <a:pt x="578" y="98"/>
                        </a:lnTo>
                        <a:lnTo>
                          <a:pt x="554" y="76"/>
                        </a:lnTo>
                        <a:lnTo>
                          <a:pt x="528" y="58"/>
                        </a:lnTo>
                        <a:lnTo>
                          <a:pt x="500" y="40"/>
                        </a:lnTo>
                        <a:lnTo>
                          <a:pt x="472" y="26"/>
                        </a:lnTo>
                        <a:lnTo>
                          <a:pt x="440" y="16"/>
                        </a:lnTo>
                        <a:lnTo>
                          <a:pt x="408" y="8"/>
                        </a:lnTo>
                        <a:lnTo>
                          <a:pt x="374" y="2"/>
                        </a:lnTo>
                        <a:lnTo>
                          <a:pt x="340" y="0"/>
                        </a:lnTo>
                        <a:lnTo>
                          <a:pt x="306" y="2"/>
                        </a:lnTo>
                        <a:lnTo>
                          <a:pt x="272" y="8"/>
                        </a:lnTo>
                        <a:lnTo>
                          <a:pt x="240" y="16"/>
                        </a:lnTo>
                        <a:lnTo>
                          <a:pt x="210" y="26"/>
                        </a:lnTo>
                        <a:lnTo>
                          <a:pt x="180" y="40"/>
                        </a:lnTo>
                        <a:lnTo>
                          <a:pt x="152" y="58"/>
                        </a:lnTo>
                        <a:lnTo>
                          <a:pt x="126" y="76"/>
                        </a:lnTo>
                        <a:lnTo>
                          <a:pt x="102" y="98"/>
                        </a:lnTo>
                        <a:lnTo>
                          <a:pt x="80" y="122"/>
                        </a:lnTo>
                        <a:lnTo>
                          <a:pt x="62" y="148"/>
                        </a:lnTo>
                        <a:lnTo>
                          <a:pt x="44" y="176"/>
                        </a:lnTo>
                        <a:lnTo>
                          <a:pt x="30" y="206"/>
                        </a:lnTo>
                        <a:lnTo>
                          <a:pt x="20" y="236"/>
                        </a:lnTo>
                        <a:lnTo>
                          <a:pt x="12" y="268"/>
                        </a:lnTo>
                        <a:lnTo>
                          <a:pt x="6" y="302"/>
                        </a:lnTo>
                        <a:lnTo>
                          <a:pt x="4" y="336"/>
                        </a:lnTo>
                        <a:lnTo>
                          <a:pt x="6" y="364"/>
                        </a:lnTo>
                        <a:lnTo>
                          <a:pt x="8" y="390"/>
                        </a:lnTo>
                        <a:lnTo>
                          <a:pt x="14" y="416"/>
                        </a:lnTo>
                        <a:lnTo>
                          <a:pt x="22" y="442"/>
                        </a:lnTo>
                        <a:lnTo>
                          <a:pt x="30" y="466"/>
                        </a:lnTo>
                        <a:lnTo>
                          <a:pt x="42" y="490"/>
                        </a:lnTo>
                        <a:lnTo>
                          <a:pt x="54" y="512"/>
                        </a:lnTo>
                        <a:lnTo>
                          <a:pt x="68" y="534"/>
                        </a:lnTo>
                        <a:lnTo>
                          <a:pt x="84" y="554"/>
                        </a:lnTo>
                        <a:lnTo>
                          <a:pt x="102" y="572"/>
                        </a:lnTo>
                        <a:lnTo>
                          <a:pt x="120" y="590"/>
                        </a:lnTo>
                        <a:lnTo>
                          <a:pt x="140" y="606"/>
                        </a:lnTo>
                        <a:lnTo>
                          <a:pt x="162" y="620"/>
                        </a:lnTo>
                        <a:lnTo>
                          <a:pt x="184" y="634"/>
                        </a:lnTo>
                        <a:lnTo>
                          <a:pt x="206" y="644"/>
                        </a:lnTo>
                        <a:lnTo>
                          <a:pt x="232" y="654"/>
                        </a:lnTo>
                        <a:lnTo>
                          <a:pt x="2" y="1608"/>
                        </a:lnTo>
                        <a:lnTo>
                          <a:pt x="0" y="1618"/>
                        </a:lnTo>
                        <a:lnTo>
                          <a:pt x="42" y="1630"/>
                        </a:lnTo>
                        <a:lnTo>
                          <a:pt x="84" y="1640"/>
                        </a:lnTo>
                        <a:lnTo>
                          <a:pt x="126" y="1648"/>
                        </a:lnTo>
                        <a:lnTo>
                          <a:pt x="170" y="1656"/>
                        </a:lnTo>
                        <a:lnTo>
                          <a:pt x="214" y="1662"/>
                        </a:lnTo>
                        <a:lnTo>
                          <a:pt x="260" y="1666"/>
                        </a:lnTo>
                        <a:lnTo>
                          <a:pt x="304" y="1668"/>
                        </a:lnTo>
                        <a:lnTo>
                          <a:pt x="350" y="1668"/>
                        </a:lnTo>
                        <a:lnTo>
                          <a:pt x="390" y="1668"/>
                        </a:lnTo>
                        <a:lnTo>
                          <a:pt x="410" y="1666"/>
                        </a:lnTo>
                        <a:lnTo>
                          <a:pt x="426" y="1666"/>
                        </a:lnTo>
                        <a:lnTo>
                          <a:pt x="454" y="1664"/>
                        </a:lnTo>
                        <a:lnTo>
                          <a:pt x="462" y="1664"/>
                        </a:lnTo>
                        <a:lnTo>
                          <a:pt x="494" y="1660"/>
                        </a:lnTo>
                        <a:lnTo>
                          <a:pt x="524" y="1656"/>
                        </a:lnTo>
                        <a:lnTo>
                          <a:pt x="562" y="1650"/>
                        </a:lnTo>
                        <a:lnTo>
                          <a:pt x="600" y="1644"/>
                        </a:lnTo>
                        <a:lnTo>
                          <a:pt x="644" y="1634"/>
                        </a:lnTo>
                        <a:lnTo>
                          <a:pt x="682" y="1624"/>
                        </a:lnTo>
                        <a:lnTo>
                          <a:pt x="678" y="1608"/>
                        </a:lnTo>
                        <a:close/>
                      </a:path>
                    </a:pathLst>
                  </a:custGeom>
                  <a:blipFill rotWithShape="0">
                    <a:blip r:embed="rId16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Freeform 43"/>
                  <p:cNvSpPr/>
                  <p:nvPr/>
                </p:nvSpPr>
                <p:spPr>
                  <a:xfrm>
                    <a:off x="2682720" y="1609920"/>
                    <a:ext cx="65880" cy="234360"/>
                  </a:xfrm>
                  <a:custGeom>
                    <a:avLst/>
                    <a:gdLst>
                      <a:gd name="textAreaLeft" fmla="*/ 0 w 65880"/>
                      <a:gd name="textAreaRight" fmla="*/ 66240 w 65880"/>
                      <a:gd name="textAreaTop" fmla="*/ 0 h 234360"/>
                      <a:gd name="textAreaBottom" fmla="*/ 234720 h 234360"/>
                    </a:gdLst>
                    <a:ahLst/>
                    <a:rect l="textAreaLeft" t="textAreaTop" r="textAreaRight" b="textAreaBottom"/>
                    <a:pathLst>
                      <a:path w="280" h="996">
                        <a:moveTo>
                          <a:pt x="270" y="936"/>
                        </a:moveTo>
                        <a:lnTo>
                          <a:pt x="72" y="0"/>
                        </a:lnTo>
                        <a:lnTo>
                          <a:pt x="0" y="0"/>
                        </a:lnTo>
                        <a:lnTo>
                          <a:pt x="130" y="936"/>
                        </a:lnTo>
                        <a:lnTo>
                          <a:pt x="136" y="996"/>
                        </a:lnTo>
                        <a:lnTo>
                          <a:pt x="202" y="988"/>
                        </a:lnTo>
                        <a:lnTo>
                          <a:pt x="240" y="980"/>
                        </a:lnTo>
                        <a:lnTo>
                          <a:pt x="280" y="972"/>
                        </a:lnTo>
                        <a:lnTo>
                          <a:pt x="270" y="93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100000">
                        <a:srgbClr val="fffcf9">
                          <a:alpha val="77254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Freeform 44"/>
                  <p:cNvSpPr/>
                  <p:nvPr/>
                </p:nvSpPr>
                <p:spPr>
                  <a:xfrm>
                    <a:off x="2601000" y="1831680"/>
                    <a:ext cx="161640" cy="45360"/>
                  </a:xfrm>
                  <a:custGeom>
                    <a:avLst/>
                    <a:gdLst>
                      <a:gd name="textAreaLeft" fmla="*/ 0 w 161640"/>
                      <a:gd name="textAreaRight" fmla="*/ 162000 w 161640"/>
                      <a:gd name="textAreaTop" fmla="*/ 0 h 45360"/>
                      <a:gd name="textAreaBottom" fmla="*/ 45720 h 45360"/>
                    </a:gdLst>
                    <a:ahLst/>
                    <a:rect l="textAreaLeft" t="textAreaTop" r="textAreaRight" b="textAreaBottom"/>
                    <a:pathLst>
                      <a:path w="686" h="196">
                        <a:moveTo>
                          <a:pt x="684" y="6"/>
                        </a:moveTo>
                        <a:lnTo>
                          <a:pt x="684" y="6"/>
                        </a:lnTo>
                        <a:lnTo>
                          <a:pt x="646" y="16"/>
                        </a:lnTo>
                        <a:lnTo>
                          <a:pt x="602" y="28"/>
                        </a:lnTo>
                        <a:lnTo>
                          <a:pt x="564" y="36"/>
                        </a:lnTo>
                        <a:lnTo>
                          <a:pt x="526" y="44"/>
                        </a:lnTo>
                        <a:lnTo>
                          <a:pt x="496" y="48"/>
                        </a:lnTo>
                        <a:lnTo>
                          <a:pt x="464" y="52"/>
                        </a:lnTo>
                        <a:lnTo>
                          <a:pt x="456" y="52"/>
                        </a:lnTo>
                        <a:lnTo>
                          <a:pt x="428" y="54"/>
                        </a:lnTo>
                        <a:lnTo>
                          <a:pt x="410" y="56"/>
                        </a:lnTo>
                        <a:lnTo>
                          <a:pt x="390" y="56"/>
                        </a:lnTo>
                        <a:lnTo>
                          <a:pt x="350" y="58"/>
                        </a:lnTo>
                        <a:lnTo>
                          <a:pt x="306" y="56"/>
                        </a:lnTo>
                        <a:lnTo>
                          <a:pt x="260" y="54"/>
                        </a:lnTo>
                        <a:lnTo>
                          <a:pt x="216" y="48"/>
                        </a:lnTo>
                        <a:lnTo>
                          <a:pt x="172" y="42"/>
                        </a:lnTo>
                        <a:lnTo>
                          <a:pt x="128" y="34"/>
                        </a:lnTo>
                        <a:lnTo>
                          <a:pt x="84" y="24"/>
                        </a:lnTo>
                        <a:lnTo>
                          <a:pt x="42" y="12"/>
                        </a:lnTo>
                        <a:lnTo>
                          <a:pt x="0" y="0"/>
                        </a:lnTo>
                        <a:lnTo>
                          <a:pt x="0" y="142"/>
                        </a:lnTo>
                        <a:lnTo>
                          <a:pt x="42" y="154"/>
                        </a:lnTo>
                        <a:lnTo>
                          <a:pt x="86" y="166"/>
                        </a:lnTo>
                        <a:lnTo>
                          <a:pt x="128" y="174"/>
                        </a:lnTo>
                        <a:lnTo>
                          <a:pt x="172" y="182"/>
                        </a:lnTo>
                        <a:lnTo>
                          <a:pt x="216" y="188"/>
                        </a:lnTo>
                        <a:lnTo>
                          <a:pt x="260" y="192"/>
                        </a:lnTo>
                        <a:lnTo>
                          <a:pt x="306" y="194"/>
                        </a:lnTo>
                        <a:lnTo>
                          <a:pt x="350" y="196"/>
                        </a:lnTo>
                        <a:lnTo>
                          <a:pt x="394" y="194"/>
                        </a:lnTo>
                        <a:lnTo>
                          <a:pt x="436" y="192"/>
                        </a:lnTo>
                        <a:lnTo>
                          <a:pt x="480" y="188"/>
                        </a:lnTo>
                        <a:lnTo>
                          <a:pt x="522" y="182"/>
                        </a:lnTo>
                        <a:lnTo>
                          <a:pt x="564" y="176"/>
                        </a:lnTo>
                        <a:lnTo>
                          <a:pt x="604" y="168"/>
                        </a:lnTo>
                        <a:lnTo>
                          <a:pt x="646" y="158"/>
                        </a:lnTo>
                        <a:lnTo>
                          <a:pt x="686" y="148"/>
                        </a:lnTo>
                        <a:lnTo>
                          <a:pt x="686" y="14"/>
                        </a:lnTo>
                        <a:lnTo>
                          <a:pt x="684" y="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000"/>
                      </a:gs>
                      <a:gs pos="100000">
                        <a:srgbClr val="a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0" name="Ellipse 45"/>
                <p:cNvSpPr/>
                <p:nvPr/>
              </p:nvSpPr>
              <p:spPr>
                <a:xfrm>
                  <a:off x="2626560" y="1455480"/>
                  <a:ext cx="114840" cy="84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fffcf9">
                        <a:alpha val="77254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41" name="Gruppe 170"/>
          <p:cNvGrpSpPr/>
          <p:nvPr/>
        </p:nvGrpSpPr>
        <p:grpSpPr>
          <a:xfrm>
            <a:off x="2806560" y="1279440"/>
            <a:ext cx="303480" cy="370080"/>
            <a:chOff x="2806560" y="1279440"/>
            <a:chExt cx="303480" cy="370080"/>
          </a:xfrm>
        </p:grpSpPr>
        <p:grpSp>
          <p:nvGrpSpPr>
            <p:cNvPr id="442" name="Ellipse 564"/>
            <p:cNvGrpSpPr/>
            <p:nvPr/>
          </p:nvGrpSpPr>
          <p:grpSpPr>
            <a:xfrm>
              <a:off x="2806560" y="1578240"/>
              <a:ext cx="272880" cy="71280"/>
              <a:chOff x="2806560" y="1578240"/>
              <a:chExt cx="272880" cy="71280"/>
            </a:xfrm>
          </p:grpSpPr>
          <p:pic>
            <p:nvPicPr>
              <p:cNvPr id="443" name="Ellipse 564" descr=""/>
              <p:cNvPicPr/>
              <p:nvPr/>
            </p:nvPicPr>
            <p:blipFill>
              <a:blip r:embed="rId17"/>
              <a:stretch/>
            </p:blipFill>
            <p:spPr>
              <a:xfrm>
                <a:off x="2806560" y="1578240"/>
                <a:ext cx="272880" cy="7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4" name=""/>
              <p:cNvSpPr/>
              <p:nvPr/>
            </p:nvSpPr>
            <p:spPr>
              <a:xfrm>
                <a:off x="2852280" y="1591560"/>
                <a:ext cx="181440" cy="4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uppe 156"/>
            <p:cNvGrpSpPr/>
            <p:nvPr/>
          </p:nvGrpSpPr>
          <p:grpSpPr>
            <a:xfrm>
              <a:off x="2877480" y="1279440"/>
              <a:ext cx="232560" cy="349200"/>
              <a:chOff x="2877480" y="1279440"/>
              <a:chExt cx="232560" cy="349200"/>
            </a:xfrm>
          </p:grpSpPr>
          <p:sp>
            <p:nvSpPr>
              <p:cNvPr id="446" name="Freeform 7"/>
              <p:cNvSpPr/>
              <p:nvPr/>
            </p:nvSpPr>
            <p:spPr>
              <a:xfrm>
                <a:off x="2899800" y="1563840"/>
                <a:ext cx="210240" cy="59040"/>
              </a:xfrm>
              <a:custGeom>
                <a:avLst/>
                <a:gdLst>
                  <a:gd name="textAreaLeft" fmla="*/ 0 w 210240"/>
                  <a:gd name="textAreaRight" fmla="*/ 210600 w 21024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884" h="662">
                    <a:moveTo>
                      <a:pt x="516" y="614"/>
                    </a:moveTo>
                    <a:lnTo>
                      <a:pt x="624" y="256"/>
                    </a:lnTo>
                    <a:lnTo>
                      <a:pt x="662" y="260"/>
                    </a:lnTo>
                    <a:lnTo>
                      <a:pt x="700" y="264"/>
                    </a:lnTo>
                    <a:lnTo>
                      <a:pt x="736" y="262"/>
                    </a:lnTo>
                    <a:lnTo>
                      <a:pt x="768" y="258"/>
                    </a:lnTo>
                    <a:lnTo>
                      <a:pt x="798" y="252"/>
                    </a:lnTo>
                    <a:lnTo>
                      <a:pt x="826" y="242"/>
                    </a:lnTo>
                    <a:lnTo>
                      <a:pt x="848" y="230"/>
                    </a:lnTo>
                    <a:lnTo>
                      <a:pt x="858" y="222"/>
                    </a:lnTo>
                    <a:lnTo>
                      <a:pt x="866" y="214"/>
                    </a:lnTo>
                    <a:lnTo>
                      <a:pt x="874" y="204"/>
                    </a:lnTo>
                    <a:lnTo>
                      <a:pt x="880" y="192"/>
                    </a:lnTo>
                    <a:lnTo>
                      <a:pt x="884" y="180"/>
                    </a:lnTo>
                    <a:lnTo>
                      <a:pt x="884" y="168"/>
                    </a:lnTo>
                    <a:lnTo>
                      <a:pt x="882" y="156"/>
                    </a:lnTo>
                    <a:lnTo>
                      <a:pt x="878" y="144"/>
                    </a:lnTo>
                    <a:lnTo>
                      <a:pt x="872" y="130"/>
                    </a:lnTo>
                    <a:lnTo>
                      <a:pt x="864" y="118"/>
                    </a:lnTo>
                    <a:lnTo>
                      <a:pt x="854" y="106"/>
                    </a:lnTo>
                    <a:lnTo>
                      <a:pt x="842" y="94"/>
                    </a:lnTo>
                    <a:lnTo>
                      <a:pt x="828" y="82"/>
                    </a:lnTo>
                    <a:lnTo>
                      <a:pt x="812" y="70"/>
                    </a:lnTo>
                    <a:lnTo>
                      <a:pt x="794" y="58"/>
                    </a:lnTo>
                    <a:lnTo>
                      <a:pt x="774" y="48"/>
                    </a:lnTo>
                    <a:lnTo>
                      <a:pt x="752" y="38"/>
                    </a:lnTo>
                    <a:lnTo>
                      <a:pt x="730" y="30"/>
                    </a:lnTo>
                    <a:lnTo>
                      <a:pt x="706" y="22"/>
                    </a:lnTo>
                    <a:lnTo>
                      <a:pt x="682" y="14"/>
                    </a:lnTo>
                    <a:lnTo>
                      <a:pt x="658" y="10"/>
                    </a:lnTo>
                    <a:lnTo>
                      <a:pt x="634" y="4"/>
                    </a:lnTo>
                    <a:lnTo>
                      <a:pt x="586" y="0"/>
                    </a:lnTo>
                    <a:lnTo>
                      <a:pt x="562" y="0"/>
                    </a:lnTo>
                    <a:lnTo>
                      <a:pt x="540" y="0"/>
                    </a:lnTo>
                    <a:lnTo>
                      <a:pt x="520" y="2"/>
                    </a:lnTo>
                    <a:lnTo>
                      <a:pt x="500" y="6"/>
                    </a:lnTo>
                    <a:lnTo>
                      <a:pt x="480" y="10"/>
                    </a:lnTo>
                    <a:lnTo>
                      <a:pt x="462" y="16"/>
                    </a:lnTo>
                    <a:lnTo>
                      <a:pt x="446" y="22"/>
                    </a:lnTo>
                    <a:lnTo>
                      <a:pt x="432" y="30"/>
                    </a:lnTo>
                    <a:lnTo>
                      <a:pt x="420" y="38"/>
                    </a:lnTo>
                    <a:lnTo>
                      <a:pt x="408" y="48"/>
                    </a:lnTo>
                    <a:lnTo>
                      <a:pt x="402" y="58"/>
                    </a:lnTo>
                    <a:lnTo>
                      <a:pt x="396" y="66"/>
                    </a:lnTo>
                    <a:lnTo>
                      <a:pt x="394" y="76"/>
                    </a:lnTo>
                    <a:lnTo>
                      <a:pt x="392" y="84"/>
                    </a:lnTo>
                    <a:lnTo>
                      <a:pt x="390" y="94"/>
                    </a:lnTo>
                    <a:lnTo>
                      <a:pt x="392" y="104"/>
                    </a:lnTo>
                    <a:lnTo>
                      <a:pt x="394" y="114"/>
                    </a:lnTo>
                    <a:lnTo>
                      <a:pt x="398" y="124"/>
                    </a:lnTo>
                    <a:lnTo>
                      <a:pt x="410" y="144"/>
                    </a:lnTo>
                    <a:lnTo>
                      <a:pt x="426" y="164"/>
                    </a:lnTo>
                    <a:lnTo>
                      <a:pt x="450" y="184"/>
                    </a:lnTo>
                    <a:lnTo>
                      <a:pt x="476" y="202"/>
                    </a:lnTo>
                    <a:lnTo>
                      <a:pt x="44" y="444"/>
                    </a:lnTo>
                    <a:lnTo>
                      <a:pt x="42" y="442"/>
                    </a:lnTo>
                    <a:lnTo>
                      <a:pt x="0" y="490"/>
                    </a:lnTo>
                    <a:lnTo>
                      <a:pt x="474" y="662"/>
                    </a:lnTo>
                    <a:lnTo>
                      <a:pt x="516" y="616"/>
                    </a:lnTo>
                    <a:lnTo>
                      <a:pt x="516" y="614"/>
                    </a:lnTo>
                    <a:close/>
                  </a:path>
                </a:pathLst>
              </a:custGeom>
              <a:solidFill>
                <a:srgbClr val="000000">
                  <a:alpha val="1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7" name="Gruppe 155"/>
              <p:cNvGrpSpPr/>
              <p:nvPr/>
            </p:nvGrpSpPr>
            <p:grpSpPr>
              <a:xfrm>
                <a:off x="2877480" y="1279440"/>
                <a:ext cx="131760" cy="349200"/>
                <a:chOff x="2877480" y="1279440"/>
                <a:chExt cx="131760" cy="349200"/>
              </a:xfrm>
            </p:grpSpPr>
            <p:grpSp>
              <p:nvGrpSpPr>
                <p:cNvPr id="448" name="Gruppe 151"/>
                <p:cNvGrpSpPr/>
                <p:nvPr/>
              </p:nvGrpSpPr>
              <p:grpSpPr>
                <a:xfrm>
                  <a:off x="2877480" y="1279440"/>
                  <a:ext cx="131760" cy="349200"/>
                  <a:chOff x="2877480" y="1279440"/>
                  <a:chExt cx="131760" cy="349200"/>
                </a:xfrm>
              </p:grpSpPr>
              <p:sp>
                <p:nvSpPr>
                  <p:cNvPr id="449" name="Freeform 40"/>
                  <p:cNvSpPr/>
                  <p:nvPr/>
                </p:nvSpPr>
                <p:spPr>
                  <a:xfrm>
                    <a:off x="2877480" y="1279440"/>
                    <a:ext cx="131760" cy="324360"/>
                  </a:xfrm>
                  <a:custGeom>
                    <a:avLst/>
                    <a:gdLst>
                      <a:gd name="textAreaLeft" fmla="*/ 0 w 131760"/>
                      <a:gd name="textAreaRight" fmla="*/ 132120 w 131760"/>
                      <a:gd name="textAreaTop" fmla="*/ 0 h 324360"/>
                      <a:gd name="textAreaBottom" fmla="*/ 324720 h 324360"/>
                    </a:gdLst>
                    <a:ahLst/>
                    <a:rect l="textAreaLeft" t="textAreaTop" r="textAreaRight" b="textAreaBottom"/>
                    <a:pathLst>
                      <a:path w="682" h="1668">
                        <a:moveTo>
                          <a:pt x="678" y="1608"/>
                        </a:moveTo>
                        <a:lnTo>
                          <a:pt x="450" y="654"/>
                        </a:lnTo>
                        <a:lnTo>
                          <a:pt x="474" y="644"/>
                        </a:lnTo>
                        <a:lnTo>
                          <a:pt x="498" y="634"/>
                        </a:lnTo>
                        <a:lnTo>
                          <a:pt x="520" y="620"/>
                        </a:lnTo>
                        <a:lnTo>
                          <a:pt x="540" y="606"/>
                        </a:lnTo>
                        <a:lnTo>
                          <a:pt x="560" y="590"/>
                        </a:lnTo>
                        <a:lnTo>
                          <a:pt x="580" y="572"/>
                        </a:lnTo>
                        <a:lnTo>
                          <a:pt x="596" y="554"/>
                        </a:lnTo>
                        <a:lnTo>
                          <a:pt x="612" y="534"/>
                        </a:lnTo>
                        <a:lnTo>
                          <a:pt x="626" y="512"/>
                        </a:lnTo>
                        <a:lnTo>
                          <a:pt x="640" y="490"/>
                        </a:lnTo>
                        <a:lnTo>
                          <a:pt x="650" y="466"/>
                        </a:lnTo>
                        <a:lnTo>
                          <a:pt x="660" y="442"/>
                        </a:lnTo>
                        <a:lnTo>
                          <a:pt x="666" y="416"/>
                        </a:lnTo>
                        <a:lnTo>
                          <a:pt x="672" y="390"/>
                        </a:lnTo>
                        <a:lnTo>
                          <a:pt x="676" y="364"/>
                        </a:lnTo>
                        <a:lnTo>
                          <a:pt x="676" y="336"/>
                        </a:lnTo>
                        <a:lnTo>
                          <a:pt x="674" y="302"/>
                        </a:lnTo>
                        <a:lnTo>
                          <a:pt x="670" y="268"/>
                        </a:lnTo>
                        <a:lnTo>
                          <a:pt x="662" y="236"/>
                        </a:lnTo>
                        <a:lnTo>
                          <a:pt x="650" y="206"/>
                        </a:lnTo>
                        <a:lnTo>
                          <a:pt x="636" y="176"/>
                        </a:lnTo>
                        <a:lnTo>
                          <a:pt x="618" y="148"/>
                        </a:lnTo>
                        <a:lnTo>
                          <a:pt x="600" y="122"/>
                        </a:lnTo>
                        <a:lnTo>
                          <a:pt x="578" y="98"/>
                        </a:lnTo>
                        <a:lnTo>
                          <a:pt x="554" y="76"/>
                        </a:lnTo>
                        <a:lnTo>
                          <a:pt x="528" y="58"/>
                        </a:lnTo>
                        <a:lnTo>
                          <a:pt x="500" y="40"/>
                        </a:lnTo>
                        <a:lnTo>
                          <a:pt x="472" y="26"/>
                        </a:lnTo>
                        <a:lnTo>
                          <a:pt x="440" y="16"/>
                        </a:lnTo>
                        <a:lnTo>
                          <a:pt x="408" y="8"/>
                        </a:lnTo>
                        <a:lnTo>
                          <a:pt x="374" y="2"/>
                        </a:lnTo>
                        <a:lnTo>
                          <a:pt x="340" y="0"/>
                        </a:lnTo>
                        <a:lnTo>
                          <a:pt x="306" y="2"/>
                        </a:lnTo>
                        <a:lnTo>
                          <a:pt x="272" y="8"/>
                        </a:lnTo>
                        <a:lnTo>
                          <a:pt x="240" y="16"/>
                        </a:lnTo>
                        <a:lnTo>
                          <a:pt x="210" y="26"/>
                        </a:lnTo>
                        <a:lnTo>
                          <a:pt x="180" y="40"/>
                        </a:lnTo>
                        <a:lnTo>
                          <a:pt x="152" y="58"/>
                        </a:lnTo>
                        <a:lnTo>
                          <a:pt x="126" y="76"/>
                        </a:lnTo>
                        <a:lnTo>
                          <a:pt x="102" y="98"/>
                        </a:lnTo>
                        <a:lnTo>
                          <a:pt x="80" y="122"/>
                        </a:lnTo>
                        <a:lnTo>
                          <a:pt x="62" y="148"/>
                        </a:lnTo>
                        <a:lnTo>
                          <a:pt x="44" y="176"/>
                        </a:lnTo>
                        <a:lnTo>
                          <a:pt x="30" y="206"/>
                        </a:lnTo>
                        <a:lnTo>
                          <a:pt x="20" y="236"/>
                        </a:lnTo>
                        <a:lnTo>
                          <a:pt x="12" y="268"/>
                        </a:lnTo>
                        <a:lnTo>
                          <a:pt x="6" y="302"/>
                        </a:lnTo>
                        <a:lnTo>
                          <a:pt x="4" y="336"/>
                        </a:lnTo>
                        <a:lnTo>
                          <a:pt x="6" y="364"/>
                        </a:lnTo>
                        <a:lnTo>
                          <a:pt x="8" y="390"/>
                        </a:lnTo>
                        <a:lnTo>
                          <a:pt x="14" y="416"/>
                        </a:lnTo>
                        <a:lnTo>
                          <a:pt x="22" y="442"/>
                        </a:lnTo>
                        <a:lnTo>
                          <a:pt x="30" y="466"/>
                        </a:lnTo>
                        <a:lnTo>
                          <a:pt x="42" y="490"/>
                        </a:lnTo>
                        <a:lnTo>
                          <a:pt x="54" y="512"/>
                        </a:lnTo>
                        <a:lnTo>
                          <a:pt x="68" y="534"/>
                        </a:lnTo>
                        <a:lnTo>
                          <a:pt x="84" y="554"/>
                        </a:lnTo>
                        <a:lnTo>
                          <a:pt x="102" y="572"/>
                        </a:lnTo>
                        <a:lnTo>
                          <a:pt x="120" y="590"/>
                        </a:lnTo>
                        <a:lnTo>
                          <a:pt x="140" y="606"/>
                        </a:lnTo>
                        <a:lnTo>
                          <a:pt x="162" y="620"/>
                        </a:lnTo>
                        <a:lnTo>
                          <a:pt x="184" y="634"/>
                        </a:lnTo>
                        <a:lnTo>
                          <a:pt x="206" y="644"/>
                        </a:lnTo>
                        <a:lnTo>
                          <a:pt x="232" y="654"/>
                        </a:lnTo>
                        <a:lnTo>
                          <a:pt x="2" y="1608"/>
                        </a:lnTo>
                        <a:lnTo>
                          <a:pt x="0" y="1618"/>
                        </a:lnTo>
                        <a:lnTo>
                          <a:pt x="42" y="1630"/>
                        </a:lnTo>
                        <a:lnTo>
                          <a:pt x="84" y="1640"/>
                        </a:lnTo>
                        <a:lnTo>
                          <a:pt x="126" y="1648"/>
                        </a:lnTo>
                        <a:lnTo>
                          <a:pt x="170" y="1656"/>
                        </a:lnTo>
                        <a:lnTo>
                          <a:pt x="214" y="1662"/>
                        </a:lnTo>
                        <a:lnTo>
                          <a:pt x="260" y="1666"/>
                        </a:lnTo>
                        <a:lnTo>
                          <a:pt x="304" y="1668"/>
                        </a:lnTo>
                        <a:lnTo>
                          <a:pt x="350" y="1668"/>
                        </a:lnTo>
                        <a:lnTo>
                          <a:pt x="390" y="1668"/>
                        </a:lnTo>
                        <a:lnTo>
                          <a:pt x="410" y="1666"/>
                        </a:lnTo>
                        <a:lnTo>
                          <a:pt x="426" y="1666"/>
                        </a:lnTo>
                        <a:lnTo>
                          <a:pt x="454" y="1664"/>
                        </a:lnTo>
                        <a:lnTo>
                          <a:pt x="462" y="1664"/>
                        </a:lnTo>
                        <a:lnTo>
                          <a:pt x="494" y="1660"/>
                        </a:lnTo>
                        <a:lnTo>
                          <a:pt x="524" y="1656"/>
                        </a:lnTo>
                        <a:lnTo>
                          <a:pt x="562" y="1650"/>
                        </a:lnTo>
                        <a:lnTo>
                          <a:pt x="600" y="1644"/>
                        </a:lnTo>
                        <a:lnTo>
                          <a:pt x="644" y="1634"/>
                        </a:lnTo>
                        <a:lnTo>
                          <a:pt x="682" y="1624"/>
                        </a:lnTo>
                        <a:lnTo>
                          <a:pt x="678" y="1608"/>
                        </a:lnTo>
                        <a:close/>
                      </a:path>
                    </a:pathLst>
                  </a:custGeom>
                  <a:blipFill rotWithShape="0">
                    <a:blip r:embed="rId18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Freeform 43"/>
                  <p:cNvSpPr/>
                  <p:nvPr/>
                </p:nvSpPr>
                <p:spPr>
                  <a:xfrm>
                    <a:off x="2944080" y="1408320"/>
                    <a:ext cx="54360" cy="194040"/>
                  </a:xfrm>
                  <a:custGeom>
                    <a:avLst/>
                    <a:gdLst>
                      <a:gd name="textAreaLeft" fmla="*/ 0 w 54360"/>
                      <a:gd name="textAreaRight" fmla="*/ 54720 w 54360"/>
                      <a:gd name="textAreaTop" fmla="*/ 0 h 194040"/>
                      <a:gd name="textAreaBottom" fmla="*/ 194400 h 194040"/>
                    </a:gdLst>
                    <a:ahLst/>
                    <a:rect l="textAreaLeft" t="textAreaTop" r="textAreaRight" b="textAreaBottom"/>
                    <a:pathLst>
                      <a:path w="280" h="996">
                        <a:moveTo>
                          <a:pt x="270" y="936"/>
                        </a:moveTo>
                        <a:lnTo>
                          <a:pt x="72" y="0"/>
                        </a:lnTo>
                        <a:lnTo>
                          <a:pt x="0" y="0"/>
                        </a:lnTo>
                        <a:lnTo>
                          <a:pt x="130" y="936"/>
                        </a:lnTo>
                        <a:lnTo>
                          <a:pt x="136" y="996"/>
                        </a:lnTo>
                        <a:lnTo>
                          <a:pt x="202" y="988"/>
                        </a:lnTo>
                        <a:lnTo>
                          <a:pt x="240" y="980"/>
                        </a:lnTo>
                        <a:lnTo>
                          <a:pt x="280" y="972"/>
                        </a:lnTo>
                        <a:lnTo>
                          <a:pt x="270" y="93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100000">
                        <a:srgbClr val="fffcf9">
                          <a:alpha val="77254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Freeform 44"/>
                  <p:cNvSpPr/>
                  <p:nvPr/>
                </p:nvSpPr>
                <p:spPr>
                  <a:xfrm>
                    <a:off x="2877480" y="1590120"/>
                    <a:ext cx="131760" cy="38520"/>
                  </a:xfrm>
                  <a:custGeom>
                    <a:avLst/>
                    <a:gdLst>
                      <a:gd name="textAreaLeft" fmla="*/ 0 w 131760"/>
                      <a:gd name="textAreaRight" fmla="*/ 132120 w 131760"/>
                      <a:gd name="textAreaTop" fmla="*/ 0 h 38520"/>
                      <a:gd name="textAreaBottom" fmla="*/ 38520 h 38520"/>
                    </a:gdLst>
                    <a:ahLst/>
                    <a:rect l="textAreaLeft" t="textAreaTop" r="textAreaRight" b="textAreaBottom"/>
                    <a:pathLst>
                      <a:path w="686" h="196">
                        <a:moveTo>
                          <a:pt x="684" y="6"/>
                        </a:moveTo>
                        <a:lnTo>
                          <a:pt x="684" y="6"/>
                        </a:lnTo>
                        <a:lnTo>
                          <a:pt x="646" y="16"/>
                        </a:lnTo>
                        <a:lnTo>
                          <a:pt x="602" y="28"/>
                        </a:lnTo>
                        <a:lnTo>
                          <a:pt x="564" y="36"/>
                        </a:lnTo>
                        <a:lnTo>
                          <a:pt x="526" y="44"/>
                        </a:lnTo>
                        <a:lnTo>
                          <a:pt x="496" y="48"/>
                        </a:lnTo>
                        <a:lnTo>
                          <a:pt x="464" y="52"/>
                        </a:lnTo>
                        <a:lnTo>
                          <a:pt x="456" y="52"/>
                        </a:lnTo>
                        <a:lnTo>
                          <a:pt x="428" y="54"/>
                        </a:lnTo>
                        <a:lnTo>
                          <a:pt x="410" y="56"/>
                        </a:lnTo>
                        <a:lnTo>
                          <a:pt x="390" y="56"/>
                        </a:lnTo>
                        <a:lnTo>
                          <a:pt x="350" y="58"/>
                        </a:lnTo>
                        <a:lnTo>
                          <a:pt x="306" y="56"/>
                        </a:lnTo>
                        <a:lnTo>
                          <a:pt x="260" y="54"/>
                        </a:lnTo>
                        <a:lnTo>
                          <a:pt x="216" y="48"/>
                        </a:lnTo>
                        <a:lnTo>
                          <a:pt x="172" y="42"/>
                        </a:lnTo>
                        <a:lnTo>
                          <a:pt x="128" y="34"/>
                        </a:lnTo>
                        <a:lnTo>
                          <a:pt x="84" y="24"/>
                        </a:lnTo>
                        <a:lnTo>
                          <a:pt x="42" y="12"/>
                        </a:lnTo>
                        <a:lnTo>
                          <a:pt x="0" y="0"/>
                        </a:lnTo>
                        <a:lnTo>
                          <a:pt x="0" y="142"/>
                        </a:lnTo>
                        <a:lnTo>
                          <a:pt x="42" y="154"/>
                        </a:lnTo>
                        <a:lnTo>
                          <a:pt x="86" y="166"/>
                        </a:lnTo>
                        <a:lnTo>
                          <a:pt x="128" y="174"/>
                        </a:lnTo>
                        <a:lnTo>
                          <a:pt x="172" y="182"/>
                        </a:lnTo>
                        <a:lnTo>
                          <a:pt x="216" y="188"/>
                        </a:lnTo>
                        <a:lnTo>
                          <a:pt x="260" y="192"/>
                        </a:lnTo>
                        <a:lnTo>
                          <a:pt x="306" y="194"/>
                        </a:lnTo>
                        <a:lnTo>
                          <a:pt x="350" y="196"/>
                        </a:lnTo>
                        <a:lnTo>
                          <a:pt x="394" y="194"/>
                        </a:lnTo>
                        <a:lnTo>
                          <a:pt x="436" y="192"/>
                        </a:lnTo>
                        <a:lnTo>
                          <a:pt x="480" y="188"/>
                        </a:lnTo>
                        <a:lnTo>
                          <a:pt x="522" y="182"/>
                        </a:lnTo>
                        <a:lnTo>
                          <a:pt x="564" y="176"/>
                        </a:lnTo>
                        <a:lnTo>
                          <a:pt x="604" y="168"/>
                        </a:lnTo>
                        <a:lnTo>
                          <a:pt x="646" y="158"/>
                        </a:lnTo>
                        <a:lnTo>
                          <a:pt x="686" y="148"/>
                        </a:lnTo>
                        <a:lnTo>
                          <a:pt x="686" y="14"/>
                        </a:lnTo>
                        <a:lnTo>
                          <a:pt x="684" y="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000"/>
                      </a:gs>
                      <a:gs pos="100000">
                        <a:srgbClr val="a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2" name="Ellipse 45"/>
                <p:cNvSpPr/>
                <p:nvPr/>
              </p:nvSpPr>
              <p:spPr>
                <a:xfrm>
                  <a:off x="2898360" y="1282320"/>
                  <a:ext cx="92880" cy="69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fffcf9">
                        <a:alpha val="77254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53" name="Gruppe 170"/>
          <p:cNvGrpSpPr/>
          <p:nvPr/>
        </p:nvGrpSpPr>
        <p:grpSpPr>
          <a:xfrm>
            <a:off x="2508120" y="1123920"/>
            <a:ext cx="304920" cy="370080"/>
            <a:chOff x="2508120" y="1123920"/>
            <a:chExt cx="304920" cy="370080"/>
          </a:xfrm>
        </p:grpSpPr>
        <p:grpSp>
          <p:nvGrpSpPr>
            <p:cNvPr id="454" name="Ellipse 574"/>
            <p:cNvGrpSpPr/>
            <p:nvPr/>
          </p:nvGrpSpPr>
          <p:grpSpPr>
            <a:xfrm>
              <a:off x="2508120" y="1422000"/>
              <a:ext cx="272880" cy="72000"/>
              <a:chOff x="2508120" y="1422000"/>
              <a:chExt cx="272880" cy="72000"/>
            </a:xfrm>
          </p:grpSpPr>
          <p:pic>
            <p:nvPicPr>
              <p:cNvPr id="455" name="Ellipse 574" descr=""/>
              <p:cNvPicPr/>
              <p:nvPr/>
            </p:nvPicPr>
            <p:blipFill>
              <a:blip r:embed="rId19"/>
              <a:stretch/>
            </p:blipFill>
            <p:spPr>
              <a:xfrm>
                <a:off x="2508120" y="1422000"/>
                <a:ext cx="272880" cy="7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6" name=""/>
              <p:cNvSpPr/>
              <p:nvPr/>
            </p:nvSpPr>
            <p:spPr>
              <a:xfrm>
                <a:off x="2554560" y="1438200"/>
                <a:ext cx="182160" cy="4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Gruppe 156"/>
            <p:cNvGrpSpPr/>
            <p:nvPr/>
          </p:nvGrpSpPr>
          <p:grpSpPr>
            <a:xfrm>
              <a:off x="2579400" y="1123920"/>
              <a:ext cx="233640" cy="351720"/>
              <a:chOff x="2579400" y="1123920"/>
              <a:chExt cx="233640" cy="351720"/>
            </a:xfrm>
          </p:grpSpPr>
          <p:sp>
            <p:nvSpPr>
              <p:cNvPr id="458" name="Freeform 7"/>
              <p:cNvSpPr/>
              <p:nvPr/>
            </p:nvSpPr>
            <p:spPr>
              <a:xfrm>
                <a:off x="2601360" y="1410480"/>
                <a:ext cx="211680" cy="5940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884" h="662">
                    <a:moveTo>
                      <a:pt x="516" y="614"/>
                    </a:moveTo>
                    <a:lnTo>
                      <a:pt x="624" y="256"/>
                    </a:lnTo>
                    <a:lnTo>
                      <a:pt x="662" y="260"/>
                    </a:lnTo>
                    <a:lnTo>
                      <a:pt x="700" y="264"/>
                    </a:lnTo>
                    <a:lnTo>
                      <a:pt x="736" y="262"/>
                    </a:lnTo>
                    <a:lnTo>
                      <a:pt x="768" y="258"/>
                    </a:lnTo>
                    <a:lnTo>
                      <a:pt x="798" y="252"/>
                    </a:lnTo>
                    <a:lnTo>
                      <a:pt x="826" y="242"/>
                    </a:lnTo>
                    <a:lnTo>
                      <a:pt x="848" y="230"/>
                    </a:lnTo>
                    <a:lnTo>
                      <a:pt x="858" y="222"/>
                    </a:lnTo>
                    <a:lnTo>
                      <a:pt x="866" y="214"/>
                    </a:lnTo>
                    <a:lnTo>
                      <a:pt x="874" y="204"/>
                    </a:lnTo>
                    <a:lnTo>
                      <a:pt x="880" y="192"/>
                    </a:lnTo>
                    <a:lnTo>
                      <a:pt x="884" y="180"/>
                    </a:lnTo>
                    <a:lnTo>
                      <a:pt x="884" y="168"/>
                    </a:lnTo>
                    <a:lnTo>
                      <a:pt x="882" y="156"/>
                    </a:lnTo>
                    <a:lnTo>
                      <a:pt x="878" y="144"/>
                    </a:lnTo>
                    <a:lnTo>
                      <a:pt x="872" y="130"/>
                    </a:lnTo>
                    <a:lnTo>
                      <a:pt x="864" y="118"/>
                    </a:lnTo>
                    <a:lnTo>
                      <a:pt x="854" y="106"/>
                    </a:lnTo>
                    <a:lnTo>
                      <a:pt x="842" y="94"/>
                    </a:lnTo>
                    <a:lnTo>
                      <a:pt x="828" y="82"/>
                    </a:lnTo>
                    <a:lnTo>
                      <a:pt x="812" y="70"/>
                    </a:lnTo>
                    <a:lnTo>
                      <a:pt x="794" y="58"/>
                    </a:lnTo>
                    <a:lnTo>
                      <a:pt x="774" y="48"/>
                    </a:lnTo>
                    <a:lnTo>
                      <a:pt x="752" y="38"/>
                    </a:lnTo>
                    <a:lnTo>
                      <a:pt x="730" y="30"/>
                    </a:lnTo>
                    <a:lnTo>
                      <a:pt x="706" y="22"/>
                    </a:lnTo>
                    <a:lnTo>
                      <a:pt x="682" y="14"/>
                    </a:lnTo>
                    <a:lnTo>
                      <a:pt x="658" y="10"/>
                    </a:lnTo>
                    <a:lnTo>
                      <a:pt x="634" y="4"/>
                    </a:lnTo>
                    <a:lnTo>
                      <a:pt x="586" y="0"/>
                    </a:lnTo>
                    <a:lnTo>
                      <a:pt x="562" y="0"/>
                    </a:lnTo>
                    <a:lnTo>
                      <a:pt x="540" y="0"/>
                    </a:lnTo>
                    <a:lnTo>
                      <a:pt x="520" y="2"/>
                    </a:lnTo>
                    <a:lnTo>
                      <a:pt x="500" y="6"/>
                    </a:lnTo>
                    <a:lnTo>
                      <a:pt x="480" y="10"/>
                    </a:lnTo>
                    <a:lnTo>
                      <a:pt x="462" y="16"/>
                    </a:lnTo>
                    <a:lnTo>
                      <a:pt x="446" y="22"/>
                    </a:lnTo>
                    <a:lnTo>
                      <a:pt x="432" y="30"/>
                    </a:lnTo>
                    <a:lnTo>
                      <a:pt x="420" y="38"/>
                    </a:lnTo>
                    <a:lnTo>
                      <a:pt x="408" y="48"/>
                    </a:lnTo>
                    <a:lnTo>
                      <a:pt x="402" y="58"/>
                    </a:lnTo>
                    <a:lnTo>
                      <a:pt x="396" y="66"/>
                    </a:lnTo>
                    <a:lnTo>
                      <a:pt x="394" y="76"/>
                    </a:lnTo>
                    <a:lnTo>
                      <a:pt x="392" y="84"/>
                    </a:lnTo>
                    <a:lnTo>
                      <a:pt x="390" y="94"/>
                    </a:lnTo>
                    <a:lnTo>
                      <a:pt x="392" y="104"/>
                    </a:lnTo>
                    <a:lnTo>
                      <a:pt x="394" y="114"/>
                    </a:lnTo>
                    <a:lnTo>
                      <a:pt x="398" y="124"/>
                    </a:lnTo>
                    <a:lnTo>
                      <a:pt x="410" y="144"/>
                    </a:lnTo>
                    <a:lnTo>
                      <a:pt x="426" y="164"/>
                    </a:lnTo>
                    <a:lnTo>
                      <a:pt x="450" y="184"/>
                    </a:lnTo>
                    <a:lnTo>
                      <a:pt x="476" y="202"/>
                    </a:lnTo>
                    <a:lnTo>
                      <a:pt x="44" y="444"/>
                    </a:lnTo>
                    <a:lnTo>
                      <a:pt x="42" y="442"/>
                    </a:lnTo>
                    <a:lnTo>
                      <a:pt x="0" y="490"/>
                    </a:lnTo>
                    <a:lnTo>
                      <a:pt x="474" y="662"/>
                    </a:lnTo>
                    <a:lnTo>
                      <a:pt x="516" y="616"/>
                    </a:lnTo>
                    <a:lnTo>
                      <a:pt x="516" y="614"/>
                    </a:lnTo>
                    <a:close/>
                  </a:path>
                </a:pathLst>
              </a:custGeom>
              <a:solidFill>
                <a:srgbClr val="000000">
                  <a:alpha val="1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9" name="Gruppe 155"/>
              <p:cNvGrpSpPr/>
              <p:nvPr/>
            </p:nvGrpSpPr>
            <p:grpSpPr>
              <a:xfrm>
                <a:off x="2579400" y="1123920"/>
                <a:ext cx="132480" cy="351720"/>
                <a:chOff x="2579400" y="1123920"/>
                <a:chExt cx="132480" cy="351720"/>
              </a:xfrm>
            </p:grpSpPr>
            <p:grpSp>
              <p:nvGrpSpPr>
                <p:cNvPr id="460" name="Gruppe 151"/>
                <p:cNvGrpSpPr/>
                <p:nvPr/>
              </p:nvGrpSpPr>
              <p:grpSpPr>
                <a:xfrm>
                  <a:off x="2579400" y="1123920"/>
                  <a:ext cx="132480" cy="351720"/>
                  <a:chOff x="2579400" y="1123920"/>
                  <a:chExt cx="132480" cy="351720"/>
                </a:xfrm>
              </p:grpSpPr>
              <p:sp>
                <p:nvSpPr>
                  <p:cNvPr id="461" name="Freeform 40"/>
                  <p:cNvSpPr/>
                  <p:nvPr/>
                </p:nvSpPr>
                <p:spPr>
                  <a:xfrm>
                    <a:off x="2579400" y="1123920"/>
                    <a:ext cx="132480" cy="326880"/>
                  </a:xfrm>
                  <a:custGeom>
                    <a:avLst/>
                    <a:gdLst>
                      <a:gd name="textAreaLeft" fmla="*/ 0 w 132480"/>
                      <a:gd name="textAreaRight" fmla="*/ 132840 w 132480"/>
                      <a:gd name="textAreaTop" fmla="*/ 0 h 326880"/>
                      <a:gd name="textAreaBottom" fmla="*/ 327240 h 326880"/>
                    </a:gdLst>
                    <a:ahLst/>
                    <a:rect l="textAreaLeft" t="textAreaTop" r="textAreaRight" b="textAreaBottom"/>
                    <a:pathLst>
                      <a:path w="682" h="1668">
                        <a:moveTo>
                          <a:pt x="678" y="1608"/>
                        </a:moveTo>
                        <a:lnTo>
                          <a:pt x="450" y="654"/>
                        </a:lnTo>
                        <a:lnTo>
                          <a:pt x="474" y="644"/>
                        </a:lnTo>
                        <a:lnTo>
                          <a:pt x="498" y="634"/>
                        </a:lnTo>
                        <a:lnTo>
                          <a:pt x="520" y="620"/>
                        </a:lnTo>
                        <a:lnTo>
                          <a:pt x="540" y="606"/>
                        </a:lnTo>
                        <a:lnTo>
                          <a:pt x="560" y="590"/>
                        </a:lnTo>
                        <a:lnTo>
                          <a:pt x="580" y="572"/>
                        </a:lnTo>
                        <a:lnTo>
                          <a:pt x="596" y="554"/>
                        </a:lnTo>
                        <a:lnTo>
                          <a:pt x="612" y="534"/>
                        </a:lnTo>
                        <a:lnTo>
                          <a:pt x="626" y="512"/>
                        </a:lnTo>
                        <a:lnTo>
                          <a:pt x="640" y="490"/>
                        </a:lnTo>
                        <a:lnTo>
                          <a:pt x="650" y="466"/>
                        </a:lnTo>
                        <a:lnTo>
                          <a:pt x="660" y="442"/>
                        </a:lnTo>
                        <a:lnTo>
                          <a:pt x="666" y="416"/>
                        </a:lnTo>
                        <a:lnTo>
                          <a:pt x="672" y="390"/>
                        </a:lnTo>
                        <a:lnTo>
                          <a:pt x="676" y="364"/>
                        </a:lnTo>
                        <a:lnTo>
                          <a:pt x="676" y="336"/>
                        </a:lnTo>
                        <a:lnTo>
                          <a:pt x="674" y="302"/>
                        </a:lnTo>
                        <a:lnTo>
                          <a:pt x="670" y="268"/>
                        </a:lnTo>
                        <a:lnTo>
                          <a:pt x="662" y="236"/>
                        </a:lnTo>
                        <a:lnTo>
                          <a:pt x="650" y="206"/>
                        </a:lnTo>
                        <a:lnTo>
                          <a:pt x="636" y="176"/>
                        </a:lnTo>
                        <a:lnTo>
                          <a:pt x="618" y="148"/>
                        </a:lnTo>
                        <a:lnTo>
                          <a:pt x="600" y="122"/>
                        </a:lnTo>
                        <a:lnTo>
                          <a:pt x="578" y="98"/>
                        </a:lnTo>
                        <a:lnTo>
                          <a:pt x="554" y="76"/>
                        </a:lnTo>
                        <a:lnTo>
                          <a:pt x="528" y="58"/>
                        </a:lnTo>
                        <a:lnTo>
                          <a:pt x="500" y="40"/>
                        </a:lnTo>
                        <a:lnTo>
                          <a:pt x="472" y="26"/>
                        </a:lnTo>
                        <a:lnTo>
                          <a:pt x="440" y="16"/>
                        </a:lnTo>
                        <a:lnTo>
                          <a:pt x="408" y="8"/>
                        </a:lnTo>
                        <a:lnTo>
                          <a:pt x="374" y="2"/>
                        </a:lnTo>
                        <a:lnTo>
                          <a:pt x="340" y="0"/>
                        </a:lnTo>
                        <a:lnTo>
                          <a:pt x="306" y="2"/>
                        </a:lnTo>
                        <a:lnTo>
                          <a:pt x="272" y="8"/>
                        </a:lnTo>
                        <a:lnTo>
                          <a:pt x="240" y="16"/>
                        </a:lnTo>
                        <a:lnTo>
                          <a:pt x="210" y="26"/>
                        </a:lnTo>
                        <a:lnTo>
                          <a:pt x="180" y="40"/>
                        </a:lnTo>
                        <a:lnTo>
                          <a:pt x="152" y="58"/>
                        </a:lnTo>
                        <a:lnTo>
                          <a:pt x="126" y="76"/>
                        </a:lnTo>
                        <a:lnTo>
                          <a:pt x="102" y="98"/>
                        </a:lnTo>
                        <a:lnTo>
                          <a:pt x="80" y="122"/>
                        </a:lnTo>
                        <a:lnTo>
                          <a:pt x="62" y="148"/>
                        </a:lnTo>
                        <a:lnTo>
                          <a:pt x="44" y="176"/>
                        </a:lnTo>
                        <a:lnTo>
                          <a:pt x="30" y="206"/>
                        </a:lnTo>
                        <a:lnTo>
                          <a:pt x="20" y="236"/>
                        </a:lnTo>
                        <a:lnTo>
                          <a:pt x="12" y="268"/>
                        </a:lnTo>
                        <a:lnTo>
                          <a:pt x="6" y="302"/>
                        </a:lnTo>
                        <a:lnTo>
                          <a:pt x="4" y="336"/>
                        </a:lnTo>
                        <a:lnTo>
                          <a:pt x="6" y="364"/>
                        </a:lnTo>
                        <a:lnTo>
                          <a:pt x="8" y="390"/>
                        </a:lnTo>
                        <a:lnTo>
                          <a:pt x="14" y="416"/>
                        </a:lnTo>
                        <a:lnTo>
                          <a:pt x="22" y="442"/>
                        </a:lnTo>
                        <a:lnTo>
                          <a:pt x="30" y="466"/>
                        </a:lnTo>
                        <a:lnTo>
                          <a:pt x="42" y="490"/>
                        </a:lnTo>
                        <a:lnTo>
                          <a:pt x="54" y="512"/>
                        </a:lnTo>
                        <a:lnTo>
                          <a:pt x="68" y="534"/>
                        </a:lnTo>
                        <a:lnTo>
                          <a:pt x="84" y="554"/>
                        </a:lnTo>
                        <a:lnTo>
                          <a:pt x="102" y="572"/>
                        </a:lnTo>
                        <a:lnTo>
                          <a:pt x="120" y="590"/>
                        </a:lnTo>
                        <a:lnTo>
                          <a:pt x="140" y="606"/>
                        </a:lnTo>
                        <a:lnTo>
                          <a:pt x="162" y="620"/>
                        </a:lnTo>
                        <a:lnTo>
                          <a:pt x="184" y="634"/>
                        </a:lnTo>
                        <a:lnTo>
                          <a:pt x="206" y="644"/>
                        </a:lnTo>
                        <a:lnTo>
                          <a:pt x="232" y="654"/>
                        </a:lnTo>
                        <a:lnTo>
                          <a:pt x="2" y="1608"/>
                        </a:lnTo>
                        <a:lnTo>
                          <a:pt x="0" y="1618"/>
                        </a:lnTo>
                        <a:lnTo>
                          <a:pt x="42" y="1630"/>
                        </a:lnTo>
                        <a:lnTo>
                          <a:pt x="84" y="1640"/>
                        </a:lnTo>
                        <a:lnTo>
                          <a:pt x="126" y="1648"/>
                        </a:lnTo>
                        <a:lnTo>
                          <a:pt x="170" y="1656"/>
                        </a:lnTo>
                        <a:lnTo>
                          <a:pt x="214" y="1662"/>
                        </a:lnTo>
                        <a:lnTo>
                          <a:pt x="260" y="1666"/>
                        </a:lnTo>
                        <a:lnTo>
                          <a:pt x="304" y="1668"/>
                        </a:lnTo>
                        <a:lnTo>
                          <a:pt x="350" y="1668"/>
                        </a:lnTo>
                        <a:lnTo>
                          <a:pt x="390" y="1668"/>
                        </a:lnTo>
                        <a:lnTo>
                          <a:pt x="410" y="1666"/>
                        </a:lnTo>
                        <a:lnTo>
                          <a:pt x="426" y="1666"/>
                        </a:lnTo>
                        <a:lnTo>
                          <a:pt x="454" y="1664"/>
                        </a:lnTo>
                        <a:lnTo>
                          <a:pt x="462" y="1664"/>
                        </a:lnTo>
                        <a:lnTo>
                          <a:pt x="494" y="1660"/>
                        </a:lnTo>
                        <a:lnTo>
                          <a:pt x="524" y="1656"/>
                        </a:lnTo>
                        <a:lnTo>
                          <a:pt x="562" y="1650"/>
                        </a:lnTo>
                        <a:lnTo>
                          <a:pt x="600" y="1644"/>
                        </a:lnTo>
                        <a:lnTo>
                          <a:pt x="644" y="1634"/>
                        </a:lnTo>
                        <a:lnTo>
                          <a:pt x="682" y="1624"/>
                        </a:lnTo>
                        <a:lnTo>
                          <a:pt x="678" y="1608"/>
                        </a:lnTo>
                        <a:close/>
                      </a:path>
                    </a:pathLst>
                  </a:custGeom>
                  <a:blipFill rotWithShape="0">
                    <a:blip r:embed="rId20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Freeform 43"/>
                  <p:cNvSpPr/>
                  <p:nvPr/>
                </p:nvSpPr>
                <p:spPr>
                  <a:xfrm>
                    <a:off x="2647080" y="1253520"/>
                    <a:ext cx="56880" cy="195480"/>
                  </a:xfrm>
                  <a:custGeom>
                    <a:avLst/>
                    <a:gdLst>
                      <a:gd name="textAreaLeft" fmla="*/ 0 w 56880"/>
                      <a:gd name="textAreaRight" fmla="*/ 57240 w 56880"/>
                      <a:gd name="textAreaTop" fmla="*/ 0 h 195480"/>
                      <a:gd name="textAreaBottom" fmla="*/ 195840 h 195480"/>
                    </a:gdLst>
                    <a:ahLst/>
                    <a:rect l="textAreaLeft" t="textAreaTop" r="textAreaRight" b="textAreaBottom"/>
                    <a:pathLst>
                      <a:path w="280" h="996">
                        <a:moveTo>
                          <a:pt x="270" y="936"/>
                        </a:moveTo>
                        <a:lnTo>
                          <a:pt x="72" y="0"/>
                        </a:lnTo>
                        <a:lnTo>
                          <a:pt x="0" y="0"/>
                        </a:lnTo>
                        <a:lnTo>
                          <a:pt x="130" y="936"/>
                        </a:lnTo>
                        <a:lnTo>
                          <a:pt x="136" y="996"/>
                        </a:lnTo>
                        <a:lnTo>
                          <a:pt x="202" y="988"/>
                        </a:lnTo>
                        <a:lnTo>
                          <a:pt x="240" y="980"/>
                        </a:lnTo>
                        <a:lnTo>
                          <a:pt x="280" y="972"/>
                        </a:lnTo>
                        <a:lnTo>
                          <a:pt x="270" y="93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100000">
                        <a:srgbClr val="fffcf9">
                          <a:alpha val="77254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Freeform 44"/>
                  <p:cNvSpPr/>
                  <p:nvPr/>
                </p:nvSpPr>
                <p:spPr>
                  <a:xfrm>
                    <a:off x="2579400" y="1436760"/>
                    <a:ext cx="132480" cy="38880"/>
                  </a:xfrm>
                  <a:custGeom>
                    <a:avLst/>
                    <a:gdLst>
                      <a:gd name="textAreaLeft" fmla="*/ 0 w 132480"/>
                      <a:gd name="textAreaRight" fmla="*/ 132480 w 132480"/>
                      <a:gd name="textAreaTop" fmla="*/ 0 h 38880"/>
                      <a:gd name="textAreaBottom" fmla="*/ 39240 h 38880"/>
                    </a:gdLst>
                    <a:ahLst/>
                    <a:rect l="textAreaLeft" t="textAreaTop" r="textAreaRight" b="textAreaBottom"/>
                    <a:pathLst>
                      <a:path w="686" h="196">
                        <a:moveTo>
                          <a:pt x="684" y="6"/>
                        </a:moveTo>
                        <a:lnTo>
                          <a:pt x="684" y="6"/>
                        </a:lnTo>
                        <a:lnTo>
                          <a:pt x="646" y="16"/>
                        </a:lnTo>
                        <a:lnTo>
                          <a:pt x="602" y="28"/>
                        </a:lnTo>
                        <a:lnTo>
                          <a:pt x="564" y="36"/>
                        </a:lnTo>
                        <a:lnTo>
                          <a:pt x="526" y="44"/>
                        </a:lnTo>
                        <a:lnTo>
                          <a:pt x="496" y="48"/>
                        </a:lnTo>
                        <a:lnTo>
                          <a:pt x="464" y="52"/>
                        </a:lnTo>
                        <a:lnTo>
                          <a:pt x="456" y="52"/>
                        </a:lnTo>
                        <a:lnTo>
                          <a:pt x="428" y="54"/>
                        </a:lnTo>
                        <a:lnTo>
                          <a:pt x="410" y="56"/>
                        </a:lnTo>
                        <a:lnTo>
                          <a:pt x="390" y="56"/>
                        </a:lnTo>
                        <a:lnTo>
                          <a:pt x="350" y="58"/>
                        </a:lnTo>
                        <a:lnTo>
                          <a:pt x="306" y="56"/>
                        </a:lnTo>
                        <a:lnTo>
                          <a:pt x="260" y="54"/>
                        </a:lnTo>
                        <a:lnTo>
                          <a:pt x="216" y="48"/>
                        </a:lnTo>
                        <a:lnTo>
                          <a:pt x="172" y="42"/>
                        </a:lnTo>
                        <a:lnTo>
                          <a:pt x="128" y="34"/>
                        </a:lnTo>
                        <a:lnTo>
                          <a:pt x="84" y="24"/>
                        </a:lnTo>
                        <a:lnTo>
                          <a:pt x="42" y="12"/>
                        </a:lnTo>
                        <a:lnTo>
                          <a:pt x="0" y="0"/>
                        </a:lnTo>
                        <a:lnTo>
                          <a:pt x="0" y="142"/>
                        </a:lnTo>
                        <a:lnTo>
                          <a:pt x="42" y="154"/>
                        </a:lnTo>
                        <a:lnTo>
                          <a:pt x="86" y="166"/>
                        </a:lnTo>
                        <a:lnTo>
                          <a:pt x="128" y="174"/>
                        </a:lnTo>
                        <a:lnTo>
                          <a:pt x="172" y="182"/>
                        </a:lnTo>
                        <a:lnTo>
                          <a:pt x="216" y="188"/>
                        </a:lnTo>
                        <a:lnTo>
                          <a:pt x="260" y="192"/>
                        </a:lnTo>
                        <a:lnTo>
                          <a:pt x="306" y="194"/>
                        </a:lnTo>
                        <a:lnTo>
                          <a:pt x="350" y="196"/>
                        </a:lnTo>
                        <a:lnTo>
                          <a:pt x="394" y="194"/>
                        </a:lnTo>
                        <a:lnTo>
                          <a:pt x="436" y="192"/>
                        </a:lnTo>
                        <a:lnTo>
                          <a:pt x="480" y="188"/>
                        </a:lnTo>
                        <a:lnTo>
                          <a:pt x="522" y="182"/>
                        </a:lnTo>
                        <a:lnTo>
                          <a:pt x="564" y="176"/>
                        </a:lnTo>
                        <a:lnTo>
                          <a:pt x="604" y="168"/>
                        </a:lnTo>
                        <a:lnTo>
                          <a:pt x="646" y="158"/>
                        </a:lnTo>
                        <a:lnTo>
                          <a:pt x="686" y="148"/>
                        </a:lnTo>
                        <a:lnTo>
                          <a:pt x="686" y="14"/>
                        </a:lnTo>
                        <a:lnTo>
                          <a:pt x="684" y="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000"/>
                      </a:gs>
                      <a:gs pos="100000">
                        <a:srgbClr val="a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4" name="Ellipse 45"/>
                <p:cNvSpPr/>
                <p:nvPr/>
              </p:nvSpPr>
              <p:spPr>
                <a:xfrm>
                  <a:off x="2599920" y="1126800"/>
                  <a:ext cx="97560" cy="7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fffcf9">
                        <a:alpha val="77254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65" name="Gruppe 170"/>
          <p:cNvGrpSpPr/>
          <p:nvPr/>
        </p:nvGrpSpPr>
        <p:grpSpPr>
          <a:xfrm>
            <a:off x="2886120" y="1438200"/>
            <a:ext cx="365040" cy="444600"/>
            <a:chOff x="2886120" y="1438200"/>
            <a:chExt cx="365040" cy="444600"/>
          </a:xfrm>
        </p:grpSpPr>
        <p:grpSp>
          <p:nvGrpSpPr>
            <p:cNvPr id="466" name="Ellipse 584"/>
            <p:cNvGrpSpPr/>
            <p:nvPr/>
          </p:nvGrpSpPr>
          <p:grpSpPr>
            <a:xfrm>
              <a:off x="2886120" y="1798920"/>
              <a:ext cx="321480" cy="83880"/>
              <a:chOff x="2886120" y="1798920"/>
              <a:chExt cx="321480" cy="83880"/>
            </a:xfrm>
          </p:grpSpPr>
          <p:pic>
            <p:nvPicPr>
              <p:cNvPr id="467" name="Ellipse 584" descr=""/>
              <p:cNvPicPr/>
              <p:nvPr/>
            </p:nvPicPr>
            <p:blipFill>
              <a:blip r:embed="rId21"/>
              <a:stretch/>
            </p:blipFill>
            <p:spPr>
              <a:xfrm>
                <a:off x="2886120" y="1798920"/>
                <a:ext cx="321480" cy="8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8" name=""/>
              <p:cNvSpPr/>
              <p:nvPr/>
            </p:nvSpPr>
            <p:spPr>
              <a:xfrm>
                <a:off x="2939760" y="1815840"/>
                <a:ext cx="21924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Gruppe 156"/>
            <p:cNvGrpSpPr/>
            <p:nvPr/>
          </p:nvGrpSpPr>
          <p:grpSpPr>
            <a:xfrm>
              <a:off x="2970360" y="1438200"/>
              <a:ext cx="280800" cy="422640"/>
              <a:chOff x="2970360" y="1438200"/>
              <a:chExt cx="280800" cy="422640"/>
            </a:xfrm>
          </p:grpSpPr>
          <p:sp>
            <p:nvSpPr>
              <p:cNvPr id="470" name="Freeform 7"/>
              <p:cNvSpPr/>
              <p:nvPr/>
            </p:nvSpPr>
            <p:spPr>
              <a:xfrm>
                <a:off x="2995200" y="1780920"/>
                <a:ext cx="255960" cy="72000"/>
              </a:xfrm>
              <a:custGeom>
                <a:avLst/>
                <a:gdLst>
                  <a:gd name="textAreaLeft" fmla="*/ 0 w 255960"/>
                  <a:gd name="textAreaRight" fmla="*/ 256320 w 25596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884" h="662">
                    <a:moveTo>
                      <a:pt x="516" y="614"/>
                    </a:moveTo>
                    <a:lnTo>
                      <a:pt x="624" y="256"/>
                    </a:lnTo>
                    <a:lnTo>
                      <a:pt x="662" y="260"/>
                    </a:lnTo>
                    <a:lnTo>
                      <a:pt x="700" y="264"/>
                    </a:lnTo>
                    <a:lnTo>
                      <a:pt x="736" y="262"/>
                    </a:lnTo>
                    <a:lnTo>
                      <a:pt x="768" y="258"/>
                    </a:lnTo>
                    <a:lnTo>
                      <a:pt x="798" y="252"/>
                    </a:lnTo>
                    <a:lnTo>
                      <a:pt x="826" y="242"/>
                    </a:lnTo>
                    <a:lnTo>
                      <a:pt x="848" y="230"/>
                    </a:lnTo>
                    <a:lnTo>
                      <a:pt x="858" y="222"/>
                    </a:lnTo>
                    <a:lnTo>
                      <a:pt x="866" y="214"/>
                    </a:lnTo>
                    <a:lnTo>
                      <a:pt x="874" y="204"/>
                    </a:lnTo>
                    <a:lnTo>
                      <a:pt x="880" y="192"/>
                    </a:lnTo>
                    <a:lnTo>
                      <a:pt x="884" y="180"/>
                    </a:lnTo>
                    <a:lnTo>
                      <a:pt x="884" y="168"/>
                    </a:lnTo>
                    <a:lnTo>
                      <a:pt x="882" y="156"/>
                    </a:lnTo>
                    <a:lnTo>
                      <a:pt x="878" y="144"/>
                    </a:lnTo>
                    <a:lnTo>
                      <a:pt x="872" y="130"/>
                    </a:lnTo>
                    <a:lnTo>
                      <a:pt x="864" y="118"/>
                    </a:lnTo>
                    <a:lnTo>
                      <a:pt x="854" y="106"/>
                    </a:lnTo>
                    <a:lnTo>
                      <a:pt x="842" y="94"/>
                    </a:lnTo>
                    <a:lnTo>
                      <a:pt x="828" y="82"/>
                    </a:lnTo>
                    <a:lnTo>
                      <a:pt x="812" y="70"/>
                    </a:lnTo>
                    <a:lnTo>
                      <a:pt x="794" y="58"/>
                    </a:lnTo>
                    <a:lnTo>
                      <a:pt x="774" y="48"/>
                    </a:lnTo>
                    <a:lnTo>
                      <a:pt x="752" y="38"/>
                    </a:lnTo>
                    <a:lnTo>
                      <a:pt x="730" y="30"/>
                    </a:lnTo>
                    <a:lnTo>
                      <a:pt x="706" y="22"/>
                    </a:lnTo>
                    <a:lnTo>
                      <a:pt x="682" y="14"/>
                    </a:lnTo>
                    <a:lnTo>
                      <a:pt x="658" y="10"/>
                    </a:lnTo>
                    <a:lnTo>
                      <a:pt x="634" y="4"/>
                    </a:lnTo>
                    <a:lnTo>
                      <a:pt x="586" y="0"/>
                    </a:lnTo>
                    <a:lnTo>
                      <a:pt x="562" y="0"/>
                    </a:lnTo>
                    <a:lnTo>
                      <a:pt x="540" y="0"/>
                    </a:lnTo>
                    <a:lnTo>
                      <a:pt x="520" y="2"/>
                    </a:lnTo>
                    <a:lnTo>
                      <a:pt x="500" y="6"/>
                    </a:lnTo>
                    <a:lnTo>
                      <a:pt x="480" y="10"/>
                    </a:lnTo>
                    <a:lnTo>
                      <a:pt x="462" y="16"/>
                    </a:lnTo>
                    <a:lnTo>
                      <a:pt x="446" y="22"/>
                    </a:lnTo>
                    <a:lnTo>
                      <a:pt x="432" y="30"/>
                    </a:lnTo>
                    <a:lnTo>
                      <a:pt x="420" y="38"/>
                    </a:lnTo>
                    <a:lnTo>
                      <a:pt x="408" y="48"/>
                    </a:lnTo>
                    <a:lnTo>
                      <a:pt x="402" y="58"/>
                    </a:lnTo>
                    <a:lnTo>
                      <a:pt x="396" y="66"/>
                    </a:lnTo>
                    <a:lnTo>
                      <a:pt x="394" y="76"/>
                    </a:lnTo>
                    <a:lnTo>
                      <a:pt x="392" y="84"/>
                    </a:lnTo>
                    <a:lnTo>
                      <a:pt x="390" y="94"/>
                    </a:lnTo>
                    <a:lnTo>
                      <a:pt x="392" y="104"/>
                    </a:lnTo>
                    <a:lnTo>
                      <a:pt x="394" y="114"/>
                    </a:lnTo>
                    <a:lnTo>
                      <a:pt x="398" y="124"/>
                    </a:lnTo>
                    <a:lnTo>
                      <a:pt x="410" y="144"/>
                    </a:lnTo>
                    <a:lnTo>
                      <a:pt x="426" y="164"/>
                    </a:lnTo>
                    <a:lnTo>
                      <a:pt x="450" y="184"/>
                    </a:lnTo>
                    <a:lnTo>
                      <a:pt x="476" y="202"/>
                    </a:lnTo>
                    <a:lnTo>
                      <a:pt x="44" y="444"/>
                    </a:lnTo>
                    <a:lnTo>
                      <a:pt x="42" y="442"/>
                    </a:lnTo>
                    <a:lnTo>
                      <a:pt x="0" y="490"/>
                    </a:lnTo>
                    <a:lnTo>
                      <a:pt x="474" y="662"/>
                    </a:lnTo>
                    <a:lnTo>
                      <a:pt x="516" y="616"/>
                    </a:lnTo>
                    <a:lnTo>
                      <a:pt x="516" y="614"/>
                    </a:lnTo>
                    <a:close/>
                  </a:path>
                </a:pathLst>
              </a:custGeom>
              <a:solidFill>
                <a:srgbClr val="000000">
                  <a:alpha val="1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1" name="Gruppe 155"/>
              <p:cNvGrpSpPr/>
              <p:nvPr/>
            </p:nvGrpSpPr>
            <p:grpSpPr>
              <a:xfrm>
                <a:off x="2970360" y="1438200"/>
                <a:ext cx="159120" cy="422640"/>
                <a:chOff x="2970360" y="1438200"/>
                <a:chExt cx="159120" cy="422640"/>
              </a:xfrm>
            </p:grpSpPr>
            <p:grpSp>
              <p:nvGrpSpPr>
                <p:cNvPr id="472" name="Gruppe 151"/>
                <p:cNvGrpSpPr/>
                <p:nvPr/>
              </p:nvGrpSpPr>
              <p:grpSpPr>
                <a:xfrm>
                  <a:off x="2970360" y="1438200"/>
                  <a:ext cx="159120" cy="422640"/>
                  <a:chOff x="2970360" y="1438200"/>
                  <a:chExt cx="159120" cy="422640"/>
                </a:xfrm>
              </p:grpSpPr>
              <p:sp>
                <p:nvSpPr>
                  <p:cNvPr id="473" name="Freeform 40"/>
                  <p:cNvSpPr/>
                  <p:nvPr/>
                </p:nvSpPr>
                <p:spPr>
                  <a:xfrm>
                    <a:off x="2970360" y="1438200"/>
                    <a:ext cx="159120" cy="391320"/>
                  </a:xfrm>
                  <a:custGeom>
                    <a:avLst/>
                    <a:gdLst>
                      <a:gd name="textAreaLeft" fmla="*/ 0 w 159120"/>
                      <a:gd name="textAreaRight" fmla="*/ 159480 w 159120"/>
                      <a:gd name="textAreaTop" fmla="*/ 0 h 391320"/>
                      <a:gd name="textAreaBottom" fmla="*/ 391680 h 391320"/>
                    </a:gdLst>
                    <a:ahLst/>
                    <a:rect l="textAreaLeft" t="textAreaTop" r="textAreaRight" b="textAreaBottom"/>
                    <a:pathLst>
                      <a:path w="682" h="1668">
                        <a:moveTo>
                          <a:pt x="678" y="1608"/>
                        </a:moveTo>
                        <a:lnTo>
                          <a:pt x="450" y="654"/>
                        </a:lnTo>
                        <a:lnTo>
                          <a:pt x="474" y="644"/>
                        </a:lnTo>
                        <a:lnTo>
                          <a:pt x="498" y="634"/>
                        </a:lnTo>
                        <a:lnTo>
                          <a:pt x="520" y="620"/>
                        </a:lnTo>
                        <a:lnTo>
                          <a:pt x="540" y="606"/>
                        </a:lnTo>
                        <a:lnTo>
                          <a:pt x="560" y="590"/>
                        </a:lnTo>
                        <a:lnTo>
                          <a:pt x="580" y="572"/>
                        </a:lnTo>
                        <a:lnTo>
                          <a:pt x="596" y="554"/>
                        </a:lnTo>
                        <a:lnTo>
                          <a:pt x="612" y="534"/>
                        </a:lnTo>
                        <a:lnTo>
                          <a:pt x="626" y="512"/>
                        </a:lnTo>
                        <a:lnTo>
                          <a:pt x="640" y="490"/>
                        </a:lnTo>
                        <a:lnTo>
                          <a:pt x="650" y="466"/>
                        </a:lnTo>
                        <a:lnTo>
                          <a:pt x="660" y="442"/>
                        </a:lnTo>
                        <a:lnTo>
                          <a:pt x="666" y="416"/>
                        </a:lnTo>
                        <a:lnTo>
                          <a:pt x="672" y="390"/>
                        </a:lnTo>
                        <a:lnTo>
                          <a:pt x="676" y="364"/>
                        </a:lnTo>
                        <a:lnTo>
                          <a:pt x="676" y="336"/>
                        </a:lnTo>
                        <a:lnTo>
                          <a:pt x="674" y="302"/>
                        </a:lnTo>
                        <a:lnTo>
                          <a:pt x="670" y="268"/>
                        </a:lnTo>
                        <a:lnTo>
                          <a:pt x="662" y="236"/>
                        </a:lnTo>
                        <a:lnTo>
                          <a:pt x="650" y="206"/>
                        </a:lnTo>
                        <a:lnTo>
                          <a:pt x="636" y="176"/>
                        </a:lnTo>
                        <a:lnTo>
                          <a:pt x="618" y="148"/>
                        </a:lnTo>
                        <a:lnTo>
                          <a:pt x="600" y="122"/>
                        </a:lnTo>
                        <a:lnTo>
                          <a:pt x="578" y="98"/>
                        </a:lnTo>
                        <a:lnTo>
                          <a:pt x="554" y="76"/>
                        </a:lnTo>
                        <a:lnTo>
                          <a:pt x="528" y="58"/>
                        </a:lnTo>
                        <a:lnTo>
                          <a:pt x="500" y="40"/>
                        </a:lnTo>
                        <a:lnTo>
                          <a:pt x="472" y="26"/>
                        </a:lnTo>
                        <a:lnTo>
                          <a:pt x="440" y="16"/>
                        </a:lnTo>
                        <a:lnTo>
                          <a:pt x="408" y="8"/>
                        </a:lnTo>
                        <a:lnTo>
                          <a:pt x="374" y="2"/>
                        </a:lnTo>
                        <a:lnTo>
                          <a:pt x="340" y="0"/>
                        </a:lnTo>
                        <a:lnTo>
                          <a:pt x="306" y="2"/>
                        </a:lnTo>
                        <a:lnTo>
                          <a:pt x="272" y="8"/>
                        </a:lnTo>
                        <a:lnTo>
                          <a:pt x="240" y="16"/>
                        </a:lnTo>
                        <a:lnTo>
                          <a:pt x="210" y="26"/>
                        </a:lnTo>
                        <a:lnTo>
                          <a:pt x="180" y="40"/>
                        </a:lnTo>
                        <a:lnTo>
                          <a:pt x="152" y="58"/>
                        </a:lnTo>
                        <a:lnTo>
                          <a:pt x="126" y="76"/>
                        </a:lnTo>
                        <a:lnTo>
                          <a:pt x="102" y="98"/>
                        </a:lnTo>
                        <a:lnTo>
                          <a:pt x="80" y="122"/>
                        </a:lnTo>
                        <a:lnTo>
                          <a:pt x="62" y="148"/>
                        </a:lnTo>
                        <a:lnTo>
                          <a:pt x="44" y="176"/>
                        </a:lnTo>
                        <a:lnTo>
                          <a:pt x="30" y="206"/>
                        </a:lnTo>
                        <a:lnTo>
                          <a:pt x="20" y="236"/>
                        </a:lnTo>
                        <a:lnTo>
                          <a:pt x="12" y="268"/>
                        </a:lnTo>
                        <a:lnTo>
                          <a:pt x="6" y="302"/>
                        </a:lnTo>
                        <a:lnTo>
                          <a:pt x="4" y="336"/>
                        </a:lnTo>
                        <a:lnTo>
                          <a:pt x="6" y="364"/>
                        </a:lnTo>
                        <a:lnTo>
                          <a:pt x="8" y="390"/>
                        </a:lnTo>
                        <a:lnTo>
                          <a:pt x="14" y="416"/>
                        </a:lnTo>
                        <a:lnTo>
                          <a:pt x="22" y="442"/>
                        </a:lnTo>
                        <a:lnTo>
                          <a:pt x="30" y="466"/>
                        </a:lnTo>
                        <a:lnTo>
                          <a:pt x="42" y="490"/>
                        </a:lnTo>
                        <a:lnTo>
                          <a:pt x="54" y="512"/>
                        </a:lnTo>
                        <a:lnTo>
                          <a:pt x="68" y="534"/>
                        </a:lnTo>
                        <a:lnTo>
                          <a:pt x="84" y="554"/>
                        </a:lnTo>
                        <a:lnTo>
                          <a:pt x="102" y="572"/>
                        </a:lnTo>
                        <a:lnTo>
                          <a:pt x="120" y="590"/>
                        </a:lnTo>
                        <a:lnTo>
                          <a:pt x="140" y="606"/>
                        </a:lnTo>
                        <a:lnTo>
                          <a:pt x="162" y="620"/>
                        </a:lnTo>
                        <a:lnTo>
                          <a:pt x="184" y="634"/>
                        </a:lnTo>
                        <a:lnTo>
                          <a:pt x="206" y="644"/>
                        </a:lnTo>
                        <a:lnTo>
                          <a:pt x="232" y="654"/>
                        </a:lnTo>
                        <a:lnTo>
                          <a:pt x="2" y="1608"/>
                        </a:lnTo>
                        <a:lnTo>
                          <a:pt x="0" y="1618"/>
                        </a:lnTo>
                        <a:lnTo>
                          <a:pt x="42" y="1630"/>
                        </a:lnTo>
                        <a:lnTo>
                          <a:pt x="84" y="1640"/>
                        </a:lnTo>
                        <a:lnTo>
                          <a:pt x="126" y="1648"/>
                        </a:lnTo>
                        <a:lnTo>
                          <a:pt x="170" y="1656"/>
                        </a:lnTo>
                        <a:lnTo>
                          <a:pt x="214" y="1662"/>
                        </a:lnTo>
                        <a:lnTo>
                          <a:pt x="260" y="1666"/>
                        </a:lnTo>
                        <a:lnTo>
                          <a:pt x="304" y="1668"/>
                        </a:lnTo>
                        <a:lnTo>
                          <a:pt x="350" y="1668"/>
                        </a:lnTo>
                        <a:lnTo>
                          <a:pt x="390" y="1668"/>
                        </a:lnTo>
                        <a:lnTo>
                          <a:pt x="410" y="1666"/>
                        </a:lnTo>
                        <a:lnTo>
                          <a:pt x="426" y="1666"/>
                        </a:lnTo>
                        <a:lnTo>
                          <a:pt x="454" y="1664"/>
                        </a:lnTo>
                        <a:lnTo>
                          <a:pt x="462" y="1664"/>
                        </a:lnTo>
                        <a:lnTo>
                          <a:pt x="494" y="1660"/>
                        </a:lnTo>
                        <a:lnTo>
                          <a:pt x="524" y="1656"/>
                        </a:lnTo>
                        <a:lnTo>
                          <a:pt x="562" y="1650"/>
                        </a:lnTo>
                        <a:lnTo>
                          <a:pt x="600" y="1644"/>
                        </a:lnTo>
                        <a:lnTo>
                          <a:pt x="644" y="1634"/>
                        </a:lnTo>
                        <a:lnTo>
                          <a:pt x="682" y="1624"/>
                        </a:lnTo>
                        <a:lnTo>
                          <a:pt x="678" y="1608"/>
                        </a:lnTo>
                        <a:close/>
                      </a:path>
                    </a:pathLst>
                  </a:custGeom>
                  <a:blipFill rotWithShape="0">
                    <a:blip r:embed="rId22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Freeform 43"/>
                  <p:cNvSpPr/>
                  <p:nvPr/>
                </p:nvSpPr>
                <p:spPr>
                  <a:xfrm>
                    <a:off x="3050640" y="1594800"/>
                    <a:ext cx="64800" cy="23328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233280"/>
                      <a:gd name="textAreaBottom" fmla="*/ 233640 h 233280"/>
                    </a:gdLst>
                    <a:ahLst/>
                    <a:rect l="textAreaLeft" t="textAreaTop" r="textAreaRight" b="textAreaBottom"/>
                    <a:pathLst>
                      <a:path w="280" h="996">
                        <a:moveTo>
                          <a:pt x="270" y="936"/>
                        </a:moveTo>
                        <a:lnTo>
                          <a:pt x="72" y="0"/>
                        </a:lnTo>
                        <a:lnTo>
                          <a:pt x="0" y="0"/>
                        </a:lnTo>
                        <a:lnTo>
                          <a:pt x="130" y="936"/>
                        </a:lnTo>
                        <a:lnTo>
                          <a:pt x="136" y="996"/>
                        </a:lnTo>
                        <a:lnTo>
                          <a:pt x="202" y="988"/>
                        </a:lnTo>
                        <a:lnTo>
                          <a:pt x="240" y="980"/>
                        </a:lnTo>
                        <a:lnTo>
                          <a:pt x="280" y="972"/>
                        </a:lnTo>
                        <a:lnTo>
                          <a:pt x="270" y="93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100000">
                        <a:srgbClr val="fffcf9">
                          <a:alpha val="77254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Freeform 44"/>
                  <p:cNvSpPr/>
                  <p:nvPr/>
                </p:nvSpPr>
                <p:spPr>
                  <a:xfrm>
                    <a:off x="2970360" y="1815480"/>
                    <a:ext cx="159120" cy="45360"/>
                  </a:xfrm>
                  <a:custGeom>
                    <a:avLst/>
                    <a:gdLst>
                      <a:gd name="textAreaLeft" fmla="*/ 0 w 159120"/>
                      <a:gd name="textAreaRight" fmla="*/ 159480 w 159120"/>
                      <a:gd name="textAreaTop" fmla="*/ 0 h 45360"/>
                      <a:gd name="textAreaBottom" fmla="*/ 45720 h 45360"/>
                    </a:gdLst>
                    <a:ahLst/>
                    <a:rect l="textAreaLeft" t="textAreaTop" r="textAreaRight" b="textAreaBottom"/>
                    <a:pathLst>
                      <a:path w="686" h="196">
                        <a:moveTo>
                          <a:pt x="684" y="6"/>
                        </a:moveTo>
                        <a:lnTo>
                          <a:pt x="684" y="6"/>
                        </a:lnTo>
                        <a:lnTo>
                          <a:pt x="646" y="16"/>
                        </a:lnTo>
                        <a:lnTo>
                          <a:pt x="602" y="28"/>
                        </a:lnTo>
                        <a:lnTo>
                          <a:pt x="564" y="36"/>
                        </a:lnTo>
                        <a:lnTo>
                          <a:pt x="526" y="44"/>
                        </a:lnTo>
                        <a:lnTo>
                          <a:pt x="496" y="48"/>
                        </a:lnTo>
                        <a:lnTo>
                          <a:pt x="464" y="52"/>
                        </a:lnTo>
                        <a:lnTo>
                          <a:pt x="456" y="52"/>
                        </a:lnTo>
                        <a:lnTo>
                          <a:pt x="428" y="54"/>
                        </a:lnTo>
                        <a:lnTo>
                          <a:pt x="410" y="56"/>
                        </a:lnTo>
                        <a:lnTo>
                          <a:pt x="390" y="56"/>
                        </a:lnTo>
                        <a:lnTo>
                          <a:pt x="350" y="58"/>
                        </a:lnTo>
                        <a:lnTo>
                          <a:pt x="306" y="56"/>
                        </a:lnTo>
                        <a:lnTo>
                          <a:pt x="260" y="54"/>
                        </a:lnTo>
                        <a:lnTo>
                          <a:pt x="216" y="48"/>
                        </a:lnTo>
                        <a:lnTo>
                          <a:pt x="172" y="42"/>
                        </a:lnTo>
                        <a:lnTo>
                          <a:pt x="128" y="34"/>
                        </a:lnTo>
                        <a:lnTo>
                          <a:pt x="84" y="24"/>
                        </a:lnTo>
                        <a:lnTo>
                          <a:pt x="42" y="12"/>
                        </a:lnTo>
                        <a:lnTo>
                          <a:pt x="0" y="0"/>
                        </a:lnTo>
                        <a:lnTo>
                          <a:pt x="0" y="142"/>
                        </a:lnTo>
                        <a:lnTo>
                          <a:pt x="42" y="154"/>
                        </a:lnTo>
                        <a:lnTo>
                          <a:pt x="86" y="166"/>
                        </a:lnTo>
                        <a:lnTo>
                          <a:pt x="128" y="174"/>
                        </a:lnTo>
                        <a:lnTo>
                          <a:pt x="172" y="182"/>
                        </a:lnTo>
                        <a:lnTo>
                          <a:pt x="216" y="188"/>
                        </a:lnTo>
                        <a:lnTo>
                          <a:pt x="260" y="192"/>
                        </a:lnTo>
                        <a:lnTo>
                          <a:pt x="306" y="194"/>
                        </a:lnTo>
                        <a:lnTo>
                          <a:pt x="350" y="196"/>
                        </a:lnTo>
                        <a:lnTo>
                          <a:pt x="394" y="194"/>
                        </a:lnTo>
                        <a:lnTo>
                          <a:pt x="436" y="192"/>
                        </a:lnTo>
                        <a:lnTo>
                          <a:pt x="480" y="188"/>
                        </a:lnTo>
                        <a:lnTo>
                          <a:pt x="522" y="182"/>
                        </a:lnTo>
                        <a:lnTo>
                          <a:pt x="564" y="176"/>
                        </a:lnTo>
                        <a:lnTo>
                          <a:pt x="604" y="168"/>
                        </a:lnTo>
                        <a:lnTo>
                          <a:pt x="646" y="158"/>
                        </a:lnTo>
                        <a:lnTo>
                          <a:pt x="686" y="148"/>
                        </a:lnTo>
                        <a:lnTo>
                          <a:pt x="686" y="14"/>
                        </a:lnTo>
                        <a:lnTo>
                          <a:pt x="684" y="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000"/>
                      </a:gs>
                      <a:gs pos="100000">
                        <a:srgbClr val="a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6" name="Ellipse 45"/>
                <p:cNvSpPr/>
                <p:nvPr/>
              </p:nvSpPr>
              <p:spPr>
                <a:xfrm>
                  <a:off x="2995200" y="1441080"/>
                  <a:ext cx="113040" cy="84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fffcf9">
                        <a:alpha val="77254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77" name="Gruppe 170"/>
          <p:cNvGrpSpPr/>
          <p:nvPr/>
        </p:nvGrpSpPr>
        <p:grpSpPr>
          <a:xfrm>
            <a:off x="2295360" y="1306440"/>
            <a:ext cx="303480" cy="370080"/>
            <a:chOff x="2295360" y="1306440"/>
            <a:chExt cx="303480" cy="370080"/>
          </a:xfrm>
        </p:grpSpPr>
        <p:grpSp>
          <p:nvGrpSpPr>
            <p:cNvPr id="478" name="Ellipse 594"/>
            <p:cNvGrpSpPr/>
            <p:nvPr/>
          </p:nvGrpSpPr>
          <p:grpSpPr>
            <a:xfrm>
              <a:off x="2295360" y="1604520"/>
              <a:ext cx="271800" cy="72000"/>
              <a:chOff x="2295360" y="1604520"/>
              <a:chExt cx="271800" cy="72000"/>
            </a:xfrm>
          </p:grpSpPr>
          <p:pic>
            <p:nvPicPr>
              <p:cNvPr id="479" name="Ellipse 594" descr=""/>
              <p:cNvPicPr/>
              <p:nvPr/>
            </p:nvPicPr>
            <p:blipFill>
              <a:blip r:embed="rId23"/>
              <a:stretch/>
            </p:blipFill>
            <p:spPr>
              <a:xfrm>
                <a:off x="2295360" y="1604520"/>
                <a:ext cx="271800" cy="7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0" name=""/>
              <p:cNvSpPr/>
              <p:nvPr/>
            </p:nvSpPr>
            <p:spPr>
              <a:xfrm>
                <a:off x="2336760" y="1620720"/>
                <a:ext cx="184680" cy="4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1" name="Gruppe 156"/>
            <p:cNvGrpSpPr/>
            <p:nvPr/>
          </p:nvGrpSpPr>
          <p:grpSpPr>
            <a:xfrm>
              <a:off x="2362320" y="1306440"/>
              <a:ext cx="236520" cy="351360"/>
              <a:chOff x="2362320" y="1306440"/>
              <a:chExt cx="236520" cy="351360"/>
            </a:xfrm>
          </p:grpSpPr>
          <p:sp>
            <p:nvSpPr>
              <p:cNvPr id="482" name="Freeform 7"/>
              <p:cNvSpPr/>
              <p:nvPr/>
            </p:nvSpPr>
            <p:spPr>
              <a:xfrm>
                <a:off x="2385000" y="1592640"/>
                <a:ext cx="213840" cy="59400"/>
              </a:xfrm>
              <a:custGeom>
                <a:avLst/>
                <a:gdLst>
                  <a:gd name="textAreaLeft" fmla="*/ 0 w 213840"/>
                  <a:gd name="textAreaRight" fmla="*/ 214200 w 21384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884" h="662">
                    <a:moveTo>
                      <a:pt x="516" y="614"/>
                    </a:moveTo>
                    <a:lnTo>
                      <a:pt x="624" y="256"/>
                    </a:lnTo>
                    <a:lnTo>
                      <a:pt x="662" y="260"/>
                    </a:lnTo>
                    <a:lnTo>
                      <a:pt x="700" y="264"/>
                    </a:lnTo>
                    <a:lnTo>
                      <a:pt x="736" y="262"/>
                    </a:lnTo>
                    <a:lnTo>
                      <a:pt x="768" y="258"/>
                    </a:lnTo>
                    <a:lnTo>
                      <a:pt x="798" y="252"/>
                    </a:lnTo>
                    <a:lnTo>
                      <a:pt x="826" y="242"/>
                    </a:lnTo>
                    <a:lnTo>
                      <a:pt x="848" y="230"/>
                    </a:lnTo>
                    <a:lnTo>
                      <a:pt x="858" y="222"/>
                    </a:lnTo>
                    <a:lnTo>
                      <a:pt x="866" y="214"/>
                    </a:lnTo>
                    <a:lnTo>
                      <a:pt x="874" y="204"/>
                    </a:lnTo>
                    <a:lnTo>
                      <a:pt x="880" y="192"/>
                    </a:lnTo>
                    <a:lnTo>
                      <a:pt x="884" y="180"/>
                    </a:lnTo>
                    <a:lnTo>
                      <a:pt x="884" y="168"/>
                    </a:lnTo>
                    <a:lnTo>
                      <a:pt x="882" y="156"/>
                    </a:lnTo>
                    <a:lnTo>
                      <a:pt x="878" y="144"/>
                    </a:lnTo>
                    <a:lnTo>
                      <a:pt x="872" y="130"/>
                    </a:lnTo>
                    <a:lnTo>
                      <a:pt x="864" y="118"/>
                    </a:lnTo>
                    <a:lnTo>
                      <a:pt x="854" y="106"/>
                    </a:lnTo>
                    <a:lnTo>
                      <a:pt x="842" y="94"/>
                    </a:lnTo>
                    <a:lnTo>
                      <a:pt x="828" y="82"/>
                    </a:lnTo>
                    <a:lnTo>
                      <a:pt x="812" y="70"/>
                    </a:lnTo>
                    <a:lnTo>
                      <a:pt x="794" y="58"/>
                    </a:lnTo>
                    <a:lnTo>
                      <a:pt x="774" y="48"/>
                    </a:lnTo>
                    <a:lnTo>
                      <a:pt x="752" y="38"/>
                    </a:lnTo>
                    <a:lnTo>
                      <a:pt x="730" y="30"/>
                    </a:lnTo>
                    <a:lnTo>
                      <a:pt x="706" y="22"/>
                    </a:lnTo>
                    <a:lnTo>
                      <a:pt x="682" y="14"/>
                    </a:lnTo>
                    <a:lnTo>
                      <a:pt x="658" y="10"/>
                    </a:lnTo>
                    <a:lnTo>
                      <a:pt x="634" y="4"/>
                    </a:lnTo>
                    <a:lnTo>
                      <a:pt x="586" y="0"/>
                    </a:lnTo>
                    <a:lnTo>
                      <a:pt x="562" y="0"/>
                    </a:lnTo>
                    <a:lnTo>
                      <a:pt x="540" y="0"/>
                    </a:lnTo>
                    <a:lnTo>
                      <a:pt x="520" y="2"/>
                    </a:lnTo>
                    <a:lnTo>
                      <a:pt x="500" y="6"/>
                    </a:lnTo>
                    <a:lnTo>
                      <a:pt x="480" y="10"/>
                    </a:lnTo>
                    <a:lnTo>
                      <a:pt x="462" y="16"/>
                    </a:lnTo>
                    <a:lnTo>
                      <a:pt x="446" y="22"/>
                    </a:lnTo>
                    <a:lnTo>
                      <a:pt x="432" y="30"/>
                    </a:lnTo>
                    <a:lnTo>
                      <a:pt x="420" y="38"/>
                    </a:lnTo>
                    <a:lnTo>
                      <a:pt x="408" y="48"/>
                    </a:lnTo>
                    <a:lnTo>
                      <a:pt x="402" y="58"/>
                    </a:lnTo>
                    <a:lnTo>
                      <a:pt x="396" y="66"/>
                    </a:lnTo>
                    <a:lnTo>
                      <a:pt x="394" y="76"/>
                    </a:lnTo>
                    <a:lnTo>
                      <a:pt x="392" y="84"/>
                    </a:lnTo>
                    <a:lnTo>
                      <a:pt x="390" y="94"/>
                    </a:lnTo>
                    <a:lnTo>
                      <a:pt x="392" y="104"/>
                    </a:lnTo>
                    <a:lnTo>
                      <a:pt x="394" y="114"/>
                    </a:lnTo>
                    <a:lnTo>
                      <a:pt x="398" y="124"/>
                    </a:lnTo>
                    <a:lnTo>
                      <a:pt x="410" y="144"/>
                    </a:lnTo>
                    <a:lnTo>
                      <a:pt x="426" y="164"/>
                    </a:lnTo>
                    <a:lnTo>
                      <a:pt x="450" y="184"/>
                    </a:lnTo>
                    <a:lnTo>
                      <a:pt x="476" y="202"/>
                    </a:lnTo>
                    <a:lnTo>
                      <a:pt x="44" y="444"/>
                    </a:lnTo>
                    <a:lnTo>
                      <a:pt x="42" y="442"/>
                    </a:lnTo>
                    <a:lnTo>
                      <a:pt x="0" y="490"/>
                    </a:lnTo>
                    <a:lnTo>
                      <a:pt x="474" y="662"/>
                    </a:lnTo>
                    <a:lnTo>
                      <a:pt x="516" y="616"/>
                    </a:lnTo>
                    <a:lnTo>
                      <a:pt x="516" y="614"/>
                    </a:lnTo>
                    <a:close/>
                  </a:path>
                </a:pathLst>
              </a:custGeom>
              <a:solidFill>
                <a:srgbClr val="000000">
                  <a:alpha val="1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3" name="Gruppe 155"/>
              <p:cNvGrpSpPr/>
              <p:nvPr/>
            </p:nvGrpSpPr>
            <p:grpSpPr>
              <a:xfrm>
                <a:off x="2362320" y="1306440"/>
                <a:ext cx="133920" cy="351360"/>
                <a:chOff x="2362320" y="1306440"/>
                <a:chExt cx="133920" cy="351360"/>
              </a:xfrm>
            </p:grpSpPr>
            <p:grpSp>
              <p:nvGrpSpPr>
                <p:cNvPr id="484" name="Gruppe 151"/>
                <p:cNvGrpSpPr/>
                <p:nvPr/>
              </p:nvGrpSpPr>
              <p:grpSpPr>
                <a:xfrm>
                  <a:off x="2362320" y="1306440"/>
                  <a:ext cx="133920" cy="351360"/>
                  <a:chOff x="2362320" y="1306440"/>
                  <a:chExt cx="133920" cy="351360"/>
                </a:xfrm>
              </p:grpSpPr>
              <p:sp>
                <p:nvSpPr>
                  <p:cNvPr id="485" name="Freeform 40"/>
                  <p:cNvSpPr/>
                  <p:nvPr/>
                </p:nvSpPr>
                <p:spPr>
                  <a:xfrm>
                    <a:off x="2362320" y="1306440"/>
                    <a:ext cx="133920" cy="326520"/>
                  </a:xfrm>
                  <a:custGeom>
                    <a:avLst/>
                    <a:gdLst>
                      <a:gd name="textAreaLeft" fmla="*/ 0 w 133920"/>
                      <a:gd name="textAreaRight" fmla="*/ 134280 w 133920"/>
                      <a:gd name="textAreaTop" fmla="*/ 0 h 326520"/>
                      <a:gd name="textAreaBottom" fmla="*/ 326520 h 326520"/>
                    </a:gdLst>
                    <a:ahLst/>
                    <a:rect l="textAreaLeft" t="textAreaTop" r="textAreaRight" b="textAreaBottom"/>
                    <a:pathLst>
                      <a:path w="682" h="1668">
                        <a:moveTo>
                          <a:pt x="678" y="1608"/>
                        </a:moveTo>
                        <a:lnTo>
                          <a:pt x="450" y="654"/>
                        </a:lnTo>
                        <a:lnTo>
                          <a:pt x="474" y="644"/>
                        </a:lnTo>
                        <a:lnTo>
                          <a:pt x="498" y="634"/>
                        </a:lnTo>
                        <a:lnTo>
                          <a:pt x="520" y="620"/>
                        </a:lnTo>
                        <a:lnTo>
                          <a:pt x="540" y="606"/>
                        </a:lnTo>
                        <a:lnTo>
                          <a:pt x="560" y="590"/>
                        </a:lnTo>
                        <a:lnTo>
                          <a:pt x="580" y="572"/>
                        </a:lnTo>
                        <a:lnTo>
                          <a:pt x="596" y="554"/>
                        </a:lnTo>
                        <a:lnTo>
                          <a:pt x="612" y="534"/>
                        </a:lnTo>
                        <a:lnTo>
                          <a:pt x="626" y="512"/>
                        </a:lnTo>
                        <a:lnTo>
                          <a:pt x="640" y="490"/>
                        </a:lnTo>
                        <a:lnTo>
                          <a:pt x="650" y="466"/>
                        </a:lnTo>
                        <a:lnTo>
                          <a:pt x="660" y="442"/>
                        </a:lnTo>
                        <a:lnTo>
                          <a:pt x="666" y="416"/>
                        </a:lnTo>
                        <a:lnTo>
                          <a:pt x="672" y="390"/>
                        </a:lnTo>
                        <a:lnTo>
                          <a:pt x="676" y="364"/>
                        </a:lnTo>
                        <a:lnTo>
                          <a:pt x="676" y="336"/>
                        </a:lnTo>
                        <a:lnTo>
                          <a:pt x="674" y="302"/>
                        </a:lnTo>
                        <a:lnTo>
                          <a:pt x="670" y="268"/>
                        </a:lnTo>
                        <a:lnTo>
                          <a:pt x="662" y="236"/>
                        </a:lnTo>
                        <a:lnTo>
                          <a:pt x="650" y="206"/>
                        </a:lnTo>
                        <a:lnTo>
                          <a:pt x="636" y="176"/>
                        </a:lnTo>
                        <a:lnTo>
                          <a:pt x="618" y="148"/>
                        </a:lnTo>
                        <a:lnTo>
                          <a:pt x="600" y="122"/>
                        </a:lnTo>
                        <a:lnTo>
                          <a:pt x="578" y="98"/>
                        </a:lnTo>
                        <a:lnTo>
                          <a:pt x="554" y="76"/>
                        </a:lnTo>
                        <a:lnTo>
                          <a:pt x="528" y="58"/>
                        </a:lnTo>
                        <a:lnTo>
                          <a:pt x="500" y="40"/>
                        </a:lnTo>
                        <a:lnTo>
                          <a:pt x="472" y="26"/>
                        </a:lnTo>
                        <a:lnTo>
                          <a:pt x="440" y="16"/>
                        </a:lnTo>
                        <a:lnTo>
                          <a:pt x="408" y="8"/>
                        </a:lnTo>
                        <a:lnTo>
                          <a:pt x="374" y="2"/>
                        </a:lnTo>
                        <a:lnTo>
                          <a:pt x="340" y="0"/>
                        </a:lnTo>
                        <a:lnTo>
                          <a:pt x="306" y="2"/>
                        </a:lnTo>
                        <a:lnTo>
                          <a:pt x="272" y="8"/>
                        </a:lnTo>
                        <a:lnTo>
                          <a:pt x="240" y="16"/>
                        </a:lnTo>
                        <a:lnTo>
                          <a:pt x="210" y="26"/>
                        </a:lnTo>
                        <a:lnTo>
                          <a:pt x="180" y="40"/>
                        </a:lnTo>
                        <a:lnTo>
                          <a:pt x="152" y="58"/>
                        </a:lnTo>
                        <a:lnTo>
                          <a:pt x="126" y="76"/>
                        </a:lnTo>
                        <a:lnTo>
                          <a:pt x="102" y="98"/>
                        </a:lnTo>
                        <a:lnTo>
                          <a:pt x="80" y="122"/>
                        </a:lnTo>
                        <a:lnTo>
                          <a:pt x="62" y="148"/>
                        </a:lnTo>
                        <a:lnTo>
                          <a:pt x="44" y="176"/>
                        </a:lnTo>
                        <a:lnTo>
                          <a:pt x="30" y="206"/>
                        </a:lnTo>
                        <a:lnTo>
                          <a:pt x="20" y="236"/>
                        </a:lnTo>
                        <a:lnTo>
                          <a:pt x="12" y="268"/>
                        </a:lnTo>
                        <a:lnTo>
                          <a:pt x="6" y="302"/>
                        </a:lnTo>
                        <a:lnTo>
                          <a:pt x="4" y="336"/>
                        </a:lnTo>
                        <a:lnTo>
                          <a:pt x="6" y="364"/>
                        </a:lnTo>
                        <a:lnTo>
                          <a:pt x="8" y="390"/>
                        </a:lnTo>
                        <a:lnTo>
                          <a:pt x="14" y="416"/>
                        </a:lnTo>
                        <a:lnTo>
                          <a:pt x="22" y="442"/>
                        </a:lnTo>
                        <a:lnTo>
                          <a:pt x="30" y="466"/>
                        </a:lnTo>
                        <a:lnTo>
                          <a:pt x="42" y="490"/>
                        </a:lnTo>
                        <a:lnTo>
                          <a:pt x="54" y="512"/>
                        </a:lnTo>
                        <a:lnTo>
                          <a:pt x="68" y="534"/>
                        </a:lnTo>
                        <a:lnTo>
                          <a:pt x="84" y="554"/>
                        </a:lnTo>
                        <a:lnTo>
                          <a:pt x="102" y="572"/>
                        </a:lnTo>
                        <a:lnTo>
                          <a:pt x="120" y="590"/>
                        </a:lnTo>
                        <a:lnTo>
                          <a:pt x="140" y="606"/>
                        </a:lnTo>
                        <a:lnTo>
                          <a:pt x="162" y="620"/>
                        </a:lnTo>
                        <a:lnTo>
                          <a:pt x="184" y="634"/>
                        </a:lnTo>
                        <a:lnTo>
                          <a:pt x="206" y="644"/>
                        </a:lnTo>
                        <a:lnTo>
                          <a:pt x="232" y="654"/>
                        </a:lnTo>
                        <a:lnTo>
                          <a:pt x="2" y="1608"/>
                        </a:lnTo>
                        <a:lnTo>
                          <a:pt x="0" y="1618"/>
                        </a:lnTo>
                        <a:lnTo>
                          <a:pt x="42" y="1630"/>
                        </a:lnTo>
                        <a:lnTo>
                          <a:pt x="84" y="1640"/>
                        </a:lnTo>
                        <a:lnTo>
                          <a:pt x="126" y="1648"/>
                        </a:lnTo>
                        <a:lnTo>
                          <a:pt x="170" y="1656"/>
                        </a:lnTo>
                        <a:lnTo>
                          <a:pt x="214" y="1662"/>
                        </a:lnTo>
                        <a:lnTo>
                          <a:pt x="260" y="1666"/>
                        </a:lnTo>
                        <a:lnTo>
                          <a:pt x="304" y="1668"/>
                        </a:lnTo>
                        <a:lnTo>
                          <a:pt x="350" y="1668"/>
                        </a:lnTo>
                        <a:lnTo>
                          <a:pt x="390" y="1668"/>
                        </a:lnTo>
                        <a:lnTo>
                          <a:pt x="410" y="1666"/>
                        </a:lnTo>
                        <a:lnTo>
                          <a:pt x="426" y="1666"/>
                        </a:lnTo>
                        <a:lnTo>
                          <a:pt x="454" y="1664"/>
                        </a:lnTo>
                        <a:lnTo>
                          <a:pt x="462" y="1664"/>
                        </a:lnTo>
                        <a:lnTo>
                          <a:pt x="494" y="1660"/>
                        </a:lnTo>
                        <a:lnTo>
                          <a:pt x="524" y="1656"/>
                        </a:lnTo>
                        <a:lnTo>
                          <a:pt x="562" y="1650"/>
                        </a:lnTo>
                        <a:lnTo>
                          <a:pt x="600" y="1644"/>
                        </a:lnTo>
                        <a:lnTo>
                          <a:pt x="644" y="1634"/>
                        </a:lnTo>
                        <a:lnTo>
                          <a:pt x="682" y="1624"/>
                        </a:lnTo>
                        <a:lnTo>
                          <a:pt x="678" y="1608"/>
                        </a:lnTo>
                        <a:close/>
                      </a:path>
                    </a:pathLst>
                  </a:custGeom>
                  <a:blipFill rotWithShape="0">
                    <a:blip r:embed="rId24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Freeform 43"/>
                  <p:cNvSpPr/>
                  <p:nvPr/>
                </p:nvSpPr>
                <p:spPr>
                  <a:xfrm>
                    <a:off x="2430000" y="1436040"/>
                    <a:ext cx="55080" cy="195120"/>
                  </a:xfrm>
                  <a:custGeom>
                    <a:avLst/>
                    <a:gdLst>
                      <a:gd name="textAreaLeft" fmla="*/ 0 w 55080"/>
                      <a:gd name="textAreaRight" fmla="*/ 55440 w 55080"/>
                      <a:gd name="textAreaTop" fmla="*/ 0 h 195120"/>
                      <a:gd name="textAreaBottom" fmla="*/ 195480 h 195120"/>
                    </a:gdLst>
                    <a:ahLst/>
                    <a:rect l="textAreaLeft" t="textAreaTop" r="textAreaRight" b="textAreaBottom"/>
                    <a:pathLst>
                      <a:path w="280" h="996">
                        <a:moveTo>
                          <a:pt x="270" y="936"/>
                        </a:moveTo>
                        <a:lnTo>
                          <a:pt x="72" y="0"/>
                        </a:lnTo>
                        <a:lnTo>
                          <a:pt x="0" y="0"/>
                        </a:lnTo>
                        <a:lnTo>
                          <a:pt x="130" y="936"/>
                        </a:lnTo>
                        <a:lnTo>
                          <a:pt x="136" y="996"/>
                        </a:lnTo>
                        <a:lnTo>
                          <a:pt x="202" y="988"/>
                        </a:lnTo>
                        <a:lnTo>
                          <a:pt x="240" y="980"/>
                        </a:lnTo>
                        <a:lnTo>
                          <a:pt x="280" y="972"/>
                        </a:lnTo>
                        <a:lnTo>
                          <a:pt x="270" y="93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100000">
                        <a:srgbClr val="fffcf9">
                          <a:alpha val="77254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Freeform 44"/>
                  <p:cNvSpPr/>
                  <p:nvPr/>
                </p:nvSpPr>
                <p:spPr>
                  <a:xfrm>
                    <a:off x="2362320" y="1618920"/>
                    <a:ext cx="133920" cy="38880"/>
                  </a:xfrm>
                  <a:custGeom>
                    <a:avLst/>
                    <a:gdLst>
                      <a:gd name="textAreaLeft" fmla="*/ 0 w 133920"/>
                      <a:gd name="textAreaRight" fmla="*/ 134280 w 133920"/>
                      <a:gd name="textAreaTop" fmla="*/ 0 h 38880"/>
                      <a:gd name="textAreaBottom" fmla="*/ 39240 h 38880"/>
                    </a:gdLst>
                    <a:ahLst/>
                    <a:rect l="textAreaLeft" t="textAreaTop" r="textAreaRight" b="textAreaBottom"/>
                    <a:pathLst>
                      <a:path w="686" h="196">
                        <a:moveTo>
                          <a:pt x="684" y="6"/>
                        </a:moveTo>
                        <a:lnTo>
                          <a:pt x="684" y="6"/>
                        </a:lnTo>
                        <a:lnTo>
                          <a:pt x="646" y="16"/>
                        </a:lnTo>
                        <a:lnTo>
                          <a:pt x="602" y="28"/>
                        </a:lnTo>
                        <a:lnTo>
                          <a:pt x="564" y="36"/>
                        </a:lnTo>
                        <a:lnTo>
                          <a:pt x="526" y="44"/>
                        </a:lnTo>
                        <a:lnTo>
                          <a:pt x="496" y="48"/>
                        </a:lnTo>
                        <a:lnTo>
                          <a:pt x="464" y="52"/>
                        </a:lnTo>
                        <a:lnTo>
                          <a:pt x="456" y="52"/>
                        </a:lnTo>
                        <a:lnTo>
                          <a:pt x="428" y="54"/>
                        </a:lnTo>
                        <a:lnTo>
                          <a:pt x="410" y="56"/>
                        </a:lnTo>
                        <a:lnTo>
                          <a:pt x="390" y="56"/>
                        </a:lnTo>
                        <a:lnTo>
                          <a:pt x="350" y="58"/>
                        </a:lnTo>
                        <a:lnTo>
                          <a:pt x="306" y="56"/>
                        </a:lnTo>
                        <a:lnTo>
                          <a:pt x="260" y="54"/>
                        </a:lnTo>
                        <a:lnTo>
                          <a:pt x="216" y="48"/>
                        </a:lnTo>
                        <a:lnTo>
                          <a:pt x="172" y="42"/>
                        </a:lnTo>
                        <a:lnTo>
                          <a:pt x="128" y="34"/>
                        </a:lnTo>
                        <a:lnTo>
                          <a:pt x="84" y="24"/>
                        </a:lnTo>
                        <a:lnTo>
                          <a:pt x="42" y="12"/>
                        </a:lnTo>
                        <a:lnTo>
                          <a:pt x="0" y="0"/>
                        </a:lnTo>
                        <a:lnTo>
                          <a:pt x="0" y="142"/>
                        </a:lnTo>
                        <a:lnTo>
                          <a:pt x="42" y="154"/>
                        </a:lnTo>
                        <a:lnTo>
                          <a:pt x="86" y="166"/>
                        </a:lnTo>
                        <a:lnTo>
                          <a:pt x="128" y="174"/>
                        </a:lnTo>
                        <a:lnTo>
                          <a:pt x="172" y="182"/>
                        </a:lnTo>
                        <a:lnTo>
                          <a:pt x="216" y="188"/>
                        </a:lnTo>
                        <a:lnTo>
                          <a:pt x="260" y="192"/>
                        </a:lnTo>
                        <a:lnTo>
                          <a:pt x="306" y="194"/>
                        </a:lnTo>
                        <a:lnTo>
                          <a:pt x="350" y="196"/>
                        </a:lnTo>
                        <a:lnTo>
                          <a:pt x="394" y="194"/>
                        </a:lnTo>
                        <a:lnTo>
                          <a:pt x="436" y="192"/>
                        </a:lnTo>
                        <a:lnTo>
                          <a:pt x="480" y="188"/>
                        </a:lnTo>
                        <a:lnTo>
                          <a:pt x="522" y="182"/>
                        </a:lnTo>
                        <a:lnTo>
                          <a:pt x="564" y="176"/>
                        </a:lnTo>
                        <a:lnTo>
                          <a:pt x="604" y="168"/>
                        </a:lnTo>
                        <a:lnTo>
                          <a:pt x="646" y="158"/>
                        </a:lnTo>
                        <a:lnTo>
                          <a:pt x="686" y="148"/>
                        </a:lnTo>
                        <a:lnTo>
                          <a:pt x="686" y="14"/>
                        </a:lnTo>
                        <a:lnTo>
                          <a:pt x="684" y="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000"/>
                      </a:gs>
                      <a:gs pos="100000">
                        <a:srgbClr val="a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8" name="Ellipse 45"/>
                <p:cNvSpPr/>
                <p:nvPr/>
              </p:nvSpPr>
              <p:spPr>
                <a:xfrm>
                  <a:off x="2383560" y="1309320"/>
                  <a:ext cx="94320" cy="7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fffcf9">
                        <a:alpha val="77254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89" name="Gruppe 103"/>
          <p:cNvGrpSpPr/>
          <p:nvPr/>
        </p:nvGrpSpPr>
        <p:grpSpPr>
          <a:xfrm>
            <a:off x="6664320" y="1362240"/>
            <a:ext cx="1425600" cy="1539720"/>
            <a:chOff x="6664320" y="1362240"/>
            <a:chExt cx="1425600" cy="1539720"/>
          </a:xfrm>
        </p:grpSpPr>
        <p:grpSp>
          <p:nvGrpSpPr>
            <p:cNvPr id="490" name="Gruppe 61"/>
            <p:cNvGrpSpPr/>
            <p:nvPr/>
          </p:nvGrpSpPr>
          <p:grpSpPr>
            <a:xfrm>
              <a:off x="6664320" y="2428920"/>
              <a:ext cx="1409760" cy="444240"/>
              <a:chOff x="6664320" y="2428920"/>
              <a:chExt cx="1409760" cy="444240"/>
            </a:xfrm>
          </p:grpSpPr>
          <p:sp>
            <p:nvSpPr>
              <p:cNvPr id="491" name="Freeform 6"/>
              <p:cNvSpPr/>
              <p:nvPr/>
            </p:nvSpPr>
            <p:spPr>
              <a:xfrm>
                <a:off x="6713280" y="2433600"/>
                <a:ext cx="1360800" cy="296640"/>
              </a:xfrm>
              <a:custGeom>
                <a:avLst/>
                <a:gdLst>
                  <a:gd name="textAreaLeft" fmla="*/ 0 w 1360800"/>
                  <a:gd name="textAreaRight" fmla="*/ 1361160 w 1360800"/>
                  <a:gd name="textAreaTop" fmla="*/ 0 h 296640"/>
                  <a:gd name="textAreaBottom" fmla="*/ 296640 h 296640"/>
                </a:gdLst>
                <a:ahLst/>
                <a:rect l="textAreaLeft" t="textAreaTop" r="textAreaRight" b="textAreaBottom"/>
                <a:pathLst>
                  <a:path w="2174" h="1642">
                    <a:moveTo>
                      <a:pt x="10" y="102"/>
                    </a:moveTo>
                    <a:lnTo>
                      <a:pt x="10" y="102"/>
                    </a:lnTo>
                    <a:lnTo>
                      <a:pt x="6" y="104"/>
                    </a:lnTo>
                    <a:lnTo>
                      <a:pt x="2" y="106"/>
                    </a:lnTo>
                    <a:lnTo>
                      <a:pt x="0" y="110"/>
                    </a:lnTo>
                    <a:lnTo>
                      <a:pt x="0" y="116"/>
                    </a:lnTo>
                    <a:lnTo>
                      <a:pt x="4" y="126"/>
                    </a:lnTo>
                    <a:lnTo>
                      <a:pt x="12" y="138"/>
                    </a:lnTo>
                    <a:lnTo>
                      <a:pt x="26" y="154"/>
                    </a:lnTo>
                    <a:lnTo>
                      <a:pt x="40" y="170"/>
                    </a:lnTo>
                    <a:lnTo>
                      <a:pt x="62" y="194"/>
                    </a:lnTo>
                    <a:lnTo>
                      <a:pt x="90" y="230"/>
                    </a:lnTo>
                    <a:lnTo>
                      <a:pt x="126" y="276"/>
                    </a:lnTo>
                    <a:lnTo>
                      <a:pt x="164" y="332"/>
                    </a:lnTo>
                    <a:lnTo>
                      <a:pt x="206" y="398"/>
                    </a:lnTo>
                    <a:lnTo>
                      <a:pt x="250" y="472"/>
                    </a:lnTo>
                    <a:lnTo>
                      <a:pt x="292" y="554"/>
                    </a:lnTo>
                    <a:lnTo>
                      <a:pt x="314" y="598"/>
                    </a:lnTo>
                    <a:lnTo>
                      <a:pt x="334" y="644"/>
                    </a:lnTo>
                    <a:lnTo>
                      <a:pt x="354" y="690"/>
                    </a:lnTo>
                    <a:lnTo>
                      <a:pt x="374" y="740"/>
                    </a:lnTo>
                    <a:lnTo>
                      <a:pt x="392" y="792"/>
                    </a:lnTo>
                    <a:lnTo>
                      <a:pt x="408" y="844"/>
                    </a:lnTo>
                    <a:lnTo>
                      <a:pt x="424" y="898"/>
                    </a:lnTo>
                    <a:lnTo>
                      <a:pt x="438" y="954"/>
                    </a:lnTo>
                    <a:lnTo>
                      <a:pt x="450" y="1012"/>
                    </a:lnTo>
                    <a:lnTo>
                      <a:pt x="460" y="1072"/>
                    </a:lnTo>
                    <a:lnTo>
                      <a:pt x="468" y="1132"/>
                    </a:lnTo>
                    <a:lnTo>
                      <a:pt x="474" y="1194"/>
                    </a:lnTo>
                    <a:lnTo>
                      <a:pt x="478" y="1256"/>
                    </a:lnTo>
                    <a:lnTo>
                      <a:pt x="478" y="1320"/>
                    </a:lnTo>
                    <a:lnTo>
                      <a:pt x="476" y="1386"/>
                    </a:lnTo>
                    <a:lnTo>
                      <a:pt x="472" y="1452"/>
                    </a:lnTo>
                    <a:lnTo>
                      <a:pt x="498" y="1542"/>
                    </a:lnTo>
                    <a:lnTo>
                      <a:pt x="514" y="1522"/>
                    </a:lnTo>
                    <a:lnTo>
                      <a:pt x="562" y="1472"/>
                    </a:lnTo>
                    <a:lnTo>
                      <a:pt x="594" y="1440"/>
                    </a:lnTo>
                    <a:lnTo>
                      <a:pt x="630" y="1406"/>
                    </a:lnTo>
                    <a:lnTo>
                      <a:pt x="672" y="1370"/>
                    </a:lnTo>
                    <a:lnTo>
                      <a:pt x="716" y="1334"/>
                    </a:lnTo>
                    <a:lnTo>
                      <a:pt x="762" y="1302"/>
                    </a:lnTo>
                    <a:lnTo>
                      <a:pt x="784" y="1288"/>
                    </a:lnTo>
                    <a:lnTo>
                      <a:pt x="808" y="1274"/>
                    </a:lnTo>
                    <a:lnTo>
                      <a:pt x="832" y="1262"/>
                    </a:lnTo>
                    <a:lnTo>
                      <a:pt x="856" y="1252"/>
                    </a:lnTo>
                    <a:lnTo>
                      <a:pt x="880" y="1244"/>
                    </a:lnTo>
                    <a:lnTo>
                      <a:pt x="904" y="1238"/>
                    </a:lnTo>
                    <a:lnTo>
                      <a:pt x="928" y="1236"/>
                    </a:lnTo>
                    <a:lnTo>
                      <a:pt x="952" y="1234"/>
                    </a:lnTo>
                    <a:lnTo>
                      <a:pt x="974" y="1236"/>
                    </a:lnTo>
                    <a:lnTo>
                      <a:pt x="996" y="1240"/>
                    </a:lnTo>
                    <a:lnTo>
                      <a:pt x="1016" y="1248"/>
                    </a:lnTo>
                    <a:lnTo>
                      <a:pt x="1038" y="1260"/>
                    </a:lnTo>
                    <a:lnTo>
                      <a:pt x="1056" y="1274"/>
                    </a:lnTo>
                    <a:lnTo>
                      <a:pt x="1076" y="1294"/>
                    </a:lnTo>
                    <a:lnTo>
                      <a:pt x="1086" y="1464"/>
                    </a:lnTo>
                    <a:lnTo>
                      <a:pt x="1088" y="1468"/>
                    </a:lnTo>
                    <a:lnTo>
                      <a:pt x="1098" y="1480"/>
                    </a:lnTo>
                    <a:lnTo>
                      <a:pt x="1108" y="1486"/>
                    </a:lnTo>
                    <a:lnTo>
                      <a:pt x="1118" y="1494"/>
                    </a:lnTo>
                    <a:lnTo>
                      <a:pt x="1134" y="1500"/>
                    </a:lnTo>
                    <a:lnTo>
                      <a:pt x="1152" y="1506"/>
                    </a:lnTo>
                    <a:lnTo>
                      <a:pt x="1174" y="1512"/>
                    </a:lnTo>
                    <a:lnTo>
                      <a:pt x="1200" y="1514"/>
                    </a:lnTo>
                    <a:lnTo>
                      <a:pt x="1230" y="1516"/>
                    </a:lnTo>
                    <a:lnTo>
                      <a:pt x="1266" y="1514"/>
                    </a:lnTo>
                    <a:lnTo>
                      <a:pt x="1308" y="1510"/>
                    </a:lnTo>
                    <a:lnTo>
                      <a:pt x="1356" y="1502"/>
                    </a:lnTo>
                    <a:lnTo>
                      <a:pt x="1408" y="1490"/>
                    </a:lnTo>
                    <a:lnTo>
                      <a:pt x="1468" y="1474"/>
                    </a:lnTo>
                    <a:lnTo>
                      <a:pt x="1482" y="1470"/>
                    </a:lnTo>
                    <a:lnTo>
                      <a:pt x="1522" y="1464"/>
                    </a:lnTo>
                    <a:lnTo>
                      <a:pt x="1552" y="1462"/>
                    </a:lnTo>
                    <a:lnTo>
                      <a:pt x="1586" y="1460"/>
                    </a:lnTo>
                    <a:lnTo>
                      <a:pt x="1626" y="1460"/>
                    </a:lnTo>
                    <a:lnTo>
                      <a:pt x="1670" y="1462"/>
                    </a:lnTo>
                    <a:lnTo>
                      <a:pt x="1720" y="1466"/>
                    </a:lnTo>
                    <a:lnTo>
                      <a:pt x="1772" y="1476"/>
                    </a:lnTo>
                    <a:lnTo>
                      <a:pt x="1830" y="1488"/>
                    </a:lnTo>
                    <a:lnTo>
                      <a:pt x="1890" y="1506"/>
                    </a:lnTo>
                    <a:lnTo>
                      <a:pt x="1952" y="1528"/>
                    </a:lnTo>
                    <a:lnTo>
                      <a:pt x="1986" y="1540"/>
                    </a:lnTo>
                    <a:lnTo>
                      <a:pt x="2018" y="1556"/>
                    </a:lnTo>
                    <a:lnTo>
                      <a:pt x="2052" y="1572"/>
                    </a:lnTo>
                    <a:lnTo>
                      <a:pt x="2086" y="1590"/>
                    </a:lnTo>
                    <a:lnTo>
                      <a:pt x="2120" y="1610"/>
                    </a:lnTo>
                    <a:lnTo>
                      <a:pt x="2156" y="1632"/>
                    </a:lnTo>
                    <a:lnTo>
                      <a:pt x="2160" y="1638"/>
                    </a:lnTo>
                    <a:lnTo>
                      <a:pt x="2164" y="1642"/>
                    </a:lnTo>
                    <a:lnTo>
                      <a:pt x="2170" y="1642"/>
                    </a:lnTo>
                    <a:lnTo>
                      <a:pt x="2172" y="1642"/>
                    </a:lnTo>
                    <a:lnTo>
                      <a:pt x="2172" y="1638"/>
                    </a:lnTo>
                    <a:lnTo>
                      <a:pt x="2174" y="1626"/>
                    </a:lnTo>
                    <a:lnTo>
                      <a:pt x="2172" y="1604"/>
                    </a:lnTo>
                    <a:lnTo>
                      <a:pt x="2166" y="1570"/>
                    </a:lnTo>
                    <a:lnTo>
                      <a:pt x="2160" y="1542"/>
                    </a:lnTo>
                    <a:lnTo>
                      <a:pt x="2146" y="1502"/>
                    </a:lnTo>
                    <a:lnTo>
                      <a:pt x="2110" y="1390"/>
                    </a:lnTo>
                    <a:lnTo>
                      <a:pt x="2086" y="1320"/>
                    </a:lnTo>
                    <a:lnTo>
                      <a:pt x="2062" y="1240"/>
                    </a:lnTo>
                    <a:lnTo>
                      <a:pt x="2038" y="1154"/>
                    </a:lnTo>
                    <a:lnTo>
                      <a:pt x="2016" y="1060"/>
                    </a:lnTo>
                    <a:lnTo>
                      <a:pt x="1996" y="962"/>
                    </a:lnTo>
                    <a:lnTo>
                      <a:pt x="1980" y="860"/>
                    </a:lnTo>
                    <a:lnTo>
                      <a:pt x="1972" y="806"/>
                    </a:lnTo>
                    <a:lnTo>
                      <a:pt x="1966" y="752"/>
                    </a:lnTo>
                    <a:lnTo>
                      <a:pt x="1962" y="698"/>
                    </a:lnTo>
                    <a:lnTo>
                      <a:pt x="1960" y="644"/>
                    </a:lnTo>
                    <a:lnTo>
                      <a:pt x="1960" y="588"/>
                    </a:lnTo>
                    <a:lnTo>
                      <a:pt x="1960" y="534"/>
                    </a:lnTo>
                    <a:lnTo>
                      <a:pt x="1964" y="478"/>
                    </a:lnTo>
                    <a:lnTo>
                      <a:pt x="1968" y="422"/>
                    </a:lnTo>
                    <a:lnTo>
                      <a:pt x="1976" y="366"/>
                    </a:lnTo>
                    <a:lnTo>
                      <a:pt x="1986" y="312"/>
                    </a:lnTo>
                    <a:lnTo>
                      <a:pt x="1998" y="256"/>
                    </a:lnTo>
                    <a:lnTo>
                      <a:pt x="2012" y="202"/>
                    </a:lnTo>
                    <a:lnTo>
                      <a:pt x="1960" y="218"/>
                    </a:lnTo>
                    <a:lnTo>
                      <a:pt x="1900" y="232"/>
                    </a:lnTo>
                    <a:lnTo>
                      <a:pt x="1824" y="250"/>
                    </a:lnTo>
                    <a:lnTo>
                      <a:pt x="1738" y="268"/>
                    </a:lnTo>
                    <a:lnTo>
                      <a:pt x="1644" y="282"/>
                    </a:lnTo>
                    <a:lnTo>
                      <a:pt x="1596" y="288"/>
                    </a:lnTo>
                    <a:lnTo>
                      <a:pt x="1550" y="294"/>
                    </a:lnTo>
                    <a:lnTo>
                      <a:pt x="1502" y="296"/>
                    </a:lnTo>
                    <a:lnTo>
                      <a:pt x="1456" y="298"/>
                    </a:lnTo>
                    <a:lnTo>
                      <a:pt x="1368" y="298"/>
                    </a:lnTo>
                    <a:lnTo>
                      <a:pt x="1280" y="298"/>
                    </a:lnTo>
                    <a:lnTo>
                      <a:pt x="1238" y="298"/>
                    </a:lnTo>
                    <a:lnTo>
                      <a:pt x="1198" y="296"/>
                    </a:lnTo>
                    <a:lnTo>
                      <a:pt x="1160" y="292"/>
                    </a:lnTo>
                    <a:lnTo>
                      <a:pt x="1122" y="286"/>
                    </a:lnTo>
                    <a:lnTo>
                      <a:pt x="1088" y="278"/>
                    </a:lnTo>
                    <a:lnTo>
                      <a:pt x="1056" y="266"/>
                    </a:lnTo>
                    <a:lnTo>
                      <a:pt x="1028" y="252"/>
                    </a:lnTo>
                    <a:lnTo>
                      <a:pt x="1016" y="244"/>
                    </a:lnTo>
                    <a:lnTo>
                      <a:pt x="1004" y="236"/>
                    </a:lnTo>
                    <a:lnTo>
                      <a:pt x="992" y="224"/>
                    </a:lnTo>
                    <a:lnTo>
                      <a:pt x="982" y="214"/>
                    </a:lnTo>
                    <a:lnTo>
                      <a:pt x="972" y="202"/>
                    </a:lnTo>
                    <a:lnTo>
                      <a:pt x="964" y="188"/>
                    </a:lnTo>
                    <a:lnTo>
                      <a:pt x="958" y="174"/>
                    </a:lnTo>
                    <a:lnTo>
                      <a:pt x="952" y="158"/>
                    </a:lnTo>
                    <a:lnTo>
                      <a:pt x="946" y="142"/>
                    </a:lnTo>
                    <a:lnTo>
                      <a:pt x="942" y="122"/>
                    </a:lnTo>
                    <a:lnTo>
                      <a:pt x="940" y="114"/>
                    </a:lnTo>
                    <a:lnTo>
                      <a:pt x="934" y="94"/>
                    </a:lnTo>
                    <a:lnTo>
                      <a:pt x="928" y="80"/>
                    </a:lnTo>
                    <a:lnTo>
                      <a:pt x="920" y="66"/>
                    </a:lnTo>
                    <a:lnTo>
                      <a:pt x="910" y="50"/>
                    </a:lnTo>
                    <a:lnTo>
                      <a:pt x="898" y="36"/>
                    </a:lnTo>
                    <a:lnTo>
                      <a:pt x="882" y="24"/>
                    </a:lnTo>
                    <a:lnTo>
                      <a:pt x="864" y="12"/>
                    </a:lnTo>
                    <a:lnTo>
                      <a:pt x="842" y="4"/>
                    </a:lnTo>
                    <a:lnTo>
                      <a:pt x="818" y="0"/>
                    </a:lnTo>
                    <a:lnTo>
                      <a:pt x="804" y="0"/>
                    </a:lnTo>
                    <a:lnTo>
                      <a:pt x="788" y="0"/>
                    </a:lnTo>
                    <a:lnTo>
                      <a:pt x="774" y="2"/>
                    </a:lnTo>
                    <a:lnTo>
                      <a:pt x="756" y="4"/>
                    </a:lnTo>
                    <a:lnTo>
                      <a:pt x="738" y="10"/>
                    </a:lnTo>
                    <a:lnTo>
                      <a:pt x="720" y="16"/>
                    </a:lnTo>
                    <a:lnTo>
                      <a:pt x="678" y="32"/>
                    </a:lnTo>
                    <a:lnTo>
                      <a:pt x="632" y="52"/>
                    </a:lnTo>
                    <a:lnTo>
                      <a:pt x="584" y="68"/>
                    </a:lnTo>
                    <a:lnTo>
                      <a:pt x="534" y="82"/>
                    </a:lnTo>
                    <a:lnTo>
                      <a:pt x="482" y="94"/>
                    </a:lnTo>
                    <a:lnTo>
                      <a:pt x="428" y="104"/>
                    </a:lnTo>
                    <a:lnTo>
                      <a:pt x="376" y="110"/>
                    </a:lnTo>
                    <a:lnTo>
                      <a:pt x="324" y="116"/>
                    </a:lnTo>
                    <a:lnTo>
                      <a:pt x="272" y="118"/>
                    </a:lnTo>
                    <a:lnTo>
                      <a:pt x="224" y="120"/>
                    </a:lnTo>
                    <a:lnTo>
                      <a:pt x="178" y="120"/>
                    </a:lnTo>
                    <a:lnTo>
                      <a:pt x="138" y="120"/>
                    </a:lnTo>
                    <a:lnTo>
                      <a:pt x="100" y="118"/>
                    </a:lnTo>
                    <a:lnTo>
                      <a:pt x="68" y="114"/>
                    </a:lnTo>
                    <a:lnTo>
                      <a:pt x="42" y="110"/>
                    </a:lnTo>
                    <a:lnTo>
                      <a:pt x="22" y="106"/>
                    </a:lnTo>
                    <a:lnTo>
                      <a:pt x="10" y="102"/>
                    </a:lnTo>
                    <a:close/>
                  </a:path>
                </a:pathLst>
              </a:custGeom>
              <a:solidFill>
                <a:srgbClr val="151616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11"/>
              <p:cNvSpPr/>
              <p:nvPr/>
            </p:nvSpPr>
            <p:spPr>
              <a:xfrm>
                <a:off x="6664320" y="2446200"/>
                <a:ext cx="507960" cy="426960"/>
              </a:xfrm>
              <a:custGeom>
                <a:avLst/>
                <a:gdLst>
                  <a:gd name="textAreaLeft" fmla="*/ 0 w 507960"/>
                  <a:gd name="textAreaRight" fmla="*/ 508320 w 50796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812" h="2364">
                    <a:moveTo>
                      <a:pt x="810" y="2320"/>
                    </a:moveTo>
                    <a:lnTo>
                      <a:pt x="810" y="2320"/>
                    </a:lnTo>
                    <a:lnTo>
                      <a:pt x="812" y="2334"/>
                    </a:lnTo>
                    <a:lnTo>
                      <a:pt x="810" y="2348"/>
                    </a:lnTo>
                    <a:lnTo>
                      <a:pt x="808" y="2352"/>
                    </a:lnTo>
                    <a:lnTo>
                      <a:pt x="804" y="2358"/>
                    </a:lnTo>
                    <a:lnTo>
                      <a:pt x="800" y="2362"/>
                    </a:lnTo>
                    <a:lnTo>
                      <a:pt x="794" y="2364"/>
                    </a:lnTo>
                    <a:lnTo>
                      <a:pt x="788" y="2364"/>
                    </a:lnTo>
                    <a:lnTo>
                      <a:pt x="784" y="2364"/>
                    </a:lnTo>
                    <a:lnTo>
                      <a:pt x="778" y="2362"/>
                    </a:lnTo>
                    <a:lnTo>
                      <a:pt x="772" y="2360"/>
                    </a:lnTo>
                    <a:lnTo>
                      <a:pt x="762" y="2350"/>
                    </a:lnTo>
                    <a:lnTo>
                      <a:pt x="756" y="2336"/>
                    </a:lnTo>
                    <a:lnTo>
                      <a:pt x="2" y="46"/>
                    </a:lnTo>
                    <a:lnTo>
                      <a:pt x="0" y="32"/>
                    </a:lnTo>
                    <a:lnTo>
                      <a:pt x="2" y="18"/>
                    </a:lnTo>
                    <a:lnTo>
                      <a:pt x="4" y="12"/>
                    </a:lnTo>
                    <a:lnTo>
                      <a:pt x="8" y="8"/>
                    </a:lnTo>
                    <a:lnTo>
                      <a:pt x="12" y="4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40" y="6"/>
                    </a:lnTo>
                    <a:lnTo>
                      <a:pt x="48" y="16"/>
                    </a:lnTo>
                    <a:lnTo>
                      <a:pt x="56" y="28"/>
                    </a:lnTo>
                    <a:lnTo>
                      <a:pt x="810" y="2320"/>
                    </a:lnTo>
                    <a:close/>
                  </a:path>
                </a:pathLst>
              </a:custGeom>
              <a:solidFill>
                <a:srgbClr val="151616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2"/>
              <p:cNvSpPr/>
              <p:nvPr/>
            </p:nvSpPr>
            <p:spPr>
              <a:xfrm>
                <a:off x="6683040" y="2428920"/>
                <a:ext cx="1360800" cy="296640"/>
              </a:xfrm>
              <a:custGeom>
                <a:avLst/>
                <a:gdLst>
                  <a:gd name="textAreaLeft" fmla="*/ 0 w 1360800"/>
                  <a:gd name="textAreaRight" fmla="*/ 1361160 w 1360800"/>
                  <a:gd name="textAreaTop" fmla="*/ 0 h 296640"/>
                  <a:gd name="textAreaBottom" fmla="*/ 297000 h 296640"/>
                </a:gdLst>
                <a:ahLst/>
                <a:rect l="textAreaLeft" t="textAreaTop" r="textAreaRight" b="textAreaBottom"/>
                <a:pathLst>
                  <a:path w="2174" h="1644">
                    <a:moveTo>
                      <a:pt x="10" y="102"/>
                    </a:moveTo>
                    <a:lnTo>
                      <a:pt x="10" y="102"/>
                    </a:lnTo>
                    <a:lnTo>
                      <a:pt x="6" y="104"/>
                    </a:lnTo>
                    <a:lnTo>
                      <a:pt x="2" y="106"/>
                    </a:lnTo>
                    <a:lnTo>
                      <a:pt x="0" y="112"/>
                    </a:lnTo>
                    <a:lnTo>
                      <a:pt x="0" y="118"/>
                    </a:lnTo>
                    <a:lnTo>
                      <a:pt x="4" y="128"/>
                    </a:lnTo>
                    <a:lnTo>
                      <a:pt x="12" y="140"/>
                    </a:lnTo>
                    <a:lnTo>
                      <a:pt x="26" y="156"/>
                    </a:lnTo>
                    <a:lnTo>
                      <a:pt x="40" y="170"/>
                    </a:lnTo>
                    <a:lnTo>
                      <a:pt x="62" y="196"/>
                    </a:lnTo>
                    <a:lnTo>
                      <a:pt x="90" y="232"/>
                    </a:lnTo>
                    <a:lnTo>
                      <a:pt x="126" y="278"/>
                    </a:lnTo>
                    <a:lnTo>
                      <a:pt x="164" y="334"/>
                    </a:lnTo>
                    <a:lnTo>
                      <a:pt x="206" y="398"/>
                    </a:lnTo>
                    <a:lnTo>
                      <a:pt x="250" y="472"/>
                    </a:lnTo>
                    <a:lnTo>
                      <a:pt x="292" y="554"/>
                    </a:lnTo>
                    <a:lnTo>
                      <a:pt x="314" y="598"/>
                    </a:lnTo>
                    <a:lnTo>
                      <a:pt x="334" y="644"/>
                    </a:lnTo>
                    <a:lnTo>
                      <a:pt x="354" y="692"/>
                    </a:lnTo>
                    <a:lnTo>
                      <a:pt x="374" y="742"/>
                    </a:lnTo>
                    <a:lnTo>
                      <a:pt x="392" y="792"/>
                    </a:lnTo>
                    <a:lnTo>
                      <a:pt x="408" y="846"/>
                    </a:lnTo>
                    <a:lnTo>
                      <a:pt x="424" y="900"/>
                    </a:lnTo>
                    <a:lnTo>
                      <a:pt x="438" y="956"/>
                    </a:lnTo>
                    <a:lnTo>
                      <a:pt x="450" y="1014"/>
                    </a:lnTo>
                    <a:lnTo>
                      <a:pt x="460" y="1072"/>
                    </a:lnTo>
                    <a:lnTo>
                      <a:pt x="468" y="1132"/>
                    </a:lnTo>
                    <a:lnTo>
                      <a:pt x="474" y="1194"/>
                    </a:lnTo>
                    <a:lnTo>
                      <a:pt x="478" y="1258"/>
                    </a:lnTo>
                    <a:lnTo>
                      <a:pt x="478" y="1322"/>
                    </a:lnTo>
                    <a:lnTo>
                      <a:pt x="476" y="1388"/>
                    </a:lnTo>
                    <a:lnTo>
                      <a:pt x="472" y="1454"/>
                    </a:lnTo>
                    <a:lnTo>
                      <a:pt x="498" y="1544"/>
                    </a:lnTo>
                    <a:lnTo>
                      <a:pt x="514" y="1524"/>
                    </a:lnTo>
                    <a:lnTo>
                      <a:pt x="562" y="1474"/>
                    </a:lnTo>
                    <a:lnTo>
                      <a:pt x="594" y="1442"/>
                    </a:lnTo>
                    <a:lnTo>
                      <a:pt x="630" y="1406"/>
                    </a:lnTo>
                    <a:lnTo>
                      <a:pt x="672" y="1370"/>
                    </a:lnTo>
                    <a:lnTo>
                      <a:pt x="714" y="1336"/>
                    </a:lnTo>
                    <a:lnTo>
                      <a:pt x="762" y="1304"/>
                    </a:lnTo>
                    <a:lnTo>
                      <a:pt x="784" y="1288"/>
                    </a:lnTo>
                    <a:lnTo>
                      <a:pt x="808" y="1276"/>
                    </a:lnTo>
                    <a:lnTo>
                      <a:pt x="832" y="1264"/>
                    </a:lnTo>
                    <a:lnTo>
                      <a:pt x="856" y="1254"/>
                    </a:lnTo>
                    <a:lnTo>
                      <a:pt x="880" y="1246"/>
                    </a:lnTo>
                    <a:lnTo>
                      <a:pt x="904" y="1240"/>
                    </a:lnTo>
                    <a:lnTo>
                      <a:pt x="928" y="1236"/>
                    </a:lnTo>
                    <a:lnTo>
                      <a:pt x="952" y="1236"/>
                    </a:lnTo>
                    <a:lnTo>
                      <a:pt x="974" y="1236"/>
                    </a:lnTo>
                    <a:lnTo>
                      <a:pt x="996" y="1242"/>
                    </a:lnTo>
                    <a:lnTo>
                      <a:pt x="1016" y="1250"/>
                    </a:lnTo>
                    <a:lnTo>
                      <a:pt x="1038" y="1260"/>
                    </a:lnTo>
                    <a:lnTo>
                      <a:pt x="1056" y="1276"/>
                    </a:lnTo>
                    <a:lnTo>
                      <a:pt x="1076" y="1294"/>
                    </a:lnTo>
                    <a:lnTo>
                      <a:pt x="1086" y="1464"/>
                    </a:lnTo>
                    <a:lnTo>
                      <a:pt x="1088" y="1468"/>
                    </a:lnTo>
                    <a:lnTo>
                      <a:pt x="1098" y="1480"/>
                    </a:lnTo>
                    <a:lnTo>
                      <a:pt x="1108" y="1486"/>
                    </a:lnTo>
                    <a:lnTo>
                      <a:pt x="1118" y="1494"/>
                    </a:lnTo>
                    <a:lnTo>
                      <a:pt x="1134" y="1502"/>
                    </a:lnTo>
                    <a:lnTo>
                      <a:pt x="1152" y="1508"/>
                    </a:lnTo>
                    <a:lnTo>
                      <a:pt x="1174" y="1512"/>
                    </a:lnTo>
                    <a:lnTo>
                      <a:pt x="1200" y="1516"/>
                    </a:lnTo>
                    <a:lnTo>
                      <a:pt x="1230" y="1516"/>
                    </a:lnTo>
                    <a:lnTo>
                      <a:pt x="1266" y="1516"/>
                    </a:lnTo>
                    <a:lnTo>
                      <a:pt x="1308" y="1512"/>
                    </a:lnTo>
                    <a:lnTo>
                      <a:pt x="1356" y="1504"/>
                    </a:lnTo>
                    <a:lnTo>
                      <a:pt x="1408" y="1492"/>
                    </a:lnTo>
                    <a:lnTo>
                      <a:pt x="1468" y="1474"/>
                    </a:lnTo>
                    <a:lnTo>
                      <a:pt x="1482" y="1472"/>
                    </a:lnTo>
                    <a:lnTo>
                      <a:pt x="1522" y="1466"/>
                    </a:lnTo>
                    <a:lnTo>
                      <a:pt x="1552" y="1462"/>
                    </a:lnTo>
                    <a:lnTo>
                      <a:pt x="1586" y="1460"/>
                    </a:lnTo>
                    <a:lnTo>
                      <a:pt x="1626" y="1460"/>
                    </a:lnTo>
                    <a:lnTo>
                      <a:pt x="1670" y="1462"/>
                    </a:lnTo>
                    <a:lnTo>
                      <a:pt x="1720" y="1468"/>
                    </a:lnTo>
                    <a:lnTo>
                      <a:pt x="1772" y="1476"/>
                    </a:lnTo>
                    <a:lnTo>
                      <a:pt x="1830" y="1488"/>
                    </a:lnTo>
                    <a:lnTo>
                      <a:pt x="1890" y="1506"/>
                    </a:lnTo>
                    <a:lnTo>
                      <a:pt x="1952" y="1528"/>
                    </a:lnTo>
                    <a:lnTo>
                      <a:pt x="1986" y="1542"/>
                    </a:lnTo>
                    <a:lnTo>
                      <a:pt x="2018" y="1556"/>
                    </a:lnTo>
                    <a:lnTo>
                      <a:pt x="2052" y="1574"/>
                    </a:lnTo>
                    <a:lnTo>
                      <a:pt x="2086" y="1592"/>
                    </a:lnTo>
                    <a:lnTo>
                      <a:pt x="2120" y="1612"/>
                    </a:lnTo>
                    <a:lnTo>
                      <a:pt x="2156" y="1634"/>
                    </a:lnTo>
                    <a:lnTo>
                      <a:pt x="2160" y="1640"/>
                    </a:lnTo>
                    <a:lnTo>
                      <a:pt x="2164" y="1642"/>
                    </a:lnTo>
                    <a:lnTo>
                      <a:pt x="2170" y="1644"/>
                    </a:lnTo>
                    <a:lnTo>
                      <a:pt x="2172" y="1642"/>
                    </a:lnTo>
                    <a:lnTo>
                      <a:pt x="2172" y="1640"/>
                    </a:lnTo>
                    <a:lnTo>
                      <a:pt x="2174" y="1628"/>
                    </a:lnTo>
                    <a:lnTo>
                      <a:pt x="2172" y="1604"/>
                    </a:lnTo>
                    <a:lnTo>
                      <a:pt x="2166" y="1570"/>
                    </a:lnTo>
                    <a:lnTo>
                      <a:pt x="2160" y="1542"/>
                    </a:lnTo>
                    <a:lnTo>
                      <a:pt x="2146" y="1504"/>
                    </a:lnTo>
                    <a:lnTo>
                      <a:pt x="2108" y="1390"/>
                    </a:lnTo>
                    <a:lnTo>
                      <a:pt x="2086" y="1320"/>
                    </a:lnTo>
                    <a:lnTo>
                      <a:pt x="2062" y="1242"/>
                    </a:lnTo>
                    <a:lnTo>
                      <a:pt x="2038" y="1154"/>
                    </a:lnTo>
                    <a:lnTo>
                      <a:pt x="2016" y="1062"/>
                    </a:lnTo>
                    <a:lnTo>
                      <a:pt x="1996" y="964"/>
                    </a:lnTo>
                    <a:lnTo>
                      <a:pt x="1980" y="860"/>
                    </a:lnTo>
                    <a:lnTo>
                      <a:pt x="1972" y="808"/>
                    </a:lnTo>
                    <a:lnTo>
                      <a:pt x="1966" y="754"/>
                    </a:lnTo>
                    <a:lnTo>
                      <a:pt x="1962" y="700"/>
                    </a:lnTo>
                    <a:lnTo>
                      <a:pt x="1960" y="644"/>
                    </a:lnTo>
                    <a:lnTo>
                      <a:pt x="1960" y="590"/>
                    </a:lnTo>
                    <a:lnTo>
                      <a:pt x="1960" y="534"/>
                    </a:lnTo>
                    <a:lnTo>
                      <a:pt x="1964" y="478"/>
                    </a:lnTo>
                    <a:lnTo>
                      <a:pt x="1968" y="424"/>
                    </a:lnTo>
                    <a:lnTo>
                      <a:pt x="1976" y="368"/>
                    </a:lnTo>
                    <a:lnTo>
                      <a:pt x="1986" y="312"/>
                    </a:lnTo>
                    <a:lnTo>
                      <a:pt x="1998" y="258"/>
                    </a:lnTo>
                    <a:lnTo>
                      <a:pt x="2012" y="204"/>
                    </a:lnTo>
                    <a:lnTo>
                      <a:pt x="1960" y="218"/>
                    </a:lnTo>
                    <a:lnTo>
                      <a:pt x="1900" y="234"/>
                    </a:lnTo>
                    <a:lnTo>
                      <a:pt x="1824" y="250"/>
                    </a:lnTo>
                    <a:lnTo>
                      <a:pt x="1738" y="268"/>
                    </a:lnTo>
                    <a:lnTo>
                      <a:pt x="1644" y="284"/>
                    </a:lnTo>
                    <a:lnTo>
                      <a:pt x="1596" y="290"/>
                    </a:lnTo>
                    <a:lnTo>
                      <a:pt x="1548" y="294"/>
                    </a:lnTo>
                    <a:lnTo>
                      <a:pt x="1502" y="298"/>
                    </a:lnTo>
                    <a:lnTo>
                      <a:pt x="1456" y="298"/>
                    </a:lnTo>
                    <a:lnTo>
                      <a:pt x="1368" y="300"/>
                    </a:lnTo>
                    <a:lnTo>
                      <a:pt x="1280" y="300"/>
                    </a:lnTo>
                    <a:lnTo>
                      <a:pt x="1238" y="298"/>
                    </a:lnTo>
                    <a:lnTo>
                      <a:pt x="1198" y="296"/>
                    </a:lnTo>
                    <a:lnTo>
                      <a:pt x="1160" y="292"/>
                    </a:lnTo>
                    <a:lnTo>
                      <a:pt x="1122" y="286"/>
                    </a:lnTo>
                    <a:lnTo>
                      <a:pt x="1088" y="278"/>
                    </a:lnTo>
                    <a:lnTo>
                      <a:pt x="1056" y="268"/>
                    </a:lnTo>
                    <a:lnTo>
                      <a:pt x="1028" y="254"/>
                    </a:lnTo>
                    <a:lnTo>
                      <a:pt x="1016" y="246"/>
                    </a:lnTo>
                    <a:lnTo>
                      <a:pt x="1004" y="236"/>
                    </a:lnTo>
                    <a:lnTo>
                      <a:pt x="992" y="226"/>
                    </a:lnTo>
                    <a:lnTo>
                      <a:pt x="982" y="214"/>
                    </a:lnTo>
                    <a:lnTo>
                      <a:pt x="972" y="202"/>
                    </a:lnTo>
                    <a:lnTo>
                      <a:pt x="964" y="190"/>
                    </a:lnTo>
                    <a:lnTo>
                      <a:pt x="958" y="174"/>
                    </a:lnTo>
                    <a:lnTo>
                      <a:pt x="952" y="158"/>
                    </a:lnTo>
                    <a:lnTo>
                      <a:pt x="946" y="142"/>
                    </a:lnTo>
                    <a:lnTo>
                      <a:pt x="942" y="124"/>
                    </a:lnTo>
                    <a:lnTo>
                      <a:pt x="940" y="116"/>
                    </a:lnTo>
                    <a:lnTo>
                      <a:pt x="934" y="94"/>
                    </a:lnTo>
                    <a:lnTo>
                      <a:pt x="928" y="80"/>
                    </a:lnTo>
                    <a:lnTo>
                      <a:pt x="920" y="66"/>
                    </a:lnTo>
                    <a:lnTo>
                      <a:pt x="910" y="52"/>
                    </a:lnTo>
                    <a:lnTo>
                      <a:pt x="898" y="38"/>
                    </a:lnTo>
                    <a:lnTo>
                      <a:pt x="882" y="24"/>
                    </a:lnTo>
                    <a:lnTo>
                      <a:pt x="864" y="14"/>
                    </a:lnTo>
                    <a:lnTo>
                      <a:pt x="842" y="6"/>
                    </a:lnTo>
                    <a:lnTo>
                      <a:pt x="818" y="0"/>
                    </a:lnTo>
                    <a:lnTo>
                      <a:pt x="804" y="0"/>
                    </a:lnTo>
                    <a:lnTo>
                      <a:pt x="788" y="0"/>
                    </a:lnTo>
                    <a:lnTo>
                      <a:pt x="774" y="2"/>
                    </a:lnTo>
                    <a:lnTo>
                      <a:pt x="756" y="6"/>
                    </a:lnTo>
                    <a:lnTo>
                      <a:pt x="738" y="10"/>
                    </a:lnTo>
                    <a:lnTo>
                      <a:pt x="720" y="16"/>
                    </a:lnTo>
                    <a:lnTo>
                      <a:pt x="678" y="34"/>
                    </a:lnTo>
                    <a:lnTo>
                      <a:pt x="632" y="54"/>
                    </a:lnTo>
                    <a:lnTo>
                      <a:pt x="584" y="70"/>
                    </a:lnTo>
                    <a:lnTo>
                      <a:pt x="534" y="84"/>
                    </a:lnTo>
                    <a:lnTo>
                      <a:pt x="482" y="96"/>
                    </a:lnTo>
                    <a:lnTo>
                      <a:pt x="428" y="104"/>
                    </a:lnTo>
                    <a:lnTo>
                      <a:pt x="376" y="112"/>
                    </a:lnTo>
                    <a:lnTo>
                      <a:pt x="324" y="116"/>
                    </a:lnTo>
                    <a:lnTo>
                      <a:pt x="272" y="120"/>
                    </a:lnTo>
                    <a:lnTo>
                      <a:pt x="224" y="122"/>
                    </a:lnTo>
                    <a:lnTo>
                      <a:pt x="178" y="122"/>
                    </a:lnTo>
                    <a:lnTo>
                      <a:pt x="138" y="120"/>
                    </a:lnTo>
                    <a:lnTo>
                      <a:pt x="100" y="118"/>
                    </a:lnTo>
                    <a:lnTo>
                      <a:pt x="68" y="116"/>
                    </a:lnTo>
                    <a:lnTo>
                      <a:pt x="42" y="112"/>
                    </a:lnTo>
                    <a:lnTo>
                      <a:pt x="22" y="108"/>
                    </a:lnTo>
                    <a:lnTo>
                      <a:pt x="10" y="102"/>
                    </a:lnTo>
                    <a:close/>
                  </a:path>
                </a:pathLst>
              </a:custGeom>
              <a:solidFill>
                <a:srgbClr val="151616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uppe 61"/>
            <p:cNvGrpSpPr/>
            <p:nvPr/>
          </p:nvGrpSpPr>
          <p:grpSpPr>
            <a:xfrm>
              <a:off x="6680160" y="1362240"/>
              <a:ext cx="1409760" cy="1539720"/>
              <a:chOff x="6680160" y="1362240"/>
              <a:chExt cx="1409760" cy="1539720"/>
            </a:xfrm>
          </p:grpSpPr>
          <p:sp>
            <p:nvSpPr>
              <p:cNvPr id="495" name="Freeform 6"/>
              <p:cNvSpPr/>
              <p:nvPr/>
            </p:nvSpPr>
            <p:spPr>
              <a:xfrm>
                <a:off x="6727680" y="1379160"/>
                <a:ext cx="1362240" cy="1025280"/>
              </a:xfrm>
              <a:custGeom>
                <a:avLst/>
                <a:gdLst>
                  <a:gd name="textAreaLeft" fmla="*/ 0 w 1362240"/>
                  <a:gd name="textAreaRight" fmla="*/ 1362600 w 1362240"/>
                  <a:gd name="textAreaTop" fmla="*/ 0 h 1025280"/>
                  <a:gd name="textAreaBottom" fmla="*/ 1025640 h 1025280"/>
                </a:gdLst>
                <a:ahLst/>
                <a:rect l="textAreaLeft" t="textAreaTop" r="textAreaRight" b="textAreaBottom"/>
                <a:pathLst>
                  <a:path w="2174" h="1642">
                    <a:moveTo>
                      <a:pt x="10" y="102"/>
                    </a:moveTo>
                    <a:lnTo>
                      <a:pt x="10" y="102"/>
                    </a:lnTo>
                    <a:lnTo>
                      <a:pt x="6" y="104"/>
                    </a:lnTo>
                    <a:lnTo>
                      <a:pt x="2" y="106"/>
                    </a:lnTo>
                    <a:lnTo>
                      <a:pt x="0" y="110"/>
                    </a:lnTo>
                    <a:lnTo>
                      <a:pt x="0" y="116"/>
                    </a:lnTo>
                    <a:lnTo>
                      <a:pt x="4" y="126"/>
                    </a:lnTo>
                    <a:lnTo>
                      <a:pt x="12" y="138"/>
                    </a:lnTo>
                    <a:lnTo>
                      <a:pt x="26" y="154"/>
                    </a:lnTo>
                    <a:lnTo>
                      <a:pt x="40" y="170"/>
                    </a:lnTo>
                    <a:lnTo>
                      <a:pt x="62" y="194"/>
                    </a:lnTo>
                    <a:lnTo>
                      <a:pt x="90" y="230"/>
                    </a:lnTo>
                    <a:lnTo>
                      <a:pt x="126" y="276"/>
                    </a:lnTo>
                    <a:lnTo>
                      <a:pt x="164" y="332"/>
                    </a:lnTo>
                    <a:lnTo>
                      <a:pt x="206" y="398"/>
                    </a:lnTo>
                    <a:lnTo>
                      <a:pt x="250" y="472"/>
                    </a:lnTo>
                    <a:lnTo>
                      <a:pt x="292" y="554"/>
                    </a:lnTo>
                    <a:lnTo>
                      <a:pt x="314" y="598"/>
                    </a:lnTo>
                    <a:lnTo>
                      <a:pt x="334" y="644"/>
                    </a:lnTo>
                    <a:lnTo>
                      <a:pt x="354" y="690"/>
                    </a:lnTo>
                    <a:lnTo>
                      <a:pt x="374" y="740"/>
                    </a:lnTo>
                    <a:lnTo>
                      <a:pt x="392" y="792"/>
                    </a:lnTo>
                    <a:lnTo>
                      <a:pt x="408" y="844"/>
                    </a:lnTo>
                    <a:lnTo>
                      <a:pt x="424" y="898"/>
                    </a:lnTo>
                    <a:lnTo>
                      <a:pt x="438" y="954"/>
                    </a:lnTo>
                    <a:lnTo>
                      <a:pt x="450" y="1012"/>
                    </a:lnTo>
                    <a:lnTo>
                      <a:pt x="460" y="1072"/>
                    </a:lnTo>
                    <a:lnTo>
                      <a:pt x="468" y="1132"/>
                    </a:lnTo>
                    <a:lnTo>
                      <a:pt x="474" y="1194"/>
                    </a:lnTo>
                    <a:lnTo>
                      <a:pt x="478" y="1256"/>
                    </a:lnTo>
                    <a:lnTo>
                      <a:pt x="478" y="1320"/>
                    </a:lnTo>
                    <a:lnTo>
                      <a:pt x="476" y="1386"/>
                    </a:lnTo>
                    <a:lnTo>
                      <a:pt x="472" y="1452"/>
                    </a:lnTo>
                    <a:lnTo>
                      <a:pt x="498" y="1542"/>
                    </a:lnTo>
                    <a:lnTo>
                      <a:pt x="514" y="1522"/>
                    </a:lnTo>
                    <a:lnTo>
                      <a:pt x="562" y="1472"/>
                    </a:lnTo>
                    <a:lnTo>
                      <a:pt x="594" y="1440"/>
                    </a:lnTo>
                    <a:lnTo>
                      <a:pt x="630" y="1406"/>
                    </a:lnTo>
                    <a:lnTo>
                      <a:pt x="672" y="1370"/>
                    </a:lnTo>
                    <a:lnTo>
                      <a:pt x="716" y="1334"/>
                    </a:lnTo>
                    <a:lnTo>
                      <a:pt x="762" y="1302"/>
                    </a:lnTo>
                    <a:lnTo>
                      <a:pt x="784" y="1288"/>
                    </a:lnTo>
                    <a:lnTo>
                      <a:pt x="808" y="1274"/>
                    </a:lnTo>
                    <a:lnTo>
                      <a:pt x="832" y="1262"/>
                    </a:lnTo>
                    <a:lnTo>
                      <a:pt x="856" y="1252"/>
                    </a:lnTo>
                    <a:lnTo>
                      <a:pt x="880" y="1244"/>
                    </a:lnTo>
                    <a:lnTo>
                      <a:pt x="904" y="1238"/>
                    </a:lnTo>
                    <a:lnTo>
                      <a:pt x="928" y="1236"/>
                    </a:lnTo>
                    <a:lnTo>
                      <a:pt x="952" y="1234"/>
                    </a:lnTo>
                    <a:lnTo>
                      <a:pt x="974" y="1236"/>
                    </a:lnTo>
                    <a:lnTo>
                      <a:pt x="996" y="1240"/>
                    </a:lnTo>
                    <a:lnTo>
                      <a:pt x="1016" y="1248"/>
                    </a:lnTo>
                    <a:lnTo>
                      <a:pt x="1038" y="1260"/>
                    </a:lnTo>
                    <a:lnTo>
                      <a:pt x="1056" y="1274"/>
                    </a:lnTo>
                    <a:lnTo>
                      <a:pt x="1076" y="1294"/>
                    </a:lnTo>
                    <a:lnTo>
                      <a:pt x="1086" y="1464"/>
                    </a:lnTo>
                    <a:lnTo>
                      <a:pt x="1088" y="1468"/>
                    </a:lnTo>
                    <a:lnTo>
                      <a:pt x="1098" y="1480"/>
                    </a:lnTo>
                    <a:lnTo>
                      <a:pt x="1108" y="1486"/>
                    </a:lnTo>
                    <a:lnTo>
                      <a:pt x="1118" y="1494"/>
                    </a:lnTo>
                    <a:lnTo>
                      <a:pt x="1134" y="1500"/>
                    </a:lnTo>
                    <a:lnTo>
                      <a:pt x="1152" y="1506"/>
                    </a:lnTo>
                    <a:lnTo>
                      <a:pt x="1174" y="1512"/>
                    </a:lnTo>
                    <a:lnTo>
                      <a:pt x="1200" y="1514"/>
                    </a:lnTo>
                    <a:lnTo>
                      <a:pt x="1230" y="1516"/>
                    </a:lnTo>
                    <a:lnTo>
                      <a:pt x="1266" y="1514"/>
                    </a:lnTo>
                    <a:lnTo>
                      <a:pt x="1308" y="1510"/>
                    </a:lnTo>
                    <a:lnTo>
                      <a:pt x="1356" y="1502"/>
                    </a:lnTo>
                    <a:lnTo>
                      <a:pt x="1408" y="1490"/>
                    </a:lnTo>
                    <a:lnTo>
                      <a:pt x="1468" y="1474"/>
                    </a:lnTo>
                    <a:lnTo>
                      <a:pt x="1482" y="1470"/>
                    </a:lnTo>
                    <a:lnTo>
                      <a:pt x="1522" y="1464"/>
                    </a:lnTo>
                    <a:lnTo>
                      <a:pt x="1552" y="1462"/>
                    </a:lnTo>
                    <a:lnTo>
                      <a:pt x="1586" y="1460"/>
                    </a:lnTo>
                    <a:lnTo>
                      <a:pt x="1626" y="1460"/>
                    </a:lnTo>
                    <a:lnTo>
                      <a:pt x="1670" y="1462"/>
                    </a:lnTo>
                    <a:lnTo>
                      <a:pt x="1720" y="1466"/>
                    </a:lnTo>
                    <a:lnTo>
                      <a:pt x="1772" y="1476"/>
                    </a:lnTo>
                    <a:lnTo>
                      <a:pt x="1830" y="1488"/>
                    </a:lnTo>
                    <a:lnTo>
                      <a:pt x="1890" y="1506"/>
                    </a:lnTo>
                    <a:lnTo>
                      <a:pt x="1952" y="1528"/>
                    </a:lnTo>
                    <a:lnTo>
                      <a:pt x="1986" y="1540"/>
                    </a:lnTo>
                    <a:lnTo>
                      <a:pt x="2018" y="1556"/>
                    </a:lnTo>
                    <a:lnTo>
                      <a:pt x="2052" y="1572"/>
                    </a:lnTo>
                    <a:lnTo>
                      <a:pt x="2086" y="1590"/>
                    </a:lnTo>
                    <a:lnTo>
                      <a:pt x="2120" y="1610"/>
                    </a:lnTo>
                    <a:lnTo>
                      <a:pt x="2156" y="1632"/>
                    </a:lnTo>
                    <a:lnTo>
                      <a:pt x="2160" y="1638"/>
                    </a:lnTo>
                    <a:lnTo>
                      <a:pt x="2164" y="1642"/>
                    </a:lnTo>
                    <a:lnTo>
                      <a:pt x="2170" y="1642"/>
                    </a:lnTo>
                    <a:lnTo>
                      <a:pt x="2172" y="1642"/>
                    </a:lnTo>
                    <a:lnTo>
                      <a:pt x="2172" y="1638"/>
                    </a:lnTo>
                    <a:lnTo>
                      <a:pt x="2174" y="1626"/>
                    </a:lnTo>
                    <a:lnTo>
                      <a:pt x="2172" y="1604"/>
                    </a:lnTo>
                    <a:lnTo>
                      <a:pt x="2166" y="1570"/>
                    </a:lnTo>
                    <a:lnTo>
                      <a:pt x="2160" y="1542"/>
                    </a:lnTo>
                    <a:lnTo>
                      <a:pt x="2146" y="1502"/>
                    </a:lnTo>
                    <a:lnTo>
                      <a:pt x="2110" y="1390"/>
                    </a:lnTo>
                    <a:lnTo>
                      <a:pt x="2086" y="1320"/>
                    </a:lnTo>
                    <a:lnTo>
                      <a:pt x="2062" y="1240"/>
                    </a:lnTo>
                    <a:lnTo>
                      <a:pt x="2038" y="1154"/>
                    </a:lnTo>
                    <a:lnTo>
                      <a:pt x="2016" y="1060"/>
                    </a:lnTo>
                    <a:lnTo>
                      <a:pt x="1996" y="962"/>
                    </a:lnTo>
                    <a:lnTo>
                      <a:pt x="1980" y="860"/>
                    </a:lnTo>
                    <a:lnTo>
                      <a:pt x="1972" y="806"/>
                    </a:lnTo>
                    <a:lnTo>
                      <a:pt x="1966" y="752"/>
                    </a:lnTo>
                    <a:lnTo>
                      <a:pt x="1962" y="698"/>
                    </a:lnTo>
                    <a:lnTo>
                      <a:pt x="1960" y="644"/>
                    </a:lnTo>
                    <a:lnTo>
                      <a:pt x="1960" y="588"/>
                    </a:lnTo>
                    <a:lnTo>
                      <a:pt x="1960" y="534"/>
                    </a:lnTo>
                    <a:lnTo>
                      <a:pt x="1964" y="478"/>
                    </a:lnTo>
                    <a:lnTo>
                      <a:pt x="1968" y="422"/>
                    </a:lnTo>
                    <a:lnTo>
                      <a:pt x="1976" y="366"/>
                    </a:lnTo>
                    <a:lnTo>
                      <a:pt x="1986" y="312"/>
                    </a:lnTo>
                    <a:lnTo>
                      <a:pt x="1998" y="256"/>
                    </a:lnTo>
                    <a:lnTo>
                      <a:pt x="2012" y="202"/>
                    </a:lnTo>
                    <a:lnTo>
                      <a:pt x="1960" y="218"/>
                    </a:lnTo>
                    <a:lnTo>
                      <a:pt x="1900" y="232"/>
                    </a:lnTo>
                    <a:lnTo>
                      <a:pt x="1824" y="250"/>
                    </a:lnTo>
                    <a:lnTo>
                      <a:pt x="1738" y="268"/>
                    </a:lnTo>
                    <a:lnTo>
                      <a:pt x="1644" y="282"/>
                    </a:lnTo>
                    <a:lnTo>
                      <a:pt x="1596" y="288"/>
                    </a:lnTo>
                    <a:lnTo>
                      <a:pt x="1550" y="294"/>
                    </a:lnTo>
                    <a:lnTo>
                      <a:pt x="1502" y="296"/>
                    </a:lnTo>
                    <a:lnTo>
                      <a:pt x="1456" y="298"/>
                    </a:lnTo>
                    <a:lnTo>
                      <a:pt x="1368" y="298"/>
                    </a:lnTo>
                    <a:lnTo>
                      <a:pt x="1280" y="298"/>
                    </a:lnTo>
                    <a:lnTo>
                      <a:pt x="1238" y="298"/>
                    </a:lnTo>
                    <a:lnTo>
                      <a:pt x="1198" y="296"/>
                    </a:lnTo>
                    <a:lnTo>
                      <a:pt x="1160" y="292"/>
                    </a:lnTo>
                    <a:lnTo>
                      <a:pt x="1122" y="286"/>
                    </a:lnTo>
                    <a:lnTo>
                      <a:pt x="1088" y="278"/>
                    </a:lnTo>
                    <a:lnTo>
                      <a:pt x="1056" y="266"/>
                    </a:lnTo>
                    <a:lnTo>
                      <a:pt x="1028" y="252"/>
                    </a:lnTo>
                    <a:lnTo>
                      <a:pt x="1016" y="244"/>
                    </a:lnTo>
                    <a:lnTo>
                      <a:pt x="1004" y="236"/>
                    </a:lnTo>
                    <a:lnTo>
                      <a:pt x="992" y="224"/>
                    </a:lnTo>
                    <a:lnTo>
                      <a:pt x="982" y="214"/>
                    </a:lnTo>
                    <a:lnTo>
                      <a:pt x="972" y="202"/>
                    </a:lnTo>
                    <a:lnTo>
                      <a:pt x="964" y="188"/>
                    </a:lnTo>
                    <a:lnTo>
                      <a:pt x="958" y="174"/>
                    </a:lnTo>
                    <a:lnTo>
                      <a:pt x="952" y="158"/>
                    </a:lnTo>
                    <a:lnTo>
                      <a:pt x="946" y="142"/>
                    </a:lnTo>
                    <a:lnTo>
                      <a:pt x="942" y="122"/>
                    </a:lnTo>
                    <a:lnTo>
                      <a:pt x="940" y="114"/>
                    </a:lnTo>
                    <a:lnTo>
                      <a:pt x="934" y="94"/>
                    </a:lnTo>
                    <a:lnTo>
                      <a:pt x="928" y="80"/>
                    </a:lnTo>
                    <a:lnTo>
                      <a:pt x="920" y="66"/>
                    </a:lnTo>
                    <a:lnTo>
                      <a:pt x="910" y="50"/>
                    </a:lnTo>
                    <a:lnTo>
                      <a:pt x="898" y="36"/>
                    </a:lnTo>
                    <a:lnTo>
                      <a:pt x="882" y="24"/>
                    </a:lnTo>
                    <a:lnTo>
                      <a:pt x="864" y="12"/>
                    </a:lnTo>
                    <a:lnTo>
                      <a:pt x="842" y="4"/>
                    </a:lnTo>
                    <a:lnTo>
                      <a:pt x="818" y="0"/>
                    </a:lnTo>
                    <a:lnTo>
                      <a:pt x="804" y="0"/>
                    </a:lnTo>
                    <a:lnTo>
                      <a:pt x="788" y="0"/>
                    </a:lnTo>
                    <a:lnTo>
                      <a:pt x="774" y="2"/>
                    </a:lnTo>
                    <a:lnTo>
                      <a:pt x="756" y="4"/>
                    </a:lnTo>
                    <a:lnTo>
                      <a:pt x="738" y="10"/>
                    </a:lnTo>
                    <a:lnTo>
                      <a:pt x="720" y="16"/>
                    </a:lnTo>
                    <a:lnTo>
                      <a:pt x="678" y="32"/>
                    </a:lnTo>
                    <a:lnTo>
                      <a:pt x="632" y="52"/>
                    </a:lnTo>
                    <a:lnTo>
                      <a:pt x="584" y="68"/>
                    </a:lnTo>
                    <a:lnTo>
                      <a:pt x="534" y="82"/>
                    </a:lnTo>
                    <a:lnTo>
                      <a:pt x="482" y="94"/>
                    </a:lnTo>
                    <a:lnTo>
                      <a:pt x="428" y="104"/>
                    </a:lnTo>
                    <a:lnTo>
                      <a:pt x="376" y="110"/>
                    </a:lnTo>
                    <a:lnTo>
                      <a:pt x="324" y="116"/>
                    </a:lnTo>
                    <a:lnTo>
                      <a:pt x="272" y="118"/>
                    </a:lnTo>
                    <a:lnTo>
                      <a:pt x="224" y="120"/>
                    </a:lnTo>
                    <a:lnTo>
                      <a:pt x="178" y="120"/>
                    </a:lnTo>
                    <a:lnTo>
                      <a:pt x="138" y="120"/>
                    </a:lnTo>
                    <a:lnTo>
                      <a:pt x="100" y="118"/>
                    </a:lnTo>
                    <a:lnTo>
                      <a:pt x="68" y="114"/>
                    </a:lnTo>
                    <a:lnTo>
                      <a:pt x="42" y="110"/>
                    </a:lnTo>
                    <a:lnTo>
                      <a:pt x="22" y="106"/>
                    </a:lnTo>
                    <a:lnTo>
                      <a:pt x="10" y="102"/>
                    </a:lnTo>
                    <a:close/>
                  </a:path>
                </a:pathLst>
              </a:custGeom>
              <a:solidFill>
                <a:srgbClr val="7a7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1"/>
              <p:cNvSpPr/>
              <p:nvPr/>
            </p:nvSpPr>
            <p:spPr>
              <a:xfrm>
                <a:off x="6680160" y="1423440"/>
                <a:ext cx="507960" cy="1478520"/>
              </a:xfrm>
              <a:custGeom>
                <a:avLst/>
                <a:gdLst>
                  <a:gd name="textAreaLeft" fmla="*/ 0 w 507960"/>
                  <a:gd name="textAreaRight" fmla="*/ 508320 w 507960"/>
                  <a:gd name="textAreaTop" fmla="*/ 0 h 1478520"/>
                  <a:gd name="textAreaBottom" fmla="*/ 1478880 h 1478520"/>
                </a:gdLst>
                <a:ahLst/>
                <a:rect l="textAreaLeft" t="textAreaTop" r="textAreaRight" b="textAreaBottom"/>
                <a:pathLst>
                  <a:path w="812" h="2364">
                    <a:moveTo>
                      <a:pt x="810" y="2320"/>
                    </a:moveTo>
                    <a:lnTo>
                      <a:pt x="810" y="2320"/>
                    </a:lnTo>
                    <a:lnTo>
                      <a:pt x="812" y="2334"/>
                    </a:lnTo>
                    <a:lnTo>
                      <a:pt x="810" y="2348"/>
                    </a:lnTo>
                    <a:lnTo>
                      <a:pt x="808" y="2352"/>
                    </a:lnTo>
                    <a:lnTo>
                      <a:pt x="804" y="2358"/>
                    </a:lnTo>
                    <a:lnTo>
                      <a:pt x="800" y="2362"/>
                    </a:lnTo>
                    <a:lnTo>
                      <a:pt x="794" y="2364"/>
                    </a:lnTo>
                    <a:lnTo>
                      <a:pt x="788" y="2364"/>
                    </a:lnTo>
                    <a:lnTo>
                      <a:pt x="784" y="2364"/>
                    </a:lnTo>
                    <a:lnTo>
                      <a:pt x="778" y="2362"/>
                    </a:lnTo>
                    <a:lnTo>
                      <a:pt x="772" y="2360"/>
                    </a:lnTo>
                    <a:lnTo>
                      <a:pt x="762" y="2350"/>
                    </a:lnTo>
                    <a:lnTo>
                      <a:pt x="756" y="2336"/>
                    </a:lnTo>
                    <a:lnTo>
                      <a:pt x="2" y="46"/>
                    </a:lnTo>
                    <a:lnTo>
                      <a:pt x="0" y="32"/>
                    </a:lnTo>
                    <a:lnTo>
                      <a:pt x="2" y="18"/>
                    </a:lnTo>
                    <a:lnTo>
                      <a:pt x="4" y="12"/>
                    </a:lnTo>
                    <a:lnTo>
                      <a:pt x="8" y="8"/>
                    </a:lnTo>
                    <a:lnTo>
                      <a:pt x="12" y="4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40" y="6"/>
                    </a:lnTo>
                    <a:lnTo>
                      <a:pt x="48" y="16"/>
                    </a:lnTo>
                    <a:lnTo>
                      <a:pt x="56" y="28"/>
                    </a:lnTo>
                    <a:lnTo>
                      <a:pt x="810" y="23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c5c5c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12"/>
              <p:cNvSpPr/>
              <p:nvPr/>
            </p:nvSpPr>
            <p:spPr>
              <a:xfrm>
                <a:off x="6697440" y="1364760"/>
                <a:ext cx="1362240" cy="1026720"/>
              </a:xfrm>
              <a:custGeom>
                <a:avLst/>
                <a:gdLst>
                  <a:gd name="textAreaLeft" fmla="*/ 0 w 1362240"/>
                  <a:gd name="textAreaRight" fmla="*/ 1362600 w 1362240"/>
                  <a:gd name="textAreaTop" fmla="*/ 0 h 1026720"/>
                  <a:gd name="textAreaBottom" fmla="*/ 1027080 h 1026720"/>
                </a:gdLst>
                <a:ahLst/>
                <a:rect l="textAreaLeft" t="textAreaTop" r="textAreaRight" b="textAreaBottom"/>
                <a:pathLst>
                  <a:path w="2174" h="1644">
                    <a:moveTo>
                      <a:pt x="10" y="102"/>
                    </a:moveTo>
                    <a:lnTo>
                      <a:pt x="10" y="102"/>
                    </a:lnTo>
                    <a:lnTo>
                      <a:pt x="6" y="104"/>
                    </a:lnTo>
                    <a:lnTo>
                      <a:pt x="2" y="106"/>
                    </a:lnTo>
                    <a:lnTo>
                      <a:pt x="0" y="112"/>
                    </a:lnTo>
                    <a:lnTo>
                      <a:pt x="0" y="118"/>
                    </a:lnTo>
                    <a:lnTo>
                      <a:pt x="4" y="128"/>
                    </a:lnTo>
                    <a:lnTo>
                      <a:pt x="12" y="140"/>
                    </a:lnTo>
                    <a:lnTo>
                      <a:pt x="26" y="156"/>
                    </a:lnTo>
                    <a:lnTo>
                      <a:pt x="40" y="170"/>
                    </a:lnTo>
                    <a:lnTo>
                      <a:pt x="62" y="196"/>
                    </a:lnTo>
                    <a:lnTo>
                      <a:pt x="90" y="232"/>
                    </a:lnTo>
                    <a:lnTo>
                      <a:pt x="126" y="278"/>
                    </a:lnTo>
                    <a:lnTo>
                      <a:pt x="164" y="334"/>
                    </a:lnTo>
                    <a:lnTo>
                      <a:pt x="206" y="398"/>
                    </a:lnTo>
                    <a:lnTo>
                      <a:pt x="250" y="472"/>
                    </a:lnTo>
                    <a:lnTo>
                      <a:pt x="292" y="554"/>
                    </a:lnTo>
                    <a:lnTo>
                      <a:pt x="314" y="598"/>
                    </a:lnTo>
                    <a:lnTo>
                      <a:pt x="334" y="644"/>
                    </a:lnTo>
                    <a:lnTo>
                      <a:pt x="354" y="692"/>
                    </a:lnTo>
                    <a:lnTo>
                      <a:pt x="374" y="742"/>
                    </a:lnTo>
                    <a:lnTo>
                      <a:pt x="392" y="792"/>
                    </a:lnTo>
                    <a:lnTo>
                      <a:pt x="408" y="846"/>
                    </a:lnTo>
                    <a:lnTo>
                      <a:pt x="424" y="900"/>
                    </a:lnTo>
                    <a:lnTo>
                      <a:pt x="438" y="956"/>
                    </a:lnTo>
                    <a:lnTo>
                      <a:pt x="450" y="1014"/>
                    </a:lnTo>
                    <a:lnTo>
                      <a:pt x="460" y="1072"/>
                    </a:lnTo>
                    <a:lnTo>
                      <a:pt x="468" y="1132"/>
                    </a:lnTo>
                    <a:lnTo>
                      <a:pt x="474" y="1194"/>
                    </a:lnTo>
                    <a:lnTo>
                      <a:pt x="478" y="1258"/>
                    </a:lnTo>
                    <a:lnTo>
                      <a:pt x="478" y="1322"/>
                    </a:lnTo>
                    <a:lnTo>
                      <a:pt x="476" y="1388"/>
                    </a:lnTo>
                    <a:lnTo>
                      <a:pt x="472" y="1454"/>
                    </a:lnTo>
                    <a:lnTo>
                      <a:pt x="498" y="1544"/>
                    </a:lnTo>
                    <a:lnTo>
                      <a:pt x="514" y="1524"/>
                    </a:lnTo>
                    <a:lnTo>
                      <a:pt x="562" y="1474"/>
                    </a:lnTo>
                    <a:lnTo>
                      <a:pt x="594" y="1442"/>
                    </a:lnTo>
                    <a:lnTo>
                      <a:pt x="630" y="1406"/>
                    </a:lnTo>
                    <a:lnTo>
                      <a:pt x="672" y="1370"/>
                    </a:lnTo>
                    <a:lnTo>
                      <a:pt x="714" y="1336"/>
                    </a:lnTo>
                    <a:lnTo>
                      <a:pt x="762" y="1304"/>
                    </a:lnTo>
                    <a:lnTo>
                      <a:pt x="784" y="1288"/>
                    </a:lnTo>
                    <a:lnTo>
                      <a:pt x="808" y="1276"/>
                    </a:lnTo>
                    <a:lnTo>
                      <a:pt x="832" y="1264"/>
                    </a:lnTo>
                    <a:lnTo>
                      <a:pt x="856" y="1254"/>
                    </a:lnTo>
                    <a:lnTo>
                      <a:pt x="880" y="1246"/>
                    </a:lnTo>
                    <a:lnTo>
                      <a:pt x="904" y="1240"/>
                    </a:lnTo>
                    <a:lnTo>
                      <a:pt x="928" y="1236"/>
                    </a:lnTo>
                    <a:lnTo>
                      <a:pt x="952" y="1236"/>
                    </a:lnTo>
                    <a:lnTo>
                      <a:pt x="974" y="1236"/>
                    </a:lnTo>
                    <a:lnTo>
                      <a:pt x="996" y="1242"/>
                    </a:lnTo>
                    <a:lnTo>
                      <a:pt x="1016" y="1250"/>
                    </a:lnTo>
                    <a:lnTo>
                      <a:pt x="1038" y="1260"/>
                    </a:lnTo>
                    <a:lnTo>
                      <a:pt x="1056" y="1276"/>
                    </a:lnTo>
                    <a:lnTo>
                      <a:pt x="1076" y="1294"/>
                    </a:lnTo>
                    <a:lnTo>
                      <a:pt x="1086" y="1464"/>
                    </a:lnTo>
                    <a:lnTo>
                      <a:pt x="1088" y="1468"/>
                    </a:lnTo>
                    <a:lnTo>
                      <a:pt x="1098" y="1480"/>
                    </a:lnTo>
                    <a:lnTo>
                      <a:pt x="1108" y="1486"/>
                    </a:lnTo>
                    <a:lnTo>
                      <a:pt x="1118" y="1494"/>
                    </a:lnTo>
                    <a:lnTo>
                      <a:pt x="1134" y="1502"/>
                    </a:lnTo>
                    <a:lnTo>
                      <a:pt x="1152" y="1508"/>
                    </a:lnTo>
                    <a:lnTo>
                      <a:pt x="1174" y="1512"/>
                    </a:lnTo>
                    <a:lnTo>
                      <a:pt x="1200" y="1516"/>
                    </a:lnTo>
                    <a:lnTo>
                      <a:pt x="1230" y="1516"/>
                    </a:lnTo>
                    <a:lnTo>
                      <a:pt x="1266" y="1516"/>
                    </a:lnTo>
                    <a:lnTo>
                      <a:pt x="1308" y="1512"/>
                    </a:lnTo>
                    <a:lnTo>
                      <a:pt x="1356" y="1504"/>
                    </a:lnTo>
                    <a:lnTo>
                      <a:pt x="1408" y="1492"/>
                    </a:lnTo>
                    <a:lnTo>
                      <a:pt x="1468" y="1474"/>
                    </a:lnTo>
                    <a:lnTo>
                      <a:pt x="1482" y="1472"/>
                    </a:lnTo>
                    <a:lnTo>
                      <a:pt x="1522" y="1466"/>
                    </a:lnTo>
                    <a:lnTo>
                      <a:pt x="1552" y="1462"/>
                    </a:lnTo>
                    <a:lnTo>
                      <a:pt x="1586" y="1460"/>
                    </a:lnTo>
                    <a:lnTo>
                      <a:pt x="1626" y="1460"/>
                    </a:lnTo>
                    <a:lnTo>
                      <a:pt x="1670" y="1462"/>
                    </a:lnTo>
                    <a:lnTo>
                      <a:pt x="1720" y="1468"/>
                    </a:lnTo>
                    <a:lnTo>
                      <a:pt x="1772" y="1476"/>
                    </a:lnTo>
                    <a:lnTo>
                      <a:pt x="1830" y="1488"/>
                    </a:lnTo>
                    <a:lnTo>
                      <a:pt x="1890" y="1506"/>
                    </a:lnTo>
                    <a:lnTo>
                      <a:pt x="1952" y="1528"/>
                    </a:lnTo>
                    <a:lnTo>
                      <a:pt x="1986" y="1542"/>
                    </a:lnTo>
                    <a:lnTo>
                      <a:pt x="2018" y="1556"/>
                    </a:lnTo>
                    <a:lnTo>
                      <a:pt x="2052" y="1574"/>
                    </a:lnTo>
                    <a:lnTo>
                      <a:pt x="2086" y="1592"/>
                    </a:lnTo>
                    <a:lnTo>
                      <a:pt x="2120" y="1612"/>
                    </a:lnTo>
                    <a:lnTo>
                      <a:pt x="2156" y="1634"/>
                    </a:lnTo>
                    <a:lnTo>
                      <a:pt x="2160" y="1640"/>
                    </a:lnTo>
                    <a:lnTo>
                      <a:pt x="2164" y="1642"/>
                    </a:lnTo>
                    <a:lnTo>
                      <a:pt x="2170" y="1644"/>
                    </a:lnTo>
                    <a:lnTo>
                      <a:pt x="2172" y="1642"/>
                    </a:lnTo>
                    <a:lnTo>
                      <a:pt x="2172" y="1640"/>
                    </a:lnTo>
                    <a:lnTo>
                      <a:pt x="2174" y="1628"/>
                    </a:lnTo>
                    <a:lnTo>
                      <a:pt x="2172" y="1604"/>
                    </a:lnTo>
                    <a:lnTo>
                      <a:pt x="2166" y="1570"/>
                    </a:lnTo>
                    <a:lnTo>
                      <a:pt x="2160" y="1542"/>
                    </a:lnTo>
                    <a:lnTo>
                      <a:pt x="2146" y="1504"/>
                    </a:lnTo>
                    <a:lnTo>
                      <a:pt x="2108" y="1390"/>
                    </a:lnTo>
                    <a:lnTo>
                      <a:pt x="2086" y="1320"/>
                    </a:lnTo>
                    <a:lnTo>
                      <a:pt x="2062" y="1242"/>
                    </a:lnTo>
                    <a:lnTo>
                      <a:pt x="2038" y="1154"/>
                    </a:lnTo>
                    <a:lnTo>
                      <a:pt x="2016" y="1062"/>
                    </a:lnTo>
                    <a:lnTo>
                      <a:pt x="1996" y="964"/>
                    </a:lnTo>
                    <a:lnTo>
                      <a:pt x="1980" y="860"/>
                    </a:lnTo>
                    <a:lnTo>
                      <a:pt x="1972" y="808"/>
                    </a:lnTo>
                    <a:lnTo>
                      <a:pt x="1966" y="754"/>
                    </a:lnTo>
                    <a:lnTo>
                      <a:pt x="1962" y="700"/>
                    </a:lnTo>
                    <a:lnTo>
                      <a:pt x="1960" y="644"/>
                    </a:lnTo>
                    <a:lnTo>
                      <a:pt x="1960" y="590"/>
                    </a:lnTo>
                    <a:lnTo>
                      <a:pt x="1960" y="534"/>
                    </a:lnTo>
                    <a:lnTo>
                      <a:pt x="1964" y="478"/>
                    </a:lnTo>
                    <a:lnTo>
                      <a:pt x="1968" y="424"/>
                    </a:lnTo>
                    <a:lnTo>
                      <a:pt x="1976" y="368"/>
                    </a:lnTo>
                    <a:lnTo>
                      <a:pt x="1986" y="312"/>
                    </a:lnTo>
                    <a:lnTo>
                      <a:pt x="1998" y="258"/>
                    </a:lnTo>
                    <a:lnTo>
                      <a:pt x="2012" y="204"/>
                    </a:lnTo>
                    <a:lnTo>
                      <a:pt x="1960" y="218"/>
                    </a:lnTo>
                    <a:lnTo>
                      <a:pt x="1900" y="234"/>
                    </a:lnTo>
                    <a:lnTo>
                      <a:pt x="1824" y="250"/>
                    </a:lnTo>
                    <a:lnTo>
                      <a:pt x="1738" y="268"/>
                    </a:lnTo>
                    <a:lnTo>
                      <a:pt x="1644" y="284"/>
                    </a:lnTo>
                    <a:lnTo>
                      <a:pt x="1596" y="290"/>
                    </a:lnTo>
                    <a:lnTo>
                      <a:pt x="1548" y="294"/>
                    </a:lnTo>
                    <a:lnTo>
                      <a:pt x="1502" y="298"/>
                    </a:lnTo>
                    <a:lnTo>
                      <a:pt x="1456" y="298"/>
                    </a:lnTo>
                    <a:lnTo>
                      <a:pt x="1368" y="300"/>
                    </a:lnTo>
                    <a:lnTo>
                      <a:pt x="1280" y="300"/>
                    </a:lnTo>
                    <a:lnTo>
                      <a:pt x="1238" y="298"/>
                    </a:lnTo>
                    <a:lnTo>
                      <a:pt x="1198" y="296"/>
                    </a:lnTo>
                    <a:lnTo>
                      <a:pt x="1160" y="292"/>
                    </a:lnTo>
                    <a:lnTo>
                      <a:pt x="1122" y="286"/>
                    </a:lnTo>
                    <a:lnTo>
                      <a:pt x="1088" y="278"/>
                    </a:lnTo>
                    <a:lnTo>
                      <a:pt x="1056" y="268"/>
                    </a:lnTo>
                    <a:lnTo>
                      <a:pt x="1028" y="254"/>
                    </a:lnTo>
                    <a:lnTo>
                      <a:pt x="1016" y="246"/>
                    </a:lnTo>
                    <a:lnTo>
                      <a:pt x="1004" y="236"/>
                    </a:lnTo>
                    <a:lnTo>
                      <a:pt x="992" y="226"/>
                    </a:lnTo>
                    <a:lnTo>
                      <a:pt x="982" y="214"/>
                    </a:lnTo>
                    <a:lnTo>
                      <a:pt x="972" y="202"/>
                    </a:lnTo>
                    <a:lnTo>
                      <a:pt x="964" y="190"/>
                    </a:lnTo>
                    <a:lnTo>
                      <a:pt x="958" y="174"/>
                    </a:lnTo>
                    <a:lnTo>
                      <a:pt x="952" y="158"/>
                    </a:lnTo>
                    <a:lnTo>
                      <a:pt x="946" y="142"/>
                    </a:lnTo>
                    <a:lnTo>
                      <a:pt x="942" y="124"/>
                    </a:lnTo>
                    <a:lnTo>
                      <a:pt x="940" y="116"/>
                    </a:lnTo>
                    <a:lnTo>
                      <a:pt x="934" y="94"/>
                    </a:lnTo>
                    <a:lnTo>
                      <a:pt x="928" y="80"/>
                    </a:lnTo>
                    <a:lnTo>
                      <a:pt x="920" y="66"/>
                    </a:lnTo>
                    <a:lnTo>
                      <a:pt x="910" y="52"/>
                    </a:lnTo>
                    <a:lnTo>
                      <a:pt x="898" y="38"/>
                    </a:lnTo>
                    <a:lnTo>
                      <a:pt x="882" y="24"/>
                    </a:lnTo>
                    <a:lnTo>
                      <a:pt x="864" y="14"/>
                    </a:lnTo>
                    <a:lnTo>
                      <a:pt x="842" y="6"/>
                    </a:lnTo>
                    <a:lnTo>
                      <a:pt x="818" y="0"/>
                    </a:lnTo>
                    <a:lnTo>
                      <a:pt x="804" y="0"/>
                    </a:lnTo>
                    <a:lnTo>
                      <a:pt x="788" y="0"/>
                    </a:lnTo>
                    <a:lnTo>
                      <a:pt x="774" y="2"/>
                    </a:lnTo>
                    <a:lnTo>
                      <a:pt x="756" y="6"/>
                    </a:lnTo>
                    <a:lnTo>
                      <a:pt x="738" y="10"/>
                    </a:lnTo>
                    <a:lnTo>
                      <a:pt x="720" y="16"/>
                    </a:lnTo>
                    <a:lnTo>
                      <a:pt x="678" y="34"/>
                    </a:lnTo>
                    <a:lnTo>
                      <a:pt x="632" y="54"/>
                    </a:lnTo>
                    <a:lnTo>
                      <a:pt x="584" y="70"/>
                    </a:lnTo>
                    <a:lnTo>
                      <a:pt x="534" y="84"/>
                    </a:lnTo>
                    <a:lnTo>
                      <a:pt x="482" y="96"/>
                    </a:lnTo>
                    <a:lnTo>
                      <a:pt x="428" y="104"/>
                    </a:lnTo>
                    <a:lnTo>
                      <a:pt x="376" y="112"/>
                    </a:lnTo>
                    <a:lnTo>
                      <a:pt x="324" y="116"/>
                    </a:lnTo>
                    <a:lnTo>
                      <a:pt x="272" y="120"/>
                    </a:lnTo>
                    <a:lnTo>
                      <a:pt x="224" y="122"/>
                    </a:lnTo>
                    <a:lnTo>
                      <a:pt x="178" y="122"/>
                    </a:lnTo>
                    <a:lnTo>
                      <a:pt x="138" y="120"/>
                    </a:lnTo>
                    <a:lnTo>
                      <a:pt x="100" y="118"/>
                    </a:lnTo>
                    <a:lnTo>
                      <a:pt x="68" y="116"/>
                    </a:lnTo>
                    <a:lnTo>
                      <a:pt x="42" y="112"/>
                    </a:lnTo>
                    <a:lnTo>
                      <a:pt x="22" y="108"/>
                    </a:lnTo>
                    <a:lnTo>
                      <a:pt x="10" y="102"/>
                    </a:lnTo>
                    <a:close/>
                  </a:path>
                </a:pathLst>
              </a:cu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8" name="Freeform 13"/>
              <p:cNvGrpSpPr/>
              <p:nvPr/>
            </p:nvGrpSpPr>
            <p:grpSpPr>
              <a:xfrm>
                <a:off x="7089480" y="1362240"/>
                <a:ext cx="286560" cy="821520"/>
                <a:chOff x="7089480" y="1362240"/>
                <a:chExt cx="286560" cy="821520"/>
              </a:xfrm>
            </p:grpSpPr>
            <p:pic>
              <p:nvPicPr>
                <p:cNvPr id="499" name="Freeform 1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7089480" y="1362240"/>
                  <a:ext cx="286560" cy="82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00" name=""/>
                <p:cNvSpPr/>
                <p:nvPr/>
              </p:nvSpPr>
              <p:spPr>
                <a:xfrm>
                  <a:off x="7094520" y="1365840"/>
                  <a:ext cx="277200" cy="80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1" name="Freeform 15"/>
              <p:cNvGrpSpPr/>
              <p:nvPr/>
            </p:nvGrpSpPr>
            <p:grpSpPr>
              <a:xfrm>
                <a:off x="7455240" y="1544760"/>
                <a:ext cx="384120" cy="748440"/>
                <a:chOff x="7455240" y="1544760"/>
                <a:chExt cx="384120" cy="748440"/>
              </a:xfrm>
            </p:grpSpPr>
            <p:pic>
              <p:nvPicPr>
                <p:cNvPr id="502" name="Freeform 15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455240" y="1544760"/>
                  <a:ext cx="384120" cy="748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03" name=""/>
                <p:cNvSpPr/>
                <p:nvPr/>
              </p:nvSpPr>
              <p:spPr>
                <a:xfrm>
                  <a:off x="7459200" y="1548360"/>
                  <a:ext cx="373680" cy="73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1:58:37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8:19:32Z</dcterms:modified>
  <cp:revision>3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