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871-F05F-470F-B20E-F9B3BB4F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056-084F-4350-940F-B27D6C8F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C6F-F9EC-406D-BBB3-59FF0BCB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35D-EC48-489F-B014-43C532E8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4299-4222-4744-B527-01D4A6C6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F38-0A64-404F-AAF9-E151BD32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C4F8-9BBA-474B-806E-01383429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B1BB-E7B6-4342-92F3-E7027E31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7CC4-4472-4D3C-A288-993A460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2A7-71F4-4EBD-AF5D-27DC3655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5C3F-7E0F-4A8A-AF35-EFF596A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108-5119-438F-8404-4B2BCE5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6F2-DB77-4284-B3E1-EC15B7D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6A01-F797-47E2-ABCB-C99C499F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B631-3E56-4ADE-9623-F2FE8B0D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9A2C-E8E2-4B98-A8E1-C81010CF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FD03-80ED-46B7-B93D-BE8377EB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D6F-56A4-47BB-A816-0852FC27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A55-3BA3-484C-8F73-E166079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2A7-B047-4E11-8E74-0907C53D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86E-A9C3-443C-84B6-DA4C9870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644-2856-4CFC-AAA0-3498308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3E7-951E-4548-A743-078995F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B73-1724-4EA6-B7F5-3E2B143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EE0-8512-41ED-A095-736754A79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4D29-3054-4356-8E1E-B02533FA8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4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9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"/>
          <p:cNvPicPr/>
          <p:nvPr/>
        </p:nvPicPr>
        <p:blipFill>
          <a:blip r:embed="rId2"/>
          <a:stretch/>
        </p:blipFill>
        <p:spPr>
          <a:xfrm>
            <a:off x="-324000" y="-961920"/>
            <a:ext cx="15908400" cy="11931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551_07"/>
          <p:cNvPicPr/>
          <p:nvPr/>
        </p:nvPicPr>
        <p:blipFill>
          <a:blip r:embed="rId17"/>
          <a:stretch/>
        </p:blipFill>
        <p:spPr>
          <a:xfrm>
            <a:off x="7740720" y="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51_11"/>
          <p:cNvPicPr/>
          <p:nvPr/>
        </p:nvPicPr>
        <p:blipFill>
          <a:blip r:embed="rId18"/>
          <a:stretch/>
        </p:blipFill>
        <p:spPr>
          <a:xfrm>
            <a:off x="-1184400" y="7242120"/>
            <a:ext cx="94320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2" descr="汽泡"/>
          <p:cNvPicPr/>
          <p:nvPr/>
        </p:nvPicPr>
        <p:blipFill>
          <a:blip r:embed="rId19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551_03"/>
          <p:cNvPicPr/>
          <p:nvPr/>
        </p:nvPicPr>
        <p:blipFill>
          <a:blip r:embed="rId20"/>
          <a:stretch/>
        </p:blipFill>
        <p:spPr>
          <a:xfrm>
            <a:off x="0" y="260280"/>
            <a:ext cx="857160" cy="1162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97080" y="43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47320" y="29973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唯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06" name="Freeform 28"/>
            <p:cNvSpPr/>
            <p:nvPr/>
          </p:nvSpPr>
          <p:spPr>
            <a:xfrm>
              <a:off x="5652360" y="3098880"/>
              <a:ext cx="1353240" cy="1118520"/>
            </a:xfrm>
            <a:prstGeom prst="pi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9"/>
            <p:cNvSpPr/>
            <p:nvPr/>
          </p:nvSpPr>
          <p:spPr>
            <a:xfrm>
              <a:off x="6557760" y="4497480"/>
              <a:ext cx="1322640" cy="1123560"/>
            </a:xfrm>
            <a:prstGeom prst="pie">
              <a:avLst/>
            </a:pr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0"/>
            <p:cNvSpPr/>
            <p:nvPr/>
          </p:nvSpPr>
          <p:spPr>
            <a:xfrm>
              <a:off x="5495760" y="4088520"/>
              <a:ext cx="1191240" cy="1336320"/>
            </a:xfrm>
            <a:prstGeom prst="pie">
              <a:avLst/>
            </a:pr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1"/>
            <p:cNvSpPr/>
            <p:nvPr/>
          </p:nvSpPr>
          <p:spPr>
            <a:xfrm>
              <a:off x="6886800" y="3274920"/>
              <a:ext cx="1207440" cy="1324080"/>
            </a:xfrm>
            <a:prstGeom prst="pie">
              <a:avLst/>
            </a:pr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39640" y="270972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1d3a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835-EBA9-46B7-A6FD-1DB6BC68C0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3080" y="-264960"/>
            <a:ext cx="9806040" cy="736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33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0:48:43Z</dcterms:modified>
  <cp:revision>3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