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2.jpeg" ContentType="image/jpeg"/>
  <Override PartName="/ppt/media/image8.wmf" ContentType="image/x-wmf"/>
  <Override PartName="/ppt/media/image13.png" ContentType="image/png"/>
  <Override PartName="/ppt/media/image10.wmf" ContentType="image/x-wmf"/>
  <Override PartName="/ppt/media/image4.jpeg" ContentType="image/jpeg"/>
  <Override PartName="/ppt/media/image25.jpeg" ContentType="image/jpeg"/>
  <Override PartName="/ppt/media/image7.wmf" ContentType="image/x-wmf"/>
  <Override PartName="/ppt/media/image20.jpeg" ContentType="image/jpeg"/>
  <Override PartName="/ppt/media/image6.jpeg" ContentType="image/jpeg"/>
  <Override PartName="/ppt/media/image9.wmf" ContentType="image/x-wmf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8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ACA3-DE66-4211-80C3-603B73A30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87E2-F245-48F9-B675-E8FA1A31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1E45-8B81-4FCC-945E-8AC1D281F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3644-1509-49BB-9950-ED0D11ABA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85F2-488F-46BC-AF6F-876DF6F7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A1D1-C051-4A32-99D4-46E7439C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DD0C-DFC0-41AB-8FF4-AAAB3A69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E379-70FD-407F-BD90-F40DF865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9A06-A2FE-43AD-834C-41539547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9DC1-4B74-435F-A4DB-6C0192A2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7554-BCB5-4E40-93AB-A4E61318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BD81-5DC9-4EAE-9123-4C120566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1A0D-4BB0-4D39-95AF-8DDBDC71F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258920" y="1341360"/>
            <a:ext cx="662940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——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毛泽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66760" y="1486080"/>
            <a:ext cx="3841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Times New Roman"/>
              </a:rPr>
              <a:t>为人民服务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5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324000" y="115920"/>
            <a:ext cx="4321080" cy="65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ahoma"/>
                <a:ea typeface="黑体"/>
              </a:rPr>
              <a:t>解释下列词语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固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泰山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鸿毛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精兵简政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五湖四海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死得其所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寄托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哀思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追悼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547640" y="1474920"/>
            <a:ext cx="324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050920" y="1413000"/>
            <a:ext cx="187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1403280" y="765000"/>
            <a:ext cx="41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本来有的。固：本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1403280" y="1268280"/>
            <a:ext cx="77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山名，在山东省。古人以泰山为高山的代表。常用来比喻敬仰的人或重大的有价值的事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476360" y="220500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大雁的毛。比喻事物微不足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2268360" y="270828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缩小机构，精简人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2268360" y="321300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本文指全国各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2195640" y="3716280"/>
            <a:ext cx="67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形容死得有意义，有价值。所，处所，地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1403280" y="4653000"/>
            <a:ext cx="73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把理想、希望、感情等放在（某人或某种事物上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1476360" y="56610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悲哀思念的感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1523880" y="6095880"/>
            <a:ext cx="5791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_x000b__x000c_"/>
              </a:rPr>
              <a:t>怀念死者，表示哀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304920" y="0"/>
            <a:ext cx="8351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◆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听录音，感悟节奏、感情，识记生字读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◆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思考讨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演讲的听众是谁？毛泽东同志的这个讲话围绕什么中心讲？分几层意思讲？每层意思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《为人民服务》视频朗读.asf" descr=""/>
          <p:cNvPicPr/>
          <p:nvPr/>
        </p:nvPicPr>
        <p:blipFill>
          <a:blip r:embed="rId2"/>
          <a:stretch/>
        </p:blipFill>
        <p:spPr>
          <a:xfrm>
            <a:off x="1295280" y="2590920"/>
            <a:ext cx="5950080" cy="40384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971640" y="3346560"/>
            <a:ext cx="51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2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143000" y="1825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07000"/>
                </a:solidFill>
                <a:latin typeface="Times New Roman"/>
              </a:rPr>
              <a:t>学 海 导 航（第二段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Object 11" descr=""/>
          <p:cNvPicPr/>
          <p:nvPr/>
        </p:nvPicPr>
        <p:blipFill>
          <a:blip r:embed="rId1"/>
          <a:stretch/>
        </p:blipFill>
        <p:spPr>
          <a:xfrm flipH="1">
            <a:off x="228600" y="2971800"/>
            <a:ext cx="3579840" cy="36781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4"/>
          <p:cNvSpPr/>
          <p:nvPr/>
        </p:nvSpPr>
        <p:spPr>
          <a:xfrm>
            <a:off x="457200" y="9144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中心句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人总是要死的，但死的意义有不同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304920" y="15238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作者是怎样围绕中心句进行论述的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762120" y="20574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先引用司马迁的话做论据，再具体讲什么样人的死毫无意义，什么样的人死得有价值。最后肯定张思德的死比泰山还要重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1371600" y="34290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你怎样理解司马迁的话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1600200" y="388620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_x000b__x000c_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人固有一死，或重于泰山，或轻于鸿毛</a:t>
            </a:r>
            <a:r>
              <a:rPr b="0" lang="zh-CN" sz="2800" spc="-1" strike="noStrike">
                <a:solidFill>
                  <a:srgbClr val="000000"/>
                </a:solidFill>
                <a:latin typeface="_x000b__x000c_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这句话的意思是人总是要死的，有的人的死比泰山还重，有的人的死比鸿毛还轻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2895480" y="5257800"/>
            <a:ext cx="59436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_x000b__x000c_"/>
              </a:rPr>
              <a:t>小结：这一段是讲革命者对生死的看法人要死得有意义、有价值，揭示了革命的人生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143000" y="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07000"/>
                </a:solidFill>
                <a:latin typeface="Times New Roman"/>
              </a:rPr>
              <a:t>学  海 导 航（第三段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Object 4" descr=""/>
          <p:cNvPicPr/>
          <p:nvPr/>
        </p:nvPicPr>
        <p:blipFill>
          <a:blip r:embed="rId1"/>
          <a:stretch/>
        </p:blipFill>
        <p:spPr>
          <a:xfrm flipH="1">
            <a:off x="0" y="2971800"/>
            <a:ext cx="3579840" cy="36781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380880" y="6094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这段是围绕哪句话论述的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457200" y="9907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我们为人民的利益坚持好的，为人民的利益改正错的，我们这个队伍就一定会兴旺起来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533520" y="18288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是怎样围绕这句话论述的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457200" y="2286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通过举例和逻辑严密的一组复句加以论述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1219320" y="3352680"/>
            <a:ext cx="792468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_x000b__x000c_"/>
              </a:rPr>
              <a:t>第一句讲有了缺点就不怕别人批评。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_x000b__x000c_"/>
              </a:rPr>
              <a:t>第二句讲不管是什么人，谁向我们指出都行。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_x000b__x000c_"/>
              </a:rPr>
              <a:t>第三句讲凡是符合“说得对”、“对人民有好处”这个条件，不管是谁的批评和意见，我们都要改正，都要照办。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_x000b__x000c_"/>
              </a:rPr>
              <a:t>  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914400" y="28195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每句说的是什么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2819520" y="5257800"/>
            <a:ext cx="632448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_x000b__x000c_"/>
              </a:rPr>
              <a:t>这段话一句紧扣一句，层层递进联系非常紧密。先讲不 怕批评再讲不讲究批评的对象和方式方法。衡量是与非的标准只有一个，就是是否符合人民的利益。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1143000" y="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07000"/>
                </a:solidFill>
                <a:latin typeface="Times New Roman"/>
              </a:rPr>
              <a:t>学  海 导 航（第四段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Object 4" descr=""/>
          <p:cNvPicPr/>
          <p:nvPr/>
        </p:nvPicPr>
        <p:blipFill>
          <a:blip r:embed="rId1"/>
          <a:stretch/>
        </p:blipFill>
        <p:spPr>
          <a:xfrm flipH="1">
            <a:off x="0" y="3179880"/>
            <a:ext cx="3579840" cy="36781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457200" y="6094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_x000b__x000c_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共同的革命目标</a:t>
            </a:r>
            <a:r>
              <a:rPr b="0" lang="zh-CN" sz="2800" spc="-1" strike="noStrike">
                <a:solidFill>
                  <a:srgbClr val="000000"/>
                </a:solidFill>
                <a:latin typeface="_x000b__x000c_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是什么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990720" y="9907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解放全民族，完全、彻底为人民服务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457200" y="1523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_x000b__x000c_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_x000b__x000c_"/>
              </a:rPr>
              <a:t>、为实现这一革命目标应该怎样做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838080" y="20574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_x000b__x000c_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不怕困难</a:t>
            </a:r>
            <a:r>
              <a:rPr b="0" lang="zh-CN" sz="2800" spc="-1" strike="noStrike">
                <a:solidFill>
                  <a:srgbClr val="000000"/>
                </a:solidFill>
                <a:latin typeface="_x000b__x000c_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_x000b__x000c_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不怕牺牲</a:t>
            </a:r>
            <a:r>
              <a:rPr b="0" lang="zh-CN" sz="2800" spc="-1" strike="noStrike">
                <a:solidFill>
                  <a:srgbClr val="000000"/>
                </a:solidFill>
                <a:latin typeface="_x000b__x000c_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_x000b__x000c_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互相爱护</a:t>
            </a:r>
            <a:r>
              <a:rPr b="0" lang="zh-CN" sz="2800" spc="-1" strike="noStrike">
                <a:solidFill>
                  <a:srgbClr val="000000"/>
                </a:solidFill>
                <a:latin typeface="_x000b__x000c_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838080" y="2895480"/>
            <a:ext cx="7925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第一层：</a:t>
            </a:r>
            <a:r>
              <a:rPr b="0" lang="zh-CN" sz="2400" spc="-1" strike="noStrike">
                <a:solidFill>
                  <a:srgbClr val="000000"/>
                </a:solidFill>
                <a:latin typeface="_x000b__x000c_"/>
                <a:ea typeface="Times New Roman"/>
              </a:rPr>
              <a:t>我们都是来自五湖四海，为了一个革命目标走到一起来了，但要取得全民族的解放，还要团结更多的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第二层：</a:t>
            </a:r>
            <a:r>
              <a:rPr b="0" lang="zh-CN" sz="2400" spc="-1" strike="noStrike">
                <a:solidFill>
                  <a:srgbClr val="000000"/>
                </a:solidFill>
                <a:latin typeface="_x000b__x000c_"/>
                <a:ea typeface="Times New Roman"/>
              </a:rPr>
              <a:t>讲怎样对待困难，要看到成绩、光明，要提高我们的勇气，不要灰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第三层：</a:t>
            </a:r>
            <a:r>
              <a:rPr b="0" lang="zh-CN" sz="2400" spc="-1" strike="noStrike">
                <a:solidFill>
                  <a:srgbClr val="000000"/>
                </a:solidFill>
                <a:latin typeface="_x000b__x000c_"/>
                <a:ea typeface="Times New Roman"/>
              </a:rPr>
              <a:t>讲正确对待牺牲。一是为人民利益而牺牲是“死得其所”； 二是要避免不必要的牺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_x000b__x000c_"/>
                <a:ea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第四层：</a:t>
            </a:r>
            <a:r>
              <a:rPr b="0" lang="zh-CN" sz="2400" spc="-1" strike="noStrike">
                <a:solidFill>
                  <a:srgbClr val="000000"/>
                </a:solidFill>
                <a:latin typeface="_x000b__x000c_"/>
                <a:ea typeface="Times New Roman"/>
              </a:rPr>
              <a:t>革命队伍的人要互相关心、爱护</a:t>
            </a: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、 帮</a:t>
            </a:r>
            <a:r>
              <a:rPr b="0" lang="zh-CN" sz="2400" spc="-1" strike="noStrike">
                <a:solidFill>
                  <a:srgbClr val="000000"/>
                </a:solidFill>
                <a:latin typeface="_x000b__x000c_"/>
                <a:ea typeface="Times New Roman"/>
              </a:rPr>
              <a:t>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6"/>
          <p:cNvSpPr/>
          <p:nvPr/>
        </p:nvSpPr>
        <p:spPr>
          <a:xfrm>
            <a:off x="457200" y="25146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各层层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1143000" y="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07000"/>
                </a:solidFill>
                <a:latin typeface="Times New Roman"/>
              </a:rPr>
              <a:t>学  海 导 航（第五段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Object 4" descr=""/>
          <p:cNvPicPr/>
          <p:nvPr/>
        </p:nvPicPr>
        <p:blipFill>
          <a:blip r:embed="rId1"/>
          <a:stretch/>
        </p:blipFill>
        <p:spPr>
          <a:xfrm flipH="1">
            <a:off x="0" y="3179880"/>
            <a:ext cx="3579840" cy="36781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304920" y="9144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我们要为什么人开追悼会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914400" y="16765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做过一些有益工作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380880" y="24382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开追悼会的意义是什么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838080" y="33526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寄托哀思，使整个人民团结起来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2195640" y="549360"/>
            <a:ext cx="45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隶书"/>
              </a:rPr>
              <a:t>12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  <a:ea typeface="隶书"/>
              </a:rPr>
              <a:t>、为人民服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619280" y="162864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  <a:ea typeface="华文行楷"/>
              </a:rPr>
              <a:t>演讲人：毛泽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4788000" y="1628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  <a:ea typeface="华文行楷"/>
              </a:rPr>
              <a:t>听众：根据地军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1143000" y="1981080"/>
            <a:ext cx="66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背景：张思德为革命牺牲，送葬的追悼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324000" y="249228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黑体"/>
              </a:rPr>
              <a:t>中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-41400" y="3124080"/>
            <a:ext cx="103356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华文行楷"/>
              </a:rPr>
              <a:t>为人民服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914400" y="2819520"/>
            <a:ext cx="216000" cy="2808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73080 h 2808000"/>
              <a:gd name="textAreaBottom" fmla="*/ 2734920 h 28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189080" y="277344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一、张思德是彻底为人民服务的队伍的一员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11"/>
          <p:cNvSpPr/>
          <p:nvPr/>
        </p:nvSpPr>
        <p:spPr>
          <a:xfrm flipH="1">
            <a:off x="6443640" y="2708280"/>
            <a:ext cx="216000" cy="2808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6"/>
                </a:lnTo>
                <a:cubicBezTo>
                  <a:pt x="10800" y="9906"/>
                  <a:pt x="5400" y="10806"/>
                  <a:pt x="0" y="10806"/>
                </a:cubicBezTo>
                <a:cubicBezTo>
                  <a:pt x="5400" y="10806"/>
                  <a:pt x="10800" y="11706"/>
                  <a:pt x="10800" y="1260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6985080" y="3573360"/>
            <a:ext cx="13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引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2843280" y="24210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黑体"/>
              </a:rPr>
              <a:t>内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6802560" y="242100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黑体"/>
              </a:rPr>
              <a:t>论证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1187280" y="3357720"/>
            <a:ext cx="46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二、张思德的死比泰山还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1187280" y="393372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三、我们要坚持好的、改正错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1187280" y="4437000"/>
            <a:ext cx="40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四、为人民利益而死，死得其所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1187280" y="4941720"/>
            <a:ext cx="49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五、号召要追悼为人民利益而牺牲的人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6877080" y="299736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道理论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6877080" y="47242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事例论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2"/>
          <p:cNvSpPr/>
          <p:nvPr/>
        </p:nvSpPr>
        <p:spPr>
          <a:xfrm>
            <a:off x="539640" y="57340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黑体"/>
              </a:rPr>
              <a:t>语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1835280" y="580536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准确、鲜明、逻辑严密、感情真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4"/>
          <p:cNvSpPr/>
          <p:nvPr/>
        </p:nvSpPr>
        <p:spPr>
          <a:xfrm>
            <a:off x="3657600" y="1219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（毛泽东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26"/>
          <p:cNvSpPr/>
          <p:nvPr/>
        </p:nvSpPr>
        <p:spPr>
          <a:xfrm>
            <a:off x="6858000" y="41911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对比论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533520" y="533520"/>
            <a:ext cx="77724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◆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思考讨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演讲的听众是谁？毛泽东同志的这个讲话围绕什么中心讲？分几层意思讲？每层意思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533520" y="2438280"/>
            <a:ext cx="81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答：听众是根据地的军民；围绕的中心是：为人民服务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457200" y="2971800"/>
            <a:ext cx="838188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分五层讲；意思分别是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、指出我们的队伍是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彻底地为人民的利益工作的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，张思德同志就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队伍中的一员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、指出张思德是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为人民利益而死的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，他的死比泰山还要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、指出我们要为人民的利益坚持好的，改正错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、指出为人民的利益而牺牲是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死得其所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，但要尽量减少不必要的牺牲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、号召大家追悼为人民利益而牺牲的同志，寄托哀思，团结起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457200" y="44956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本文通过悼念张思德，讲为人民服务的道理，号召大家学习张思德完全、彻底为人民服务的精神，团结起来，打败日本侵略者</a:t>
            </a: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380880" y="914400"/>
            <a:ext cx="815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答：全文围绕</a:t>
            </a:r>
            <a:r>
              <a:rPr b="0" lang="zh-CN" sz="2800" spc="-1" strike="noStrike">
                <a:solidFill>
                  <a:srgbClr val="ffffff"/>
                </a:solidFill>
                <a:latin typeface="_x000b__x000c_"/>
              </a:rPr>
              <a:t>“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为人民服务</a:t>
            </a:r>
            <a:r>
              <a:rPr b="0" lang="zh-CN" sz="2800" spc="-1" strike="noStrike">
                <a:solidFill>
                  <a:srgbClr val="ffffff"/>
                </a:solidFill>
                <a:latin typeface="_x000b__x000c_"/>
              </a:rPr>
              <a:t>”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这个中心来写的。一是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《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为人民服务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》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提示了讲话的中心；二是</a:t>
            </a:r>
            <a:r>
              <a:rPr b="0" lang="zh-CN" sz="2800" spc="-1" strike="noStrike">
                <a:solidFill>
                  <a:srgbClr val="ffffff"/>
                </a:solidFill>
                <a:latin typeface="_x000b__x000c_"/>
              </a:rPr>
              <a:t>“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我们这个队伍完全是为着解放人民的，是彻底地为人民的利益工作的</a:t>
            </a:r>
            <a:r>
              <a:rPr b="0" lang="zh-CN" sz="2800" spc="-1" strike="noStrike">
                <a:solidFill>
                  <a:srgbClr val="ffffff"/>
                </a:solidFill>
                <a:latin typeface="_x000b__x000c_"/>
              </a:rPr>
              <a:t>”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点明了文章的中心，阐述了我们党及其领导的军队的性质、宗旨，是作者论述的中心论点。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380880" y="4572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本文围绕一个什么样的中心思想来写的？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380880" y="380988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中心思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205092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探究学习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34920" y="54936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一、第一段有几句话？每句写什么？句与句之间有什么关系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79280" y="1341360"/>
            <a:ext cx="889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二、将“人固有一死，或于泰山，或轻于鸿毛。”译为现代文。为什么毛泽东同志说张思德的死比泰山还重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179280" y="28274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三、第三段的中心论点是什么？运用了什么论证方法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108000" y="390204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四、我们“为了一个共同的革命目标，走到一起来了”这个目标是什么？为什么说我们为人民而死，就是死得其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108000" y="5373720"/>
            <a:ext cx="90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五、第五段说到开追悼会的制度是什么？开追悼会的目的是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250920" y="907920"/>
            <a:ext cx="85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答：有三句；分别说队伍的性质、任务 、这次追悼的人物；平列关系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179280" y="215100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答：人总是要死的，但死的意义有不同，有的比泰山还重，有的比鸿毛还轻。因为张思德是为人民利益死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179280" y="323208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答：我们要为人民的利益坚持好的，改正错的；事例论证法：李鼎铭提出”精兵简政“的例子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179280" y="4724280"/>
            <a:ext cx="84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答：目标是彻底地、完全地为人民的利益工作；因为我们的目标 是为人民服务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216000" y="580536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答：不管是谁死了，只要他是做过一些的益的工作，我们都要给他送葬，开追悼会；目的是寄托哀思，使整个人民团结起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26"/>
          <p:cNvSpPr/>
          <p:nvPr/>
        </p:nvSpPr>
        <p:spPr>
          <a:xfrm>
            <a:off x="2517840" y="2514600"/>
            <a:ext cx="66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替人民做事、为人民着想，这是中国共产党人的宗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027"/>
          <p:cNvSpPr/>
          <p:nvPr/>
        </p:nvSpPr>
        <p:spPr>
          <a:xfrm>
            <a:off x="457200" y="259092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人民服务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224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品味语言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457200" y="1447920"/>
            <a:ext cx="79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、谈谈加点词的含义：我们这个队伍是完全是为着人民解放的，是彻底地为人民的利益工作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、找一找文中关联词，谈谈这些关联词作用。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第三段为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2362320" y="2514600"/>
            <a:ext cx="31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5894280" y="19810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2693880" y="251460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6172200" y="1981080"/>
            <a:ext cx="31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762120" y="266688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答：”完全“，就是百分，也就是说，除了为人民服务，再没有任何别的目的。”彻底“就是贯彻到底，也就是说，不管在什么时间，不管做什么工作都应该为人民谋利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8720" y="5805360"/>
            <a:ext cx="7991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461040" y="38088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总结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1371600" y="1600200"/>
            <a:ext cx="693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讨论回答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为人民服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是一篇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__________________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演讲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二、通过这课的学习，你学习那些知识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7AF2-53EA-47D2-A7B1-9AE85511BD6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3808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知识扩展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4572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你能举一两个现实生活中“为人民服务”的例子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762120" y="35053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现实生活中的徐虎、李素丽等英雄模范都是</a:t>
            </a:r>
            <a:r>
              <a:rPr b="0" lang="zh-CN" sz="3200" spc="-1" strike="noStrike">
                <a:solidFill>
                  <a:srgbClr val="000000"/>
                </a:solidFill>
                <a:latin typeface="_x000b__x000c_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完全</a:t>
            </a:r>
            <a:r>
              <a:rPr b="0" lang="zh-CN" sz="3200" spc="-1" strike="noStrike">
                <a:solidFill>
                  <a:srgbClr val="000000"/>
                </a:solidFill>
                <a:latin typeface="_x000b__x000c_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_x000b__x000c_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彻底</a:t>
            </a:r>
            <a:r>
              <a:rPr b="0" lang="zh-CN" sz="3200" spc="-1" strike="noStrike">
                <a:solidFill>
                  <a:srgbClr val="000000"/>
                </a:solidFill>
                <a:latin typeface="_x000b__x000c_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地为人民服务的榜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6"/>
          <p:cNvSpPr/>
          <p:nvPr/>
        </p:nvSpPr>
        <p:spPr>
          <a:xfrm>
            <a:off x="5435640" y="14698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" descr="毛(2)"/>
          <p:cNvPicPr/>
          <p:nvPr/>
        </p:nvPicPr>
        <p:blipFill>
          <a:blip r:embed="rId1"/>
          <a:stretch/>
        </p:blipFill>
        <p:spPr>
          <a:xfrm>
            <a:off x="5105520" y="152280"/>
            <a:ext cx="3016080" cy="30974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79280" y="3357720"/>
            <a:ext cx="8820360" cy="11912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毛泽东简介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　　毛泽东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93--1976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），湖南湘潭人。字润之，笔名子任。伟大的无产阶级革命家、军事家、思想家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。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93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6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日生于韶山冲一个农民家庭。早年就读于长沙湖南第一师范，即开始革命活动，接受并传播马克思列宁主义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21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年成为中国共产党的创始人之一。历任中国共产党中央委员会主席、中央军事委员会主席、中华人民共和国主席等职。平生于政务、军旅之暇，喜爱诗词、书法，用功尤勤，造诣甚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1295280" y="685800"/>
            <a:ext cx="5181840" cy="35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         </a:t>
            </a:r>
            <a:r>
              <a:rPr b="0" lang="zh-CN" sz="66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教学目标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447920" y="2286000"/>
            <a:ext cx="6553080" cy="22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一、积累演讲词有关常识、生字词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二、理解课文内容，把握本文的中心论点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三、学习本文围绕主要意思分层论述的方法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四、体味文中语言的准确、鲜明、严密的特点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-1187280" y="30639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219320" y="1093680"/>
            <a:ext cx="67816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为人民服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这篇课文是毛泽东主席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4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日，在中共中央直属机关为悼念张思德同志而召开的会议上所作的演讲。当时，抗日战争正处在十分艰苦的阶段，有许多困难需要克服。毛泽东主席针对这一情况，讲述为人民服务的道理，号召大家学习张思德同志完全、彻底地为人民服务的精神，团结起来，打败日本侵略者。我们通过对课文的学习，在今后的人生道路上要树立这样一种信念：不是人人为我，而是我为人人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Object 2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5943600" y="3886200"/>
            <a:ext cx="2471760" cy="2676600"/>
          </a:xfrm>
          <a:prstGeom prst="rect">
            <a:avLst/>
          </a:prstGeom>
          <a:ln w="0">
            <a:noFill/>
          </a:ln>
        </p:spPr>
      </p:pic>
      <p:pic>
        <p:nvPicPr>
          <p:cNvPr id="59" name="Object 3" descr=""/>
          <p:cNvPicPr/>
          <p:nvPr/>
        </p:nvPicPr>
        <p:blipFill>
          <a:blip r:embed="rId3"/>
          <a:stretch/>
        </p:blipFill>
        <p:spPr>
          <a:xfrm>
            <a:off x="304920" y="441360"/>
            <a:ext cx="1176120" cy="2530440"/>
          </a:xfrm>
          <a:prstGeom prst="rect">
            <a:avLst/>
          </a:prstGeom>
          <a:ln w="0">
            <a:noFill/>
          </a:ln>
        </p:spPr>
      </p:pic>
      <p:pic>
        <p:nvPicPr>
          <p:cNvPr id="60" name="Object 4" descr=""/>
          <p:cNvPicPr/>
          <p:nvPr/>
        </p:nvPicPr>
        <p:blipFill>
          <a:blip r:embed="rId4"/>
          <a:stretch/>
        </p:blipFill>
        <p:spPr>
          <a:xfrm>
            <a:off x="380880" y="3657600"/>
            <a:ext cx="1036800" cy="2514600"/>
          </a:xfrm>
          <a:prstGeom prst="rect">
            <a:avLst/>
          </a:prstGeom>
          <a:ln w="0">
            <a:noFill/>
          </a:ln>
        </p:spPr>
      </p:pic>
      <p:pic>
        <p:nvPicPr>
          <p:cNvPr id="61" name="Object 5" descr=""/>
          <p:cNvPicPr/>
          <p:nvPr/>
        </p:nvPicPr>
        <p:blipFill>
          <a:blip r:embed="rId5"/>
          <a:stretch/>
        </p:blipFill>
        <p:spPr>
          <a:xfrm>
            <a:off x="1765440" y="4043520"/>
            <a:ext cx="1649160" cy="2417760"/>
          </a:xfrm>
          <a:prstGeom prst="rect">
            <a:avLst/>
          </a:prstGeom>
          <a:ln w="0">
            <a:noFill/>
          </a:ln>
        </p:spPr>
      </p:pic>
      <p:pic>
        <p:nvPicPr>
          <p:cNvPr id="62" name="Object 6" descr=""/>
          <p:cNvPicPr/>
          <p:nvPr/>
        </p:nvPicPr>
        <p:blipFill>
          <a:blip r:embed="rId6"/>
          <a:stretch/>
        </p:blipFill>
        <p:spPr>
          <a:xfrm>
            <a:off x="3505320" y="4191120"/>
            <a:ext cx="2450880" cy="20872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7"/>
          <p:cNvSpPr/>
          <p:nvPr/>
        </p:nvSpPr>
        <p:spPr>
          <a:xfrm>
            <a:off x="3989520" y="22860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检测预习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1752480" y="1066680"/>
            <a:ext cx="69786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查阅资料了解演讲词的相关知识，了解毛泽东、张思德、司马迁、李鼎铭等的人物简况。这篇演讲词的写作背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找出生字词、自查工具书写出拼音与解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0" y="0"/>
            <a:ext cx="88390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隶书"/>
              </a:rPr>
              <a:t>演讲和演讲词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在某一特定的、正式的场合，面对听众把自己对某一问题或事件的看法较为系统全面地说出来，这就是演讲。演讲时所说的内容就是演讲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在内容上，应视有关集会或活动的要求而定，力求中心明确，言之有物；在表达上，偏重于议论，说明，也不排斥必要的记叙、抒情，力求条理清楚不繁杂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0" y="2438280"/>
            <a:ext cx="8915400" cy="19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演讲词的特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、要有针对性。要考虑演讲的场合，听众的年龄、文化程度，听众需要了解或解决些什么问题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、要有启发性。要通过充实的内容、严密的逻辑，晓之以理，让听众心悦诚服地接受演讲词需要阐明的观点，明确努力的方向和行动的目标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三、要有感染性。由于演讲词是说给听众听的，因此语言要明白晓畅、自然朴素；演讲者能够结合现实，与听众作情感上的交流，以情动人，无论议论、说明还是记叙，在字行间孝应该倾注作者的真情实感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0" y="838080"/>
            <a:ext cx="403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　　张思德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小名谷娃子人，四川省仪陇县人，中共中央警备团战士。他在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933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年参加革命，经历长征，负过伤，是一个忠实为人民服务的共产党员。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944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日在陕北安塞县山中烧，因炭窑崩蹋而牺牲。时年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9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0" y="2286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张思德简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0" y="27608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5"/>
          <p:cNvSpPr/>
          <p:nvPr/>
        </p:nvSpPr>
        <p:spPr>
          <a:xfrm>
            <a:off x="0" y="27608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9" descr="20043692922964"/>
          <p:cNvPicPr/>
          <p:nvPr/>
        </p:nvPicPr>
        <p:blipFill>
          <a:blip r:embed="rId1"/>
          <a:stretch/>
        </p:blipFill>
        <p:spPr>
          <a:xfrm>
            <a:off x="4267080" y="0"/>
            <a:ext cx="4876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2590920" y="1054080"/>
            <a:ext cx="5410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514600" y="129528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2590920" y="1828800"/>
            <a:ext cx="84978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鸿毛      鼎 铭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追悼会    哀 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5105520" y="129528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ǐng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048120" y="3124080"/>
            <a:ext cx="86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5486400" y="312408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āi     s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0:32:2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1:26:40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