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24C-B2B3-4F1E-99EC-8149B7D0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BDA-FB71-4BAC-838D-28F01305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02F-1CAE-4AC8-A08D-FFF2C73F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E5C-38EB-46EF-8EDF-C220C570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A06-AFE1-4813-9517-183A20C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816-267F-47D5-B798-6EF08900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84D-55AE-487F-A865-8F128F51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1D5-4983-4F27-B180-14DB04A5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6AF-5539-4105-B165-3E7C0B4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253-0C9B-4C9C-A1FA-27E072BE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6F5-0F0B-4C4F-A228-48ECCC2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FB0-D0B3-465E-9BD9-C61BD73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AAA-DFB6-4928-86A1-E5E0D09D4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4" descr="DSC0379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692360" y="1413000"/>
            <a:ext cx="6372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56440" y="1125360"/>
            <a:ext cx="321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993300"/>
                </a:solidFill>
                <a:latin typeface="Times New Roman"/>
              </a:rPr>
              <a:t>《唯一的听众》课件</a:t>
            </a:r>
            <a:r>
              <a:rPr b="0" lang="en-US" sz="4500" spc="-1" strike="noStrike">
                <a:solidFill>
                  <a:srgbClr val="9933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993300"/>
                </a:solidFill>
                <a:latin typeface="Times New Roman"/>
              </a:rPr>
              <a:t>模板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8000" y="33336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沮丧地想离开小树林时，她平静地望着我，仿佛在说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每天去小树林拉琴时，她平静地望着我，仿佛在说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渐渐奏出真正的音乐时，她慈祥的眼睛平静地望着我，仿佛在说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F5A-38EF-4B2F-9E5A-5EF7CC7B69C3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D52565D01453AF51E31CE1102A7F6D76"/>
          <p:cNvPicPr/>
          <p:nvPr/>
        </p:nvPicPr>
        <p:blipFill>
          <a:blip r:embed="rId2"/>
          <a:stretch/>
        </p:blipFill>
        <p:spPr>
          <a:xfrm>
            <a:off x="0" y="0"/>
            <a:ext cx="95058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200681920364669577.mp3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53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98600" y="765000"/>
            <a:ext cx="6759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老教授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小提琴手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文中的父亲和妹妹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我自己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我想对同学们说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__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66920" y="1512720"/>
            <a:ext cx="505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做一个倾听者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不要吝啬自己的鼓励和微笑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黑体"/>
              </a:rPr>
              <a:t>愿感恩和付出同时在我们身上体现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472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5589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324000" y="1890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黑体"/>
              </a:rPr>
              <a:t>      “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在他们听起来，我拉的小夜曲就像是在锯床腿。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      “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后来，小提琴成了我无法割舍的爱好，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我有机会面对成百上千的观众演奏小提琴曲。每当拿起小提琴，我眼前就浮现出那位耳“聋”的老人，每天清晨里我唯一的听众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黑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08000" y="115920"/>
            <a:ext cx="889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黑体"/>
              </a:rPr>
              <a:t>自学：从语言入手，看老教授是怎么一步步鼓励“我”的呢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黑体"/>
              </a:rPr>
              <a:t>默读全文，画出相应的语句，试着有感情地读一读，想想老人是在什么情况下说这些话的，体会这些话对“我”有什么影响；再把这些句子在小组内有感情地读一读，说一说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68360" y="5079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是我打搅了你吗？小伙子。不过，我每天早晨都在这里坐一会儿。”“我猜想你一定拉的非常好，只可惜我的耳朵聋了。如果不介意我在场的话，请继续吧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也许我会用心去感受这音乐。我能做你的听众吗？就在每天早晨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真不错 。我的心已经感受到了。谢谢你，小伙子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“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你的琴声能给我带来快乐和幸福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08000" y="317520"/>
            <a:ext cx="88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“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是我打搅了你吗？小伙子。不过，我每天早晨都在这儿坐一会儿。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其实是我打搅了你，你却毫不在意，多么和善的老人啊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68360" y="5079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是我打搅了你吗？小伙子。不过，我每天早晨都在这里坐一会儿。”“我猜想你一定拉的非常好，只可惜我的耳朵聋了。如果不介意我在场的话，请继续吧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也许我会用心去感受这音乐。我能做你的听众吗？就在每天早晨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真不错 。我的心已经感受到了。谢谢你，小伙子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“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你的琴声能给我带来快乐和幸福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3030480" y="206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2" descr="DSC03793"/>
          <p:cNvPicPr/>
          <p:nvPr/>
        </p:nvPicPr>
        <p:blipFill>
          <a:blip r:embed="rId2"/>
          <a:stretch/>
        </p:blipFill>
        <p:spPr>
          <a:xfrm>
            <a:off x="-1730520" y="-2763720"/>
            <a:ext cx="10874520" cy="11737800"/>
          </a:xfrm>
          <a:prstGeom prst="rect">
            <a:avLst/>
          </a:prstGeom>
          <a:ln w="0">
            <a:noFill/>
          </a:ln>
        </p:spPr>
      </p:pic>
      <p:pic>
        <p:nvPicPr>
          <p:cNvPr id="59" name="200681920364669577.mp3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53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2" descr="DSC03793"/>
          <p:cNvPicPr/>
          <p:nvPr/>
        </p:nvPicPr>
        <p:blipFill>
          <a:blip r:embed="rId2"/>
          <a:stretch/>
        </p:blipFill>
        <p:spPr>
          <a:xfrm>
            <a:off x="-1730520" y="-2763720"/>
            <a:ext cx="10874520" cy="11737800"/>
          </a:xfrm>
          <a:prstGeom prst="rect">
            <a:avLst/>
          </a:prstGeom>
          <a:ln w="0">
            <a:noFill/>
          </a:ln>
        </p:spPr>
      </p:pic>
      <p:pic>
        <p:nvPicPr>
          <p:cNvPr id="62" name="200681920364669577.mp3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431360" y="659772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537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4046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拉出像锯床腿一样的声音时，一位极瘦极瘦的老妇人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有了几份信心，每天去练琴，她看到了，也是一直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当我渐感奏出了真正的音乐，她还是用她慈祥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黑体"/>
              </a:rPr>
              <a:t>——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8:16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07:04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