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BC3-C91A-437E-89E8-5EB14B3A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74C-3D0A-4E3C-BC0D-95ACC5B6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A59-A7E2-412E-8829-1D573DF8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157-72B8-40F8-9456-364AA625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D02-B0FC-44D4-8C91-8D0A3D51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8EC-D52F-4978-9CE9-E3EBFBBB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57A-766C-406B-A940-FFD32D12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951-BECD-4079-8E23-B1173FFE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BBC-775D-4304-A3DC-97A21811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6CE-A6C6-49FF-8C57-535EC864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5C5-102E-4F23-9C15-E1C212E2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F56-D990-4E2B-8ED6-628ECC75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AF9B-9EA4-4763-A452-0C188102BC8B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1,4,&#24187;&#28783;&#29255; 4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68,9,&#24187;&#28783;&#29255; 9" TargetMode="External"/><Relationship Id="rId5" Type="http://schemas.openxmlformats.org/officeDocument/2006/relationships/hyperlink" Target="266,6,&#24187;&#28783;&#29255; 6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10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rcRect l="18672" t="0" r="0" b="5258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900000" y="954000"/>
            <a:ext cx="39592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7760" y="141300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望月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332000" y="14842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Arial"/>
                <a:ea typeface="隶书"/>
              </a:rPr>
              <a:t>       </a:t>
            </a:r>
            <a:r>
              <a:rPr b="0" lang="zh-CN" sz="5400" spc="-1" strike="noStrike">
                <a:solidFill>
                  <a:srgbClr val="333333"/>
                </a:solidFill>
                <a:latin typeface="Arial"/>
                <a:ea typeface="隶书"/>
              </a:rPr>
              <a:t>诗，和月光一起，沐浴着我们，使我们沉醉在清幽旷远的气氛中。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762120" y="64771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f4f3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2" descr="D:\周\维也纳图片库\200411121113233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133720" y="990720"/>
            <a:ext cx="4876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课后作业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、展开丰富的幻想，把你想到的有关月亮的故事写下来，并讲给你的同学听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、收集关于月亮的诗，并背出来，看看谁背得多。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219320" y="914400"/>
            <a:ext cx="4647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2"/>
              </a:rPr>
              <a:t>“</a:t>
            </a:r>
            <a:r>
              <a:rPr b="0" lang="zh-CN" sz="40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3"/>
              </a:rPr>
              <a:t>我”（舅舅）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371600" y="2514600"/>
            <a:ext cx="4572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4"/>
              </a:rPr>
              <a:t>诗       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371600" y="4191120"/>
            <a:ext cx="3657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ae4828"/>
                </a:solidFill>
                <a:uFillTx/>
                <a:latin typeface="Times New Roman"/>
                <a:ea typeface="楷体_GB2312"/>
                <a:hlinkClick r:id="rId5"/>
              </a:rPr>
              <a:t>小    外    甥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029200" y="1447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952880" y="1447920"/>
            <a:ext cx="39625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自学要求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、选择一位人物眼中的月亮，读一读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、说一说，           眼中的月亮是                            ，因为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、先自说，再小组交流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6553080" y="3276720"/>
            <a:ext cx="91440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5715000" y="3657600"/>
            <a:ext cx="19810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5105520" y="4114800"/>
            <a:ext cx="31240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685800" y="6553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4f3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e482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e482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331-F9A6-4BB7-89B4-36665B3A3C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6"/>
          <p:cNvSpPr/>
          <p:nvPr/>
        </p:nvSpPr>
        <p:spPr>
          <a:xfrm>
            <a:off x="250920" y="9079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隶书"/>
              </a:rPr>
              <a:t>月亮出来了，安详地吐洒着它的清辉。月光洒落在长江里，江面被照亮了，流动的江水中，有千点万点晶莹闪烁的光斑在跳动。江两岸，芦荡、树林和山峰的黑色剪影，在江天交界处隐隐约约地伸展着，起伏着。月光为它们镀上了一层银色的花边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隶书"/>
              </a:rPr>
              <a:t>……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9" name="Picture 2" descr="D:\小菜\望月\2004928211224691.gif"/>
          <p:cNvPicPr/>
          <p:nvPr/>
        </p:nvPicPr>
        <p:blipFill>
          <a:blip r:embed="rId2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>
            <a:off x="8610480" y="594360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4f3d9"/>
          </a:solidFill>
          <a:ln cap="sq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523880" y="38088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月亮出来了，安详地吐洒着它的清辉。月光洒落在长江里，江面被照亮了，流动的江水中，有千点万点晶莹闪烁的光斑在跳动。江两岸，芦荡、树林和山峰的黑色剪影，在江天交界处隐隐约约地伸展着，起伏着。月光为它们镀上了一层银色的花边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2" name="Moutain Stream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752480" y="4572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230720" y="9144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像眼睛，天的眼睛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68360" y="16495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这是明亮的眼睛。它很喜欢看我们的大地，所以每一次闭上了，又忍不住偷偷睁开，每个月都要圆圆地睁大一次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……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834080" y="441972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月亮困了，睁不开眼睛了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260360" y="54450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66"/>
                </a:solidFill>
                <a:latin typeface="黑体"/>
                <a:ea typeface="黑体"/>
              </a:rPr>
              <a:t>小外甥眼中的月亮像（              ）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1[1].mp3" descr=""/>
          <p:cNvPicPr/>
          <p:nvPr/>
        </p:nvPicPr>
        <p:blipFill>
          <a:blip r:embed="rId2"/>
          <a:stretch/>
        </p:blipFill>
        <p:spPr>
          <a:xfrm>
            <a:off x="88390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C:\WINDOWS\Desktop\新建文件夹 (2)\望月\2004928211120455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C:\WINDOWS\Desktop\新建文件夹 (2)\望月\U68P2T78D933F1070DT20040503200508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C:\WINDOWS\Desktop\新建文件夹 (2)\望月\tsuki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C:\WINDOWS\Desktop\新建文件夹 (2)\望月\insky008_2003795850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C:\WINDOWS\Desktop\新建文件夹 (2)\望月\eo050406958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C:\WINDOWS\Desktop\新建文件夹 (2)\望月\200492821848610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C:\WINDOWS\Desktop\新建文件夹 (2)\望月\2004928211236227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4" descr="C:\WINDOWS\Desktop\新建文件夹 (2)\望月\2004928211136376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5" descr="C:\WINDOWS\Desktop\新建文件夹 (2)\望月\20049282117235.jpg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6" descr="C:\WINDOWS\Desktop\新建文件夹 (2)\望月\eo050406955.jpg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10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150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20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2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30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35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WINDOWS\Desktop\新建文件夹 (2)\望月\1782916192673841.gif"/>
          <p:cNvPicPr/>
          <p:nvPr/>
        </p:nvPicPr>
        <p:blipFill>
          <a:blip r:embed="rId2"/>
          <a:stretch/>
        </p:blipFill>
        <p:spPr>
          <a:xfrm>
            <a:off x="0" y="2209680"/>
            <a:ext cx="243828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WINDOWS\Desktop\新建文件夹 (2)\望月\2004631843632200.gif"/>
          <p:cNvPicPr/>
          <p:nvPr/>
        </p:nvPicPr>
        <p:blipFill>
          <a:blip r:embed="rId3"/>
          <a:stretch/>
        </p:blipFill>
        <p:spPr>
          <a:xfrm>
            <a:off x="3505320" y="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WINDOWS\Desktop\新建文件夹 (2)\望月\2004928211120455.jpg"/>
          <p:cNvPicPr/>
          <p:nvPr/>
        </p:nvPicPr>
        <p:blipFill>
          <a:blip r:embed="rId4"/>
          <a:stretch/>
        </p:blipFill>
        <p:spPr>
          <a:xfrm>
            <a:off x="3505320" y="22096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WINDOWS\Desktop\新建文件夹 (2)\望月\2004928211136376.jpg"/>
          <p:cNvPicPr/>
          <p:nvPr/>
        </p:nvPicPr>
        <p:blipFill>
          <a:blip r:embed="rId5"/>
          <a:stretch/>
        </p:blipFill>
        <p:spPr>
          <a:xfrm>
            <a:off x="6705720" y="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WINDOWS\Desktop\新建文件夹 (2)\望月\20049282117235.jpg"/>
          <p:cNvPicPr/>
          <p:nvPr/>
        </p:nvPicPr>
        <p:blipFill>
          <a:blip r:embed="rId6"/>
          <a:stretch/>
        </p:blipFill>
        <p:spPr>
          <a:xfrm>
            <a:off x="6629400" y="2209680"/>
            <a:ext cx="2209680" cy="1954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:\WINDOWS\Desktop\新建文件夹 (2)\望月\423420.jpg"/>
          <p:cNvPicPr/>
          <p:nvPr/>
        </p:nvPicPr>
        <p:blipFill>
          <a:blip r:embed="rId7"/>
          <a:stretch/>
        </p:blipFill>
        <p:spPr>
          <a:xfrm>
            <a:off x="5181480" y="4724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WINDOWS\Desktop\新建文件夹 (2)\望月\eo050406958.jpg"/>
          <p:cNvPicPr/>
          <p:nvPr/>
        </p:nvPicPr>
        <p:blipFill>
          <a:blip r:embed="rId8"/>
          <a:stretch/>
        </p:blipFill>
        <p:spPr>
          <a:xfrm>
            <a:off x="1219320" y="4648320"/>
            <a:ext cx="293364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C:\WINDOWS\Desktop\新建文件夹 (2)\望月\eo050406955.jpg"/>
          <p:cNvPicPr/>
          <p:nvPr/>
        </p:nvPicPr>
        <p:blipFill>
          <a:blip r:embed="rId9"/>
          <a:stretch/>
        </p:blipFill>
        <p:spPr>
          <a:xfrm>
            <a:off x="228600" y="0"/>
            <a:ext cx="251460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2"/>
          <p:cNvSpPr/>
          <p:nvPr/>
        </p:nvSpPr>
        <p:spPr>
          <a:xfrm>
            <a:off x="0" y="4191120"/>
            <a:ext cx="9144000" cy="703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我眼中的月亮像（                          ）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8686800" y="64008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4f3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60360" y="692280"/>
            <a:ext cx="7543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少时不识月，呼作白玉盘。    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明月几时有，把酒问青天。 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床前明月光，疑是地上霜。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野旷天低树，江清月近人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月落乌啼霜满天，江枫渔火对愁眠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峨眉山月半轮秋，影入平羌江水流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057400" y="45720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Times New Roman"/>
              </a:rPr>
              <a:t>……</a:t>
            </a:r>
            <a:endParaRPr b="0" lang="en-US" sz="9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3" name="1[1]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5640" y="587700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e4828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ttp://www.eeppt.com/moban/kejian/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2:37:2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51:19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