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8.jpeg" ContentType="image/jpeg"/>
  <Override PartName="/ppt/media/image13.jpeg" ContentType="image/jpeg"/>
  <Override PartName="/ppt/media/image11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F902-1913-42EC-B1E9-2BCEEA0D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F848-B027-4611-BEBF-504EC8EA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E2C9-4B5E-48BB-9CF0-5A2917F4B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3B12-5384-4F40-96EC-7EC142326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DB50-FEED-40AC-A7AE-6D156B54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3DB0-F2F0-42D6-A26E-B4FE276B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BC12-AFF4-4062-B603-378A3A82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B31B-5382-431E-99A8-580B1263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E819-13D4-499A-AEE1-D7350477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A0C5-6BE8-43AF-AA92-BCFDA77D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F679-A47A-45AF-A874-5531D73E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C078-3068-4056-86B9-B589B6DB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5087-C5A2-48A8-8EE1-DE1F34B9A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hyperlink" Target="285,12,&#24187;&#28783;&#29255; 12" TargetMode="External"/><Relationship Id="rId4" Type="http://schemas.openxmlformats.org/officeDocument/2006/relationships/hyperlink" Target="285,12,&#24187;&#28783;&#29255; 12" TargetMode="External"/><Relationship Id="rId5" Type="http://schemas.openxmlformats.org/officeDocument/2006/relationships/hyperlink" Target="285,12,&#24187;&#28783;&#29255; 12" TargetMode="External"/><Relationship Id="rId6" Type="http://schemas.openxmlformats.org/officeDocument/2006/relationships/hyperlink" Target="324,14,&#24187;&#28783;&#29255; 14" TargetMode="Externa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049(1)"/>
          <p:cNvPicPr/>
          <p:nvPr/>
        </p:nvPicPr>
        <p:blipFill>
          <a:blip r:embed="rId1"/>
          <a:srcRect l="0" t="4688" r="413" b="93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jsjsc_26"/>
          <p:cNvPicPr/>
          <p:nvPr/>
        </p:nvPicPr>
        <p:blipFill>
          <a:blip r:embed="rId2"/>
          <a:stretch/>
        </p:blipFill>
        <p:spPr>
          <a:xfrm>
            <a:off x="6553080" y="4433760"/>
            <a:ext cx="2590920" cy="2424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81480" y="2438280"/>
            <a:ext cx="24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《我最好的老师》课件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1" descr="1179121448_b"/>
          <p:cNvPicPr/>
          <p:nvPr/>
        </p:nvPicPr>
        <p:blipFill>
          <a:blip r:embed="rId1">
            <a:lum bright="30000"/>
          </a:blip>
          <a:srcRect l="2512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990720" y="12193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2" descr="1179121448_b"/>
          <p:cNvPicPr/>
          <p:nvPr/>
        </p:nvPicPr>
        <p:blipFill>
          <a:blip r:embed="rId2">
            <a:lum bright="30000"/>
          </a:blip>
          <a:srcRect l="2512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3"/>
          <p:cNvSpPr/>
          <p:nvPr/>
        </p:nvSpPr>
        <p:spPr>
          <a:xfrm>
            <a:off x="533520" y="380880"/>
            <a:ext cx="861048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（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）使我们对学习产生了浓厚的兴趣，“常常会在课后花好几个小时甚至几天的时间去思考和论证”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）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使我们“逐渐增长了见识，也逐渐懂得如何去接近真理”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）使我们明白了一个道理，“不要迷信书本，也不要迷信权威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4"/>
          <p:cNvSpPr/>
          <p:nvPr/>
        </p:nvSpPr>
        <p:spPr>
          <a:xfrm>
            <a:off x="8305920" y="6553080"/>
            <a:ext cx="533160" cy="304920"/>
          </a:xfrm>
          <a:custGeom>
            <a:avLst/>
            <a:gdLst>
              <a:gd name="textAreaLeft" fmla="*/ 19080 w 533160"/>
              <a:gd name="textAreaRight" fmla="*/ 514440 w 53316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99" y="1350"/>
                </a:lnTo>
                <a:lnTo>
                  <a:pt x="1350" y="135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99" y="20250"/>
                </a:lnTo>
                <a:lnTo>
                  <a:pt x="36399" y="135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399" y="2025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49" h="21600">
                <a:moveTo>
                  <a:pt x="11831" y="3756"/>
                </a:moveTo>
                <a:lnTo>
                  <a:pt x="25918" y="10800"/>
                </a:lnTo>
                <a:lnTo>
                  <a:pt x="11831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4" descr="pp200703011131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0" y="609480"/>
            <a:ext cx="8763120" cy="764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      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怀特森先生让我还有我的同学明白了一个重要的道理：不要迷信书本，也不要迷信权威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28600" y="3048120"/>
            <a:ext cx="8534520" cy="1312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书本、权威，代表的是已有的、被大多数人认可和接受的知识。句子中的两个“不要迷信”强调的是一种怀疑的精神，强调要通过独立的思考去获取知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5"/>
          <p:cNvSpPr/>
          <p:nvPr/>
        </p:nvSpPr>
        <p:spPr>
          <a:xfrm>
            <a:off x="8305920" y="6553080"/>
            <a:ext cx="533160" cy="304920"/>
          </a:xfrm>
          <a:custGeom>
            <a:avLst/>
            <a:gdLst>
              <a:gd name="textAreaLeft" fmla="*/ 19080 w 533160"/>
              <a:gd name="textAreaRight" fmla="*/ 514440 w 53316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99" y="1350"/>
                </a:lnTo>
                <a:lnTo>
                  <a:pt x="1350" y="135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99" y="20250"/>
                </a:lnTo>
                <a:lnTo>
                  <a:pt x="36399" y="135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399" y="2025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49" h="21600">
                <a:moveTo>
                  <a:pt x="11831" y="3756"/>
                </a:moveTo>
                <a:lnTo>
                  <a:pt x="25918" y="10800"/>
                </a:lnTo>
                <a:lnTo>
                  <a:pt x="11831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7" descr="pp200703011131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990720" y="45720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     “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他说，每一个人都应该具有独立思考和独立判断事物真伪的能力，同时也应该具有怀疑的能力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914400" y="3276720"/>
            <a:ext cx="7467480" cy="70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这是怀特森老师通过这一堂关于“猫猬兽”的课，想要告诉学生的一个道理。一个人不能人云亦云，不能轻信老师和专家的说法，要敢于怀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8"/>
          <p:cNvSpPr/>
          <p:nvPr/>
        </p:nvSpPr>
        <p:spPr>
          <a:xfrm>
            <a:off x="4653360" y="259092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pp200703011131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990720" y="6094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　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从此，科学课对于我们来说就成了一种“冒险”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838080" y="2514600"/>
            <a:ext cx="76201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华文新魏"/>
              </a:rPr>
              <a:t>        </a:t>
            </a:r>
            <a:r>
              <a:rPr b="0" lang="zh-CN" sz="3600" spc="-1" strike="noStrike">
                <a:solidFill>
                  <a:srgbClr val="993300"/>
                </a:solidFill>
                <a:latin typeface="Arial"/>
                <a:ea typeface="华文新魏"/>
              </a:rPr>
              <a:t>这里的“冒险”是指科学课上富有挑战性的紧张刺激的学习过程，学生要时刻动脑对事物进行独立的思考、独立的判断，要有怀疑，也要有实证，学习成了一个真实的复杂的认识过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8305920" y="6553080"/>
            <a:ext cx="533160" cy="304920"/>
          </a:xfrm>
          <a:custGeom>
            <a:avLst/>
            <a:gdLst>
              <a:gd name="textAreaLeft" fmla="*/ 19080 w 533160"/>
              <a:gd name="textAreaRight" fmla="*/ 514440 w 53316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99" y="1350"/>
                </a:lnTo>
                <a:lnTo>
                  <a:pt x="1350" y="135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99" y="20250"/>
                </a:lnTo>
                <a:lnTo>
                  <a:pt x="36399" y="135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399" y="2025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49" h="21600">
                <a:moveTo>
                  <a:pt x="11831" y="3756"/>
                </a:moveTo>
                <a:lnTo>
                  <a:pt x="25918" y="10800"/>
                </a:lnTo>
                <a:lnTo>
                  <a:pt x="11831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pp200703011131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53352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③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然而，正是在一个个饶有趣味又充满刺激的过程中，我们逐渐增长了见识，也逐渐懂得了如何去接近真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09480" y="2266920"/>
            <a:ext cx="80773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华文新魏"/>
              </a:rPr>
              <a:t>        </a:t>
            </a:r>
            <a:r>
              <a:rPr b="0" lang="zh-CN" sz="3600" spc="-1" strike="noStrike">
                <a:solidFill>
                  <a:srgbClr val="993300"/>
                </a:solidFill>
                <a:latin typeface="Arial"/>
                <a:ea typeface="华文新魏"/>
              </a:rPr>
              <a:t>这一个个“饶有趣味又充满刺激的过程”是怀特森老师创造和营造的，也就是在科学课上不断质疑，不断思考，不断论证的过程。在这样的学习中，我们不仅学到了知识，增长了见识，更重要的是“懂得了如何去接近真理”，那就是要善于独立思考，独立判断，要有怀疑的精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8305920" y="6553080"/>
            <a:ext cx="533160" cy="304920"/>
          </a:xfrm>
          <a:custGeom>
            <a:avLst/>
            <a:gdLst>
              <a:gd name="textAreaLeft" fmla="*/ 19080 w 533160"/>
              <a:gd name="textAreaRight" fmla="*/ 514440 w 53316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99" y="1350"/>
                </a:lnTo>
                <a:lnTo>
                  <a:pt x="1350" y="135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99" y="20250"/>
                </a:lnTo>
                <a:lnTo>
                  <a:pt x="36399" y="135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399" y="2025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49" h="21600">
                <a:moveTo>
                  <a:pt x="11831" y="3756"/>
                </a:moveTo>
                <a:lnTo>
                  <a:pt x="25918" y="10800"/>
                </a:lnTo>
                <a:lnTo>
                  <a:pt x="11831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4" descr="722051f40cf4a57b100b2e955584e3d7-o"/>
          <p:cNvPicPr/>
          <p:nvPr/>
        </p:nvPicPr>
        <p:blipFill>
          <a:blip r:embed="rId1">
            <a:lum bright="24000"/>
          </a:blip>
          <a:srcRect l="0" t="12002" r="2003" b="1200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53352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0" y="0"/>
            <a:ext cx="9144000" cy="3694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蜜蜂并不是靠翅膀振动发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蜜蜂发声靠的是翅膀振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个被列入我国小学教材的生物“常识”，被一位名叫聂利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岁小学生用实验推翻。聂利为此撰写的论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蜜蜂并不是靠振动翅膀发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荣获全国青少年科技创新大赛银奖和高士其科普专项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聂利的发现过程并不复杂：她先是偶然发现翅膀不震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或被剪下的双翅）的蜜蜂仍然嗡嗡叫个不停，然后用放大镜观察了一个多月，终于找到了蜜蜂的发声器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B22C-01EA-4936-B24C-BF5035FCEC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105_uPRau6FR220k"/>
          <p:cNvPicPr/>
          <p:nvPr/>
        </p:nvPicPr>
        <p:blipFill>
          <a:blip r:embed="rId1">
            <a:lum bright="42000"/>
          </a:blip>
          <a:srcRect l="3334" t="0" r="0" b="1888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457200" y="91440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cc0066"/>
                </a:solidFill>
                <a:latin typeface="Arial"/>
              </a:rPr>
              <a:t>科学需要怀疑，需要“冒险”，需要挑战，我们每一个人都应该具有独立思考、独立判断能力和科学怀疑的精神。只有这样我们才会拥有善于发现、探求真知的能力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pic015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8600" y="640080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5"/>
          <p:cNvSpPr/>
          <p:nvPr/>
        </p:nvSpPr>
        <p:spPr>
          <a:xfrm>
            <a:off x="2362320" y="28954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6089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049(1)"/>
          <p:cNvPicPr/>
          <p:nvPr/>
        </p:nvPicPr>
        <p:blipFill>
          <a:blip r:embed="rId1"/>
          <a:srcRect l="0" t="4688" r="413" b="93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304920" y="1981080"/>
            <a:ext cx="854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把课文读正确，读通顺，读流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边读边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主要讲了一件什么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”最好的老师是一位怎样的老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301680" y="6858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自学提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4" descr="049(1)"/>
          <p:cNvPicPr/>
          <p:nvPr/>
        </p:nvPicPr>
        <p:blipFill>
          <a:blip r:embed="rId1"/>
          <a:srcRect l="0" t="4688" r="413" b="9375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5" descr="jsjsc_26"/>
          <p:cNvPicPr/>
          <p:nvPr/>
        </p:nvPicPr>
        <p:blipFill>
          <a:blip r:embed="rId2"/>
          <a:stretch/>
        </p:blipFill>
        <p:spPr>
          <a:xfrm>
            <a:off x="0" y="4433760"/>
            <a:ext cx="2590920" cy="24242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1"/>
          <p:cNvSpPr/>
          <p:nvPr/>
        </p:nvSpPr>
        <p:spPr>
          <a:xfrm>
            <a:off x="0" y="1981080"/>
            <a:ext cx="891540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编造        </a:t>
            </a:r>
            <a:r>
              <a:rPr b="1" lang="zh-CN" sz="4400" spc="-1" strike="noStrike">
                <a:solidFill>
                  <a:srgbClr val="cc0066"/>
                </a:solidFill>
                <a:latin typeface="Arial"/>
              </a:rPr>
              <a:t>破绽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强调       教训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驳倒        论证       权威       糊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</a:rPr>
              <a:t>出人意料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cc0066"/>
                </a:solidFill>
                <a:latin typeface="Arial"/>
              </a:rPr>
              <a:t>目瞪口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cc0066"/>
                </a:solidFill>
                <a:latin typeface="Arial"/>
              </a:rPr>
              <a:t>饶有趣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zh-CN" sz="4400" spc="-1" strike="noStrike">
                <a:solidFill>
                  <a:srgbClr val="cc0066"/>
                </a:solidFill>
                <a:latin typeface="Arial"/>
              </a:rPr>
              <a:t>侃侃而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2"/>
          <p:cNvSpPr/>
          <p:nvPr/>
        </p:nvSpPr>
        <p:spPr>
          <a:xfrm>
            <a:off x="301680" y="6858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词语小盘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40_KJEbcEkIvJJm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出人意料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超出人们的意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侃侃而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理直气壮、从容不迫地说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目瞪口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形容因吃惊或害怕而发愣的样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破绽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比喻说话做事时露出的漏洞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饶有趣味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饶：丰富，多；指很有趣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2" descr="063ck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MCj02389810000[1]"/>
          <p:cNvPicPr/>
          <p:nvPr/>
        </p:nvPicPr>
        <p:blipFill>
          <a:blip r:embed="rId2"/>
          <a:stretch/>
        </p:blipFill>
        <p:spPr>
          <a:xfrm>
            <a:off x="7086600" y="5410080"/>
            <a:ext cx="1798560" cy="12542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1219320" y="0"/>
            <a:ext cx="716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课文主要讲了一件什么事？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0" descr="20049159866"/>
          <p:cNvPicPr/>
          <p:nvPr/>
        </p:nvPicPr>
        <p:blipFill>
          <a:blip r:embed="rId3"/>
          <a:stretch/>
        </p:blipFill>
        <p:spPr>
          <a:xfrm>
            <a:off x="228600" y="152280"/>
            <a:ext cx="1523880" cy="24386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3"/>
          <p:cNvSpPr/>
          <p:nvPr/>
        </p:nvSpPr>
        <p:spPr>
          <a:xfrm>
            <a:off x="609480" y="1523880"/>
            <a:ext cx="8534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课文讲述了</a:t>
            </a:r>
            <a:r>
              <a:rPr b="1" lang="zh-CN" sz="4400" spc="-1" strike="noStrike">
                <a:solidFill>
                  <a:srgbClr val="6600ff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我</a:t>
            </a:r>
            <a:r>
              <a:rPr b="1" lang="zh-CN" sz="4400" spc="-1" strike="noStrike">
                <a:solidFill>
                  <a:srgbClr val="6600ff"/>
                </a:solidFill>
                <a:latin typeface="Arial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 时   老师      的故事。他是一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的人，      独特，  他用        方法，让我还有我的同学明白了一个重要的道理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5943600" y="213372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6"/>
          <p:cNvSpPr/>
          <p:nvPr/>
        </p:nvSpPr>
        <p:spPr>
          <a:xfrm>
            <a:off x="7772400" y="21337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7"/>
          <p:cNvSpPr/>
          <p:nvPr/>
        </p:nvSpPr>
        <p:spPr>
          <a:xfrm>
            <a:off x="1600200" y="281952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8"/>
          <p:cNvSpPr/>
          <p:nvPr/>
        </p:nvSpPr>
        <p:spPr>
          <a:xfrm>
            <a:off x="914400" y="342900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9"/>
          <p:cNvSpPr/>
          <p:nvPr/>
        </p:nvSpPr>
        <p:spPr>
          <a:xfrm>
            <a:off x="4419720" y="3581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0"/>
          <p:cNvSpPr/>
          <p:nvPr/>
        </p:nvSpPr>
        <p:spPr>
          <a:xfrm>
            <a:off x="1905120" y="4191120"/>
            <a:ext cx="19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1"/>
          <p:cNvSpPr/>
          <p:nvPr/>
        </p:nvSpPr>
        <p:spPr>
          <a:xfrm>
            <a:off x="762120" y="5715000"/>
            <a:ext cx="6019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3"/>
          <p:cNvSpPr/>
          <p:nvPr/>
        </p:nvSpPr>
        <p:spPr>
          <a:xfrm>
            <a:off x="6158520" y="1546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六年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4"/>
          <p:cNvSpPr/>
          <p:nvPr/>
        </p:nvSpPr>
        <p:spPr>
          <a:xfrm>
            <a:off x="7835040" y="1546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科学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5"/>
          <p:cNvSpPr/>
          <p:nvPr/>
        </p:nvSpPr>
        <p:spPr>
          <a:xfrm>
            <a:off x="2033640" y="23004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怀特森先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6"/>
          <p:cNvSpPr/>
          <p:nvPr/>
        </p:nvSpPr>
        <p:spPr>
          <a:xfrm>
            <a:off x="1352880" y="2841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很有个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7"/>
          <p:cNvSpPr/>
          <p:nvPr/>
        </p:nvSpPr>
        <p:spPr>
          <a:xfrm>
            <a:off x="4781880" y="2909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教学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8"/>
          <p:cNvSpPr/>
          <p:nvPr/>
        </p:nvSpPr>
        <p:spPr>
          <a:xfrm>
            <a:off x="2419560" y="3672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出乎意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9"/>
          <p:cNvSpPr/>
          <p:nvPr/>
        </p:nvSpPr>
        <p:spPr>
          <a:xfrm>
            <a:off x="3966480" y="5010120"/>
            <a:ext cx="5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不迷信书本、也不要不迷信权威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pp200703011131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28600" y="23623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）一次测验，我们按照课堂笔记回答的每一道题，都被画上了红叉叉，我们都得了零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）老师讲课的信息都是错误的，我们做的课堂笔记也是错误的信息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）课堂上传看的猫猬兽的头盖骨也只是普通的猫的颅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）希望我们多去发现问题，大胆提出来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）科学课对于我们来说就成了一种“冒险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09480" y="38088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怀特森先生是一位怎样的老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609480" y="106668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cc0066"/>
                </a:solidFill>
                <a:latin typeface="宋体"/>
              </a:rPr>
              <a:t>他是一个很有个性的人</a:t>
            </a:r>
            <a:r>
              <a:rPr b="1" lang="en-US" sz="3200" spc="-1" strike="noStrike">
                <a:solidFill>
                  <a:srgbClr val="cc0066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cc0066"/>
                </a:solidFill>
                <a:latin typeface="宋体"/>
              </a:rPr>
              <a:t>教学方法独特，常常有出人意料的举动</a:t>
            </a:r>
            <a:r>
              <a:rPr b="1" lang="en-US" sz="3200" spc="-1" strike="noStrike">
                <a:solidFill>
                  <a:srgbClr val="cc0066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"/>
                            </p:stCondLst>
                            <p:childTnLst>
                              <p:par>
                                <p:cTn id="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"/>
                            </p:stCondLst>
                            <p:childTnLst>
                              <p:par>
                                <p:cTn id="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"/>
                            </p:stCondLst>
                            <p:childTnLst>
                              <p:par>
                                <p:cTn id="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"/>
                            </p:stCondLst>
                            <p:childTnLst>
                              <p:par>
                                <p:cTn id="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pp200703011131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609480" y="83808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讨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04920" y="2666880"/>
            <a:ext cx="85341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果你是怀特森老师的学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面对这种种出人意料的举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你会怎么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pp200703011131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457200" y="228600"/>
            <a:ext cx="83059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宋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怀特森老师有个性，教学方法独特，常常有出人意料的举动，除了给我们带来惊讶，带来不可思议之外，对学生会有什么好处呢？快速默读课文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在书中找出相应的语句。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9T05:49:3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2:37:51Z</dcterms:modified>
  <cp:revision>13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