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627-F856-4B8F-B408-9CC01B9D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0D6-C730-4E65-926D-EAA27FB4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0C4-83B4-4595-BEB4-8321DB61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651-AE71-4B79-9F9F-FFEC24B2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0F3-88D3-40B6-8B61-840457B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228-F3B3-4D96-B2C3-9BC28988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5D1-D307-4663-84AD-EEC19CC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300-4DFB-4DB2-A95F-97FE568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54E-7B4F-49B7-9D91-B9989FE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E6-6A51-4220-A318-8AC299F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F74-4E71-414E-9149-F920FC1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D11-F1AC-41D8-A227-CFDDCF7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B70-4D72-4CBC-BA7D-9AF8693F26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五彩的世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268360" y="177336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61840" y="1484280"/>
            <a:ext cx="828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68360" y="1511280"/>
            <a:ext cx="4464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2600" y="1701720"/>
            <a:ext cx="345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小池塘》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3964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太阳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鲜红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气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弯弯的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弯弯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xiaoxiaode chuang"/>
          <p:cNvPicPr/>
          <p:nvPr/>
        </p:nvPicPr>
        <p:blipFill>
          <a:blip r:embed="rId1"/>
          <a:stretch/>
        </p:blipFill>
        <p:spPr>
          <a:xfrm>
            <a:off x="0" y="0"/>
            <a:ext cx="9144000" cy="84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弯弯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闪亮的珍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闪亮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珍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395280" y="1989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云倒映在池塘里，像一群白鹅。太阳倒映在池塘里，像一只鲜红的气球。月牙倒映在池塘里，像一只弯弯的小船。星星倒映在池塘里，像许多闪亮的珍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五彩的世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859280" y="256536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5280" y="22050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（　　）的小池塘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AAB-FBA2-4D34-863F-34F9B15E5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春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8436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春风姐姐轻轻吹了一口气，小池塘就醒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云中月亮"/>
          <p:cNvPicPr/>
          <p:nvPr/>
        </p:nvPicPr>
        <p:blipFill>
          <a:blip r:embed="rId1"/>
          <a:stretch/>
        </p:blipFill>
        <p:spPr>
          <a:xfrm>
            <a:off x="324000" y="69228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867280" y="1341360"/>
            <a:ext cx="32767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古朗月行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　　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 时 不 识 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呼 作 白 玉 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又 疑 瑶 台 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飞 在 青 云 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云中月亮"/>
          <p:cNvPicPr/>
          <p:nvPr/>
        </p:nvPicPr>
        <p:blipFill>
          <a:blip r:embed="rId1"/>
          <a:stretch/>
        </p:blipFill>
        <p:spPr>
          <a:xfrm>
            <a:off x="324000" y="69228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867280" y="1341360"/>
            <a:ext cx="32767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古朗月行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　　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 时 不 识 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呼 作 白 玉 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又 疑 瑶 台 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飞 在 青 云 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9640" y="4221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圆圆的月亮像＿＿＿＿，还像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00200" y="20574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9900"/>
                </a:solidFill>
                <a:uFillTx/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像＿＿＿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池塘里的水波一闪一闪的，像一只明亮的大眼睛。池塘边的芦苇长起来了，像长长的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池塘里的水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闪一闪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明亮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大眼睛。池塘边的芦苇长起来了，像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长长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春风姐姐轻轻吹了一口气，小池塘就醒来了。池塘里的水波一闪一闪的，像一只明亮的大眼睛。池塘边的芦苇长起来了，像长长的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aoying4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55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783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0000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云倒映在池塘里，像一群白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783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0000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云倒映在池塘里，像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群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 Box 3"/>
          <p:cNvSpPr/>
          <p:nvPr/>
        </p:nvSpPr>
        <p:spPr>
          <a:xfrm>
            <a:off x="53964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太阳倒映在池塘里，像一只鲜红的气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4:37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0:4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