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C321-5F1E-4192-830C-3CFE2D413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13089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0F91-9EE6-4081-BEF5-8C38FDD32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B238-E43A-4B23-9777-BF8A45CB5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323B-A00B-470F-9AD7-B4300F953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2C29-A336-43C6-B09C-8F3D95036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4F21-275F-48F1-89C4-C60430B33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5867-F58D-46E8-A1C6-F029F72CD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0DE4-9CF1-4623-B41E-473B0C524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22824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A4BD-7F33-4F16-A387-A810BC7EB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2C17-6F3E-458A-8AFA-89F7F7F11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6986-F0E8-4743-8F5B-78AB12962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BD31-A037-422F-A21E-E9C069FAE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36E18-45D1-4BFA-BB2C-31B40F7E99DA}" type="slidenum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5000"/>
          </a:bodyPr>
          <a:p>
            <a:pPr marL="85680" indent="-85680">
              <a:spcBef>
                <a:spcPts val="400"/>
              </a:spcBef>
              <a:buClr>
                <a:srgbClr val="66c5f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185760" indent="-71280">
              <a:spcBef>
                <a:spcPts val="400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285480" indent="-56880">
              <a:spcBef>
                <a:spcPts val="400"/>
              </a:spcBef>
              <a:buClr>
                <a:srgbClr val="a01dd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399960" indent="-56880">
              <a:spcBef>
                <a:spcPts val="400"/>
              </a:spcBef>
              <a:buClr>
                <a:srgbClr val="c0c0c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4" marL="514080" indent="-56880">
              <a:spcBef>
                <a:spcPts val="4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5" marL="514080" indent="-56880"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6" marL="514080" indent="-56880"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sucai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2480760" y="1904760"/>
            <a:ext cx="3979080" cy="3652200"/>
            <a:chOff x="2480760" y="1904760"/>
            <a:chExt cx="3979080" cy="3652200"/>
          </a:xfrm>
        </p:grpSpPr>
        <p:sp>
          <p:nvSpPr>
            <p:cNvPr id="43" name=""/>
            <p:cNvSpPr/>
            <p:nvPr/>
          </p:nvSpPr>
          <p:spPr>
            <a:xfrm>
              <a:off x="3043440" y="2204640"/>
              <a:ext cx="2921760" cy="2881080"/>
            </a:xfrm>
            <a:prstGeom prst="donut">
              <a:avLst>
                <a:gd name="adj" fmla="val 25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rot="5400000">
              <a:off x="4479120" y="2126520"/>
              <a:ext cx="1436040" cy="1462320"/>
            </a:xfrm>
            <a:custGeom>
              <a:avLst/>
              <a:gdLst/>
              <a:ahLst/>
              <a:rect l="l" t="t" r="r" b="b"/>
              <a:pathLst>
                <a:path w="1448" h="1452">
                  <a:moveTo>
                    <a:pt x="0" y="1452"/>
                  </a:moveTo>
                  <a:lnTo>
                    <a:pt x="6" y="1320"/>
                  </a:lnTo>
                  <a:lnTo>
                    <a:pt x="24" y="1190"/>
                  </a:lnTo>
                  <a:lnTo>
                    <a:pt x="52" y="1066"/>
                  </a:lnTo>
                  <a:lnTo>
                    <a:pt x="90" y="946"/>
                  </a:lnTo>
                  <a:lnTo>
                    <a:pt x="140" y="830"/>
                  </a:lnTo>
                  <a:lnTo>
                    <a:pt x="198" y="718"/>
                  </a:lnTo>
                  <a:lnTo>
                    <a:pt x="264" y="614"/>
                  </a:lnTo>
                  <a:lnTo>
                    <a:pt x="340" y="516"/>
                  </a:lnTo>
                  <a:lnTo>
                    <a:pt x="424" y="424"/>
                  </a:lnTo>
                  <a:lnTo>
                    <a:pt x="516" y="342"/>
                  </a:lnTo>
                  <a:lnTo>
                    <a:pt x="612" y="266"/>
                  </a:lnTo>
                  <a:lnTo>
                    <a:pt x="718" y="198"/>
                  </a:lnTo>
                  <a:lnTo>
                    <a:pt x="828" y="140"/>
                  </a:lnTo>
                  <a:lnTo>
                    <a:pt x="942" y="90"/>
                  </a:lnTo>
                  <a:lnTo>
                    <a:pt x="1064" y="52"/>
                  </a:lnTo>
                  <a:lnTo>
                    <a:pt x="1188" y="22"/>
                  </a:lnTo>
                  <a:lnTo>
                    <a:pt x="1316" y="6"/>
                  </a:lnTo>
                  <a:lnTo>
                    <a:pt x="1448" y="0"/>
                  </a:lnTo>
                  <a:lnTo>
                    <a:pt x="1448" y="726"/>
                  </a:lnTo>
                  <a:lnTo>
                    <a:pt x="1358" y="732"/>
                  </a:lnTo>
                  <a:lnTo>
                    <a:pt x="1270" y="748"/>
                  </a:lnTo>
                  <a:lnTo>
                    <a:pt x="1186" y="774"/>
                  </a:lnTo>
                  <a:lnTo>
                    <a:pt x="1108" y="810"/>
                  </a:lnTo>
                  <a:lnTo>
                    <a:pt x="1034" y="856"/>
                  </a:lnTo>
                  <a:lnTo>
                    <a:pt x="968" y="910"/>
                  </a:lnTo>
                  <a:lnTo>
                    <a:pt x="906" y="970"/>
                  </a:lnTo>
                  <a:lnTo>
                    <a:pt x="854" y="1038"/>
                  </a:lnTo>
                  <a:lnTo>
                    <a:pt x="808" y="1110"/>
                  </a:lnTo>
                  <a:lnTo>
                    <a:pt x="772" y="1190"/>
                  </a:lnTo>
                  <a:lnTo>
                    <a:pt x="746" y="1274"/>
                  </a:lnTo>
                  <a:lnTo>
                    <a:pt x="730" y="1360"/>
                  </a:lnTo>
                  <a:lnTo>
                    <a:pt x="724" y="1452"/>
                  </a:lnTo>
                  <a:lnTo>
                    <a:pt x="0" y="1452"/>
                  </a:lnTo>
                  <a:lnTo>
                    <a:pt x="0" y="1452"/>
                  </a:lnTo>
                  <a:close/>
                </a:path>
              </a:pathLst>
            </a:custGeom>
            <a:solidFill>
              <a:srgbClr val="ffbf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rot="7200000">
              <a:off x="4749120" y="2585520"/>
              <a:ext cx="1436400" cy="1462320"/>
            </a:xfrm>
            <a:custGeom>
              <a:avLst/>
              <a:gdLst/>
              <a:ahLst/>
              <a:rect l="l" t="t" r="r" b="b"/>
              <a:pathLst>
                <a:path w="1448" h="1452">
                  <a:moveTo>
                    <a:pt x="0" y="1452"/>
                  </a:moveTo>
                  <a:lnTo>
                    <a:pt x="6" y="1320"/>
                  </a:lnTo>
                  <a:lnTo>
                    <a:pt x="24" y="1190"/>
                  </a:lnTo>
                  <a:lnTo>
                    <a:pt x="52" y="1066"/>
                  </a:lnTo>
                  <a:lnTo>
                    <a:pt x="90" y="946"/>
                  </a:lnTo>
                  <a:lnTo>
                    <a:pt x="140" y="830"/>
                  </a:lnTo>
                  <a:lnTo>
                    <a:pt x="198" y="718"/>
                  </a:lnTo>
                  <a:lnTo>
                    <a:pt x="264" y="614"/>
                  </a:lnTo>
                  <a:lnTo>
                    <a:pt x="340" y="516"/>
                  </a:lnTo>
                  <a:lnTo>
                    <a:pt x="424" y="424"/>
                  </a:lnTo>
                  <a:lnTo>
                    <a:pt x="516" y="342"/>
                  </a:lnTo>
                  <a:lnTo>
                    <a:pt x="612" y="266"/>
                  </a:lnTo>
                  <a:lnTo>
                    <a:pt x="718" y="198"/>
                  </a:lnTo>
                  <a:lnTo>
                    <a:pt x="828" y="140"/>
                  </a:lnTo>
                  <a:lnTo>
                    <a:pt x="942" y="90"/>
                  </a:lnTo>
                  <a:lnTo>
                    <a:pt x="1064" y="52"/>
                  </a:lnTo>
                  <a:lnTo>
                    <a:pt x="1188" y="22"/>
                  </a:lnTo>
                  <a:lnTo>
                    <a:pt x="1316" y="6"/>
                  </a:lnTo>
                  <a:lnTo>
                    <a:pt x="1448" y="0"/>
                  </a:lnTo>
                  <a:lnTo>
                    <a:pt x="1448" y="726"/>
                  </a:lnTo>
                  <a:lnTo>
                    <a:pt x="1358" y="732"/>
                  </a:lnTo>
                  <a:lnTo>
                    <a:pt x="1270" y="748"/>
                  </a:lnTo>
                  <a:lnTo>
                    <a:pt x="1186" y="774"/>
                  </a:lnTo>
                  <a:lnTo>
                    <a:pt x="1108" y="810"/>
                  </a:lnTo>
                  <a:lnTo>
                    <a:pt x="1034" y="856"/>
                  </a:lnTo>
                  <a:lnTo>
                    <a:pt x="968" y="910"/>
                  </a:lnTo>
                  <a:lnTo>
                    <a:pt x="906" y="970"/>
                  </a:lnTo>
                  <a:lnTo>
                    <a:pt x="854" y="1038"/>
                  </a:lnTo>
                  <a:lnTo>
                    <a:pt x="808" y="1110"/>
                  </a:lnTo>
                  <a:lnTo>
                    <a:pt x="772" y="1190"/>
                  </a:lnTo>
                  <a:lnTo>
                    <a:pt x="746" y="1274"/>
                  </a:lnTo>
                  <a:lnTo>
                    <a:pt x="730" y="1360"/>
                  </a:lnTo>
                  <a:lnTo>
                    <a:pt x="724" y="1452"/>
                  </a:lnTo>
                  <a:lnTo>
                    <a:pt x="0" y="1452"/>
                  </a:lnTo>
                  <a:lnTo>
                    <a:pt x="0" y="1452"/>
                  </a:lnTo>
                  <a:close/>
                </a:path>
              </a:pathLst>
            </a:custGeom>
            <a:gradFill rotWithShape="0">
              <a:gsLst>
                <a:gs pos="0">
                  <a:srgbClr val="755805"/>
                </a:gs>
                <a:gs pos="100000">
                  <a:srgbClr val="ffbf0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rot="1800000">
              <a:off x="4833000" y="3588840"/>
              <a:ext cx="1233360" cy="782280"/>
            </a:xfrm>
            <a:prstGeom prst="triangle">
              <a:avLst>
                <a:gd name="adj" fmla="val 50000"/>
              </a:avLst>
            </a:prstGeom>
            <a:solidFill>
              <a:srgbClr val="4ec4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3208320" y="3579840"/>
              <a:ext cx="2516400" cy="1977120"/>
              <a:chOff x="3208320" y="3579840"/>
              <a:chExt cx="2516400" cy="1977120"/>
            </a:xfrm>
          </p:grpSpPr>
          <p:sp>
            <p:nvSpPr>
              <p:cNvPr id="48" name=""/>
              <p:cNvSpPr/>
              <p:nvPr/>
            </p:nvSpPr>
            <p:spPr>
              <a:xfrm rot="12600000">
                <a:off x="4004280" y="3849120"/>
                <a:ext cx="1458000" cy="1439640"/>
              </a:xfrm>
              <a:custGeom>
                <a:avLst/>
                <a:gdLst/>
                <a:ahLst/>
                <a:rect l="l" t="t" r="r" b="b"/>
                <a:pathLst>
                  <a:path w="1448" h="1452">
                    <a:moveTo>
                      <a:pt x="0" y="1452"/>
                    </a:moveTo>
                    <a:lnTo>
                      <a:pt x="6" y="1320"/>
                    </a:lnTo>
                    <a:lnTo>
                      <a:pt x="24" y="1190"/>
                    </a:lnTo>
                    <a:lnTo>
                      <a:pt x="52" y="1066"/>
                    </a:lnTo>
                    <a:lnTo>
                      <a:pt x="90" y="946"/>
                    </a:lnTo>
                    <a:lnTo>
                      <a:pt x="140" y="830"/>
                    </a:lnTo>
                    <a:lnTo>
                      <a:pt x="198" y="718"/>
                    </a:lnTo>
                    <a:lnTo>
                      <a:pt x="264" y="614"/>
                    </a:lnTo>
                    <a:lnTo>
                      <a:pt x="340" y="516"/>
                    </a:lnTo>
                    <a:lnTo>
                      <a:pt x="424" y="424"/>
                    </a:lnTo>
                    <a:lnTo>
                      <a:pt x="516" y="342"/>
                    </a:lnTo>
                    <a:lnTo>
                      <a:pt x="612" y="266"/>
                    </a:lnTo>
                    <a:lnTo>
                      <a:pt x="718" y="198"/>
                    </a:lnTo>
                    <a:lnTo>
                      <a:pt x="828" y="140"/>
                    </a:lnTo>
                    <a:lnTo>
                      <a:pt x="942" y="90"/>
                    </a:lnTo>
                    <a:lnTo>
                      <a:pt x="1064" y="52"/>
                    </a:lnTo>
                    <a:lnTo>
                      <a:pt x="1188" y="22"/>
                    </a:lnTo>
                    <a:lnTo>
                      <a:pt x="1316" y="6"/>
                    </a:lnTo>
                    <a:lnTo>
                      <a:pt x="1448" y="0"/>
                    </a:lnTo>
                    <a:lnTo>
                      <a:pt x="1448" y="726"/>
                    </a:lnTo>
                    <a:lnTo>
                      <a:pt x="1358" y="732"/>
                    </a:lnTo>
                    <a:lnTo>
                      <a:pt x="1270" y="748"/>
                    </a:lnTo>
                    <a:lnTo>
                      <a:pt x="1186" y="774"/>
                    </a:lnTo>
                    <a:lnTo>
                      <a:pt x="1108" y="810"/>
                    </a:lnTo>
                    <a:lnTo>
                      <a:pt x="1034" y="856"/>
                    </a:lnTo>
                    <a:lnTo>
                      <a:pt x="968" y="910"/>
                    </a:lnTo>
                    <a:lnTo>
                      <a:pt x="906" y="970"/>
                    </a:lnTo>
                    <a:lnTo>
                      <a:pt x="854" y="1038"/>
                    </a:lnTo>
                    <a:lnTo>
                      <a:pt x="808" y="1110"/>
                    </a:lnTo>
                    <a:lnTo>
                      <a:pt x="772" y="1190"/>
                    </a:lnTo>
                    <a:lnTo>
                      <a:pt x="746" y="1274"/>
                    </a:lnTo>
                    <a:lnTo>
                      <a:pt x="730" y="1360"/>
                    </a:lnTo>
                    <a:lnTo>
                      <a:pt x="724" y="1452"/>
                    </a:lnTo>
                    <a:lnTo>
                      <a:pt x="0" y="1452"/>
                    </a:lnTo>
                    <a:lnTo>
                      <a:pt x="0" y="1452"/>
                    </a:lnTo>
                    <a:close/>
                  </a:path>
                </a:pathLst>
              </a:custGeom>
              <a:solidFill>
                <a:srgbClr val="4ec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4400000">
                <a:off x="3481560" y="3836160"/>
                <a:ext cx="1436040" cy="1461240"/>
              </a:xfrm>
              <a:custGeom>
                <a:avLst/>
                <a:gdLst/>
                <a:ahLst/>
                <a:rect l="l" t="t" r="r" b="b"/>
                <a:pathLst>
                  <a:path w="1448" h="1452">
                    <a:moveTo>
                      <a:pt x="0" y="1452"/>
                    </a:moveTo>
                    <a:lnTo>
                      <a:pt x="6" y="1320"/>
                    </a:lnTo>
                    <a:lnTo>
                      <a:pt x="24" y="1190"/>
                    </a:lnTo>
                    <a:lnTo>
                      <a:pt x="52" y="1066"/>
                    </a:lnTo>
                    <a:lnTo>
                      <a:pt x="90" y="946"/>
                    </a:lnTo>
                    <a:lnTo>
                      <a:pt x="140" y="830"/>
                    </a:lnTo>
                    <a:lnTo>
                      <a:pt x="198" y="718"/>
                    </a:lnTo>
                    <a:lnTo>
                      <a:pt x="264" y="614"/>
                    </a:lnTo>
                    <a:lnTo>
                      <a:pt x="340" y="516"/>
                    </a:lnTo>
                    <a:lnTo>
                      <a:pt x="424" y="424"/>
                    </a:lnTo>
                    <a:lnTo>
                      <a:pt x="516" y="342"/>
                    </a:lnTo>
                    <a:lnTo>
                      <a:pt x="612" y="266"/>
                    </a:lnTo>
                    <a:lnTo>
                      <a:pt x="718" y="198"/>
                    </a:lnTo>
                    <a:lnTo>
                      <a:pt x="828" y="140"/>
                    </a:lnTo>
                    <a:lnTo>
                      <a:pt x="942" y="90"/>
                    </a:lnTo>
                    <a:lnTo>
                      <a:pt x="1064" y="52"/>
                    </a:lnTo>
                    <a:lnTo>
                      <a:pt x="1188" y="22"/>
                    </a:lnTo>
                    <a:lnTo>
                      <a:pt x="1316" y="6"/>
                    </a:lnTo>
                    <a:lnTo>
                      <a:pt x="1448" y="0"/>
                    </a:lnTo>
                    <a:lnTo>
                      <a:pt x="1448" y="726"/>
                    </a:lnTo>
                    <a:lnTo>
                      <a:pt x="1358" y="732"/>
                    </a:lnTo>
                    <a:lnTo>
                      <a:pt x="1270" y="748"/>
                    </a:lnTo>
                    <a:lnTo>
                      <a:pt x="1186" y="774"/>
                    </a:lnTo>
                    <a:lnTo>
                      <a:pt x="1108" y="810"/>
                    </a:lnTo>
                    <a:lnTo>
                      <a:pt x="1034" y="856"/>
                    </a:lnTo>
                    <a:lnTo>
                      <a:pt x="968" y="910"/>
                    </a:lnTo>
                    <a:lnTo>
                      <a:pt x="906" y="970"/>
                    </a:lnTo>
                    <a:lnTo>
                      <a:pt x="854" y="1038"/>
                    </a:lnTo>
                    <a:lnTo>
                      <a:pt x="808" y="1110"/>
                    </a:lnTo>
                    <a:lnTo>
                      <a:pt x="772" y="1190"/>
                    </a:lnTo>
                    <a:lnTo>
                      <a:pt x="746" y="1274"/>
                    </a:lnTo>
                    <a:lnTo>
                      <a:pt x="730" y="1360"/>
                    </a:lnTo>
                    <a:lnTo>
                      <a:pt x="724" y="1452"/>
                    </a:lnTo>
                    <a:lnTo>
                      <a:pt x="0" y="1452"/>
                    </a:lnTo>
                    <a:lnTo>
                      <a:pt x="0" y="14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ec44e"/>
                  </a:gs>
                  <a:gs pos="100000">
                    <a:srgbClr val="235a2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" name=""/>
            <p:cNvSpPr/>
            <p:nvPr/>
          </p:nvSpPr>
          <p:spPr>
            <a:xfrm rot="9000000">
              <a:off x="2971800" y="3849120"/>
              <a:ext cx="1233360" cy="699840"/>
            </a:xfrm>
            <a:prstGeom prst="triangle">
              <a:avLst>
                <a:gd name="adj" fmla="val 50000"/>
              </a:avLst>
            </a:prstGeom>
            <a:solidFill>
              <a:srgbClr val="9aa1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" name=""/>
            <p:cNvGrpSpPr/>
            <p:nvPr/>
          </p:nvGrpSpPr>
          <p:grpSpPr>
            <a:xfrm>
              <a:off x="2480760" y="2142720"/>
              <a:ext cx="1987200" cy="2166120"/>
              <a:chOff x="2480760" y="2142720"/>
              <a:chExt cx="1987200" cy="2166120"/>
            </a:xfrm>
          </p:grpSpPr>
          <p:sp>
            <p:nvSpPr>
              <p:cNvPr id="52" name=""/>
              <p:cNvSpPr/>
              <p:nvPr/>
            </p:nvSpPr>
            <p:spPr>
              <a:xfrm rot="19800000">
                <a:off x="2743200" y="2599920"/>
                <a:ext cx="1458000" cy="1440720"/>
              </a:xfrm>
              <a:custGeom>
                <a:avLst/>
                <a:gdLst/>
                <a:ahLst/>
                <a:rect l="l" t="t" r="r" b="b"/>
                <a:pathLst>
                  <a:path w="1448" h="1452">
                    <a:moveTo>
                      <a:pt x="0" y="1452"/>
                    </a:moveTo>
                    <a:lnTo>
                      <a:pt x="6" y="1320"/>
                    </a:lnTo>
                    <a:lnTo>
                      <a:pt x="24" y="1190"/>
                    </a:lnTo>
                    <a:lnTo>
                      <a:pt x="52" y="1066"/>
                    </a:lnTo>
                    <a:lnTo>
                      <a:pt x="90" y="946"/>
                    </a:lnTo>
                    <a:lnTo>
                      <a:pt x="140" y="830"/>
                    </a:lnTo>
                    <a:lnTo>
                      <a:pt x="198" y="718"/>
                    </a:lnTo>
                    <a:lnTo>
                      <a:pt x="264" y="614"/>
                    </a:lnTo>
                    <a:lnTo>
                      <a:pt x="340" y="516"/>
                    </a:lnTo>
                    <a:lnTo>
                      <a:pt x="424" y="424"/>
                    </a:lnTo>
                    <a:lnTo>
                      <a:pt x="516" y="342"/>
                    </a:lnTo>
                    <a:lnTo>
                      <a:pt x="612" y="266"/>
                    </a:lnTo>
                    <a:lnTo>
                      <a:pt x="718" y="198"/>
                    </a:lnTo>
                    <a:lnTo>
                      <a:pt x="828" y="140"/>
                    </a:lnTo>
                    <a:lnTo>
                      <a:pt x="942" y="90"/>
                    </a:lnTo>
                    <a:lnTo>
                      <a:pt x="1064" y="52"/>
                    </a:lnTo>
                    <a:lnTo>
                      <a:pt x="1188" y="22"/>
                    </a:lnTo>
                    <a:lnTo>
                      <a:pt x="1316" y="6"/>
                    </a:lnTo>
                    <a:lnTo>
                      <a:pt x="1448" y="0"/>
                    </a:lnTo>
                    <a:lnTo>
                      <a:pt x="1448" y="726"/>
                    </a:lnTo>
                    <a:lnTo>
                      <a:pt x="1358" y="732"/>
                    </a:lnTo>
                    <a:lnTo>
                      <a:pt x="1270" y="748"/>
                    </a:lnTo>
                    <a:lnTo>
                      <a:pt x="1186" y="774"/>
                    </a:lnTo>
                    <a:lnTo>
                      <a:pt x="1108" y="810"/>
                    </a:lnTo>
                    <a:lnTo>
                      <a:pt x="1034" y="856"/>
                    </a:lnTo>
                    <a:lnTo>
                      <a:pt x="968" y="910"/>
                    </a:lnTo>
                    <a:lnTo>
                      <a:pt x="906" y="970"/>
                    </a:lnTo>
                    <a:lnTo>
                      <a:pt x="854" y="1038"/>
                    </a:lnTo>
                    <a:lnTo>
                      <a:pt x="808" y="1110"/>
                    </a:lnTo>
                    <a:lnTo>
                      <a:pt x="772" y="1190"/>
                    </a:lnTo>
                    <a:lnTo>
                      <a:pt x="746" y="1274"/>
                    </a:lnTo>
                    <a:lnTo>
                      <a:pt x="730" y="1360"/>
                    </a:lnTo>
                    <a:lnTo>
                      <a:pt x="724" y="1452"/>
                    </a:lnTo>
                    <a:lnTo>
                      <a:pt x="0" y="1452"/>
                    </a:lnTo>
                    <a:lnTo>
                      <a:pt x="0" y="1452"/>
                    </a:lnTo>
                    <a:close/>
                  </a:path>
                </a:pathLst>
              </a:custGeom>
              <a:solidFill>
                <a:srgbClr val="9aa1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3009600" y="2142720"/>
                <a:ext cx="1458360" cy="1440720"/>
              </a:xfrm>
              <a:custGeom>
                <a:avLst/>
                <a:gdLst/>
                <a:ahLst/>
                <a:rect l="l" t="t" r="r" b="b"/>
                <a:pathLst>
                  <a:path w="1448" h="1452">
                    <a:moveTo>
                      <a:pt x="0" y="1452"/>
                    </a:moveTo>
                    <a:lnTo>
                      <a:pt x="6" y="1320"/>
                    </a:lnTo>
                    <a:lnTo>
                      <a:pt x="24" y="1190"/>
                    </a:lnTo>
                    <a:lnTo>
                      <a:pt x="52" y="1066"/>
                    </a:lnTo>
                    <a:lnTo>
                      <a:pt x="90" y="946"/>
                    </a:lnTo>
                    <a:lnTo>
                      <a:pt x="140" y="830"/>
                    </a:lnTo>
                    <a:lnTo>
                      <a:pt x="198" y="718"/>
                    </a:lnTo>
                    <a:lnTo>
                      <a:pt x="264" y="614"/>
                    </a:lnTo>
                    <a:lnTo>
                      <a:pt x="340" y="516"/>
                    </a:lnTo>
                    <a:lnTo>
                      <a:pt x="424" y="424"/>
                    </a:lnTo>
                    <a:lnTo>
                      <a:pt x="516" y="342"/>
                    </a:lnTo>
                    <a:lnTo>
                      <a:pt x="612" y="266"/>
                    </a:lnTo>
                    <a:lnTo>
                      <a:pt x="718" y="198"/>
                    </a:lnTo>
                    <a:lnTo>
                      <a:pt x="828" y="140"/>
                    </a:lnTo>
                    <a:lnTo>
                      <a:pt x="942" y="90"/>
                    </a:lnTo>
                    <a:lnTo>
                      <a:pt x="1064" y="52"/>
                    </a:lnTo>
                    <a:lnTo>
                      <a:pt x="1188" y="22"/>
                    </a:lnTo>
                    <a:lnTo>
                      <a:pt x="1316" y="6"/>
                    </a:lnTo>
                    <a:lnTo>
                      <a:pt x="1448" y="0"/>
                    </a:lnTo>
                    <a:lnTo>
                      <a:pt x="1448" y="726"/>
                    </a:lnTo>
                    <a:lnTo>
                      <a:pt x="1358" y="732"/>
                    </a:lnTo>
                    <a:lnTo>
                      <a:pt x="1270" y="748"/>
                    </a:lnTo>
                    <a:lnTo>
                      <a:pt x="1186" y="774"/>
                    </a:lnTo>
                    <a:lnTo>
                      <a:pt x="1108" y="810"/>
                    </a:lnTo>
                    <a:lnTo>
                      <a:pt x="1034" y="856"/>
                    </a:lnTo>
                    <a:lnTo>
                      <a:pt x="968" y="910"/>
                    </a:lnTo>
                    <a:lnTo>
                      <a:pt x="906" y="970"/>
                    </a:lnTo>
                    <a:lnTo>
                      <a:pt x="854" y="1038"/>
                    </a:lnTo>
                    <a:lnTo>
                      <a:pt x="808" y="1110"/>
                    </a:lnTo>
                    <a:lnTo>
                      <a:pt x="772" y="1190"/>
                    </a:lnTo>
                    <a:lnTo>
                      <a:pt x="746" y="1274"/>
                    </a:lnTo>
                    <a:lnTo>
                      <a:pt x="730" y="1360"/>
                    </a:lnTo>
                    <a:lnTo>
                      <a:pt x="724" y="1452"/>
                    </a:lnTo>
                    <a:lnTo>
                      <a:pt x="0" y="1452"/>
                    </a:lnTo>
                    <a:lnTo>
                      <a:pt x="0" y="14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64a75"/>
                  </a:gs>
                  <a:gs pos="100000">
                    <a:srgbClr val="9aa1fe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 rot="16200000">
              <a:off x="3686400" y="2115360"/>
              <a:ext cx="1215720" cy="794520"/>
            </a:xfrm>
            <a:prstGeom prst="triangle">
              <a:avLst>
                <a:gd name="adj" fmla="val 50000"/>
              </a:avLst>
            </a:prstGeom>
            <a:solidFill>
              <a:srgbClr val="ffbf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914400" y="2549520"/>
            <a:ext cx="2057400" cy="49860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  <a:ea typeface="宋体"/>
              </a:rPr>
              <a:t>Add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9920" y="2549520"/>
            <a:ext cx="2057400" cy="49860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  <a:ea typeface="宋体"/>
              </a:rPr>
              <a:t>Add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05320" y="5292720"/>
            <a:ext cx="2057400" cy="49860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  <a:ea typeface="宋体"/>
              </a:rPr>
              <a:t>Add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28720" y="206208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28800" y="838080"/>
            <a:ext cx="348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循环箭头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图表素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480760" y="1904760"/>
            <a:ext cx="3979080" cy="3652200"/>
            <a:chOff x="2480760" y="1904760"/>
            <a:chExt cx="3979080" cy="3652200"/>
          </a:xfrm>
        </p:grpSpPr>
        <p:sp>
          <p:nvSpPr>
            <p:cNvPr id="62" name=""/>
            <p:cNvSpPr/>
            <p:nvPr/>
          </p:nvSpPr>
          <p:spPr>
            <a:xfrm>
              <a:off x="3043440" y="2204640"/>
              <a:ext cx="2921760" cy="2881080"/>
            </a:xfrm>
            <a:prstGeom prst="donut">
              <a:avLst>
                <a:gd name="adj" fmla="val 25000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rot="5400000">
              <a:off x="4479120" y="2126520"/>
              <a:ext cx="1436040" cy="1462320"/>
            </a:xfrm>
            <a:custGeom>
              <a:avLst/>
              <a:gdLst/>
              <a:ahLst/>
              <a:rect l="l" t="t" r="r" b="b"/>
              <a:pathLst>
                <a:path w="1448" h="1452">
                  <a:moveTo>
                    <a:pt x="0" y="1452"/>
                  </a:moveTo>
                  <a:lnTo>
                    <a:pt x="6" y="1320"/>
                  </a:lnTo>
                  <a:lnTo>
                    <a:pt x="24" y="1190"/>
                  </a:lnTo>
                  <a:lnTo>
                    <a:pt x="52" y="1066"/>
                  </a:lnTo>
                  <a:lnTo>
                    <a:pt x="90" y="946"/>
                  </a:lnTo>
                  <a:lnTo>
                    <a:pt x="140" y="830"/>
                  </a:lnTo>
                  <a:lnTo>
                    <a:pt x="198" y="718"/>
                  </a:lnTo>
                  <a:lnTo>
                    <a:pt x="264" y="614"/>
                  </a:lnTo>
                  <a:lnTo>
                    <a:pt x="340" y="516"/>
                  </a:lnTo>
                  <a:lnTo>
                    <a:pt x="424" y="424"/>
                  </a:lnTo>
                  <a:lnTo>
                    <a:pt x="516" y="342"/>
                  </a:lnTo>
                  <a:lnTo>
                    <a:pt x="612" y="266"/>
                  </a:lnTo>
                  <a:lnTo>
                    <a:pt x="718" y="198"/>
                  </a:lnTo>
                  <a:lnTo>
                    <a:pt x="828" y="140"/>
                  </a:lnTo>
                  <a:lnTo>
                    <a:pt x="942" y="90"/>
                  </a:lnTo>
                  <a:lnTo>
                    <a:pt x="1064" y="52"/>
                  </a:lnTo>
                  <a:lnTo>
                    <a:pt x="1188" y="22"/>
                  </a:lnTo>
                  <a:lnTo>
                    <a:pt x="1316" y="6"/>
                  </a:lnTo>
                  <a:lnTo>
                    <a:pt x="1448" y="0"/>
                  </a:lnTo>
                  <a:lnTo>
                    <a:pt x="1448" y="726"/>
                  </a:lnTo>
                  <a:lnTo>
                    <a:pt x="1358" y="732"/>
                  </a:lnTo>
                  <a:lnTo>
                    <a:pt x="1270" y="748"/>
                  </a:lnTo>
                  <a:lnTo>
                    <a:pt x="1186" y="774"/>
                  </a:lnTo>
                  <a:lnTo>
                    <a:pt x="1108" y="810"/>
                  </a:lnTo>
                  <a:lnTo>
                    <a:pt x="1034" y="856"/>
                  </a:lnTo>
                  <a:lnTo>
                    <a:pt x="968" y="910"/>
                  </a:lnTo>
                  <a:lnTo>
                    <a:pt x="906" y="970"/>
                  </a:lnTo>
                  <a:lnTo>
                    <a:pt x="854" y="1038"/>
                  </a:lnTo>
                  <a:lnTo>
                    <a:pt x="808" y="1110"/>
                  </a:lnTo>
                  <a:lnTo>
                    <a:pt x="772" y="1190"/>
                  </a:lnTo>
                  <a:lnTo>
                    <a:pt x="746" y="1274"/>
                  </a:lnTo>
                  <a:lnTo>
                    <a:pt x="730" y="1360"/>
                  </a:lnTo>
                  <a:lnTo>
                    <a:pt x="724" y="1452"/>
                  </a:lnTo>
                  <a:lnTo>
                    <a:pt x="0" y="1452"/>
                  </a:lnTo>
                  <a:lnTo>
                    <a:pt x="0" y="1452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rot="7200000">
              <a:off x="4749120" y="2585520"/>
              <a:ext cx="1436400" cy="1462320"/>
            </a:xfrm>
            <a:custGeom>
              <a:avLst/>
              <a:gdLst/>
              <a:ahLst/>
              <a:rect l="l" t="t" r="r" b="b"/>
              <a:pathLst>
                <a:path w="1448" h="1452">
                  <a:moveTo>
                    <a:pt x="0" y="1452"/>
                  </a:moveTo>
                  <a:lnTo>
                    <a:pt x="6" y="1320"/>
                  </a:lnTo>
                  <a:lnTo>
                    <a:pt x="24" y="1190"/>
                  </a:lnTo>
                  <a:lnTo>
                    <a:pt x="52" y="1066"/>
                  </a:lnTo>
                  <a:lnTo>
                    <a:pt x="90" y="946"/>
                  </a:lnTo>
                  <a:lnTo>
                    <a:pt x="140" y="830"/>
                  </a:lnTo>
                  <a:lnTo>
                    <a:pt x="198" y="718"/>
                  </a:lnTo>
                  <a:lnTo>
                    <a:pt x="264" y="614"/>
                  </a:lnTo>
                  <a:lnTo>
                    <a:pt x="340" y="516"/>
                  </a:lnTo>
                  <a:lnTo>
                    <a:pt x="424" y="424"/>
                  </a:lnTo>
                  <a:lnTo>
                    <a:pt x="516" y="342"/>
                  </a:lnTo>
                  <a:lnTo>
                    <a:pt x="612" y="266"/>
                  </a:lnTo>
                  <a:lnTo>
                    <a:pt x="718" y="198"/>
                  </a:lnTo>
                  <a:lnTo>
                    <a:pt x="828" y="140"/>
                  </a:lnTo>
                  <a:lnTo>
                    <a:pt x="942" y="90"/>
                  </a:lnTo>
                  <a:lnTo>
                    <a:pt x="1064" y="52"/>
                  </a:lnTo>
                  <a:lnTo>
                    <a:pt x="1188" y="22"/>
                  </a:lnTo>
                  <a:lnTo>
                    <a:pt x="1316" y="6"/>
                  </a:lnTo>
                  <a:lnTo>
                    <a:pt x="1448" y="0"/>
                  </a:lnTo>
                  <a:lnTo>
                    <a:pt x="1448" y="726"/>
                  </a:lnTo>
                  <a:lnTo>
                    <a:pt x="1358" y="732"/>
                  </a:lnTo>
                  <a:lnTo>
                    <a:pt x="1270" y="748"/>
                  </a:lnTo>
                  <a:lnTo>
                    <a:pt x="1186" y="774"/>
                  </a:lnTo>
                  <a:lnTo>
                    <a:pt x="1108" y="810"/>
                  </a:lnTo>
                  <a:lnTo>
                    <a:pt x="1034" y="856"/>
                  </a:lnTo>
                  <a:lnTo>
                    <a:pt x="968" y="910"/>
                  </a:lnTo>
                  <a:lnTo>
                    <a:pt x="906" y="970"/>
                  </a:lnTo>
                  <a:lnTo>
                    <a:pt x="854" y="1038"/>
                  </a:lnTo>
                  <a:lnTo>
                    <a:pt x="808" y="1110"/>
                  </a:lnTo>
                  <a:lnTo>
                    <a:pt x="772" y="1190"/>
                  </a:lnTo>
                  <a:lnTo>
                    <a:pt x="746" y="1274"/>
                  </a:lnTo>
                  <a:lnTo>
                    <a:pt x="730" y="1360"/>
                  </a:lnTo>
                  <a:lnTo>
                    <a:pt x="724" y="1452"/>
                  </a:lnTo>
                  <a:lnTo>
                    <a:pt x="0" y="1452"/>
                  </a:lnTo>
                  <a:lnTo>
                    <a:pt x="0" y="1452"/>
                  </a:lnTo>
                  <a:close/>
                </a:path>
              </a:pathLst>
            </a:custGeom>
            <a:gradFill rotWithShape="0">
              <a:gsLst>
                <a:gs pos="0">
                  <a:srgbClr val="174675"/>
                </a:gs>
                <a:gs pos="100000">
                  <a:srgbClr val="3399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800000">
              <a:off x="4833000" y="3588840"/>
              <a:ext cx="1233360" cy="782280"/>
            </a:xfrm>
            <a:prstGeom prst="triangle">
              <a:avLst>
                <a:gd name="adj" fmla="val 50000"/>
              </a:avLst>
            </a:prstGeom>
            <a:solidFill>
              <a:srgbClr val="4ec4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3208320" y="3579840"/>
              <a:ext cx="2516400" cy="1977120"/>
              <a:chOff x="3208320" y="3579840"/>
              <a:chExt cx="2516400" cy="1977120"/>
            </a:xfrm>
          </p:grpSpPr>
          <p:sp>
            <p:nvSpPr>
              <p:cNvPr id="67" name=""/>
              <p:cNvSpPr/>
              <p:nvPr/>
            </p:nvSpPr>
            <p:spPr>
              <a:xfrm rot="12600000">
                <a:off x="4004280" y="3849120"/>
                <a:ext cx="1458000" cy="1439640"/>
              </a:xfrm>
              <a:custGeom>
                <a:avLst/>
                <a:gdLst/>
                <a:ahLst/>
                <a:rect l="l" t="t" r="r" b="b"/>
                <a:pathLst>
                  <a:path w="1448" h="1452">
                    <a:moveTo>
                      <a:pt x="0" y="1452"/>
                    </a:moveTo>
                    <a:lnTo>
                      <a:pt x="6" y="1320"/>
                    </a:lnTo>
                    <a:lnTo>
                      <a:pt x="24" y="1190"/>
                    </a:lnTo>
                    <a:lnTo>
                      <a:pt x="52" y="1066"/>
                    </a:lnTo>
                    <a:lnTo>
                      <a:pt x="90" y="946"/>
                    </a:lnTo>
                    <a:lnTo>
                      <a:pt x="140" y="830"/>
                    </a:lnTo>
                    <a:lnTo>
                      <a:pt x="198" y="718"/>
                    </a:lnTo>
                    <a:lnTo>
                      <a:pt x="264" y="614"/>
                    </a:lnTo>
                    <a:lnTo>
                      <a:pt x="340" y="516"/>
                    </a:lnTo>
                    <a:lnTo>
                      <a:pt x="424" y="424"/>
                    </a:lnTo>
                    <a:lnTo>
                      <a:pt x="516" y="342"/>
                    </a:lnTo>
                    <a:lnTo>
                      <a:pt x="612" y="266"/>
                    </a:lnTo>
                    <a:lnTo>
                      <a:pt x="718" y="198"/>
                    </a:lnTo>
                    <a:lnTo>
                      <a:pt x="828" y="140"/>
                    </a:lnTo>
                    <a:lnTo>
                      <a:pt x="942" y="90"/>
                    </a:lnTo>
                    <a:lnTo>
                      <a:pt x="1064" y="52"/>
                    </a:lnTo>
                    <a:lnTo>
                      <a:pt x="1188" y="22"/>
                    </a:lnTo>
                    <a:lnTo>
                      <a:pt x="1316" y="6"/>
                    </a:lnTo>
                    <a:lnTo>
                      <a:pt x="1448" y="0"/>
                    </a:lnTo>
                    <a:lnTo>
                      <a:pt x="1448" y="726"/>
                    </a:lnTo>
                    <a:lnTo>
                      <a:pt x="1358" y="732"/>
                    </a:lnTo>
                    <a:lnTo>
                      <a:pt x="1270" y="748"/>
                    </a:lnTo>
                    <a:lnTo>
                      <a:pt x="1186" y="774"/>
                    </a:lnTo>
                    <a:lnTo>
                      <a:pt x="1108" y="810"/>
                    </a:lnTo>
                    <a:lnTo>
                      <a:pt x="1034" y="856"/>
                    </a:lnTo>
                    <a:lnTo>
                      <a:pt x="968" y="910"/>
                    </a:lnTo>
                    <a:lnTo>
                      <a:pt x="906" y="970"/>
                    </a:lnTo>
                    <a:lnTo>
                      <a:pt x="854" y="1038"/>
                    </a:lnTo>
                    <a:lnTo>
                      <a:pt x="808" y="1110"/>
                    </a:lnTo>
                    <a:lnTo>
                      <a:pt x="772" y="1190"/>
                    </a:lnTo>
                    <a:lnTo>
                      <a:pt x="746" y="1274"/>
                    </a:lnTo>
                    <a:lnTo>
                      <a:pt x="730" y="1360"/>
                    </a:lnTo>
                    <a:lnTo>
                      <a:pt x="724" y="1452"/>
                    </a:lnTo>
                    <a:lnTo>
                      <a:pt x="0" y="1452"/>
                    </a:lnTo>
                    <a:lnTo>
                      <a:pt x="0" y="1452"/>
                    </a:lnTo>
                    <a:close/>
                  </a:path>
                </a:pathLst>
              </a:custGeom>
              <a:solidFill>
                <a:srgbClr val="4ec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3481560" y="3836160"/>
                <a:ext cx="1436040" cy="1461240"/>
              </a:xfrm>
              <a:custGeom>
                <a:avLst/>
                <a:gdLst/>
                <a:ahLst/>
                <a:rect l="l" t="t" r="r" b="b"/>
                <a:pathLst>
                  <a:path w="1448" h="1452">
                    <a:moveTo>
                      <a:pt x="0" y="1452"/>
                    </a:moveTo>
                    <a:lnTo>
                      <a:pt x="6" y="1320"/>
                    </a:lnTo>
                    <a:lnTo>
                      <a:pt x="24" y="1190"/>
                    </a:lnTo>
                    <a:lnTo>
                      <a:pt x="52" y="1066"/>
                    </a:lnTo>
                    <a:lnTo>
                      <a:pt x="90" y="946"/>
                    </a:lnTo>
                    <a:lnTo>
                      <a:pt x="140" y="830"/>
                    </a:lnTo>
                    <a:lnTo>
                      <a:pt x="198" y="718"/>
                    </a:lnTo>
                    <a:lnTo>
                      <a:pt x="264" y="614"/>
                    </a:lnTo>
                    <a:lnTo>
                      <a:pt x="340" y="516"/>
                    </a:lnTo>
                    <a:lnTo>
                      <a:pt x="424" y="424"/>
                    </a:lnTo>
                    <a:lnTo>
                      <a:pt x="516" y="342"/>
                    </a:lnTo>
                    <a:lnTo>
                      <a:pt x="612" y="266"/>
                    </a:lnTo>
                    <a:lnTo>
                      <a:pt x="718" y="198"/>
                    </a:lnTo>
                    <a:lnTo>
                      <a:pt x="828" y="140"/>
                    </a:lnTo>
                    <a:lnTo>
                      <a:pt x="942" y="90"/>
                    </a:lnTo>
                    <a:lnTo>
                      <a:pt x="1064" y="52"/>
                    </a:lnTo>
                    <a:lnTo>
                      <a:pt x="1188" y="22"/>
                    </a:lnTo>
                    <a:lnTo>
                      <a:pt x="1316" y="6"/>
                    </a:lnTo>
                    <a:lnTo>
                      <a:pt x="1448" y="0"/>
                    </a:lnTo>
                    <a:lnTo>
                      <a:pt x="1448" y="726"/>
                    </a:lnTo>
                    <a:lnTo>
                      <a:pt x="1358" y="732"/>
                    </a:lnTo>
                    <a:lnTo>
                      <a:pt x="1270" y="748"/>
                    </a:lnTo>
                    <a:lnTo>
                      <a:pt x="1186" y="774"/>
                    </a:lnTo>
                    <a:lnTo>
                      <a:pt x="1108" y="810"/>
                    </a:lnTo>
                    <a:lnTo>
                      <a:pt x="1034" y="856"/>
                    </a:lnTo>
                    <a:lnTo>
                      <a:pt x="968" y="910"/>
                    </a:lnTo>
                    <a:lnTo>
                      <a:pt x="906" y="970"/>
                    </a:lnTo>
                    <a:lnTo>
                      <a:pt x="854" y="1038"/>
                    </a:lnTo>
                    <a:lnTo>
                      <a:pt x="808" y="1110"/>
                    </a:lnTo>
                    <a:lnTo>
                      <a:pt x="772" y="1190"/>
                    </a:lnTo>
                    <a:lnTo>
                      <a:pt x="746" y="1274"/>
                    </a:lnTo>
                    <a:lnTo>
                      <a:pt x="730" y="1360"/>
                    </a:lnTo>
                    <a:lnTo>
                      <a:pt x="724" y="1452"/>
                    </a:lnTo>
                    <a:lnTo>
                      <a:pt x="0" y="1452"/>
                    </a:lnTo>
                    <a:lnTo>
                      <a:pt x="0" y="14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ec44e"/>
                  </a:gs>
                  <a:gs pos="100000">
                    <a:srgbClr val="235a2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9" name=""/>
            <p:cNvSpPr/>
            <p:nvPr/>
          </p:nvSpPr>
          <p:spPr>
            <a:xfrm rot="9000000">
              <a:off x="2971800" y="3849120"/>
              <a:ext cx="1233360" cy="699840"/>
            </a:xfrm>
            <a:prstGeom prst="triangle">
              <a:avLst>
                <a:gd name="adj" fmla="val 50000"/>
              </a:avLst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2480760" y="2142720"/>
              <a:ext cx="1987200" cy="2166120"/>
              <a:chOff x="2480760" y="2142720"/>
              <a:chExt cx="1987200" cy="2166120"/>
            </a:xfrm>
          </p:grpSpPr>
          <p:sp>
            <p:nvSpPr>
              <p:cNvPr id="71" name=""/>
              <p:cNvSpPr/>
              <p:nvPr/>
            </p:nvSpPr>
            <p:spPr>
              <a:xfrm rot="19800000">
                <a:off x="2743200" y="2599920"/>
                <a:ext cx="1458000" cy="1440720"/>
              </a:xfrm>
              <a:custGeom>
                <a:avLst/>
                <a:gdLst/>
                <a:ahLst/>
                <a:rect l="l" t="t" r="r" b="b"/>
                <a:pathLst>
                  <a:path w="1448" h="1452">
                    <a:moveTo>
                      <a:pt x="0" y="1452"/>
                    </a:moveTo>
                    <a:lnTo>
                      <a:pt x="6" y="1320"/>
                    </a:lnTo>
                    <a:lnTo>
                      <a:pt x="24" y="1190"/>
                    </a:lnTo>
                    <a:lnTo>
                      <a:pt x="52" y="1066"/>
                    </a:lnTo>
                    <a:lnTo>
                      <a:pt x="90" y="946"/>
                    </a:lnTo>
                    <a:lnTo>
                      <a:pt x="140" y="830"/>
                    </a:lnTo>
                    <a:lnTo>
                      <a:pt x="198" y="718"/>
                    </a:lnTo>
                    <a:lnTo>
                      <a:pt x="264" y="614"/>
                    </a:lnTo>
                    <a:lnTo>
                      <a:pt x="340" y="516"/>
                    </a:lnTo>
                    <a:lnTo>
                      <a:pt x="424" y="424"/>
                    </a:lnTo>
                    <a:lnTo>
                      <a:pt x="516" y="342"/>
                    </a:lnTo>
                    <a:lnTo>
                      <a:pt x="612" y="266"/>
                    </a:lnTo>
                    <a:lnTo>
                      <a:pt x="718" y="198"/>
                    </a:lnTo>
                    <a:lnTo>
                      <a:pt x="828" y="140"/>
                    </a:lnTo>
                    <a:lnTo>
                      <a:pt x="942" y="90"/>
                    </a:lnTo>
                    <a:lnTo>
                      <a:pt x="1064" y="52"/>
                    </a:lnTo>
                    <a:lnTo>
                      <a:pt x="1188" y="22"/>
                    </a:lnTo>
                    <a:lnTo>
                      <a:pt x="1316" y="6"/>
                    </a:lnTo>
                    <a:lnTo>
                      <a:pt x="1448" y="0"/>
                    </a:lnTo>
                    <a:lnTo>
                      <a:pt x="1448" y="726"/>
                    </a:lnTo>
                    <a:lnTo>
                      <a:pt x="1358" y="732"/>
                    </a:lnTo>
                    <a:lnTo>
                      <a:pt x="1270" y="748"/>
                    </a:lnTo>
                    <a:lnTo>
                      <a:pt x="1186" y="774"/>
                    </a:lnTo>
                    <a:lnTo>
                      <a:pt x="1108" y="810"/>
                    </a:lnTo>
                    <a:lnTo>
                      <a:pt x="1034" y="856"/>
                    </a:lnTo>
                    <a:lnTo>
                      <a:pt x="968" y="910"/>
                    </a:lnTo>
                    <a:lnTo>
                      <a:pt x="906" y="970"/>
                    </a:lnTo>
                    <a:lnTo>
                      <a:pt x="854" y="1038"/>
                    </a:lnTo>
                    <a:lnTo>
                      <a:pt x="808" y="1110"/>
                    </a:lnTo>
                    <a:lnTo>
                      <a:pt x="772" y="1190"/>
                    </a:lnTo>
                    <a:lnTo>
                      <a:pt x="746" y="1274"/>
                    </a:lnTo>
                    <a:lnTo>
                      <a:pt x="730" y="1360"/>
                    </a:lnTo>
                    <a:lnTo>
                      <a:pt x="724" y="1452"/>
                    </a:lnTo>
                    <a:lnTo>
                      <a:pt x="0" y="1452"/>
                    </a:lnTo>
                    <a:lnTo>
                      <a:pt x="0" y="1452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009600" y="2142720"/>
                <a:ext cx="1458360" cy="1440720"/>
              </a:xfrm>
              <a:custGeom>
                <a:avLst/>
                <a:gdLst/>
                <a:ahLst/>
                <a:rect l="l" t="t" r="r" b="b"/>
                <a:pathLst>
                  <a:path w="1448" h="1452">
                    <a:moveTo>
                      <a:pt x="0" y="1452"/>
                    </a:moveTo>
                    <a:lnTo>
                      <a:pt x="6" y="1320"/>
                    </a:lnTo>
                    <a:lnTo>
                      <a:pt x="24" y="1190"/>
                    </a:lnTo>
                    <a:lnTo>
                      <a:pt x="52" y="1066"/>
                    </a:lnTo>
                    <a:lnTo>
                      <a:pt x="90" y="946"/>
                    </a:lnTo>
                    <a:lnTo>
                      <a:pt x="140" y="830"/>
                    </a:lnTo>
                    <a:lnTo>
                      <a:pt x="198" y="718"/>
                    </a:lnTo>
                    <a:lnTo>
                      <a:pt x="264" y="614"/>
                    </a:lnTo>
                    <a:lnTo>
                      <a:pt x="340" y="516"/>
                    </a:lnTo>
                    <a:lnTo>
                      <a:pt x="424" y="424"/>
                    </a:lnTo>
                    <a:lnTo>
                      <a:pt x="516" y="342"/>
                    </a:lnTo>
                    <a:lnTo>
                      <a:pt x="612" y="266"/>
                    </a:lnTo>
                    <a:lnTo>
                      <a:pt x="718" y="198"/>
                    </a:lnTo>
                    <a:lnTo>
                      <a:pt x="828" y="140"/>
                    </a:lnTo>
                    <a:lnTo>
                      <a:pt x="942" y="90"/>
                    </a:lnTo>
                    <a:lnTo>
                      <a:pt x="1064" y="52"/>
                    </a:lnTo>
                    <a:lnTo>
                      <a:pt x="1188" y="22"/>
                    </a:lnTo>
                    <a:lnTo>
                      <a:pt x="1316" y="6"/>
                    </a:lnTo>
                    <a:lnTo>
                      <a:pt x="1448" y="0"/>
                    </a:lnTo>
                    <a:lnTo>
                      <a:pt x="1448" y="726"/>
                    </a:lnTo>
                    <a:lnTo>
                      <a:pt x="1358" y="732"/>
                    </a:lnTo>
                    <a:lnTo>
                      <a:pt x="1270" y="748"/>
                    </a:lnTo>
                    <a:lnTo>
                      <a:pt x="1186" y="774"/>
                    </a:lnTo>
                    <a:lnTo>
                      <a:pt x="1108" y="810"/>
                    </a:lnTo>
                    <a:lnTo>
                      <a:pt x="1034" y="856"/>
                    </a:lnTo>
                    <a:lnTo>
                      <a:pt x="968" y="910"/>
                    </a:lnTo>
                    <a:lnTo>
                      <a:pt x="906" y="970"/>
                    </a:lnTo>
                    <a:lnTo>
                      <a:pt x="854" y="1038"/>
                    </a:lnTo>
                    <a:lnTo>
                      <a:pt x="808" y="1110"/>
                    </a:lnTo>
                    <a:lnTo>
                      <a:pt x="772" y="1190"/>
                    </a:lnTo>
                    <a:lnTo>
                      <a:pt x="746" y="1274"/>
                    </a:lnTo>
                    <a:lnTo>
                      <a:pt x="730" y="1360"/>
                    </a:lnTo>
                    <a:lnTo>
                      <a:pt x="724" y="1452"/>
                    </a:lnTo>
                    <a:lnTo>
                      <a:pt x="0" y="1452"/>
                    </a:lnTo>
                    <a:lnTo>
                      <a:pt x="0" y="14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64675"/>
                  </a:gs>
                  <a:gs pos="100000">
                    <a:srgbClr val="9999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 rot="16200000">
              <a:off x="3686400" y="2115360"/>
              <a:ext cx="1215720" cy="794520"/>
            </a:xfrm>
            <a:prstGeom prst="triangle">
              <a:avLst>
                <a:gd name="adj" fmla="val 500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914400" y="2549520"/>
            <a:ext cx="2057400" cy="49860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ff"/>
                </a:solidFill>
                <a:latin typeface="Verdana"/>
                <a:ea typeface="宋体"/>
              </a:rPr>
              <a:t>Add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19920" y="2549520"/>
            <a:ext cx="2057400" cy="49860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ff"/>
                </a:solidFill>
                <a:latin typeface="Verdana"/>
                <a:ea typeface="宋体"/>
              </a:rPr>
              <a:t>Add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05320" y="5292720"/>
            <a:ext cx="2057400" cy="49860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Verdana"/>
                <a:ea typeface="宋体"/>
              </a:rPr>
              <a:t>Add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00000" y="909720"/>
            <a:ext cx="4969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c5f4"/>
                </a:solidFill>
                <a:uFillTx/>
                <a:latin typeface="Arial"/>
                <a:hlinkClick r:id="rId1"/>
              </a:rPr>
              <a:t>ppt素材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66c5f4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66c5f4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66c5f4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66c5f4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66c5f4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66c5f4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66c5f4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66c5f4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66c5f4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66c5f4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66c5f4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66c5f4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66c5f4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66c5f4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66c5f4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66c5f4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66c5f4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66c5f4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66c5f4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66c5f4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66c5f4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66c5f4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66c5f4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66c5f4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2C40-E7F2-46C8-9D02-51EAA725AF1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7:49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0T08:53:08Z</dcterms:modified>
  <cp:revision>9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