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71F-71F5-477F-ADFF-7208A187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A15-3B3C-4910-85C4-EB166800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29A-49AD-49E3-9676-2C9700A4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C4D-719A-4280-B86D-50429A44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1FD-CF8B-447B-BCAB-ABCE225E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EB1-8888-4EB3-9AAE-DA8B0F67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A28-7E3C-48CB-ADF6-33412FEB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0CA-9BEF-4E85-B561-75754A8D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5E2-6CF5-4704-9F87-21AABF8C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574-43C5-42FF-9384-4D93D224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D97-5F1A-40BD-A5CF-6297183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DD6-676C-4FE5-8864-61D7F7D0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8EF0-1FAE-4BC1-8090-1478C65913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002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http://www.hgxx.net/Soft/UploadSoftPic/2003111415109918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85800" y="57636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31760" y="909720"/>
            <a:ext cx="47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小柳树和小枣树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54400" y="1523880"/>
            <a:ext cx="588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喂，小枣树，你的树枝多难看哪！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我，多漂亮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喂，小枣树，你怎么不长叶子呀？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我，多漂亮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4720" y="4941720"/>
            <a:ext cx="562284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说课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EBD-6C0F-4E78-8D7F-0E27DD4687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351160" y="1066680"/>
            <a:ext cx="4295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小枣树说：“你虽然不会结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子，可是一到春天，你就发芽长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比我绿得早；到了秋天，你比我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叶晚。再说，你长得也比我快，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你长大了，人们在树阴下乘凉，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有多好啊！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557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73560" y="990720"/>
            <a:ext cx="5642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小枣树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温和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说：“你虽然不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结枣子，可是一到春天，你就发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长叶，比我绿得早；到了秋天，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比我落叶晚。再说，你长得也比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快，等你长大了，人们在树阴下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凉，那有多好啊！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1295280" y="609480"/>
          <a:ext cx="61722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9480"/>
                    <a:ext cx="6172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266688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http://10.55.0.178:8080//resource/chinese/人教语文/第2册/02柳树醒了/images/liutiaotupian.jpg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629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380880" y="476280"/>
            <a:ext cx="8001000" cy="5619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8001000" cy="563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8001000" cy="5638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8"/>
          <p:cNvGrpSpPr/>
          <p:nvPr/>
        </p:nvGrpSpPr>
        <p:grpSpPr>
          <a:xfrm>
            <a:off x="380880" y="-76320"/>
            <a:ext cx="8153280" cy="6165720"/>
            <a:chOff x="380880" y="-76320"/>
            <a:chExt cx="8153280" cy="6165720"/>
          </a:xfrm>
        </p:grpSpPr>
        <p:pic>
          <p:nvPicPr>
            <p:cNvPr id="57" name="Picture 13" descr="http://www.gansudaily.com.cn/20020926/151/hz.jpg"/>
            <p:cNvPicPr/>
            <p:nvPr/>
          </p:nvPicPr>
          <p:blipFill>
            <a:blip r:embed="rId5"/>
            <a:stretch/>
          </p:blipFill>
          <p:spPr>
            <a:xfrm>
              <a:off x="380880" y="385560"/>
              <a:ext cx="8153280" cy="57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WordArt 14"/>
            <p:cNvSpPr txBox="1"/>
            <p:nvPr/>
          </p:nvSpPr>
          <p:spPr>
            <a:xfrm>
              <a:off x="2149200" y="-76320"/>
              <a:ext cx="5538960" cy="100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4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大红枣，甜又甜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59" name="AutoShape 16"/>
          <p:cNvSpPr/>
          <p:nvPr/>
        </p:nvSpPr>
        <p:spPr>
          <a:xfrm>
            <a:off x="4227480" y="6165720"/>
            <a:ext cx="1000080" cy="540000"/>
          </a:xfrm>
          <a:custGeom>
            <a:avLst/>
            <a:gdLst>
              <a:gd name="textAreaLeft" fmla="*/ 33480 w 1000080"/>
              <a:gd name="textAreaRight" fmla="*/ 966600 w 1000080"/>
              <a:gd name="textAreaTop" fmla="*/ 33480 h 540000"/>
              <a:gd name="textAreaBottom" fmla="*/ 506520 h 540000"/>
            </a:gdLst>
            <a:ahLst/>
            <a:rect l="textAreaLeft" t="textAreaTop" r="textAreaRight" b="textAreaBottom"/>
            <a:pathLst>
              <a:path w="39991" h="21600">
                <a:moveTo>
                  <a:pt x="0" y="0"/>
                </a:moveTo>
                <a:lnTo>
                  <a:pt x="39991" y="0"/>
                </a:lnTo>
                <a:lnTo>
                  <a:pt x="39991" y="21600"/>
                </a:lnTo>
                <a:lnTo>
                  <a:pt x="0" y="21600"/>
                </a:lnTo>
                <a:close/>
              </a:path>
              <a:path fill="lightenLess" w="39991" h="21600">
                <a:moveTo>
                  <a:pt x="0" y="0"/>
                </a:moveTo>
                <a:lnTo>
                  <a:pt x="39991" y="0"/>
                </a:lnTo>
                <a:lnTo>
                  <a:pt x="38641" y="1350"/>
                </a:lnTo>
                <a:lnTo>
                  <a:pt x="1350" y="1350"/>
                </a:lnTo>
                <a:close/>
              </a:path>
              <a:path fill="darken" w="39991" h="21600">
                <a:moveTo>
                  <a:pt x="39991" y="0"/>
                </a:moveTo>
                <a:lnTo>
                  <a:pt x="39991" y="21600"/>
                </a:lnTo>
                <a:lnTo>
                  <a:pt x="38641" y="20250"/>
                </a:lnTo>
                <a:lnTo>
                  <a:pt x="38641" y="1350"/>
                </a:lnTo>
                <a:close/>
              </a:path>
              <a:path fill="darkenLess" w="39991" h="21600">
                <a:moveTo>
                  <a:pt x="3999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641" y="20250"/>
                </a:lnTo>
                <a:close/>
              </a:path>
              <a:path fill="lighten" w="3999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991" h="21600">
                <a:moveTo>
                  <a:pt x="12952" y="3756"/>
                </a:moveTo>
                <a:lnTo>
                  <a:pt x="27039" y="10800"/>
                </a:lnTo>
                <a:lnTo>
                  <a:pt x="12952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6996240" y="6243480"/>
            <a:ext cx="922320" cy="384480"/>
          </a:xfrm>
          <a:custGeom>
            <a:avLst/>
            <a:gdLst>
              <a:gd name="textAreaLeft" fmla="*/ 23760 w 922320"/>
              <a:gd name="textAreaRight" fmla="*/ 898560 w 922320"/>
              <a:gd name="textAreaTop" fmla="*/ 23760 h 384480"/>
              <a:gd name="textAreaBottom" fmla="*/ 360720 h 384480"/>
            </a:gdLst>
            <a:ahLst/>
            <a:rect l="textAreaLeft" t="textAreaTop" r="textAreaRight" b="textAreaBottom"/>
            <a:pathLst>
              <a:path w="51787" h="21600">
                <a:moveTo>
                  <a:pt x="0" y="0"/>
                </a:moveTo>
                <a:lnTo>
                  <a:pt x="51787" y="0"/>
                </a:lnTo>
                <a:lnTo>
                  <a:pt x="51787" y="21600"/>
                </a:lnTo>
                <a:lnTo>
                  <a:pt x="0" y="21600"/>
                </a:lnTo>
                <a:close/>
              </a:path>
              <a:path fill="lightenLess" w="51787" h="21600">
                <a:moveTo>
                  <a:pt x="0" y="0"/>
                </a:moveTo>
                <a:lnTo>
                  <a:pt x="51787" y="0"/>
                </a:lnTo>
                <a:lnTo>
                  <a:pt x="50437" y="1350"/>
                </a:lnTo>
                <a:lnTo>
                  <a:pt x="1350" y="1350"/>
                </a:lnTo>
                <a:close/>
              </a:path>
              <a:path fill="darken" w="51787" h="21600">
                <a:moveTo>
                  <a:pt x="51787" y="0"/>
                </a:moveTo>
                <a:lnTo>
                  <a:pt x="51787" y="21600"/>
                </a:lnTo>
                <a:lnTo>
                  <a:pt x="50437" y="20250"/>
                </a:lnTo>
                <a:lnTo>
                  <a:pt x="50437" y="1350"/>
                </a:lnTo>
                <a:close/>
              </a:path>
              <a:path fill="darkenLess" w="51787" h="21600">
                <a:moveTo>
                  <a:pt x="5178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0437" y="20250"/>
                </a:lnTo>
                <a:close/>
              </a:path>
              <a:path fill="lighten" w="5178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1787" h="21600">
                <a:moveTo>
                  <a:pt x="18850" y="3756"/>
                </a:moveTo>
                <a:lnTo>
                  <a:pt x="32937" y="10800"/>
                </a:lnTo>
                <a:lnTo>
                  <a:pt x="18850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1295280" y="6400800"/>
            <a:ext cx="838440" cy="457200"/>
          </a:xfrm>
          <a:custGeom>
            <a:avLst/>
            <a:gdLst>
              <a:gd name="textAreaLeft" fmla="*/ 28440 w 838440"/>
              <a:gd name="textAreaRight" fmla="*/ 810000 w 83844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247" y="1350"/>
                </a:lnTo>
                <a:lnTo>
                  <a:pt x="1350" y="135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247" y="20250"/>
                </a:lnTo>
                <a:lnTo>
                  <a:pt x="38247" y="135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247" y="2025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597" h="21600">
                <a:moveTo>
                  <a:pt x="12755" y="3756"/>
                </a:moveTo>
                <a:lnTo>
                  <a:pt x="26842" y="10800"/>
                </a:lnTo>
                <a:lnTo>
                  <a:pt x="12755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4191120" y="6324480"/>
            <a:ext cx="990360" cy="533520"/>
          </a:xfrm>
          <a:custGeom>
            <a:avLst/>
            <a:gdLst>
              <a:gd name="textAreaLeft" fmla="*/ 33120 w 990360"/>
              <a:gd name="textAreaRight" fmla="*/ 957240 w 99036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733" y="1350"/>
                </a:lnTo>
                <a:lnTo>
                  <a:pt x="1350" y="135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733" y="20250"/>
                </a:lnTo>
                <a:lnTo>
                  <a:pt x="38733" y="135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33" y="2025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083" h="21600">
                <a:moveTo>
                  <a:pt x="12998" y="3756"/>
                </a:moveTo>
                <a:lnTo>
                  <a:pt x="27085" y="10800"/>
                </a:lnTo>
                <a:lnTo>
                  <a:pt x="12998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6934320" y="6400800"/>
            <a:ext cx="914400" cy="380880"/>
          </a:xfrm>
          <a:custGeom>
            <a:avLst/>
            <a:gdLst>
              <a:gd name="textAreaLeft" fmla="*/ 23760 w 914400"/>
              <a:gd name="textAreaRight" fmla="*/ 890640 w 9144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78" y="1350"/>
                </a:lnTo>
                <a:lnTo>
                  <a:pt x="1350" y="135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78" y="20250"/>
                </a:lnTo>
                <a:lnTo>
                  <a:pt x="50478" y="135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0478" y="2025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1828" h="21600">
                <a:moveTo>
                  <a:pt x="18870" y="3756"/>
                </a:moveTo>
                <a:lnTo>
                  <a:pt x="32958" y="10800"/>
                </a:lnTo>
                <a:lnTo>
                  <a:pt x="18870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190512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419720" y="6394320"/>
            <a:ext cx="3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7224840" y="628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轻音乐.wav" descr=""/>
          <p:cNvPicPr/>
          <p:nvPr/>
        </p:nvPicPr>
        <p:blipFill>
          <a:blip r:embed="rId6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7"/>
          <p:cNvSpPr/>
          <p:nvPr/>
        </p:nvSpPr>
        <p:spPr>
          <a:xfrm>
            <a:off x="1828800" y="6400800"/>
            <a:ext cx="762120" cy="457200"/>
          </a:xfrm>
          <a:custGeom>
            <a:avLst/>
            <a:gdLst>
              <a:gd name="textAreaLeft" fmla="*/ 28440 w 762120"/>
              <a:gd name="textAreaRight" fmla="*/ 733680 w 7621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644" y="1350"/>
                </a:lnTo>
                <a:lnTo>
                  <a:pt x="1350" y="135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644" y="20250"/>
                </a:lnTo>
                <a:lnTo>
                  <a:pt x="34644" y="135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44" y="2025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94" h="21600">
                <a:moveTo>
                  <a:pt x="10953" y="3756"/>
                </a:moveTo>
                <a:lnTo>
                  <a:pt x="25041" y="10800"/>
                </a:lnTo>
                <a:lnTo>
                  <a:pt x="10953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4114800" y="6324480"/>
            <a:ext cx="762120" cy="533520"/>
          </a:xfrm>
          <a:custGeom>
            <a:avLst/>
            <a:gdLst>
              <a:gd name="textAreaLeft" fmla="*/ 33120 w 762120"/>
              <a:gd name="textAreaRight" fmla="*/ 729000 w 7621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99" y="1350"/>
                </a:lnTo>
                <a:lnTo>
                  <a:pt x="1350" y="135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99" y="20250"/>
                </a:lnTo>
                <a:lnTo>
                  <a:pt x="29499" y="135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499" y="2025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849" h="21600">
                <a:moveTo>
                  <a:pt x="8381" y="3756"/>
                </a:moveTo>
                <a:lnTo>
                  <a:pt x="22468" y="10800"/>
                </a:lnTo>
                <a:lnTo>
                  <a:pt x="8381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7010280" y="6095880"/>
            <a:ext cx="914400" cy="609840"/>
          </a:xfrm>
          <a:custGeom>
            <a:avLst/>
            <a:gdLst>
              <a:gd name="textAreaLeft" fmla="*/ 37800 w 914400"/>
              <a:gd name="textAreaRight" fmla="*/ 876600 w 91440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1031" y="1350"/>
                </a:lnTo>
                <a:lnTo>
                  <a:pt x="1350" y="135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1031" y="20250"/>
                </a:lnTo>
                <a:lnTo>
                  <a:pt x="31031" y="135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31" y="2025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81" h="21600">
                <a:moveTo>
                  <a:pt x="9147" y="3756"/>
                </a:moveTo>
                <a:lnTo>
                  <a:pt x="23234" y="10800"/>
                </a:lnTo>
                <a:lnTo>
                  <a:pt x="9147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785960" y="990720"/>
            <a:ext cx="53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小柳树的腰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细细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树枝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绿绿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真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6002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71600" y="3062160"/>
            <a:ext cx="773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小柳树看看小枣树，树枝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弯弯曲曲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一点儿也不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433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1066680" y="6019920"/>
            <a:ext cx="914400" cy="609480"/>
          </a:xfrm>
          <a:custGeom>
            <a:avLst/>
            <a:gdLst>
              <a:gd name="textAreaLeft" fmla="*/ 37800 w 914400"/>
              <a:gd name="textAreaRight" fmla="*/ 876600 w 9144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00" h="21600">
                <a:moveTo>
                  <a:pt x="9156" y="3756"/>
                </a:moveTo>
                <a:lnTo>
                  <a:pt x="23244" y="10800"/>
                </a:lnTo>
                <a:lnTo>
                  <a:pt x="915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2341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5943600" y="6019920"/>
            <a:ext cx="838080" cy="609480"/>
          </a:xfrm>
          <a:custGeom>
            <a:avLst/>
            <a:gdLst>
              <a:gd name="textAreaLeft" fmla="*/ 37800 w 838080"/>
              <a:gd name="textAreaRight" fmla="*/ 800280 w 83808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347" y="1350"/>
                </a:lnTo>
                <a:lnTo>
                  <a:pt x="1350" y="135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347" y="20250"/>
                </a:lnTo>
                <a:lnTo>
                  <a:pt x="28347" y="135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347" y="2025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9697" h="21600">
                <a:moveTo>
                  <a:pt x="7805" y="3756"/>
                </a:moveTo>
                <a:lnTo>
                  <a:pt x="21892" y="10800"/>
                </a:lnTo>
                <a:lnTo>
                  <a:pt x="7805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8687880" y="640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8440 w 838080"/>
              <a:gd name="textAreaRight" fmla="*/ 809640 w 8380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230" y="1350"/>
                </a:lnTo>
                <a:lnTo>
                  <a:pt x="1350" y="135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230" y="20250"/>
                </a:lnTo>
                <a:lnTo>
                  <a:pt x="38230" y="135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230" y="2025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580" h="21600">
                <a:moveTo>
                  <a:pt x="12746" y="3756"/>
                </a:moveTo>
                <a:lnTo>
                  <a:pt x="26834" y="10800"/>
                </a:lnTo>
                <a:lnTo>
                  <a:pt x="1274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838080" y="3352680"/>
            <a:ext cx="78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过了几天，小柳树的芽儿变成小叶子，她穿上一身浅绿色的衣服，真美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2286000" y="3581280"/>
            <a:ext cx="4267080" cy="1043280"/>
          </a:xfrm>
          <a:custGeom>
            <a:avLst/>
            <a:gdLst>
              <a:gd name="textAreaLeft" fmla="*/ 65160 w 4267080"/>
              <a:gd name="textAreaRight" fmla="*/ 4201920 w 4267080"/>
              <a:gd name="textAreaTop" fmla="*/ 65160 h 1043280"/>
              <a:gd name="textAreaBottom" fmla="*/ 978120 h 1043280"/>
            </a:gdLst>
            <a:ahLst/>
            <a:rect l="textAreaLeft" t="textAreaTop" r="textAreaRight" b="textAreaBottom"/>
            <a:pathLst>
              <a:path w="88322" h="21600">
                <a:moveTo>
                  <a:pt x="0" y="0"/>
                </a:moveTo>
                <a:lnTo>
                  <a:pt x="88322" y="0"/>
                </a:lnTo>
                <a:lnTo>
                  <a:pt x="88322" y="21600"/>
                </a:lnTo>
                <a:lnTo>
                  <a:pt x="0" y="21600"/>
                </a:lnTo>
                <a:close/>
              </a:path>
              <a:path fill="lightenLess" w="88322" h="21600">
                <a:moveTo>
                  <a:pt x="0" y="0"/>
                </a:moveTo>
                <a:lnTo>
                  <a:pt x="88322" y="0"/>
                </a:lnTo>
                <a:lnTo>
                  <a:pt x="86972" y="1350"/>
                </a:lnTo>
                <a:lnTo>
                  <a:pt x="1350" y="1350"/>
                </a:lnTo>
                <a:close/>
              </a:path>
              <a:path fill="darken" w="88322" h="21600">
                <a:moveTo>
                  <a:pt x="88322" y="0"/>
                </a:moveTo>
                <a:lnTo>
                  <a:pt x="88322" y="21600"/>
                </a:lnTo>
                <a:lnTo>
                  <a:pt x="86972" y="20250"/>
                </a:lnTo>
                <a:lnTo>
                  <a:pt x="86972" y="1350"/>
                </a:lnTo>
                <a:close/>
              </a:path>
              <a:path fill="darkenLess" w="88322" h="21600">
                <a:moveTo>
                  <a:pt x="8832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86972" y="20250"/>
                </a:lnTo>
                <a:close/>
              </a:path>
              <a:path fill="lighten" w="8832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88322" h="21600">
                <a:moveTo>
                  <a:pt x="37117" y="3756"/>
                </a:moveTo>
                <a:lnTo>
                  <a:pt x="51205" y="10800"/>
                </a:lnTo>
                <a:lnTo>
                  <a:pt x="37117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533520" y="1371600"/>
            <a:ext cx="769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过了几天，小柳树的芽儿变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小叶子，她穿上一身浅绿色的衣 服，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像一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真美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>
            <a:off x="1981080" y="3809880"/>
            <a:ext cx="5715000" cy="0"/>
          </a:xfrm>
          <a:prstGeom prst="line">
            <a:avLst/>
          </a:prstGeom>
          <a:ln w="442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7931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5410080" y="5867280"/>
            <a:ext cx="1371600" cy="762120"/>
          </a:xfrm>
          <a:custGeom>
            <a:avLst/>
            <a:gdLst>
              <a:gd name="textAreaLeft" fmla="*/ 47520 w 1371600"/>
              <a:gd name="textAreaRight" fmla="*/ 1324080 w 13716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516" y="1350"/>
                </a:lnTo>
                <a:lnTo>
                  <a:pt x="1350" y="135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516" y="20250"/>
                </a:lnTo>
                <a:lnTo>
                  <a:pt x="37516" y="135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516" y="2025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866" h="21600">
                <a:moveTo>
                  <a:pt x="12389" y="3756"/>
                </a:moveTo>
                <a:lnTo>
                  <a:pt x="26477" y="10800"/>
                </a:lnTo>
                <a:lnTo>
                  <a:pt x="12389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1355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828800" y="6095880"/>
            <a:ext cx="914400" cy="533520"/>
          </a:xfrm>
          <a:custGeom>
            <a:avLst/>
            <a:gdLst>
              <a:gd name="textAreaLeft" fmla="*/ 33120 w 914400"/>
              <a:gd name="textAreaRight" fmla="*/ 881280 w 9144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60" y="1350"/>
                </a:lnTo>
                <a:lnTo>
                  <a:pt x="1350" y="135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60" y="20250"/>
                </a:lnTo>
                <a:lnTo>
                  <a:pt x="35660" y="135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660" y="2025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010" h="21600">
                <a:moveTo>
                  <a:pt x="11461" y="10800"/>
                </a:moveTo>
                <a:lnTo>
                  <a:pt x="25549" y="3756"/>
                </a:lnTo>
                <a:lnTo>
                  <a:pt x="25549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672040" y="636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8253360" y="6324480"/>
            <a:ext cx="890640" cy="533520"/>
          </a:xfrm>
          <a:custGeom>
            <a:avLst/>
            <a:gdLst>
              <a:gd name="textAreaLeft" fmla="*/ 33120 w 890640"/>
              <a:gd name="textAreaRight" fmla="*/ 857520 w 89064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36049" h="21600">
                <a:moveTo>
                  <a:pt x="0" y="0"/>
                </a:moveTo>
                <a:lnTo>
                  <a:pt x="36049" y="0"/>
                </a:lnTo>
                <a:lnTo>
                  <a:pt x="36049" y="21600"/>
                </a:lnTo>
                <a:lnTo>
                  <a:pt x="0" y="21600"/>
                </a:lnTo>
                <a:close/>
              </a:path>
              <a:path fill="lightenLess" w="36049" h="21600">
                <a:moveTo>
                  <a:pt x="0" y="0"/>
                </a:moveTo>
                <a:lnTo>
                  <a:pt x="36049" y="0"/>
                </a:lnTo>
                <a:lnTo>
                  <a:pt x="34699" y="1350"/>
                </a:lnTo>
                <a:lnTo>
                  <a:pt x="1350" y="1350"/>
                </a:lnTo>
                <a:close/>
              </a:path>
              <a:path fill="darken" w="36049" h="21600">
                <a:moveTo>
                  <a:pt x="36049" y="0"/>
                </a:moveTo>
                <a:lnTo>
                  <a:pt x="36049" y="21600"/>
                </a:lnTo>
                <a:lnTo>
                  <a:pt x="34699" y="20250"/>
                </a:lnTo>
                <a:lnTo>
                  <a:pt x="34699" y="1350"/>
                </a:lnTo>
                <a:close/>
              </a:path>
              <a:path fill="darkenLess" w="36049" h="21600">
                <a:moveTo>
                  <a:pt x="360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99" y="20250"/>
                </a:lnTo>
                <a:close/>
              </a:path>
              <a:path fill="lighten" w="360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049" h="21600">
                <a:moveTo>
                  <a:pt x="10981" y="3756"/>
                </a:moveTo>
                <a:lnTo>
                  <a:pt x="25068" y="10800"/>
                </a:lnTo>
                <a:lnTo>
                  <a:pt x="10981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39320" y="3276720"/>
            <a:ext cx="48682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又过了好些日子，小枣树才长出了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小的叶子。小柳树的叶子已经长得又细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长了。她在微风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得意地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跳起舞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424240" y="62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209680" y="6248520"/>
            <a:ext cx="838440" cy="457200"/>
          </a:xfrm>
          <a:custGeom>
            <a:avLst/>
            <a:gdLst>
              <a:gd name="textAreaLeft" fmla="*/ 28440 w 838440"/>
              <a:gd name="textAreaRight" fmla="*/ 810000 w 83844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247" y="1350"/>
                </a:lnTo>
                <a:lnTo>
                  <a:pt x="1350" y="135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247" y="20250"/>
                </a:lnTo>
                <a:lnTo>
                  <a:pt x="38247" y="135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247" y="2025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597" h="21600">
                <a:moveTo>
                  <a:pt x="12755" y="10800"/>
                </a:moveTo>
                <a:lnTo>
                  <a:pt x="26842" y="3756"/>
                </a:lnTo>
                <a:lnTo>
                  <a:pt x="26842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396040" y="636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5029200" y="6324480"/>
            <a:ext cx="990720" cy="533520"/>
          </a:xfrm>
          <a:custGeom>
            <a:avLst/>
            <a:gdLst>
              <a:gd name="textAreaLeft" fmla="*/ 33120 w 990720"/>
              <a:gd name="textAreaRight" fmla="*/ 957600 w 9907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748" y="1350"/>
                </a:lnTo>
                <a:lnTo>
                  <a:pt x="1350" y="135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748" y="20250"/>
                </a:lnTo>
                <a:lnTo>
                  <a:pt x="38748" y="135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48" y="2025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098" h="21600">
                <a:moveTo>
                  <a:pt x="13005" y="10800"/>
                </a:moveTo>
                <a:lnTo>
                  <a:pt x="27093" y="3756"/>
                </a:lnTo>
                <a:lnTo>
                  <a:pt x="27093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61048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8305920" y="6477120"/>
            <a:ext cx="838080" cy="380880"/>
          </a:xfrm>
          <a:custGeom>
            <a:avLst/>
            <a:gdLst>
              <a:gd name="textAreaLeft" fmla="*/ 23760 w 838080"/>
              <a:gd name="textAreaRight" fmla="*/ 814320 w 8380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54" y="1350"/>
                </a:lnTo>
                <a:lnTo>
                  <a:pt x="1350" y="135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54" y="20250"/>
                </a:lnTo>
                <a:lnTo>
                  <a:pt x="46154" y="135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6154" y="2025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504" h="21600">
                <a:moveTo>
                  <a:pt x="16708" y="3756"/>
                </a:moveTo>
                <a:lnTo>
                  <a:pt x="30796" y="10800"/>
                </a:lnTo>
                <a:lnTo>
                  <a:pt x="16708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533520"/>
            <a:ext cx="69343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993366"/>
                </a:solidFill>
                <a:latin typeface="隶书"/>
                <a:ea typeface="隶书"/>
              </a:rPr>
              <a:t>咏 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碧玉妆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万条垂下绿丝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二月春风似剪刀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4600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153280" y="6095880"/>
            <a:ext cx="990720" cy="586080"/>
          </a:xfrm>
          <a:custGeom>
            <a:avLst/>
            <a:gdLst>
              <a:gd name="textAreaLeft" fmla="*/ 36360 w 990720"/>
              <a:gd name="textAreaRight" fmla="*/ 954360 w 990720"/>
              <a:gd name="textAreaTop" fmla="*/ 36360 h 586080"/>
              <a:gd name="textAreaBottom" fmla="*/ 549720 h 586080"/>
            </a:gdLst>
            <a:ahLst/>
            <a:rect l="textAreaLeft" t="textAreaTop" r="textAreaRight" b="textAreaBottom"/>
            <a:pathLst>
              <a:path w="36504" h="21600">
                <a:moveTo>
                  <a:pt x="0" y="0"/>
                </a:moveTo>
                <a:lnTo>
                  <a:pt x="36504" y="0"/>
                </a:lnTo>
                <a:lnTo>
                  <a:pt x="36504" y="21600"/>
                </a:lnTo>
                <a:lnTo>
                  <a:pt x="0" y="21600"/>
                </a:lnTo>
                <a:close/>
              </a:path>
              <a:path fill="lightenLess" w="36504" h="21600">
                <a:moveTo>
                  <a:pt x="0" y="0"/>
                </a:moveTo>
                <a:lnTo>
                  <a:pt x="36504" y="0"/>
                </a:lnTo>
                <a:lnTo>
                  <a:pt x="35154" y="1350"/>
                </a:lnTo>
                <a:lnTo>
                  <a:pt x="1350" y="1350"/>
                </a:lnTo>
                <a:close/>
              </a:path>
              <a:path fill="darken" w="36504" h="21600">
                <a:moveTo>
                  <a:pt x="36504" y="0"/>
                </a:moveTo>
                <a:lnTo>
                  <a:pt x="36504" y="21600"/>
                </a:lnTo>
                <a:lnTo>
                  <a:pt x="35154" y="20250"/>
                </a:lnTo>
                <a:lnTo>
                  <a:pt x="35154" y="1350"/>
                </a:lnTo>
                <a:close/>
              </a:path>
              <a:path fill="darkenLess" w="36504" h="21600">
                <a:moveTo>
                  <a:pt x="3650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154" y="20250"/>
                </a:lnTo>
                <a:close/>
              </a:path>
              <a:path fill="lighten" w="3650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504" h="21600">
                <a:moveTo>
                  <a:pt x="11208" y="3756"/>
                </a:moveTo>
                <a:lnTo>
                  <a:pt x="25296" y="10800"/>
                </a:lnTo>
                <a:lnTo>
                  <a:pt x="11208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5:14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5:13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