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D2D-46E9-4AA9-BDA0-CF5BE817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E0C-35CA-4245-8241-093617BE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FA2-93A2-4418-8DF6-5DE0413F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CF0-4422-485D-909D-D7F2E7B5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B3E-6018-453A-86D2-AA5658DC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A0E-88A2-4696-9691-8F688206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DA5-A5C0-4826-B3C2-E62F210A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862-4413-4799-A109-45372D35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F6A-DBC9-49D7-9F5E-2C55AECA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549-943E-470F-88A9-51E299C2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D50-97DB-466C-BA35-BF34318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192-F955-4F7F-BD51-4913A706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BA2E-2CA5-444C-92CD-FBAAAA7AA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5932440" y="601344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62400" y="1270080"/>
            <a:ext cx="24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小苗与大树的对话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莎士比亚说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书籍是全人类的营养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根说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书籍是横渡时间大海的航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尔基说：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书籍是人类进步的阶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人说：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书籍是积累世人智慧的不灭的明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贝内特说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书籍是作者为我们渡过危险的人生之海而准备的罗盘、望远镜、六分仪和海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539640" y="1268280"/>
            <a:ext cx="799308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林好汉    水</a:t>
            </a:r>
            <a:r>
              <a:rPr b="1" lang="zh-CN" sz="4800" spc="-1" strike="noStrike">
                <a:solidFill>
                  <a:srgbClr val="006666"/>
                </a:solidFill>
                <a:latin typeface="Arial"/>
                <a:ea typeface="黑体"/>
              </a:rPr>
              <a:t>浒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济公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滚瓜烂熟    跟前儿    偏科  文理贯通    起码  一百单八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24000" y="708480"/>
            <a:ext cx="84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苗苗和季先生交流了哪几方面的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836720" y="1413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836720" y="217476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偏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836720" y="299556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学习外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836720" y="386064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积累古诗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79280" y="479736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于这几个问题他们各有哪些见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是从哪些词句了解到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310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83E-45B1-49C4-B0F8-4BA3890542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1080" y="184464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，是一把钥匙，为我打开知识的宝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，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，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，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944720" y="2421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位向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944720" y="31399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架望远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608360" y="2421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帮我找到智慧的源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608360" y="31399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让我看得很远很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260280"/>
            <a:ext cx="914400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坎普腾的托马斯： 我到处寻找安宁，却无处可觅，只有在独自阅读一本小书时，我才得到了安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国： 把一页书好好消化，胜过匆忙地阅读一本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塔吉克族： 草要经过牛的反复消化，才能变成牛奶；书要经过人的反复思考，才能变成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司马光： 读重要之书，不可不背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切斯特菲尔德： 你们把世界这本伟大的书认真读一读吧，读一遍，再读一遍，把它铭记心里，采纳它的风格，然后将它变成你自己的东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未见书，如得良友；读已见书，如逢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2:10:57Z</dcterms:created>
  <dc:creator>An</dc:creator>
  <dc:description/>
  <dc:language>en-US</dc:language>
  <cp:lastModifiedBy/>
  <dcterms:modified xsi:type="dcterms:W3CDTF">2015-07-14T14:14:35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