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B67-9F47-44E0-9A5B-B0F5CC691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A7E-9C45-40A4-868B-C76C2951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BBB-BF57-437C-B330-20624BF5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B8D-AE60-4280-B51D-5D3AB67D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4F1C-D24E-49C2-89D0-1AFC8E00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341-2B68-47E5-907C-CF4FD2B4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4E6-85C1-4E74-B7AB-343C37F6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C37-E6EC-4BD6-8EC9-356C1A40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0908-CA7A-4BC6-8151-3E7206A5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0F5-8849-4FAC-91C1-E1190E71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624-EBD8-4E57-B8F7-DA5C53BC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996-54E8-4B15-BBB6-265F0BE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4AFC-75BF-4468-BC82-8B7FCAAFAC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1160" y="0"/>
            <a:ext cx="9167760" cy="5145120"/>
            <a:chOff x="-11160" y="0"/>
            <a:chExt cx="9167760" cy="5145120"/>
          </a:xfrm>
        </p:grpSpPr>
        <p:pic>
          <p:nvPicPr>
            <p:cNvPr id="42" name="矩形 21" descr=""/>
            <p:cNvPicPr/>
            <p:nvPr/>
          </p:nvPicPr>
          <p:blipFill>
            <a:blip r:embed="rId1"/>
            <a:stretch/>
          </p:blipFill>
          <p:spPr>
            <a:xfrm>
              <a:off x="-9720" y="0"/>
              <a:ext cx="916632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-11160" y="0"/>
              <a:ext cx="916776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3" descr="E:\卡拉赞\GUANXIAN.png"/>
          <p:cNvPicPr/>
          <p:nvPr/>
        </p:nvPicPr>
        <p:blipFill>
          <a:blip r:embed="rId2"/>
          <a:srcRect l="0" t="5983" r="0" b="0"/>
          <a:stretch/>
        </p:blipFill>
        <p:spPr>
          <a:xfrm>
            <a:off x="-47520" y="295200"/>
            <a:ext cx="9144000" cy="4838760"/>
          </a:xfrm>
          <a:prstGeom prst="rect">
            <a:avLst/>
          </a:prstGeom>
          <a:ln w="0">
            <a:noFill/>
          </a:ln>
        </p:spPr>
      </p:pic>
      <p:sp>
        <p:nvSpPr>
          <p:cNvPr id="45" name="Oval 6"/>
          <p:cNvSpPr/>
          <p:nvPr/>
        </p:nvSpPr>
        <p:spPr>
          <a:xfrm flipH="1">
            <a:off x="0" y="3946680"/>
            <a:ext cx="9158400" cy="118872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solidFill>
            <a:srgbClr val="1d4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6"/>
          <p:cNvSpPr/>
          <p:nvPr/>
        </p:nvSpPr>
        <p:spPr>
          <a:xfrm flipH="1">
            <a:off x="-13320" y="3735360"/>
            <a:ext cx="9156600" cy="118764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gradFill rotWithShape="0">
            <a:gsLst>
              <a:gs pos="0">
                <a:srgbClr val="00d1a7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6"/>
          <p:cNvSpPr/>
          <p:nvPr/>
        </p:nvSpPr>
        <p:spPr>
          <a:xfrm flipH="1">
            <a:off x="0" y="3573360"/>
            <a:ext cx="9158400" cy="118764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五角星 6"/>
          <p:cNvSpPr/>
          <p:nvPr/>
        </p:nvSpPr>
        <p:spPr>
          <a:xfrm rot="19800000">
            <a:off x="4195800" y="1402920"/>
            <a:ext cx="2663640" cy="2664000"/>
          </a:xfrm>
          <a:custGeom>
            <a:avLst/>
            <a:gdLst/>
            <a:ahLst/>
            <a:rect l="l" t="t" r="r" b="b"/>
            <a:pathLst>
              <a:path w="2664296" h="2664296">
                <a:moveTo>
                  <a:pt x="3" y="1017668"/>
                </a:moveTo>
                <a:lnTo>
                  <a:pt x="920295" y="876744"/>
                </a:lnTo>
                <a:lnTo>
                  <a:pt x="1332148" y="0"/>
                </a:lnTo>
                <a:lnTo>
                  <a:pt x="1744001" y="876744"/>
                </a:lnTo>
                <a:lnTo>
                  <a:pt x="2664293" y="1017668"/>
                </a:lnTo>
                <a:lnTo>
                  <a:pt x="1998540" y="1700450"/>
                </a:lnTo>
                <a:lnTo>
                  <a:pt x="2155459" y="2664289"/>
                </a:lnTo>
                <a:lnTo>
                  <a:pt x="1332148" y="2209528"/>
                </a:lnTo>
                <a:lnTo>
                  <a:pt x="508837" y="2664289"/>
                </a:lnTo>
                <a:lnTo>
                  <a:pt x="665756" y="1700450"/>
                </a:lnTo>
                <a:lnTo>
                  <a:pt x="3" y="10176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五角星 5"/>
          <p:cNvSpPr/>
          <p:nvPr/>
        </p:nvSpPr>
        <p:spPr>
          <a:xfrm rot="19800000">
            <a:off x="4051080" y="2193480"/>
            <a:ext cx="1871640" cy="18734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五角星 8"/>
          <p:cNvSpPr/>
          <p:nvPr/>
        </p:nvSpPr>
        <p:spPr>
          <a:xfrm rot="19800000">
            <a:off x="1963800" y="1706040"/>
            <a:ext cx="1566720" cy="1565280"/>
          </a:xfrm>
          <a:custGeom>
            <a:avLst/>
            <a:gdLst/>
            <a:ahLst/>
            <a:rect l="l" t="t" r="r" b="b"/>
            <a:pathLst>
              <a:path w="1566074" h="1566074">
                <a:moveTo>
                  <a:pt x="2" y="598186"/>
                </a:moveTo>
                <a:lnTo>
                  <a:pt x="540950" y="515350"/>
                </a:lnTo>
                <a:lnTo>
                  <a:pt x="783037" y="0"/>
                </a:lnTo>
                <a:lnTo>
                  <a:pt x="1025124" y="515350"/>
                </a:lnTo>
                <a:lnTo>
                  <a:pt x="1566072" y="598186"/>
                </a:lnTo>
                <a:lnTo>
                  <a:pt x="1174743" y="999525"/>
                </a:lnTo>
                <a:lnTo>
                  <a:pt x="1266979" y="1566070"/>
                </a:lnTo>
                <a:lnTo>
                  <a:pt x="783037" y="1298761"/>
                </a:lnTo>
                <a:lnTo>
                  <a:pt x="299095" y="1566070"/>
                </a:lnTo>
                <a:lnTo>
                  <a:pt x="391331" y="999525"/>
                </a:lnTo>
                <a:lnTo>
                  <a:pt x="2" y="5981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五角星 5"/>
          <p:cNvSpPr/>
          <p:nvPr/>
        </p:nvSpPr>
        <p:spPr>
          <a:xfrm rot="19800000">
            <a:off x="1717560" y="2301840"/>
            <a:ext cx="1100160" cy="1101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五角星 5"/>
          <p:cNvSpPr/>
          <p:nvPr/>
        </p:nvSpPr>
        <p:spPr>
          <a:xfrm rot="19800000">
            <a:off x="2882880" y="3444480"/>
            <a:ext cx="1268280" cy="12700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五角星 11"/>
          <p:cNvSpPr/>
          <p:nvPr/>
        </p:nvSpPr>
        <p:spPr>
          <a:xfrm rot="19800000">
            <a:off x="7029000" y="1069560"/>
            <a:ext cx="1324080" cy="1322280"/>
          </a:xfrm>
          <a:custGeom>
            <a:avLst/>
            <a:gdLst/>
            <a:ahLst/>
            <a:rect l="l" t="t" r="r" b="b"/>
            <a:pathLst>
              <a:path w="1323267" h="1323267">
                <a:moveTo>
                  <a:pt x="1" y="505442"/>
                </a:moveTo>
                <a:lnTo>
                  <a:pt x="457080" y="435449"/>
                </a:lnTo>
                <a:lnTo>
                  <a:pt x="661634" y="0"/>
                </a:lnTo>
                <a:lnTo>
                  <a:pt x="866187" y="435449"/>
                </a:lnTo>
                <a:lnTo>
                  <a:pt x="1323266" y="505442"/>
                </a:lnTo>
                <a:lnTo>
                  <a:pt x="992608" y="844557"/>
                </a:lnTo>
                <a:lnTo>
                  <a:pt x="1070545" y="1323264"/>
                </a:lnTo>
                <a:lnTo>
                  <a:pt x="661634" y="1097399"/>
                </a:lnTo>
                <a:lnTo>
                  <a:pt x="252722" y="1323264"/>
                </a:lnTo>
                <a:lnTo>
                  <a:pt x="330659" y="844557"/>
                </a:lnTo>
                <a:lnTo>
                  <a:pt x="1" y="505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五角星 5"/>
          <p:cNvSpPr/>
          <p:nvPr/>
        </p:nvSpPr>
        <p:spPr>
          <a:xfrm rot="19800000">
            <a:off x="7640640" y="421920"/>
            <a:ext cx="606600" cy="606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五角星 13"/>
          <p:cNvSpPr/>
          <p:nvPr/>
        </p:nvSpPr>
        <p:spPr>
          <a:xfrm rot="19800000">
            <a:off x="1290240" y="4065120"/>
            <a:ext cx="827280" cy="827280"/>
          </a:xfrm>
          <a:custGeom>
            <a:avLst/>
            <a:gdLst/>
            <a:ahLst/>
            <a:rect l="l" t="t" r="r" b="b"/>
            <a:pathLst>
              <a:path w="827198" h="827198">
                <a:moveTo>
                  <a:pt x="1" y="315961"/>
                </a:moveTo>
                <a:lnTo>
                  <a:pt x="285729" y="272207"/>
                </a:lnTo>
                <a:lnTo>
                  <a:pt x="413599" y="0"/>
                </a:lnTo>
                <a:lnTo>
                  <a:pt x="541469" y="272207"/>
                </a:lnTo>
                <a:lnTo>
                  <a:pt x="827197" y="315961"/>
                </a:lnTo>
                <a:lnTo>
                  <a:pt x="620497" y="527948"/>
                </a:lnTo>
                <a:lnTo>
                  <a:pt x="669217" y="827196"/>
                </a:lnTo>
                <a:lnTo>
                  <a:pt x="413599" y="686004"/>
                </a:lnTo>
                <a:lnTo>
                  <a:pt x="157981" y="827196"/>
                </a:lnTo>
                <a:lnTo>
                  <a:pt x="206701" y="527948"/>
                </a:lnTo>
                <a:lnTo>
                  <a:pt x="1" y="3159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五角星 5"/>
          <p:cNvSpPr/>
          <p:nvPr/>
        </p:nvSpPr>
        <p:spPr>
          <a:xfrm rot="19800000">
            <a:off x="7292880" y="2090880"/>
            <a:ext cx="1100160" cy="1101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5"/>
          <p:cNvSpPr/>
          <p:nvPr/>
        </p:nvSpPr>
        <p:spPr>
          <a:xfrm>
            <a:off x="7992360" y="41958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RAPI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32720" y="4078440"/>
            <a:ext cx="453960" cy="423720"/>
            <a:chOff x="7632720" y="4078440"/>
            <a:chExt cx="453960" cy="423720"/>
          </a:xfrm>
        </p:grpSpPr>
        <p:grpSp>
          <p:nvGrpSpPr>
            <p:cNvPr id="59" name=""/>
            <p:cNvGrpSpPr/>
            <p:nvPr/>
          </p:nvGrpSpPr>
          <p:grpSpPr>
            <a:xfrm>
              <a:off x="7632720" y="4145760"/>
              <a:ext cx="405000" cy="300960"/>
              <a:chOff x="7632720" y="4145760"/>
              <a:chExt cx="405000" cy="300960"/>
            </a:xfrm>
          </p:grpSpPr>
          <p:pic>
            <p:nvPicPr>
              <p:cNvPr id="60" name="Freeform 4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720" y="4145760"/>
                <a:ext cx="405000" cy="30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7632720" y="4146480"/>
                <a:ext cx="4024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7761600" y="4078440"/>
              <a:ext cx="183960" cy="423720"/>
              <a:chOff x="7761600" y="4078440"/>
              <a:chExt cx="183960" cy="423720"/>
            </a:xfrm>
          </p:grpSpPr>
          <p:pic>
            <p:nvPicPr>
              <p:cNvPr id="63" name="Freeform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7766640" y="4078800"/>
                <a:ext cx="177120" cy="4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7761600" y="4078440"/>
                <a:ext cx="18396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718400" y="4090680"/>
              <a:ext cx="276120" cy="380880"/>
              <a:chOff x="7718400" y="4090680"/>
              <a:chExt cx="276120" cy="380880"/>
            </a:xfrm>
          </p:grpSpPr>
          <p:pic>
            <p:nvPicPr>
              <p:cNvPr id="66" name="Freeform 50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0" y="4093560"/>
                <a:ext cx="27612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719480" y="4090680"/>
                <a:ext cx="27216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7681680" y="4195080"/>
              <a:ext cx="405000" cy="202680"/>
              <a:chOff x="7681680" y="4195080"/>
              <a:chExt cx="405000" cy="202680"/>
            </a:xfrm>
          </p:grpSpPr>
          <p:pic>
            <p:nvPicPr>
              <p:cNvPr id="69" name="Freeform 51" descr=""/>
              <p:cNvPicPr/>
              <p:nvPr/>
            </p:nvPicPr>
            <p:blipFill>
              <a:blip r:embed="rId6"/>
              <a:stretch/>
            </p:blipFill>
            <p:spPr>
              <a:xfrm>
                <a:off x="7683480" y="4195080"/>
                <a:ext cx="400320" cy="19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>
                <a:off x="7681680" y="4195800"/>
                <a:ext cx="40500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" name="Freeform 52"/>
            <p:cNvSpPr/>
            <p:nvPr/>
          </p:nvSpPr>
          <p:spPr>
            <a:xfrm>
              <a:off x="7808760" y="4188600"/>
              <a:ext cx="163080" cy="16668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2" y="55"/>
                  </a:moveTo>
                  <a:cubicBezTo>
                    <a:pt x="0" y="86"/>
                    <a:pt x="23" y="112"/>
                    <a:pt x="53" y="114"/>
                  </a:cubicBezTo>
                  <a:cubicBezTo>
                    <a:pt x="84" y="116"/>
                    <a:pt x="110" y="93"/>
                    <a:pt x="112" y="62"/>
                  </a:cubicBezTo>
                  <a:cubicBezTo>
                    <a:pt x="114" y="31"/>
                    <a:pt x="91" y="4"/>
                    <a:pt x="61" y="2"/>
                  </a:cubicBezTo>
                  <a:cubicBezTo>
                    <a:pt x="30" y="0"/>
                    <a:pt x="4" y="24"/>
                    <a:pt x="2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6640" y="95400"/>
            <a:ext cx="6813000" cy="2101320"/>
            <a:chOff x="476640" y="95400"/>
            <a:chExt cx="6813000" cy="2101320"/>
          </a:xfrm>
        </p:grpSpPr>
        <p:sp>
          <p:nvSpPr>
            <p:cNvPr id="73" name="TextBox 7"/>
            <p:cNvSpPr/>
            <p:nvPr/>
          </p:nvSpPr>
          <p:spPr>
            <a:xfrm>
              <a:off x="617760" y="95400"/>
              <a:ext cx="3381120" cy="16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500" spc="-1" strike="noStrike">
                  <a:solidFill>
                    <a:srgbClr val="00b0f0"/>
                  </a:solidFill>
                  <a:latin typeface="方正超粗黑简体"/>
                  <a:ea typeface="方正超粗黑简体"/>
                </a:rPr>
                <a:t>20</a:t>
              </a:r>
              <a:r>
                <a:rPr b="0" lang="en-US" sz="10500" spc="-1" strike="noStrike">
                  <a:solidFill>
                    <a:srgbClr val="ffffff"/>
                  </a:solidFill>
                  <a:latin typeface="方正超粗黑简体"/>
                  <a:ea typeface="方正超粗黑简体"/>
                </a:rPr>
                <a:t>14</a:t>
              </a:r>
              <a:endParaRPr b="0" lang="en-US" sz="10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18"/>
            <p:cNvSpPr/>
            <p:nvPr/>
          </p:nvSpPr>
          <p:spPr>
            <a:xfrm>
              <a:off x="476640" y="1416960"/>
              <a:ext cx="34178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POWERPOINT</a:t>
              </a: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30"/>
            <p:cNvSpPr/>
            <p:nvPr/>
          </p:nvSpPr>
          <p:spPr>
            <a:xfrm>
              <a:off x="4397760" y="1149120"/>
              <a:ext cx="1541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UCCESS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TextBox 23"/>
            <p:cNvSpPr/>
            <p:nvPr/>
          </p:nvSpPr>
          <p:spPr>
            <a:xfrm>
              <a:off x="4394520" y="310320"/>
              <a:ext cx="28951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hanghai Rapidesign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vertising Co.,ltd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矩形 20"/>
            <p:cNvSpPr/>
            <p:nvPr/>
          </p:nvSpPr>
          <p:spPr>
            <a:xfrm>
              <a:off x="4093200" y="432720"/>
              <a:ext cx="115920" cy="1570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Freeform 16"/>
          <p:cNvSpPr/>
          <p:nvPr/>
        </p:nvSpPr>
        <p:spPr>
          <a:xfrm>
            <a:off x="838080" y="5143680"/>
            <a:ext cx="1679760" cy="4943160"/>
          </a:xfrm>
          <a:custGeom>
            <a:avLst/>
            <a:gdLst/>
            <a:ahLst/>
            <a:rect l="l" t="t" r="r" b="b"/>
            <a:pathLst>
              <a:path w="871" h="2564">
                <a:moveTo>
                  <a:pt x="557" y="2564"/>
                </a:moveTo>
                <a:cubicBezTo>
                  <a:pt x="551" y="2198"/>
                  <a:pt x="551" y="2198"/>
                  <a:pt x="551" y="2198"/>
                </a:cubicBezTo>
                <a:cubicBezTo>
                  <a:pt x="531" y="2008"/>
                  <a:pt x="603" y="1684"/>
                  <a:pt x="603" y="1684"/>
                </a:cubicBezTo>
                <a:cubicBezTo>
                  <a:pt x="625" y="1564"/>
                  <a:pt x="591" y="1430"/>
                  <a:pt x="591" y="1430"/>
                </a:cubicBezTo>
                <a:cubicBezTo>
                  <a:pt x="619" y="1368"/>
                  <a:pt x="643" y="1210"/>
                  <a:pt x="643" y="1210"/>
                </a:cubicBezTo>
                <a:cubicBezTo>
                  <a:pt x="669" y="1256"/>
                  <a:pt x="789" y="1094"/>
                  <a:pt x="789" y="1094"/>
                </a:cubicBezTo>
                <a:cubicBezTo>
                  <a:pt x="839" y="1048"/>
                  <a:pt x="817" y="988"/>
                  <a:pt x="817" y="988"/>
                </a:cubicBezTo>
                <a:cubicBezTo>
                  <a:pt x="871" y="932"/>
                  <a:pt x="841" y="822"/>
                  <a:pt x="841" y="822"/>
                </a:cubicBezTo>
                <a:cubicBezTo>
                  <a:pt x="859" y="796"/>
                  <a:pt x="853" y="734"/>
                  <a:pt x="853" y="734"/>
                </a:cubicBezTo>
                <a:cubicBezTo>
                  <a:pt x="851" y="634"/>
                  <a:pt x="779" y="478"/>
                  <a:pt x="779" y="478"/>
                </a:cubicBezTo>
                <a:cubicBezTo>
                  <a:pt x="788" y="426"/>
                  <a:pt x="788" y="426"/>
                  <a:pt x="788" y="426"/>
                </a:cubicBezTo>
                <a:cubicBezTo>
                  <a:pt x="782" y="333"/>
                  <a:pt x="619" y="164"/>
                  <a:pt x="619" y="164"/>
                </a:cubicBezTo>
                <a:cubicBezTo>
                  <a:pt x="531" y="0"/>
                  <a:pt x="406" y="164"/>
                  <a:pt x="406" y="164"/>
                </a:cubicBezTo>
                <a:cubicBezTo>
                  <a:pt x="335" y="257"/>
                  <a:pt x="74" y="448"/>
                  <a:pt x="74" y="448"/>
                </a:cubicBezTo>
                <a:cubicBezTo>
                  <a:pt x="0" y="491"/>
                  <a:pt x="24" y="562"/>
                  <a:pt x="24" y="562"/>
                </a:cubicBezTo>
                <a:cubicBezTo>
                  <a:pt x="31" y="748"/>
                  <a:pt x="86" y="1430"/>
                  <a:pt x="86" y="1430"/>
                </a:cubicBezTo>
                <a:cubicBezTo>
                  <a:pt x="159" y="2014"/>
                  <a:pt x="2" y="2548"/>
                  <a:pt x="2" y="2548"/>
                </a:cubicBezTo>
                <a:lnTo>
                  <a:pt x="557" y="256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8"/>
          <p:cNvSpPr/>
          <p:nvPr/>
        </p:nvSpPr>
        <p:spPr>
          <a:xfrm flipH="1">
            <a:off x="-5551560" y="1415880"/>
            <a:ext cx="5538960" cy="2119320"/>
          </a:xfrm>
          <a:custGeom>
            <a:avLst/>
            <a:gdLst/>
            <a:ahLst/>
            <a:rect l="l" t="t" r="r" b="b"/>
            <a:pathLst>
              <a:path w="1205" h="461">
                <a:moveTo>
                  <a:pt x="159" y="204"/>
                </a:moveTo>
                <a:cubicBezTo>
                  <a:pt x="160" y="196"/>
                  <a:pt x="160" y="196"/>
                  <a:pt x="160" y="196"/>
                </a:cubicBezTo>
                <a:cubicBezTo>
                  <a:pt x="130" y="160"/>
                  <a:pt x="130" y="160"/>
                  <a:pt x="130" y="160"/>
                </a:cubicBezTo>
                <a:cubicBezTo>
                  <a:pt x="113" y="150"/>
                  <a:pt x="59" y="96"/>
                  <a:pt x="59" y="96"/>
                </a:cubicBezTo>
                <a:cubicBezTo>
                  <a:pt x="0" y="40"/>
                  <a:pt x="29" y="9"/>
                  <a:pt x="29" y="9"/>
                </a:cubicBezTo>
                <a:cubicBezTo>
                  <a:pt x="36" y="0"/>
                  <a:pt x="62" y="33"/>
                  <a:pt x="62" y="33"/>
                </a:cubicBezTo>
                <a:cubicBezTo>
                  <a:pt x="71" y="50"/>
                  <a:pt x="139" y="97"/>
                  <a:pt x="139" y="97"/>
                </a:cubicBezTo>
                <a:cubicBezTo>
                  <a:pt x="158" y="108"/>
                  <a:pt x="172" y="116"/>
                  <a:pt x="172" y="116"/>
                </a:cubicBezTo>
                <a:cubicBezTo>
                  <a:pt x="199" y="148"/>
                  <a:pt x="231" y="171"/>
                  <a:pt x="231" y="171"/>
                </a:cubicBezTo>
                <a:cubicBezTo>
                  <a:pt x="231" y="171"/>
                  <a:pt x="261" y="159"/>
                  <a:pt x="279" y="156"/>
                </a:cubicBezTo>
                <a:cubicBezTo>
                  <a:pt x="296" y="153"/>
                  <a:pt x="325" y="162"/>
                  <a:pt x="325" y="162"/>
                </a:cubicBezTo>
                <a:cubicBezTo>
                  <a:pt x="349" y="138"/>
                  <a:pt x="370" y="162"/>
                  <a:pt x="370" y="162"/>
                </a:cubicBezTo>
                <a:cubicBezTo>
                  <a:pt x="404" y="205"/>
                  <a:pt x="521" y="296"/>
                  <a:pt x="521" y="296"/>
                </a:cubicBezTo>
                <a:cubicBezTo>
                  <a:pt x="549" y="263"/>
                  <a:pt x="571" y="278"/>
                  <a:pt x="571" y="278"/>
                </a:cubicBezTo>
                <a:cubicBezTo>
                  <a:pt x="608" y="291"/>
                  <a:pt x="684" y="278"/>
                  <a:pt x="684" y="278"/>
                </a:cubicBezTo>
                <a:cubicBezTo>
                  <a:pt x="1091" y="205"/>
                  <a:pt x="1205" y="176"/>
                  <a:pt x="1205" y="176"/>
                </a:cubicBezTo>
                <a:cubicBezTo>
                  <a:pt x="1205" y="435"/>
                  <a:pt x="1205" y="435"/>
                  <a:pt x="1205" y="435"/>
                </a:cubicBezTo>
                <a:cubicBezTo>
                  <a:pt x="1049" y="461"/>
                  <a:pt x="735" y="437"/>
                  <a:pt x="735" y="437"/>
                </a:cubicBezTo>
                <a:cubicBezTo>
                  <a:pt x="655" y="430"/>
                  <a:pt x="606" y="438"/>
                  <a:pt x="606" y="438"/>
                </a:cubicBezTo>
                <a:cubicBezTo>
                  <a:pt x="519" y="451"/>
                  <a:pt x="399" y="445"/>
                  <a:pt x="399" y="445"/>
                </a:cubicBezTo>
                <a:cubicBezTo>
                  <a:pt x="366" y="435"/>
                  <a:pt x="309" y="437"/>
                  <a:pt x="309" y="437"/>
                </a:cubicBezTo>
                <a:cubicBezTo>
                  <a:pt x="279" y="424"/>
                  <a:pt x="230" y="397"/>
                  <a:pt x="230" y="397"/>
                </a:cubicBezTo>
                <a:cubicBezTo>
                  <a:pt x="148" y="351"/>
                  <a:pt x="168" y="266"/>
                  <a:pt x="168" y="266"/>
                </a:cubicBezTo>
                <a:cubicBezTo>
                  <a:pt x="168" y="266"/>
                  <a:pt x="184" y="252"/>
                  <a:pt x="159" y="20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14"/>
          <p:cNvSpPr/>
          <p:nvPr/>
        </p:nvSpPr>
        <p:spPr>
          <a:xfrm flipH="1" rot="6300000">
            <a:off x="6973200" y="-122328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椭圆 31"/>
          <p:cNvSpPr/>
          <p:nvPr/>
        </p:nvSpPr>
        <p:spPr>
          <a:xfrm>
            <a:off x="1585800" y="5146560"/>
            <a:ext cx="600120" cy="6001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五角星 52"/>
          <p:cNvSpPr/>
          <p:nvPr/>
        </p:nvSpPr>
        <p:spPr>
          <a:xfrm>
            <a:off x="2925720" y="5165640"/>
            <a:ext cx="9097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五角星 5"/>
          <p:cNvSpPr/>
          <p:nvPr/>
        </p:nvSpPr>
        <p:spPr>
          <a:xfrm>
            <a:off x="1576440" y="5165640"/>
            <a:ext cx="72864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五角星 5"/>
          <p:cNvSpPr/>
          <p:nvPr/>
        </p:nvSpPr>
        <p:spPr>
          <a:xfrm>
            <a:off x="615312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五角星 55"/>
          <p:cNvSpPr/>
          <p:nvPr/>
        </p:nvSpPr>
        <p:spPr>
          <a:xfrm>
            <a:off x="5618160" y="5165640"/>
            <a:ext cx="9079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五角星 56"/>
          <p:cNvSpPr/>
          <p:nvPr/>
        </p:nvSpPr>
        <p:spPr>
          <a:xfrm>
            <a:off x="4586400" y="5165640"/>
            <a:ext cx="72684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五角星 5"/>
          <p:cNvSpPr/>
          <p:nvPr/>
        </p:nvSpPr>
        <p:spPr>
          <a:xfrm>
            <a:off x="3236760" y="5165640"/>
            <a:ext cx="72720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五角星 5"/>
          <p:cNvSpPr/>
          <p:nvPr/>
        </p:nvSpPr>
        <p:spPr>
          <a:xfrm>
            <a:off x="90324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五角星 59"/>
          <p:cNvSpPr/>
          <p:nvPr/>
        </p:nvSpPr>
        <p:spPr>
          <a:xfrm>
            <a:off x="7602480" y="5165640"/>
            <a:ext cx="72720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137240" y="2905200"/>
            <a:ext cx="26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新年动态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2875 -0.68334 E">
                                      <p:cBhvr>
                                        <p:cTn id="6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2875 -0.68334 E">
                                      <p:cBhvr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autoRev="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4.44444E-006 L 0.275 -0.29167 E">
                                      <p:cBhvr>
                                        <p:cTn id="18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autoRev="1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05556E-006 4.44444E-006 L 0.26875 -0.33334 E">
                                      <p:cBhvr>
                                        <p:cTn id="24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autoRev="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05556E-006 4.44444E-006 L 0.25937 -0.36667 E">
                                      <p:cBhvr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38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autoRev="1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05556E-006 4.44444E-006 L 0.25 -0.55 E">
                                      <p:cBhvr>
                                        <p:cTn id="4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 repeatCount="indefinite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42" dur="1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autoRev="1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3.05556E-006 4.44444E-006 L 0.425 -0.55556 E">
                                      <p:cBhvr>
                                        <p:cTn id="48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autoRev="1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3.05556E-006 4.44444E-006 L 0.33125 -0.48056 E">
                                      <p:cBhvr>
                                        <p:cTn id="54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0.20833 0.28241 L 1.38889E-006 1.23457E-007 E">
                                      <p:cBhvr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autoRev="1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3.05556E-006 4.44444E-006 L 0.15104 -0.25926 E">
                                      <p:cBhvr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autoRev="1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3.05556E-006 4.44444E-006 L 0.66562 -0.88889 E">
                                      <p:cBhvr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0.10521 0.59352 L 2.77778E-006 -6.17284E-007 E">
                                      <p:cBhvr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autoRev="1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3.05556E-006 2.28916E-006 L 0.08889 -0.56349 E">
                                      <p:cBhvr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3855 0.48611 L 4.16667E-006 -2.46914E-006 E">
                                      <p:cBhvr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autoRev="1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3.33333E-006 -2.46914E-006 L 0.05417 -0.48055 E">
                                      <p:cBhvr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42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42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3.05556E-006 4.44444E-006 L 0.60625 -0.80926 E">
                                      <p:cBhvr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42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-0.64914 0.54753 L 4.44444E-006 2.46914E-007 E">
                                      <p:cBhvr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autoRev="1" nodeType="withEffect" fill="hold" presetClass="path" presetID="42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3.05556E-006 4.44444E-006 L 0.63437 -0.6 E">
                                      <p:cBhvr>
                                        <p:cTn id="90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.01145 0.20833 L 4.16667E-006 -3.7037E-007 E">
                                      <p:cBhvr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autoRev="1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1.66667E-006 -3.95062E-006 L 0.00312 -0.21666 E">
                                      <p:cBhvr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16500"/>
                                  </p:stCondLst>
                                  <p:childTnLst>
                                    <p:animMotion origin="layout" path="M 2.77778E-007 -2.83951E-006 L 0.56667 -0.00154 E">
                                      <p:cBhvr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8">
                                  <p:stCondLst>
                                    <p:cond delay="17000"/>
                                  </p:stCondLst>
                                  <p:childTnLst>
                                    <p:animRot by="1200000">
                                      <p:cBhvr>
                                        <p:cTn id="107" dur="2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8">
                                  <p:stCondLst>
                                    <p:cond delay="1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 repeatCount="2000">
                                  <p:stCondLst>
                                    <p:cond delay="17000"/>
                                  </p:stCondLst>
                                  <p:childTnLst>
                                    <p:animRot by="-21599820">
                                      <p:cBhvr>
                                        <p:cTn id="1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 repeatCount="2000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1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 repeatCount="2000">
                                  <p:stCondLst>
                                    <p:cond delay="1750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 repeatCount="200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8" repeatCount="2000">
                                  <p:stCondLst>
                                    <p:cond delay="1760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 repeatCount="2000">
                                  <p:stCondLst>
                                    <p:cond delay="177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2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 repeatCount="2000">
                                  <p:stCondLst>
                                    <p:cond delay="1770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 repeatCount="2000">
                                  <p:stCondLst>
                                    <p:cond delay="178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2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 repeatCount="2000">
                                  <p:stCondLst>
                                    <p:cond delay="1780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 repeatCount="2000">
                                  <p:stCondLst>
                                    <p:cond delay="179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3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8" repeatCount="2000">
                                  <p:stCondLst>
                                    <p:cond delay="1790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 repeatCount="2000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3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 repeatCount="2000">
                                  <p:stCondLst>
                                    <p:cond delay="1800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0" repeatCount="2000">
                                  <p:stCondLst>
                                    <p:cond delay="181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3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 repeatCount="2000">
                                  <p:stCondLst>
                                    <p:cond delay="1810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 repeatCount="2000">
                                  <p:stCondLst>
                                    <p:cond delay="182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4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8" repeatCount="2000">
                                  <p:stCondLst>
                                    <p:cond delay="1820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0" y="0"/>
            <a:ext cx="9144000" cy="1932120"/>
          </a:xfrm>
          <a:custGeom>
            <a:avLst/>
            <a:gdLst/>
            <a:ahLst/>
            <a:rect l="l" t="t" r="r" b="b"/>
            <a:pathLst>
              <a:path w="9144000" h="1931994">
                <a:moveTo>
                  <a:pt x="0" y="0"/>
                </a:moveTo>
                <a:lnTo>
                  <a:pt x="9144000" y="0"/>
                </a:lnTo>
                <a:lnTo>
                  <a:pt x="9144000" y="1312686"/>
                </a:lnTo>
                <a:cubicBezTo>
                  <a:pt x="8601739" y="1266259"/>
                  <a:pt x="7954001" y="1250245"/>
                  <a:pt x="7291812" y="1250310"/>
                </a:cubicBezTo>
                <a:cubicBezTo>
                  <a:pt x="6281032" y="1250409"/>
                  <a:pt x="5236584" y="1287973"/>
                  <a:pt x="4481945" y="1314751"/>
                </a:cubicBezTo>
                <a:cubicBezTo>
                  <a:pt x="3125499" y="1362884"/>
                  <a:pt x="1331886" y="1679974"/>
                  <a:pt x="0" y="193199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E:\卡拉赞\GUANXIAN.png"/>
          <p:cNvPicPr/>
          <p:nvPr/>
        </p:nvPicPr>
        <p:blipFill>
          <a:blip r:embed="rId1"/>
          <a:srcRect l="0" t="50073" r="0" b="0"/>
          <a:stretch/>
        </p:blipFill>
        <p:spPr>
          <a:xfrm>
            <a:off x="14400" y="0"/>
            <a:ext cx="9144000" cy="2568600"/>
          </a:xfrm>
          <a:prstGeom prst="rect">
            <a:avLst/>
          </a:prstGeom>
          <a:ln w="0">
            <a:noFill/>
          </a:ln>
        </p:spPr>
      </p:pic>
      <p:sp>
        <p:nvSpPr>
          <p:cNvPr id="94" name="Oval 6"/>
          <p:cNvSpPr/>
          <p:nvPr/>
        </p:nvSpPr>
        <p:spPr>
          <a:xfrm flipH="1">
            <a:off x="-13320" y="1238400"/>
            <a:ext cx="9156600" cy="118728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solidFill>
            <a:srgbClr val="1d4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五角星 5"/>
          <p:cNvSpPr/>
          <p:nvPr/>
        </p:nvSpPr>
        <p:spPr>
          <a:xfrm rot="19800000">
            <a:off x="738000" y="91800"/>
            <a:ext cx="1565280" cy="1565280"/>
          </a:xfrm>
          <a:custGeom>
            <a:avLst/>
            <a:gdLst/>
            <a:ahLst/>
            <a:rect l="l" t="t" r="r" b="b"/>
            <a:pathLst>
              <a:path w="1566074" h="1566074">
                <a:moveTo>
                  <a:pt x="2" y="598186"/>
                </a:moveTo>
                <a:lnTo>
                  <a:pt x="540950" y="515350"/>
                </a:lnTo>
                <a:lnTo>
                  <a:pt x="783037" y="0"/>
                </a:lnTo>
                <a:lnTo>
                  <a:pt x="1025124" y="515350"/>
                </a:lnTo>
                <a:lnTo>
                  <a:pt x="1566072" y="598186"/>
                </a:lnTo>
                <a:lnTo>
                  <a:pt x="1174743" y="999525"/>
                </a:lnTo>
                <a:lnTo>
                  <a:pt x="1266979" y="1566070"/>
                </a:lnTo>
                <a:lnTo>
                  <a:pt x="783037" y="1298761"/>
                </a:lnTo>
                <a:lnTo>
                  <a:pt x="299095" y="1566070"/>
                </a:lnTo>
                <a:lnTo>
                  <a:pt x="391331" y="999525"/>
                </a:lnTo>
                <a:lnTo>
                  <a:pt x="2" y="5981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五角星 5"/>
          <p:cNvSpPr/>
          <p:nvPr/>
        </p:nvSpPr>
        <p:spPr>
          <a:xfrm rot="19800000">
            <a:off x="430200" y="719280"/>
            <a:ext cx="1100160" cy="1101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6589440" y="527040"/>
            <a:ext cx="21621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b0f0"/>
                </a:solidFill>
                <a:latin typeface="方正超粗黑简体"/>
                <a:ea typeface="方正超粗黑简体"/>
              </a:rPr>
              <a:t>20</a:t>
            </a:r>
            <a:r>
              <a:rPr b="0" lang="en-US" sz="6500" spc="-1" strike="noStrike">
                <a:solidFill>
                  <a:srgbClr val="ffffff"/>
                </a:solidFill>
                <a:latin typeface="方正超粗黑简体"/>
                <a:ea typeface="方正超粗黑简体"/>
              </a:rPr>
              <a:t>14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6539760" y="134604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Happy New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1012680" y="3892680"/>
            <a:ext cx="5021280" cy="290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11"/>
          <p:cNvSpPr/>
          <p:nvPr/>
        </p:nvSpPr>
        <p:spPr>
          <a:xfrm>
            <a:off x="612720" y="3892680"/>
            <a:ext cx="290520" cy="290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椭圆 15"/>
          <p:cNvSpPr/>
          <p:nvPr/>
        </p:nvSpPr>
        <p:spPr>
          <a:xfrm>
            <a:off x="6141960" y="3892680"/>
            <a:ext cx="290520" cy="290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6"/>
          <p:cNvSpPr/>
          <p:nvPr/>
        </p:nvSpPr>
        <p:spPr>
          <a:xfrm>
            <a:off x="6581880" y="3892680"/>
            <a:ext cx="5022720" cy="2905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等腰三角形 12"/>
          <p:cNvSpPr/>
          <p:nvPr/>
        </p:nvSpPr>
        <p:spPr>
          <a:xfrm rot="21299400">
            <a:off x="983880" y="1712880"/>
            <a:ext cx="949320" cy="2192400"/>
          </a:xfrm>
          <a:custGeom>
            <a:avLst/>
            <a:gdLst/>
            <a:ahLst/>
            <a:rect l="l" t="t" r="r" b="b"/>
            <a:pathLst>
              <a:path w="1292702" h="2985495">
                <a:moveTo>
                  <a:pt x="845736" y="0"/>
                </a:moveTo>
                <a:lnTo>
                  <a:pt x="1259334" y="713100"/>
                </a:lnTo>
                <a:lnTo>
                  <a:pt x="1046060" y="713100"/>
                </a:lnTo>
                <a:lnTo>
                  <a:pt x="1224053" y="1455257"/>
                </a:lnTo>
                <a:lnTo>
                  <a:pt x="1002087" y="1388972"/>
                </a:lnTo>
                <a:lnTo>
                  <a:pt x="1292702" y="1875828"/>
                </a:lnTo>
                <a:lnTo>
                  <a:pt x="929316" y="1880396"/>
                </a:lnTo>
                <a:lnTo>
                  <a:pt x="1095563" y="2624426"/>
                </a:lnTo>
                <a:lnTo>
                  <a:pt x="757490" y="2517713"/>
                </a:lnTo>
                <a:lnTo>
                  <a:pt x="716512" y="2985495"/>
                </a:lnTo>
                <a:lnTo>
                  <a:pt x="466922" y="2963631"/>
                </a:lnTo>
                <a:lnTo>
                  <a:pt x="512753" y="2440461"/>
                </a:lnTo>
                <a:lnTo>
                  <a:pt x="0" y="2278608"/>
                </a:lnTo>
                <a:lnTo>
                  <a:pt x="429705" y="1886677"/>
                </a:lnTo>
                <a:lnTo>
                  <a:pt x="211302" y="1889422"/>
                </a:lnTo>
                <a:lnTo>
                  <a:pt x="566493" y="1258891"/>
                </a:lnTo>
                <a:lnTo>
                  <a:pt x="220618" y="1155603"/>
                </a:lnTo>
                <a:lnTo>
                  <a:pt x="690862" y="713100"/>
                </a:lnTo>
                <a:lnTo>
                  <a:pt x="432138" y="713100"/>
                </a:lnTo>
                <a:lnTo>
                  <a:pt x="845736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等腰三角形 22"/>
          <p:cNvSpPr/>
          <p:nvPr/>
        </p:nvSpPr>
        <p:spPr>
          <a:xfrm flipH="1" rot="300600">
            <a:off x="2696040" y="1608120"/>
            <a:ext cx="949320" cy="2195280"/>
          </a:xfrm>
          <a:custGeom>
            <a:avLst/>
            <a:gdLst/>
            <a:ahLst/>
            <a:rect l="l" t="t" r="r" b="b"/>
            <a:pathLst>
              <a:path w="1292700" h="2989786">
                <a:moveTo>
                  <a:pt x="832355" y="0"/>
                </a:moveTo>
                <a:lnTo>
                  <a:pt x="418757" y="713100"/>
                </a:lnTo>
                <a:lnTo>
                  <a:pt x="566846" y="713100"/>
                </a:lnTo>
                <a:lnTo>
                  <a:pt x="106024" y="1146737"/>
                </a:lnTo>
                <a:lnTo>
                  <a:pt x="554830" y="1280763"/>
                </a:lnTo>
                <a:lnTo>
                  <a:pt x="211299" y="1890594"/>
                </a:lnTo>
                <a:lnTo>
                  <a:pt x="429705" y="1887849"/>
                </a:lnTo>
                <a:lnTo>
                  <a:pt x="0" y="2279781"/>
                </a:lnTo>
                <a:lnTo>
                  <a:pt x="547661" y="2452652"/>
                </a:lnTo>
                <a:lnTo>
                  <a:pt x="502523" y="2967921"/>
                </a:lnTo>
                <a:lnTo>
                  <a:pt x="752112" y="2989786"/>
                </a:lnTo>
                <a:lnTo>
                  <a:pt x="792398" y="2529904"/>
                </a:lnTo>
                <a:lnTo>
                  <a:pt x="1095562" y="2625598"/>
                </a:lnTo>
                <a:lnTo>
                  <a:pt x="929316" y="1881568"/>
                </a:lnTo>
                <a:lnTo>
                  <a:pt x="1292700" y="1877000"/>
                </a:lnTo>
                <a:lnTo>
                  <a:pt x="1019651" y="1419572"/>
                </a:lnTo>
                <a:lnTo>
                  <a:pt x="1109459" y="1446391"/>
                </a:lnTo>
                <a:lnTo>
                  <a:pt x="933593" y="713100"/>
                </a:lnTo>
                <a:lnTo>
                  <a:pt x="1245953" y="713100"/>
                </a:lnTo>
                <a:lnTo>
                  <a:pt x="832355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51880" y="4299120"/>
            <a:ext cx="190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Are You Ready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五角星 28"/>
          <p:cNvSpPr/>
          <p:nvPr/>
        </p:nvSpPr>
        <p:spPr>
          <a:xfrm>
            <a:off x="2925720" y="5165640"/>
            <a:ext cx="9097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角星 5"/>
          <p:cNvSpPr/>
          <p:nvPr/>
        </p:nvSpPr>
        <p:spPr>
          <a:xfrm>
            <a:off x="1576440" y="5165640"/>
            <a:ext cx="72864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角星 5"/>
          <p:cNvSpPr/>
          <p:nvPr/>
        </p:nvSpPr>
        <p:spPr>
          <a:xfrm>
            <a:off x="615312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五角星 31"/>
          <p:cNvSpPr/>
          <p:nvPr/>
        </p:nvSpPr>
        <p:spPr>
          <a:xfrm>
            <a:off x="5618160" y="5165640"/>
            <a:ext cx="9079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五角星 32"/>
          <p:cNvSpPr/>
          <p:nvPr/>
        </p:nvSpPr>
        <p:spPr>
          <a:xfrm>
            <a:off x="4586400" y="5165640"/>
            <a:ext cx="72684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五角星 5"/>
          <p:cNvSpPr/>
          <p:nvPr/>
        </p:nvSpPr>
        <p:spPr>
          <a:xfrm>
            <a:off x="3236760" y="5165640"/>
            <a:ext cx="72720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五角星 5"/>
          <p:cNvSpPr/>
          <p:nvPr/>
        </p:nvSpPr>
        <p:spPr>
          <a:xfrm>
            <a:off x="90324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五角星 35"/>
          <p:cNvSpPr/>
          <p:nvPr/>
        </p:nvSpPr>
        <p:spPr>
          <a:xfrm>
            <a:off x="7602480" y="5165640"/>
            <a:ext cx="72720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等腰三角形 12"/>
          <p:cNvSpPr/>
          <p:nvPr/>
        </p:nvSpPr>
        <p:spPr>
          <a:xfrm rot="21299400">
            <a:off x="4215960" y="1712880"/>
            <a:ext cx="949320" cy="2192400"/>
          </a:xfrm>
          <a:custGeom>
            <a:avLst/>
            <a:gdLst/>
            <a:ahLst/>
            <a:rect l="l" t="t" r="r" b="b"/>
            <a:pathLst>
              <a:path w="1292702" h="2985495">
                <a:moveTo>
                  <a:pt x="845736" y="0"/>
                </a:moveTo>
                <a:lnTo>
                  <a:pt x="1259334" y="713100"/>
                </a:lnTo>
                <a:lnTo>
                  <a:pt x="1046060" y="713100"/>
                </a:lnTo>
                <a:lnTo>
                  <a:pt x="1224053" y="1455257"/>
                </a:lnTo>
                <a:lnTo>
                  <a:pt x="1002087" y="1388972"/>
                </a:lnTo>
                <a:lnTo>
                  <a:pt x="1292702" y="1875828"/>
                </a:lnTo>
                <a:lnTo>
                  <a:pt x="929316" y="1880396"/>
                </a:lnTo>
                <a:lnTo>
                  <a:pt x="1095563" y="2624426"/>
                </a:lnTo>
                <a:lnTo>
                  <a:pt x="757490" y="2517713"/>
                </a:lnTo>
                <a:lnTo>
                  <a:pt x="716512" y="2985495"/>
                </a:lnTo>
                <a:lnTo>
                  <a:pt x="466922" y="2963631"/>
                </a:lnTo>
                <a:lnTo>
                  <a:pt x="512753" y="2440461"/>
                </a:lnTo>
                <a:lnTo>
                  <a:pt x="0" y="2278608"/>
                </a:lnTo>
                <a:lnTo>
                  <a:pt x="429705" y="1886677"/>
                </a:lnTo>
                <a:lnTo>
                  <a:pt x="211302" y="1889422"/>
                </a:lnTo>
                <a:lnTo>
                  <a:pt x="566493" y="1258891"/>
                </a:lnTo>
                <a:lnTo>
                  <a:pt x="220618" y="1155603"/>
                </a:lnTo>
                <a:lnTo>
                  <a:pt x="690862" y="713100"/>
                </a:lnTo>
                <a:lnTo>
                  <a:pt x="432138" y="713100"/>
                </a:lnTo>
                <a:lnTo>
                  <a:pt x="845736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等腰三角形 22"/>
          <p:cNvSpPr/>
          <p:nvPr/>
        </p:nvSpPr>
        <p:spPr>
          <a:xfrm flipH="1" rot="300600">
            <a:off x="5928120" y="1608120"/>
            <a:ext cx="949320" cy="2195280"/>
          </a:xfrm>
          <a:custGeom>
            <a:avLst/>
            <a:gdLst/>
            <a:ahLst/>
            <a:rect l="l" t="t" r="r" b="b"/>
            <a:pathLst>
              <a:path w="1292700" h="2989786">
                <a:moveTo>
                  <a:pt x="832355" y="0"/>
                </a:moveTo>
                <a:lnTo>
                  <a:pt x="418757" y="713100"/>
                </a:lnTo>
                <a:lnTo>
                  <a:pt x="566846" y="713100"/>
                </a:lnTo>
                <a:lnTo>
                  <a:pt x="106024" y="1146737"/>
                </a:lnTo>
                <a:lnTo>
                  <a:pt x="554830" y="1280763"/>
                </a:lnTo>
                <a:lnTo>
                  <a:pt x="211299" y="1890594"/>
                </a:lnTo>
                <a:lnTo>
                  <a:pt x="429705" y="1887849"/>
                </a:lnTo>
                <a:lnTo>
                  <a:pt x="0" y="2279781"/>
                </a:lnTo>
                <a:lnTo>
                  <a:pt x="547661" y="2452652"/>
                </a:lnTo>
                <a:lnTo>
                  <a:pt x="502523" y="2967921"/>
                </a:lnTo>
                <a:lnTo>
                  <a:pt x="752112" y="2989786"/>
                </a:lnTo>
                <a:lnTo>
                  <a:pt x="792398" y="2529904"/>
                </a:lnTo>
                <a:lnTo>
                  <a:pt x="1095562" y="2625598"/>
                </a:lnTo>
                <a:lnTo>
                  <a:pt x="929316" y="1881568"/>
                </a:lnTo>
                <a:lnTo>
                  <a:pt x="1292700" y="1877000"/>
                </a:lnTo>
                <a:lnTo>
                  <a:pt x="1019651" y="1419572"/>
                </a:lnTo>
                <a:lnTo>
                  <a:pt x="1109459" y="1446391"/>
                </a:lnTo>
                <a:lnTo>
                  <a:pt x="933593" y="713100"/>
                </a:lnTo>
                <a:lnTo>
                  <a:pt x="1245953" y="713100"/>
                </a:lnTo>
                <a:lnTo>
                  <a:pt x="832355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等腰三角形 12"/>
          <p:cNvSpPr/>
          <p:nvPr/>
        </p:nvSpPr>
        <p:spPr>
          <a:xfrm rot="21299400">
            <a:off x="7546680" y="1712880"/>
            <a:ext cx="949320" cy="2192400"/>
          </a:xfrm>
          <a:custGeom>
            <a:avLst/>
            <a:gdLst/>
            <a:ahLst/>
            <a:rect l="l" t="t" r="r" b="b"/>
            <a:pathLst>
              <a:path w="1292702" h="2985495">
                <a:moveTo>
                  <a:pt x="845736" y="0"/>
                </a:moveTo>
                <a:lnTo>
                  <a:pt x="1259334" y="713100"/>
                </a:lnTo>
                <a:lnTo>
                  <a:pt x="1046060" y="713100"/>
                </a:lnTo>
                <a:lnTo>
                  <a:pt x="1224053" y="1455257"/>
                </a:lnTo>
                <a:lnTo>
                  <a:pt x="1002087" y="1388972"/>
                </a:lnTo>
                <a:lnTo>
                  <a:pt x="1292702" y="1875828"/>
                </a:lnTo>
                <a:lnTo>
                  <a:pt x="929316" y="1880396"/>
                </a:lnTo>
                <a:lnTo>
                  <a:pt x="1095563" y="2624426"/>
                </a:lnTo>
                <a:lnTo>
                  <a:pt x="757490" y="2517713"/>
                </a:lnTo>
                <a:lnTo>
                  <a:pt x="716512" y="2985495"/>
                </a:lnTo>
                <a:lnTo>
                  <a:pt x="466922" y="2963631"/>
                </a:lnTo>
                <a:lnTo>
                  <a:pt x="512753" y="2440461"/>
                </a:lnTo>
                <a:lnTo>
                  <a:pt x="0" y="2278608"/>
                </a:lnTo>
                <a:lnTo>
                  <a:pt x="429705" y="1886677"/>
                </a:lnTo>
                <a:lnTo>
                  <a:pt x="211302" y="1889422"/>
                </a:lnTo>
                <a:lnTo>
                  <a:pt x="566493" y="1258891"/>
                </a:lnTo>
                <a:lnTo>
                  <a:pt x="220618" y="1155603"/>
                </a:lnTo>
                <a:lnTo>
                  <a:pt x="690862" y="713100"/>
                </a:lnTo>
                <a:lnTo>
                  <a:pt x="432138" y="713100"/>
                </a:lnTo>
                <a:lnTo>
                  <a:pt x="845736" y="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1"/>
          <p:cNvSpPr/>
          <p:nvPr/>
        </p:nvSpPr>
        <p:spPr>
          <a:xfrm>
            <a:off x="6308640" y="4371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向新年进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f7f7f"/>
                </a:solidFill>
                <a:uFillTx/>
                <a:latin typeface="Calibri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57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6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6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8" repeatCount="indefinite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7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7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 repeatCount="indefinite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7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8" repeatCount="indefinite">
                                  <p:stCondLst>
                                    <p:cond delay="1200"/>
                                  </p:stCondLst>
                                  <p:childTnLst>
                                    <p:animRot by="21600000">
                                      <p:cBhvr>
                                        <p:cTn id="18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18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8" repeatCount="indefinite">
                                  <p:stCondLst>
                                    <p:cond delay="1400"/>
                                  </p:stCondLst>
                                  <p:childTnLst>
                                    <p:animRot by="21600000">
                                      <p:cBhvr>
                                        <p:cTn id="1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8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8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-11160" y="0"/>
            <a:ext cx="9167760" cy="5145120"/>
            <a:chOff x="-11160" y="0"/>
            <a:chExt cx="9167760" cy="5145120"/>
          </a:xfrm>
        </p:grpSpPr>
        <p:pic>
          <p:nvPicPr>
            <p:cNvPr id="120" name="矩形 21" descr=""/>
            <p:cNvPicPr/>
            <p:nvPr/>
          </p:nvPicPr>
          <p:blipFill>
            <a:blip r:embed="rId1"/>
            <a:stretch/>
          </p:blipFill>
          <p:spPr>
            <a:xfrm>
              <a:off x="-9720" y="0"/>
              <a:ext cx="916632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-11160" y="0"/>
              <a:ext cx="9167760" cy="51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2" name="Picture 3" descr="E:\卡拉赞\GUANXIAN.png"/>
          <p:cNvPicPr/>
          <p:nvPr/>
        </p:nvPicPr>
        <p:blipFill>
          <a:blip r:embed="rId2"/>
          <a:srcRect l="0" t="5983" r="0" b="0"/>
          <a:stretch/>
        </p:blipFill>
        <p:spPr>
          <a:xfrm>
            <a:off x="14400" y="38160"/>
            <a:ext cx="9144000" cy="4836960"/>
          </a:xfrm>
          <a:prstGeom prst="rect">
            <a:avLst/>
          </a:prstGeom>
          <a:ln w="0">
            <a:noFill/>
          </a:ln>
        </p:spPr>
      </p:pic>
      <p:sp>
        <p:nvSpPr>
          <p:cNvPr id="123" name="Oval 6"/>
          <p:cNvSpPr/>
          <p:nvPr/>
        </p:nvSpPr>
        <p:spPr>
          <a:xfrm flipH="1">
            <a:off x="0" y="3946680"/>
            <a:ext cx="9158400" cy="118872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solidFill>
            <a:srgbClr val="1d4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6"/>
          <p:cNvSpPr/>
          <p:nvPr/>
        </p:nvSpPr>
        <p:spPr>
          <a:xfrm flipH="1">
            <a:off x="-13320" y="3735360"/>
            <a:ext cx="9156600" cy="118764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gradFill rotWithShape="0">
            <a:gsLst>
              <a:gs pos="0">
                <a:srgbClr val="00d1a7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6"/>
          <p:cNvSpPr/>
          <p:nvPr/>
        </p:nvSpPr>
        <p:spPr>
          <a:xfrm flipH="1">
            <a:off x="0" y="3573360"/>
            <a:ext cx="9158400" cy="1187640"/>
          </a:xfrm>
          <a:custGeom>
            <a:avLst/>
            <a:gdLst/>
            <a:ahLst/>
            <a:rect l="l" t="t" r="r" b="b"/>
            <a:pathLst>
              <a:path w="9157855" h="1267817">
                <a:moveTo>
                  <a:pt x="1866041" y="1"/>
                </a:moveTo>
                <a:cubicBezTo>
                  <a:pt x="2876821" y="107"/>
                  <a:pt x="3921269" y="40191"/>
                  <a:pt x="4675909" y="68766"/>
                </a:cubicBezTo>
                <a:cubicBezTo>
                  <a:pt x="6032355" y="120129"/>
                  <a:pt x="7825969" y="458497"/>
                  <a:pt x="9157855" y="727429"/>
                </a:cubicBezTo>
                <a:lnTo>
                  <a:pt x="9157855" y="948978"/>
                </a:lnTo>
                <a:cubicBezTo>
                  <a:pt x="7774003" y="620971"/>
                  <a:pt x="6213223" y="594176"/>
                  <a:pt x="4762500" y="640266"/>
                </a:cubicBezTo>
                <a:cubicBezTo>
                  <a:pt x="3423312" y="682813"/>
                  <a:pt x="1363266" y="924591"/>
                  <a:pt x="0" y="1267817"/>
                </a:cubicBezTo>
                <a:lnTo>
                  <a:pt x="0" y="67713"/>
                </a:lnTo>
                <a:cubicBezTo>
                  <a:pt x="545073" y="17313"/>
                  <a:pt x="1198208" y="-69"/>
                  <a:pt x="1866041" y="1"/>
                </a:cubicBez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五角星 6"/>
          <p:cNvSpPr/>
          <p:nvPr/>
        </p:nvSpPr>
        <p:spPr>
          <a:xfrm rot="19800000">
            <a:off x="4195800" y="1402920"/>
            <a:ext cx="2663640" cy="2664000"/>
          </a:xfrm>
          <a:custGeom>
            <a:avLst/>
            <a:gdLst/>
            <a:ahLst/>
            <a:rect l="l" t="t" r="r" b="b"/>
            <a:pathLst>
              <a:path w="2664296" h="2664296">
                <a:moveTo>
                  <a:pt x="3" y="1017668"/>
                </a:moveTo>
                <a:lnTo>
                  <a:pt x="920295" y="876744"/>
                </a:lnTo>
                <a:lnTo>
                  <a:pt x="1332148" y="0"/>
                </a:lnTo>
                <a:lnTo>
                  <a:pt x="1744001" y="876744"/>
                </a:lnTo>
                <a:lnTo>
                  <a:pt x="2664293" y="1017668"/>
                </a:lnTo>
                <a:lnTo>
                  <a:pt x="1998540" y="1700450"/>
                </a:lnTo>
                <a:lnTo>
                  <a:pt x="2155459" y="2664289"/>
                </a:lnTo>
                <a:lnTo>
                  <a:pt x="1332148" y="2209528"/>
                </a:lnTo>
                <a:lnTo>
                  <a:pt x="508837" y="2664289"/>
                </a:lnTo>
                <a:lnTo>
                  <a:pt x="665756" y="1700450"/>
                </a:lnTo>
                <a:lnTo>
                  <a:pt x="3" y="1017668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五角星 5"/>
          <p:cNvSpPr/>
          <p:nvPr/>
        </p:nvSpPr>
        <p:spPr>
          <a:xfrm rot="19800000">
            <a:off x="4051080" y="2193480"/>
            <a:ext cx="1871640" cy="18734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五角星 8"/>
          <p:cNvSpPr/>
          <p:nvPr/>
        </p:nvSpPr>
        <p:spPr>
          <a:xfrm rot="19800000">
            <a:off x="1963800" y="1706040"/>
            <a:ext cx="1566720" cy="1565280"/>
          </a:xfrm>
          <a:custGeom>
            <a:avLst/>
            <a:gdLst/>
            <a:ahLst/>
            <a:rect l="l" t="t" r="r" b="b"/>
            <a:pathLst>
              <a:path w="1566074" h="1566074">
                <a:moveTo>
                  <a:pt x="2" y="598186"/>
                </a:moveTo>
                <a:lnTo>
                  <a:pt x="540950" y="515350"/>
                </a:lnTo>
                <a:lnTo>
                  <a:pt x="783037" y="0"/>
                </a:lnTo>
                <a:lnTo>
                  <a:pt x="1025124" y="515350"/>
                </a:lnTo>
                <a:lnTo>
                  <a:pt x="1566072" y="598186"/>
                </a:lnTo>
                <a:lnTo>
                  <a:pt x="1174743" y="999525"/>
                </a:lnTo>
                <a:lnTo>
                  <a:pt x="1266979" y="1566070"/>
                </a:lnTo>
                <a:lnTo>
                  <a:pt x="783037" y="1298761"/>
                </a:lnTo>
                <a:lnTo>
                  <a:pt x="299095" y="1566070"/>
                </a:lnTo>
                <a:lnTo>
                  <a:pt x="391331" y="999525"/>
                </a:lnTo>
                <a:lnTo>
                  <a:pt x="2" y="59818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五角星 5"/>
          <p:cNvSpPr/>
          <p:nvPr/>
        </p:nvSpPr>
        <p:spPr>
          <a:xfrm rot="19800000">
            <a:off x="1655640" y="2333160"/>
            <a:ext cx="1100160" cy="110196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五角星 5"/>
          <p:cNvSpPr/>
          <p:nvPr/>
        </p:nvSpPr>
        <p:spPr>
          <a:xfrm rot="19800000">
            <a:off x="2882880" y="3444480"/>
            <a:ext cx="1268280" cy="12700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五角星 11"/>
          <p:cNvSpPr/>
          <p:nvPr/>
        </p:nvSpPr>
        <p:spPr>
          <a:xfrm rot="19800000">
            <a:off x="7029000" y="1069560"/>
            <a:ext cx="1324080" cy="1322280"/>
          </a:xfrm>
          <a:custGeom>
            <a:avLst/>
            <a:gdLst/>
            <a:ahLst/>
            <a:rect l="l" t="t" r="r" b="b"/>
            <a:pathLst>
              <a:path w="1323267" h="1323267">
                <a:moveTo>
                  <a:pt x="1" y="505442"/>
                </a:moveTo>
                <a:lnTo>
                  <a:pt x="457080" y="435449"/>
                </a:lnTo>
                <a:lnTo>
                  <a:pt x="661634" y="0"/>
                </a:lnTo>
                <a:lnTo>
                  <a:pt x="866187" y="435449"/>
                </a:lnTo>
                <a:lnTo>
                  <a:pt x="1323266" y="505442"/>
                </a:lnTo>
                <a:lnTo>
                  <a:pt x="992608" y="844557"/>
                </a:lnTo>
                <a:lnTo>
                  <a:pt x="1070545" y="1323264"/>
                </a:lnTo>
                <a:lnTo>
                  <a:pt x="661634" y="1097399"/>
                </a:lnTo>
                <a:lnTo>
                  <a:pt x="252722" y="1323264"/>
                </a:lnTo>
                <a:lnTo>
                  <a:pt x="330659" y="844557"/>
                </a:lnTo>
                <a:lnTo>
                  <a:pt x="1" y="505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五角星 5"/>
          <p:cNvSpPr/>
          <p:nvPr/>
        </p:nvSpPr>
        <p:spPr>
          <a:xfrm rot="19800000">
            <a:off x="7640640" y="421920"/>
            <a:ext cx="606600" cy="606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五角星 13"/>
          <p:cNvSpPr/>
          <p:nvPr/>
        </p:nvSpPr>
        <p:spPr>
          <a:xfrm rot="19800000">
            <a:off x="1290240" y="4065120"/>
            <a:ext cx="827280" cy="827280"/>
          </a:xfrm>
          <a:custGeom>
            <a:avLst/>
            <a:gdLst/>
            <a:ahLst/>
            <a:rect l="l" t="t" r="r" b="b"/>
            <a:pathLst>
              <a:path w="827198" h="827198">
                <a:moveTo>
                  <a:pt x="1" y="315961"/>
                </a:moveTo>
                <a:lnTo>
                  <a:pt x="285729" y="272207"/>
                </a:lnTo>
                <a:lnTo>
                  <a:pt x="413599" y="0"/>
                </a:lnTo>
                <a:lnTo>
                  <a:pt x="541469" y="272207"/>
                </a:lnTo>
                <a:lnTo>
                  <a:pt x="827197" y="315961"/>
                </a:lnTo>
                <a:lnTo>
                  <a:pt x="620497" y="527948"/>
                </a:lnTo>
                <a:lnTo>
                  <a:pt x="669217" y="827196"/>
                </a:lnTo>
                <a:lnTo>
                  <a:pt x="413599" y="686004"/>
                </a:lnTo>
                <a:lnTo>
                  <a:pt x="157981" y="827196"/>
                </a:lnTo>
                <a:lnTo>
                  <a:pt x="206701" y="527948"/>
                </a:lnTo>
                <a:lnTo>
                  <a:pt x="1" y="3159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五角星 5"/>
          <p:cNvSpPr/>
          <p:nvPr/>
        </p:nvSpPr>
        <p:spPr>
          <a:xfrm rot="19800000">
            <a:off x="7292880" y="2090880"/>
            <a:ext cx="1100160" cy="110160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5"/>
          <p:cNvSpPr/>
          <p:nvPr/>
        </p:nvSpPr>
        <p:spPr>
          <a:xfrm>
            <a:off x="7992360" y="419580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RAPI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632720" y="4078440"/>
            <a:ext cx="453960" cy="423720"/>
            <a:chOff x="7632720" y="4078440"/>
            <a:chExt cx="453960" cy="423720"/>
          </a:xfrm>
        </p:grpSpPr>
        <p:grpSp>
          <p:nvGrpSpPr>
            <p:cNvPr id="137" name=""/>
            <p:cNvGrpSpPr/>
            <p:nvPr/>
          </p:nvGrpSpPr>
          <p:grpSpPr>
            <a:xfrm>
              <a:off x="7632720" y="4145760"/>
              <a:ext cx="405000" cy="300960"/>
              <a:chOff x="7632720" y="4145760"/>
              <a:chExt cx="405000" cy="300960"/>
            </a:xfrm>
          </p:grpSpPr>
          <p:pic>
            <p:nvPicPr>
              <p:cNvPr id="138" name="Freeform 48" descr=""/>
              <p:cNvPicPr/>
              <p:nvPr/>
            </p:nvPicPr>
            <p:blipFill>
              <a:blip r:embed="rId3"/>
              <a:stretch/>
            </p:blipFill>
            <p:spPr>
              <a:xfrm>
                <a:off x="7632720" y="4145760"/>
                <a:ext cx="405000" cy="30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632720" y="4146480"/>
                <a:ext cx="4024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761600" y="4078440"/>
              <a:ext cx="183960" cy="423720"/>
              <a:chOff x="7761600" y="4078440"/>
              <a:chExt cx="183960" cy="423720"/>
            </a:xfrm>
          </p:grpSpPr>
          <p:pic>
            <p:nvPicPr>
              <p:cNvPr id="141" name="Freeform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7766640" y="4078800"/>
                <a:ext cx="177120" cy="4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7761600" y="4078440"/>
                <a:ext cx="183960" cy="4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718400" y="4090680"/>
              <a:ext cx="276120" cy="380880"/>
              <a:chOff x="7718400" y="4090680"/>
              <a:chExt cx="276120" cy="380880"/>
            </a:xfrm>
          </p:grpSpPr>
          <p:pic>
            <p:nvPicPr>
              <p:cNvPr id="144" name="Freeform 50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0" y="4093560"/>
                <a:ext cx="27612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7719480" y="4090680"/>
                <a:ext cx="27216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681680" y="4195080"/>
              <a:ext cx="405000" cy="202680"/>
              <a:chOff x="7681680" y="4195080"/>
              <a:chExt cx="405000" cy="202680"/>
            </a:xfrm>
          </p:grpSpPr>
          <p:pic>
            <p:nvPicPr>
              <p:cNvPr id="147" name="Freeform 51" descr=""/>
              <p:cNvPicPr/>
              <p:nvPr/>
            </p:nvPicPr>
            <p:blipFill>
              <a:blip r:embed="rId6"/>
              <a:stretch/>
            </p:blipFill>
            <p:spPr>
              <a:xfrm>
                <a:off x="7683480" y="4195080"/>
                <a:ext cx="400320" cy="19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7681680" y="4195800"/>
                <a:ext cx="405000" cy="20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" name="Freeform 52"/>
            <p:cNvSpPr/>
            <p:nvPr/>
          </p:nvSpPr>
          <p:spPr>
            <a:xfrm>
              <a:off x="7808760" y="4188600"/>
              <a:ext cx="163080" cy="166680"/>
            </a:xfrm>
            <a:custGeom>
              <a:avLst/>
              <a:gdLst/>
              <a:ahLst/>
              <a:rect l="l" t="t" r="r" b="b"/>
              <a:pathLst>
                <a:path w="114" h="116">
                  <a:moveTo>
                    <a:pt x="2" y="55"/>
                  </a:moveTo>
                  <a:cubicBezTo>
                    <a:pt x="0" y="86"/>
                    <a:pt x="23" y="112"/>
                    <a:pt x="53" y="114"/>
                  </a:cubicBezTo>
                  <a:cubicBezTo>
                    <a:pt x="84" y="116"/>
                    <a:pt x="110" y="93"/>
                    <a:pt x="112" y="62"/>
                  </a:cubicBezTo>
                  <a:cubicBezTo>
                    <a:pt x="114" y="31"/>
                    <a:pt x="91" y="4"/>
                    <a:pt x="61" y="2"/>
                  </a:cubicBezTo>
                  <a:cubicBezTo>
                    <a:pt x="30" y="0"/>
                    <a:pt x="4" y="24"/>
                    <a:pt x="2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7640" y="95400"/>
            <a:ext cx="6822000" cy="2101320"/>
            <a:chOff x="467640" y="95400"/>
            <a:chExt cx="6822000" cy="2101320"/>
          </a:xfrm>
        </p:grpSpPr>
        <p:sp>
          <p:nvSpPr>
            <p:cNvPr id="151" name="TextBox 7"/>
            <p:cNvSpPr/>
            <p:nvPr/>
          </p:nvSpPr>
          <p:spPr>
            <a:xfrm>
              <a:off x="617760" y="95400"/>
              <a:ext cx="3381120" cy="16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500" spc="-1" strike="noStrike">
                  <a:solidFill>
                    <a:srgbClr val="00b0f0"/>
                  </a:solidFill>
                  <a:latin typeface="方正超粗黑简体"/>
                  <a:ea typeface="方正超粗黑简体"/>
                </a:rPr>
                <a:t>20</a:t>
              </a:r>
              <a:r>
                <a:rPr b="0" lang="en-US" sz="10500" spc="-1" strike="noStrike">
                  <a:solidFill>
                    <a:srgbClr val="ffffff"/>
                  </a:solidFill>
                  <a:latin typeface="方正超粗黑简体"/>
                  <a:ea typeface="方正超粗黑简体"/>
                </a:rPr>
                <a:t>14</a:t>
              </a:r>
              <a:endParaRPr b="0" lang="en-US" sz="10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8"/>
            <p:cNvSpPr/>
            <p:nvPr/>
          </p:nvSpPr>
          <p:spPr>
            <a:xfrm>
              <a:off x="467640" y="1416960"/>
              <a:ext cx="348480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HANK     YOU</a:t>
              </a:r>
              <a:endParaRPr b="0" lang="en-US" sz="4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TextBox 30"/>
            <p:cNvSpPr/>
            <p:nvPr/>
          </p:nvSpPr>
          <p:spPr>
            <a:xfrm>
              <a:off x="4397760" y="1149120"/>
              <a:ext cx="1541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UCCESS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23"/>
            <p:cNvSpPr/>
            <p:nvPr/>
          </p:nvSpPr>
          <p:spPr>
            <a:xfrm>
              <a:off x="4394520" y="310320"/>
              <a:ext cx="28951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Shanghai Rapidesign 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Advertising Co.,ltd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矩形 20"/>
            <p:cNvSpPr/>
            <p:nvPr/>
          </p:nvSpPr>
          <p:spPr>
            <a:xfrm>
              <a:off x="4093200" y="432720"/>
              <a:ext cx="115920" cy="15706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Freeform 16"/>
          <p:cNvSpPr/>
          <p:nvPr/>
        </p:nvSpPr>
        <p:spPr>
          <a:xfrm>
            <a:off x="838080" y="5143680"/>
            <a:ext cx="1679760" cy="4943160"/>
          </a:xfrm>
          <a:custGeom>
            <a:avLst/>
            <a:gdLst/>
            <a:ahLst/>
            <a:rect l="l" t="t" r="r" b="b"/>
            <a:pathLst>
              <a:path w="871" h="2564">
                <a:moveTo>
                  <a:pt x="557" y="2564"/>
                </a:moveTo>
                <a:cubicBezTo>
                  <a:pt x="551" y="2198"/>
                  <a:pt x="551" y="2198"/>
                  <a:pt x="551" y="2198"/>
                </a:cubicBezTo>
                <a:cubicBezTo>
                  <a:pt x="531" y="2008"/>
                  <a:pt x="603" y="1684"/>
                  <a:pt x="603" y="1684"/>
                </a:cubicBezTo>
                <a:cubicBezTo>
                  <a:pt x="625" y="1564"/>
                  <a:pt x="591" y="1430"/>
                  <a:pt x="591" y="1430"/>
                </a:cubicBezTo>
                <a:cubicBezTo>
                  <a:pt x="619" y="1368"/>
                  <a:pt x="643" y="1210"/>
                  <a:pt x="643" y="1210"/>
                </a:cubicBezTo>
                <a:cubicBezTo>
                  <a:pt x="669" y="1256"/>
                  <a:pt x="789" y="1094"/>
                  <a:pt x="789" y="1094"/>
                </a:cubicBezTo>
                <a:cubicBezTo>
                  <a:pt x="839" y="1048"/>
                  <a:pt x="817" y="988"/>
                  <a:pt x="817" y="988"/>
                </a:cubicBezTo>
                <a:cubicBezTo>
                  <a:pt x="871" y="932"/>
                  <a:pt x="841" y="822"/>
                  <a:pt x="841" y="822"/>
                </a:cubicBezTo>
                <a:cubicBezTo>
                  <a:pt x="859" y="796"/>
                  <a:pt x="853" y="734"/>
                  <a:pt x="853" y="734"/>
                </a:cubicBezTo>
                <a:cubicBezTo>
                  <a:pt x="851" y="634"/>
                  <a:pt x="779" y="478"/>
                  <a:pt x="779" y="478"/>
                </a:cubicBezTo>
                <a:cubicBezTo>
                  <a:pt x="788" y="426"/>
                  <a:pt x="788" y="426"/>
                  <a:pt x="788" y="426"/>
                </a:cubicBezTo>
                <a:cubicBezTo>
                  <a:pt x="782" y="333"/>
                  <a:pt x="619" y="164"/>
                  <a:pt x="619" y="164"/>
                </a:cubicBezTo>
                <a:cubicBezTo>
                  <a:pt x="531" y="0"/>
                  <a:pt x="406" y="164"/>
                  <a:pt x="406" y="164"/>
                </a:cubicBezTo>
                <a:cubicBezTo>
                  <a:pt x="335" y="257"/>
                  <a:pt x="74" y="448"/>
                  <a:pt x="74" y="448"/>
                </a:cubicBezTo>
                <a:cubicBezTo>
                  <a:pt x="0" y="491"/>
                  <a:pt x="24" y="562"/>
                  <a:pt x="24" y="562"/>
                </a:cubicBezTo>
                <a:cubicBezTo>
                  <a:pt x="31" y="748"/>
                  <a:pt x="86" y="1430"/>
                  <a:pt x="86" y="1430"/>
                </a:cubicBezTo>
                <a:cubicBezTo>
                  <a:pt x="159" y="2014"/>
                  <a:pt x="2" y="2548"/>
                  <a:pt x="2" y="2548"/>
                </a:cubicBezTo>
                <a:lnTo>
                  <a:pt x="557" y="2564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8"/>
          <p:cNvSpPr/>
          <p:nvPr/>
        </p:nvSpPr>
        <p:spPr>
          <a:xfrm flipH="1">
            <a:off x="-5551560" y="1415880"/>
            <a:ext cx="5538960" cy="2119320"/>
          </a:xfrm>
          <a:custGeom>
            <a:avLst/>
            <a:gdLst/>
            <a:ahLst/>
            <a:rect l="l" t="t" r="r" b="b"/>
            <a:pathLst>
              <a:path w="1205" h="461">
                <a:moveTo>
                  <a:pt x="159" y="204"/>
                </a:moveTo>
                <a:cubicBezTo>
                  <a:pt x="160" y="196"/>
                  <a:pt x="160" y="196"/>
                  <a:pt x="160" y="196"/>
                </a:cubicBezTo>
                <a:cubicBezTo>
                  <a:pt x="130" y="160"/>
                  <a:pt x="130" y="160"/>
                  <a:pt x="130" y="160"/>
                </a:cubicBezTo>
                <a:cubicBezTo>
                  <a:pt x="113" y="150"/>
                  <a:pt x="59" y="96"/>
                  <a:pt x="59" y="96"/>
                </a:cubicBezTo>
                <a:cubicBezTo>
                  <a:pt x="0" y="40"/>
                  <a:pt x="29" y="9"/>
                  <a:pt x="29" y="9"/>
                </a:cubicBezTo>
                <a:cubicBezTo>
                  <a:pt x="36" y="0"/>
                  <a:pt x="62" y="33"/>
                  <a:pt x="62" y="33"/>
                </a:cubicBezTo>
                <a:cubicBezTo>
                  <a:pt x="71" y="50"/>
                  <a:pt x="139" y="97"/>
                  <a:pt x="139" y="97"/>
                </a:cubicBezTo>
                <a:cubicBezTo>
                  <a:pt x="158" y="108"/>
                  <a:pt x="172" y="116"/>
                  <a:pt x="172" y="116"/>
                </a:cubicBezTo>
                <a:cubicBezTo>
                  <a:pt x="199" y="148"/>
                  <a:pt x="231" y="171"/>
                  <a:pt x="231" y="171"/>
                </a:cubicBezTo>
                <a:cubicBezTo>
                  <a:pt x="231" y="171"/>
                  <a:pt x="261" y="159"/>
                  <a:pt x="279" y="156"/>
                </a:cubicBezTo>
                <a:cubicBezTo>
                  <a:pt x="296" y="153"/>
                  <a:pt x="325" y="162"/>
                  <a:pt x="325" y="162"/>
                </a:cubicBezTo>
                <a:cubicBezTo>
                  <a:pt x="349" y="138"/>
                  <a:pt x="370" y="162"/>
                  <a:pt x="370" y="162"/>
                </a:cubicBezTo>
                <a:cubicBezTo>
                  <a:pt x="404" y="205"/>
                  <a:pt x="521" y="296"/>
                  <a:pt x="521" y="296"/>
                </a:cubicBezTo>
                <a:cubicBezTo>
                  <a:pt x="549" y="263"/>
                  <a:pt x="571" y="278"/>
                  <a:pt x="571" y="278"/>
                </a:cubicBezTo>
                <a:cubicBezTo>
                  <a:pt x="608" y="291"/>
                  <a:pt x="684" y="278"/>
                  <a:pt x="684" y="278"/>
                </a:cubicBezTo>
                <a:cubicBezTo>
                  <a:pt x="1091" y="205"/>
                  <a:pt x="1205" y="176"/>
                  <a:pt x="1205" y="176"/>
                </a:cubicBezTo>
                <a:cubicBezTo>
                  <a:pt x="1205" y="435"/>
                  <a:pt x="1205" y="435"/>
                  <a:pt x="1205" y="435"/>
                </a:cubicBezTo>
                <a:cubicBezTo>
                  <a:pt x="1049" y="461"/>
                  <a:pt x="735" y="437"/>
                  <a:pt x="735" y="437"/>
                </a:cubicBezTo>
                <a:cubicBezTo>
                  <a:pt x="655" y="430"/>
                  <a:pt x="606" y="438"/>
                  <a:pt x="606" y="438"/>
                </a:cubicBezTo>
                <a:cubicBezTo>
                  <a:pt x="519" y="451"/>
                  <a:pt x="399" y="445"/>
                  <a:pt x="399" y="445"/>
                </a:cubicBezTo>
                <a:cubicBezTo>
                  <a:pt x="366" y="435"/>
                  <a:pt x="309" y="437"/>
                  <a:pt x="309" y="437"/>
                </a:cubicBezTo>
                <a:cubicBezTo>
                  <a:pt x="279" y="424"/>
                  <a:pt x="230" y="397"/>
                  <a:pt x="230" y="397"/>
                </a:cubicBezTo>
                <a:cubicBezTo>
                  <a:pt x="148" y="351"/>
                  <a:pt x="168" y="266"/>
                  <a:pt x="168" y="266"/>
                </a:cubicBezTo>
                <a:cubicBezTo>
                  <a:pt x="168" y="266"/>
                  <a:pt x="184" y="252"/>
                  <a:pt x="159" y="204"/>
                </a:cubicBez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14"/>
          <p:cNvSpPr/>
          <p:nvPr/>
        </p:nvSpPr>
        <p:spPr>
          <a:xfrm flipH="1" rot="6300000">
            <a:off x="6973200" y="-1223280"/>
            <a:ext cx="5530680" cy="2281320"/>
          </a:xfrm>
          <a:custGeom>
            <a:avLst/>
            <a:gdLst/>
            <a:ahLst/>
            <a:rect l="l" t="t" r="r" b="b"/>
            <a:pathLst>
              <a:path w="1268" h="523">
                <a:moveTo>
                  <a:pt x="1268" y="296"/>
                </a:moveTo>
                <a:cubicBezTo>
                  <a:pt x="1268" y="296"/>
                  <a:pt x="900" y="199"/>
                  <a:pt x="644" y="70"/>
                </a:cubicBezTo>
                <a:cubicBezTo>
                  <a:pt x="644" y="70"/>
                  <a:pt x="530" y="0"/>
                  <a:pt x="400" y="47"/>
                </a:cubicBezTo>
                <a:cubicBezTo>
                  <a:pt x="400" y="47"/>
                  <a:pt x="269" y="58"/>
                  <a:pt x="244" y="56"/>
                </a:cubicBezTo>
                <a:cubicBezTo>
                  <a:pt x="244" y="56"/>
                  <a:pt x="185" y="80"/>
                  <a:pt x="251" y="115"/>
                </a:cubicBezTo>
                <a:cubicBezTo>
                  <a:pt x="251" y="115"/>
                  <a:pt x="359" y="126"/>
                  <a:pt x="380" y="117"/>
                </a:cubicBezTo>
                <a:cubicBezTo>
                  <a:pt x="380" y="117"/>
                  <a:pt x="319" y="122"/>
                  <a:pt x="302" y="136"/>
                </a:cubicBezTo>
                <a:cubicBezTo>
                  <a:pt x="302" y="136"/>
                  <a:pt x="229" y="143"/>
                  <a:pt x="203" y="129"/>
                </a:cubicBezTo>
                <a:cubicBezTo>
                  <a:pt x="203" y="129"/>
                  <a:pt x="9" y="58"/>
                  <a:pt x="0" y="127"/>
                </a:cubicBezTo>
                <a:cubicBezTo>
                  <a:pt x="0" y="127"/>
                  <a:pt x="4" y="145"/>
                  <a:pt x="49" y="139"/>
                </a:cubicBezTo>
                <a:cubicBezTo>
                  <a:pt x="49" y="139"/>
                  <a:pt x="20" y="173"/>
                  <a:pt x="33" y="183"/>
                </a:cubicBezTo>
                <a:cubicBezTo>
                  <a:pt x="33" y="183"/>
                  <a:pt x="168" y="192"/>
                  <a:pt x="199" y="213"/>
                </a:cubicBezTo>
                <a:cubicBezTo>
                  <a:pt x="199" y="213"/>
                  <a:pt x="277" y="228"/>
                  <a:pt x="318" y="234"/>
                </a:cubicBezTo>
                <a:cubicBezTo>
                  <a:pt x="318" y="234"/>
                  <a:pt x="372" y="263"/>
                  <a:pt x="393" y="249"/>
                </a:cubicBezTo>
                <a:cubicBezTo>
                  <a:pt x="393" y="249"/>
                  <a:pt x="506" y="232"/>
                  <a:pt x="548" y="232"/>
                </a:cubicBezTo>
                <a:cubicBezTo>
                  <a:pt x="548" y="232"/>
                  <a:pt x="623" y="223"/>
                  <a:pt x="687" y="249"/>
                </a:cubicBezTo>
                <a:cubicBezTo>
                  <a:pt x="687" y="249"/>
                  <a:pt x="1027" y="450"/>
                  <a:pt x="1098" y="474"/>
                </a:cubicBezTo>
                <a:cubicBezTo>
                  <a:pt x="1098" y="474"/>
                  <a:pt x="1198" y="518"/>
                  <a:pt x="1214" y="523"/>
                </a:cubicBezTo>
                <a:lnTo>
                  <a:pt x="1268" y="29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椭圆 31"/>
          <p:cNvSpPr/>
          <p:nvPr/>
        </p:nvSpPr>
        <p:spPr>
          <a:xfrm>
            <a:off x="1585800" y="5146560"/>
            <a:ext cx="600120" cy="6001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五角星 52"/>
          <p:cNvSpPr/>
          <p:nvPr/>
        </p:nvSpPr>
        <p:spPr>
          <a:xfrm>
            <a:off x="2925720" y="5165640"/>
            <a:ext cx="9097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五角星 5"/>
          <p:cNvSpPr/>
          <p:nvPr/>
        </p:nvSpPr>
        <p:spPr>
          <a:xfrm>
            <a:off x="1576440" y="5165640"/>
            <a:ext cx="72864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五角星 5"/>
          <p:cNvSpPr/>
          <p:nvPr/>
        </p:nvSpPr>
        <p:spPr>
          <a:xfrm>
            <a:off x="615312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五角星 55"/>
          <p:cNvSpPr/>
          <p:nvPr/>
        </p:nvSpPr>
        <p:spPr>
          <a:xfrm>
            <a:off x="5618160" y="5165640"/>
            <a:ext cx="907920" cy="908280"/>
          </a:xfrm>
          <a:custGeom>
            <a:avLst/>
            <a:gdLst/>
            <a:ahLst/>
            <a:rect l="l" t="t" r="r" b="b"/>
            <a:pathLst>
              <a:path w="908344" h="908344">
                <a:moveTo>
                  <a:pt x="1" y="346956"/>
                </a:moveTo>
                <a:lnTo>
                  <a:pt x="313758" y="298910"/>
                </a:lnTo>
                <a:lnTo>
                  <a:pt x="454172" y="0"/>
                </a:lnTo>
                <a:lnTo>
                  <a:pt x="594586" y="298910"/>
                </a:lnTo>
                <a:lnTo>
                  <a:pt x="908343" y="346956"/>
                </a:lnTo>
                <a:lnTo>
                  <a:pt x="681367" y="579738"/>
                </a:lnTo>
                <a:lnTo>
                  <a:pt x="734865" y="908342"/>
                </a:lnTo>
                <a:lnTo>
                  <a:pt x="454172" y="753299"/>
                </a:lnTo>
                <a:lnTo>
                  <a:pt x="173479" y="908342"/>
                </a:lnTo>
                <a:lnTo>
                  <a:pt x="226977" y="579738"/>
                </a:lnTo>
                <a:lnTo>
                  <a:pt x="1" y="346956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五角星 56"/>
          <p:cNvSpPr/>
          <p:nvPr/>
        </p:nvSpPr>
        <p:spPr>
          <a:xfrm>
            <a:off x="4586400" y="5165640"/>
            <a:ext cx="72684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五角星 5"/>
          <p:cNvSpPr/>
          <p:nvPr/>
        </p:nvSpPr>
        <p:spPr>
          <a:xfrm>
            <a:off x="3236760" y="5165640"/>
            <a:ext cx="727200" cy="72864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五角星 5"/>
          <p:cNvSpPr/>
          <p:nvPr/>
        </p:nvSpPr>
        <p:spPr>
          <a:xfrm>
            <a:off x="903240" y="5165640"/>
            <a:ext cx="987480" cy="987480"/>
          </a:xfrm>
          <a:custGeom>
            <a:avLst/>
            <a:gdLst/>
            <a:ahLst/>
            <a:rect l="l" t="t" r="r" b="b"/>
            <a:pathLst>
              <a:path w="3240354" h="3240352">
                <a:moveTo>
                  <a:pt x="1620177" y="648072"/>
                </a:moveTo>
                <a:lnTo>
                  <a:pt x="1319636" y="1287858"/>
                </a:lnTo>
                <a:lnTo>
                  <a:pt x="648071" y="1390695"/>
                </a:lnTo>
                <a:lnTo>
                  <a:pt x="1133891" y="1888941"/>
                </a:lnTo>
                <a:lnTo>
                  <a:pt x="1019382" y="2592283"/>
                </a:lnTo>
                <a:lnTo>
                  <a:pt x="1620177" y="2260430"/>
                </a:lnTo>
                <a:lnTo>
                  <a:pt x="2220972" y="2592283"/>
                </a:lnTo>
                <a:lnTo>
                  <a:pt x="2106463" y="1888941"/>
                </a:lnTo>
                <a:lnTo>
                  <a:pt x="2592283" y="1390695"/>
                </a:lnTo>
                <a:lnTo>
                  <a:pt x="1920718" y="1287858"/>
                </a:lnTo>
                <a:lnTo>
                  <a:pt x="1620177" y="648072"/>
                </a:lnTo>
                <a:close/>
                <a:moveTo>
                  <a:pt x="1620177" y="0"/>
                </a:moveTo>
                <a:lnTo>
                  <a:pt x="2121079" y="1066310"/>
                </a:lnTo>
                <a:lnTo>
                  <a:pt x="3240354" y="1237704"/>
                </a:lnTo>
                <a:lnTo>
                  <a:pt x="2430654" y="2068114"/>
                </a:lnTo>
                <a:lnTo>
                  <a:pt x="2621501" y="3240352"/>
                </a:lnTo>
                <a:lnTo>
                  <a:pt x="1620177" y="2687263"/>
                </a:lnTo>
                <a:lnTo>
                  <a:pt x="618853" y="3240352"/>
                </a:lnTo>
                <a:lnTo>
                  <a:pt x="809700" y="2068114"/>
                </a:lnTo>
                <a:lnTo>
                  <a:pt x="0" y="1237704"/>
                </a:lnTo>
                <a:lnTo>
                  <a:pt x="1119275" y="1066310"/>
                </a:lnTo>
                <a:lnTo>
                  <a:pt x="1620177" y="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五角星 59"/>
          <p:cNvSpPr/>
          <p:nvPr/>
        </p:nvSpPr>
        <p:spPr>
          <a:xfrm>
            <a:off x="7602480" y="5165640"/>
            <a:ext cx="727200" cy="728640"/>
          </a:xfrm>
          <a:custGeom>
            <a:avLst/>
            <a:gdLst/>
            <a:ahLst/>
            <a:rect l="l" t="t" r="r" b="b"/>
            <a:pathLst>
              <a:path w="728234" h="728234">
                <a:moveTo>
                  <a:pt x="1" y="278160"/>
                </a:moveTo>
                <a:lnTo>
                  <a:pt x="251545" y="239641"/>
                </a:lnTo>
                <a:lnTo>
                  <a:pt x="364117" y="0"/>
                </a:lnTo>
                <a:lnTo>
                  <a:pt x="476689" y="239641"/>
                </a:lnTo>
                <a:lnTo>
                  <a:pt x="728233" y="278160"/>
                </a:lnTo>
                <a:lnTo>
                  <a:pt x="546263" y="464785"/>
                </a:lnTo>
                <a:lnTo>
                  <a:pt x="589153" y="728232"/>
                </a:lnTo>
                <a:lnTo>
                  <a:pt x="364117" y="603932"/>
                </a:lnTo>
                <a:lnTo>
                  <a:pt x="139081" y="728232"/>
                </a:lnTo>
                <a:lnTo>
                  <a:pt x="181971" y="464785"/>
                </a:lnTo>
                <a:lnTo>
                  <a:pt x="1" y="278160"/>
                </a:lnTo>
                <a:close/>
              </a:path>
            </a:pathLst>
          </a:cu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2875 -0.68334 E">
                                      <p:cBhvr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44444E-006 L 0.2875 -0.68334 E">
                                      <p:cBhvr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05556E-006 4.44444E-006 L 0.275 -0.29167 E">
                                      <p:cBhvr>
                                        <p:cTn id="24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52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autoRev="1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3.05556E-006 4.44444E-006 L 0.26875 -0.33334 E">
                                      <p:cBhvr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58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autoRev="1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3.05556E-006 4.44444E-006 L 0.25937 -0.36667 E">
                                      <p:cBhvr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42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275 0.29167 L -4.44444E-006 -2.71605E-006 E">
                                      <p:cBhvr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autoRev="1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05556E-006 4.44444E-006 L 0.25 -0.55 E">
                                      <p:cBhvr>
                                        <p:cTn id="27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 repeatCount="indefinite">
                                  <p:stCondLst>
                                    <p:cond delay="5000"/>
                                  </p:stCondLst>
                                  <p:childTnLst>
                                    <p:animScale>
                                      <p:cBhvr>
                                        <p:cTn id="272" dur="1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autoRev="1" nodeType="withEffect" fill="hold" presetClass="path" presetID="42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3.05556E-006 4.44444E-006 L 0.425 -0.55556 E">
                                      <p:cBhvr>
                                        <p:cTn id="27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0.39375 0.54167 L -3.88889E-006 -1.23457E-007 E">
                                      <p:cBhvr>
                                        <p:cTn id="282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autoRev="1" nodeType="withEffect" fill="hold" presetClass="path" presetID="42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3.05556E-006 4.44444E-006 L 0.33125 -0.48056 E">
                                      <p:cBhvr>
                                        <p:cTn id="28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0.20833 0.28241 L 1.38889E-006 1.23457E-007 E">
                                      <p:cBhvr>
                                        <p:cTn id="288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autoRev="1" nodeType="withEffect" fill="hold" presetClass="path" presetID="42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3.05556E-006 4.44444E-006 L 0.15104 -0.25926 E">
                                      <p:cBhvr>
                                        <p:cTn id="29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294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autoRev="1" nodeType="withEffect" fill="hold" presetClass="path" presetID="42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3.05556E-006 4.44444E-006 L 0.66562 -0.88889 E">
                                      <p:cBhvr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0.10521 0.59352 L 2.77778E-006 -6.17284E-007 E">
                                      <p:cBhvr>
                                        <p:cTn id="300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autoRev="1" nodeType="withEffect" fill="hold" presetClass="path" presetID="42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3.05556E-006 2.28916E-006 L 0.08889 -0.56349 E">
                                      <p:cBhvr>
                                        <p:cTn id="302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0.03855 0.48611 L 4.16667E-006 -2.46914E-006 E">
                                      <p:cBhvr>
                                        <p:cTn id="306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autoRev="1" nodeType="withEffect" fill="hold" presetClass="path" presetID="42">
                                  <p:stCondLst>
                                    <p:cond delay="10500"/>
                                  </p:stCondLst>
                                  <p:childTnLst>
                                    <p:animMotion origin="layout" path="M -3.33333E-006 -2.46914E-006 L 0.05417 -0.48055 E">
                                      <p:cBhvr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42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-0.68958 0.94352 L 1.11022E-016 6.17284E-007 E">
                                      <p:cBhvr>
                                        <p:cTn id="312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autoRev="1" nodeType="withEffect" fill="hold" presetClass="path" presetID="42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3.05556E-006 4.44444E-006 L 0.60625 -0.80926 E">
                                      <p:cBhvr>
                                        <p:cTn id="314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42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-0.64914 0.54753 L 4.44444E-006 2.46914E-007 E">
                                      <p:cBhvr>
                                        <p:cTn id="318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autoRev="1" nodeType="withEffect" fill="hold" presetClass="path" presetID="42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3.05556E-006 4.44444E-006 L 0.63437 -0.6 E">
                                      <p:cBhvr>
                                        <p:cTn id="320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0.01145 0.20833 L 4.16667E-006 -3.7037E-007 E">
                                      <p:cBhvr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autoRev="1" nodeType="withEffect" fill="hold" presetClass="path" presetID="42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1.66667E-006 -3.95062E-006 L 0.00312 -0.21666 E">
                                      <p:cBhvr>
                                        <p:cTn id="326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42">
                                  <p:stCondLst>
                                    <p:cond delay="16500"/>
                                  </p:stCondLst>
                                  <p:childTnLst>
                                    <p:animMotion origin="layout" path="M 2.77778E-007 -2.83951E-006 L 0.56667 -0.00154 E">
                                      <p:cBhvr>
                                        <p:cTn id="335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>
                                  <p:stCondLst>
                                    <p:cond delay="17000"/>
                                  </p:stCondLst>
                                  <p:childTnLst>
                                    <p:animRot by="1200000">
                                      <p:cBhvr>
                                        <p:cTn id="337" dur="2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8">
                                  <p:stCondLst>
                                    <p:cond delay="17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8" repeatCount="2000">
                                  <p:stCondLst>
                                    <p:cond delay="17000"/>
                                  </p:stCondLst>
                                  <p:childTnLst>
                                    <p:animRot by="-21599820">
                                      <p:cBhvr>
                                        <p:cTn id="3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 repeatCount="2000">
                                  <p:stCondLst>
                                    <p:cond delay="175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4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8" repeatCount="2000">
                                  <p:stCondLst>
                                    <p:cond delay="17500"/>
                                  </p:stCondLst>
                                  <p:childTnLst>
                                    <p:animRot by="21600000">
                                      <p:cBhvr>
                                        <p:cTn id="34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 repeatCount="2000">
                                  <p:stCondLst>
                                    <p:cond delay="176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49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 repeatCount="2000">
                                  <p:stCondLst>
                                    <p:cond delay="1760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 repeatCount="2000">
                                  <p:stCondLst>
                                    <p:cond delay="177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5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 repeatCount="2000">
                                  <p:stCondLst>
                                    <p:cond delay="1770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 repeatCount="2000">
                                  <p:stCondLst>
                                    <p:cond delay="178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57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8" repeatCount="2000">
                                  <p:stCondLst>
                                    <p:cond delay="17800"/>
                                  </p:stCondLst>
                                  <p:childTnLst>
                                    <p:animRot by="21600000">
                                      <p:cBhvr>
                                        <p:cTn id="35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 repeatCount="2000">
                                  <p:stCondLst>
                                    <p:cond delay="179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6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8" repeatCount="2000">
                                  <p:stCondLst>
                                    <p:cond delay="1790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 repeatCount="2000">
                                  <p:stCondLst>
                                    <p:cond delay="180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6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8" repeatCount="2000">
                                  <p:stCondLst>
                                    <p:cond delay="18000"/>
                                  </p:stCondLst>
                                  <p:childTnLst>
                                    <p:animRot by="21600000">
                                      <p:cBhvr>
                                        <p:cTn id="36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 repeatCount="2000">
                                  <p:stCondLst>
                                    <p:cond delay="181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6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8" repeatCount="2000">
                                  <p:stCondLst>
                                    <p:cond delay="18100"/>
                                  </p:stCondLst>
                                  <p:childTnLst>
                                    <p:animRot by="21600000">
                                      <p:cBhvr>
                                        <p:cTn id="37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 repeatCount="2000">
                                  <p:stCondLst>
                                    <p:cond delay="18200"/>
                                  </p:stCondLst>
                                  <p:childTnLst>
                                    <p:animMotion origin="layout" path="M 0 0 C 0.0316 -0.05463 0.0632 -0.10926 0.06459 -0.18519 C 0.06598 -0.26111 0.00903 -0.36327 0.00834 -0.45556 C 0.00764 -0.54815 0.05834 -0.64753 0.06042 -0.74105 C 0.0625 -0.83395 0.0191 -0.92593 0.02084 -1.01482 C 0.02257 -1.10371 0.0467 -1.18889 0.07084 -1.27408 E">
                                      <p:cBhvr>
                                        <p:cTn id="37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8" repeatCount="2000">
                                  <p:stCondLst>
                                    <p:cond delay="18200"/>
                                  </p:stCondLst>
                                  <p:childTnLst>
                                    <p:animRot by="21600000">
                                      <p:cBhvr>
                                        <p:cTn id="3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18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f7f7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E30F-6E1F-4B58-803A-D888D48807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06:33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1:10:20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