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598-3172-457E-8CA4-BF78A9B6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514-E9AE-432F-B4D0-663D6942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627-E596-4E72-BF68-29B168F2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54B-1AF3-487D-AA5A-F9FFF82D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07F-E98A-404E-A024-B2626266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9C7-3FAB-4C6E-A828-4CB81886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BFD-ACC6-4A39-9BA8-DE4D22A8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82D-E9DF-4EDE-846F-BF25B120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C4D-1C61-44BA-891A-1688D1FE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A62-2E3E-4FB1-BE7B-E8488325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24E-6332-4773-910C-2A6ABF51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FB9-75E0-4591-88A6-7D10160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EDAA-3A0D-4DC5-AFB5-7E898B66A7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蛇年PPT"/>
          <p:cNvPicPr/>
          <p:nvPr/>
        </p:nvPicPr>
        <p:blipFill>
          <a:blip r:embed="rId2"/>
          <a:stretch/>
        </p:blipFill>
        <p:spPr>
          <a:xfrm>
            <a:off x="4292640" y="636480"/>
            <a:ext cx="409104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02T"/>
          <p:cNvPicPr/>
          <p:nvPr/>
        </p:nvPicPr>
        <p:blipFill>
          <a:blip r:embed="rId3"/>
          <a:stretch/>
        </p:blipFill>
        <p:spPr>
          <a:xfrm>
            <a:off x="3398760" y="4030560"/>
            <a:ext cx="5421240" cy="177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600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309680" y="835200"/>
            <a:ext cx="24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新年动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蛇年PPT 1"/>
          <p:cNvPicPr/>
          <p:nvPr/>
        </p:nvPicPr>
        <p:blipFill>
          <a:blip r:embed="rId1"/>
          <a:stretch/>
        </p:blipFill>
        <p:spPr>
          <a:xfrm>
            <a:off x="14400" y="784080"/>
            <a:ext cx="12196800" cy="8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蛇年PPT"/>
          <p:cNvPicPr/>
          <p:nvPr/>
        </p:nvPicPr>
        <p:blipFill>
          <a:blip r:embed="rId2"/>
          <a:stretch/>
        </p:blipFill>
        <p:spPr>
          <a:xfrm>
            <a:off x="41400" y="311040"/>
            <a:ext cx="1841400" cy="16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蛇年PPT 1"/>
          <p:cNvPicPr/>
          <p:nvPr/>
        </p:nvPicPr>
        <p:blipFill>
          <a:blip r:embed="rId3"/>
          <a:stretch/>
        </p:blipFill>
        <p:spPr>
          <a:xfrm>
            <a:off x="10158480" y="865080"/>
            <a:ext cx="1334880" cy="611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784520" y="3368520"/>
            <a:ext cx="203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目录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430440" y="2803680"/>
            <a:ext cx="730260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108080" y="200988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20800" y="2776680"/>
            <a:ext cx="62294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文字内容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蛇年PPT 2 副本"/>
          <p:cNvPicPr/>
          <p:nvPr/>
        </p:nvPicPr>
        <p:blipFill>
          <a:blip r:embed="rId1"/>
          <a:stretch/>
        </p:blipFill>
        <p:spPr>
          <a:xfrm>
            <a:off x="4680" y="1459080"/>
            <a:ext cx="912960" cy="379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蛇年PPT"/>
          <p:cNvPicPr/>
          <p:nvPr/>
        </p:nvPicPr>
        <p:blipFill>
          <a:blip r:embed="rId2"/>
          <a:stretch/>
        </p:blipFill>
        <p:spPr>
          <a:xfrm>
            <a:off x="8975880" y="1998720"/>
            <a:ext cx="27478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916-AD17-404C-8C2D-CF3FCE3E0F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蛇年PPT 2"/>
          <p:cNvPicPr/>
          <p:nvPr/>
        </p:nvPicPr>
        <p:blipFill>
          <a:blip r:embed="rId1"/>
          <a:stretch/>
        </p:blipFill>
        <p:spPr>
          <a:xfrm>
            <a:off x="1268280" y="4680"/>
            <a:ext cx="804960" cy="6873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319040" y="739800"/>
            <a:ext cx="80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黑简体"/>
                <a:ea typeface="方正正大黑简体"/>
              </a:rPr>
              <a:t>文字内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蛇年PPT"/>
          <p:cNvPicPr/>
          <p:nvPr/>
        </p:nvPicPr>
        <p:blipFill>
          <a:blip r:embed="rId2"/>
          <a:stretch/>
        </p:blipFill>
        <p:spPr>
          <a:xfrm>
            <a:off x="512640" y="3552840"/>
            <a:ext cx="236088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340080" y="863640"/>
            <a:ext cx="781380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方正正大黑简体"/>
                <a:ea typeface="方正正大黑简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955960" y="836640"/>
            <a:ext cx="447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959200" y="2873520"/>
            <a:ext cx="447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62440" y="4894200"/>
            <a:ext cx="447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6237360" y="31734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蛇年PPT"/>
          <p:cNvPicPr/>
          <p:nvPr/>
        </p:nvPicPr>
        <p:blipFill>
          <a:blip r:embed="rId17"/>
          <a:stretch/>
        </p:blipFill>
        <p:spPr>
          <a:xfrm>
            <a:off x="4292640" y="636480"/>
            <a:ext cx="4091040" cy="361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02T"/>
          <p:cNvPicPr/>
          <p:nvPr/>
        </p:nvPicPr>
        <p:blipFill>
          <a:blip r:embed="rId18"/>
          <a:stretch/>
        </p:blipFill>
        <p:spPr>
          <a:xfrm>
            <a:off x="3414600" y="4030560"/>
            <a:ext cx="5419800" cy="177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蛇年PPT 副本"/>
          <p:cNvPicPr/>
          <p:nvPr/>
        </p:nvPicPr>
        <p:blipFill>
          <a:blip r:embed="rId19"/>
          <a:stretch/>
        </p:blipFill>
        <p:spPr>
          <a:xfrm>
            <a:off x="3137040" y="2922480"/>
            <a:ext cx="62020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5:13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