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B5C-1699-450E-86C1-026AC2CB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971-D794-4DB7-A770-C0602E81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CF9-2F31-4BA9-895D-FF61D6D1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FD3-C322-4543-A9CA-A460E581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36B-680E-495D-AB17-02F96DFB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25B-3D70-4B84-8904-B310DCDD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F29-65BC-47FA-9EAE-7F4B10F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348-C3F7-43E6-96AC-441612F8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858-23D7-4931-801B-ED5771BF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ABE-0D72-43F6-AB3C-97F570B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426-84F0-4B59-BFE1-E717DB3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C77-A16B-4911-8551-234E2BA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A95B-19EF-41FC-9E7B-9E7F7793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HAWK.WAV" TargetMode="External"/><Relationship Id="rId3" Type="http://schemas.microsoft.com/office/2007/relationships/media" Target="file:///tmp/home/.config/libreoffice/4/user/gallery/HAWK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42240" y="476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23800" y="105264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小鹰学飞》公开课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"/>
          <p:cNvPicPr/>
          <p:nvPr/>
        </p:nvPicPr>
        <p:blipFill>
          <a:blip r:embed="rId1"/>
          <a:srcRect l="2126" t="2612" r="5498" b="2887"/>
          <a:stretch/>
        </p:blipFill>
        <p:spPr>
          <a:xfrm>
            <a:off x="-396720" y="-42840"/>
            <a:ext cx="9540720" cy="6900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932360" y="1989000"/>
            <a:ext cx="36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学无止境　虚心好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3276720" y="4221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4"/>
          <p:cNvPicPr/>
          <p:nvPr/>
        </p:nvPicPr>
        <p:blipFill>
          <a:blip r:embed="rId19"/>
          <a:srcRect l="4875" t="118" r="2749" b="27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0" y="549360"/>
            <a:ext cx="8820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按要求自由朗读课文：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）读通句子，读顺全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）对照课后生字表，划出生字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认真读一读字音，记一记字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4"/>
          <p:cNvPicPr/>
          <p:nvPr/>
        </p:nvPicPr>
        <p:blipFill>
          <a:blip r:embed="rId1"/>
          <a:srcRect l="4875" t="118" r="2749" b="278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24000" y="400536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Arial"/>
                <a:ea typeface="黑体"/>
              </a:rPr>
              <a:t>鹰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　</a:t>
            </a:r>
            <a:r>
              <a:rPr b="1" lang="zh-CN" sz="8800" spc="-1" strike="noStrike">
                <a:solidFill>
                  <a:srgbClr val="ff00ff"/>
                </a:solidFill>
                <a:latin typeface="Arial"/>
                <a:ea typeface="黑体"/>
              </a:rPr>
              <a:t>拼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　</a:t>
            </a:r>
            <a:r>
              <a:rPr b="1" lang="zh-CN" sz="8800" spc="-1" strike="noStrike">
                <a:solidFill>
                  <a:srgbClr val="ff00ff"/>
                </a:solidFill>
                <a:latin typeface="Arial"/>
                <a:ea typeface="黑体"/>
              </a:rPr>
              <a:t>矮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　</a:t>
            </a:r>
            <a:r>
              <a:rPr b="1" lang="zh-CN" sz="8800" spc="-1" strike="noStrike">
                <a:solidFill>
                  <a:srgbClr val="ff00ff"/>
                </a:solidFill>
                <a:latin typeface="Arial"/>
                <a:ea typeface="黑体"/>
              </a:rPr>
              <a:t>急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　</a:t>
            </a:r>
            <a:r>
              <a:rPr b="1" lang="zh-CN" sz="8800" spc="-1" strike="noStrike">
                <a:solidFill>
                  <a:srgbClr val="ff00ff"/>
                </a:solidFill>
                <a:latin typeface="Arial"/>
                <a:ea typeface="黑体"/>
              </a:rPr>
              <a:t>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908000" y="2781360"/>
            <a:ext cx="58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2924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yīng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　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pīn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　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ǎi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jí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　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chu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4"/>
          <p:cNvPicPr/>
          <p:nvPr/>
        </p:nvPicPr>
        <p:blipFill>
          <a:blip r:embed="rId1"/>
          <a:srcRect l="4875" t="118" r="2749" b="278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2205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摇   算  鼓  命  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486900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盘   顶  吧  总  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8366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yáo </a:t>
            </a:r>
            <a:r>
              <a:rPr b="1" lang="en-US" sz="1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suàn </a:t>
            </a:r>
            <a:r>
              <a:rPr b="1" lang="en-US" sz="10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gǔ  mìng  c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386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pán  dǐng  ba zǒng xu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_20040904105248_67965633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971640" y="1916280"/>
            <a:ext cx="720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一只小鹰跟着老鹰学飞行。小鹰飞到大树的上面，它高兴地喊起来：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我已经会飞啦！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老鹰摇摇头说：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飞得只比大树高，还不算会飞。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007g[1]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2340000" y="549360"/>
            <a:ext cx="1177920" cy="1427040"/>
          </a:xfrm>
          <a:prstGeom prst="rect">
            <a:avLst/>
          </a:prstGeom>
          <a:ln w="0">
            <a:noFill/>
          </a:ln>
        </p:spPr>
      </p:pic>
      <p:pic>
        <p:nvPicPr>
          <p:cNvPr id="64" name="HAWK2344.WAV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4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2004731111422266[1]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324000" y="1125360"/>
            <a:ext cx="6481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ahoma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小鹰又跟着老鹰向上飞。小鹰飞到大山的上空，它又高兴地喊起来：“我真的会飞啦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老鹰又摇摇头说：“飞得只比大山高，还不算会飞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007g[1]"/>
          <p:cNvPicPr/>
          <p:nvPr/>
        </p:nvPicPr>
        <p:blipFill>
          <a:blip r:embed="rId2"/>
          <a:stretch/>
        </p:blipFill>
        <p:spPr>
          <a:xfrm>
            <a:off x="395280" y="189000"/>
            <a:ext cx="122400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HAWK2360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64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020[1]"/>
          <p:cNvPicPr/>
          <p:nvPr/>
        </p:nvPicPr>
        <p:blipFill>
          <a:blip r:embed="rId1">
            <a:lum bright="54000"/>
          </a:blip>
          <a:srcRect l="0" t="16629" r="0" b="10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07g[1]"/>
          <p:cNvPicPr/>
          <p:nvPr/>
        </p:nvPicPr>
        <p:blipFill>
          <a:blip r:embed="rId2"/>
          <a:stretch/>
        </p:blipFill>
        <p:spPr>
          <a:xfrm>
            <a:off x="3995640" y="5373720"/>
            <a:ext cx="1368360" cy="133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07g[1]"/>
          <p:cNvPicPr/>
          <p:nvPr/>
        </p:nvPicPr>
        <p:blipFill>
          <a:blip r:embed="rId3"/>
          <a:stretch/>
        </p:blipFill>
        <p:spPr>
          <a:xfrm>
            <a:off x="1979640" y="765000"/>
            <a:ext cx="1440000" cy="141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007g[1]"/>
          <p:cNvPicPr/>
          <p:nvPr/>
        </p:nvPicPr>
        <p:blipFill>
          <a:blip r:embed="rId4"/>
          <a:stretch/>
        </p:blipFill>
        <p:spPr>
          <a:xfrm>
            <a:off x="3635280" y="765000"/>
            <a:ext cx="1368360" cy="1341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95280" y="1557360"/>
            <a:ext cx="85694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ahom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小鹰只好鼓起劲，跟着老鹰拼命向上飞。飞呀，飞呀，大树看不见了，大山也变得矮小了。小鹰急促地喘着气，对老鹰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现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我总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会飞了吧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老鹰向头顶上指了指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孩子，你往上看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小鹰一抬头，只见白云上面还有几只鹰在盘旋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HAWK2360.WAV" descr=""/>
          <p:cNvPicPr/>
          <p:nvPr/>
        </p:nvPicPr>
        <p:blipFill>
          <a:blip r:embed="rId5"/>
          <a:stretch/>
        </p:blipFill>
        <p:spPr>
          <a:xfrm>
            <a:off x="867564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HAWK2361.WAV" descr=""/>
          <p:cNvPicPr/>
          <p:nvPr/>
        </p:nvPicPr>
        <p:blipFill>
          <a:blip r:embed="rId6"/>
          <a:stretch/>
        </p:blipFill>
        <p:spPr>
          <a:xfrm>
            <a:off x="860436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HAWK2391.WAV" descr=""/>
          <p:cNvPicPr/>
          <p:nvPr/>
        </p:nvPicPr>
        <p:blipFill>
          <a:blip r:embed="rId7"/>
          <a:stretch/>
        </p:blipFill>
        <p:spPr>
          <a:xfrm>
            <a:off x="86043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64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4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64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3E0-E555-4983-B2C2-C46A5A21F8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4"/>
          <p:cNvPicPr/>
          <p:nvPr/>
        </p:nvPicPr>
        <p:blipFill>
          <a:blip r:embed="rId1"/>
          <a:srcRect l="4875" t="118" r="2749" b="278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332000" y="177336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321300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比一比，看谁说得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当小鹰看到白云上面还有几只鹰在盘旋时，小鹰会怎么想？怎么说？怎么做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60360" y="2421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3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2:56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