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.jpeg" ContentType="image/jpeg"/>
  <Override PartName="/ppt/media/image7.png" ContentType="image/png"/>
  <Override PartName="/ppt/media/image4.jpeg" ContentType="image/jpe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B807-7A84-4544-8D6B-5839300C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F184-04A1-413D-9145-DBBE62B8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559C-D1FE-454F-A21B-6872B4D2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FB0A-90A5-4392-99E2-345385E9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469-8B19-4784-9BCB-6C7CCD22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3607-61D3-4258-94F3-9A5904A1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A69D-93EE-4FA8-BA44-01DCE947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7685-FD0E-43DB-90C2-9343DD61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53FF-BAD3-4BB7-8596-81F755D1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44F1-2D5B-45F9-A38F-61F89F07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3146-F606-4A98-8A8C-36AA1A49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38BC-DBCC-46DA-ACE0-2895CCA7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7C65-5A34-4166-A61D-F275D941E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rcRect l="0" t="0" r="0" b="8556"/>
          <a:stretch/>
        </p:blipFill>
        <p:spPr>
          <a:xfrm>
            <a:off x="-108000" y="-98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WW_020"/>
          <p:cNvPicPr/>
          <p:nvPr/>
        </p:nvPicPr>
        <p:blipFill>
          <a:blip r:embed="rId2"/>
          <a:stretch/>
        </p:blipFill>
        <p:spPr>
          <a:xfrm>
            <a:off x="228600" y="228600"/>
            <a:ext cx="1006560" cy="10508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150920" y="404640"/>
            <a:ext cx="79930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渔夫见到胆瓶后的心情是怎样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第四节运用了哪些修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方法来描写魔鬼的外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表现了魔鬼怎样的性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tu4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26" descr="FLOW031"/>
          <p:cNvPicPr/>
          <p:nvPr/>
        </p:nvPicPr>
        <p:blipFill>
          <a:blip r:embed="rId1"/>
          <a:stretch/>
        </p:blipFill>
        <p:spPr>
          <a:xfrm>
            <a:off x="76320" y="-152280"/>
            <a:ext cx="950580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27" descr="WW_032"/>
          <p:cNvPicPr/>
          <p:nvPr/>
        </p:nvPicPr>
        <p:blipFill>
          <a:blip r:embed="rId2"/>
          <a:stretch/>
        </p:blipFill>
        <p:spPr>
          <a:xfrm>
            <a:off x="2590920" y="228600"/>
            <a:ext cx="952560" cy="777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028"/>
          <p:cNvSpPr/>
          <p:nvPr/>
        </p:nvSpPr>
        <p:spPr>
          <a:xfrm>
            <a:off x="539640" y="1905120"/>
            <a:ext cx="86043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这部分在描写人物上主要运用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什么方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运用这种描写方法表现了渔夫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魔鬼什么样的性格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请你举例说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250920" y="69228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这部分运用了哪些描写方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第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23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节中哪些词语描写了渔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的动作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“全”、“立刻”能否去掉，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用简洁的词语概括渔夫和魔鬼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性格特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tu7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是整整过了四百年，始终没有人来解救我。于是我非常生气，我说：‘从今以后，谁要是来解救我，我一定要杀死他，不过准许他选择怎样死。’渔夫，现在你解救了我，所以我叫你选择你的死法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渔夫叫道：“好倒霉啊，碰上我来解救你！是我救了你的命啊！”</a:t>
            </a:r>
            <a:br>
              <a:rPr sz="28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正因为你救了我，我才要杀你啊！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好心对待你，你却要杀我！老话确实讲得不错，这真是‘恩将仇报’了！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别再罗嗦了，”魔鬼说道，“反正你是非死不可的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这时候渔夫想道：“他是个魔鬼，我是个堂堂的人。我的智慧一定能压制他的妖气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tu0"/>
          <p:cNvPicPr/>
          <p:nvPr/>
        </p:nvPicPr>
        <p:blipFill>
          <a:blip r:embed="rId1"/>
          <a:stretch/>
        </p:blipFill>
        <p:spPr>
          <a:xfrm>
            <a:off x="0" y="0"/>
            <a:ext cx="9144000" cy="696420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 rot="5400000">
            <a:off x="-1837080" y="2421000"/>
            <a:ext cx="5977080" cy="165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9394"/>
                <a:gd name="adj2" fmla="val -3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99192" dir="7781944" blurRad="0" rotWithShape="0">
                    <a:srgbClr val="000080">
                      <a:alpha val="76000"/>
                    </a:srgbClr>
                  </a:outerShdw>
                </a:effectLst>
                <a:latin typeface="宋体"/>
              </a:rPr>
              <a:t>渔夫的故事</a:t>
            </a:r>
            <a:endParaRPr b="0" lang="en-US" sz="4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99192" dir="7781944" blurRad="0" rotWithShape="0">
                  <a:srgbClr val="00008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1476360" y="0"/>
            <a:ext cx="619272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华文新魏"/>
              </a:rPr>
              <a:t> 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华文新魏"/>
              </a:rPr>
              <a:t>谢谢光临！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WW_020"/>
          <p:cNvPicPr/>
          <p:nvPr/>
        </p:nvPicPr>
        <p:blipFill>
          <a:blip r:embed="rId2"/>
          <a:stretch/>
        </p:blipFill>
        <p:spPr>
          <a:xfrm>
            <a:off x="228600" y="228600"/>
            <a:ext cx="1006560" cy="10508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2268360" y="692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、本文的线索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2340000" y="162864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、围绕本文线索用简洁的语言概括各部分的主要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16360" y="5373720"/>
            <a:ext cx="532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B6CA-2A6D-4389-B1AA-F0C2F32B92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Q1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Q2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Q3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Q4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289080" y="476280"/>
            <a:ext cx="882000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学习目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学习本文运用外貌、语言、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作、心理描写来刻画人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能根据人物的描写方法，分析概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出人物的思想性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要相信人的聪明智慧，对邪恶势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既要敢于斗争又要善于斗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203640" y="54936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如何分析人物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905120" y="204624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人物描写方法入手，分析概括人物的性格特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7T09:31:2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27:42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