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7391-6D69-4575-B1CE-0C1A9BA4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3802-171A-437A-96B2-68785283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E48A-1D8C-47FC-866F-B95AC8FD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075-89D9-4C0D-8713-B0C9324B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5CF-89CA-4A0C-AB39-3DC2A6FC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5EB3-4FFD-49CC-A53A-25BFE4F7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20D-E20E-4641-A47E-0F3AD6D8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0CF-CD09-46CD-9749-61415C30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3A5B-D784-4DDF-91A6-7B276822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95F-370B-4FE0-B9BC-48F76F6B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6BD-A5C0-43D9-A7C8-ECE22D2F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DF8-B36C-4759-8C40-EA1EDA16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4483-1141-46E1-A678-A2B3CA3AC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84560" y="981000"/>
            <a:ext cx="310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个小村庄的故事课件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小兴安岭图片4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0456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0127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0128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1A3-DACE-4C54-AB52-E5B052870B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《一个小村庄的故事》课文插图一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《一个小村庄的故事》课文插图二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绿色家园三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自然环境的破坏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8720" y="458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utton106"/>
          <p:cNvPicPr/>
          <p:nvPr/>
        </p:nvPicPr>
        <p:blipFill>
          <a:blip r:embed="rId2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7"/>
          <p:cNvSpPr/>
          <p:nvPr/>
        </p:nvSpPr>
        <p:spPr>
          <a:xfrm>
            <a:off x="1600200" y="3049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小村庄的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152280" y="3092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树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29"/>
          <p:cNvSpPr/>
          <p:nvPr/>
        </p:nvSpPr>
        <p:spPr>
          <a:xfrm>
            <a:off x="3124080" y="1523880"/>
            <a:ext cx="152640" cy="3810240"/>
          </a:xfrm>
          <a:custGeom>
            <a:avLst/>
            <a:gdLst>
              <a:gd name="textAreaLeft" fmla="*/ 97560 w 152640"/>
              <a:gd name="textAreaRight" fmla="*/ 153000 w 152640"/>
              <a:gd name="textAreaTop" fmla="*/ 99360 h 3810240"/>
              <a:gd name="textAreaBottom" fmla="*/ 371088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3200400" y="1447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房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3352680" y="2558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家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3352680" y="3701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工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3352680" y="4768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7620120" y="28479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都没有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8"/>
          <p:cNvSpPr/>
          <p:nvPr/>
        </p:nvSpPr>
        <p:spPr>
          <a:xfrm>
            <a:off x="1219320" y="34290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1447920" y="2863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斧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0"/>
          <p:cNvSpPr/>
          <p:nvPr/>
        </p:nvSpPr>
        <p:spPr>
          <a:xfrm>
            <a:off x="4419720" y="342900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1"/>
          <p:cNvSpPr/>
          <p:nvPr/>
        </p:nvSpPr>
        <p:spPr>
          <a:xfrm>
            <a:off x="5181480" y="2863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减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2"/>
          <p:cNvSpPr/>
          <p:nvPr/>
        </p:nvSpPr>
        <p:spPr>
          <a:xfrm>
            <a:off x="4038480" y="33973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6699"/>
                </a:solidFill>
                <a:latin typeface="Times New Roman"/>
                <a:ea typeface="楷体_GB2312"/>
              </a:rPr>
              <a:t>一年年、一代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3366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3"/>
          <p:cNvSpPr txBox="1"/>
          <p:nvPr/>
        </p:nvSpPr>
        <p:spPr>
          <a:xfrm>
            <a:off x="3276720" y="11430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课文朗读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914400" y="281952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词语学习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5638680" y="2819520"/>
            <a:ext cx="2667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句段赏析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914400" y="426708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图片资料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8" name="WordArt 10"/>
          <p:cNvSpPr txBox="1"/>
          <p:nvPr/>
        </p:nvSpPr>
        <p:spPr>
          <a:xfrm>
            <a:off x="5562720" y="426708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板书设计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49" name="Picture 12" descr="button106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305920" y="600876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0" name="一个小村庄的故事.wav" descr=""/>
          <p:cNvPicPr/>
          <p:nvPr/>
        </p:nvPicPr>
        <p:blipFill>
          <a:blip r:embed="rId3"/>
          <a:stretch/>
        </p:blipFill>
        <p:spPr>
          <a:xfrm>
            <a:off x="4152960" y="2057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04920" y="762120"/>
            <a:ext cx="8534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斧 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头   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盖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房   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造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断   减 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   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04920" y="914400"/>
            <a:ext cx="853416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栋    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家</a:t>
            </a: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具    冒 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柴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烟    </a:t>
            </a: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黎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明    </a:t>
            </a: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洪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</a:t>
            </a: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何      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包</a:t>
            </a: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533520" y="8352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大量的树木随着屋顶冒出的柴烟消失在天空中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347328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大量的树木被当作柴草烧掉了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685800" y="1339920"/>
            <a:ext cx="77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大雨没喘气儿。</a:t>
            </a:r>
            <a:r>
              <a:rPr b="1" lang="zh-CN" sz="60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09480" y="33210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雨一直下个不停。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85800" y="8352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7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什么都没有了</a:t>
            </a:r>
            <a:r>
              <a:rPr b="1" lang="en-US" sz="7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——</a:t>
            </a:r>
            <a:r>
              <a:rPr b="1" lang="zh-CN" sz="7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所有靠斧头得到的一切，包括那些锋利的斧头。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button106"/>
          <p:cNvPicPr/>
          <p:nvPr/>
        </p:nvPicPr>
        <p:blipFill>
          <a:blip r:embed="rId2"/>
          <a:stretch/>
        </p:blipFill>
        <p:spPr>
          <a:xfrm>
            <a:off x="8305920" y="600876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533520" y="342900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用斧头砍的树盖的房子、做成的各式各样的工具，应有尽有的家具，还有那些锋利的斧头，全都没有了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85800" y="835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什么都没有了</a:t>
            </a:r>
            <a:r>
              <a:rPr b="1" lang="en-US" sz="44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所有靠斧头得到的一切，包括那些锋利的斧头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白桦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林海——白桦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林海——丛林"/>
          <p:cNvPicPr/>
          <p:nvPr/>
        </p:nvPicPr>
        <p:blipFill>
          <a:blip r:embed="rId3"/>
          <a:stretch/>
        </p:blipFill>
        <p:spPr>
          <a:xfrm>
            <a:off x="4572000" y="3436920"/>
            <a:ext cx="4572000" cy="3421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林海——红松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05:15:5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36:41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