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5C2E-291F-4B77-B31A-0BB755055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5DF0-12E9-40D3-9D70-D3DC370E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F7D7-B9B2-474B-BA93-02C502C8C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B2C4-D5FC-48BD-96D7-2F2576F21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3FD9-578D-4FE1-B61C-F6E95E4C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7D60-38A1-403E-8C7A-B1DD2755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29B0-2269-4740-9555-E62D75D0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54A3-4CB1-4D8A-A878-CFCC2643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2A9E-B949-4273-A0DF-CC8C0858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3DB4-3C86-41AD-A69D-83FAD648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8042-8397-44F8-AC84-1DF10596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82FD-0D55-4BB6-BA9C-6D8A4908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06FA-A5C5-42DD-8E11-D09214EBB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audio" Target="file:///tmp/home/.config/libreoffice/4/user/gallery/explode.wav" TargetMode="External"/><Relationship Id="rId19" Type="http://schemas.microsoft.com/office/2007/relationships/media" Target="file:///tmp/home/.config/libreoffice/4/user/gallery/explode.wav" TargetMode="External"/><Relationship Id="rId20" Type="http://schemas.openxmlformats.org/officeDocument/2006/relationships/image" Target="../media/image11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image" Target="../media/image12.png"/><Relationship Id="rId27" Type="http://schemas.openxmlformats.org/officeDocument/2006/relationships/image" Target="../media/image12.png"/><Relationship Id="rId2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376200"/>
            <a:ext cx="9296280" cy="73105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733920" y="7035840"/>
            <a:ext cx="217440" cy="1650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334120" y="7086600"/>
            <a:ext cx="217440" cy="1650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676520" y="6959520"/>
            <a:ext cx="226800" cy="1727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7467480" y="7086600"/>
            <a:ext cx="196920" cy="1498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-731880" y="-757080"/>
            <a:ext cx="5075280" cy="5074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1778040" y="-833400"/>
            <a:ext cx="5079960" cy="5075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3581280" y="-960480"/>
            <a:ext cx="5079960" cy="5075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5664240" y="-960480"/>
            <a:ext cx="5079960" cy="5075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1752480" y="7112160"/>
            <a:ext cx="227160" cy="1726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3886200" y="7188120"/>
            <a:ext cx="217440" cy="1650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5486400" y="7238880"/>
            <a:ext cx="217440" cy="1650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7620120" y="7238880"/>
            <a:ext cx="196560" cy="1498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-833400" y="-909720"/>
            <a:ext cx="5075280" cy="5075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>
            <a:off x="1752480" y="-1066680"/>
            <a:ext cx="5079960" cy="5076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3530520" y="-985680"/>
            <a:ext cx="5079960" cy="5074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>
            <a:off x="5867280" y="-1138320"/>
            <a:ext cx="5079960" cy="5075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" action="ppaction://media"/>
          </p:cNvPr>
          <p:cNvPicPr/>
          <p:nvPr>
            <a:audioFile r:link="rId18"/>
            <p:extLst>
              <p:ext uri="{DAA4B4D4-6D71-4841-9C94-3DE7FCFB9230}">
                <p14:media r:link="rId19"/>
              </p:ext>
            </p:extLst>
          </p:nvPr>
        </p:nvPicPr>
        <p:blipFill>
          <a:blip r:embed="rId20"/>
          <a:stretch>
            <a:fillRect/>
          </a:stretch>
        </p:blipFill>
        <p:spPr>
          <a:xfrm>
            <a:off x="10210680" y="2209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1"/>
          <a:stretch/>
        </p:blipFill>
        <p:spPr>
          <a:xfrm>
            <a:off x="10363320" y="2362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2"/>
          <a:stretch/>
        </p:blipFill>
        <p:spPr>
          <a:xfrm>
            <a:off x="10515600" y="2514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3"/>
          <a:stretch/>
        </p:blipFill>
        <p:spPr>
          <a:xfrm>
            <a:off x="10667880" y="2666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4"/>
          <a:stretch/>
        </p:blipFill>
        <p:spPr>
          <a:xfrm>
            <a:off x="10820520" y="2819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5"/>
          <a:stretch/>
        </p:blipFill>
        <p:spPr>
          <a:xfrm>
            <a:off x="10972800" y="2971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6"/>
          <a:stretch/>
        </p:blipFill>
        <p:spPr>
          <a:xfrm>
            <a:off x="11125080" y="312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7"/>
          <a:stretch/>
        </p:blipFill>
        <p:spPr>
          <a:xfrm>
            <a:off x="11277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371600" y="52578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40840" y="4267080"/>
            <a:ext cx="26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烟花动态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86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38483E-006 L 0.00313 -0.86402 E">
                                      <p:cBhvr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1">
                                  <p:stCondLst>
                                    <p:cond delay="2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286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38483E-006 L 0.00313 -0.86402 E">
                                      <p:cBhvr>
                                        <p:cTn id="12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mediacall" presetID="1">
                                  <p:stCondLst>
                                    <p:cond delay="4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286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38483E-006 L 0.00313 -0.86402 E">
                                      <p:cBhvr>
                                        <p:cTn id="1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mediacall" presetID="1">
                                  <p:stCondLst>
                                    <p:cond delay="6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286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38483E-006 L 0.00313 -0.86402 E">
                                      <p:cBhvr>
                                        <p:cTn id="20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90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286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4.38483E-006 L 0.00313 -0.86402 E">
                                      <p:cBhvr>
                                        <p:cTn id="42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mediacall" presetID="1">
                                  <p:stCondLst>
                                    <p:cond delay="2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286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4.38483E-006 L 0.00313 -0.86402 E">
                                      <p:cBhvr>
                                        <p:cTn id="46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mediacall" presetID="1">
                                  <p:stCondLst>
                                    <p:cond delay="4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286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4.38483E-006 L 0.00313 -0.86402 E">
                                      <p:cBhvr>
                                        <p:cTn id="50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mediacall" presetID="1">
                                  <p:stCondLst>
                                    <p:cond delay="6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286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4.38483E-006 L 0.00313 -0.86402 E">
                                      <p:cBhvr>
                                        <p:cTn id="54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79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0771-C705-4CE9-AC9C-1C889B6CE2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3T07:53:44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9T01:25:41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ersion">
    <vt:r8>1</vt:r8>
  </property>
</Properties>
</file>