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A68-CA55-46A4-BBAB-82602EC6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1C8-D039-4F90-9C9A-C9BE429C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E11-DACB-4F66-BB0F-9B342907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3A5-5731-4934-9FA3-0F69106C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37D-B769-44D7-BD50-3079B20E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86F-D99D-4C3C-B08E-E52FDBB0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EDE-844E-49DF-90D3-839EB031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687-44F7-4D41-8B0A-214E477D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316-3AE1-4421-A333-6EA2091B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791-72F3-4C0B-9242-82E3ECB5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365-A96E-4C18-9651-B88E5E4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E4D-7A91-476C-B614-99644137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DF66-8624-402A-AE0A-86A547A89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2.jpe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77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隶书"/>
                <a:ea typeface="隶书"/>
              </a:rPr>
              <a:t> </a:t>
            </a:r>
            <a:r>
              <a:rPr b="1" lang="zh-CN" sz="8800" spc="-1" strike="noStrike">
                <a:solidFill>
                  <a:srgbClr val="006600"/>
                </a:solidFill>
                <a:latin typeface="隶书"/>
                <a:ea typeface="隶书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146600" y="3704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西师大版五年级语文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67560" y="127008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颐和园的长廊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7705800" cy="652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颐和园、雕刻、编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长廊、斗拱、引人注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精湛、典范、赏心悦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乾隆     引人入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8077320" y="1341360"/>
            <a:ext cx="1066680" cy="374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长廊"/>
          <p:cNvPicPr/>
          <p:nvPr/>
        </p:nvPicPr>
        <p:blipFill>
          <a:blip r:embed="rId1"/>
          <a:stretch/>
        </p:blipFill>
        <p:spPr>
          <a:xfrm>
            <a:off x="1332000" y="2060640"/>
            <a:ext cx="6659640" cy="3828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在颐和园里，最著名的景致要数长廊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2b0c24f4a174de07bc3109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50920" y="549360"/>
            <a:ext cx="816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者是从哪几个方面介绍长廊的建筑艺术美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700360" y="263700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长廊的造型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长廊的风水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长廊的结构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2b0c24f4a174de07bc3109b6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403280" y="692280"/>
            <a:ext cx="74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同桌交流：长廊的造型、风水、结构分别绝在哪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93120" y="2421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造型：像倒挂的蝙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456280" y="364500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风水：从气候上看，冬暖夏凉；从环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上看，依山傍水。园中美景随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波而动，随四季而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507760" y="5373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结构：斗拱结构，没有用一颗钉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2b0c24f4a174de07bc3109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835280" y="404640"/>
            <a:ext cx="68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自由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自然段：想这三个自然段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要是围绕哪一句话来写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050920" y="4005360"/>
            <a:ext cx="64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长廊的画有什么特点呢？请同学们读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读，然后用自己的语言概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858560" y="2565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长廊的美还美在长廊上的那些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060640" y="47628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特点一：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430720" y="1427040"/>
            <a:ext cx="52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7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间长廊里，随处可见赏心悦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彩墨画，一共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0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31880" y="303516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是从哪感受到长廊的画很多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里作者运用了什么说明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14360" y="67932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特点二：题材广泛，内容丰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408400" y="2003400"/>
            <a:ext cx="36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画的题材和内容有哪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98640" y="285264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读句欣赏感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337480" y="3716280"/>
            <a:ext cx="33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想象：还有什么故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11280" y="549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注意画线的词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体会它们在表达上的作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00000" y="191628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园中美景随水波而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随四季而变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真可谓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变化无穷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900000" y="3141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长廊是斗拱结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全部是由木头搭成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没有一颗钉子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971640" y="4508640"/>
            <a:ext cx="63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273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长廊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随处可见赏心悦目的彩墨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共有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14000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多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298-9B5B-42C5-8637-8792E9BD25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716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</a:rPr>
              <a:t>作者以总分形式介绍了长廊的美，结构合理，条理清楚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</a:rPr>
              <a:t>各部分的介绍能够围绕总起句来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imes New Roman"/>
              </a:rPr>
              <a:t>运用了比喻、设问、列数字等方法介绍。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05-4"/>
          <p:cNvPicPr/>
          <p:nvPr/>
        </p:nvPicPr>
        <p:blipFill>
          <a:blip r:embed="rId1"/>
          <a:stretch/>
        </p:blipFill>
        <p:spPr>
          <a:xfrm>
            <a:off x="4772160" y="1052640"/>
            <a:ext cx="4371840" cy="5589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1619280" y="189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总结写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901800" y="522936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九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20051230100107235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908000" y="198900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第一课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95640" y="3645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学习生字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初步感知课文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仿照本课介绍景观的写作手法，你也能用上一定的表达手法、按照一定的顺序向我们介绍你曾经去过的一处景观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9640" y="765000"/>
            <a:ext cx="56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cc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长廊"/>
          <p:cNvPicPr/>
          <p:nvPr/>
        </p:nvPicPr>
        <p:blipFill>
          <a:blip r:embed="rId1"/>
          <a:stretch/>
        </p:blipFill>
        <p:spPr>
          <a:xfrm>
            <a:off x="1332000" y="1916280"/>
            <a:ext cx="6443640" cy="3705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长廊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全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2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米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年被世界吉尼斯纪录评为世界上最长的画廊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颐和园主要由万寿山和昆明湖组成，水面占全园的四分之三。集中了全国园林艺术的精华，构思最巧妙、最有特色的是她的长达</a:t>
            </a:r>
            <a:r>
              <a:rPr b="1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728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米的长廊，长廊和廊中的绘画本身就有很高的艺术价值，另外她还起到了将园内各个景点有机联系起来的作用，烘托出园林整体的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5"/>
          <p:cNvSpPr/>
          <p:nvPr/>
        </p:nvSpPr>
        <p:spPr>
          <a:xfrm>
            <a:off x="228600" y="152280"/>
            <a:ext cx="3119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  <a:ea typeface="隶书"/>
              </a:rPr>
              <a:t>长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10"/>
          <p:cNvPicPr/>
          <p:nvPr/>
        </p:nvPicPr>
        <p:blipFill>
          <a:blip r:embed="rId1"/>
          <a:stretch/>
        </p:blipFill>
        <p:spPr>
          <a:xfrm>
            <a:off x="0" y="6373800"/>
            <a:ext cx="93726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124000" y="1989000"/>
            <a:ext cx="662472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颐               辑    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拱      湛      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258920" y="1341360"/>
            <a:ext cx="12970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124000" y="14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580000" y="1268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835280" y="3789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ǒ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3492360" y="3860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26920" y="476280"/>
            <a:ext cx="2521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1116000" y="33336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Times New Roman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365800" y="3860640"/>
            <a:ext cx="8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7705800" cy="652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颐和园、雕刻、编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长廊、斗拱、引人注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精湛、典范、赏心悦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乾隆     引人入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"/>
          <p:cNvSpPr/>
          <p:nvPr/>
        </p:nvSpPr>
        <p:spPr>
          <a:xfrm>
            <a:off x="8077320" y="1341360"/>
            <a:ext cx="1066680" cy="374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</a:rPr>
              <a:t>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79280" y="26028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读文思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24000" y="1268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从几方面来写长廊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217680" y="220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筑艺术和绘画艺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843560" y="3068640"/>
            <a:ext cx="51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课文哪些自然段介绍了长廊的建筑艺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哪些自然段介绍了长廊的绘画艺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362680" y="4286160"/>
            <a:ext cx="28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筑艺术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绘画艺术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09ab63c2f4262c3a0ef477fe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050920" y="98100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979640" y="9810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692360" y="306864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.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抄写词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763640" y="436572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 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熟读课文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484360" y="148428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692360" y="3284640"/>
            <a:ext cx="662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692360" y="2781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解长廊的建筑艺术和绘画艺术的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76364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 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培养学生的民族自豪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0:31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47:21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