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60C2-6D0C-41AD-BADB-F41A6B3C0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2A7B-FB94-4538-86B0-AF958D6D0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A548-57AF-43F7-8857-6B42C98ED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CBD6-116D-415B-9CB7-908D742C1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0137-687B-4668-BFA8-EB2286CB9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26D8-2326-4307-BA2E-51CF38C1D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379C-121E-48A4-92AB-EF21DFAD3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5871-E4B6-4643-8271-A672C8738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4419-0F11-411F-BA39-D36B91234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B047-27FE-4C43-9D01-B0E099E5C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ADEC-7E37-4FEA-A9C2-9A3BFF98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BB30-360B-462C-9A22-5135C9EB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2C403-969D-4B65-B30A-67F3AE049F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273,2,&#24187;&#28783;&#29255; 2" TargetMode="External"/><Relationship Id="rId3" Type="http://schemas.openxmlformats.org/officeDocument/2006/relationships/hyperlink" Target="274,3,&#24187;&#28783;&#29255; 3" TargetMode="External"/><Relationship Id="rId4" Type="http://schemas.openxmlformats.org/officeDocument/2006/relationships/hyperlink" Target="275,4,&#24187;&#28783;&#29255; 4" TargetMode="External"/><Relationship Id="rId5" Type="http://schemas.openxmlformats.org/officeDocument/2006/relationships/hyperlink" Target="277,6,&#24187;&#28783;&#29255; 6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272,1,&#24187;&#28783;&#29255; 1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276,5,&#24187;&#28783;&#29255; 5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272,1,&#24187;&#28783;&#29255; 1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272,1,&#24187;&#28783;&#29255; 1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9"/>
          <p:cNvGrpSpPr/>
          <p:nvPr/>
        </p:nvGrpSpPr>
        <p:grpSpPr>
          <a:xfrm>
            <a:off x="826920" y="692280"/>
            <a:ext cx="6783480" cy="5012640"/>
            <a:chOff x="826920" y="692280"/>
            <a:chExt cx="6783480" cy="5012640"/>
          </a:xfrm>
        </p:grpSpPr>
        <p:sp>
          <p:nvSpPr>
            <p:cNvPr id="42" name="Text Box 3"/>
            <p:cNvSpPr/>
            <p:nvPr/>
          </p:nvSpPr>
          <p:spPr>
            <a:xfrm>
              <a:off x="1590480" y="692280"/>
              <a:ext cx="6019920" cy="22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6600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ccff"/>
                  </a:solidFill>
                  <a:latin typeface="Times New Roman"/>
                </a:rPr>
                <a:t>                          </a:t>
              </a:r>
              <a:endParaRPr b="1" lang="en-US" sz="3200" spc="-1" strike="noStrike">
                <a:solidFill>
                  <a:srgbClr val="6600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ccff"/>
                  </a:solidFill>
                  <a:latin typeface="Times New Roman"/>
                </a:rPr>
                <a:t>                                  </a:t>
              </a:r>
              <a:r>
                <a:rPr b="1" lang="zh-CN" sz="3200" spc="-1" strike="noStrike">
                  <a:solidFill>
                    <a:srgbClr val="00ccff"/>
                  </a:solidFill>
                  <a:latin typeface="Times New Roman"/>
                </a:rPr>
                <a:t>陶渊明</a:t>
              </a:r>
              <a:endParaRPr b="1" lang="en-US" sz="32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3" name="Text Box 8"/>
            <p:cNvSpPr/>
            <p:nvPr/>
          </p:nvSpPr>
          <p:spPr>
            <a:xfrm>
              <a:off x="826920" y="2635200"/>
              <a:ext cx="3352680" cy="30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buClr>
                  <a:srgbClr val="cc99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 u="sng">
                  <a:solidFill>
                    <a:srgbClr val="0000ff"/>
                  </a:solidFill>
                  <a:uFillTx/>
                  <a:latin typeface="Times New Roman"/>
                  <a:hlinkClick r:id="rId2"/>
                </a:rPr>
                <a:t>课文朗读</a:t>
              </a:r>
              <a:endParaRPr b="1" lang="en-US" sz="3200" spc="-1" strike="noStrike">
                <a:solidFill>
                  <a:srgbClr val="660066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buClr>
                  <a:srgbClr val="cc99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 u="sng">
                  <a:solidFill>
                    <a:srgbClr val="0000ff"/>
                  </a:solidFill>
                  <a:uFillTx/>
                  <a:latin typeface="Times New Roman"/>
                  <a:hlinkClick r:id="rId3"/>
                </a:rPr>
                <a:t>作者介绍</a:t>
              </a:r>
              <a:endParaRPr b="1" lang="en-US" sz="3200" spc="-1" strike="noStrike">
                <a:solidFill>
                  <a:srgbClr val="660066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buClr>
                  <a:srgbClr val="cc99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 u="sng">
                  <a:solidFill>
                    <a:srgbClr val="0000ff"/>
                  </a:solidFill>
                  <a:uFillTx/>
                  <a:latin typeface="Times New Roman"/>
                  <a:hlinkClick r:id="rId4"/>
                </a:rPr>
                <a:t>全文解释</a:t>
              </a:r>
              <a:endParaRPr b="1" lang="en-US" sz="3200" spc="-1" strike="noStrike">
                <a:solidFill>
                  <a:srgbClr val="660066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buClr>
                  <a:srgbClr val="cc99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 u="sng">
                  <a:solidFill>
                    <a:srgbClr val="0000ff"/>
                  </a:solidFill>
                  <a:uFillTx/>
                  <a:latin typeface="Times New Roman"/>
                  <a:hlinkClick r:id="rId5"/>
                </a:rPr>
                <a:t>课堂作业</a:t>
              </a:r>
              <a:endParaRPr b="1" lang="en-US" sz="32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55520" y="909720"/>
            <a:ext cx="34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饮酒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课件模板下载</a:t>
            </a:r>
            <a:endParaRPr b="1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3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7" name="Text Box 2"/>
          <p:cNvSpPr/>
          <p:nvPr/>
        </p:nvSpPr>
        <p:spPr>
          <a:xfrm>
            <a:off x="1979640" y="736560"/>
            <a:ext cx="4952880" cy="57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7ffd1"/>
                </a:solidFill>
                <a:latin typeface="Times New Roman"/>
              </a:rPr>
              <a:t>饮      酒</a:t>
            </a:r>
            <a:endParaRPr b="1" lang="en-US" sz="36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7ffd1"/>
                </a:solidFill>
                <a:latin typeface="Times New Roman"/>
              </a:rPr>
              <a:t>                   </a:t>
            </a:r>
            <a:r>
              <a:rPr b="1" lang="zh-CN" sz="3600" spc="-1" strike="noStrike">
                <a:solidFill>
                  <a:srgbClr val="47ffd1"/>
                </a:solidFill>
                <a:latin typeface="Times New Roman"/>
              </a:rPr>
              <a:t>陶渊明</a:t>
            </a:r>
            <a:endParaRPr b="1" lang="en-US" sz="36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7ffd1"/>
                </a:solidFill>
                <a:latin typeface="Times New Roman"/>
              </a:rPr>
              <a:t>结庐在人境，而无车马喧。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7ffd1"/>
                </a:solidFill>
                <a:latin typeface="Times New Roman"/>
              </a:rPr>
              <a:t>问君何能尔，心远地自偏。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7ffd1"/>
                </a:solidFill>
                <a:latin typeface="Times New Roman"/>
              </a:rPr>
              <a:t>采菊东篱下，悠然见南山。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7ffd1"/>
                </a:solidFill>
                <a:latin typeface="Times New Roman"/>
              </a:rPr>
              <a:t>山气日夕佳，飞鸟相与还。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7ffd1"/>
                </a:solidFill>
                <a:latin typeface="Times New Roman"/>
              </a:rPr>
              <a:t>此中有真意，欲辨已忘言。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52360" y="6453360"/>
            <a:ext cx="6112080" cy="3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ppt课件模板</a:t>
            </a:r>
            <a:r>
              <a:rPr b="1" lang="en-US" sz="1500" spc="-1" strike="noStrike">
                <a:solidFill>
                  <a:srgbClr val="660066"/>
                </a:solidFill>
                <a:latin typeface="Times New Roman"/>
              </a:rPr>
              <a:t>http://www.eeppt.com/moban/kejian/</a:t>
            </a:r>
            <a:endParaRPr b="1" lang="en-US" sz="15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660066"/>
                </a:solidFill>
                <a:latin typeface="Times New Roman"/>
              </a:rPr>
              <a:t>www.eeppt.com</a:t>
            </a:r>
            <a:endParaRPr b="1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0EAE-4C15-4C74-B33A-717C0816506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5"/>
          <p:cNvSpPr/>
          <p:nvPr/>
        </p:nvSpPr>
        <p:spPr>
          <a:xfrm>
            <a:off x="3708360" y="335772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1" lang="en-US" sz="1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1" lang="en-US" sz="1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1" lang="en-US" sz="1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1" lang="en-US" sz="1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1" lang="en-US" sz="1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1" lang="en-US" sz="1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1" lang="en-US" sz="1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1" lang="en-US" sz="1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755640" y="1125360"/>
            <a:ext cx="79246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7ffd1"/>
                </a:solidFill>
                <a:latin typeface="华文楷体"/>
                <a:ea typeface="华文楷体"/>
              </a:rPr>
              <a:t>陶渊明（</a:t>
            </a:r>
            <a:r>
              <a:rPr b="1" lang="en-US" sz="4400" spc="-1" strike="noStrike">
                <a:solidFill>
                  <a:srgbClr val="47ffd1"/>
                </a:solidFill>
                <a:latin typeface="华文楷体"/>
                <a:ea typeface="华文楷体"/>
              </a:rPr>
              <a:t>365---427</a:t>
            </a:r>
            <a:r>
              <a:rPr b="1" lang="zh-CN" sz="4400" spc="-1" strike="noStrike">
                <a:solidFill>
                  <a:srgbClr val="47ffd1"/>
                </a:solidFill>
                <a:latin typeface="华文楷体"/>
                <a:ea typeface="华文楷体"/>
              </a:rPr>
              <a:t>），一名潜，资元亮，东晋浔阳柴桑（现江西九江）人，诗人。</a:t>
            </a:r>
            <a:r>
              <a:rPr b="1" lang="en-US" sz="4400" spc="-1" strike="noStrike">
                <a:solidFill>
                  <a:srgbClr val="47ffd1"/>
                </a:solidFill>
                <a:latin typeface="华文楷体"/>
                <a:ea typeface="华文楷体"/>
              </a:rPr>
              <a:t>《</a:t>
            </a:r>
            <a:r>
              <a:rPr b="1" lang="zh-CN" sz="4400" spc="-1" strike="noStrike">
                <a:solidFill>
                  <a:srgbClr val="47ffd1"/>
                </a:solidFill>
                <a:latin typeface="华文楷体"/>
                <a:ea typeface="华文楷体"/>
              </a:rPr>
              <a:t>饮酒</a:t>
            </a:r>
            <a:r>
              <a:rPr b="1" lang="en-US" sz="4400" spc="-1" strike="noStrike">
                <a:solidFill>
                  <a:srgbClr val="47ffd1"/>
                </a:solidFill>
                <a:latin typeface="华文楷体"/>
                <a:ea typeface="华文楷体"/>
              </a:rPr>
              <a:t>》</a:t>
            </a:r>
            <a:r>
              <a:rPr b="1" lang="zh-CN" sz="4400" spc="-1" strike="noStrike">
                <a:solidFill>
                  <a:srgbClr val="47ffd1"/>
                </a:solidFill>
                <a:latin typeface="华文楷体"/>
                <a:ea typeface="华文楷体"/>
              </a:rPr>
              <a:t>共二十首，这里选的是第五首。</a:t>
            </a: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0" y="5791320"/>
            <a:ext cx="6858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返回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762120" y="990720"/>
            <a:ext cx="7467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ccff"/>
                </a:solidFill>
                <a:latin typeface="Times New Roman"/>
              </a:rPr>
              <a:t>结庐在人境，而无车马喧。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ccff"/>
                </a:solidFill>
                <a:latin typeface="Times New Roman"/>
              </a:rPr>
              <a:t>问君何能尔，心远地自偏。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1600200" y="2895480"/>
            <a:ext cx="67816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99"/>
                </a:solidFill>
                <a:latin typeface="Times New Roman"/>
              </a:rPr>
              <a:t>居住在喧嚣的尘世，为什么生活是如此的平静、心灵是如此的安宁呢？原来是自己保留着一颗远离俗世的心。这几句语言朴实，却道出了他自己的心境和生活的真谛。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228600" y="38098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ff"/>
                </a:solidFill>
                <a:latin typeface="Times New Roman"/>
              </a:rPr>
              <a:t>解释：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8534520" y="5791320"/>
            <a:ext cx="6094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继续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2209680" y="304920"/>
            <a:ext cx="52578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ccff"/>
                </a:solidFill>
                <a:latin typeface="Times New Roman"/>
              </a:rPr>
              <a:t>采菊东篱下，悠然见南山。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ccff"/>
                </a:solidFill>
                <a:latin typeface="Times New Roman"/>
              </a:rPr>
              <a:t>山气日夕佳，飞鸟相与还。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ccff"/>
                </a:solidFill>
                <a:latin typeface="Times New Roman"/>
              </a:rPr>
              <a:t>此中有真意，欲辨已忘言。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28195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ff"/>
                </a:solidFill>
                <a:latin typeface="Times New Roman"/>
              </a:rPr>
              <a:t>解释：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1828800" y="281952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99"/>
                </a:solidFill>
                <a:latin typeface="Times New Roman"/>
              </a:rPr>
              <a:t>自己在东篱下采菊，不经意间看见了南山。山中的落日，回巢的飞鸟，都显得那样美妙，那么富有人情，都能让人忘记周围的一切，让人体会到生活的真谛。但世界上最美好的东西往往是无法用语言表达的，只能用心灵去感受它。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8077320" y="6278400"/>
            <a:ext cx="10666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返回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457200" y="228600"/>
            <a:ext cx="8001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ccff"/>
                </a:solidFill>
                <a:latin typeface="Times New Roman"/>
              </a:rPr>
              <a:t>作业：联系全诗，回答问题。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ccff"/>
                </a:solidFill>
                <a:latin typeface="Times New Roman"/>
              </a:rPr>
              <a:t>、解释下列诗句，说说你的理解。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cc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33ccff"/>
                </a:solidFill>
                <a:latin typeface="Times New Roman"/>
              </a:rPr>
              <a:t>此中有真意，欲辨已忘言。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609480" y="2057400"/>
            <a:ext cx="8077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99"/>
                </a:solidFill>
                <a:latin typeface="Times New Roman"/>
                <a:ea typeface="楷体_GB2312"/>
              </a:rPr>
              <a:t>此情此境中的田园生活含有人生的真正意义，想辨别出来，却忘了该用怎样的语言来表达了。实际上，作者的真正意思是：这其中含有的生活的真意，又何必去辨别、去用语言表达呢？</a:t>
            </a:r>
            <a:endParaRPr b="1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469800" y="388620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ccff"/>
                </a:solidFill>
                <a:latin typeface="Times New Roman"/>
              </a:rPr>
              <a:t>、“采菊东篱下，悠然见南山。”“悠然”写出了作者怎样的心情？如果把“见”改成“望”好不好？为什么？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609480" y="51814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ff99"/>
                </a:solidFill>
                <a:latin typeface="Times New Roman"/>
              </a:rPr>
              <a:t>悠然”写出了作者那种恬淡、闲适、对生活无所求的心情。改成“望”不好，“见”表现出诗人看到山不是有意为之，而是在采菊之间无意中山的形象映入眼帘。</a:t>
            </a:r>
            <a:endParaRPr b="1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8001000" y="0"/>
            <a:ext cx="1143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返回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4:14:53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13:22:35Z</dcterms:modified>
  <cp:revision>1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