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813-5BC3-4D32-A89F-A99FA7CF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99A-7868-4D67-A77F-1559C24F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F2B-C566-4DD4-9EE4-4D5BC46E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2BB-18A0-4F68-A3B6-CB292276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867-F62E-4865-8B01-3B7CE913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115-3F1D-4F69-A412-B4BCB44C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802-DD6B-4040-ACCA-AE6E3F58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64E-E077-4D62-A092-59A71A26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BCB-B1E3-4921-B8A6-6A6414AD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A03-155B-4454-8E77-55DAFBD1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DD7-EC62-4693-B3BF-2D14D1E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25F-6D1D-43BA-9476-E94045E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7D73-0489-4005-B948-47C915E9F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7.png"/><Relationship Id="rId4" Type="http://schemas.openxmlformats.org/officeDocument/2006/relationships/audio" Target="file:///usr/lib/libreoffice/share/gallery/sounds/laser.wav" TargetMode="External"/><Relationship Id="rId5" Type="http://schemas.microsoft.com/office/2007/relationships/media" Target="file:///usr/lib/libreoffice/share/gallery/sounds/laser.wav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324000" y="1773360"/>
            <a:ext cx="8458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1960" y="1125360"/>
            <a:ext cx="31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一夜的工作》优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演示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403280" y="1700280"/>
            <a:ext cx="2987640" cy="22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148360" y="155736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87000" y="4869000"/>
            <a:ext cx="36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周总理到河北邢台地震灾区慰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一夜的工作7.MPG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3994200" cy="2995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492360" y="5084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带病坚持工作的总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一夜的工作8.MPG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068720" cy="3051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708360" y="5229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命垂危的总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2992226"/>
          <p:cNvPicPr/>
          <p:nvPr/>
        </p:nvPicPr>
        <p:blipFill>
          <a:blip r:embed="rId1"/>
          <a:stretch/>
        </p:blipFill>
        <p:spPr>
          <a:xfrm>
            <a:off x="3059280" y="476280"/>
            <a:ext cx="2736720" cy="205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992217"/>
          <p:cNvPicPr/>
          <p:nvPr/>
        </p:nvPicPr>
        <p:blipFill>
          <a:blip r:embed="rId2"/>
          <a:stretch/>
        </p:blipFill>
        <p:spPr>
          <a:xfrm>
            <a:off x="5580000" y="2924280"/>
            <a:ext cx="3097440" cy="2043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349236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人震撼的送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1" descr="080307215775495"/>
          <p:cNvPicPr/>
          <p:nvPr/>
        </p:nvPicPr>
        <p:blipFill>
          <a:blip r:embed="rId3"/>
          <a:srcRect l="0" t="0" r="803" b="10491"/>
          <a:stretch/>
        </p:blipFill>
        <p:spPr>
          <a:xfrm>
            <a:off x="826920" y="2924280"/>
            <a:ext cx="3167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200705121045473186267"/>
          <p:cNvPicPr/>
          <p:nvPr/>
        </p:nvPicPr>
        <p:blipFill>
          <a:blip r:embed="rId1"/>
          <a:stretch/>
        </p:blipFill>
        <p:spPr>
          <a:xfrm>
            <a:off x="611280" y="1987560"/>
            <a:ext cx="2333520" cy="1681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2006636628317"/>
          <p:cNvPicPr/>
          <p:nvPr/>
        </p:nvPicPr>
        <p:blipFill>
          <a:blip r:embed="rId2"/>
          <a:stretch/>
        </p:blipFill>
        <p:spPr>
          <a:xfrm>
            <a:off x="6227640" y="1916280"/>
            <a:ext cx="2303640" cy="1760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90920" y="1987560"/>
            <a:ext cx="2239920" cy="1681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2987640" y="4724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人震撼的送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33520" y="106668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回来的路上，我不断地想，不断地对自己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就是我们新中国的总理。我看见了他一夜的工作。他是多么劳苦，多么简朴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想高声对全世界说，好像全世界都能听见我的声音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看啊，这就是我们中华人民共和国的总理。我看见他一夜的工作。他每个夜晚都是这 样工作的。你们看见过这样的总理吗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"/>
          <p:cNvSpPr/>
          <p:nvPr/>
        </p:nvSpPr>
        <p:spPr>
          <a:xfrm>
            <a:off x="2556000" y="2060640"/>
            <a:ext cx="59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5003640" y="4005360"/>
            <a:ext cx="324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684360" y="4581360"/>
            <a:ext cx="28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2987640" y="2276640"/>
            <a:ext cx="7176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完了这篇文章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有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话要对总理说请写在插图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4581360"/>
            <a:ext cx="82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EE9-BED3-40DD-B994-3AD66919E2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276720" y="2781360"/>
            <a:ext cx="350820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华文新魏"/>
              </a:rPr>
              <a:t>再见！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104292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935520" y="351000"/>
            <a:ext cx="48225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 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周恩来 （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49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～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76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马 克 思 主 义 者， 无 产 阶 级 革 命 家、 政 治 家、 军 事 家 和 外 交 家， 中 国 共 产 党、中 华 人 民 共 和 国 主 要 领 导 人 之 一， 中 国 人 民 解 放 军 创 建 人 之 一， 中 华 人 民 共 和 国 总理 。 原 籍 浙 江 绍 兴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17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在 天 津 南 开 学 校 毕 业后 赴 日 本 求 学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19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回 国，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9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月 入 南 开 大 学， 在 五 四 运 动 中 成 为 天 津 学 生 界 的 领导 人， 并 与 运 动 中 的 其 他 活 动 分 子 共 同 组 织 进 步 团 体 觉 悟 社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20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去 法 国 勤 工 俭学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21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参 加 中 国 共 产 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zhou en lai"/>
          <p:cNvPicPr/>
          <p:nvPr/>
        </p:nvPicPr>
        <p:blipFill>
          <a:blip r:embed="rId1"/>
          <a:stretch/>
        </p:blipFill>
        <p:spPr>
          <a:xfrm>
            <a:off x="324000" y="1052640"/>
            <a:ext cx="3313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8520" y="1844640"/>
            <a:ext cx="413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哪些句子写出总理工作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劳苦”，请用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画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并在感受最深的句子旁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写上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0948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他一句一句地审阅，看完一句就用笔在那一句后面画一个小圆圈。他不是浏览一遍就算了，而是一边看一边思索，有时停笔想一想，有时问我一两句。夜很静，经过相当长的时间总理才审阅完，把稿子交给了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780000" y="22050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哪些句子写出总理工作的“简朴”，请用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~~~~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画出，并在感受最深的句子旁边写上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3"/>
          <p:cNvSpPr txBox="1"/>
          <p:nvPr/>
        </p:nvSpPr>
        <p:spPr>
          <a:xfrm rot="21345600">
            <a:off x="4876920" y="1371240"/>
            <a:ext cx="251604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latin typeface="宋体"/>
              </a:rPr>
              <a:t>辩一辩</a:t>
            </a:r>
            <a:endParaRPr b="0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187280" y="278136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生米并不多，可以数得清颗数，好像并没有因为多了一个人而增加了分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43000" y="4448160"/>
            <a:ext cx="54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请辩一辩：花生米有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有增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3680" y="1371600"/>
            <a:ext cx="8680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比较下面两个句子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花生米并不多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可以数得清颗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隶书"/>
                <a:ea typeface="隶书"/>
              </a:rPr>
              <a:t>好像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没有因为多了一个人而增加了分量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花生米并不多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可以数得清颗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因为多了一个人而增加了分量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098960" y="42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496600" y="1484280"/>
            <a:ext cx="547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7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起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与尼雷尔会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  陪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 政治局会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半      约民航局同志开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  办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去东郊迎接西哈努克亲王和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700360" y="333360"/>
            <a:ext cx="49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周总理的一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87000" y="4869000"/>
            <a:ext cx="36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周总理到河北邢台地震灾区慰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1966年周总理到河北邢台地震灾区慰问"/>
          <p:cNvPicPr/>
          <p:nvPr/>
        </p:nvPicPr>
        <p:blipFill>
          <a:blip r:embed="rId1"/>
          <a:stretch/>
        </p:blipFill>
        <p:spPr>
          <a:xfrm>
            <a:off x="5076720" y="1628640"/>
            <a:ext cx="3780000" cy="260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42920" y="16286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0:16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9:17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