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C56-13D9-4789-8594-3CBA2059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F18-0A02-4569-B77D-4420B34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836-3E8B-456B-BE89-1FBA3525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F7C-444D-4FB9-8310-24CD0A33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668-D158-480E-8E87-21795FA8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EB6-6309-4362-BF78-06A890DC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0ED-CB7A-42BA-8BAC-7197F0F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4B9-2DE7-4523-8B15-D7B221E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B77-7462-4FCC-8829-ED9F018F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5FE-8FEC-4C27-A65E-AA0EDA29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89B-9568-4BB4-AA5F-14A0D78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BE8-209E-49EF-83C1-508AB0D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DC4A-4CEA-45E9-8F9C-47221101802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Comic Sans MS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字方塊 4"/>
          <p:cNvSpPr/>
          <p:nvPr/>
        </p:nvSpPr>
        <p:spPr>
          <a:xfrm>
            <a:off x="428760" y="2357280"/>
            <a:ext cx="72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Happy Teacher’s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字方塊 6"/>
          <p:cNvSpPr/>
          <p:nvPr/>
        </p:nvSpPr>
        <p:spPr>
          <a:xfrm>
            <a:off x="428760" y="357192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Thank you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500040" y="4714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I love yo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圖片 8" descr="j0446310.wmf"/>
          <p:cNvPicPr/>
          <p:nvPr/>
        </p:nvPicPr>
        <p:blipFill>
          <a:blip r:embed="rId1"/>
          <a:stretch/>
        </p:blipFill>
        <p:spPr>
          <a:xfrm>
            <a:off x="5784840" y="3645000"/>
            <a:ext cx="2352600" cy="230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3040" y="98100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字方塊 4"/>
          <p:cNvSpPr/>
          <p:nvPr/>
        </p:nvSpPr>
        <p:spPr>
          <a:xfrm>
            <a:off x="826920" y="206064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September 2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字方塊 5"/>
          <p:cNvSpPr/>
          <p:nvPr/>
        </p:nvSpPr>
        <p:spPr>
          <a:xfrm>
            <a:off x="1285920" y="32860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Comic Sans MS"/>
                <a:ea typeface="文鼎中楷"/>
              </a:rPr>
              <a:t>九月二十八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字方塊 6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omic Sans MS"/>
                <a:ea typeface="文鼎中楷"/>
              </a:rPr>
              <a:t>Happy  Teac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圖片 7" descr="AG00399_.gif"/>
          <p:cNvPicPr/>
          <p:nvPr/>
        </p:nvPicPr>
        <p:blipFill>
          <a:blip r:embed="rId1"/>
          <a:stretch/>
        </p:blipFill>
        <p:spPr>
          <a:xfrm>
            <a:off x="7667640" y="5732640"/>
            <a:ext cx="1114560" cy="8762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8" descr="j0446314.wmf"/>
          <p:cNvPicPr/>
          <p:nvPr/>
        </p:nvPicPr>
        <p:blipFill>
          <a:blip r:embed="rId2"/>
          <a:stretch/>
        </p:blipFill>
        <p:spPr>
          <a:xfrm>
            <a:off x="6804000" y="1341360"/>
            <a:ext cx="1800360" cy="181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519-8B17-4211-B3AA-A51ABD478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0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54:1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