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447920" y="3809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</a:t>
            </a:r>
            <a:r>
              <a:rPr b="1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219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Impact"/>
                <a:ea typeface="宋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4320" y="121932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2819520"/>
            <a:ext cx="71625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759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68544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038480"/>
            <a:ext cx="5759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876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895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038480" y="1066680"/>
            <a:ext cx="2286000" cy="1714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477120" y="1066680"/>
            <a:ext cx="2286000" cy="1714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037040" y="3024360"/>
            <a:ext cx="2286000" cy="171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475320" y="3024360"/>
            <a:ext cx="2286000" cy="171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5:03:3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55:13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