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FD6-166F-48D2-9E7C-FD306AD8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00D-3B90-4A96-BAA6-5C167C6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AB2-70C0-43EA-89E3-173E7F8F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783-F671-4DC6-BA6B-8BF8D607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7BF-5EB5-4DB4-A46C-CDDCF26E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DF9-C40F-41FF-8D03-D98E441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181-976C-4724-ABC3-D0473901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EC8-D47B-4142-B0E8-D80ED762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5FF-F21F-4A01-81A6-79A9FDB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CAA-C22F-4301-A0B9-59FCA9E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664-4DCF-4764-ACA1-5E4A2C46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F55-89A5-4E9E-A6E8-B8B9415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A270-AFA1-42CC-93CD-9509CB15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2360" y="1341360"/>
            <a:ext cx="590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14600" y="3657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7"/>
          <p:cNvSpPr/>
          <p:nvPr/>
        </p:nvSpPr>
        <p:spPr>
          <a:xfrm>
            <a:off x="5867280" y="5257800"/>
            <a:ext cx="19814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上  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5440" y="1628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有余数的除法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354480" y="13716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谢谢指导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2514600" y="2743200"/>
            <a:ext cx="4495680" cy="19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6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再见！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复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、开火车背诵表内乘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21600" y="1752480"/>
            <a:ext cx="548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、算一算：（用竖式计算）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48÷6=        25÷5=       8÷2=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4÷3=        49÷7=       12÷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49320" y="3657600"/>
            <a:ext cx="592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、说一说（  ）里最大能填几？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5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8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50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7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45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4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31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8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18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9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043-BB28-4F66-A292-699D7A025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228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新知识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318040" y="1981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分组讨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5"/>
          <p:cNvSpPr/>
          <p:nvPr/>
        </p:nvSpPr>
        <p:spPr>
          <a:xfrm>
            <a:off x="6629400" y="4952880"/>
            <a:ext cx="2133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提 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"/>
          <p:cNvSpPr/>
          <p:nvPr/>
        </p:nvSpPr>
        <p:spPr>
          <a:xfrm>
            <a:off x="4495680" y="4952880"/>
            <a:ext cx="2133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练  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28600" y="4952880"/>
            <a:ext cx="2133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结  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362320" y="4952880"/>
            <a:ext cx="213336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比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52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分组汇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39480" y="83808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209920" y="83808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39480" y="373392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209920" y="365760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29280" y="182880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3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533520" y="2209680"/>
            <a:ext cx="1371600" cy="1450440"/>
            <a:chOff x="533520" y="2209680"/>
            <a:chExt cx="1371600" cy="1450440"/>
          </a:xfrm>
        </p:grpSpPr>
        <p:sp>
          <p:nvSpPr>
            <p:cNvPr id="70" name="Line 9"/>
            <p:cNvSpPr/>
            <p:nvPr/>
          </p:nvSpPr>
          <p:spPr>
            <a:xfrm>
              <a:off x="990720" y="2590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901080" y="2514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1144800" y="25146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2"/>
            <p:cNvSpPr/>
            <p:nvPr/>
          </p:nvSpPr>
          <p:spPr>
            <a:xfrm>
              <a:off x="533520" y="25146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371600" y="22096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4"/>
            <p:cNvSpPr/>
            <p:nvPr/>
          </p:nvSpPr>
          <p:spPr>
            <a:xfrm>
              <a:off x="1144800" y="2819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91440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6"/>
            <p:cNvSpPr/>
            <p:nvPr/>
          </p:nvSpPr>
          <p:spPr>
            <a:xfrm>
              <a:off x="1371600" y="32004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8"/>
          <p:cNvSpPr/>
          <p:nvPr/>
        </p:nvSpPr>
        <p:spPr>
          <a:xfrm>
            <a:off x="260784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余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1828800" y="2209680"/>
            <a:ext cx="1691280" cy="1148040"/>
            <a:chOff x="1828800" y="2209680"/>
            <a:chExt cx="1691280" cy="1148040"/>
          </a:xfrm>
        </p:grpSpPr>
        <p:sp>
          <p:nvSpPr>
            <p:cNvPr id="80" name="Line 19"/>
            <p:cNvSpPr/>
            <p:nvPr/>
          </p:nvSpPr>
          <p:spPr>
            <a:xfrm>
              <a:off x="1828800" y="3352680"/>
              <a:ext cx="762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 flipH="1">
              <a:off x="2964960" y="2209680"/>
              <a:ext cx="1800" cy="75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2607840" y="2898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没有分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23"/>
          <p:cNvSpPr/>
          <p:nvPr/>
        </p:nvSpPr>
        <p:spPr>
          <a:xfrm>
            <a:off x="5429880" y="190512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4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4"/>
          <p:cNvGrpSpPr/>
          <p:nvPr/>
        </p:nvGrpSpPr>
        <p:grpSpPr>
          <a:xfrm>
            <a:off x="5334120" y="2209680"/>
            <a:ext cx="1371600" cy="1450440"/>
            <a:chOff x="5334120" y="2209680"/>
            <a:chExt cx="1371600" cy="1450440"/>
          </a:xfrm>
        </p:grpSpPr>
        <p:sp>
          <p:nvSpPr>
            <p:cNvPr id="85" name="Line 25"/>
            <p:cNvSpPr/>
            <p:nvPr/>
          </p:nvSpPr>
          <p:spPr>
            <a:xfrm>
              <a:off x="5791320" y="2590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6"/>
            <p:cNvSpPr/>
            <p:nvPr/>
          </p:nvSpPr>
          <p:spPr>
            <a:xfrm>
              <a:off x="5701680" y="2514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5945400" y="25146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5334120" y="25146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172200" y="22096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5945400" y="2819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571500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32"/>
            <p:cNvSpPr/>
            <p:nvPr/>
          </p:nvSpPr>
          <p:spPr>
            <a:xfrm>
              <a:off x="6172200" y="32004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33"/>
          <p:cNvGrpSpPr/>
          <p:nvPr/>
        </p:nvGrpSpPr>
        <p:grpSpPr>
          <a:xfrm>
            <a:off x="380880" y="5181480"/>
            <a:ext cx="1371600" cy="1450440"/>
            <a:chOff x="380880" y="5181480"/>
            <a:chExt cx="1371600" cy="1450440"/>
          </a:xfrm>
        </p:grpSpPr>
        <p:sp>
          <p:nvSpPr>
            <p:cNvPr id="94" name="Line 34"/>
            <p:cNvSpPr/>
            <p:nvPr/>
          </p:nvSpPr>
          <p:spPr>
            <a:xfrm>
              <a:off x="838080" y="5562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35"/>
            <p:cNvSpPr/>
            <p:nvPr/>
          </p:nvSpPr>
          <p:spPr>
            <a:xfrm>
              <a:off x="74844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6"/>
            <p:cNvSpPr/>
            <p:nvPr/>
          </p:nvSpPr>
          <p:spPr>
            <a:xfrm>
              <a:off x="992160" y="5486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7"/>
            <p:cNvSpPr/>
            <p:nvPr/>
          </p:nvSpPr>
          <p:spPr>
            <a:xfrm>
              <a:off x="380880" y="54864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8"/>
            <p:cNvSpPr/>
            <p:nvPr/>
          </p:nvSpPr>
          <p:spPr>
            <a:xfrm>
              <a:off x="1218960" y="51814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39"/>
            <p:cNvSpPr/>
            <p:nvPr/>
          </p:nvSpPr>
          <p:spPr>
            <a:xfrm>
              <a:off x="992160" y="5790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0"/>
            <p:cNvSpPr/>
            <p:nvPr/>
          </p:nvSpPr>
          <p:spPr>
            <a:xfrm>
              <a:off x="76176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1"/>
            <p:cNvSpPr/>
            <p:nvPr/>
          </p:nvSpPr>
          <p:spPr>
            <a:xfrm>
              <a:off x="1218960" y="61722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42"/>
          <p:cNvGrpSpPr/>
          <p:nvPr/>
        </p:nvGrpSpPr>
        <p:grpSpPr>
          <a:xfrm>
            <a:off x="5334120" y="5181480"/>
            <a:ext cx="1371600" cy="1450440"/>
            <a:chOff x="5334120" y="5181480"/>
            <a:chExt cx="1371600" cy="1450440"/>
          </a:xfrm>
        </p:grpSpPr>
        <p:sp>
          <p:nvSpPr>
            <p:cNvPr id="103" name="Line 43"/>
            <p:cNvSpPr/>
            <p:nvPr/>
          </p:nvSpPr>
          <p:spPr>
            <a:xfrm>
              <a:off x="5791320" y="5562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4"/>
            <p:cNvSpPr/>
            <p:nvPr/>
          </p:nvSpPr>
          <p:spPr>
            <a:xfrm>
              <a:off x="570168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45"/>
            <p:cNvSpPr/>
            <p:nvPr/>
          </p:nvSpPr>
          <p:spPr>
            <a:xfrm>
              <a:off x="5945400" y="5486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46"/>
            <p:cNvSpPr/>
            <p:nvPr/>
          </p:nvSpPr>
          <p:spPr>
            <a:xfrm>
              <a:off x="5334120" y="54864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7"/>
            <p:cNvSpPr/>
            <p:nvPr/>
          </p:nvSpPr>
          <p:spPr>
            <a:xfrm>
              <a:off x="6172200" y="51814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8"/>
            <p:cNvSpPr/>
            <p:nvPr/>
          </p:nvSpPr>
          <p:spPr>
            <a:xfrm>
              <a:off x="5945400" y="5790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9"/>
            <p:cNvSpPr/>
            <p:nvPr/>
          </p:nvSpPr>
          <p:spPr>
            <a:xfrm>
              <a:off x="571500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0"/>
            <p:cNvSpPr/>
            <p:nvPr/>
          </p:nvSpPr>
          <p:spPr>
            <a:xfrm>
              <a:off x="6172200" y="61722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51"/>
          <p:cNvSpPr/>
          <p:nvPr/>
        </p:nvSpPr>
        <p:spPr>
          <a:xfrm>
            <a:off x="553320" y="480060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5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2"/>
          <p:cNvSpPr/>
          <p:nvPr/>
        </p:nvSpPr>
        <p:spPr>
          <a:xfrm>
            <a:off x="5429880" y="472428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6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7620120" y="6019920"/>
            <a:ext cx="12952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返  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8"/>
          <p:cNvSpPr/>
          <p:nvPr/>
        </p:nvSpPr>
        <p:spPr>
          <a:xfrm>
            <a:off x="7267680" y="5978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对比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657080" y="1039680"/>
            <a:ext cx="564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请同学们仔细观察下面的两个算式，看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1371600" y="2286000"/>
            <a:ext cx="1371600" cy="1450440"/>
            <a:chOff x="1371600" y="2286000"/>
            <a:chExt cx="1371600" cy="1450440"/>
          </a:xfrm>
        </p:grpSpPr>
        <p:sp>
          <p:nvSpPr>
            <p:cNvPr id="120" name="Line 6"/>
            <p:cNvSpPr/>
            <p:nvPr/>
          </p:nvSpPr>
          <p:spPr>
            <a:xfrm>
              <a:off x="182880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173916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1982880" y="25909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1371600" y="259092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2209680" y="22860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1982880" y="2895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752480" y="3276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2209680" y="327672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400800" y="2362320"/>
            <a:ext cx="1371600" cy="1450080"/>
            <a:chOff x="6400800" y="2362320"/>
            <a:chExt cx="1371600" cy="1450080"/>
          </a:xfrm>
        </p:grpSpPr>
        <p:sp>
          <p:nvSpPr>
            <p:cNvPr id="129" name="Line 15"/>
            <p:cNvSpPr/>
            <p:nvPr/>
          </p:nvSpPr>
          <p:spPr>
            <a:xfrm>
              <a:off x="6858000" y="274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6768360" y="2666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7012080" y="26668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6400800" y="266688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9"/>
            <p:cNvSpPr/>
            <p:nvPr/>
          </p:nvSpPr>
          <p:spPr>
            <a:xfrm>
              <a:off x="7238880" y="236232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0"/>
            <p:cNvSpPr/>
            <p:nvPr/>
          </p:nvSpPr>
          <p:spPr>
            <a:xfrm>
              <a:off x="7012080" y="2971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1"/>
            <p:cNvSpPr/>
            <p:nvPr/>
          </p:nvSpPr>
          <p:spPr>
            <a:xfrm>
              <a:off x="678168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2"/>
            <p:cNvSpPr/>
            <p:nvPr/>
          </p:nvSpPr>
          <p:spPr>
            <a:xfrm>
              <a:off x="7238880" y="33526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Text Box 23"/>
          <p:cNvSpPr/>
          <p:nvPr/>
        </p:nvSpPr>
        <p:spPr>
          <a:xfrm>
            <a:off x="887760" y="444492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算式刚好整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余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5459760" y="449568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这个算式没有整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有余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7"/>
          <p:cNvSpPr/>
          <p:nvPr/>
        </p:nvSpPr>
        <p:spPr>
          <a:xfrm>
            <a:off x="6705720" y="5867280"/>
            <a:ext cx="190476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返  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62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教材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P51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做一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3520" y="19051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教材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P53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页第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09480" y="266688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算一算：把我们班的同学平均分成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个小组，每个小组多少人？还剩多少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6629400" y="57150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返  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4648320" y="5715000"/>
            <a:ext cx="19047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提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提高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小明带了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钱，到书店买了一本字典，用去了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，剩下的钱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钱一本的故事书，最多可以买几本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90720" y="289548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还剩下多少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0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7 = 1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990720" y="38862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剩下的钱最多可以买几本故事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3 ÷ 3 = 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本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·····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2438280" y="4876920"/>
            <a:ext cx="1371600" cy="1450080"/>
            <a:chOff x="2438280" y="4876920"/>
            <a:chExt cx="1371600" cy="1450080"/>
          </a:xfrm>
        </p:grpSpPr>
        <p:sp>
          <p:nvSpPr>
            <p:cNvPr id="153" name="Line 8"/>
            <p:cNvSpPr/>
            <p:nvPr/>
          </p:nvSpPr>
          <p:spPr>
            <a:xfrm>
              <a:off x="2895480" y="52574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280584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3049560" y="5181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438280" y="518148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3276360" y="487692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049560" y="5486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2819160" y="586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276360" y="58672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Text Box 16"/>
          <p:cNvSpPr/>
          <p:nvPr/>
        </p:nvSpPr>
        <p:spPr>
          <a:xfrm>
            <a:off x="4114800" y="556272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答：最多可以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7"/>
          <p:cNvSpPr/>
          <p:nvPr/>
        </p:nvSpPr>
        <p:spPr>
          <a:xfrm>
            <a:off x="7010280" y="6095880"/>
            <a:ext cx="175284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5181480" y="6095880"/>
            <a:ext cx="175284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课外深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小明带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元钱，到书店买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本故事书，每本故事书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元，剩下的钱买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本作业本，钱还有剩余，作业本多少钱一本？（提示：该题答案有多种，根据实际情况，只要有道理都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7162920" y="5867280"/>
            <a:ext cx="1752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56:13Z</dcterms:created>
  <dc:creator>An</dc:creator>
  <dc:description/>
  <dc:language>en-US</dc:language>
  <cp:lastModifiedBy/>
  <dcterms:modified xsi:type="dcterms:W3CDTF">2015-07-14T14:13:3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