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69A-30B9-4B43-BBAB-90BBF8CB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107-7912-46D8-B0D6-64E1D976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B51-DC0C-45FA-8E98-2C55D4E6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CF6-0878-46EF-A1D7-89010410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A85-C6D2-49A8-B56F-03376E8B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379F-8DDE-4A18-9872-0B2BF6E5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3016-BBF7-457D-89EE-61A49AD7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845E-5328-4F86-A5E1-67EC42C2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0A03-D252-4ADC-BB2B-C87A4957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93A6-6681-49C6-851D-953CBFBD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7B66-1EF6-41EC-8793-03B30AA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CB9-C57C-4B9B-BD74-7B287FAE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903E-E4F0-4861-9BC8-380A7BA7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ECC6-D96F-447B-AC0C-BB9EC040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9A98-8C11-45B8-8E2B-513B8177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A952-2768-4B74-8C8D-22749C0C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C620-5243-4B75-AB96-3ACD8363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8F0-E5C7-4C2F-AE93-308540C5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53D-967D-4F09-824A-3AC688CD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699-B4DC-44CD-AA37-FB7276F9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950-668E-4991-9AD0-4B1F47CA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D41-17B2-43A5-AD4D-A6A1E2F5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24B-464C-4B7A-94FC-2D6F935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ADC-449F-4836-BC01-7036FD1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B417-1D48-485F-A88F-E757E0E52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DFB9-49DF-4067-83F5-42806845D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D:\&#29579;&#25991;&#24179;\&#26032;&#24314;&#25991;&#20214;&#22841;\s9-21-kj.swf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rcRect l="49992" t="0" r="7076" b="5857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de3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98040" y="549360"/>
            <a:ext cx="291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《郑成功》优质课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6002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台湾同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828800" y="2057400"/>
            <a:ext cx="6934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喜出望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慰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载歌载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欢庆胜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2803680" y="1143000"/>
            <a:ext cx="54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13800" y="1219320"/>
            <a:ext cx="1399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建设台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362320" y="13716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大力发展生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362320" y="3581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382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办起了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934320" y="5181480"/>
            <a:ext cx="609480" cy="60984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50" y="20263"/>
                </a:lnTo>
                <a:lnTo>
                  <a:pt x="20250" y="135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350" y="20263"/>
                </a:lnTo>
                <a:lnTo>
                  <a:pt x="20250" y="2026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63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8305920" y="685800"/>
            <a:ext cx="549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157960" y="838080"/>
            <a:ext cx="729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相    关    介    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676520" y="1143000"/>
            <a:ext cx="41907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郑成功收复台湾示意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940360" y="5373720"/>
            <a:ext cx="576360" cy="719280"/>
          </a:xfrm>
          <a:custGeom>
            <a:avLst/>
            <a:gdLst>
              <a:gd name="textAreaLeft" fmla="*/ 36000 w 576360"/>
              <a:gd name="textAreaRight" fmla="*/ 540360 w 576360"/>
              <a:gd name="textAreaTop" fmla="*/ 36000 h 719280"/>
              <a:gd name="textAreaBottom" fmla="*/ 68328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50" y="25603"/>
                </a:lnTo>
                <a:lnTo>
                  <a:pt x="20250" y="135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350" y="25603"/>
                </a:lnTo>
                <a:lnTo>
                  <a:pt x="20250" y="2560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03"/>
                </a:lnTo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88080" y="642312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1981080" y="16765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永远也不会忘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514600" y="3962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895480" y="320040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民族英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郑成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828800" y="22096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说说这节课的收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BD06152_"/>
          <p:cNvPicPr/>
          <p:nvPr/>
        </p:nvPicPr>
        <p:blipFill>
          <a:blip r:embed="rId1"/>
          <a:stretch/>
        </p:blipFill>
        <p:spPr>
          <a:xfrm>
            <a:off x="4038480" y="3352680"/>
            <a:ext cx="2438640" cy="2895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8720" y="631044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3203640" y="14842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1"/>
          <p:cNvPicPr/>
          <p:nvPr/>
        </p:nvPicPr>
        <p:blipFill>
          <a:blip r:embed="rId19"/>
          <a:stretch/>
        </p:blipFill>
        <p:spPr>
          <a:xfrm>
            <a:off x="1828800" y="609480"/>
            <a:ext cx="7086600" cy="5943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-148680" y="1219320"/>
            <a:ext cx="2009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黑体"/>
              </a:rPr>
              <a:t>民 族 英 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990720" y="4572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5335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黑体"/>
              </a:rPr>
              <a:t>岳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岳飞4"/>
          <p:cNvPicPr/>
          <p:nvPr/>
        </p:nvPicPr>
        <p:blipFill>
          <a:blip r:embed="rId1"/>
          <a:stretch/>
        </p:blipFill>
        <p:spPr>
          <a:xfrm>
            <a:off x="838080" y="1447920"/>
            <a:ext cx="6096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6D37-9C0A-4BB4-94F8-F38CFF1495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828800" y="2286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  <a:ea typeface="黑体"/>
              </a:rPr>
              <a:t>文天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文天祥1"/>
          <p:cNvPicPr/>
          <p:nvPr/>
        </p:nvPicPr>
        <p:blipFill>
          <a:blip r:embed="rId1"/>
          <a:stretch/>
        </p:blipFill>
        <p:spPr>
          <a:xfrm>
            <a:off x="1066680" y="1066680"/>
            <a:ext cx="6934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郑成功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2438280" y="11430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收复台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438280" y="3124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建设台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36760" y="1295280"/>
            <a:ext cx="850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郑  成   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990720" y="114300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朝末年，荷兰侵略者强占了我国的宝岛台湾。他们残酷地奴役台湾同胞，台湾人民恨透了这伙强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成功慷慨激昂的说：“台湾自古以来就是中国的领土，绝不允许侵略者横行霸道。我们一定要收复祖国的宝岛台湾！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41008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强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57600" y="1600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残酷地奴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09680" y="2133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恨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095880" y="2819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古以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648320" y="3809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祖国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809880" y="5181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决心收复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7720" y="6423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914400" y="123840"/>
            <a:ext cx="7467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成功在厦门修造船只，聚集粮草，加紧操练海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支前进中庞大舰队，前后绵延十几里，风帆蔽空，战旗招展。郑成功看着自己亲手训练的海军纪律严明，军容整肃，充满了必胜的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英勇的郑军官兵冒着敌人密集的炮火，驾着舰船向敌舰队冲去。他们团团围住敌舰，使敌人的大炮失去了威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④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军官兵乘势用钩子钩住敌舰，一个个跳了上去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066680" y="304920"/>
            <a:ext cx="7696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郑成功在厦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修造船只，聚集粮草，加紧操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支前进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庞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舰队，前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绵延十几里，风帆蔽空，战旗招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郑成功看着自己亲手训练的海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纪律严明，军容整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充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了必胜的信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143000" y="2971800"/>
            <a:ext cx="77724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英勇的郑军官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冒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敌人密集的炮火，驾着舰船向敌舰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冲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团团围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敌舰，使敌人的大炮失去了威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④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郑军官兵乘势用钩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钩住敌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一个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了上去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495680" y="54100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胜利收复！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952880" y="6095880"/>
            <a:ext cx="609840" cy="533520"/>
          </a:xfrm>
          <a:custGeom>
            <a:avLst/>
            <a:gdLst>
              <a:gd name="textAreaLeft" fmla="*/ 33120 w 609840"/>
              <a:gd name="textAreaRight" fmla="*/ 576720 w 60984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338" y="1350"/>
                </a:lnTo>
                <a:lnTo>
                  <a:pt x="1350" y="135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338" y="20250"/>
                </a:lnTo>
                <a:lnTo>
                  <a:pt x="23338" y="135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38" y="2025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37:5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44:19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