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8D3-A420-46AC-8261-B83D7900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CA2-BA17-4F9E-83B6-C83DCC8D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57A-4EE5-4325-AE83-9945C8D5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383-44A7-47A5-B6CD-AA3A759F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542-F7FB-43FC-9164-403F28C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B0D-14D6-4F40-A7A9-0F7BE8A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14C-8E7A-45C0-B042-FF4A5FF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2A9-412C-4E81-BA23-4F7F3F58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6BF-6091-420D-A455-BDD0307F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5A9-17E8-44DD-AAF3-8EB8D8B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19A-09F1-48BE-87D8-58D3F4AE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2E3-15B2-4A15-BC0A-D9BC8BC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937B-40B9-42F1-9614-613B4DF45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93560" y="692280"/>
            <a:ext cx="324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最大公因数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pic_256074"/>
          <p:cNvPicPr/>
          <p:nvPr/>
        </p:nvPicPr>
        <p:blipFill>
          <a:blip r:embed="rId2">
            <a:lum bright="-54000"/>
          </a:blip>
          <a:srcRect l="10865" t="25968" r="19418" b="62362"/>
          <a:stretch/>
        </p:blipFill>
        <p:spPr>
          <a:xfrm>
            <a:off x="0" y="765000"/>
            <a:ext cx="9144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pic_256074"/>
          <p:cNvPicPr/>
          <p:nvPr/>
        </p:nvPicPr>
        <p:blipFill>
          <a:blip r:embed="rId2">
            <a:lum bright="-54000"/>
          </a:blip>
          <a:srcRect l="66062" t="30524" r="21880" b="66725"/>
          <a:stretch/>
        </p:blipFill>
        <p:spPr>
          <a:xfrm>
            <a:off x="539640" y="2708280"/>
            <a:ext cx="1584360" cy="72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pic_256074"/>
          <p:cNvPicPr/>
          <p:nvPr/>
        </p:nvPicPr>
        <p:blipFill>
          <a:blip r:embed="rId3">
            <a:lum bright="-54000"/>
          </a:blip>
          <a:srcRect l="16087" t="30717" r="73521" b="66725"/>
          <a:stretch/>
        </p:blipFill>
        <p:spPr>
          <a:xfrm>
            <a:off x="468360" y="189000"/>
            <a:ext cx="1366920" cy="66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pic_256074"/>
          <p:cNvPicPr/>
          <p:nvPr/>
        </p:nvPicPr>
        <p:blipFill>
          <a:blip r:embed="rId4">
            <a:lum bright="-54000"/>
          </a:blip>
          <a:srcRect l="49030" t="30927" r="38364" b="66725"/>
          <a:stretch/>
        </p:blipFill>
        <p:spPr>
          <a:xfrm>
            <a:off x="466560" y="1987560"/>
            <a:ext cx="1656000" cy="615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pic_256074"/>
          <p:cNvPicPr/>
          <p:nvPr/>
        </p:nvPicPr>
        <p:blipFill>
          <a:blip r:embed="rId5">
            <a:lum bright="-54000"/>
          </a:blip>
          <a:srcRect l="33665" t="30717" r="54301" b="66725"/>
          <a:stretch/>
        </p:blipFill>
        <p:spPr>
          <a:xfrm>
            <a:off x="539640" y="1052640"/>
            <a:ext cx="1582920" cy="668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1835280" y="1890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050920" y="1052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195640" y="27082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124000" y="19162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pic_256074"/>
          <p:cNvPicPr/>
          <p:nvPr/>
        </p:nvPicPr>
        <p:blipFill>
          <a:blip r:embed="rId6">
            <a:lum bright="-54000"/>
          </a:blip>
          <a:srcRect l="49304" t="34291" r="38091" b="63151"/>
          <a:stretch/>
        </p:blipFill>
        <p:spPr>
          <a:xfrm>
            <a:off x="468360" y="5157720"/>
            <a:ext cx="1655640" cy="655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pic_256074"/>
          <p:cNvPicPr/>
          <p:nvPr/>
        </p:nvPicPr>
        <p:blipFill>
          <a:blip r:embed="rId7">
            <a:lum bright="-54000"/>
          </a:blip>
          <a:srcRect l="33366" t="34291" r="55122" b="63151"/>
          <a:stretch/>
        </p:blipFill>
        <p:spPr>
          <a:xfrm>
            <a:off x="539640" y="4292640"/>
            <a:ext cx="1513080" cy="655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pic_256074"/>
          <p:cNvPicPr/>
          <p:nvPr/>
        </p:nvPicPr>
        <p:blipFill>
          <a:blip r:embed="rId8">
            <a:lum bright="-54000"/>
          </a:blip>
          <a:srcRect l="16907" t="34291" r="73794" b="63151"/>
          <a:stretch/>
        </p:blipFill>
        <p:spPr>
          <a:xfrm>
            <a:off x="755640" y="3500280"/>
            <a:ext cx="1224000" cy="655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pic_256074"/>
          <p:cNvPicPr/>
          <p:nvPr/>
        </p:nvPicPr>
        <p:blipFill>
          <a:blip r:embed="rId9">
            <a:lum bright="-54000"/>
          </a:blip>
          <a:srcRect l="65788" t="34484" r="22153" b="63151"/>
          <a:stretch/>
        </p:blipFill>
        <p:spPr>
          <a:xfrm>
            <a:off x="539640" y="602136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4"/>
          <p:cNvSpPr/>
          <p:nvPr/>
        </p:nvSpPr>
        <p:spPr>
          <a:xfrm>
            <a:off x="2195640" y="3429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050920" y="51577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050920" y="4292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050920" y="59500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539640" y="2060640"/>
            <a:ext cx="756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下课啦！再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"/>
          <p:cNvGrpSpPr/>
          <p:nvPr/>
        </p:nvGrpSpPr>
        <p:grpSpPr>
          <a:xfrm>
            <a:off x="2484360" y="3357720"/>
            <a:ext cx="4791240" cy="360360"/>
            <a:chOff x="2484360" y="3357720"/>
            <a:chExt cx="4791240" cy="360360"/>
          </a:xfrm>
        </p:grpSpPr>
        <p:sp>
          <p:nvSpPr>
            <p:cNvPr id="45" name="Oval 3"/>
            <p:cNvSpPr/>
            <p:nvPr/>
          </p:nvSpPr>
          <p:spPr>
            <a:xfrm>
              <a:off x="6915240" y="3357720"/>
              <a:ext cx="360360" cy="36036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2484360" y="3357720"/>
              <a:ext cx="360360" cy="36036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1619280" y="3357720"/>
            <a:ext cx="5229360" cy="360360"/>
            <a:chOff x="1619280" y="3357720"/>
            <a:chExt cx="5229360" cy="360360"/>
          </a:xfrm>
        </p:grpSpPr>
        <p:sp>
          <p:nvSpPr>
            <p:cNvPr id="48" name="Oval 6"/>
            <p:cNvSpPr/>
            <p:nvPr/>
          </p:nvSpPr>
          <p:spPr>
            <a:xfrm>
              <a:off x="6488280" y="3357720"/>
              <a:ext cx="360360" cy="3603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1619280" y="3357720"/>
              <a:ext cx="360360" cy="3603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8"/>
          <p:cNvGrpSpPr/>
          <p:nvPr/>
        </p:nvGrpSpPr>
        <p:grpSpPr>
          <a:xfrm>
            <a:off x="1187280" y="3357720"/>
            <a:ext cx="5229360" cy="360360"/>
            <a:chOff x="1187280" y="3357720"/>
            <a:chExt cx="5229360" cy="360360"/>
          </a:xfrm>
        </p:grpSpPr>
        <p:sp>
          <p:nvSpPr>
            <p:cNvPr id="51" name="Oval 9"/>
            <p:cNvSpPr/>
            <p:nvPr/>
          </p:nvSpPr>
          <p:spPr>
            <a:xfrm>
              <a:off x="6056280" y="3357720"/>
              <a:ext cx="360360" cy="360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1187280" y="3357720"/>
              <a:ext cx="360360" cy="360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1"/>
          <p:cNvGrpSpPr/>
          <p:nvPr/>
        </p:nvGrpSpPr>
        <p:grpSpPr>
          <a:xfrm>
            <a:off x="684360" y="3357720"/>
            <a:ext cx="5228640" cy="360360"/>
            <a:chOff x="684360" y="3357720"/>
            <a:chExt cx="5228640" cy="360360"/>
          </a:xfrm>
        </p:grpSpPr>
        <p:sp>
          <p:nvSpPr>
            <p:cNvPr id="54" name="Oval 12"/>
            <p:cNvSpPr/>
            <p:nvPr/>
          </p:nvSpPr>
          <p:spPr>
            <a:xfrm>
              <a:off x="5553000" y="3357720"/>
              <a:ext cx="360000" cy="360360"/>
            </a:xfrm>
            <a:prstGeom prst="ellips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684360" y="3357720"/>
              <a:ext cx="360000" cy="360360"/>
            </a:xfrm>
            <a:prstGeom prst="ellips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324000" y="0"/>
            <a:ext cx="4463640" cy="1196640"/>
            <a:chOff x="324000" y="0"/>
            <a:chExt cx="4463640" cy="1196640"/>
          </a:xfrm>
        </p:grpSpPr>
        <p:pic>
          <p:nvPicPr>
            <p:cNvPr id="57" name="Picture 15" descr="子明 1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56080" cy="11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AutoShape 16"/>
            <p:cNvSpPr/>
            <p:nvPr/>
          </p:nvSpPr>
          <p:spPr>
            <a:xfrm>
              <a:off x="1546200" y="274320"/>
              <a:ext cx="2917440" cy="691200"/>
            </a:xfrm>
            <a:prstGeom prst="wedgeRoundRectCallout">
              <a:avLst>
                <a:gd name="adj1" fmla="val -60648"/>
                <a:gd name="adj2" fmla="val -8689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7"/>
            <p:cNvSpPr/>
            <p:nvPr/>
          </p:nvSpPr>
          <p:spPr>
            <a:xfrm>
              <a:off x="1546200" y="237960"/>
              <a:ext cx="32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找出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12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4572000" y="0"/>
            <a:ext cx="4571640" cy="1223640"/>
            <a:chOff x="4572000" y="0"/>
            <a:chExt cx="4571640" cy="1223640"/>
          </a:xfrm>
        </p:grpSpPr>
        <p:pic>
          <p:nvPicPr>
            <p:cNvPr id="61" name="Picture 19" descr="芳芳 2"/>
            <p:cNvPicPr/>
            <p:nvPr/>
          </p:nvPicPr>
          <p:blipFill>
            <a:blip r:embed="rId2"/>
            <a:stretch/>
          </p:blipFill>
          <p:spPr>
            <a:xfrm>
              <a:off x="4572000" y="0"/>
              <a:ext cx="96768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AutoShape 20"/>
            <p:cNvSpPr/>
            <p:nvPr/>
          </p:nvSpPr>
          <p:spPr>
            <a:xfrm>
              <a:off x="5878440" y="209520"/>
              <a:ext cx="2939040" cy="749880"/>
            </a:xfrm>
            <a:prstGeom prst="wedgeRoundRectCallout">
              <a:avLst>
                <a:gd name="adj1" fmla="val -62037"/>
                <a:gd name="adj2" fmla="val -8018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1"/>
            <p:cNvSpPr/>
            <p:nvPr/>
          </p:nvSpPr>
          <p:spPr>
            <a:xfrm>
              <a:off x="5878440" y="209520"/>
              <a:ext cx="326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找出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18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2"/>
          <p:cNvSpPr/>
          <p:nvPr/>
        </p:nvSpPr>
        <p:spPr>
          <a:xfrm>
            <a:off x="1116000" y="1197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12 = 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3492360" y="1197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= 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5435640" y="1197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= 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1133640" y="19242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18 = 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3656160" y="19242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= 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435640" y="1916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= 3 ×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971640" y="2708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DFKai-SB"/>
              </a:rPr>
              <a:t>12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DFKai-SB"/>
              </a:rPr>
              <a:t>的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DFKai-SB"/>
              </a:rPr>
              <a:t>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DFKai-SB"/>
              </a:rPr>
              <a:t>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5796000" y="27813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18 </a:t>
            </a:r>
            <a:r>
              <a:rPr b="1" lang="zh-TW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的因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数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84360" y="32846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1 , 2 , 3 , 4 , 6 ,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5535720" y="3270240"/>
            <a:ext cx="27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1 , 2 , 3 , 6 , 9 ,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250920" y="41497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时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是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12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18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3"/>
          <p:cNvGrpSpPr/>
          <p:nvPr/>
        </p:nvGrpSpPr>
        <p:grpSpPr>
          <a:xfrm>
            <a:off x="0" y="4653000"/>
            <a:ext cx="9143640" cy="2450880"/>
            <a:chOff x="0" y="4653000"/>
            <a:chExt cx="9143640" cy="2450880"/>
          </a:xfrm>
        </p:grpSpPr>
        <p:sp>
          <p:nvSpPr>
            <p:cNvPr id="76" name="Text Box 34"/>
            <p:cNvSpPr/>
            <p:nvPr/>
          </p:nvSpPr>
          <p:spPr>
            <a:xfrm>
              <a:off x="2009160" y="4902840"/>
              <a:ext cx="713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2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3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和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6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是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2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和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8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的</a:t>
              </a:r>
              <a:r>
                <a:rPr b="1" lang="zh-TW" sz="3200" spc="-1" strike="noStrike">
                  <a:solidFill>
                    <a:srgbClr val="9900cc"/>
                  </a:solidFill>
                  <a:latin typeface="Times New Roman"/>
                  <a:ea typeface="PMingLiU"/>
                </a:rPr>
                <a:t>公</a:t>
              </a:r>
              <a:r>
                <a:rPr b="1" lang="zh-CN" sz="3200" spc="-1" strike="noStrike">
                  <a:solidFill>
                    <a:srgbClr val="9900cc"/>
                  </a:solidFill>
                  <a:latin typeface="Times New Roman"/>
                  <a:ea typeface="PMingLiU"/>
                </a:rPr>
                <a:t>有的</a:t>
              </a:r>
              <a:r>
                <a:rPr b="1" lang="zh-TW" sz="3200" spc="-1" strike="noStrike">
                  <a:solidFill>
                    <a:srgbClr val="9900cc"/>
                  </a:solidFill>
                  <a:latin typeface="Times New Roman"/>
                  <a:ea typeface="PMingLiU"/>
                </a:rPr>
                <a:t>因</a:t>
              </a:r>
              <a:r>
                <a:rPr b="1" lang="zh-CN" sz="3200" spc="-1" strike="noStrike">
                  <a:solidFill>
                    <a:srgbClr val="9900cc"/>
                  </a:solidFill>
                  <a:latin typeface="Times New Roman"/>
                  <a:ea typeface="PMingLiU"/>
                </a:rPr>
                <a:t>数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也就是它们的</a:t>
              </a:r>
              <a:r>
                <a:rPr b="1" lang="zh-CN" sz="3200" spc="-1" strike="noStrike">
                  <a:solidFill>
                    <a:srgbClr val="9900cc"/>
                  </a:solidFill>
                  <a:latin typeface="Times New Roman"/>
                  <a:ea typeface="DFKai-SB"/>
                </a:rPr>
                <a:t>公因数</a:t>
              </a:r>
              <a:r>
                <a:rPr b="1" lang="en-US" sz="3200" spc="-1" strike="noStrike">
                  <a:solidFill>
                    <a:srgbClr val="9900cc"/>
                  </a:solidFill>
                  <a:latin typeface="Times New Roman"/>
                  <a:ea typeface="DFKai-SB"/>
                </a:rPr>
                <a:t>,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其中最大的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一个数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是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6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叫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2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和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8 </a:t>
              </a:r>
              <a:r>
                <a:rPr b="1" lang="zh-TW" sz="32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的</a:t>
              </a:r>
              <a:r>
                <a:rPr b="1" lang="zh-TW" sz="3200" spc="-1" strike="noStrike">
                  <a:solidFill>
                    <a:srgbClr val="9900cc"/>
                  </a:solidFill>
                  <a:latin typeface="Times New Roman"/>
                  <a:ea typeface="PMingLiU"/>
                </a:rPr>
                <a:t>最大公因</a:t>
              </a:r>
              <a:r>
                <a:rPr b="1" lang="zh-CN" sz="3200" spc="-1" strike="noStrike">
                  <a:solidFill>
                    <a:srgbClr val="9900cc"/>
                  </a:solidFill>
                  <a:latin typeface="Times New Roman"/>
                  <a:ea typeface="PMingLiU"/>
                </a:rPr>
                <a:t>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5" descr="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130608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AutoShape 36"/>
            <p:cNvSpPr/>
            <p:nvPr/>
          </p:nvSpPr>
          <p:spPr>
            <a:xfrm>
              <a:off x="1949760" y="4814280"/>
              <a:ext cx="6956280" cy="2165760"/>
            </a:xfrm>
            <a:prstGeom prst="wedgeRoundRectCallout">
              <a:avLst>
                <a:gd name="adj1" fmla="val -59675"/>
                <a:gd name="adj2" fmla="val -14513"/>
                <a:gd name="adj3" fmla="val 16667"/>
              </a:avLst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99"/>
                  </a:solidFill>
                  <a:latin typeface="Calisto MT"/>
                  <a:ea typeface="PMingLiU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37"/>
          <p:cNvSpPr/>
          <p:nvPr/>
        </p:nvSpPr>
        <p:spPr>
          <a:xfrm>
            <a:off x="4714920" y="4221000"/>
            <a:ext cx="504720" cy="581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5291280" y="4221000"/>
            <a:ext cx="504720" cy="5814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5938920" y="4221000"/>
            <a:ext cx="50472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3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6543720" y="4218120"/>
            <a:ext cx="549360" cy="5814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1"/>
          <p:cNvSpPr/>
          <p:nvPr/>
        </p:nvSpPr>
        <p:spPr>
          <a:xfrm>
            <a:off x="539640" y="2637000"/>
            <a:ext cx="295272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2"/>
          <p:cNvSpPr/>
          <p:nvPr/>
        </p:nvSpPr>
        <p:spPr>
          <a:xfrm>
            <a:off x="5364000" y="2708280"/>
            <a:ext cx="295308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9640" y="40392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怎样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的最大公因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439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生先独立思考，用自己想到的方法试着找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组讨论，互相启发，再在全班交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rcRect l="3542" t="0" r="0" b="0"/>
          <a:stretch/>
        </p:blipFill>
        <p:spPr>
          <a:xfrm>
            <a:off x="0" y="2852640"/>
            <a:ext cx="9144000" cy="18241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4751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找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中有哪些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，再看哪个最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9280" y="9349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写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，再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中哪些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。从中找出最大的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3742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写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, 2 , 3 , 6 , 9 , 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从大到小依次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是不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因数，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"/>
          <p:cNvSpPr/>
          <p:nvPr/>
        </p:nvSpPr>
        <p:spPr>
          <a:xfrm>
            <a:off x="5867280" y="5373720"/>
            <a:ext cx="503280" cy="36036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4356000" y="3790800"/>
            <a:ext cx="1800000" cy="1366200"/>
            <a:chOff x="4356000" y="3790800"/>
            <a:chExt cx="1800000" cy="1366200"/>
          </a:xfrm>
        </p:grpSpPr>
        <p:sp>
          <p:nvSpPr>
            <p:cNvPr id="97" name="Oval 4"/>
            <p:cNvSpPr/>
            <p:nvPr/>
          </p:nvSpPr>
          <p:spPr>
            <a:xfrm>
              <a:off x="4356000" y="3790800"/>
              <a:ext cx="515880" cy="527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>
              <a:off x="5639760" y="4629600"/>
              <a:ext cx="516240" cy="527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"/>
          <p:cNvGrpSpPr/>
          <p:nvPr/>
        </p:nvGrpSpPr>
        <p:grpSpPr>
          <a:xfrm>
            <a:off x="3780000" y="3787920"/>
            <a:ext cx="1294560" cy="1440720"/>
            <a:chOff x="3780000" y="3787920"/>
            <a:chExt cx="1294560" cy="1440720"/>
          </a:xfrm>
        </p:grpSpPr>
        <p:sp>
          <p:nvSpPr>
            <p:cNvPr id="100" name="Oval 7"/>
            <p:cNvSpPr/>
            <p:nvPr/>
          </p:nvSpPr>
          <p:spPr>
            <a:xfrm>
              <a:off x="3780000" y="3787920"/>
              <a:ext cx="579600" cy="55620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4494960" y="4672440"/>
              <a:ext cx="579600" cy="55620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9"/>
          <p:cNvGrpSpPr/>
          <p:nvPr/>
        </p:nvGrpSpPr>
        <p:grpSpPr>
          <a:xfrm>
            <a:off x="3348000" y="3932280"/>
            <a:ext cx="576000" cy="1296360"/>
            <a:chOff x="3348000" y="3932280"/>
            <a:chExt cx="576000" cy="1296360"/>
          </a:xfrm>
        </p:grpSpPr>
        <p:sp>
          <p:nvSpPr>
            <p:cNvPr id="103" name="Oval 10"/>
            <p:cNvSpPr/>
            <p:nvPr/>
          </p:nvSpPr>
          <p:spPr>
            <a:xfrm>
              <a:off x="3348000" y="3932280"/>
              <a:ext cx="576000" cy="500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1"/>
            <p:cNvSpPr/>
            <p:nvPr/>
          </p:nvSpPr>
          <p:spPr>
            <a:xfrm>
              <a:off x="3348000" y="4728240"/>
              <a:ext cx="576000" cy="500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2700360" y="4005360"/>
            <a:ext cx="647280" cy="1148760"/>
            <a:chOff x="2700360" y="4005360"/>
            <a:chExt cx="647280" cy="1148760"/>
          </a:xfrm>
        </p:grpSpPr>
        <p:sp>
          <p:nvSpPr>
            <p:cNvPr id="106" name="Oval 13"/>
            <p:cNvSpPr/>
            <p:nvPr/>
          </p:nvSpPr>
          <p:spPr>
            <a:xfrm>
              <a:off x="2700360" y="4005360"/>
              <a:ext cx="647280" cy="443520"/>
            </a:xfrm>
            <a:prstGeom prst="ellipse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4"/>
            <p:cNvSpPr/>
            <p:nvPr/>
          </p:nvSpPr>
          <p:spPr>
            <a:xfrm>
              <a:off x="2700360" y="4710600"/>
              <a:ext cx="647280" cy="443520"/>
            </a:xfrm>
            <a:prstGeom prst="ellipse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5"/>
          <p:cNvSpPr/>
          <p:nvPr/>
        </p:nvSpPr>
        <p:spPr>
          <a:xfrm>
            <a:off x="7023240" y="2336760"/>
            <a:ext cx="38088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95280" y="195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练一练：</a:t>
            </a:r>
            <a:r>
              <a:rPr b="1" lang="zh-TW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找出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16 </a:t>
            </a:r>
            <a:r>
              <a:rPr b="1" lang="zh-TW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和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24 </a:t>
            </a:r>
            <a:r>
              <a:rPr b="1" lang="zh-TW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的最大公因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数</a:t>
            </a:r>
            <a:r>
              <a:rPr b="1" lang="zh-TW" sz="3600" spc="-1" strike="noStrike">
                <a:solidFill>
                  <a:srgbClr val="3333ff"/>
                </a:solidFill>
                <a:latin typeface="Times New Roman"/>
                <a:ea typeface="DFKai-SB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222640" y="1790640"/>
            <a:ext cx="38088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1612800" y="1790640"/>
            <a:ext cx="30492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1612800" y="2336760"/>
            <a:ext cx="30492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1612800" y="2870280"/>
            <a:ext cx="30492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2171880" y="2336760"/>
            <a:ext cx="30456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539640" y="17733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16 = 1 ×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39640" y="229248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16 = 2 ×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539640" y="2852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16 = 4 ×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6972480" y="2870280"/>
            <a:ext cx="30456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7023240" y="1790640"/>
            <a:ext cx="38088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413400" y="1790640"/>
            <a:ext cx="30492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6413400" y="2336760"/>
            <a:ext cx="30492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6413400" y="2870280"/>
            <a:ext cx="30492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364000" y="17733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24 = 1 ×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5364000" y="22766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24 = 2 ×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5364000" y="28335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24 = 3 ×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595440" y="1143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16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5486400" y="1143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24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因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6972480" y="3417840"/>
            <a:ext cx="30456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6413400" y="3417840"/>
            <a:ext cx="304920" cy="465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5310360" y="3357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24 = 4 ×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324000" y="3940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16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24000" y="4653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24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2843280" y="4581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1 , 2 , 3 , 4 , 6 , 8 , 12 ,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2771640" y="37893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1 , 2 , 4 , 8 ,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324000" y="52293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16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24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公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4356000" y="53006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4932360" y="5300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5292720" y="5300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6"/>
          <p:cNvSpPr/>
          <p:nvPr/>
        </p:nvSpPr>
        <p:spPr>
          <a:xfrm>
            <a:off x="5940360" y="53006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DFKai-SB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324000" y="5877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16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24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最大公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8"/>
          <p:cNvSpPr/>
          <p:nvPr/>
        </p:nvSpPr>
        <p:spPr>
          <a:xfrm>
            <a:off x="5219640" y="5877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DFKai-SB"/>
              </a:rPr>
              <a:t>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2835000" cy="103356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"/>
          <p:cNvGrpSpPr/>
          <p:nvPr/>
        </p:nvGrpSpPr>
        <p:grpSpPr>
          <a:xfrm>
            <a:off x="468360" y="911160"/>
            <a:ext cx="7558920" cy="642600"/>
            <a:chOff x="468360" y="911160"/>
            <a:chExt cx="7558920" cy="642600"/>
          </a:xfrm>
        </p:grpSpPr>
        <p:pic>
          <p:nvPicPr>
            <p:cNvPr id="145" name="Picture 4" descr=""/>
            <p:cNvPicPr/>
            <p:nvPr/>
          </p:nvPicPr>
          <p:blipFill>
            <a:blip r:embed="rId2"/>
            <a:stretch/>
          </p:blipFill>
          <p:spPr>
            <a:xfrm>
              <a:off x="468360" y="938160"/>
              <a:ext cx="6804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5"/>
            <p:cNvSpPr/>
            <p:nvPr/>
          </p:nvSpPr>
          <p:spPr>
            <a:xfrm>
              <a:off x="1135080" y="911160"/>
              <a:ext cx="68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找出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8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和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16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最大公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611280" y="1631880"/>
            <a:ext cx="7632360" cy="2014200"/>
            <a:chOff x="611280" y="1631880"/>
            <a:chExt cx="7632360" cy="2014200"/>
          </a:xfrm>
        </p:grpSpPr>
        <p:sp>
          <p:nvSpPr>
            <p:cNvPr id="148" name="Text Box 7"/>
            <p:cNvSpPr/>
            <p:nvPr/>
          </p:nvSpPr>
          <p:spPr>
            <a:xfrm>
              <a:off x="611280" y="1631880"/>
              <a:ext cx="76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8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︰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_________________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611280" y="2317680"/>
              <a:ext cx="76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16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︰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________________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"/>
            <p:cNvSpPr/>
            <p:nvPr/>
          </p:nvSpPr>
          <p:spPr>
            <a:xfrm>
              <a:off x="611280" y="3003480"/>
              <a:ext cx="75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6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和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15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最大公因數是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_____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0"/>
          <p:cNvGrpSpPr/>
          <p:nvPr/>
        </p:nvGrpSpPr>
        <p:grpSpPr>
          <a:xfrm>
            <a:off x="395280" y="3790800"/>
            <a:ext cx="5564880" cy="642600"/>
            <a:chOff x="395280" y="3790800"/>
            <a:chExt cx="5564880" cy="642600"/>
          </a:xfrm>
        </p:grpSpPr>
        <p:pic>
          <p:nvPicPr>
            <p:cNvPr id="152" name="Picture 11" descr=""/>
            <p:cNvPicPr/>
            <p:nvPr/>
          </p:nvPicPr>
          <p:blipFill>
            <a:blip r:embed="rId3"/>
            <a:stretch/>
          </p:blipFill>
          <p:spPr>
            <a:xfrm>
              <a:off x="395280" y="3954240"/>
              <a:ext cx="4478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12"/>
            <p:cNvSpPr/>
            <p:nvPr/>
          </p:nvSpPr>
          <p:spPr>
            <a:xfrm>
              <a:off x="1415520" y="3790800"/>
              <a:ext cx="454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找出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5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和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7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最大公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3"/>
          <p:cNvGrpSpPr/>
          <p:nvPr/>
        </p:nvGrpSpPr>
        <p:grpSpPr>
          <a:xfrm>
            <a:off x="826920" y="4437000"/>
            <a:ext cx="7416720" cy="2014200"/>
            <a:chOff x="826920" y="4437000"/>
            <a:chExt cx="7416720" cy="2014200"/>
          </a:xfrm>
        </p:grpSpPr>
        <p:sp>
          <p:nvSpPr>
            <p:cNvPr id="155" name="Text Box 14"/>
            <p:cNvSpPr/>
            <p:nvPr/>
          </p:nvSpPr>
          <p:spPr>
            <a:xfrm>
              <a:off x="826920" y="4437000"/>
              <a:ext cx="741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5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︰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_________________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826920" y="5122800"/>
              <a:ext cx="741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7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︰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________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________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826920" y="5808600"/>
              <a:ext cx="731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5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和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7 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的最大公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数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是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_____</a:t>
              </a:r>
              <a:r>
                <a:rPr b="1" lang="zh-TW" sz="36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7"/>
          <p:cNvSpPr/>
          <p:nvPr/>
        </p:nvSpPr>
        <p:spPr>
          <a:xfrm>
            <a:off x="3706920" y="438300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DFKai-SB"/>
              </a:rPr>
              <a:t>1,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3637080" y="1503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DFKai-SB"/>
              </a:rPr>
              <a:t>1, 2, 4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3635280" y="2222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DFKai-SB"/>
              </a:rPr>
              <a:t>1, 2, 4, 8,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867280" y="2943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DFKai-SB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730680" y="5103720"/>
            <a:ext cx="16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DFKai-SB"/>
              </a:rPr>
              <a:t>1,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5746680" y="56800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DFKai-SB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99640" y="3428640"/>
            <a:ext cx="7559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4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6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的最大公因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2×2×3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24000" y="47109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宋体"/>
                <a:ea typeface="Times New Roman"/>
              </a:rPr>
              <a:t>两个数所有公有质因数的积，就是这两个数的最大公因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272360" cy="2305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179280" y="2595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分解质因数的方法，找两个数的最大公因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ic_256073"/>
          <p:cNvPicPr/>
          <p:nvPr/>
        </p:nvPicPr>
        <p:blipFill>
          <a:blip r:embed="rId2">
            <a:lum bright="-30000"/>
          </a:blip>
          <a:srcRect l="18498" t="64710" r="10169" b="29052"/>
          <a:stretch/>
        </p:blipFill>
        <p:spPr>
          <a:xfrm>
            <a:off x="539640" y="692280"/>
            <a:ext cx="8064720" cy="1441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pic_256073"/>
          <p:cNvPicPr/>
          <p:nvPr/>
        </p:nvPicPr>
        <p:blipFill>
          <a:blip r:embed="rId3"/>
          <a:srcRect l="12854" t="59716" r="68772" b="35290"/>
          <a:stretch/>
        </p:blipFill>
        <p:spPr>
          <a:xfrm>
            <a:off x="0" y="0"/>
            <a:ext cx="176544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pic_256073"/>
          <p:cNvPicPr/>
          <p:nvPr/>
        </p:nvPicPr>
        <p:blipFill>
          <a:blip r:embed="rId4">
            <a:lum bright="-54000"/>
          </a:blip>
          <a:srcRect l="74565" t="68442" r="16534" b="29385"/>
          <a:stretch/>
        </p:blipFill>
        <p:spPr>
          <a:xfrm>
            <a:off x="1692360" y="5734080"/>
            <a:ext cx="1152360" cy="64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pic_256073"/>
          <p:cNvPicPr/>
          <p:nvPr/>
        </p:nvPicPr>
        <p:blipFill>
          <a:blip r:embed="rId5">
            <a:lum bright="-54000"/>
          </a:blip>
          <a:srcRect l="56738" t="68442" r="35032" b="29683"/>
          <a:stretch/>
        </p:blipFill>
        <p:spPr>
          <a:xfrm>
            <a:off x="1619280" y="4724280"/>
            <a:ext cx="1068480" cy="555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ic_256073"/>
          <p:cNvPicPr/>
          <p:nvPr/>
        </p:nvPicPr>
        <p:blipFill>
          <a:blip r:embed="rId6">
            <a:lum bright="-54000"/>
          </a:blip>
          <a:srcRect l="36972" t="68442" r="52213" b="29385"/>
          <a:stretch/>
        </p:blipFill>
        <p:spPr>
          <a:xfrm>
            <a:off x="1403280" y="3716280"/>
            <a:ext cx="1398600" cy="64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ic_256073"/>
          <p:cNvPicPr/>
          <p:nvPr/>
        </p:nvPicPr>
        <p:blipFill>
          <a:blip r:embed="rId7">
            <a:lum bright="-54000"/>
          </a:blip>
          <a:srcRect l="18498" t="68442" r="70686" b="29385"/>
          <a:stretch/>
        </p:blipFill>
        <p:spPr>
          <a:xfrm>
            <a:off x="1476360" y="2635200"/>
            <a:ext cx="1401840" cy="647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"/>
          <p:cNvSpPr/>
          <p:nvPr/>
        </p:nvSpPr>
        <p:spPr>
          <a:xfrm>
            <a:off x="2916360" y="2708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大公因数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771640" y="37893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大公因数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771640" y="472428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大公因数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2844720" y="573408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大公因数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26920" y="110016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全课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求两个数的最大公因数有哪些特殊情况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）当两个数成倍数关系时，较小的数就是它们的最大公因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）当两个数只有公因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1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时，它们的最大公因数也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2:33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50:51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