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12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15236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4897-FB01-4C45-9C1D-08AD3312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6360" y="1114200"/>
            <a:ext cx="9300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103694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6360" y="4046760"/>
            <a:ext cx="103694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32B-EF3F-419D-B1FA-D520F890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6360" y="1114200"/>
            <a:ext cx="9300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89960" y="177300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6360" y="404676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89960" y="404676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8F57-98A7-423B-B4B3-F29CA2FF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6360" y="1114200"/>
            <a:ext cx="9300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33386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82400" y="1773000"/>
            <a:ext cx="33386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588440" y="1773000"/>
            <a:ext cx="33386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6360" y="4046760"/>
            <a:ext cx="33386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82400" y="4046760"/>
            <a:ext cx="33386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588440" y="4046760"/>
            <a:ext cx="33386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AEE-76F0-44CC-8A5D-DB7DB890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6360" y="1114200"/>
            <a:ext cx="9300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6360" y="1773000"/>
            <a:ext cx="1036944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F6EE-F990-4B4D-8C23-B69F66A8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6360" y="1114200"/>
            <a:ext cx="9300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10369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CB1-1487-463B-9048-BD387C3B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6360" y="1114200"/>
            <a:ext cx="9300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5060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89960" y="1773000"/>
            <a:ext cx="5060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DFA-0F97-4129-A216-7178922C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6360" y="1114200"/>
            <a:ext cx="9300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C29-355D-4741-AEC7-C2F45562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6360" y="1120320"/>
            <a:ext cx="93009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E7E-68BF-4CEE-8F62-B7C00DD4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6360" y="1114200"/>
            <a:ext cx="9300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89960" y="1773000"/>
            <a:ext cx="5060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360" y="404676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31D-9C1F-4A2E-BF79-5CC6481B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6360" y="1114200"/>
            <a:ext cx="9300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5060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89960" y="177300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89960" y="404676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01F3-1F00-4EEC-AC04-134785CE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6360" y="1114200"/>
            <a:ext cx="9300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89960" y="177300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6360" y="4046760"/>
            <a:ext cx="103694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5BC-9654-41F4-A88E-D00178DA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-720"/>
            <a:ext cx="11522160" cy="12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6360" y="1120320"/>
            <a:ext cx="9300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76360" y="1773000"/>
            <a:ext cx="10369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62626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1" marL="457200" indent="457200">
              <a:spcBef>
                <a:spcPts val="499"/>
              </a:spcBef>
              <a:buClr>
                <a:srgbClr val="262626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2" marL="914400">
              <a:spcBef>
                <a:spcPts val="499"/>
              </a:spcBef>
              <a:buClr>
                <a:srgbClr val="262626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3" marL="1371600" indent="-457200">
              <a:spcBef>
                <a:spcPts val="499"/>
              </a:spcBef>
              <a:buClr>
                <a:srgbClr val="262626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4" marL="1828800" indent="-914400">
              <a:spcBef>
                <a:spcPts val="499"/>
              </a:spcBef>
              <a:buClr>
                <a:srgbClr val="262626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6000" y="6356520"/>
            <a:ext cx="268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0552-32AB-4F8D-93E5-74E7133BD225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36960" y="6356520"/>
            <a:ext cx="3648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58040" y="6356520"/>
            <a:ext cx="26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AE2E-BF29-4704-A1C8-7C1F883212C0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hyperlink" Target="http://www.eeppt.com/moban/zhongguofeng/" TargetMode="External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17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144360" y="117360"/>
            <a:ext cx="11522160" cy="4579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中国风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1184400" cy="1295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3097080" y="0"/>
            <a:ext cx="1008360" cy="40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 rot="2571000">
            <a:off x="630000" y="1990440"/>
            <a:ext cx="1008000" cy="76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2952720" y="404640"/>
            <a:ext cx="692280" cy="21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>
            <a:lum contrast="-70000"/>
          </a:blip>
          <a:stretch/>
        </p:blipFill>
        <p:spPr>
          <a:xfrm rot="20313000">
            <a:off x="647640" y="4939920"/>
            <a:ext cx="1603440" cy="1079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6"/>
          <a:stretch/>
        </p:blipFill>
        <p:spPr>
          <a:xfrm rot="13459800">
            <a:off x="4784760" y="-152280"/>
            <a:ext cx="552240" cy="72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"/>
          <p:cNvPicPr/>
          <p:nvPr/>
        </p:nvPicPr>
        <p:blipFill>
          <a:blip r:embed="rId7"/>
          <a:stretch/>
        </p:blipFill>
        <p:spPr>
          <a:xfrm rot="14414400">
            <a:off x="1350000" y="1797120"/>
            <a:ext cx="1225800" cy="33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8"/>
          <a:stretch/>
        </p:blipFill>
        <p:spPr>
          <a:xfrm rot="7332600">
            <a:off x="1730880" y="4191480"/>
            <a:ext cx="1297080" cy="2762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9"/>
          <a:stretch/>
        </p:blipFill>
        <p:spPr>
          <a:xfrm rot="20259600">
            <a:off x="-220320" y="3949560"/>
            <a:ext cx="1241280" cy="63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10">
            <a:lum bright="20000"/>
          </a:blip>
          <a:stretch/>
        </p:blipFill>
        <p:spPr>
          <a:xfrm>
            <a:off x="4032360" y="333360"/>
            <a:ext cx="658800" cy="257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11"/>
          <a:stretch/>
        </p:blipFill>
        <p:spPr>
          <a:xfrm rot="1897200">
            <a:off x="48960" y="2822040"/>
            <a:ext cx="1722240" cy="67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12"/>
          <a:stretch/>
        </p:blipFill>
        <p:spPr>
          <a:xfrm rot="2619600">
            <a:off x="1298160" y="2990520"/>
            <a:ext cx="574560" cy="148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13">
            <a:lum bright="70000" contrast="-70000"/>
          </a:blip>
          <a:stretch/>
        </p:blipFill>
        <p:spPr>
          <a:xfrm rot="20313000">
            <a:off x="3317760" y="1933200"/>
            <a:ext cx="914400" cy="204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49440" y="4653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5"/>
          <p:cNvSpPr/>
          <p:nvPr/>
        </p:nvSpPr>
        <p:spPr>
          <a:xfrm>
            <a:off x="0" y="549360"/>
            <a:ext cx="11522160" cy="5904000"/>
          </a:xfrm>
          <a:prstGeom prst="rect">
            <a:avLst/>
          </a:pr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3" descr=""/>
          <p:cNvPicPr/>
          <p:nvPr/>
        </p:nvPicPr>
        <p:blipFill>
          <a:blip r:embed="rId1"/>
          <a:stretch/>
        </p:blipFill>
        <p:spPr>
          <a:xfrm>
            <a:off x="0" y="762120"/>
            <a:ext cx="11536200" cy="5546520"/>
          </a:xfrm>
          <a:prstGeom prst="rect">
            <a:avLst/>
          </a:prstGeom>
          <a:ln w="0">
            <a:noFill/>
          </a:ln>
        </p:spPr>
      </p:pic>
      <p:pic>
        <p:nvPicPr>
          <p:cNvPr id="59" name="流水" descr="E:\十佳大学生评选材料整理\PPT图片参考\背景图解析\流水.pn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-29000520" y="3860640"/>
            <a:ext cx="40522680" cy="22147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71"/>
          <p:cNvSpPr/>
          <p:nvPr/>
        </p:nvSpPr>
        <p:spPr>
          <a:xfrm flipV="1">
            <a:off x="216000" y="4292640"/>
            <a:ext cx="223812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104" descr="未标题-2.png"/>
          <p:cNvPicPr/>
          <p:nvPr/>
        </p:nvPicPr>
        <p:blipFill>
          <a:blip r:embed="rId3"/>
          <a:stretch/>
        </p:blipFill>
        <p:spPr>
          <a:xfrm>
            <a:off x="431640" y="3486240"/>
            <a:ext cx="2824200" cy="28224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3" descr="2008318162826197.png"/>
          <p:cNvPicPr/>
          <p:nvPr/>
        </p:nvPicPr>
        <p:blipFill>
          <a:blip r:embed="rId4"/>
          <a:stretch/>
        </p:blipFill>
        <p:spPr>
          <a:xfrm>
            <a:off x="5329080" y="2565360"/>
            <a:ext cx="863640" cy="803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0560" y="363708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7106 0.1956 L 3.1789 0.1956 E">
                                      <p:cBhvr>
                                        <p:cTn id="9" dur="1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5"/>
          <p:cNvSpPr/>
          <p:nvPr/>
        </p:nvSpPr>
        <p:spPr>
          <a:xfrm>
            <a:off x="0" y="549360"/>
            <a:ext cx="11522160" cy="5904000"/>
          </a:xfrm>
          <a:prstGeom prst="rect">
            <a:avLst/>
          </a:pr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765000"/>
            <a:ext cx="11536200" cy="556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571920" y="1413000"/>
            <a:ext cx="7950240" cy="896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"/>
          <p:cNvPicPr/>
          <p:nvPr/>
        </p:nvPicPr>
        <p:blipFill>
          <a:blip r:embed="rId3"/>
          <a:stretch/>
        </p:blipFill>
        <p:spPr>
          <a:xfrm>
            <a:off x="3097080" y="2421000"/>
            <a:ext cx="8212320" cy="82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5"/>
          <p:cNvSpPr/>
          <p:nvPr/>
        </p:nvSpPr>
        <p:spPr>
          <a:xfrm>
            <a:off x="0" y="549360"/>
            <a:ext cx="11522160" cy="5904000"/>
          </a:xfrm>
          <a:prstGeom prst="rect">
            <a:avLst/>
          </a:pr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14400" y="722160"/>
            <a:ext cx="11536560" cy="5562720"/>
          </a:xfrm>
          <a:prstGeom prst="rect">
            <a:avLst/>
          </a:prstGeom>
          <a:ln w="0">
            <a:noFill/>
          </a:ln>
        </p:spPr>
      </p:pic>
      <p:sp>
        <p:nvSpPr>
          <p:cNvPr id="70" name="TextBox 71"/>
          <p:cNvSpPr/>
          <p:nvPr/>
        </p:nvSpPr>
        <p:spPr>
          <a:xfrm>
            <a:off x="8902440" y="345924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egoe Script"/>
              </a:rPr>
              <a:t>1,500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1160" y="2492280"/>
            <a:ext cx="3975120" cy="30304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54" descr="2008318162826197.png"/>
          <p:cNvPicPr/>
          <p:nvPr/>
        </p:nvPicPr>
        <p:blipFill>
          <a:blip r:embed="rId3"/>
          <a:stretch/>
        </p:blipFill>
        <p:spPr>
          <a:xfrm>
            <a:off x="3024360" y="2205000"/>
            <a:ext cx="865080" cy="803160"/>
          </a:xfrm>
          <a:prstGeom prst="rect">
            <a:avLst/>
          </a:prstGeom>
          <a:ln w="0">
            <a:noFill/>
          </a:ln>
        </p:spPr>
      </p:pic>
      <p:sp>
        <p:nvSpPr>
          <p:cNvPr id="73" name="矩形 57"/>
          <p:cNvSpPr/>
          <p:nvPr/>
        </p:nvSpPr>
        <p:spPr>
          <a:xfrm>
            <a:off x="8424720" y="28116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业绩的突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63" descr="2008318162826197.png"/>
          <p:cNvPicPr/>
          <p:nvPr/>
        </p:nvPicPr>
        <p:blipFill>
          <a:blip r:embed="rId4"/>
          <a:stretch/>
        </p:blipFill>
        <p:spPr>
          <a:xfrm>
            <a:off x="2736720" y="2955960"/>
            <a:ext cx="2092320" cy="1942920"/>
          </a:xfrm>
          <a:prstGeom prst="rect">
            <a:avLst/>
          </a:prstGeom>
          <a:ln w="0">
            <a:noFill/>
          </a:ln>
        </p:spPr>
      </p:pic>
      <p:sp>
        <p:nvSpPr>
          <p:cNvPr id="75" name="Freeform 38"/>
          <p:cNvSpPr/>
          <p:nvPr/>
        </p:nvSpPr>
        <p:spPr>
          <a:xfrm>
            <a:off x="3384720" y="4191120"/>
            <a:ext cx="4680" cy="1440"/>
          </a:xfrm>
          <a:prstGeom prst="pie">
            <a:avLst/>
          </a:prstGeom>
          <a:solidFill>
            <a:srgbClr val="ffd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9"/>
          <p:cNvSpPr/>
          <p:nvPr/>
        </p:nvSpPr>
        <p:spPr>
          <a:xfrm>
            <a:off x="4049280" y="35575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经销商执行力的突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0"/>
          <p:cNvSpPr/>
          <p:nvPr/>
        </p:nvSpPr>
        <p:spPr>
          <a:xfrm>
            <a:off x="3384720" y="2924280"/>
            <a:ext cx="39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分销模式的突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1"/>
          <p:cNvSpPr/>
          <p:nvPr/>
        </p:nvSpPr>
        <p:spPr>
          <a:xfrm>
            <a:off x="3384720" y="4251240"/>
            <a:ext cx="25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零售的突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2"/>
          <p:cNvSpPr/>
          <p:nvPr/>
        </p:nvSpPr>
        <p:spPr>
          <a:xfrm>
            <a:off x="3384720" y="2292480"/>
            <a:ext cx="22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季节的突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84"/>
          <p:cNvGrpSpPr/>
          <p:nvPr/>
        </p:nvGrpSpPr>
        <p:grpSpPr>
          <a:xfrm>
            <a:off x="6840360" y="2739960"/>
            <a:ext cx="1597320" cy="1584360"/>
            <a:chOff x="6840360" y="2739960"/>
            <a:chExt cx="1597320" cy="1584360"/>
          </a:xfrm>
        </p:grpSpPr>
        <p:sp>
          <p:nvSpPr>
            <p:cNvPr id="81" name="直接连接符 78"/>
            <p:cNvSpPr/>
            <p:nvPr/>
          </p:nvSpPr>
          <p:spPr>
            <a:xfrm>
              <a:off x="6840360" y="2739960"/>
              <a:ext cx="1585440" cy="1584360"/>
            </a:xfrm>
            <a:prstGeom prst="line">
              <a:avLst/>
            </a:prstGeom>
            <a:ln w="12600">
              <a:solidFill>
                <a:srgbClr val="cc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80"/>
            <p:cNvSpPr/>
            <p:nvPr/>
          </p:nvSpPr>
          <p:spPr>
            <a:xfrm flipH="1">
              <a:off x="6840360" y="2739960"/>
              <a:ext cx="1585440" cy="1584360"/>
            </a:xfrm>
            <a:prstGeom prst="line">
              <a:avLst/>
            </a:prstGeom>
            <a:ln w="12600">
              <a:solidFill>
                <a:srgbClr val="cc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82"/>
            <p:cNvSpPr/>
            <p:nvPr/>
          </p:nvSpPr>
          <p:spPr>
            <a:xfrm>
              <a:off x="6852240" y="3531960"/>
              <a:ext cx="1585440" cy="0"/>
            </a:xfrm>
            <a:prstGeom prst="line">
              <a:avLst/>
            </a:prstGeom>
            <a:ln w="12600">
              <a:solidFill>
                <a:srgbClr val="cc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 83"/>
            <p:cNvSpPr/>
            <p:nvPr/>
          </p:nvSpPr>
          <p:spPr>
            <a:xfrm>
              <a:off x="7633080" y="2739960"/>
              <a:ext cx="0" cy="1584360"/>
            </a:xfrm>
            <a:prstGeom prst="line">
              <a:avLst/>
            </a:prstGeom>
            <a:ln w="12600">
              <a:solidFill>
                <a:srgbClr val="cc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64"/>
            <p:cNvSpPr/>
            <p:nvPr/>
          </p:nvSpPr>
          <p:spPr>
            <a:xfrm>
              <a:off x="6852240" y="2739960"/>
              <a:ext cx="1585440" cy="158436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方正启体简体"/>
                  <a:ea typeface="方正启体简体"/>
                </a:rPr>
                <a:t>合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5"/>
          <p:cNvSpPr/>
          <p:nvPr/>
        </p:nvSpPr>
        <p:spPr>
          <a:xfrm>
            <a:off x="0" y="549360"/>
            <a:ext cx="11522160" cy="5904000"/>
          </a:xfrm>
          <a:prstGeom prst="rect">
            <a:avLst/>
          </a:pr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3" descr=""/>
          <p:cNvPicPr/>
          <p:nvPr/>
        </p:nvPicPr>
        <p:blipFill>
          <a:blip r:embed="rId1"/>
          <a:stretch/>
        </p:blipFill>
        <p:spPr>
          <a:xfrm>
            <a:off x="0" y="762120"/>
            <a:ext cx="11536200" cy="554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 flipH="1">
            <a:off x="6327360" y="1917720"/>
            <a:ext cx="5194440" cy="395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1800360" y="3062160"/>
            <a:ext cx="5305320" cy="1590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0400" y="189000"/>
            <a:ext cx="10342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6440" y="1269720"/>
            <a:ext cx="11249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182160" y="333360"/>
            <a:ext cx="17510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AD9-1AD2-448C-99BB-1536F94DAFF1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5"/>
          <p:cNvSpPr/>
          <p:nvPr/>
        </p:nvSpPr>
        <p:spPr>
          <a:xfrm>
            <a:off x="0" y="549360"/>
            <a:ext cx="11522160" cy="5904000"/>
          </a:xfrm>
          <a:prstGeom prst="rect">
            <a:avLst/>
          </a:pr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3957120" y="3244680"/>
            <a:ext cx="36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8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beijing/</a:t>
            </a:r>
            <a:r>
              <a:rPr b="0" lang="en-US" sz="18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0" y="746280"/>
            <a:ext cx="11536200" cy="556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0" y="3060720"/>
            <a:ext cx="3255840" cy="3182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7113600" y="-9360"/>
            <a:ext cx="4408560" cy="4663800"/>
          </a:xfrm>
          <a:prstGeom prst="rect">
            <a:avLst/>
          </a:prstGeom>
          <a:ln w="0">
            <a:noFill/>
          </a:ln>
        </p:spPr>
      </p:pic>
      <p:sp>
        <p:nvSpPr>
          <p:cNvPr id="98" name="矩形 23"/>
          <p:cNvSpPr/>
          <p:nvPr/>
        </p:nvSpPr>
        <p:spPr>
          <a:xfrm>
            <a:off x="4897440" y="4437000"/>
            <a:ext cx="633744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飞跃，</a:t>
            </a:r>
            <a:r>
              <a:rPr b="1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意味着突破后的腾飞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绽放，</a:t>
            </a:r>
            <a:r>
              <a:rPr b="1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体现着对即将到来的对季节性突破的美好愿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4"/>
          <p:cNvSpPr/>
          <p:nvPr/>
        </p:nvSpPr>
        <p:spPr>
          <a:xfrm>
            <a:off x="7152480" y="5589720"/>
            <a:ext cx="291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直观而清晰的表达了对未来美好愿景的期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1224000" y="981000"/>
            <a:ext cx="7638840" cy="19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5"/>
          <p:cNvSpPr/>
          <p:nvPr/>
        </p:nvSpPr>
        <p:spPr>
          <a:xfrm>
            <a:off x="0" y="549360"/>
            <a:ext cx="11522160" cy="5904000"/>
          </a:xfrm>
          <a:prstGeom prst="rect">
            <a:avLst/>
          </a:pr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4400" y="765000"/>
            <a:ext cx="11536560" cy="556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" descr=""/>
          <p:cNvPicPr/>
          <p:nvPr/>
        </p:nvPicPr>
        <p:blipFill>
          <a:blip r:embed="rId2"/>
          <a:stretch/>
        </p:blipFill>
        <p:spPr>
          <a:xfrm>
            <a:off x="-6480" y="1197000"/>
            <a:ext cx="11534760" cy="405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692280" y="2781360"/>
            <a:ext cx="10253520" cy="204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5"/>
          <p:cNvSpPr/>
          <p:nvPr/>
        </p:nvSpPr>
        <p:spPr>
          <a:xfrm>
            <a:off x="0" y="549360"/>
            <a:ext cx="11522160" cy="5904000"/>
          </a:xfrm>
          <a:prstGeom prst="rect">
            <a:avLst/>
          </a:pr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-6480" y="647640"/>
            <a:ext cx="11536560" cy="556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7261200" y="765000"/>
            <a:ext cx="4260960" cy="4260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3"/>
          <a:stretch/>
        </p:blipFill>
        <p:spPr>
          <a:xfrm>
            <a:off x="477720" y="2060640"/>
            <a:ext cx="10468080" cy="188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4"/>
          <a:stretch/>
        </p:blipFill>
        <p:spPr>
          <a:xfrm>
            <a:off x="720720" y="3213000"/>
            <a:ext cx="1463760" cy="168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5"/>
          <a:stretch/>
        </p:blipFill>
        <p:spPr>
          <a:xfrm>
            <a:off x="2521080" y="2565360"/>
            <a:ext cx="1463400" cy="1682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6"/>
          <a:stretch/>
        </p:blipFill>
        <p:spPr>
          <a:xfrm>
            <a:off x="4165560" y="2970360"/>
            <a:ext cx="1463760" cy="1682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7"/>
          <a:stretch/>
        </p:blipFill>
        <p:spPr>
          <a:xfrm>
            <a:off x="5400720" y="2349360"/>
            <a:ext cx="1719360" cy="168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"/>
          <p:cNvPicPr/>
          <p:nvPr/>
        </p:nvPicPr>
        <p:blipFill>
          <a:blip r:embed="rId8"/>
          <a:stretch/>
        </p:blipFill>
        <p:spPr>
          <a:xfrm>
            <a:off x="7777080" y="2781360"/>
            <a:ext cx="1463760" cy="16826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0"/>
          <p:cNvSpPr/>
          <p:nvPr/>
        </p:nvSpPr>
        <p:spPr>
          <a:xfrm>
            <a:off x="1452960" y="1484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亮点回顾－我们的五大突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06:2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9:38:47Z</dcterms:modified>
  <cp:revision>18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