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AC75-1849-42CB-A9BA-D98F6B148C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2F1F-69DA-4AD8-A8FD-A90F59E4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7D07-BA3D-4D31-AA57-F8E914F9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F932-517B-40EC-966F-3845D4AD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5247-1F4D-4733-9A34-66F71763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55280" y="404640"/>
            <a:ext cx="777708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B279-EA5D-45B6-BD25-F28FCFA0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2537-0E6D-4B60-88FA-6277EFF9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E4AA-9F60-4B76-855C-3E195317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79EF-AD67-4096-B3F7-EF570613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0F78-59A0-4BD5-99D7-EE0B9F4D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C042-6FFC-422E-920A-AD467AF1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8654-7972-47E7-AE10-BA8FDAFF24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55280" y="404640"/>
            <a:ext cx="777708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894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3779640" y="6347880"/>
            <a:ext cx="1834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91D3-A961-4951-9EB7-5B6F624E5C9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zhongguofeng/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55640" y="2565360"/>
            <a:ext cx="60433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中国风新年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模板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0" name="Picture 7" descr="未标题-1"/>
          <p:cNvPicPr/>
          <p:nvPr/>
        </p:nvPicPr>
        <p:blipFill>
          <a:blip r:embed="rId2"/>
          <a:stretch/>
        </p:blipFill>
        <p:spPr>
          <a:xfrm>
            <a:off x="6004080" y="260280"/>
            <a:ext cx="2595240" cy="1567080"/>
          </a:xfrm>
          <a:prstGeom prst="rect">
            <a:avLst/>
          </a:prstGeom>
          <a:ln w="0">
            <a:noFill/>
          </a:ln>
        </p:spPr>
      </p:pic>
      <p:sp>
        <p:nvSpPr>
          <p:cNvPr id="81" name="矩形 6"/>
          <p:cNvSpPr/>
          <p:nvPr/>
        </p:nvSpPr>
        <p:spPr>
          <a:xfrm>
            <a:off x="108000" y="25560"/>
            <a:ext cx="7189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6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1557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Arial Black"/>
              </a:rPr>
              <a:t>幸福吉祥年</a:t>
            </a:r>
            <a:endParaRPr b="1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FF3F-7664-47CF-93EE-6E5CD9D9EE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10920" y="2997000"/>
            <a:ext cx="6045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MV Boli"/>
                <a:ea typeface="华文隶书"/>
              </a:rPr>
              <a:t>Happy New Year</a:t>
            </a:r>
            <a:br>
              <a:rPr sz="4300"/>
            </a:br>
            <a:r>
              <a:rPr b="1" lang="en-US" sz="4300" spc="-1" strike="noStrike">
                <a:solidFill>
                  <a:srgbClr val="ffffff"/>
                </a:solidFill>
                <a:latin typeface="MV Boli"/>
                <a:ea typeface="华文隶书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V Boli"/>
                <a:ea typeface="华文隶书"/>
              </a:rPr>
              <a:t>O(∩_∩)O~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0" name="Picture 7" descr="未标题-1"/>
          <p:cNvPicPr/>
          <p:nvPr/>
        </p:nvPicPr>
        <p:blipFill>
          <a:blip r:embed="rId2"/>
          <a:stretch/>
        </p:blipFill>
        <p:spPr>
          <a:xfrm>
            <a:off x="6443640" y="189000"/>
            <a:ext cx="2595600" cy="1566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44720" y="645336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14:28:0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11:27:17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