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458-4A0E-4759-8A8A-0CAB5DCD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F21-9C12-4024-867B-7A7A7D5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9E3-79AB-473B-8EBE-8948A744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D9A-581A-42A9-AFF8-631F4CFF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8E3-EE2F-49AD-98C5-4110D4CB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973-F36F-4A57-B39F-1D315AC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206-97DB-4967-A76F-6EB0758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13E-CB23-4BA0-B17F-9ED7B25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171-647A-4D50-B8B7-AD7052F9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DBE-5AC0-4E80-B7E1-926C511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C6B-4E72-4634-8CBE-C4F755C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684-ABF5-4B56-B43F-A007377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0260-3871-422B-8918-06EB1194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50640" y="476280"/>
            <a:ext cx="324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《中国石拱桥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74200" y="1052640"/>
            <a:ext cx="75265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赵州桥卢沟桥除了一个是独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是联拱的特点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们各自还有其他特点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合作完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283356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在说明中国石拱桥的这些特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一个例子不是更简练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举两个例子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合作完 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59280" y="234936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琥珀"/>
              </a:rPr>
              <a:t>再 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work4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Bird06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igh_brid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23749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检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406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确读出下列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洨河　　　匀称　　 张鷟　　　　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弧形　　　拱桥 　  和谐        饮   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桥墩      郦道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86080" y="2887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á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03640" y="28875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hè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45200" y="28875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zhu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740720" y="2887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à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482840" y="396864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 hú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191040" y="39686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gǒ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243400" y="3968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x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812000" y="39686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jià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476360" y="497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ū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587760" y="50482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774036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色的超出一般水平的作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武雄壮的姿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非常灵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一 无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什么可以相比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得适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匀称而协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重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给以很高的评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伟美丽而罕见的景象或出奇少有的事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5999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解释写出相应词语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476040" y="16477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杰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60040" y="2151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雄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67160" y="3159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巧妙绝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899680" y="359244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547680" y="4240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推崇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010600" y="51753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8360" y="957240"/>
            <a:ext cx="5565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答问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7705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中举了赵州桥、卢沟桥两个例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中国石拱桥有的象赵州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象卢沟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这两种形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说对不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11120" y="4365720"/>
            <a:ext cx="8136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文中单举赵州桥、卢沟桥这两个例子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26920" y="1484280"/>
            <a:ext cx="72010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石拱桥具有历史悠久、形式优美、结构坚固的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中国石拱桥的共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然是共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州桥、卢沟桥都应该体现出这些特征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根据课文内容具体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看赵州桥卢沟桥是不是体现了这些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566100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C44-6E80-402A-AFBD-34409936E2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7:20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4:29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