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28B2-2FE3-4A5D-BCDF-2817D993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3DE-65B1-4019-B122-67A34603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359-8454-4635-A52F-489628AB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036-1894-4129-85D5-DE36A434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D596-6A8E-4D22-941E-B02ED108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EF87-2042-4354-A7DF-A84BBBDC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7C79-605A-4C7E-AFC2-E38BA052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1FBC-F1B8-48F8-8F18-91FFE673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CF9F-BDB6-48DD-90CB-C84255A4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FF6A-BEE0-4D59-B6C1-2539BDA4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AE0A-D605-41D9-A23A-1FCB17BE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115-7486-491A-8456-C3AC9478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14E2-DD7F-4451-96FE-771E36F8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2141-4705-4E1A-8D7C-3C7C2F89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C5C8-3654-4890-A187-2271827A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4F65-F6E1-4F27-967F-353982B9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6FAF-AFE2-4377-80A9-8A0F7A6D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572-F36F-4D06-A43B-C13AEE7D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D43-7F90-4A2A-AFD9-10F3152B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CB2-905E-438B-B5D9-A8AE209D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E88-6E14-4C9D-9FA9-1E4C7649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64A-78D8-4D55-87FE-18D2FC1F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11E-B4D3-4F07-8E1D-BF4A6285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BAC-FA04-48B2-B3D5-E90B433F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C517-C9EB-4CA2-BBF9-253A5BBFF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4DBE-A083-42DA-9693-1F9D4CBC7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jpe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380880" y="617220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3"/>
          <p:cNvPicPr/>
          <p:nvPr/>
        </p:nvPicPr>
        <p:blipFill>
          <a:blip r:embed="rId17"/>
          <a:stretch/>
        </p:blipFill>
        <p:spPr>
          <a:xfrm>
            <a:off x="76320" y="-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WordArt 6" descr=""/>
          <p:cNvPicPr/>
          <p:nvPr/>
        </p:nvPicPr>
        <p:blipFill>
          <a:blip r:embed="rId18"/>
          <a:stretch/>
        </p:blipFill>
        <p:spPr>
          <a:xfrm>
            <a:off x="365040" y="324000"/>
            <a:ext cx="5370480" cy="1407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8960" y="2362320"/>
            <a:ext cx="309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中华少年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3160" y="4419360"/>
            <a:ext cx="6476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春天的故事”响彻大江南北，中华啊！展开了崭新的画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19320" y="5715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这句诗写到了什么历史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048120" y="236232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啊！是七月的星火，南湖的航船，让东方雄狮从噩梦中奋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762120" y="3505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本句涉及到的是哪一次重要的历史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8"/>
          <p:cNvSpPr txBox="1"/>
          <p:nvPr/>
        </p:nvSpPr>
        <p:spPr>
          <a:xfrm>
            <a:off x="3809880" y="12952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66000"/>
                    </a:srgbClr>
                  </a:outerShdw>
                </a:effectLst>
                <a:latin typeface="宋体"/>
              </a:rPr>
              <a:t>你知道吗？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6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1" name="Picture 10" descr="md_78019919310780491-fm"/>
          <p:cNvPicPr/>
          <p:nvPr/>
        </p:nvPicPr>
        <p:blipFill>
          <a:blip r:embed="rId2"/>
          <a:stretch/>
        </p:blipFill>
        <p:spPr>
          <a:xfrm>
            <a:off x="6858000" y="4191120"/>
            <a:ext cx="19051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13"/>
          <p:cNvGrpSpPr/>
          <p:nvPr/>
        </p:nvGrpSpPr>
        <p:grpSpPr>
          <a:xfrm>
            <a:off x="457200" y="1219320"/>
            <a:ext cx="2286000" cy="1981080"/>
            <a:chOff x="457200" y="1219320"/>
            <a:chExt cx="2286000" cy="1981080"/>
          </a:xfrm>
        </p:grpSpPr>
        <p:pic>
          <p:nvPicPr>
            <p:cNvPr id="143" name="Picture 11" descr="W020060627364365839229"/>
            <p:cNvPicPr/>
            <p:nvPr/>
          </p:nvPicPr>
          <p:blipFill>
            <a:blip r:embed="rId3"/>
            <a:stretch/>
          </p:blipFill>
          <p:spPr>
            <a:xfrm>
              <a:off x="457200" y="1219320"/>
              <a:ext cx="22860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WordArt 12"/>
            <p:cNvSpPr txBox="1"/>
            <p:nvPr/>
          </p:nvSpPr>
          <p:spPr>
            <a:xfrm>
              <a:off x="803160" y="2613240"/>
              <a:ext cx="1697040" cy="43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3300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黑体"/>
                </a:rPr>
                <a:t>中共一大</a:t>
              </a:r>
              <a:endParaRPr b="1" lang="en-US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00400" y="54860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中华少年的誓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047760"/>
            <a:ext cx="5943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华文仿宋"/>
                <a:ea typeface="华文仿宋"/>
              </a:rPr>
              <a:t>          </a:t>
            </a:r>
            <a:r>
              <a:rPr b="1" lang="zh-CN" sz="2400" spc="-1" strike="noStrike">
                <a:solidFill>
                  <a:srgbClr val="ff33cc"/>
                </a:solidFill>
                <a:latin typeface="华文仿宋"/>
                <a:ea typeface="华文仿宋"/>
              </a:rPr>
              <a:t>这是中华少年的铿锵誓言，表达了中华少年建设中华的坚强决心。这组排比句和前面四个“不”字句形成鲜明对比，再加上押“</a:t>
            </a:r>
            <a:r>
              <a:rPr b="1" lang="en-US" sz="2400" spc="-1" strike="noStrike">
                <a:solidFill>
                  <a:srgbClr val="ff33cc"/>
                </a:solidFill>
                <a:latin typeface="华文仿宋"/>
                <a:ea typeface="华文仿宋"/>
              </a:rPr>
              <a:t>an”</a:t>
            </a:r>
            <a:r>
              <a:rPr b="1" lang="zh-CN" sz="2400" spc="-1" strike="noStrike">
                <a:solidFill>
                  <a:srgbClr val="ff33cc"/>
                </a:solidFill>
                <a:latin typeface="华文仿宋"/>
                <a:ea typeface="华文仿宋"/>
              </a:rPr>
              <a:t>字韵，读起来琅琅上口，一气呵成，中华少年的爱国之心、自豪之情尽情流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324480" y="1219320"/>
            <a:ext cx="2362320" cy="70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第</a:t>
            </a:r>
            <a:r>
              <a:rPr b="0" lang="en-US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6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、</a:t>
            </a:r>
            <a:r>
              <a:rPr b="0" lang="en-US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7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3423"/>
          <p:cNvPicPr/>
          <p:nvPr/>
        </p:nvPicPr>
        <p:blipFill>
          <a:blip r:embed="rId2"/>
          <a:stretch/>
        </p:blipFill>
        <p:spPr>
          <a:xfrm rot="5400000">
            <a:off x="7124040" y="331452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001aa"/>
          <p:cNvPicPr/>
          <p:nvPr/>
        </p:nvPicPr>
        <p:blipFill>
          <a:blip r:embed="rId3"/>
          <a:stretch/>
        </p:blipFill>
        <p:spPr>
          <a:xfrm>
            <a:off x="7848720" y="541008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1219320" y="14479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要做旗舰去长风破浪，要做火箭去推动飞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要像利剑把贫穷斩断，要用爱心把世界相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948-61DE-4437-9F55-5147BAF05F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152388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第</a:t>
            </a:r>
            <a:r>
              <a:rPr b="0" lang="en-US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8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99840" y="243828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整首诗表达了什么样的思想感情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诗人以新时代中华少年的视角热情赞美了祖国，抒发了作为中华少年的由衷的自豪感，同时也表达了中华少年建设中华的坚强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276720" y="13716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总结全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001a"/>
          <p:cNvPicPr/>
          <p:nvPr/>
        </p:nvPicPr>
        <p:blipFill>
          <a:blip r:embed="rId2"/>
          <a:stretch/>
        </p:blipFill>
        <p:spPr>
          <a:xfrm>
            <a:off x="7620120" y="5029200"/>
            <a:ext cx="1218960" cy="88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58672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pic_270700"/>
          <p:cNvPicPr/>
          <p:nvPr/>
        </p:nvPicPr>
        <p:blipFill>
          <a:blip r:embed="rId2"/>
          <a:stretch/>
        </p:blipFill>
        <p:spPr>
          <a:xfrm>
            <a:off x="304920" y="1066680"/>
            <a:ext cx="8534160" cy="539748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9"/>
          <p:cNvSpPr/>
          <p:nvPr/>
        </p:nvSpPr>
        <p:spPr>
          <a:xfrm flipH="1">
            <a:off x="609480" y="4419720"/>
            <a:ext cx="3353040" cy="20574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14400" y="4723920"/>
            <a:ext cx="2743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甲：藏族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乙：高山族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丙：蒙古族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丁：汉族的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14"/>
          <p:cNvSpPr txBox="1"/>
          <p:nvPr/>
        </p:nvSpPr>
        <p:spPr>
          <a:xfrm>
            <a:off x="5181480" y="114300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表演朗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64" name=""/>
          <p:cNvSpPr/>
          <p:nvPr/>
        </p:nvSpPr>
        <p:spPr>
          <a:xfrm>
            <a:off x="1106640" y="649908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38480" y="21333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中宋"/>
              </a:rPr>
              <a:t>课前准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365760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预习课文，找一找，你可以从诗中找出哪些有所了解的景物、人物和事件？搜集相关的资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1"/>
          <p:cNvGrpSpPr/>
          <p:nvPr/>
        </p:nvGrpSpPr>
        <p:grpSpPr>
          <a:xfrm>
            <a:off x="380880" y="1219320"/>
            <a:ext cx="2895480" cy="5104800"/>
            <a:chOff x="380880" y="1219320"/>
            <a:chExt cx="2895480" cy="5104800"/>
          </a:xfrm>
        </p:grpSpPr>
        <p:pic>
          <p:nvPicPr>
            <p:cNvPr id="90" name="Picture 9" descr="810292"/>
            <p:cNvPicPr/>
            <p:nvPr/>
          </p:nvPicPr>
          <p:blipFill>
            <a:blip r:embed="rId2"/>
            <a:stretch/>
          </p:blipFill>
          <p:spPr>
            <a:xfrm>
              <a:off x="609480" y="4571640"/>
              <a:ext cx="24382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" descr="fenqiao"/>
            <p:cNvPicPr/>
            <p:nvPr/>
          </p:nvPicPr>
          <p:blipFill>
            <a:blip r:embed="rId3"/>
            <a:stretch/>
          </p:blipFill>
          <p:spPr>
            <a:xfrm>
              <a:off x="1066680" y="1219320"/>
              <a:ext cx="2209680" cy="18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7" descr="无标题115"/>
            <p:cNvPicPr/>
            <p:nvPr/>
          </p:nvPicPr>
          <p:blipFill>
            <a:blip r:embed="rId4"/>
            <a:stretch/>
          </p:blipFill>
          <p:spPr>
            <a:xfrm>
              <a:off x="380880" y="2666880"/>
              <a:ext cx="2133720" cy="190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200653016619615"/>
          <p:cNvPicPr/>
          <p:nvPr/>
        </p:nvPicPr>
        <p:blipFill>
          <a:blip r:embed="rId2"/>
          <a:stretch/>
        </p:blipFill>
        <p:spPr>
          <a:xfrm>
            <a:off x="304920" y="1066680"/>
            <a:ext cx="8534160" cy="537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带有生字、新词的句子请多读几遍。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华文仿宋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、划出你觉得最难读好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666880" y="205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514600" y="16002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自由朗读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b49"/>
          <p:cNvPicPr/>
          <p:nvPr/>
        </p:nvPicPr>
        <p:blipFill>
          <a:blip r:embed="rId2"/>
          <a:stretch/>
        </p:blipFill>
        <p:spPr>
          <a:xfrm>
            <a:off x="304920" y="1066680"/>
            <a:ext cx="8534160" cy="5410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莽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立地顶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蹒跚学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强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阳关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艳阳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8120" y="17524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形容原野辽阔，无边无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48120" y="24382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也作“顶天立地”，形容形象高大，气概雄伟豪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048120" y="35053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学走路时摇摆不稳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48120" y="41148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强壮勇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048120" y="46483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比喻有光明前途的道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048120" y="52578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指明媚的春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Gif0405_071"/>
          <p:cNvPicPr/>
          <p:nvPr/>
        </p:nvPicPr>
        <p:blipFill>
          <a:blip r:embed="rId3"/>
          <a:stretch/>
        </p:blipFill>
        <p:spPr>
          <a:xfrm>
            <a:off x="7086600" y="5410080"/>
            <a:ext cx="1790640" cy="104796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2"/>
          <p:cNvSpPr txBox="1"/>
          <p:nvPr/>
        </p:nvSpPr>
        <p:spPr>
          <a:xfrm>
            <a:off x="990720" y="1143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新魏"/>
              </a:rPr>
              <a:t>积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4579"/>
          <p:cNvPicPr/>
          <p:nvPr/>
        </p:nvPicPr>
        <p:blipFill>
          <a:blip r:embed="rId2"/>
          <a:stretch/>
        </p:blipFill>
        <p:spPr>
          <a:xfrm>
            <a:off x="304920" y="1066680"/>
            <a:ext cx="8534160" cy="5410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6920" y="41907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分角色朗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全班同学分成四个大组，分别承担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甲、乙、丙、丁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四个角色，一齐分角色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66520" y="16002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中宋"/>
              </a:rPr>
              <a:t>划分结构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30481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（一）总起全诗：我们都是中华少年。（第</a:t>
            </a:r>
            <a:r>
              <a:rPr b="1" lang="en-US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（二）写祖国锦绣河山哺育了中华少年，悠久的文化滋润了中华少年，特有的民族传统风俗滋养了中华少年。（第</a:t>
            </a:r>
            <a:r>
              <a:rPr b="1" lang="en-US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、</a:t>
            </a:r>
            <a:r>
              <a:rPr b="1" lang="en-US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、</a:t>
            </a:r>
            <a:r>
              <a:rPr b="1" lang="en-US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（三）回顾中华母亲的艰难历程。（第</a:t>
            </a:r>
            <a:r>
              <a:rPr b="1" lang="en-US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（四）写中华少年的誓言。（第</a:t>
            </a:r>
            <a:r>
              <a:rPr b="1" lang="en-US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、</a:t>
            </a:r>
            <a:r>
              <a:rPr b="1" lang="en-US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7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（五）总结全诗。（第</a:t>
            </a:r>
            <a:r>
              <a:rPr b="1" lang="en-US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Small_2005415165251"/>
          <p:cNvPicPr/>
          <p:nvPr/>
        </p:nvPicPr>
        <p:blipFill>
          <a:blip r:embed="rId2"/>
          <a:stretch/>
        </p:blipFill>
        <p:spPr>
          <a:xfrm>
            <a:off x="457200" y="1219320"/>
            <a:ext cx="1752480" cy="1552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1905120" cy="838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第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这一节诗中出现了哪些事物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原──雪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宝岛──乳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草原──雏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黄土坡──山丹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透过这些词语，你分别可以联想到什么？把四组词语联系起来想一想，你又可以想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华少年的化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200400" y="1295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我们都是中华少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0"/>
          <p:cNvGrpSpPr/>
          <p:nvPr/>
        </p:nvGrpSpPr>
        <p:grpSpPr>
          <a:xfrm>
            <a:off x="762120" y="5334120"/>
            <a:ext cx="7543800" cy="1009440"/>
            <a:chOff x="762120" y="5334120"/>
            <a:chExt cx="7543800" cy="1009440"/>
          </a:xfrm>
        </p:grpSpPr>
        <p:pic>
          <p:nvPicPr>
            <p:cNvPr id="118" name="Picture 9" descr="893950"/>
            <p:cNvPicPr/>
            <p:nvPr/>
          </p:nvPicPr>
          <p:blipFill>
            <a:blip r:embed="rId2"/>
            <a:stretch/>
          </p:blipFill>
          <p:spPr>
            <a:xfrm>
              <a:off x="6553440" y="5334120"/>
              <a:ext cx="175248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5" descr="032"/>
            <p:cNvPicPr/>
            <p:nvPr/>
          </p:nvPicPr>
          <p:blipFill>
            <a:blip r:embed="rId3"/>
            <a:stretch/>
          </p:blipFill>
          <p:spPr>
            <a:xfrm>
              <a:off x="4572000" y="5334120"/>
              <a:ext cx="18288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6" descr="34790"/>
            <p:cNvPicPr/>
            <p:nvPr/>
          </p:nvPicPr>
          <p:blipFill>
            <a:blip r:embed="rId4"/>
            <a:stretch/>
          </p:blipFill>
          <p:spPr>
            <a:xfrm>
              <a:off x="2667240" y="5334120"/>
              <a:ext cx="17524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8" descr="无标题111"/>
            <p:cNvPicPr/>
            <p:nvPr/>
          </p:nvPicPr>
          <p:blipFill>
            <a:blip r:embed="rId5"/>
            <a:stretch/>
          </p:blipFill>
          <p:spPr>
            <a:xfrm>
              <a:off x="762120" y="5334120"/>
              <a:ext cx="1752480" cy="99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5562720"/>
            <a:ext cx="350532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第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在这三节诗中，出现了哪些你熟悉的人和事物呢？请给大家简要介绍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914400" y="3200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锦绣河山、悠久历史、民族传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457200" y="1219320"/>
            <a:ext cx="8153280" cy="1676160"/>
            <a:chOff x="457200" y="1219320"/>
            <a:chExt cx="8153280" cy="1676160"/>
          </a:xfrm>
        </p:grpSpPr>
        <p:pic>
          <p:nvPicPr>
            <p:cNvPr id="126" name="Picture 5" descr="kehuicms31093158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182880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7200065056"/>
            <p:cNvPicPr/>
            <p:nvPr/>
          </p:nvPicPr>
          <p:blipFill>
            <a:blip r:embed="rId3"/>
            <a:stretch/>
          </p:blipFill>
          <p:spPr>
            <a:xfrm>
              <a:off x="2438280" y="1219320"/>
              <a:ext cx="182880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7" descr="06128x128b051124086"/>
            <p:cNvPicPr/>
            <p:nvPr/>
          </p:nvPicPr>
          <p:blipFill>
            <a:blip r:embed="rId4"/>
            <a:stretch/>
          </p:blipFill>
          <p:spPr>
            <a:xfrm>
              <a:off x="4419720" y="1219320"/>
              <a:ext cx="198108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8" descr="ab1"/>
            <p:cNvPicPr/>
            <p:nvPr/>
          </p:nvPicPr>
          <p:blipFill>
            <a:blip r:embed="rId5"/>
            <a:stretch/>
          </p:blipFill>
          <p:spPr>
            <a:xfrm>
              <a:off x="6553080" y="1219320"/>
              <a:ext cx="2057400" cy="167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175248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第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514600" y="1905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民族艰难历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971800" y="4876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细读这两句，展开想象，把你“看到”的场景写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990720" y="2895480"/>
            <a:ext cx="563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黄河的纤夫拉不直问号般的身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长城的古砖挡不住洋炮的弹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Img226284761"/>
          <p:cNvPicPr/>
          <p:nvPr/>
        </p:nvPicPr>
        <p:blipFill>
          <a:blip r:embed="rId2"/>
          <a:stretch/>
        </p:blipFill>
        <p:spPr>
          <a:xfrm>
            <a:off x="457200" y="4572000"/>
            <a:ext cx="2133720" cy="1714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73305"/>
          <p:cNvPicPr/>
          <p:nvPr/>
        </p:nvPicPr>
        <p:blipFill>
          <a:blip r:embed="rId3"/>
          <a:stretch/>
        </p:blipFill>
        <p:spPr>
          <a:xfrm>
            <a:off x="6705720" y="1219320"/>
            <a:ext cx="1981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0T06:38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22:16Z</dcterms:modified>
  <cp:revision>2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