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77E-DB86-4580-8763-D6BD6B1F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958-6473-4484-8021-81C39559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28D2-F855-4313-BED4-8AE34FC1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4CC-EAE0-4A86-AD63-8619BC35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978-0017-4008-A6E4-26FDAA4D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566-B21A-4A6E-A4E1-85098EFF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F363-0EF8-4F3F-85C2-D4228E8A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908-8237-4318-8837-41AC3757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5AD-8A40-4820-A995-0E1E0B7F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DC9-E807-4AC2-9114-779021F9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3CF-F28F-499E-849A-D814FD25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A526-38CA-4302-BC36-5271895F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11F1-D5E2-4B66-84A1-CA7233EBC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7"/>
          <a:stretch/>
        </p:blipFill>
        <p:spPr>
          <a:xfrm>
            <a:off x="0" y="-4680"/>
            <a:ext cx="9396360" cy="686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70320" y="22050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坐井观天优质课件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2"/>
          <p:cNvSpPr/>
          <p:nvPr/>
        </p:nvSpPr>
        <p:spPr>
          <a:xfrm>
            <a:off x="250920" y="112536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沿    际     错     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179280" y="378936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信    抬      蛙      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1042920" y="83664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天不过井口那么大，还用飞那么远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826920" y="2924280"/>
            <a:ext cx="792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天只有井口那么大，不用飞那么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7B19-562F-41AD-8CE3-EF48D0638B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55640" y="105264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你们长这么大了，还用妈妈喂饭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19256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71640" y="306864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长那么大了，不用妈妈喂饭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1042920" y="2276640"/>
            <a:ext cx="73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沿   际   错    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116000" y="465300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信   抬   蛙    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934920" y="1341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Yán    jì     cuò     huá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332000" y="3645000"/>
            <a:ext cx="61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Xīn  tái    wā     d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539640" y="162864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、青蛙认为天有多大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763640" y="263700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井口那么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95280" y="3789360"/>
            <a:ext cx="68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小鸟它眼中的天是什么样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979640" y="522936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无边无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28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561080" cy="4314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29"/>
          <p:cNvSpPr/>
          <p:nvPr/>
        </p:nvSpPr>
        <p:spPr>
          <a:xfrm>
            <a:off x="2124000" y="1557360"/>
            <a:ext cx="482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j</a:t>
            </a: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ǐ</a:t>
            </a:r>
            <a:r>
              <a:rPr b="0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ng </a:t>
            </a:r>
            <a:r>
              <a:rPr b="0" lang="en-US" sz="8000" spc="-1" strike="noStrike">
                <a:solidFill>
                  <a:srgbClr val="ff3300"/>
                </a:solidFill>
                <a:latin typeface="黑体"/>
                <a:ea typeface="黑体"/>
              </a:rPr>
              <a:t>y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  <a:ea typeface="黑体"/>
              </a:rPr>
              <a:t>á</a:t>
            </a:r>
            <a:r>
              <a:rPr b="0" lang="en-US" sz="8000" spc="-1" strike="noStrike">
                <a:solidFill>
                  <a:srgbClr val="ff3300"/>
                </a:solidFill>
                <a:latin typeface="黑体"/>
                <a:ea typeface="黑体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30"/>
          <p:cNvSpPr/>
          <p:nvPr/>
        </p:nvSpPr>
        <p:spPr>
          <a:xfrm>
            <a:off x="2700360" y="314172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井  </a:t>
            </a:r>
            <a:r>
              <a:rPr b="1" lang="zh-CN" sz="8000" spc="-1" strike="noStrike">
                <a:solidFill>
                  <a:srgbClr val="ff3300"/>
                </a:solidFill>
                <a:latin typeface="Arial"/>
              </a:rPr>
              <a:t>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561080" cy="4314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268360" y="1557360"/>
            <a:ext cx="48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xiāng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xì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987640" y="2781360"/>
            <a:ext cx="30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相  </a:t>
            </a:r>
            <a:r>
              <a:rPr b="1" lang="zh-CN" sz="8000" spc="-1" strike="noStrike">
                <a:solidFill>
                  <a:srgbClr val="ff3300"/>
                </a:solidFill>
                <a:latin typeface="Arial"/>
              </a:rPr>
              <a:t>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561080" cy="4314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484360" y="177336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tái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tó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56000" y="3141720"/>
            <a:ext cx="36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</a:rPr>
              <a:t>抬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4705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692360" y="1700280"/>
            <a:ext cx="61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W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黑体"/>
              </a:rPr>
              <a:t>ú</a:t>
            </a: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 biān w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黑体"/>
              </a:rPr>
              <a:t>ú</a:t>
            </a: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7200" spc="-1" strike="noStrike">
                <a:solidFill>
                  <a:srgbClr val="ff3300"/>
                </a:solidFill>
                <a:latin typeface="黑体"/>
                <a:ea typeface="黑体"/>
              </a:rPr>
              <a:t>j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  <a:ea typeface="黑体"/>
              </a:rPr>
              <a:t>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124000" y="299736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无 边 无 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7561080" cy="4314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484360" y="1628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qīng 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w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03640" y="2708280"/>
            <a:ext cx="38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青  </a:t>
            </a:r>
            <a:r>
              <a:rPr b="1" lang="zh-CN" sz="8000" spc="-1" strike="noStrike">
                <a:solidFill>
                  <a:srgbClr val="ff3300"/>
                </a:solidFill>
                <a:latin typeface="Arial"/>
              </a:rPr>
              <a:t>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7561080" cy="4314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2195640" y="184464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cuò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w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556000" y="3141720"/>
            <a:ext cx="35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</a:rPr>
              <a:t>错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561080" cy="4314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843280" y="328464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回 </a:t>
            </a:r>
            <a:r>
              <a:rPr b="1" lang="zh-CN" sz="8000" spc="-1" strike="noStrike">
                <a:solidFill>
                  <a:srgbClr val="ff3300"/>
                </a:solidFill>
                <a:latin typeface="Arial"/>
              </a:rPr>
              <a:t>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700360" y="1916280"/>
            <a:ext cx="38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huí 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d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561080" cy="43146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2340000" y="162864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Huái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yǒ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3132000" y="2997360"/>
            <a:ext cx="367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</a:rPr>
              <a:t>还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3:45:2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34:38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