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20.gif" ContentType="image/gif"/>
  <Override PartName="/ppt/media/image17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4.jpeg" ContentType="image/jpeg"/>
  <Override PartName="/ppt/media/image2.png" ContentType="image/png"/>
  <Override PartName="/ppt/media/image14.png" ContentType="image/png"/>
  <Override PartName="/ppt/media/image3.png" ContentType="image/png"/>
  <Override PartName="/ppt/media/image5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1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EA0-2027-47AD-B447-1BF1C14F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E25-DB18-4A30-92B5-3D49D381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DFF-38BE-4958-98B9-5D7D83D3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3EC-EA17-470B-9CBB-16B185FA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041-41E6-4960-9554-39393317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634-BF59-4F33-8DE1-7FBEA1A0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7B3-8FFB-4741-976A-D8F3BF17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860-9561-4270-BE63-400C2372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B98-BABA-4B59-97A0-CD191C39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FA8-4651-4C76-857B-2DB4DD23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435-A441-4508-A1EA-2DA0FD19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9C8-4309-4312-AD72-0F84CED9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F33E-1813-40C3-91BC-BCCF28E02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4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2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封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"/>
          <p:cNvPicPr/>
          <p:nvPr/>
        </p:nvPicPr>
        <p:blipFill>
          <a:blip r:embed="rId2"/>
          <a:stretch/>
        </p:blipFill>
        <p:spPr>
          <a:xfrm>
            <a:off x="1371600" y="5334120"/>
            <a:ext cx="952560" cy="105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1"/>
          <p:cNvPicPr/>
          <p:nvPr/>
        </p:nvPicPr>
        <p:blipFill>
          <a:blip r:embed="rId3"/>
          <a:stretch/>
        </p:blipFill>
        <p:spPr>
          <a:xfrm>
            <a:off x="7620120" y="304920"/>
            <a:ext cx="1117440" cy="495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83600" y="1557360"/>
            <a:ext cx="35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《装满昆虫的口袋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课件模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D:\My Documents\课件\装满\封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D:\素材库1\形象卡通\OT_0934.JPG"/>
          <p:cNvPicPr/>
          <p:nvPr/>
        </p:nvPicPr>
        <p:blipFill>
          <a:blip r:embed="rId2"/>
          <a:stretch/>
        </p:blipFill>
        <p:spPr>
          <a:xfrm>
            <a:off x="7964640" y="5902200"/>
            <a:ext cx="1179360" cy="955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762120" y="457200"/>
            <a:ext cx="784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每到早晨，法布尔把鸭子赶进池塘后，就一动不动地趴在岸边，静静地观察奇妙的生物世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629240" y="1371600"/>
            <a:ext cx="688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一动不动地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071000" y="2286000"/>
            <a:ext cx="1095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静静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3053160" y="3733920"/>
            <a:ext cx="312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每到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……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就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840240" y="4876920"/>
            <a:ext cx="74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每到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什 么 时 候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谁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就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怎 么 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D:\My Documents\课件\装满\封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533520" y="1295280"/>
            <a:ext cx="7383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他小心翼翼地把甲虫拾起来，放进一个蜗牛壳里，打算回家再好好欣赏这珍珠一般的“宝贝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468520" y="1219320"/>
            <a:ext cx="1400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心翼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223880" y="3352680"/>
            <a:ext cx="19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珍珠一般的“宝贝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D:\My Documents\My Pictures\bees.gif"/>
          <p:cNvPicPr/>
          <p:nvPr/>
        </p:nvPicPr>
        <p:blipFill>
          <a:blip r:embed="rId2"/>
          <a:stretch/>
        </p:blipFill>
        <p:spPr>
          <a:xfrm>
            <a:off x="8077320" y="6383160"/>
            <a:ext cx="838080" cy="474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D:\素材库1\形象卡通\OT_0934.JPG"/>
          <p:cNvPicPr/>
          <p:nvPr/>
        </p:nvPicPr>
        <p:blipFill>
          <a:blip r:embed="rId3"/>
          <a:stretch/>
        </p:blipFill>
        <p:spPr>
          <a:xfrm>
            <a:off x="0" y="5902200"/>
            <a:ext cx="11793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D:\My Documents\课件\装满\封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D:\My Documents\My Pictures\xin\yi.jpg"/>
          <p:cNvPicPr/>
          <p:nvPr/>
        </p:nvPicPr>
        <p:blipFill>
          <a:blip r:embed="rId2"/>
          <a:stretch/>
        </p:blipFill>
        <p:spPr>
          <a:xfrm>
            <a:off x="838080" y="0"/>
            <a:ext cx="571500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533520" y="228600"/>
            <a:ext cx="36576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533520" y="20574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2209680" y="2286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4952880" y="289548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小心翼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3" descr="D:\素材库1\形象卡通\OT_0934.JPG"/>
          <p:cNvPicPr/>
          <p:nvPr/>
        </p:nvPicPr>
        <p:blipFill>
          <a:blip r:embed="rId3"/>
          <a:stretch/>
        </p:blipFill>
        <p:spPr>
          <a:xfrm>
            <a:off x="7964640" y="5902200"/>
            <a:ext cx="11793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D:\My Documents\课件\装满\封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533520" y="1447920"/>
            <a:ext cx="8076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夕阳快下山时，法布尔口袋里装着放甲虫的蜗牛壳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欢欢喜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地赶着鸭子回来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7" descr="D:\素材库1\形象卡通\OT_0934.JPG"/>
          <p:cNvPicPr/>
          <p:nvPr/>
        </p:nvPicPr>
        <p:blipFill>
          <a:blip r:embed="rId2"/>
          <a:stretch/>
        </p:blipFill>
        <p:spPr>
          <a:xfrm>
            <a:off x="7964640" y="5902200"/>
            <a:ext cx="1179360" cy="95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5373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D:\My Documents\课件\装满\封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D:\素材库1\形象卡通\OT_0934.JPG"/>
          <p:cNvPicPr/>
          <p:nvPr/>
        </p:nvPicPr>
        <p:blipFill>
          <a:blip r:embed="rId2"/>
          <a:stretch/>
        </p:blipFill>
        <p:spPr>
          <a:xfrm>
            <a:off x="7964640" y="5902200"/>
            <a:ext cx="1179360" cy="9558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762120" y="380880"/>
            <a:ext cx="7696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刚到家，爸爸就怒气冲冲地吼着：“我叫你去放鸭子，你倒好，只顾自己玩。老是捉虫子，不中毒才怪呢！快给我把这些无用的玩意儿扔了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745240" y="304920"/>
            <a:ext cx="1400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怒气冲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866160" y="1219320"/>
            <a:ext cx="48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D:\My Documents\课件\装满\封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304920" y="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的训斥没有驱散法布尔对昆虫的迷恋，强烈的兴趣已经种在他的心里。正是这种兴趣，把法布尔引进科学的殿堂，使他了解了昆虫的世界。难怪后人为了纪念法布尔，在为他建造的雕像上，两个衣袋全部做得高高鼓起，好像塞满了沉甸甸的昆虫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D:\素材库1\形象卡通\OT_0934.JPG"/>
          <p:cNvPicPr/>
          <p:nvPr/>
        </p:nvPicPr>
        <p:blipFill>
          <a:blip r:embed="rId2"/>
          <a:stretch/>
        </p:blipFill>
        <p:spPr>
          <a:xfrm>
            <a:off x="7964640" y="5902200"/>
            <a:ext cx="1179360" cy="955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6504840" y="762120"/>
            <a:ext cx="48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3456720" y="1523880"/>
            <a:ext cx="48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5"/>
          <p:cNvSpPr/>
          <p:nvPr/>
        </p:nvSpPr>
        <p:spPr>
          <a:xfrm>
            <a:off x="223920" y="24242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D:\My Documents\My Pictures\xin\kunchongshijie1.jpg"/>
          <p:cNvPicPr/>
          <p:nvPr/>
        </p:nvPicPr>
        <p:blipFill>
          <a:blip r:embed="rId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D:\My Documents\My Pictures\xin\zhizhu2.jpg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D:\My Documents\My Pictures\xin\昆虫世界5.jpg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3236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:\My Documents\My Pictures\xin\1220dc2160.jpg"/>
          <p:cNvPicPr/>
          <p:nvPr/>
        </p:nvPicPr>
        <p:blipFill>
          <a:blip r:embed="rId3"/>
          <a:stretch/>
        </p:blipFill>
        <p:spPr>
          <a:xfrm>
            <a:off x="4952880" y="3200400"/>
            <a:ext cx="4191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9AB-3C50-4604-9D34-CDFA0EF3CF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D:\My Documents\课件\装满\封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3"/>
          <p:cNvSpPr txBox="1"/>
          <p:nvPr/>
        </p:nvSpPr>
        <p:spPr>
          <a:xfrm>
            <a:off x="1295280" y="2286000"/>
            <a:ext cx="685800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0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宋体"/>
              </a:rPr>
              <a:t>装满昆虫的口袋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3333c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0" name="Picture 5" descr="D:\My Documents\课件\装满\c2.jpg"/>
          <p:cNvPicPr/>
          <p:nvPr/>
        </p:nvPicPr>
        <p:blipFill>
          <a:blip r:embed="rId2"/>
          <a:stretch/>
        </p:blipFill>
        <p:spPr>
          <a:xfrm>
            <a:off x="1371600" y="5334120"/>
            <a:ext cx="952560" cy="1054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D:\My Documents\课件\装满\c1.jpg"/>
          <p:cNvPicPr/>
          <p:nvPr/>
        </p:nvPicPr>
        <p:blipFill>
          <a:blip r:embed="rId3"/>
          <a:stretch/>
        </p:blipFill>
        <p:spPr>
          <a:xfrm>
            <a:off x="7620120" y="304920"/>
            <a:ext cx="11174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D:\My Documents\课件\装满\封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0" y="30492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法布尔八九岁时，因为家里贫穷，爸爸叫他去放鸭子。每到早晨，法布尔把鸭子赶进池塘后，就一动不动地趴在岸边，静静地观察奇妙的生物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在池塘的草丛里，法布尔发现了一只全身碧蓝、比樱桃核还要小一些的甲虫。他小心翼翼地把甲虫拾起来，放进一个蜗牛壳里，打算回家再好好欣赏这珍珠一般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宝贝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夕阳快下山时，法布尔口袋里装着放甲虫的蜗牛壳，欢欢喜喜地赶着鸭子回来了。刚到家，爸爸就怒气冲冲地吼着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我叫你去放鸭子，你倒好，只顾自己玩。老是捉虫子，不中毒才怪呢！快给我把这些无用的玩意儿扔了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" descr="D:\My Documents\课件\装满\c1.jpg"/>
          <p:cNvPicPr/>
          <p:nvPr/>
        </p:nvPicPr>
        <p:blipFill>
          <a:blip r:embed="rId2"/>
          <a:stretch/>
        </p:blipFill>
        <p:spPr>
          <a:xfrm>
            <a:off x="1981080" y="6362640"/>
            <a:ext cx="1117800" cy="49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D:\My Documents\课件\装满\c2.jpg"/>
          <p:cNvPicPr/>
          <p:nvPr/>
        </p:nvPicPr>
        <p:blipFill>
          <a:blip r:embed="rId3"/>
          <a:stretch/>
        </p:blipFill>
        <p:spPr>
          <a:xfrm>
            <a:off x="3733920" y="6019920"/>
            <a:ext cx="75708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D:\My Documents\课件\装满\c3.jpg"/>
          <p:cNvPicPr/>
          <p:nvPr/>
        </p:nvPicPr>
        <p:blipFill>
          <a:blip r:embed="rId4"/>
          <a:stretch/>
        </p:blipFill>
        <p:spPr>
          <a:xfrm>
            <a:off x="5105520" y="5848200"/>
            <a:ext cx="1092240" cy="1009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:\My Documents\课件\装满\c4.jpg"/>
          <p:cNvPicPr/>
          <p:nvPr/>
        </p:nvPicPr>
        <p:blipFill>
          <a:blip r:embed="rId5"/>
          <a:stretch/>
        </p:blipFill>
        <p:spPr>
          <a:xfrm>
            <a:off x="6705720" y="601992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D:\My Documents\课件\装满\c6.jpg"/>
          <p:cNvPicPr/>
          <p:nvPr/>
        </p:nvPicPr>
        <p:blipFill>
          <a:blip r:embed="rId6"/>
          <a:stretch/>
        </p:blipFill>
        <p:spPr>
          <a:xfrm>
            <a:off x="7924680" y="6095880"/>
            <a:ext cx="692280" cy="762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D:\素材库1\形象卡通\OT_0934.JPG"/>
          <p:cNvPicPr/>
          <p:nvPr/>
        </p:nvPicPr>
        <p:blipFill>
          <a:blip r:embed="rId7"/>
          <a:stretch/>
        </p:blipFill>
        <p:spPr>
          <a:xfrm>
            <a:off x="304920" y="5902200"/>
            <a:ext cx="11793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D:\My Documents\课件\装满\封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380880" y="1143000"/>
            <a:ext cx="8763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在池塘的草丛里，法布尔发现了一只全身碧蓝、比樱桃核还要小一些的甲虫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838080" y="4038480"/>
            <a:ext cx="7696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在池塘的草丛里，法布尔发现了一只甲虫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04920" y="22860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读一读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比一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6003360" y="2057400"/>
            <a:ext cx="688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比樱桃核还要小一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D:\My Documents\课件\装满\封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:\My Documents\My Pictures\xin\xieju2-1.jpg"/>
          <p:cNvPicPr/>
          <p:nvPr/>
        </p:nvPicPr>
        <p:blipFill>
          <a:blip r:embed="rId2"/>
          <a:stretch/>
        </p:blipFill>
        <p:spPr>
          <a:xfrm>
            <a:off x="0" y="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D:\My Documents\My Pictures\xin\xieju2.jpg"/>
          <p:cNvPicPr/>
          <p:nvPr/>
        </p:nvPicPr>
        <p:blipFill>
          <a:blip r:embed="rId3"/>
          <a:stretch/>
        </p:blipFill>
        <p:spPr>
          <a:xfrm>
            <a:off x="2209680" y="1295280"/>
            <a:ext cx="5245200" cy="1765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09480" y="41148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是一只              、              的蝗虫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6"/>
          <p:cNvSpPr/>
          <p:nvPr/>
        </p:nvSpPr>
        <p:spPr>
          <a:xfrm>
            <a:off x="2819520" y="4648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800600" y="4648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D:\My Documents\课件\装满\封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:\My Documents\My Pictures\jiachong1.gif"/>
          <p:cNvPicPr/>
          <p:nvPr/>
        </p:nvPicPr>
        <p:blipFill>
          <a:blip r:embed="rId2"/>
          <a:stretch/>
        </p:blipFill>
        <p:spPr>
          <a:xfrm>
            <a:off x="380880" y="304920"/>
            <a:ext cx="1932120" cy="1771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D:\My Documents\My Pictures\xin\xieju4zhizhu.gif"/>
          <p:cNvPicPr/>
          <p:nvPr/>
        </p:nvPicPr>
        <p:blipFill>
          <a:blip r:embed="rId3"/>
          <a:stretch/>
        </p:blipFill>
        <p:spPr>
          <a:xfrm>
            <a:off x="5181480" y="3886200"/>
            <a:ext cx="1943280" cy="171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D:\素材库1\形象卡通\OT_0934.JPG"/>
          <p:cNvPicPr/>
          <p:nvPr/>
        </p:nvPicPr>
        <p:blipFill>
          <a:blip r:embed="rId4"/>
          <a:stretch/>
        </p:blipFill>
        <p:spPr>
          <a:xfrm>
            <a:off x="7964640" y="5902200"/>
            <a:ext cx="1179360" cy="955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:\My Documents\My Pictures\xin\xieju5.jpg"/>
          <p:cNvPicPr/>
          <p:nvPr/>
        </p:nvPicPr>
        <p:blipFill>
          <a:blip r:embed="rId5"/>
          <a:stretch/>
        </p:blipFill>
        <p:spPr>
          <a:xfrm>
            <a:off x="6400800" y="533520"/>
            <a:ext cx="2743200" cy="2635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D:\My Documents\My Pictures\xin\甲虫.bmp"/>
          <p:cNvPicPr/>
          <p:nvPr/>
        </p:nvPicPr>
        <p:blipFill>
          <a:blip r:embed="rId6"/>
          <a:stretch/>
        </p:blipFill>
        <p:spPr>
          <a:xfrm>
            <a:off x="3733920" y="1371600"/>
            <a:ext cx="1600200" cy="1492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D:\My Documents\My Pictures\xin\yong1.jpg"/>
          <p:cNvPicPr/>
          <p:nvPr/>
        </p:nvPicPr>
        <p:blipFill>
          <a:blip r:embed="rId7"/>
          <a:stretch/>
        </p:blipFill>
        <p:spPr>
          <a:xfrm>
            <a:off x="987480" y="3276720"/>
            <a:ext cx="2651040" cy="35812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4"/>
          <p:cNvSpPr/>
          <p:nvPr/>
        </p:nvSpPr>
        <p:spPr>
          <a:xfrm>
            <a:off x="533520" y="22860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3657600" y="2971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龟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7349040" y="3048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-118800" y="4419720"/>
            <a:ext cx="1277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蜻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257800" y="5867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蜘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8:24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41:24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