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103-9B6E-4705-9F01-51CE6599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510-B352-46E2-A63D-17B08EF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E67-D9B8-43E3-ABF8-2D00AE75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07C-0099-4F0A-8E45-A969074E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297D-2604-4042-A231-1CA2729F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A93-0116-4038-AAC4-9AC9DBB7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DDE2-3E2D-4790-8ACD-FF56D51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6AF3-C979-4B56-B76D-23886F87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B6DD-BB65-4CD3-BC00-EC2FC827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800F-127D-4564-806F-BE8FF357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892F-72BC-49B9-909C-73258C79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DDA-DD8F-4176-A16C-384DD44E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65AE-BD6D-40D8-B50B-0935DBD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BA9B-5E1E-46E0-82F4-F35DABA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DFD8-FF45-4A2A-A918-0C0C79D1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B52A-DF96-4B3D-82FF-1B47E402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7EFF-A071-44E5-9365-D01946B3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A87-9366-4608-8A49-FFC75F0C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5E8-7B03-4A6B-B6C1-14D349F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A55-77A9-4239-9CA1-19C98534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31A-5686-4455-8C8A-0EAE5EC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DD7-418B-43B0-ADA9-9AC637D3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5E4-4E35-4035-9810-FD96462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A5F-DF52-4D08-8B1D-E07200E0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911-40FC-49F2-A100-3BCF70F0837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179280" y="57340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官方logo副本"/>
          <p:cNvPicPr/>
          <p:nvPr/>
        </p:nvPicPr>
        <p:blipFill>
          <a:blip r:embed="rId3"/>
          <a:stretch/>
        </p:blipFill>
        <p:spPr>
          <a:xfrm>
            <a:off x="179280" y="587700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9AA6-AAB9-45C8-AC27-DC048D8250AC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700360" y="2492280"/>
            <a:ext cx="295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66000"/>
                    </a:srgbClr>
                  </a:outerShdw>
                </a:effectLst>
                <a:latin typeface="宋体"/>
              </a:rPr>
              <a:t>责任</a:t>
            </a:r>
            <a:endParaRPr b="0" lang="en-US" sz="16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6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391840" y="12682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西师大版 三年级语文下册 第七单元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5880" y="6064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后来小男孩为什么委屈而为难呢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7520" y="6064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　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小男孩为什么感到自豪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2B0-0634-4AE4-B87F-16A3C9A4AD2F}" type="slidenum">
              <a:t>12</a:t>
            </a:fld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69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想一想：父亲为什么感到欣慰？父亲的用意达到了吗？读父亲的话，你从哪些词句中能体会到？体会到什么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8720" y="458136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15640" y="1557360"/>
            <a:ext cx="65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总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同学们，通过这节课的学习，大家对责任有了自己的认识。大家再读课题。让我们牢牢记住“责任”这两个字，希望你们从小做有责任感的人，长大做有出息的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目标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67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运用有效的识字方法，学会本课生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通过有感情地朗读课文，理解课文内容，懂得犯了错要有勇气承担责任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读一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24000" y="3068640"/>
            <a:ext cx="4680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膛   恕   谅   赔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9"/>
          <p:cNvSpPr/>
          <p:nvPr/>
        </p:nvSpPr>
        <p:spPr>
          <a:xfrm>
            <a:off x="2989440" y="4649760"/>
            <a:ext cx="3527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餐    承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Text Box 58"/>
          <p:cNvSpPr/>
          <p:nvPr/>
        </p:nvSpPr>
        <p:spPr>
          <a:xfrm>
            <a:off x="1979640" y="2492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táng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3348000" y="2492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shù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4427640" y="2492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liáng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5940360" y="2492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péi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2916360" y="39895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cān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4211640" y="398952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chéng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266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学一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恕 谅 赔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餐 承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3059280" y="34290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600" y="12571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想一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2" descr="汉字娃娃3"/>
          <p:cNvPicPr/>
          <p:nvPr/>
        </p:nvPicPr>
        <p:blipFill>
          <a:blip r:embed="rId2"/>
          <a:stretch/>
        </p:blipFill>
        <p:spPr>
          <a:xfrm>
            <a:off x="5408640" y="3879720"/>
            <a:ext cx="1373040" cy="22924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3"/>
          <p:cNvSpPr/>
          <p:nvPr/>
        </p:nvSpPr>
        <p:spPr>
          <a:xfrm>
            <a:off x="1403280" y="2349360"/>
            <a:ext cx="6121440" cy="1513080"/>
          </a:xfrm>
          <a:prstGeom prst="cloudCallout">
            <a:avLst>
              <a:gd name="adj1" fmla="val -46708"/>
              <a:gd name="adj2" fmla="val 10697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课主要讲了一件什么事？ 用自己的话说说什么叫做责任。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5880" y="6064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为什么小男孩的情感会发生这样几次变化呢？在小组内交流阅读体会，看看哪些同学最会合作学习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小男孩儿为什么感到委屈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（抓住小男孩无意闯祸、认了错、以为应该得到原谅，而老太太不肯原谅、索赔等词语体会小男孩的委屈。）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真是认了错就该得到原谅吗？小男孩已经向老太太认了错，老太太为什么还不原谅他呢？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　　　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20500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有的错误并不是认了错就可以了结的，还必须付出相应的代价，承担相应的责任，比如钱物的赔偿，心灵的不安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3:39:24Z</dcterms:created>
  <dc:creator>An</dc:creator>
  <dc:description/>
  <dc:language>en-US</dc:language>
  <cp:lastModifiedBy/>
  <dcterms:modified xsi:type="dcterms:W3CDTF">2015-07-14T14:12:00Z</dcterms:modified>
  <cp:revision>2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