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9F7-39B5-4285-A1AA-AD495F1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8AC-C6D6-4206-A10D-3630C84A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AD7-5B90-4829-AEC5-C35FB5C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550-12CE-47C9-9F4F-F1E53434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4DF-072A-4E4D-B0D8-8B8F6AB3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BD8-7C29-49D5-B719-B5AA444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65B-F9C6-4F8A-AB0D-EB2FFA1A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63F-B8E8-41BF-B179-09EACED0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51D-5609-48EF-AF8A-A7D3948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837-1136-47AA-BB56-605EC7D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DB7-8A22-4751-B1A5-523E1A5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342-999C-41F7-BE91-9C3EAD3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33F0-7154-4B29-AF15-5EF3C69FE98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" name="Picture 2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水中花.mp3" descr=""/>
          <p:cNvPicPr/>
          <p:nvPr/>
        </p:nvPicPr>
        <p:blipFill>
          <a:blip r:embed="rId3"/>
          <a:stretch/>
        </p:blipFill>
        <p:spPr>
          <a:xfrm>
            <a:off x="8763120" y="6553080"/>
            <a:ext cx="15228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568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709720"/>
            <a:ext cx="590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eaeaea"/>
                </a:solidFill>
                <a:latin typeface="Times New Roman"/>
              </a:rPr>
              <a:t>《竹影》</a:t>
            </a:r>
            <a:r>
              <a:rPr b="0" lang="en-US" sz="45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eaeaea"/>
                </a:solidFill>
                <a:latin typeface="Times New Roman"/>
              </a:rPr>
              <a:t>课件模板</a:t>
            </a:r>
            <a:endParaRPr b="0" lang="en-US" sz="4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887840" y="557280"/>
            <a:ext cx="53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3" name="Picture 3" descr="893"/>
          <p:cNvPicPr/>
          <p:nvPr/>
        </p:nvPicPr>
        <p:blipFill>
          <a:blip r:embed="rId2"/>
          <a:stretch/>
        </p:blipFill>
        <p:spPr>
          <a:xfrm>
            <a:off x="4952880" y="1143000"/>
            <a:ext cx="3581640" cy="4952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891"/>
          <p:cNvPicPr/>
          <p:nvPr/>
        </p:nvPicPr>
        <p:blipFill>
          <a:blip r:embed="rId3"/>
          <a:stretch/>
        </p:blipFill>
        <p:spPr>
          <a:xfrm>
            <a:off x="457200" y="1143000"/>
            <a:ext cx="4114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6" name="Picture 2" descr="903"/>
          <p:cNvPicPr/>
          <p:nvPr/>
        </p:nvPicPr>
        <p:blipFill>
          <a:blip r:embed="rId2"/>
          <a:stretch/>
        </p:blipFill>
        <p:spPr>
          <a:xfrm>
            <a:off x="457200" y="1066680"/>
            <a:ext cx="3886200" cy="5224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4572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8" name="Picture 4" descr="921"/>
          <p:cNvPicPr/>
          <p:nvPr/>
        </p:nvPicPr>
        <p:blipFill>
          <a:blip r:embed="rId3"/>
          <a:stretch/>
        </p:blipFill>
        <p:spPr>
          <a:xfrm>
            <a:off x="4724280" y="11430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380880"/>
            <a:ext cx="84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西洋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1" name="Picture 3" descr="20040926172047318"/>
          <p:cNvPicPr/>
          <p:nvPr/>
        </p:nvPicPr>
        <p:blipFill>
          <a:blip r:embed="rId2"/>
          <a:stretch/>
        </p:blipFill>
        <p:spPr>
          <a:xfrm>
            <a:off x="609480" y="1066680"/>
            <a:ext cx="3581640" cy="510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红磨房的约会--雷诺阿"/>
          <p:cNvPicPr/>
          <p:nvPr/>
        </p:nvPicPr>
        <p:blipFill>
          <a:blip r:embed="rId3"/>
          <a:stretch/>
        </p:blipFill>
        <p:spPr>
          <a:xfrm>
            <a:off x="4648320" y="1143000"/>
            <a:ext cx="39621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163520"/>
            <a:ext cx="86263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中国画趣味高远，西洋画趣味平易。作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艺术研究，西洋画不及中国画的精深。作为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众欣赏，中国画不及西洋画的普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380880"/>
            <a:ext cx="83818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丰子恺的成功与其父亲的教育引导有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吗？文中的父亲给你留下怎样的印象，给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怎样的启发？请以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我是家长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为题写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篇短文，畅谈自己的教育构想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903960" y="-69840"/>
            <a:ext cx="7221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儿歌</a:t>
            </a:r>
            <a:r>
              <a:rPr b="0" lang="en-US" sz="6000" spc="-1" strike="noStrike">
                <a:solidFill>
                  <a:srgbClr val="ff3300"/>
                </a:solidFill>
                <a:latin typeface="隶书"/>
                <a:ea typeface="隶书"/>
              </a:rPr>
              <a:t>-------------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影子在前，影子在后，影子是个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黑 狗，常 常 跟着我，影子在左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影子在右，影子是 个好朋友，常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陪着我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380880"/>
            <a:ext cx="4876920" cy="59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丰子恺简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丰子恺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98----197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，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丰润，浙江崇德人，现代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、散文家、美术和音乐教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家，是一位多方面卓有成就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艺大师。作品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缘缘堂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艺术趣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率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集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" name="Picture 3" descr="20050109232446950"/>
          <p:cNvPicPr/>
          <p:nvPr/>
        </p:nvPicPr>
        <p:blipFill>
          <a:blip r:embed="rId2"/>
          <a:stretch/>
        </p:blipFill>
        <p:spPr>
          <a:xfrm>
            <a:off x="5105520" y="669960"/>
            <a:ext cx="3886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5729040" y="1522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丰子恺国画作品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8600" y="3049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撇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ĕ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                           蘸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惬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意：   满 意 ，称 心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幽 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包 罗：包 含，包 括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参 差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 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不 齐：长 短，高 低 不 齐 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E63-601B-48C4-A510-D86973971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04920" y="320760"/>
            <a:ext cx="964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画和西洋画的不同特点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盛用线条；西洋画线条都不显著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不注重透视法；西洋画极注重透视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人物不讲解剖学；西洋人物画很重视解剖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不注重背景；西洋画很重视背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、中国画题材以自然为主；西洋画以人物为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80880" y="380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" name="Picture 5" descr="000601"/>
          <p:cNvPicPr/>
          <p:nvPr/>
        </p:nvPicPr>
        <p:blipFill>
          <a:blip r:embed="rId2"/>
          <a:stretch/>
        </p:blipFill>
        <p:spPr>
          <a:xfrm>
            <a:off x="457200" y="121932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0040831172642626"/>
          <p:cNvPicPr/>
          <p:nvPr/>
        </p:nvPicPr>
        <p:blipFill>
          <a:blip r:embed="rId3"/>
          <a:stretch/>
        </p:blipFill>
        <p:spPr>
          <a:xfrm>
            <a:off x="4952880" y="12193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681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4" name="Picture 3" descr="20041027080508167"/>
          <p:cNvPicPr/>
          <p:nvPr/>
        </p:nvPicPr>
        <p:blipFill>
          <a:blip r:embed="rId2"/>
          <a:stretch/>
        </p:blipFill>
        <p:spPr>
          <a:xfrm>
            <a:off x="533520" y="135252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0050109232829336"/>
          <p:cNvPicPr/>
          <p:nvPr/>
        </p:nvPicPr>
        <p:blipFill>
          <a:blip r:embed="rId3"/>
          <a:stretch/>
        </p:blipFill>
        <p:spPr>
          <a:xfrm>
            <a:off x="4724280" y="135252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975680" y="457200"/>
            <a:ext cx="53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和西洋画的不同特点欣赏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" name="Picture 4" descr="20050109233432547"/>
          <p:cNvPicPr/>
          <p:nvPr/>
        </p:nvPicPr>
        <p:blipFill>
          <a:blip r:embed="rId2"/>
          <a:stretch/>
        </p:blipFill>
        <p:spPr>
          <a:xfrm>
            <a:off x="609480" y="1143000"/>
            <a:ext cx="3505320" cy="505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ong24luohanx"/>
          <p:cNvPicPr/>
          <p:nvPr/>
        </p:nvPicPr>
        <p:blipFill>
          <a:blip r:embed="rId3"/>
          <a:stretch/>
        </p:blipFill>
        <p:spPr>
          <a:xfrm>
            <a:off x="4572000" y="11430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5:2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14:42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