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CCF-546C-4918-A35D-1A7A230C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402-EB31-47C4-BDD5-4E4553E9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225-244C-4D4C-AE5C-960C5F97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D9D-A290-443D-8328-94FD60CC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5C7-ED9D-4C27-AFB9-A03D5C8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A8B-1D60-41F5-B1FC-17FBC21E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C30-A984-4351-9858-7B300CA7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6E5-C225-40B4-BDC8-1E32D49B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E27-BAB6-4A72-BA4A-816ABFF5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9F5-0C2E-4EA1-96E9-1DFD186C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9D1-A3F3-47A5-BD23-EAE08DEB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B09-5E15-4192-B8B0-7AAA54A6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AC4F-2451-4533-B7F1-859B1E3F88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1CE2-9387-4957-BE81-ACDC383355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-4680" y="0"/>
            <a:ext cx="6856200" cy="2843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-4680" y="6227640"/>
            <a:ext cx="6856200" cy="29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0" y="3564000"/>
            <a:ext cx="68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亮瞎雇主钛金狗眼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9"/>
          <p:cNvSpPr/>
          <p:nvPr/>
        </p:nvSpPr>
        <p:spPr>
          <a:xfrm>
            <a:off x="0" y="4356000"/>
            <a:ext cx="6851520" cy="0"/>
          </a:xfrm>
          <a:prstGeom prst="line">
            <a:avLst/>
          </a:prstGeom>
          <a:ln w="936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1137240" y="421164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Broadway"/>
                <a:ea typeface="微软雅黑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2637000" y="47163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份创意</a:t>
            </a:r>
            <a:r>
              <a:rPr b="1" lang="zh-CN" sz="3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简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4470480" y="6959520"/>
            <a:ext cx="2414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图片：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：陌上初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2012/1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440" y="8739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4080" y="1147680"/>
            <a:ext cx="452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份创意简历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-9360"/>
            <a:ext cx="6858000" cy="9188280"/>
          </a:xfrm>
          <a:prstGeom prst="rect">
            <a:avLst/>
          </a:prstGeom>
          <a:ln w="0">
            <a:noFill/>
          </a:ln>
        </p:spPr>
      </p:pic>
      <p:sp>
        <p:nvSpPr>
          <p:cNvPr id="84" name="等腰三角形 2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 rot="19687200">
            <a:off x="74160" y="1666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9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22320" y="1440"/>
            <a:ext cx="6835680" cy="9118800"/>
          </a:xfrm>
          <a:prstGeom prst="rect">
            <a:avLst/>
          </a:prstGeom>
          <a:ln w="0">
            <a:noFill/>
          </a:ln>
        </p:spPr>
      </p:pic>
      <p:sp>
        <p:nvSpPr>
          <p:cNvPr id="87" name="等腰三角形 2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 rot="19687200">
            <a:off x="720" y="166320"/>
            <a:ext cx="10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10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/>
          <a:stretch/>
        </p:blipFill>
        <p:spPr>
          <a:xfrm>
            <a:off x="28440" y="0"/>
            <a:ext cx="6829560" cy="9144000"/>
          </a:xfrm>
          <a:prstGeom prst="rect">
            <a:avLst/>
          </a:prstGeom>
          <a:ln w="0">
            <a:noFill/>
          </a:ln>
        </p:spPr>
      </p:pic>
      <p:sp>
        <p:nvSpPr>
          <p:cNvPr id="90" name="等腰三角形 2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 rot="19687200">
            <a:off x="720" y="166320"/>
            <a:ext cx="10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11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52360"/>
            <a:ext cx="6154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000" y="1693800"/>
            <a:ext cx="6696000" cy="69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465880" y="444600"/>
            <a:ext cx="1041120" cy="46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9BE-53BD-4B96-9FAC-FC4E4FEFE0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"/>
          <p:cNvPicPr/>
          <p:nvPr/>
        </p:nvPicPr>
        <p:blipFill>
          <a:blip r:embed="rId1"/>
          <a:stretch/>
        </p:blipFill>
        <p:spPr>
          <a:xfrm>
            <a:off x="0" y="-22320"/>
            <a:ext cx="6858000" cy="9166320"/>
          </a:xfrm>
          <a:prstGeom prst="rect">
            <a:avLst/>
          </a:prstGeom>
          <a:ln w="0">
            <a:noFill/>
          </a:ln>
        </p:spPr>
      </p:pic>
      <p:sp>
        <p:nvSpPr>
          <p:cNvPr id="96" name="等腰三角形 2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 rot="19687200">
            <a:off x="720" y="166320"/>
            <a:ext cx="10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12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"/>
          <p:cNvPicPr/>
          <p:nvPr/>
        </p:nvPicPr>
        <p:blipFill>
          <a:blip r:embed="rId1"/>
          <a:stretch/>
        </p:blipFill>
        <p:spPr>
          <a:xfrm>
            <a:off x="23760" y="15840"/>
            <a:ext cx="6834240" cy="9128160"/>
          </a:xfrm>
          <a:prstGeom prst="rect">
            <a:avLst/>
          </a:prstGeom>
          <a:ln w="0">
            <a:noFill/>
          </a:ln>
        </p:spPr>
      </p:pic>
      <p:sp>
        <p:nvSpPr>
          <p:cNvPr id="51" name="等腰三角形 2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 rot="19687200">
            <a:off x="74160" y="1666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1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209160"/>
          </a:xfrm>
          <a:prstGeom prst="rect">
            <a:avLst/>
          </a:prstGeom>
          <a:ln w="0">
            <a:noFill/>
          </a:ln>
        </p:spPr>
      </p:pic>
      <p:sp>
        <p:nvSpPr>
          <p:cNvPr id="54" name="等腰三角形 2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 rot="19687200">
            <a:off x="74160" y="1666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2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-4680" y="1512720"/>
            <a:ext cx="6862680" cy="608184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-4680" y="0"/>
            <a:ext cx="6856200" cy="1512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-4680" y="7596360"/>
            <a:ext cx="6856200" cy="1514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6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 rot="19687200">
            <a:off x="74160" y="1666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3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37520"/>
          </a:xfrm>
          <a:prstGeom prst="rect">
            <a:avLst/>
          </a:prstGeom>
          <a:ln w="0">
            <a:noFill/>
          </a:ln>
        </p:spPr>
      </p:pic>
      <p:sp>
        <p:nvSpPr>
          <p:cNvPr id="62" name="等腰三角形 2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 rot="19687200">
            <a:off x="74160" y="1666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4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5" name="等腰三角形 2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 rot="19687200">
            <a:off x="74160" y="1666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5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-4680" y="0"/>
            <a:ext cx="6856200" cy="2273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-4680" y="6730920"/>
            <a:ext cx="6856200" cy="2413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0" y="2274840"/>
            <a:ext cx="6858000" cy="4457880"/>
          </a:xfrm>
          <a:prstGeom prst="rect">
            <a:avLst/>
          </a:prstGeom>
          <a:ln w="0">
            <a:noFill/>
          </a:ln>
        </p:spPr>
      </p:pic>
      <p:sp>
        <p:nvSpPr>
          <p:cNvPr id="70" name="等腰三角形 4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 rot="19687200">
            <a:off x="74160" y="1666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6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" descr=""/>
          <p:cNvPicPr/>
          <p:nvPr/>
        </p:nvPicPr>
        <p:blipFill>
          <a:blip r:embed="rId1"/>
          <a:stretch/>
        </p:blipFill>
        <p:spPr>
          <a:xfrm>
            <a:off x="0" y="236700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4"/>
          <p:cNvSpPr/>
          <p:nvPr/>
        </p:nvSpPr>
        <p:spPr>
          <a:xfrm>
            <a:off x="-4680" y="0"/>
            <a:ext cx="6856200" cy="2367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-4680" y="6661080"/>
            <a:ext cx="6856200" cy="24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6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 rot="19687200">
            <a:off x="74160" y="1666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7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1"/>
          <a:stretch/>
        </p:blipFill>
        <p:spPr>
          <a:xfrm>
            <a:off x="-25560" y="2952720"/>
            <a:ext cx="6883560" cy="327492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-4680" y="0"/>
            <a:ext cx="6856200" cy="2952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-4680" y="6227640"/>
            <a:ext cx="6856200" cy="29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等腰三角形 4"/>
          <p:cNvSpPr/>
          <p:nvPr/>
        </p:nvSpPr>
        <p:spPr>
          <a:xfrm flipV="1">
            <a:off x="0" y="-720"/>
            <a:ext cx="1595520" cy="1012680"/>
          </a:xfrm>
          <a:prstGeom prst="triangle">
            <a:avLst>
              <a:gd name="adj" fmla="val 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 rot="19687200">
            <a:off x="74160" y="1666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 </a:t>
            </a:r>
            <a:r>
              <a:rPr b="0" lang="en-US" sz="2000" spc="-1" strike="noStrike">
                <a:solidFill>
                  <a:srgbClr val="fcfcfd"/>
                </a:solidFill>
                <a:latin typeface="Broadway"/>
                <a:ea typeface="微软雅黑"/>
              </a:rPr>
              <a:t>8 </a:t>
            </a:r>
            <a:r>
              <a:rPr b="0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09:37:00Z</dcterms:created>
  <dc:creator>陌上初薰</dc:creator>
  <dc:description/>
  <dc:language>en-US</dc:language>
  <cp:lastModifiedBy>wyj</cp:lastModifiedBy>
  <dcterms:modified xsi:type="dcterms:W3CDTF">2015-08-03T12:30:14Z</dcterms:modified>
  <cp:revision>13</cp:revision>
  <dc:subject/>
  <dc:title>亮瞎雇主钛金狗眼的12份创意简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