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603-FA5A-48D8-B06F-89B933663A9A}" type="slidenum"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4" descr="logo_small"/>
          <p:cNvPicPr/>
          <p:nvPr/>
        </p:nvPicPr>
        <p:blipFill>
          <a:blip r:embed="rId2"/>
          <a:stretch/>
        </p:blipFill>
        <p:spPr>
          <a:xfrm>
            <a:off x="5867280" y="5791320"/>
            <a:ext cx="3124440" cy="8204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logo_small"/>
          <p:cNvPicPr/>
          <p:nvPr/>
        </p:nvPicPr>
        <p:blipFill>
          <a:blip r:embed="rId2"/>
          <a:stretch/>
        </p:blipFill>
        <p:spPr>
          <a:xfrm>
            <a:off x="152280" y="93600"/>
            <a:ext cx="312444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9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335268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北航软件学院开题报告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新魏"/>
              </a:rPr>
              <a:t>模板</a:t>
            </a:r>
            <a:br>
              <a:rPr sz="4000"/>
            </a:br>
            <a:br>
              <a:rPr sz="3200"/>
            </a:br>
            <a:r>
              <a:rPr b="0" lang="zh-CN" sz="2400" spc="-1" strike="noStrike">
                <a:solidFill>
                  <a:srgbClr val="333399"/>
                </a:solidFill>
                <a:latin typeface="宋体"/>
              </a:rPr>
              <a:t>论文名称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姓    名：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学    号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专    业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学院指导老师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DD4-DA7F-4673-BA29-6EB1D7A00727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研究背景及意义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课题来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课题意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E7E5-0BAF-4CCA-98E8-F8AEE4336A28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国内外相关研究的现状分析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国外研究现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国内研究现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对比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8B8-278E-4878-8A6A-36C3179FAB86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研究目标和内容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790-A8CF-4F6C-8252-51F607811314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关键技术和解决方案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系统总体解决方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关键技术及解决途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7A6-0528-4D65-B909-8A3396560E4C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预期的研究成果形式及创新点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研究成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技术指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4D9A-7DC1-485F-AE7D-1CDDC3B85A44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论文工作计划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3"/>
          <p:cNvSpPr/>
          <p:nvPr/>
        </p:nvSpPr>
        <p:spPr>
          <a:xfrm>
            <a:off x="3352680" y="6093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1CD-2E28-49FA-9918-77F937CAFFEA}" type="slidenum">
              <a:rPr b="1" lang="zh-CN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主要参考文献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00:53Z</dcterms:created>
  <dc:creator>www.pptbz.com</dc:creator>
  <dc:description/>
  <dc:language>en-US</dc:language>
  <cp:lastModifiedBy>微软用户</cp:lastModifiedBy>
  <dcterms:modified xsi:type="dcterms:W3CDTF">2015-08-03T12:31:21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