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E27-506B-4E6F-B0F1-54D8E040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6E0-FA34-4F9E-9832-735CC126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7DC-AEC5-478C-BA57-B54A4CC6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D03-53AD-431D-AF70-C2729A08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337-6C48-4ACE-B760-D06ACADC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918-41A0-4821-811D-0E4C89BB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A52-141B-4636-928B-720FBD3D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2F4-6317-4F6B-8FEF-2020A39A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8044-3513-481D-B7C4-D9DF428C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678-54AF-4590-B651-CD419D59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F0C-E96E-4247-8700-029678AA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FCD-149D-4141-B784-6F088A0E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5732-2C28-4138-9BA5-7EA897D7D77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D564-DF48-4FFE-82CE-13E7AC19D0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hyperlink" Target="http://www.eeppt.com" TargetMode="External"/><Relationship Id="rId2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"/>
          <p:cNvGrpSpPr/>
          <p:nvPr/>
        </p:nvGrpSpPr>
        <p:grpSpPr>
          <a:xfrm>
            <a:off x="775800" y="747720"/>
            <a:ext cx="10403280" cy="5246640"/>
            <a:chOff x="775800" y="747720"/>
            <a:chExt cx="10403280" cy="5246640"/>
          </a:xfrm>
        </p:grpSpPr>
        <p:pic>
          <p:nvPicPr>
            <p:cNvPr id="42" name="图片 3" descr=""/>
            <p:cNvPicPr/>
            <p:nvPr/>
          </p:nvPicPr>
          <p:blipFill>
            <a:blip r:embed="rId1"/>
            <a:stretch/>
          </p:blipFill>
          <p:spPr>
            <a:xfrm>
              <a:off x="5090400" y="1622520"/>
              <a:ext cx="2117880" cy="43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任意多边形 16"/>
            <p:cNvSpPr/>
            <p:nvPr/>
          </p:nvSpPr>
          <p:spPr>
            <a:xfrm flipH="1">
              <a:off x="7866360" y="4218840"/>
              <a:ext cx="1056960" cy="952200"/>
            </a:xfrm>
            <a:prstGeom prst="pie">
              <a:avLst/>
            </a:prstGeom>
            <a:solidFill>
              <a:srgbClr val="a74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任意多边形 13"/>
            <p:cNvSpPr/>
            <p:nvPr/>
          </p:nvSpPr>
          <p:spPr>
            <a:xfrm>
              <a:off x="3218760" y="4218840"/>
              <a:ext cx="1056960" cy="952200"/>
            </a:xfrm>
            <a:prstGeom prst="pie">
              <a:avLst/>
            </a:prstGeom>
            <a:solidFill>
              <a:srgbClr val="a74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图片 7" descr=""/>
            <p:cNvPicPr/>
            <p:nvPr/>
          </p:nvPicPr>
          <p:blipFill>
            <a:blip r:embed="rId2"/>
            <a:stretch/>
          </p:blipFill>
          <p:spPr>
            <a:xfrm>
              <a:off x="2967120" y="2786040"/>
              <a:ext cx="6256080" cy="289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矩形 6"/>
            <p:cNvSpPr/>
            <p:nvPr/>
          </p:nvSpPr>
          <p:spPr>
            <a:xfrm>
              <a:off x="4200120" y="4085280"/>
              <a:ext cx="3790800" cy="952200"/>
            </a:xfrm>
            <a:prstGeom prst="rect">
              <a:avLst/>
            </a:prstGeom>
            <a:solidFill>
              <a:srgbClr val="a74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7"/>
            <p:cNvSpPr/>
            <p:nvPr/>
          </p:nvSpPr>
          <p:spPr>
            <a:xfrm>
              <a:off x="4271040" y="4224600"/>
              <a:ext cx="364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I’M NOT SUPERM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图片 26" descr=""/>
            <p:cNvPicPr/>
            <p:nvPr/>
          </p:nvPicPr>
          <p:blipFill>
            <a:blip r:embed="rId3"/>
            <a:stretch/>
          </p:blipFill>
          <p:spPr>
            <a:xfrm>
              <a:off x="8788680" y="1028160"/>
              <a:ext cx="239040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27" descr=""/>
            <p:cNvPicPr/>
            <p:nvPr/>
          </p:nvPicPr>
          <p:blipFill>
            <a:blip r:embed="rId4"/>
            <a:stretch/>
          </p:blipFill>
          <p:spPr>
            <a:xfrm flipH="1">
              <a:off x="775800" y="2621520"/>
              <a:ext cx="3182040" cy="159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组合 41"/>
            <p:cNvGrpSpPr/>
            <p:nvPr/>
          </p:nvGrpSpPr>
          <p:grpSpPr>
            <a:xfrm>
              <a:off x="3439800" y="747720"/>
              <a:ext cx="5311080" cy="760320"/>
              <a:chOff x="3439800" y="747720"/>
              <a:chExt cx="5311080" cy="760320"/>
            </a:xfrm>
          </p:grpSpPr>
          <p:grpSp>
            <p:nvGrpSpPr>
              <p:cNvPr id="51" name="组合 33"/>
              <p:cNvGrpSpPr/>
              <p:nvPr/>
            </p:nvGrpSpPr>
            <p:grpSpPr>
              <a:xfrm>
                <a:off x="3694320" y="747720"/>
                <a:ext cx="4781160" cy="757440"/>
                <a:chOff x="3694320" y="747720"/>
                <a:chExt cx="4781160" cy="757440"/>
              </a:xfrm>
            </p:grpSpPr>
            <p:grpSp>
              <p:nvGrpSpPr>
                <p:cNvPr id="52" name="组合 34"/>
                <p:cNvGrpSpPr/>
                <p:nvPr/>
              </p:nvGrpSpPr>
              <p:grpSpPr>
                <a:xfrm>
                  <a:off x="3694320" y="747720"/>
                  <a:ext cx="4781160" cy="56880"/>
                  <a:chOff x="3694320" y="747720"/>
                  <a:chExt cx="4781160" cy="56880"/>
                </a:xfrm>
              </p:grpSpPr>
              <p:sp>
                <p:nvSpPr>
                  <p:cNvPr id="53" name="直接连接符 38"/>
                  <p:cNvSpPr/>
                  <p:nvPr/>
                </p:nvSpPr>
                <p:spPr>
                  <a:xfrm>
                    <a:off x="3694320" y="804600"/>
                    <a:ext cx="4781160" cy="0"/>
                  </a:xfrm>
                  <a:prstGeom prst="line">
                    <a:avLst/>
                  </a:prstGeom>
                  <a:ln w="28440">
                    <a:solidFill>
                      <a:srgbClr val="a74c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直接连接符 39"/>
                  <p:cNvSpPr/>
                  <p:nvPr/>
                </p:nvSpPr>
                <p:spPr>
                  <a:xfrm>
                    <a:off x="3694320" y="747720"/>
                    <a:ext cx="4781160" cy="0"/>
                  </a:xfrm>
                  <a:prstGeom prst="line">
                    <a:avLst/>
                  </a:prstGeom>
                  <a:ln w="28440">
                    <a:solidFill>
                      <a:srgbClr val="a74c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" name="组合 35"/>
                <p:cNvGrpSpPr/>
                <p:nvPr/>
              </p:nvGrpSpPr>
              <p:grpSpPr>
                <a:xfrm>
                  <a:off x="3694320" y="1448280"/>
                  <a:ext cx="4781160" cy="56880"/>
                  <a:chOff x="3694320" y="1448280"/>
                  <a:chExt cx="4781160" cy="56880"/>
                </a:xfrm>
              </p:grpSpPr>
              <p:sp>
                <p:nvSpPr>
                  <p:cNvPr id="56" name="直接连接符 36"/>
                  <p:cNvSpPr/>
                  <p:nvPr/>
                </p:nvSpPr>
                <p:spPr>
                  <a:xfrm>
                    <a:off x="3694320" y="1505160"/>
                    <a:ext cx="4781160" cy="0"/>
                  </a:xfrm>
                  <a:prstGeom prst="line">
                    <a:avLst/>
                  </a:prstGeom>
                  <a:ln w="28440">
                    <a:solidFill>
                      <a:srgbClr val="a74c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直接连接符 37"/>
                  <p:cNvSpPr/>
                  <p:nvPr/>
                </p:nvSpPr>
                <p:spPr>
                  <a:xfrm>
                    <a:off x="3694320" y="1448280"/>
                    <a:ext cx="4781160" cy="0"/>
                  </a:xfrm>
                  <a:prstGeom prst="line">
                    <a:avLst/>
                  </a:prstGeom>
                  <a:ln w="28440">
                    <a:solidFill>
                      <a:srgbClr val="a74c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" name="文本框 40"/>
              <p:cNvSpPr/>
              <p:nvPr/>
            </p:nvSpPr>
            <p:spPr>
              <a:xfrm>
                <a:off x="3439800" y="861840"/>
                <a:ext cx="5311080" cy="64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"/>
          <p:cNvSpPr/>
          <p:nvPr/>
        </p:nvSpPr>
        <p:spPr>
          <a:xfrm>
            <a:off x="3219120" y="8208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超人创意个人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1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1"/>
          <p:cNvGrpSpPr/>
          <p:nvPr/>
        </p:nvGrpSpPr>
        <p:grpSpPr>
          <a:xfrm>
            <a:off x="838080" y="712800"/>
            <a:ext cx="10275480" cy="5263920"/>
            <a:chOff x="838080" y="712800"/>
            <a:chExt cx="10275480" cy="5263920"/>
          </a:xfrm>
        </p:grpSpPr>
        <p:grpSp>
          <p:nvGrpSpPr>
            <p:cNvPr id="62" name="组合 29"/>
            <p:cNvGrpSpPr/>
            <p:nvPr/>
          </p:nvGrpSpPr>
          <p:grpSpPr>
            <a:xfrm>
              <a:off x="1202040" y="1288440"/>
              <a:ext cx="4682520" cy="4688280"/>
              <a:chOff x="1202040" y="1288440"/>
              <a:chExt cx="4682520" cy="4688280"/>
            </a:xfrm>
          </p:grpSpPr>
          <p:sp>
            <p:nvSpPr>
              <p:cNvPr id="63" name="文本框 3"/>
              <p:cNvSpPr/>
              <p:nvPr/>
            </p:nvSpPr>
            <p:spPr>
              <a:xfrm>
                <a:off x="3484440" y="1288440"/>
                <a:ext cx="240012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文本框 17"/>
              <p:cNvSpPr/>
              <p:nvPr/>
            </p:nvSpPr>
            <p:spPr>
              <a:xfrm>
                <a:off x="3413160" y="4721760"/>
                <a:ext cx="948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男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矩形 20"/>
              <p:cNvSpPr/>
              <p:nvPr/>
            </p:nvSpPr>
            <p:spPr>
              <a:xfrm>
                <a:off x="1202040" y="2044440"/>
                <a:ext cx="2093760" cy="39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微博名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出身年月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在读学校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家庭住址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性别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矩形 22"/>
              <p:cNvSpPr/>
              <p:nvPr/>
            </p:nvSpPr>
            <p:spPr>
              <a:xfrm>
                <a:off x="3525840" y="2058840"/>
                <a:ext cx="173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杨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不是超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矩形 24"/>
              <p:cNvSpPr/>
              <p:nvPr/>
            </p:nvSpPr>
            <p:spPr>
              <a:xfrm>
                <a:off x="3331440" y="2761560"/>
                <a:ext cx="1634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992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年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9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矩形 26"/>
              <p:cNvSpPr/>
              <p:nvPr/>
            </p:nvSpPr>
            <p:spPr>
              <a:xfrm>
                <a:off x="3630240" y="3366000"/>
                <a:ext cx="91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西南大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矩形 28"/>
              <p:cNvSpPr/>
              <p:nvPr/>
            </p:nvSpPr>
            <p:spPr>
              <a:xfrm>
                <a:off x="3630240" y="4015800"/>
                <a:ext cx="91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广东惠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组合 4"/>
            <p:cNvGrpSpPr/>
            <p:nvPr/>
          </p:nvGrpSpPr>
          <p:grpSpPr>
            <a:xfrm>
              <a:off x="8159400" y="1590120"/>
              <a:ext cx="2954160" cy="3829320"/>
              <a:chOff x="8159400" y="1590120"/>
              <a:chExt cx="2954160" cy="3829320"/>
            </a:xfrm>
          </p:grpSpPr>
          <p:grpSp>
            <p:nvGrpSpPr>
              <p:cNvPr id="71" name="组合 15"/>
              <p:cNvGrpSpPr/>
              <p:nvPr/>
            </p:nvGrpSpPr>
            <p:grpSpPr>
              <a:xfrm>
                <a:off x="8301960" y="1812600"/>
                <a:ext cx="2762280" cy="3405600"/>
                <a:chOff x="8301960" y="1812600"/>
                <a:chExt cx="2762280" cy="3405600"/>
              </a:xfrm>
            </p:grpSpPr>
            <p:grpSp>
              <p:nvGrpSpPr>
                <p:cNvPr id="72" name="组合 7"/>
                <p:cNvGrpSpPr/>
                <p:nvPr/>
              </p:nvGrpSpPr>
              <p:grpSpPr>
                <a:xfrm>
                  <a:off x="8301960" y="1812600"/>
                  <a:ext cx="2762280" cy="3405600"/>
                  <a:chOff x="8301960" y="1812600"/>
                  <a:chExt cx="2762280" cy="3405600"/>
                </a:xfrm>
              </p:grpSpPr>
              <p:sp>
                <p:nvSpPr>
                  <p:cNvPr id="73" name="矩形 5"/>
                  <p:cNvSpPr/>
                  <p:nvPr/>
                </p:nvSpPr>
                <p:spPr>
                  <a:xfrm>
                    <a:off x="8393400" y="1812600"/>
                    <a:ext cx="2502720" cy="3372480"/>
                  </a:xfrm>
                  <a:prstGeom prst="rect">
                    <a:avLst/>
                  </a:prstGeom>
                  <a:solidFill>
                    <a:srgbClr val="dfcf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文本框 6"/>
                  <p:cNvSpPr/>
                  <p:nvPr/>
                </p:nvSpPr>
                <p:spPr>
                  <a:xfrm>
                    <a:off x="8397000" y="1870200"/>
                    <a:ext cx="266724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1c0a06"/>
                        </a:solidFill>
                        <a:latin typeface="Adobe Garamond Pro Bold"/>
                        <a:ea typeface="Adobe Myungjo Std M"/>
                      </a:rPr>
                      <a:t>WANTED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文本框 8"/>
                  <p:cNvSpPr/>
                  <p:nvPr/>
                </p:nvSpPr>
                <p:spPr>
                  <a:xfrm>
                    <a:off x="8301960" y="4303440"/>
                    <a:ext cx="266724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1c0a06"/>
                        </a:solidFill>
                        <a:latin typeface="Adobe Garamond Pro Bold"/>
                        <a:ea typeface="Adobe Myungjo Std M"/>
                      </a:rPr>
                      <a:t>YANG C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文本框 9"/>
                  <p:cNvSpPr/>
                  <p:nvPr/>
                </p:nvSpPr>
                <p:spPr>
                  <a:xfrm>
                    <a:off x="8301960" y="4090680"/>
                    <a:ext cx="26672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1c0a06"/>
                        </a:solidFill>
                        <a:latin typeface="Adobe Myungjo Std M"/>
                      </a:rPr>
                      <a:t>DEAD OR ALIV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文本框 13"/>
                  <p:cNvSpPr/>
                  <p:nvPr/>
                </p:nvSpPr>
                <p:spPr>
                  <a:xfrm>
                    <a:off x="8301960" y="4758480"/>
                    <a:ext cx="2667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1c0a06"/>
                        </a:solidFill>
                        <a:latin typeface="Adobe Garamond Pro Bold"/>
                        <a:ea typeface="Adobe Myungjo Std M"/>
                      </a:rPr>
                      <a:t>$</a:t>
                    </a:r>
                    <a:r>
                      <a:rPr b="0" lang="en-US" sz="1600" spc="-1" strike="noStrike">
                        <a:solidFill>
                          <a:srgbClr val="1c0a06"/>
                        </a:solidFill>
                        <a:latin typeface="Adobe Garamond Pro Bold"/>
                        <a:ea typeface="Adobe Myungjo Std M"/>
                      </a:rPr>
                      <a:t>1 0 , 0 0 0  0 0 0  0 0 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8" name="图片 10" descr=""/>
                <p:cNvPicPr/>
                <p:nvPr/>
              </p:nvPicPr>
              <p:blipFill>
                <a:blip r:embed="rId1"/>
                <a:srcRect l="0" t="0" r="0" b="11370"/>
                <a:stretch/>
              </p:blipFill>
              <p:spPr>
                <a:xfrm>
                  <a:off x="8479800" y="2478960"/>
                  <a:ext cx="2330280" cy="163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图片 14" descr=""/>
                <p:cNvPicPr/>
                <p:nvPr/>
              </p:nvPicPr>
              <p:blipFill>
                <a:blip r:embed="rId2"/>
                <a:stretch/>
              </p:blipFill>
              <p:spPr>
                <a:xfrm flipH="1" rot="5400000">
                  <a:off x="8009280" y="4577760"/>
                  <a:ext cx="975600" cy="177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图片 27" descr=""/>
                <p:cNvPicPr/>
                <p:nvPr/>
              </p:nvPicPr>
              <p:blipFill>
                <a:blip r:embed="rId3"/>
                <a:stretch/>
              </p:blipFill>
              <p:spPr>
                <a:xfrm rot="16200000">
                  <a:off x="10299240" y="4577760"/>
                  <a:ext cx="975600" cy="177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1" name="组合 31"/>
              <p:cNvGrpSpPr/>
              <p:nvPr/>
            </p:nvGrpSpPr>
            <p:grpSpPr>
              <a:xfrm>
                <a:off x="8159400" y="1590120"/>
                <a:ext cx="462600" cy="462600"/>
                <a:chOff x="8159400" y="1590120"/>
                <a:chExt cx="462600" cy="462600"/>
              </a:xfrm>
            </p:grpSpPr>
            <p:sp>
              <p:nvSpPr>
                <p:cNvPr id="82" name="半闭框 32"/>
                <p:cNvSpPr/>
                <p:nvPr/>
              </p:nvSpPr>
              <p:spPr>
                <a:xfrm>
                  <a:off x="8159400" y="1590120"/>
                  <a:ext cx="462600" cy="46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半闭框 33"/>
                <p:cNvSpPr/>
                <p:nvPr/>
              </p:nvSpPr>
              <p:spPr>
                <a:xfrm>
                  <a:off x="8285400" y="1715760"/>
                  <a:ext cx="261000" cy="261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组合 34"/>
              <p:cNvGrpSpPr/>
              <p:nvPr/>
            </p:nvGrpSpPr>
            <p:grpSpPr>
              <a:xfrm>
                <a:off x="10650960" y="4956840"/>
                <a:ext cx="462600" cy="462600"/>
                <a:chOff x="10650960" y="4956840"/>
                <a:chExt cx="462600" cy="462600"/>
              </a:xfrm>
            </p:grpSpPr>
            <p:sp>
              <p:nvSpPr>
                <p:cNvPr id="85" name="半闭框 35"/>
                <p:cNvSpPr/>
                <p:nvPr/>
              </p:nvSpPr>
              <p:spPr>
                <a:xfrm rot="10800000">
                  <a:off x="10650960" y="4956840"/>
                  <a:ext cx="462600" cy="46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半闭框 36"/>
                <p:cNvSpPr/>
                <p:nvPr/>
              </p:nvSpPr>
              <p:spPr>
                <a:xfrm rot="10800000">
                  <a:off x="10739160" y="5043240"/>
                  <a:ext cx="261000" cy="261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组合 30"/>
            <p:cNvGrpSpPr/>
            <p:nvPr/>
          </p:nvGrpSpPr>
          <p:grpSpPr>
            <a:xfrm>
              <a:off x="838080" y="712800"/>
              <a:ext cx="2400120" cy="1009440"/>
              <a:chOff x="838080" y="712800"/>
              <a:chExt cx="2400120" cy="1009440"/>
            </a:xfrm>
          </p:grpSpPr>
          <p:sp>
            <p:nvSpPr>
              <p:cNvPr id="88" name="任意多边形 37"/>
              <p:cNvSpPr/>
              <p:nvPr/>
            </p:nvSpPr>
            <p:spPr>
              <a:xfrm>
                <a:off x="843120" y="712800"/>
                <a:ext cx="2363040" cy="1009440"/>
              </a:xfrm>
              <a:prstGeom prst="pie">
                <a:avLst/>
              </a:pr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文本框 38"/>
              <p:cNvSpPr/>
              <p:nvPr/>
            </p:nvSpPr>
            <p:spPr>
              <a:xfrm>
                <a:off x="838080" y="914040"/>
                <a:ext cx="24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方正汉真广标简体"/>
                    <a:ea typeface="方正汉真广标简体"/>
                  </a:rPr>
                  <a:t>基本信息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组合 39"/>
          <p:cNvGrpSpPr/>
          <p:nvPr/>
        </p:nvGrpSpPr>
        <p:grpSpPr>
          <a:xfrm>
            <a:off x="831960" y="720720"/>
            <a:ext cx="10275480" cy="5263920"/>
            <a:chOff x="831960" y="720720"/>
            <a:chExt cx="10275480" cy="5263920"/>
          </a:xfrm>
        </p:grpSpPr>
        <p:grpSp>
          <p:nvGrpSpPr>
            <p:cNvPr id="91" name="组合 40"/>
            <p:cNvGrpSpPr/>
            <p:nvPr/>
          </p:nvGrpSpPr>
          <p:grpSpPr>
            <a:xfrm>
              <a:off x="1195920" y="1296360"/>
              <a:ext cx="4682520" cy="4688280"/>
              <a:chOff x="1195920" y="1296360"/>
              <a:chExt cx="4682520" cy="4688280"/>
            </a:xfrm>
          </p:grpSpPr>
          <p:sp>
            <p:nvSpPr>
              <p:cNvPr id="92" name="文本框 61"/>
              <p:cNvSpPr/>
              <p:nvPr/>
            </p:nvSpPr>
            <p:spPr>
              <a:xfrm>
                <a:off x="3478320" y="1296360"/>
                <a:ext cx="240012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文本框 62"/>
              <p:cNvSpPr/>
              <p:nvPr/>
            </p:nvSpPr>
            <p:spPr>
              <a:xfrm>
                <a:off x="3407040" y="4728600"/>
                <a:ext cx="948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男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矩形 63"/>
              <p:cNvSpPr/>
              <p:nvPr/>
            </p:nvSpPr>
            <p:spPr>
              <a:xfrm>
                <a:off x="1195920" y="2052360"/>
                <a:ext cx="2093760" cy="39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微博名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出身年月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在读学校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家庭住址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性别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64"/>
              <p:cNvSpPr/>
              <p:nvPr/>
            </p:nvSpPr>
            <p:spPr>
              <a:xfrm>
                <a:off x="3519720" y="2066400"/>
                <a:ext cx="173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杨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不是超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65"/>
              <p:cNvSpPr/>
              <p:nvPr/>
            </p:nvSpPr>
            <p:spPr>
              <a:xfrm>
                <a:off x="3325320" y="2769120"/>
                <a:ext cx="1634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992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年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9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66"/>
              <p:cNvSpPr/>
              <p:nvPr/>
            </p:nvSpPr>
            <p:spPr>
              <a:xfrm>
                <a:off x="3624120" y="3373200"/>
                <a:ext cx="91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西南大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67"/>
              <p:cNvSpPr/>
              <p:nvPr/>
            </p:nvSpPr>
            <p:spPr>
              <a:xfrm>
                <a:off x="3624120" y="4023000"/>
                <a:ext cx="91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广东惠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组合 41"/>
            <p:cNvGrpSpPr/>
            <p:nvPr/>
          </p:nvGrpSpPr>
          <p:grpSpPr>
            <a:xfrm>
              <a:off x="8153280" y="1598040"/>
              <a:ext cx="2954160" cy="3828240"/>
              <a:chOff x="8153280" y="1598040"/>
              <a:chExt cx="2954160" cy="3828240"/>
            </a:xfrm>
          </p:grpSpPr>
          <p:grpSp>
            <p:nvGrpSpPr>
              <p:cNvPr id="100" name="组合 45"/>
              <p:cNvGrpSpPr/>
              <p:nvPr/>
            </p:nvGrpSpPr>
            <p:grpSpPr>
              <a:xfrm>
                <a:off x="8295840" y="1820160"/>
                <a:ext cx="2762280" cy="3404520"/>
                <a:chOff x="8295840" y="1820160"/>
                <a:chExt cx="2762280" cy="3404520"/>
              </a:xfrm>
            </p:grpSpPr>
            <p:grpSp>
              <p:nvGrpSpPr>
                <p:cNvPr id="101" name="组合 52"/>
                <p:cNvGrpSpPr/>
                <p:nvPr/>
              </p:nvGrpSpPr>
              <p:grpSpPr>
                <a:xfrm>
                  <a:off x="8295840" y="1820160"/>
                  <a:ext cx="2762280" cy="3404520"/>
                  <a:chOff x="8295840" y="1820160"/>
                  <a:chExt cx="2762280" cy="3404520"/>
                </a:xfrm>
              </p:grpSpPr>
              <p:sp>
                <p:nvSpPr>
                  <p:cNvPr id="102" name="矩形 56"/>
                  <p:cNvSpPr/>
                  <p:nvPr/>
                </p:nvSpPr>
                <p:spPr>
                  <a:xfrm>
                    <a:off x="8387280" y="1820160"/>
                    <a:ext cx="2502720" cy="3371400"/>
                  </a:xfrm>
                  <a:prstGeom prst="rect">
                    <a:avLst/>
                  </a:prstGeom>
                  <a:solidFill>
                    <a:srgbClr val="dfcf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文本框 57"/>
                  <p:cNvSpPr/>
                  <p:nvPr/>
                </p:nvSpPr>
                <p:spPr>
                  <a:xfrm>
                    <a:off x="8390880" y="1877760"/>
                    <a:ext cx="266724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1c0a06"/>
                        </a:solidFill>
                        <a:latin typeface="Adobe Garamond Pro Bold"/>
                        <a:ea typeface="Adobe Myungjo Std M"/>
                      </a:rPr>
                      <a:t>WANTED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文本框 58"/>
                  <p:cNvSpPr/>
                  <p:nvPr/>
                </p:nvSpPr>
                <p:spPr>
                  <a:xfrm>
                    <a:off x="8295840" y="4309920"/>
                    <a:ext cx="266724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1c0a06"/>
                        </a:solidFill>
                        <a:latin typeface="Adobe Garamond Pro Bold"/>
                        <a:ea typeface="Adobe Myungjo Std M"/>
                      </a:rPr>
                      <a:t>YANG C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文本框 59"/>
                  <p:cNvSpPr/>
                  <p:nvPr/>
                </p:nvSpPr>
                <p:spPr>
                  <a:xfrm>
                    <a:off x="8295840" y="4097520"/>
                    <a:ext cx="26672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1c0a06"/>
                        </a:solidFill>
                        <a:latin typeface="Adobe Myungjo Std M"/>
                      </a:rPr>
                      <a:t>DEAD OR ALIV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文本框 60"/>
                  <p:cNvSpPr/>
                  <p:nvPr/>
                </p:nvSpPr>
                <p:spPr>
                  <a:xfrm>
                    <a:off x="8295840" y="4764960"/>
                    <a:ext cx="2667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1c0a06"/>
                        </a:solidFill>
                        <a:latin typeface="Adobe Garamond Pro Bold"/>
                        <a:ea typeface="Adobe Myungjo Std M"/>
                      </a:rPr>
                      <a:t>$</a:t>
                    </a:r>
                    <a:r>
                      <a:rPr b="0" lang="en-US" sz="1600" spc="-1" strike="noStrike">
                        <a:solidFill>
                          <a:srgbClr val="1c0a06"/>
                        </a:solidFill>
                        <a:latin typeface="Adobe Garamond Pro Bold"/>
                        <a:ea typeface="Adobe Myungjo Std M"/>
                      </a:rPr>
                      <a:t>1 0 , 0 0 0  0 0 0  0 0 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" name="图片 53" descr=""/>
                <p:cNvPicPr/>
                <p:nvPr/>
              </p:nvPicPr>
              <p:blipFill>
                <a:blip r:embed="rId4"/>
                <a:srcRect l="0" t="0" r="0" b="11370"/>
                <a:stretch/>
              </p:blipFill>
              <p:spPr>
                <a:xfrm>
                  <a:off x="8473680" y="2486160"/>
                  <a:ext cx="2330280" cy="163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图片 54" descr=""/>
                <p:cNvPicPr/>
                <p:nvPr/>
              </p:nvPicPr>
              <p:blipFill>
                <a:blip r:embed="rId5"/>
                <a:stretch/>
              </p:blipFill>
              <p:spPr>
                <a:xfrm flipH="1" rot="5400000">
                  <a:off x="8003160" y="4583880"/>
                  <a:ext cx="975240" cy="177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图片 55" descr=""/>
                <p:cNvPicPr/>
                <p:nvPr/>
              </p:nvPicPr>
              <p:blipFill>
                <a:blip r:embed="rId6"/>
                <a:stretch/>
              </p:blipFill>
              <p:spPr>
                <a:xfrm rot="16200000">
                  <a:off x="10293120" y="4583880"/>
                  <a:ext cx="975240" cy="177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0" name="组合 46"/>
              <p:cNvGrpSpPr/>
              <p:nvPr/>
            </p:nvGrpSpPr>
            <p:grpSpPr>
              <a:xfrm>
                <a:off x="8153280" y="1598040"/>
                <a:ext cx="462600" cy="462600"/>
                <a:chOff x="8153280" y="1598040"/>
                <a:chExt cx="462600" cy="462600"/>
              </a:xfrm>
            </p:grpSpPr>
            <p:sp>
              <p:nvSpPr>
                <p:cNvPr id="111" name="半闭框 50"/>
                <p:cNvSpPr/>
                <p:nvPr/>
              </p:nvSpPr>
              <p:spPr>
                <a:xfrm>
                  <a:off x="8153280" y="1598040"/>
                  <a:ext cx="462600" cy="46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半闭框 51"/>
                <p:cNvSpPr/>
                <p:nvPr/>
              </p:nvSpPr>
              <p:spPr>
                <a:xfrm>
                  <a:off x="8279280" y="1723680"/>
                  <a:ext cx="261000" cy="261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组合 47"/>
              <p:cNvGrpSpPr/>
              <p:nvPr/>
            </p:nvGrpSpPr>
            <p:grpSpPr>
              <a:xfrm>
                <a:off x="10644840" y="4963680"/>
                <a:ext cx="462600" cy="462600"/>
                <a:chOff x="10644840" y="4963680"/>
                <a:chExt cx="462600" cy="462600"/>
              </a:xfrm>
            </p:grpSpPr>
            <p:sp>
              <p:nvSpPr>
                <p:cNvPr id="114" name="半闭框 48"/>
                <p:cNvSpPr/>
                <p:nvPr/>
              </p:nvSpPr>
              <p:spPr>
                <a:xfrm rot="10800000">
                  <a:off x="10644840" y="4963680"/>
                  <a:ext cx="462600" cy="46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半闭框 49"/>
                <p:cNvSpPr/>
                <p:nvPr/>
              </p:nvSpPr>
              <p:spPr>
                <a:xfrm rot="10800000">
                  <a:off x="10733040" y="5050080"/>
                  <a:ext cx="261000" cy="261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" name="组合 42"/>
            <p:cNvGrpSpPr/>
            <p:nvPr/>
          </p:nvGrpSpPr>
          <p:grpSpPr>
            <a:xfrm>
              <a:off x="831960" y="720720"/>
              <a:ext cx="2400120" cy="1009440"/>
              <a:chOff x="831960" y="720720"/>
              <a:chExt cx="2400120" cy="1009440"/>
            </a:xfrm>
          </p:grpSpPr>
          <p:sp>
            <p:nvSpPr>
              <p:cNvPr id="117" name="任意多边形 43"/>
              <p:cNvSpPr/>
              <p:nvPr/>
            </p:nvSpPr>
            <p:spPr>
              <a:xfrm>
                <a:off x="837000" y="720720"/>
                <a:ext cx="2363040" cy="1009440"/>
              </a:xfrm>
              <a:prstGeom prst="pie">
                <a:avLst/>
              </a:pr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文本框 44"/>
              <p:cNvSpPr/>
              <p:nvPr/>
            </p:nvSpPr>
            <p:spPr>
              <a:xfrm>
                <a:off x="831960" y="921960"/>
                <a:ext cx="24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方正汉真广标简体"/>
                    <a:ea typeface="方正汉真广标简体"/>
                  </a:rPr>
                  <a:t>基本信息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1"/>
          <p:cNvGrpSpPr/>
          <p:nvPr/>
        </p:nvGrpSpPr>
        <p:grpSpPr>
          <a:xfrm>
            <a:off x="458640" y="712800"/>
            <a:ext cx="12038040" cy="5843880"/>
            <a:chOff x="458640" y="712800"/>
            <a:chExt cx="12038040" cy="5843880"/>
          </a:xfrm>
        </p:grpSpPr>
        <p:sp>
          <p:nvSpPr>
            <p:cNvPr id="120" name="文本框 5"/>
            <p:cNvSpPr/>
            <p:nvPr/>
          </p:nvSpPr>
          <p:spPr>
            <a:xfrm>
              <a:off x="4759920" y="5853240"/>
              <a:ext cx="24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爱折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6"/>
            <p:cNvSpPr/>
            <p:nvPr/>
          </p:nvSpPr>
          <p:spPr>
            <a:xfrm>
              <a:off x="5018040" y="2192040"/>
              <a:ext cx="2060640" cy="291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7"/>
            <p:cNvGrpSpPr/>
            <p:nvPr/>
          </p:nvGrpSpPr>
          <p:grpSpPr>
            <a:xfrm>
              <a:off x="4495680" y="2306880"/>
              <a:ext cx="3105360" cy="2619720"/>
              <a:chOff x="4495680" y="2306880"/>
              <a:chExt cx="3105360" cy="2619720"/>
            </a:xfrm>
          </p:grpSpPr>
          <p:sp>
            <p:nvSpPr>
              <p:cNvPr id="123" name="文本框 8"/>
              <p:cNvSpPr/>
              <p:nvPr/>
            </p:nvSpPr>
            <p:spPr>
              <a:xfrm>
                <a:off x="4495680" y="2306880"/>
                <a:ext cx="3105360" cy="19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e3d1f"/>
                    </a:solidFill>
                    <a:latin typeface="华康俪金黑W8(P)"/>
                    <a:ea typeface="华康俪金黑W8(P)"/>
                  </a:rPr>
                  <a:t>不怕忙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e3d1f"/>
                    </a:solidFill>
                    <a:latin typeface="华康俪金黑W8(P)"/>
                    <a:ea typeface="华康俪金黑W8(P)"/>
                  </a:rPr>
                  <a:t>就怕虚度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e3d1f"/>
                    </a:solidFill>
                    <a:latin typeface="华康俪金黑W8(P)"/>
                    <a:ea typeface="华康俪金黑W8(P)"/>
                  </a:rPr>
                  <a:t>用力折腾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矩形 9"/>
              <p:cNvSpPr/>
              <p:nvPr/>
            </p:nvSpPr>
            <p:spPr>
              <a:xfrm>
                <a:off x="4495680" y="4199040"/>
                <a:ext cx="308592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e3d1f"/>
                    </a:solidFill>
                    <a:latin typeface="华康俪金黑W8(P)"/>
                    <a:ea typeface="华康俪金黑W8(P)"/>
                  </a:rPr>
                  <a:t>不负初心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组合 10"/>
            <p:cNvGrpSpPr/>
            <p:nvPr/>
          </p:nvGrpSpPr>
          <p:grpSpPr>
            <a:xfrm>
              <a:off x="7375320" y="2383200"/>
              <a:ext cx="5121360" cy="2750760"/>
              <a:chOff x="7375320" y="2383200"/>
              <a:chExt cx="5121360" cy="2750760"/>
            </a:xfrm>
          </p:grpSpPr>
          <p:sp>
            <p:nvSpPr>
              <p:cNvPr id="126" name="文本框 11"/>
              <p:cNvSpPr/>
              <p:nvPr/>
            </p:nvSpPr>
            <p:spPr>
              <a:xfrm>
                <a:off x="7375320" y="2383200"/>
                <a:ext cx="51213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参加多项创新创业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训练营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矩形 12"/>
              <p:cNvSpPr/>
              <p:nvPr/>
            </p:nvSpPr>
            <p:spPr>
              <a:xfrm>
                <a:off x="8193960" y="3293280"/>
                <a:ext cx="2375280" cy="10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参与创办</a:t>
                </a:r>
                <a:r>
                  <a:rPr b="1" lang="zh-CN" sz="28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大学生微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负责团队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协作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和政府间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沟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矩形 13"/>
              <p:cNvSpPr/>
              <p:nvPr/>
            </p:nvSpPr>
            <p:spPr>
              <a:xfrm>
                <a:off x="8361360" y="4308840"/>
                <a:ext cx="2863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组织团队参加各类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创新创业大赛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组合 14"/>
            <p:cNvGrpSpPr/>
            <p:nvPr/>
          </p:nvGrpSpPr>
          <p:grpSpPr>
            <a:xfrm>
              <a:off x="458640" y="2338920"/>
              <a:ext cx="4160160" cy="2688840"/>
              <a:chOff x="458640" y="2338920"/>
              <a:chExt cx="4160160" cy="2688840"/>
            </a:xfrm>
          </p:grpSpPr>
          <p:sp>
            <p:nvSpPr>
              <p:cNvPr id="130" name="矩形 15"/>
              <p:cNvSpPr/>
              <p:nvPr/>
            </p:nvSpPr>
            <p:spPr>
              <a:xfrm>
                <a:off x="1103760" y="3048480"/>
                <a:ext cx="2741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暑期中小学生培训公司巫溪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负责人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矩形 16"/>
              <p:cNvSpPr/>
              <p:nvPr/>
            </p:nvSpPr>
            <p:spPr>
              <a:xfrm>
                <a:off x="458640" y="3958920"/>
                <a:ext cx="41601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三年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学生会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经历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策划组织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过多次大型学生活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矩形 17"/>
              <p:cNvSpPr/>
              <p:nvPr/>
            </p:nvSpPr>
            <p:spPr>
              <a:xfrm>
                <a:off x="1500120" y="2338920"/>
                <a:ext cx="2436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中国电信西南大学校园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团队长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任意多边形 18"/>
            <p:cNvSpPr/>
            <p:nvPr/>
          </p:nvSpPr>
          <p:spPr>
            <a:xfrm>
              <a:off x="4759920" y="2021760"/>
              <a:ext cx="391680" cy="379440"/>
            </a:xfrm>
            <a:prstGeom prst="pie">
              <a:avLst/>
            </a:prstGeom>
            <a:solidFill>
              <a:srgbClr val="9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19"/>
            <p:cNvSpPr/>
            <p:nvPr/>
          </p:nvSpPr>
          <p:spPr>
            <a:xfrm flipH="1" flipV="1">
              <a:off x="6958440" y="4916520"/>
              <a:ext cx="391680" cy="379440"/>
            </a:xfrm>
            <a:prstGeom prst="pie">
              <a:avLst/>
            </a:prstGeom>
            <a:solidFill>
              <a:srgbClr val="9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组合 20"/>
            <p:cNvGrpSpPr/>
            <p:nvPr/>
          </p:nvGrpSpPr>
          <p:grpSpPr>
            <a:xfrm>
              <a:off x="838800" y="712800"/>
              <a:ext cx="2400120" cy="1009440"/>
              <a:chOff x="838800" y="712800"/>
              <a:chExt cx="2400120" cy="1009440"/>
            </a:xfrm>
          </p:grpSpPr>
          <p:sp>
            <p:nvSpPr>
              <p:cNvPr id="136" name="任意多边形 21"/>
              <p:cNvSpPr/>
              <p:nvPr/>
            </p:nvSpPr>
            <p:spPr>
              <a:xfrm>
                <a:off x="843840" y="712800"/>
                <a:ext cx="2363040" cy="1009440"/>
              </a:xfrm>
              <a:prstGeom prst="pie">
                <a:avLst/>
              </a:pr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文本框 22"/>
              <p:cNvSpPr/>
              <p:nvPr/>
            </p:nvSpPr>
            <p:spPr>
              <a:xfrm>
                <a:off x="838800" y="914040"/>
                <a:ext cx="24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方正汉真广标简体"/>
                    <a:ea typeface="方正汉真广标简体"/>
                  </a:rPr>
                  <a:t>性格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组合 41"/>
          <p:cNvGrpSpPr/>
          <p:nvPr/>
        </p:nvGrpSpPr>
        <p:grpSpPr>
          <a:xfrm>
            <a:off x="458640" y="714240"/>
            <a:ext cx="12038040" cy="5844240"/>
            <a:chOff x="458640" y="714240"/>
            <a:chExt cx="12038040" cy="5844240"/>
          </a:xfrm>
        </p:grpSpPr>
        <p:sp>
          <p:nvSpPr>
            <p:cNvPr id="139" name="文本框 42"/>
            <p:cNvSpPr/>
            <p:nvPr/>
          </p:nvSpPr>
          <p:spPr>
            <a:xfrm>
              <a:off x="4759920" y="5855040"/>
              <a:ext cx="24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爱折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43"/>
            <p:cNvSpPr/>
            <p:nvPr/>
          </p:nvSpPr>
          <p:spPr>
            <a:xfrm>
              <a:off x="5018040" y="2193480"/>
              <a:ext cx="2060640" cy="291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组合 44"/>
            <p:cNvGrpSpPr/>
            <p:nvPr/>
          </p:nvGrpSpPr>
          <p:grpSpPr>
            <a:xfrm>
              <a:off x="4495680" y="2308320"/>
              <a:ext cx="3105360" cy="2619720"/>
              <a:chOff x="4495680" y="2308320"/>
              <a:chExt cx="3105360" cy="2619720"/>
            </a:xfrm>
          </p:grpSpPr>
          <p:sp>
            <p:nvSpPr>
              <p:cNvPr id="142" name="文本框 58"/>
              <p:cNvSpPr/>
              <p:nvPr/>
            </p:nvSpPr>
            <p:spPr>
              <a:xfrm>
                <a:off x="4495680" y="2308320"/>
                <a:ext cx="3105360" cy="19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e3d1f"/>
                    </a:solidFill>
                    <a:latin typeface="华康俪金黑W8(P)"/>
                    <a:ea typeface="华康俪金黑W8(P)"/>
                  </a:rPr>
                  <a:t>不怕忙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e3d1f"/>
                    </a:solidFill>
                    <a:latin typeface="华康俪金黑W8(P)"/>
                    <a:ea typeface="华康俪金黑W8(P)"/>
                  </a:rPr>
                  <a:t>就怕虚度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e3d1f"/>
                    </a:solidFill>
                    <a:latin typeface="华康俪金黑W8(P)"/>
                    <a:ea typeface="华康俪金黑W8(P)"/>
                  </a:rPr>
                  <a:t>用力折腾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矩形 59"/>
              <p:cNvSpPr/>
              <p:nvPr/>
            </p:nvSpPr>
            <p:spPr>
              <a:xfrm>
                <a:off x="4495680" y="4200480"/>
                <a:ext cx="308592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e3d1f"/>
                    </a:solidFill>
                    <a:latin typeface="华康俪金黑W8(P)"/>
                    <a:ea typeface="华康俪金黑W8(P)"/>
                  </a:rPr>
                  <a:t>不负初心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组合 45"/>
            <p:cNvGrpSpPr/>
            <p:nvPr/>
          </p:nvGrpSpPr>
          <p:grpSpPr>
            <a:xfrm>
              <a:off x="7375320" y="2385000"/>
              <a:ext cx="5121360" cy="2750760"/>
              <a:chOff x="7375320" y="2385000"/>
              <a:chExt cx="5121360" cy="2750760"/>
            </a:xfrm>
          </p:grpSpPr>
          <p:sp>
            <p:nvSpPr>
              <p:cNvPr id="145" name="文本框 55"/>
              <p:cNvSpPr/>
              <p:nvPr/>
            </p:nvSpPr>
            <p:spPr>
              <a:xfrm>
                <a:off x="7375320" y="2385000"/>
                <a:ext cx="51213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参加多项创新创业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训练营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矩形 56"/>
              <p:cNvSpPr/>
              <p:nvPr/>
            </p:nvSpPr>
            <p:spPr>
              <a:xfrm>
                <a:off x="8193960" y="3295080"/>
                <a:ext cx="2375280" cy="10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参与创办</a:t>
                </a:r>
                <a:r>
                  <a:rPr b="1" lang="zh-CN" sz="28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大学生微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负责团队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协作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和政府间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沟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矩形 57"/>
              <p:cNvSpPr/>
              <p:nvPr/>
            </p:nvSpPr>
            <p:spPr>
              <a:xfrm>
                <a:off x="8361360" y="4310640"/>
                <a:ext cx="2863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组织团队参加各类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创新创业大赛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组合 46"/>
            <p:cNvGrpSpPr/>
            <p:nvPr/>
          </p:nvGrpSpPr>
          <p:grpSpPr>
            <a:xfrm>
              <a:off x="458640" y="2340720"/>
              <a:ext cx="4160160" cy="2689200"/>
              <a:chOff x="458640" y="2340720"/>
              <a:chExt cx="4160160" cy="2689200"/>
            </a:xfrm>
          </p:grpSpPr>
          <p:sp>
            <p:nvSpPr>
              <p:cNvPr id="149" name="矩形 52"/>
              <p:cNvSpPr/>
              <p:nvPr/>
            </p:nvSpPr>
            <p:spPr>
              <a:xfrm>
                <a:off x="1103760" y="3050280"/>
                <a:ext cx="2741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暑期中小学生培训公司巫溪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负责人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矩形 53"/>
              <p:cNvSpPr/>
              <p:nvPr/>
            </p:nvSpPr>
            <p:spPr>
              <a:xfrm>
                <a:off x="458640" y="3961080"/>
                <a:ext cx="41601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三年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学生会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经历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策划组织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过多次大型学生活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矩形 54"/>
              <p:cNvSpPr/>
              <p:nvPr/>
            </p:nvSpPr>
            <p:spPr>
              <a:xfrm>
                <a:off x="1500120" y="2340720"/>
                <a:ext cx="2436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中国电信西南大学校园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团队长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任意多边形 47"/>
            <p:cNvSpPr/>
            <p:nvPr/>
          </p:nvSpPr>
          <p:spPr>
            <a:xfrm>
              <a:off x="4759920" y="2023200"/>
              <a:ext cx="391680" cy="379440"/>
            </a:xfrm>
            <a:prstGeom prst="pie">
              <a:avLst/>
            </a:prstGeom>
            <a:solidFill>
              <a:srgbClr val="9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48"/>
            <p:cNvSpPr/>
            <p:nvPr/>
          </p:nvSpPr>
          <p:spPr>
            <a:xfrm flipH="1" flipV="1">
              <a:off x="6958440" y="4918320"/>
              <a:ext cx="391680" cy="379440"/>
            </a:xfrm>
            <a:prstGeom prst="pie">
              <a:avLst/>
            </a:prstGeom>
            <a:solidFill>
              <a:srgbClr val="9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组合 49"/>
            <p:cNvGrpSpPr/>
            <p:nvPr/>
          </p:nvGrpSpPr>
          <p:grpSpPr>
            <a:xfrm>
              <a:off x="838800" y="714240"/>
              <a:ext cx="2400120" cy="1009440"/>
              <a:chOff x="838800" y="714240"/>
              <a:chExt cx="2400120" cy="1009440"/>
            </a:xfrm>
          </p:grpSpPr>
          <p:sp>
            <p:nvSpPr>
              <p:cNvPr id="155" name="任意多边形 50"/>
              <p:cNvSpPr/>
              <p:nvPr/>
            </p:nvSpPr>
            <p:spPr>
              <a:xfrm>
                <a:off x="843840" y="714240"/>
                <a:ext cx="2363040" cy="1009440"/>
              </a:xfrm>
              <a:prstGeom prst="pie">
                <a:avLst/>
              </a:pr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文本框 51"/>
              <p:cNvSpPr/>
              <p:nvPr/>
            </p:nvSpPr>
            <p:spPr>
              <a:xfrm>
                <a:off x="838800" y="915480"/>
                <a:ext cx="24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方正汉真广标简体"/>
                    <a:ea typeface="方正汉真广标简体"/>
                  </a:rPr>
                  <a:t>性格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1"/>
          <p:cNvGrpSpPr/>
          <p:nvPr/>
        </p:nvGrpSpPr>
        <p:grpSpPr>
          <a:xfrm>
            <a:off x="838080" y="712800"/>
            <a:ext cx="10347120" cy="5843880"/>
            <a:chOff x="838080" y="712800"/>
            <a:chExt cx="10347120" cy="5843880"/>
          </a:xfrm>
        </p:grpSpPr>
        <p:grpSp>
          <p:nvGrpSpPr>
            <p:cNvPr id="158" name="组合 68"/>
            <p:cNvGrpSpPr/>
            <p:nvPr/>
          </p:nvGrpSpPr>
          <p:grpSpPr>
            <a:xfrm>
              <a:off x="1934280" y="2715840"/>
              <a:ext cx="3306240" cy="2614680"/>
              <a:chOff x="1934280" y="2715840"/>
              <a:chExt cx="3306240" cy="2614680"/>
            </a:xfrm>
          </p:grpSpPr>
          <p:sp>
            <p:nvSpPr>
              <p:cNvPr id="159" name="任意多边形 69"/>
              <p:cNvSpPr/>
              <p:nvPr/>
            </p:nvSpPr>
            <p:spPr>
              <a:xfrm flipH="1" rot="20022000">
                <a:off x="2100960" y="3299400"/>
                <a:ext cx="2972880" cy="1447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文本框 70"/>
              <p:cNvSpPr/>
              <p:nvPr/>
            </p:nvSpPr>
            <p:spPr>
              <a:xfrm rot="21259200">
                <a:off x="2404800" y="3642120"/>
                <a:ext cx="251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c00000"/>
                    </a:solidFill>
                    <a:latin typeface="华康俪金黑W8(P)"/>
                    <a:ea typeface="华康俪金黑W8(P)"/>
                  </a:rPr>
                  <a:t>兼职联盟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7"/>
            <p:cNvGrpSpPr/>
            <p:nvPr/>
          </p:nvGrpSpPr>
          <p:grpSpPr>
            <a:xfrm>
              <a:off x="1553400" y="1971000"/>
              <a:ext cx="3641400" cy="2003400"/>
              <a:chOff x="1553400" y="1971000"/>
              <a:chExt cx="3641400" cy="2003400"/>
            </a:xfrm>
          </p:grpSpPr>
          <p:sp>
            <p:nvSpPr>
              <p:cNvPr id="162" name="任意多边形 64"/>
              <p:cNvSpPr/>
              <p:nvPr/>
            </p:nvSpPr>
            <p:spPr>
              <a:xfrm flipH="1" rot="21023400">
                <a:off x="1649520" y="2248560"/>
                <a:ext cx="3448080" cy="144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文本框 65"/>
              <p:cNvSpPr/>
              <p:nvPr/>
            </p:nvSpPr>
            <p:spPr>
              <a:xfrm rot="660000">
                <a:off x="2028240" y="2616480"/>
                <a:ext cx="291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c00000"/>
                    </a:solidFill>
                    <a:latin typeface="华康俪金黑W8(P)"/>
                    <a:ea typeface="华康俪金黑W8(P)"/>
                  </a:rPr>
                  <a:t>教学信息中心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任意多边形 66"/>
            <p:cNvSpPr/>
            <p:nvPr/>
          </p:nvSpPr>
          <p:spPr>
            <a:xfrm flipV="1" rot="20128200">
              <a:off x="7137720" y="2640960"/>
              <a:ext cx="3918960" cy="147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62"/>
            <p:cNvSpPr/>
            <p:nvPr/>
          </p:nvSpPr>
          <p:spPr>
            <a:xfrm rot="13827600">
              <a:off x="3670560" y="1476720"/>
              <a:ext cx="1642680" cy="144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5"/>
            <p:cNvSpPr/>
            <p:nvPr/>
          </p:nvSpPr>
          <p:spPr>
            <a:xfrm>
              <a:off x="6989040" y="1656720"/>
              <a:ext cx="3448080" cy="144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组合 10"/>
            <p:cNvGrpSpPr/>
            <p:nvPr/>
          </p:nvGrpSpPr>
          <p:grpSpPr>
            <a:xfrm>
              <a:off x="838080" y="712800"/>
              <a:ext cx="2400120" cy="1009440"/>
              <a:chOff x="838080" y="712800"/>
              <a:chExt cx="2400120" cy="1009440"/>
            </a:xfrm>
          </p:grpSpPr>
          <p:sp>
            <p:nvSpPr>
              <p:cNvPr id="168" name="任意多边形 9"/>
              <p:cNvSpPr/>
              <p:nvPr/>
            </p:nvSpPr>
            <p:spPr>
              <a:xfrm>
                <a:off x="843120" y="712800"/>
                <a:ext cx="2363040" cy="1009440"/>
              </a:xfrm>
              <a:prstGeom prst="pie">
                <a:avLst/>
              </a:pr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文本框 4"/>
              <p:cNvSpPr/>
              <p:nvPr/>
            </p:nvSpPr>
            <p:spPr>
              <a:xfrm>
                <a:off x="838080" y="914040"/>
                <a:ext cx="24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方正汉真广标简体"/>
                    <a:ea typeface="方正汉真广标简体"/>
                  </a:rPr>
                  <a:t>性格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文本框 6"/>
            <p:cNvSpPr/>
            <p:nvPr/>
          </p:nvSpPr>
          <p:spPr>
            <a:xfrm>
              <a:off x="4895640" y="5853240"/>
              <a:ext cx="24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爱团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"/>
            <p:cNvSpPr/>
            <p:nvPr/>
          </p:nvSpPr>
          <p:spPr>
            <a:xfrm>
              <a:off x="5951160" y="2002680"/>
              <a:ext cx="289440" cy="279360"/>
            </a:xfrm>
            <a:prstGeom prst="pie">
              <a:avLst/>
            </a:prstGeom>
            <a:solidFill>
              <a:srgbClr val="ec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空心弧 35"/>
            <p:cNvSpPr/>
            <p:nvPr/>
          </p:nvSpPr>
          <p:spPr>
            <a:xfrm>
              <a:off x="4978440" y="2311200"/>
              <a:ext cx="2235240" cy="2235240"/>
            </a:xfrm>
            <a:prstGeom prst="blockArc">
              <a:avLst>
                <a:gd name="adj1" fmla="val 10800000"/>
                <a:gd name="adj2" fmla="val 0"/>
                <a:gd name="adj3" fmla="val 482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36"/>
            <p:cNvSpPr/>
            <p:nvPr/>
          </p:nvSpPr>
          <p:spPr>
            <a:xfrm>
              <a:off x="4895640" y="2890080"/>
              <a:ext cx="2400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c1c24"/>
                  </a:solidFill>
                  <a:latin typeface="方正汉真广标简体"/>
                  <a:ea typeface="方正汉真广标简体"/>
                </a:rPr>
                <a:t>聚众造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c1c24"/>
                  </a:solidFill>
                  <a:latin typeface="方正汉真广标简体"/>
                  <a:ea typeface="方正汉真广标简体"/>
                </a:rPr>
                <a:t>更多欢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组合 2"/>
            <p:cNvGrpSpPr/>
            <p:nvPr/>
          </p:nvGrpSpPr>
          <p:grpSpPr>
            <a:xfrm>
              <a:off x="6035400" y="2013120"/>
              <a:ext cx="1479600" cy="2850480"/>
              <a:chOff x="6035400" y="2013120"/>
              <a:chExt cx="1479600" cy="2850480"/>
            </a:xfrm>
          </p:grpSpPr>
          <p:sp>
            <p:nvSpPr>
              <p:cNvPr id="175" name="Freeform 5"/>
              <p:cNvSpPr/>
              <p:nvPr/>
            </p:nvSpPr>
            <p:spPr>
              <a:xfrm rot="960000">
                <a:off x="6277680" y="20473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5"/>
              <p:cNvSpPr/>
              <p:nvPr/>
            </p:nvSpPr>
            <p:spPr>
              <a:xfrm rot="1740000">
                <a:off x="6577920" y="217584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5"/>
              <p:cNvSpPr/>
              <p:nvPr/>
            </p:nvSpPr>
            <p:spPr>
              <a:xfrm rot="2680200">
                <a:off x="6841440" y="23673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rot="3544200">
                <a:off x="7047720" y="262008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 rot="4450200">
                <a:off x="7179120" y="291744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5"/>
              <p:cNvSpPr/>
              <p:nvPr/>
            </p:nvSpPr>
            <p:spPr>
              <a:xfrm rot="5400000">
                <a:off x="7230600" y="32443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5"/>
              <p:cNvSpPr/>
              <p:nvPr/>
            </p:nvSpPr>
            <p:spPr>
              <a:xfrm rot="6213000">
                <a:off x="7196400" y="35737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5"/>
              <p:cNvSpPr/>
              <p:nvPr/>
            </p:nvSpPr>
            <p:spPr>
              <a:xfrm rot="7022400">
                <a:off x="7090560" y="387540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5"/>
              <p:cNvSpPr/>
              <p:nvPr/>
            </p:nvSpPr>
            <p:spPr>
              <a:xfrm rot="7825200">
                <a:off x="6904800" y="41439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5"/>
              <p:cNvSpPr/>
              <p:nvPr/>
            </p:nvSpPr>
            <p:spPr>
              <a:xfrm rot="8776200">
                <a:off x="6656040" y="435600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"/>
              <p:cNvSpPr/>
              <p:nvPr/>
            </p:nvSpPr>
            <p:spPr>
              <a:xfrm rot="9640200">
                <a:off x="6365520" y="45021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"/>
              <p:cNvSpPr/>
              <p:nvPr/>
            </p:nvSpPr>
            <p:spPr>
              <a:xfrm rot="10421400">
                <a:off x="6049440" y="45691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组合 49"/>
            <p:cNvGrpSpPr/>
            <p:nvPr/>
          </p:nvGrpSpPr>
          <p:grpSpPr>
            <a:xfrm>
              <a:off x="4676760" y="2009880"/>
              <a:ext cx="1479600" cy="2850480"/>
              <a:chOff x="4676760" y="2009880"/>
              <a:chExt cx="1479600" cy="2850480"/>
            </a:xfrm>
          </p:grpSpPr>
          <p:sp>
            <p:nvSpPr>
              <p:cNvPr id="188" name="Freeform 5"/>
              <p:cNvSpPr/>
              <p:nvPr/>
            </p:nvSpPr>
            <p:spPr>
              <a:xfrm flipH="1" rot="20640000">
                <a:off x="5623920" y="204408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5"/>
              <p:cNvSpPr/>
              <p:nvPr/>
            </p:nvSpPr>
            <p:spPr>
              <a:xfrm flipH="1" rot="19860000">
                <a:off x="5323680" y="2172600"/>
                <a:ext cx="289440" cy="27900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5"/>
              <p:cNvSpPr/>
              <p:nvPr/>
            </p:nvSpPr>
            <p:spPr>
              <a:xfrm flipH="1" rot="18919800">
                <a:off x="5060160" y="23641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"/>
              <p:cNvSpPr/>
              <p:nvPr/>
            </p:nvSpPr>
            <p:spPr>
              <a:xfrm flipH="1" rot="18055800">
                <a:off x="4853880" y="261684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5"/>
              <p:cNvSpPr/>
              <p:nvPr/>
            </p:nvSpPr>
            <p:spPr>
              <a:xfrm flipH="1" rot="17149800">
                <a:off x="4723200" y="2914200"/>
                <a:ext cx="28908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5"/>
              <p:cNvSpPr/>
              <p:nvPr/>
            </p:nvSpPr>
            <p:spPr>
              <a:xfrm flipH="1" rot="16200000">
                <a:off x="4671720" y="324108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"/>
              <p:cNvSpPr/>
              <p:nvPr/>
            </p:nvSpPr>
            <p:spPr>
              <a:xfrm flipH="1" rot="15387000">
                <a:off x="4705200" y="3570480"/>
                <a:ext cx="289440" cy="27972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 flipH="1" rot="14577600">
                <a:off x="4811040" y="38721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 flipH="1" rot="13774800">
                <a:off x="4996800" y="41407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"/>
              <p:cNvSpPr/>
              <p:nvPr/>
            </p:nvSpPr>
            <p:spPr>
              <a:xfrm flipH="1" rot="12823800">
                <a:off x="5245560" y="43527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"/>
              <p:cNvSpPr/>
              <p:nvPr/>
            </p:nvSpPr>
            <p:spPr>
              <a:xfrm flipH="1" rot="11959800">
                <a:off x="5536800" y="44989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"/>
              <p:cNvSpPr/>
              <p:nvPr/>
            </p:nvSpPr>
            <p:spPr>
              <a:xfrm flipH="1" rot="11178600">
                <a:off x="5852160" y="456588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文本框 3"/>
            <p:cNvSpPr/>
            <p:nvPr/>
          </p:nvSpPr>
          <p:spPr>
            <a:xfrm rot="20451600">
              <a:off x="7161480" y="2059200"/>
              <a:ext cx="29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齐翔创业团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63"/>
            <p:cNvSpPr/>
            <p:nvPr/>
          </p:nvSpPr>
          <p:spPr>
            <a:xfrm rot="862800">
              <a:off x="3048480" y="1945440"/>
              <a:ext cx="29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青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67"/>
            <p:cNvSpPr/>
            <p:nvPr/>
          </p:nvSpPr>
          <p:spPr>
            <a:xfrm rot="21300000">
              <a:off x="7542720" y="3155400"/>
              <a:ext cx="29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创新创业联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流程图: 数据 11"/>
            <p:cNvSpPr/>
            <p:nvPr/>
          </p:nvSpPr>
          <p:spPr>
            <a:xfrm flipH="1">
              <a:off x="4087800" y="4285440"/>
              <a:ext cx="4396320" cy="762120"/>
            </a:xfrm>
            <a:prstGeom prst="pie">
              <a:avLst/>
            </a:prstGeom>
            <a:solidFill>
              <a:srgbClr val="f15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71"/>
            <p:cNvSpPr/>
            <p:nvPr/>
          </p:nvSpPr>
          <p:spPr>
            <a:xfrm>
              <a:off x="4376160" y="4278960"/>
              <a:ext cx="383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(P)"/>
                  <a:ea typeface="华康俪金黑W8(P)"/>
                </a:rPr>
                <a:t>团队是跟小伙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(P)"/>
                  <a:ea typeface="华康俪金黑W8(P)"/>
                </a:rPr>
                <a:t>吃喝玩乐的好借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72"/>
          <p:cNvGrpSpPr/>
          <p:nvPr/>
        </p:nvGrpSpPr>
        <p:grpSpPr>
          <a:xfrm>
            <a:off x="838080" y="712800"/>
            <a:ext cx="10347120" cy="5843880"/>
            <a:chOff x="838080" y="712800"/>
            <a:chExt cx="10347120" cy="5843880"/>
          </a:xfrm>
        </p:grpSpPr>
        <p:grpSp>
          <p:nvGrpSpPr>
            <p:cNvPr id="206" name="组合 73"/>
            <p:cNvGrpSpPr/>
            <p:nvPr/>
          </p:nvGrpSpPr>
          <p:grpSpPr>
            <a:xfrm>
              <a:off x="1934280" y="2715840"/>
              <a:ext cx="3306240" cy="2614680"/>
              <a:chOff x="1934280" y="2715840"/>
              <a:chExt cx="3306240" cy="2614680"/>
            </a:xfrm>
          </p:grpSpPr>
          <p:sp>
            <p:nvSpPr>
              <p:cNvPr id="207" name="任意多边形 118"/>
              <p:cNvSpPr/>
              <p:nvPr/>
            </p:nvSpPr>
            <p:spPr>
              <a:xfrm flipH="1" rot="20022000">
                <a:off x="2100960" y="3299400"/>
                <a:ext cx="2972880" cy="1447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文本框 119"/>
              <p:cNvSpPr/>
              <p:nvPr/>
            </p:nvSpPr>
            <p:spPr>
              <a:xfrm rot="21259200">
                <a:off x="2404800" y="3642120"/>
                <a:ext cx="251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c00000"/>
                    </a:solidFill>
                    <a:latin typeface="华康俪金黑W8(P)"/>
                    <a:ea typeface="华康俪金黑W8(P)"/>
                  </a:rPr>
                  <a:t>兼职联盟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组合 74"/>
            <p:cNvGrpSpPr/>
            <p:nvPr/>
          </p:nvGrpSpPr>
          <p:grpSpPr>
            <a:xfrm>
              <a:off x="1553400" y="1971000"/>
              <a:ext cx="3641400" cy="2003400"/>
              <a:chOff x="1553400" y="1971000"/>
              <a:chExt cx="3641400" cy="2003400"/>
            </a:xfrm>
          </p:grpSpPr>
          <p:sp>
            <p:nvSpPr>
              <p:cNvPr id="210" name="任意多边形 116"/>
              <p:cNvSpPr/>
              <p:nvPr/>
            </p:nvSpPr>
            <p:spPr>
              <a:xfrm flipH="1" rot="21023400">
                <a:off x="1649520" y="2248560"/>
                <a:ext cx="3448080" cy="144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文本框 117"/>
              <p:cNvSpPr/>
              <p:nvPr/>
            </p:nvSpPr>
            <p:spPr>
              <a:xfrm rot="660000">
                <a:off x="2028240" y="2616480"/>
                <a:ext cx="291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c00000"/>
                    </a:solidFill>
                    <a:latin typeface="华康俪金黑W8(P)"/>
                    <a:ea typeface="华康俪金黑W8(P)"/>
                  </a:rPr>
                  <a:t>教学信息中心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任意多边形 75"/>
            <p:cNvSpPr/>
            <p:nvPr/>
          </p:nvSpPr>
          <p:spPr>
            <a:xfrm flipV="1" rot="20128200">
              <a:off x="7137720" y="2640960"/>
              <a:ext cx="3918960" cy="147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76"/>
            <p:cNvSpPr/>
            <p:nvPr/>
          </p:nvSpPr>
          <p:spPr>
            <a:xfrm rot="13827600">
              <a:off x="3670560" y="1476720"/>
              <a:ext cx="1642680" cy="144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任意多边形 77"/>
            <p:cNvSpPr/>
            <p:nvPr/>
          </p:nvSpPr>
          <p:spPr>
            <a:xfrm>
              <a:off x="6989040" y="1656720"/>
              <a:ext cx="3448080" cy="144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组合 78"/>
            <p:cNvGrpSpPr/>
            <p:nvPr/>
          </p:nvGrpSpPr>
          <p:grpSpPr>
            <a:xfrm>
              <a:off x="838080" y="712800"/>
              <a:ext cx="2400120" cy="1009440"/>
              <a:chOff x="838080" y="712800"/>
              <a:chExt cx="2400120" cy="1009440"/>
            </a:xfrm>
          </p:grpSpPr>
          <p:sp>
            <p:nvSpPr>
              <p:cNvPr id="216" name="任意多边形 114"/>
              <p:cNvSpPr/>
              <p:nvPr/>
            </p:nvSpPr>
            <p:spPr>
              <a:xfrm>
                <a:off x="843120" y="712800"/>
                <a:ext cx="2363040" cy="1009440"/>
              </a:xfrm>
              <a:prstGeom prst="pie">
                <a:avLst/>
              </a:pr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文本框 115"/>
              <p:cNvSpPr/>
              <p:nvPr/>
            </p:nvSpPr>
            <p:spPr>
              <a:xfrm>
                <a:off x="838080" y="914040"/>
                <a:ext cx="24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方正汉真广标简体"/>
                    <a:ea typeface="方正汉真广标简体"/>
                  </a:rPr>
                  <a:t>性格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文本框 79"/>
            <p:cNvSpPr/>
            <p:nvPr/>
          </p:nvSpPr>
          <p:spPr>
            <a:xfrm>
              <a:off x="4895640" y="5853240"/>
              <a:ext cx="24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爱团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5951160" y="2002680"/>
              <a:ext cx="289440" cy="279360"/>
            </a:xfrm>
            <a:prstGeom prst="pie">
              <a:avLst/>
            </a:prstGeom>
            <a:solidFill>
              <a:srgbClr val="ec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空心弧 81"/>
            <p:cNvSpPr/>
            <p:nvPr/>
          </p:nvSpPr>
          <p:spPr>
            <a:xfrm>
              <a:off x="4978440" y="2311200"/>
              <a:ext cx="2235240" cy="2235240"/>
            </a:xfrm>
            <a:prstGeom prst="blockArc">
              <a:avLst>
                <a:gd name="adj1" fmla="val 10800000"/>
                <a:gd name="adj2" fmla="val 0"/>
                <a:gd name="adj3" fmla="val 4829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文本框 82"/>
            <p:cNvSpPr/>
            <p:nvPr/>
          </p:nvSpPr>
          <p:spPr>
            <a:xfrm>
              <a:off x="4895640" y="2890080"/>
              <a:ext cx="2400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c1c24"/>
                  </a:solidFill>
                  <a:latin typeface="方正汉真广标简体"/>
                  <a:ea typeface="方正汉真广标简体"/>
                </a:rPr>
                <a:t>聚众造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c1c24"/>
                  </a:solidFill>
                  <a:latin typeface="方正汉真广标简体"/>
                  <a:ea typeface="方正汉真广标简体"/>
                </a:rPr>
                <a:t>更多欢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组合 83"/>
            <p:cNvGrpSpPr/>
            <p:nvPr/>
          </p:nvGrpSpPr>
          <p:grpSpPr>
            <a:xfrm>
              <a:off x="6035400" y="2013120"/>
              <a:ext cx="1479600" cy="2850480"/>
              <a:chOff x="6035400" y="2013120"/>
              <a:chExt cx="1479600" cy="2850480"/>
            </a:xfrm>
          </p:grpSpPr>
          <p:sp>
            <p:nvSpPr>
              <p:cNvPr id="223" name="Freeform 5"/>
              <p:cNvSpPr/>
              <p:nvPr/>
            </p:nvSpPr>
            <p:spPr>
              <a:xfrm rot="960000">
                <a:off x="6277680" y="20473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5"/>
              <p:cNvSpPr/>
              <p:nvPr/>
            </p:nvSpPr>
            <p:spPr>
              <a:xfrm rot="1740000">
                <a:off x="6577920" y="217584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5"/>
              <p:cNvSpPr/>
              <p:nvPr/>
            </p:nvSpPr>
            <p:spPr>
              <a:xfrm rot="2680200">
                <a:off x="6841440" y="23673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5"/>
              <p:cNvSpPr/>
              <p:nvPr/>
            </p:nvSpPr>
            <p:spPr>
              <a:xfrm rot="3544200">
                <a:off x="7047720" y="262008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5"/>
              <p:cNvSpPr/>
              <p:nvPr/>
            </p:nvSpPr>
            <p:spPr>
              <a:xfrm rot="4450200">
                <a:off x="7179120" y="291744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5"/>
              <p:cNvSpPr/>
              <p:nvPr/>
            </p:nvSpPr>
            <p:spPr>
              <a:xfrm rot="5400000">
                <a:off x="7230600" y="32443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5"/>
              <p:cNvSpPr/>
              <p:nvPr/>
            </p:nvSpPr>
            <p:spPr>
              <a:xfrm rot="6213000">
                <a:off x="7196400" y="35737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5"/>
              <p:cNvSpPr/>
              <p:nvPr/>
            </p:nvSpPr>
            <p:spPr>
              <a:xfrm rot="7022400">
                <a:off x="7090560" y="387540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5"/>
              <p:cNvSpPr/>
              <p:nvPr/>
            </p:nvSpPr>
            <p:spPr>
              <a:xfrm rot="7825200">
                <a:off x="6904800" y="41439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5"/>
              <p:cNvSpPr/>
              <p:nvPr/>
            </p:nvSpPr>
            <p:spPr>
              <a:xfrm rot="8776200">
                <a:off x="6656040" y="435600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5"/>
              <p:cNvSpPr/>
              <p:nvPr/>
            </p:nvSpPr>
            <p:spPr>
              <a:xfrm rot="9640200">
                <a:off x="6365520" y="45021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5"/>
              <p:cNvSpPr/>
              <p:nvPr/>
            </p:nvSpPr>
            <p:spPr>
              <a:xfrm rot="10421400">
                <a:off x="6049440" y="45691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组合 84"/>
            <p:cNvGrpSpPr/>
            <p:nvPr/>
          </p:nvGrpSpPr>
          <p:grpSpPr>
            <a:xfrm>
              <a:off x="4676760" y="2009880"/>
              <a:ext cx="1479600" cy="2850480"/>
              <a:chOff x="4676760" y="2009880"/>
              <a:chExt cx="1479600" cy="2850480"/>
            </a:xfrm>
          </p:grpSpPr>
          <p:sp>
            <p:nvSpPr>
              <p:cNvPr id="236" name="Freeform 5"/>
              <p:cNvSpPr/>
              <p:nvPr/>
            </p:nvSpPr>
            <p:spPr>
              <a:xfrm flipH="1" rot="20640000">
                <a:off x="5623920" y="204408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5"/>
              <p:cNvSpPr/>
              <p:nvPr/>
            </p:nvSpPr>
            <p:spPr>
              <a:xfrm flipH="1" rot="19860000">
                <a:off x="5323680" y="2172600"/>
                <a:ext cx="289440" cy="27900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5"/>
              <p:cNvSpPr/>
              <p:nvPr/>
            </p:nvSpPr>
            <p:spPr>
              <a:xfrm flipH="1" rot="18919800">
                <a:off x="5060160" y="23641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5"/>
              <p:cNvSpPr/>
              <p:nvPr/>
            </p:nvSpPr>
            <p:spPr>
              <a:xfrm flipH="1" rot="18055800">
                <a:off x="4853880" y="261684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5"/>
              <p:cNvSpPr/>
              <p:nvPr/>
            </p:nvSpPr>
            <p:spPr>
              <a:xfrm flipH="1" rot="17149800">
                <a:off x="4723200" y="2914200"/>
                <a:ext cx="28908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"/>
              <p:cNvSpPr/>
              <p:nvPr/>
            </p:nvSpPr>
            <p:spPr>
              <a:xfrm flipH="1" rot="16200000">
                <a:off x="4671720" y="324108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"/>
              <p:cNvSpPr/>
              <p:nvPr/>
            </p:nvSpPr>
            <p:spPr>
              <a:xfrm flipH="1" rot="15387000">
                <a:off x="4705200" y="3570480"/>
                <a:ext cx="289440" cy="27972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"/>
              <p:cNvSpPr/>
              <p:nvPr/>
            </p:nvSpPr>
            <p:spPr>
              <a:xfrm flipH="1" rot="14577600">
                <a:off x="4811040" y="38721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"/>
              <p:cNvSpPr/>
              <p:nvPr/>
            </p:nvSpPr>
            <p:spPr>
              <a:xfrm flipH="1" rot="13774800">
                <a:off x="4996800" y="41407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"/>
              <p:cNvSpPr/>
              <p:nvPr/>
            </p:nvSpPr>
            <p:spPr>
              <a:xfrm flipH="1" rot="12823800">
                <a:off x="5245560" y="43527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5"/>
              <p:cNvSpPr/>
              <p:nvPr/>
            </p:nvSpPr>
            <p:spPr>
              <a:xfrm flipH="1" rot="11959800">
                <a:off x="5536800" y="44989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5"/>
              <p:cNvSpPr/>
              <p:nvPr/>
            </p:nvSpPr>
            <p:spPr>
              <a:xfrm flipH="1" rot="11178600">
                <a:off x="5852160" y="456588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文本框 85"/>
            <p:cNvSpPr/>
            <p:nvPr/>
          </p:nvSpPr>
          <p:spPr>
            <a:xfrm rot="20451600">
              <a:off x="7161480" y="2059200"/>
              <a:ext cx="29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齐翔创业团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86"/>
            <p:cNvSpPr/>
            <p:nvPr/>
          </p:nvSpPr>
          <p:spPr>
            <a:xfrm rot="862800">
              <a:off x="3048480" y="1945440"/>
              <a:ext cx="29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青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87"/>
            <p:cNvSpPr/>
            <p:nvPr/>
          </p:nvSpPr>
          <p:spPr>
            <a:xfrm rot="21300000">
              <a:off x="7542720" y="3155400"/>
              <a:ext cx="29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创新创业联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流程图: 数据 11"/>
            <p:cNvSpPr/>
            <p:nvPr/>
          </p:nvSpPr>
          <p:spPr>
            <a:xfrm flipH="1">
              <a:off x="4087800" y="4285440"/>
              <a:ext cx="4396320" cy="762120"/>
            </a:xfrm>
            <a:prstGeom prst="pie">
              <a:avLst/>
            </a:prstGeom>
            <a:solidFill>
              <a:srgbClr val="f15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9"/>
            <p:cNvSpPr/>
            <p:nvPr/>
          </p:nvSpPr>
          <p:spPr>
            <a:xfrm>
              <a:off x="4376160" y="4278960"/>
              <a:ext cx="383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(P)"/>
                  <a:ea typeface="华康俪金黑W8(P)"/>
                </a:rPr>
                <a:t>团队是跟小伙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(P)"/>
                  <a:ea typeface="华康俪金黑W8(P)"/>
                </a:rPr>
                <a:t>吃喝玩乐的好借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组合 1"/>
          <p:cNvGrpSpPr/>
          <p:nvPr/>
        </p:nvGrpSpPr>
        <p:grpSpPr>
          <a:xfrm>
            <a:off x="50760" y="712800"/>
            <a:ext cx="12434760" cy="5843880"/>
            <a:chOff x="50760" y="712800"/>
            <a:chExt cx="12434760" cy="5843880"/>
          </a:xfrm>
        </p:grpSpPr>
        <p:sp>
          <p:nvSpPr>
            <p:cNvPr id="254" name="文本框 6"/>
            <p:cNvSpPr/>
            <p:nvPr/>
          </p:nvSpPr>
          <p:spPr>
            <a:xfrm>
              <a:off x="4685400" y="5853240"/>
              <a:ext cx="282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偶尔伪文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任意多边形 39"/>
            <p:cNvSpPr/>
            <p:nvPr/>
          </p:nvSpPr>
          <p:spPr>
            <a:xfrm>
              <a:off x="3921120" y="3096000"/>
              <a:ext cx="391680" cy="379440"/>
            </a:xfrm>
            <a:prstGeom prst="pie">
              <a:avLst/>
            </a:prstGeom>
            <a:solidFill>
              <a:srgbClr val="9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任意多边形 40"/>
            <p:cNvSpPr/>
            <p:nvPr/>
          </p:nvSpPr>
          <p:spPr>
            <a:xfrm flipH="1" flipV="1">
              <a:off x="7940520" y="4298040"/>
              <a:ext cx="391680" cy="379440"/>
            </a:xfrm>
            <a:prstGeom prst="pie">
              <a:avLst/>
            </a:prstGeom>
            <a:solidFill>
              <a:srgbClr val="9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42"/>
            <p:cNvSpPr/>
            <p:nvPr/>
          </p:nvSpPr>
          <p:spPr>
            <a:xfrm>
              <a:off x="4006800" y="3257280"/>
              <a:ext cx="4531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身体</a:t>
              </a:r>
              <a:r>
                <a:rPr b="0" lang="zh-CN" sz="32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和</a:t>
              </a:r>
              <a:r>
                <a:rPr b="1" lang="zh-CN" sz="4000" spc="-1" strike="noStrike">
                  <a:solidFill>
                    <a:srgbClr val="9d1b30"/>
                  </a:solidFill>
                  <a:latin typeface="汉仪菱心体简"/>
                  <a:ea typeface="微软简老宋"/>
                </a:rPr>
                <a:t>灵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至少</a:t>
              </a:r>
              <a:r>
                <a:rPr b="0" lang="zh-CN" sz="28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有一个</a:t>
              </a:r>
              <a:r>
                <a:rPr b="1" lang="zh-CN" sz="36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在路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10"/>
            <p:cNvSpPr/>
            <p:nvPr/>
          </p:nvSpPr>
          <p:spPr>
            <a:xfrm>
              <a:off x="5556600" y="3041640"/>
              <a:ext cx="741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  <a:ea typeface="微软简老宋"/>
                </a:rPr>
                <a:t>Ling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2"/>
            <p:cNvSpPr/>
            <p:nvPr/>
          </p:nvSpPr>
          <p:spPr>
            <a:xfrm>
              <a:off x="6131520" y="3041640"/>
              <a:ext cx="583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  <a:ea typeface="微软简老宋"/>
                </a:rPr>
                <a:t>hu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组合 8"/>
            <p:cNvGrpSpPr/>
            <p:nvPr/>
          </p:nvGrpSpPr>
          <p:grpSpPr>
            <a:xfrm>
              <a:off x="7046280" y="2712600"/>
              <a:ext cx="2173320" cy="1090800"/>
              <a:chOff x="7046280" y="2712600"/>
              <a:chExt cx="2173320" cy="1090800"/>
            </a:xfrm>
          </p:grpSpPr>
          <p:pic>
            <p:nvPicPr>
              <p:cNvPr id="261" name="图片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7046280" y="2712600"/>
                <a:ext cx="217332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文本框 7"/>
              <p:cNvSpPr/>
              <p:nvPr/>
            </p:nvSpPr>
            <p:spPr>
              <a:xfrm>
                <a:off x="7599960" y="2941920"/>
                <a:ext cx="1295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旅游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9"/>
            <p:cNvGrpSpPr/>
            <p:nvPr/>
          </p:nvGrpSpPr>
          <p:grpSpPr>
            <a:xfrm>
              <a:off x="2520720" y="3574080"/>
              <a:ext cx="2173320" cy="1090800"/>
              <a:chOff x="2520720" y="3574080"/>
              <a:chExt cx="2173320" cy="1090800"/>
            </a:xfrm>
          </p:grpSpPr>
          <p:pic>
            <p:nvPicPr>
              <p:cNvPr id="264" name="图片 17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2520720" y="3574080"/>
                <a:ext cx="217332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文本框 18"/>
              <p:cNvSpPr/>
              <p:nvPr/>
            </p:nvSpPr>
            <p:spPr>
              <a:xfrm>
                <a:off x="2890800" y="3796200"/>
                <a:ext cx="1295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阅读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组合 20"/>
            <p:cNvGrpSpPr/>
            <p:nvPr/>
          </p:nvGrpSpPr>
          <p:grpSpPr>
            <a:xfrm>
              <a:off x="1665000" y="2246040"/>
              <a:ext cx="1796040" cy="991800"/>
              <a:chOff x="1665000" y="2246040"/>
              <a:chExt cx="1796040" cy="991800"/>
            </a:xfrm>
          </p:grpSpPr>
          <p:pic>
            <p:nvPicPr>
              <p:cNvPr id="267" name="图片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5000" y="2246040"/>
                <a:ext cx="179604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文本框 22"/>
              <p:cNvSpPr/>
              <p:nvPr/>
            </p:nvSpPr>
            <p:spPr>
              <a:xfrm>
                <a:off x="2134440" y="2492640"/>
                <a:ext cx="1070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电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23"/>
            <p:cNvGrpSpPr/>
            <p:nvPr/>
          </p:nvGrpSpPr>
          <p:grpSpPr>
            <a:xfrm>
              <a:off x="50760" y="3243960"/>
              <a:ext cx="1632600" cy="991800"/>
              <a:chOff x="50760" y="3243960"/>
              <a:chExt cx="1632600" cy="991800"/>
            </a:xfrm>
          </p:grpSpPr>
          <p:pic>
            <p:nvPicPr>
              <p:cNvPr id="270" name="图片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50760" y="3243960"/>
                <a:ext cx="163260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文本框 25"/>
              <p:cNvSpPr/>
              <p:nvPr/>
            </p:nvSpPr>
            <p:spPr>
              <a:xfrm>
                <a:off x="529200" y="3513240"/>
                <a:ext cx="113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转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组合 26"/>
            <p:cNvGrpSpPr/>
            <p:nvPr/>
          </p:nvGrpSpPr>
          <p:grpSpPr>
            <a:xfrm>
              <a:off x="104400" y="4218480"/>
              <a:ext cx="2505600" cy="991800"/>
              <a:chOff x="104400" y="4218480"/>
              <a:chExt cx="2505600" cy="991800"/>
            </a:xfrm>
          </p:grpSpPr>
          <p:pic>
            <p:nvPicPr>
              <p:cNvPr id="273" name="图片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400" y="4218480"/>
                <a:ext cx="250560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文本框 28"/>
              <p:cNvSpPr/>
              <p:nvPr/>
            </p:nvSpPr>
            <p:spPr>
              <a:xfrm>
                <a:off x="686160" y="4487760"/>
                <a:ext cx="1742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爱伦</a:t>
                </a:r>
                <a:r>
                  <a:rPr b="0" lang="en-US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·</a:t>
                </a: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组合 29"/>
            <p:cNvGrpSpPr/>
            <p:nvPr/>
          </p:nvGrpSpPr>
          <p:grpSpPr>
            <a:xfrm>
              <a:off x="8953200" y="2321280"/>
              <a:ext cx="1796040" cy="901440"/>
              <a:chOff x="8953200" y="2321280"/>
              <a:chExt cx="1796040" cy="901440"/>
            </a:xfrm>
          </p:grpSpPr>
          <p:pic>
            <p:nvPicPr>
              <p:cNvPr id="276" name="图片 30" descr=""/>
              <p:cNvPicPr/>
              <p:nvPr/>
            </p:nvPicPr>
            <p:blipFill>
              <a:blip r:embed="rId7"/>
              <a:stretch/>
            </p:blipFill>
            <p:spPr>
              <a:xfrm>
                <a:off x="8953200" y="2321280"/>
                <a:ext cx="1796040" cy="9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文本框 31"/>
              <p:cNvSpPr/>
              <p:nvPr/>
            </p:nvSpPr>
            <p:spPr>
              <a:xfrm>
                <a:off x="9479520" y="2534760"/>
                <a:ext cx="97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武隆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组合 32"/>
            <p:cNvGrpSpPr/>
            <p:nvPr/>
          </p:nvGrpSpPr>
          <p:grpSpPr>
            <a:xfrm>
              <a:off x="10110240" y="3096000"/>
              <a:ext cx="1796040" cy="901440"/>
              <a:chOff x="10110240" y="3096000"/>
              <a:chExt cx="1796040" cy="901440"/>
            </a:xfrm>
          </p:grpSpPr>
          <p:pic>
            <p:nvPicPr>
              <p:cNvPr id="279" name="图片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10110240" y="3096000"/>
                <a:ext cx="1796040" cy="9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文本框 34"/>
              <p:cNvSpPr/>
              <p:nvPr/>
            </p:nvSpPr>
            <p:spPr>
              <a:xfrm>
                <a:off x="10465200" y="3366360"/>
                <a:ext cx="136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金刀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组合 36"/>
            <p:cNvGrpSpPr/>
            <p:nvPr/>
          </p:nvGrpSpPr>
          <p:grpSpPr>
            <a:xfrm>
              <a:off x="8361000" y="3858120"/>
              <a:ext cx="1600200" cy="901440"/>
              <a:chOff x="8361000" y="3858120"/>
              <a:chExt cx="1600200" cy="901440"/>
            </a:xfrm>
          </p:grpSpPr>
          <p:pic>
            <p:nvPicPr>
              <p:cNvPr id="282" name="图片 37" descr=""/>
              <p:cNvPicPr/>
              <p:nvPr/>
            </p:nvPicPr>
            <p:blipFill>
              <a:blip r:embed="rId9"/>
              <a:stretch/>
            </p:blipFill>
            <p:spPr>
              <a:xfrm>
                <a:off x="8361000" y="3858120"/>
                <a:ext cx="1347840" cy="9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文本框 38"/>
              <p:cNvSpPr/>
              <p:nvPr/>
            </p:nvSpPr>
            <p:spPr>
              <a:xfrm>
                <a:off x="8591400" y="4090680"/>
                <a:ext cx="1369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步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组合 44"/>
            <p:cNvGrpSpPr/>
            <p:nvPr/>
          </p:nvGrpSpPr>
          <p:grpSpPr>
            <a:xfrm>
              <a:off x="9181800" y="4160520"/>
              <a:ext cx="3303720" cy="1451520"/>
              <a:chOff x="9181800" y="4160520"/>
              <a:chExt cx="3303720" cy="1451520"/>
            </a:xfrm>
          </p:grpSpPr>
          <p:pic>
            <p:nvPicPr>
              <p:cNvPr id="285" name="图片 45" descr=""/>
              <p:cNvPicPr/>
              <p:nvPr/>
            </p:nvPicPr>
            <p:blipFill>
              <a:blip r:embed="rId10"/>
              <a:stretch/>
            </p:blipFill>
            <p:spPr>
              <a:xfrm>
                <a:off x="9181800" y="4160520"/>
                <a:ext cx="3303720" cy="11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文本框 46"/>
              <p:cNvSpPr/>
              <p:nvPr/>
            </p:nvSpPr>
            <p:spPr>
              <a:xfrm>
                <a:off x="9770400" y="4543200"/>
                <a:ext cx="25113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IN THE WIL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组合 47"/>
            <p:cNvGrpSpPr/>
            <p:nvPr/>
          </p:nvGrpSpPr>
          <p:grpSpPr>
            <a:xfrm>
              <a:off x="838800" y="712800"/>
              <a:ext cx="2400120" cy="1009440"/>
              <a:chOff x="838800" y="712800"/>
              <a:chExt cx="2400120" cy="1009440"/>
            </a:xfrm>
          </p:grpSpPr>
          <p:sp>
            <p:nvSpPr>
              <p:cNvPr id="288" name="任意多边形 48"/>
              <p:cNvSpPr/>
              <p:nvPr/>
            </p:nvSpPr>
            <p:spPr>
              <a:xfrm>
                <a:off x="843840" y="712800"/>
                <a:ext cx="2363040" cy="1009440"/>
              </a:xfrm>
              <a:prstGeom prst="pie">
                <a:avLst/>
              </a:pr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文本框 49"/>
              <p:cNvSpPr/>
              <p:nvPr/>
            </p:nvSpPr>
            <p:spPr>
              <a:xfrm>
                <a:off x="838800" y="914040"/>
                <a:ext cx="24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方正汉真广标简体"/>
                    <a:ea typeface="方正汉真广标简体"/>
                  </a:rPr>
                  <a:t>性格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组合 41"/>
          <p:cNvGrpSpPr/>
          <p:nvPr/>
        </p:nvGrpSpPr>
        <p:grpSpPr>
          <a:xfrm>
            <a:off x="54000" y="727200"/>
            <a:ext cx="12436560" cy="5843880"/>
            <a:chOff x="54000" y="727200"/>
            <a:chExt cx="12436560" cy="5843880"/>
          </a:xfrm>
        </p:grpSpPr>
        <p:sp>
          <p:nvSpPr>
            <p:cNvPr id="291" name="文本框 43"/>
            <p:cNvSpPr/>
            <p:nvPr/>
          </p:nvSpPr>
          <p:spPr>
            <a:xfrm>
              <a:off x="4689360" y="5867640"/>
              <a:ext cx="282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偶尔伪文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任意多边形 50"/>
            <p:cNvSpPr/>
            <p:nvPr/>
          </p:nvSpPr>
          <p:spPr>
            <a:xfrm>
              <a:off x="3924720" y="3110400"/>
              <a:ext cx="391680" cy="379440"/>
            </a:xfrm>
            <a:prstGeom prst="pie">
              <a:avLst/>
            </a:prstGeom>
            <a:solidFill>
              <a:srgbClr val="9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任意多边形 51"/>
            <p:cNvSpPr/>
            <p:nvPr/>
          </p:nvSpPr>
          <p:spPr>
            <a:xfrm flipH="1" flipV="1">
              <a:off x="7944840" y="4312440"/>
              <a:ext cx="391680" cy="379440"/>
            </a:xfrm>
            <a:prstGeom prst="pie">
              <a:avLst/>
            </a:prstGeom>
            <a:solidFill>
              <a:srgbClr val="9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文本框 52"/>
            <p:cNvSpPr/>
            <p:nvPr/>
          </p:nvSpPr>
          <p:spPr>
            <a:xfrm>
              <a:off x="4010760" y="3271680"/>
              <a:ext cx="4532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身体</a:t>
              </a:r>
              <a:r>
                <a:rPr b="0" lang="zh-CN" sz="32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和</a:t>
              </a:r>
              <a:r>
                <a:rPr b="1" lang="zh-CN" sz="4000" spc="-1" strike="noStrike">
                  <a:solidFill>
                    <a:srgbClr val="9d1b30"/>
                  </a:solidFill>
                  <a:latin typeface="汉仪菱心体简"/>
                  <a:ea typeface="微软简老宋"/>
                </a:rPr>
                <a:t>灵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至少</a:t>
              </a:r>
              <a:r>
                <a:rPr b="0" lang="zh-CN" sz="28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有一个</a:t>
              </a:r>
              <a:r>
                <a:rPr b="1" lang="zh-CN" sz="36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在路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文本框 53"/>
            <p:cNvSpPr/>
            <p:nvPr/>
          </p:nvSpPr>
          <p:spPr>
            <a:xfrm>
              <a:off x="5560560" y="3056040"/>
              <a:ext cx="741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  <a:ea typeface="微软简老宋"/>
                </a:rPr>
                <a:t>Ling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54"/>
            <p:cNvSpPr/>
            <p:nvPr/>
          </p:nvSpPr>
          <p:spPr>
            <a:xfrm>
              <a:off x="6135480" y="3056040"/>
              <a:ext cx="583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  <a:ea typeface="微软简老宋"/>
                </a:rPr>
                <a:t>hu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组合 55"/>
            <p:cNvGrpSpPr/>
            <p:nvPr/>
          </p:nvGrpSpPr>
          <p:grpSpPr>
            <a:xfrm>
              <a:off x="7050600" y="2727000"/>
              <a:ext cx="2173680" cy="1090800"/>
              <a:chOff x="7050600" y="2727000"/>
              <a:chExt cx="2173680" cy="1090800"/>
            </a:xfrm>
          </p:grpSpPr>
          <p:pic>
            <p:nvPicPr>
              <p:cNvPr id="298" name="图片 83" descr=""/>
              <p:cNvPicPr/>
              <p:nvPr/>
            </p:nvPicPr>
            <p:blipFill>
              <a:blip r:embed="rId11"/>
              <a:stretch/>
            </p:blipFill>
            <p:spPr>
              <a:xfrm>
                <a:off x="7050600" y="2727000"/>
                <a:ext cx="217368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文本框 84"/>
              <p:cNvSpPr/>
              <p:nvPr/>
            </p:nvSpPr>
            <p:spPr>
              <a:xfrm>
                <a:off x="7604640" y="2956320"/>
                <a:ext cx="129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旅游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组合 56"/>
            <p:cNvGrpSpPr/>
            <p:nvPr/>
          </p:nvGrpSpPr>
          <p:grpSpPr>
            <a:xfrm>
              <a:off x="2524680" y="3588480"/>
              <a:ext cx="2173680" cy="1090800"/>
              <a:chOff x="2524680" y="3588480"/>
              <a:chExt cx="2173680" cy="1090800"/>
            </a:xfrm>
          </p:grpSpPr>
          <p:pic>
            <p:nvPicPr>
              <p:cNvPr id="301" name="图片 81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2524680" y="3588480"/>
                <a:ext cx="217368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文本框 82"/>
              <p:cNvSpPr/>
              <p:nvPr/>
            </p:nvSpPr>
            <p:spPr>
              <a:xfrm>
                <a:off x="2894400" y="3810600"/>
                <a:ext cx="129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阅读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组合 57"/>
            <p:cNvGrpSpPr/>
            <p:nvPr/>
          </p:nvGrpSpPr>
          <p:grpSpPr>
            <a:xfrm>
              <a:off x="1668600" y="2260440"/>
              <a:ext cx="1796400" cy="991800"/>
              <a:chOff x="1668600" y="2260440"/>
              <a:chExt cx="1796400" cy="991800"/>
            </a:xfrm>
          </p:grpSpPr>
          <p:pic>
            <p:nvPicPr>
              <p:cNvPr id="304" name="图片 79" descr=""/>
              <p:cNvPicPr/>
              <p:nvPr/>
            </p:nvPicPr>
            <p:blipFill>
              <a:blip r:embed="rId13"/>
              <a:stretch/>
            </p:blipFill>
            <p:spPr>
              <a:xfrm>
                <a:off x="1668600" y="2260440"/>
                <a:ext cx="179640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文本框 80"/>
              <p:cNvSpPr/>
              <p:nvPr/>
            </p:nvSpPr>
            <p:spPr>
              <a:xfrm>
                <a:off x="2138040" y="2507040"/>
                <a:ext cx="1070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电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组合 58"/>
            <p:cNvGrpSpPr/>
            <p:nvPr/>
          </p:nvGrpSpPr>
          <p:grpSpPr>
            <a:xfrm>
              <a:off x="54000" y="3258360"/>
              <a:ext cx="1632960" cy="991800"/>
              <a:chOff x="54000" y="3258360"/>
              <a:chExt cx="1632960" cy="991800"/>
            </a:xfrm>
          </p:grpSpPr>
          <p:pic>
            <p:nvPicPr>
              <p:cNvPr id="307" name="图片 77" descr=""/>
              <p:cNvPicPr/>
              <p:nvPr/>
            </p:nvPicPr>
            <p:blipFill>
              <a:blip r:embed="rId14"/>
              <a:stretch/>
            </p:blipFill>
            <p:spPr>
              <a:xfrm>
                <a:off x="54000" y="3258360"/>
                <a:ext cx="163296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文本框 78"/>
              <p:cNvSpPr/>
              <p:nvPr/>
            </p:nvSpPr>
            <p:spPr>
              <a:xfrm>
                <a:off x="532440" y="3527640"/>
                <a:ext cx="113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转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组合 59"/>
            <p:cNvGrpSpPr/>
            <p:nvPr/>
          </p:nvGrpSpPr>
          <p:grpSpPr>
            <a:xfrm>
              <a:off x="107640" y="4232880"/>
              <a:ext cx="2505960" cy="991800"/>
              <a:chOff x="107640" y="4232880"/>
              <a:chExt cx="2505960" cy="991800"/>
            </a:xfrm>
          </p:grpSpPr>
          <p:pic>
            <p:nvPicPr>
              <p:cNvPr id="310" name="图片 75" descr=""/>
              <p:cNvPicPr/>
              <p:nvPr/>
            </p:nvPicPr>
            <p:blipFill>
              <a:blip r:embed="rId15"/>
              <a:stretch/>
            </p:blipFill>
            <p:spPr>
              <a:xfrm>
                <a:off x="107640" y="4232880"/>
                <a:ext cx="250596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文本框 76"/>
              <p:cNvSpPr/>
              <p:nvPr/>
            </p:nvSpPr>
            <p:spPr>
              <a:xfrm>
                <a:off x="689760" y="4502160"/>
                <a:ext cx="1742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爱伦</a:t>
                </a:r>
                <a:r>
                  <a:rPr b="0" lang="en-US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·</a:t>
                </a: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组合 60"/>
            <p:cNvGrpSpPr/>
            <p:nvPr/>
          </p:nvGrpSpPr>
          <p:grpSpPr>
            <a:xfrm>
              <a:off x="8957520" y="2335680"/>
              <a:ext cx="1796400" cy="901440"/>
              <a:chOff x="8957520" y="2335680"/>
              <a:chExt cx="1796400" cy="901440"/>
            </a:xfrm>
          </p:grpSpPr>
          <p:pic>
            <p:nvPicPr>
              <p:cNvPr id="313" name="图片 73" descr=""/>
              <p:cNvPicPr/>
              <p:nvPr/>
            </p:nvPicPr>
            <p:blipFill>
              <a:blip r:embed="rId16"/>
              <a:stretch/>
            </p:blipFill>
            <p:spPr>
              <a:xfrm>
                <a:off x="8957520" y="2335680"/>
                <a:ext cx="1796400" cy="9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文本框 74"/>
              <p:cNvSpPr/>
              <p:nvPr/>
            </p:nvSpPr>
            <p:spPr>
              <a:xfrm>
                <a:off x="9483840" y="2549160"/>
                <a:ext cx="97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武隆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组合 61"/>
            <p:cNvGrpSpPr/>
            <p:nvPr/>
          </p:nvGrpSpPr>
          <p:grpSpPr>
            <a:xfrm>
              <a:off x="10115280" y="3110400"/>
              <a:ext cx="1796400" cy="901440"/>
              <a:chOff x="10115280" y="3110400"/>
              <a:chExt cx="1796400" cy="901440"/>
            </a:xfrm>
          </p:grpSpPr>
          <p:pic>
            <p:nvPicPr>
              <p:cNvPr id="316" name="图片 7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0115280" y="3110400"/>
                <a:ext cx="1796400" cy="9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文本框 72"/>
              <p:cNvSpPr/>
              <p:nvPr/>
            </p:nvSpPr>
            <p:spPr>
              <a:xfrm>
                <a:off x="10470240" y="3380760"/>
                <a:ext cx="137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金刀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组合 62"/>
            <p:cNvGrpSpPr/>
            <p:nvPr/>
          </p:nvGrpSpPr>
          <p:grpSpPr>
            <a:xfrm>
              <a:off x="8365320" y="3872520"/>
              <a:ext cx="1600560" cy="901440"/>
              <a:chOff x="8365320" y="3872520"/>
              <a:chExt cx="1600560" cy="901440"/>
            </a:xfrm>
          </p:grpSpPr>
          <p:pic>
            <p:nvPicPr>
              <p:cNvPr id="319" name="图片 69" descr=""/>
              <p:cNvPicPr/>
              <p:nvPr/>
            </p:nvPicPr>
            <p:blipFill>
              <a:blip r:embed="rId18"/>
              <a:stretch/>
            </p:blipFill>
            <p:spPr>
              <a:xfrm>
                <a:off x="8365320" y="3872520"/>
                <a:ext cx="1348200" cy="9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文本框 70"/>
              <p:cNvSpPr/>
              <p:nvPr/>
            </p:nvSpPr>
            <p:spPr>
              <a:xfrm>
                <a:off x="8595720" y="4105080"/>
                <a:ext cx="137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步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组合 63"/>
            <p:cNvGrpSpPr/>
            <p:nvPr/>
          </p:nvGrpSpPr>
          <p:grpSpPr>
            <a:xfrm>
              <a:off x="9186480" y="4174920"/>
              <a:ext cx="3304080" cy="1451520"/>
              <a:chOff x="9186480" y="4174920"/>
              <a:chExt cx="3304080" cy="1451520"/>
            </a:xfrm>
          </p:grpSpPr>
          <p:pic>
            <p:nvPicPr>
              <p:cNvPr id="322" name="图片 67" descr=""/>
              <p:cNvPicPr/>
              <p:nvPr/>
            </p:nvPicPr>
            <p:blipFill>
              <a:blip r:embed="rId19"/>
              <a:stretch/>
            </p:blipFill>
            <p:spPr>
              <a:xfrm>
                <a:off x="9186480" y="4174920"/>
                <a:ext cx="3304080" cy="11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文本框 68"/>
              <p:cNvSpPr/>
              <p:nvPr/>
            </p:nvSpPr>
            <p:spPr>
              <a:xfrm>
                <a:off x="9775080" y="4557600"/>
                <a:ext cx="25117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IN THE WIL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组合 64"/>
            <p:cNvGrpSpPr/>
            <p:nvPr/>
          </p:nvGrpSpPr>
          <p:grpSpPr>
            <a:xfrm>
              <a:off x="842040" y="727200"/>
              <a:ext cx="2400480" cy="1009440"/>
              <a:chOff x="842040" y="727200"/>
              <a:chExt cx="2400480" cy="1009440"/>
            </a:xfrm>
          </p:grpSpPr>
          <p:sp>
            <p:nvSpPr>
              <p:cNvPr id="325" name="任意多边形 65"/>
              <p:cNvSpPr/>
              <p:nvPr/>
            </p:nvSpPr>
            <p:spPr>
              <a:xfrm>
                <a:off x="847080" y="727200"/>
                <a:ext cx="2363400" cy="1009440"/>
              </a:xfrm>
              <a:prstGeom prst="pie">
                <a:avLst/>
              </a:pr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文本框 66"/>
              <p:cNvSpPr/>
              <p:nvPr/>
            </p:nvSpPr>
            <p:spPr>
              <a:xfrm>
                <a:off x="842040" y="928440"/>
                <a:ext cx="24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方正汉真广标简体"/>
                    <a:ea typeface="方正汉真广标简体"/>
                  </a:rPr>
                  <a:t>性格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39880" y="306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0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381-9918-4CD9-B5E9-0716E07756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1052"/>
          <p:cNvGrpSpPr/>
          <p:nvPr/>
        </p:nvGrpSpPr>
        <p:grpSpPr>
          <a:xfrm>
            <a:off x="1373040" y="1600200"/>
            <a:ext cx="9572760" cy="3654360"/>
            <a:chOff x="1373040" y="1600200"/>
            <a:chExt cx="9572760" cy="3654360"/>
          </a:xfrm>
        </p:grpSpPr>
        <p:grpSp>
          <p:nvGrpSpPr>
            <p:cNvPr id="332" name="组合 94"/>
            <p:cNvGrpSpPr/>
            <p:nvPr/>
          </p:nvGrpSpPr>
          <p:grpSpPr>
            <a:xfrm>
              <a:off x="1373040" y="1878120"/>
              <a:ext cx="3610080" cy="3299760"/>
              <a:chOff x="1373040" y="1878120"/>
              <a:chExt cx="3610080" cy="3299760"/>
            </a:xfrm>
          </p:grpSpPr>
          <p:sp>
            <p:nvSpPr>
              <p:cNvPr id="333" name="文本框 117"/>
              <p:cNvSpPr/>
              <p:nvPr/>
            </p:nvSpPr>
            <p:spPr>
              <a:xfrm>
                <a:off x="1373040" y="1878120"/>
                <a:ext cx="12873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爱发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爱睡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爱闷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…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文本框 118"/>
              <p:cNvSpPr/>
              <p:nvPr/>
            </p:nvSpPr>
            <p:spPr>
              <a:xfrm>
                <a:off x="1380960" y="3426840"/>
                <a:ext cx="2882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做不成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Flying m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也要做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Fighting m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文本框 119"/>
              <p:cNvSpPr/>
              <p:nvPr/>
            </p:nvSpPr>
            <p:spPr>
              <a:xfrm>
                <a:off x="1373040" y="4352400"/>
                <a:ext cx="3610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我是杨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希望成为您的朋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组合 95"/>
            <p:cNvGrpSpPr/>
            <p:nvPr/>
          </p:nvGrpSpPr>
          <p:grpSpPr>
            <a:xfrm>
              <a:off x="4201920" y="1600200"/>
              <a:ext cx="3905280" cy="3038040"/>
              <a:chOff x="4201920" y="1600200"/>
              <a:chExt cx="3905280" cy="3038040"/>
            </a:xfrm>
          </p:grpSpPr>
          <p:grpSp>
            <p:nvGrpSpPr>
              <p:cNvPr id="337" name="组合 113"/>
              <p:cNvGrpSpPr/>
              <p:nvPr/>
            </p:nvGrpSpPr>
            <p:grpSpPr>
              <a:xfrm>
                <a:off x="4201920" y="1600200"/>
                <a:ext cx="3905280" cy="3038040"/>
                <a:chOff x="4201920" y="1600200"/>
                <a:chExt cx="3905280" cy="3038040"/>
              </a:xfrm>
            </p:grpSpPr>
            <p:sp>
              <p:nvSpPr>
                <p:cNvPr id="338" name="任意多边形 115"/>
                <p:cNvSpPr/>
                <p:nvPr/>
              </p:nvSpPr>
              <p:spPr>
                <a:xfrm>
                  <a:off x="4404600" y="1739880"/>
                  <a:ext cx="3550320" cy="2761920"/>
                </a:xfrm>
                <a:prstGeom prst="pie">
                  <a:avLst/>
                </a:prstGeom>
                <a:solidFill>
                  <a:srgbClr val="fff500"/>
                </a:solidFill>
                <a:ln w="12600">
                  <a:solidFill>
                    <a:srgbClr val="d429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任意多边形 116"/>
                <p:cNvSpPr/>
                <p:nvPr/>
              </p:nvSpPr>
              <p:spPr>
                <a:xfrm>
                  <a:off x="4201920" y="1600200"/>
                  <a:ext cx="3905280" cy="3038040"/>
                </a:xfrm>
                <a:prstGeom prst="pie">
                  <a:avLst/>
                </a:prstGeom>
                <a:solidFill>
                  <a:srgbClr val="d4291a"/>
                </a:solidFill>
                <a:ln w="12600">
                  <a:solidFill>
                    <a:srgbClr val="d429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Text Box 54"/>
              <p:cNvSpPr/>
              <p:nvPr/>
            </p:nvSpPr>
            <p:spPr>
              <a:xfrm>
                <a:off x="5165640" y="2633040"/>
                <a:ext cx="1866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4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900" spc="-1" strike="noStrike">
                    <a:solidFill>
                      <a:srgbClr val="d4291a"/>
                    </a:solidFill>
                    <a:latin typeface="Charlemagne Std"/>
                    <a:ea typeface="微软雅黑"/>
                  </a:rPr>
                  <a:t>F</a:t>
                </a:r>
                <a:endParaRPr b="0" lang="en-US" sz="19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矩形 96"/>
            <p:cNvSpPr/>
            <p:nvPr/>
          </p:nvSpPr>
          <p:spPr>
            <a:xfrm>
              <a:off x="4652280" y="4673160"/>
              <a:ext cx="289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4291a"/>
                  </a:solidFill>
                  <a:latin typeface="Californian FB"/>
                  <a:ea typeface="华康俪金黑W8(P)"/>
                </a:rPr>
                <a:t>Fighting m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组合 97"/>
            <p:cNvGrpSpPr/>
            <p:nvPr/>
          </p:nvGrpSpPr>
          <p:grpSpPr>
            <a:xfrm>
              <a:off x="8324640" y="2854440"/>
              <a:ext cx="2621160" cy="700200"/>
              <a:chOff x="8324640" y="2854440"/>
              <a:chExt cx="2621160" cy="700200"/>
            </a:xfrm>
          </p:grpSpPr>
          <p:sp>
            <p:nvSpPr>
              <p:cNvPr id="343" name="任意多边形 111"/>
              <p:cNvSpPr/>
              <p:nvPr/>
            </p:nvSpPr>
            <p:spPr>
              <a:xfrm>
                <a:off x="8324640" y="2854440"/>
                <a:ext cx="2621160" cy="700200"/>
              </a:xfrm>
              <a:prstGeom prst="pie">
                <a:avLst/>
              </a:prstGeom>
              <a:solidFill>
                <a:srgbClr val="d4291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矩形 112"/>
              <p:cNvSpPr/>
              <p:nvPr/>
            </p:nvSpPr>
            <p:spPr>
              <a:xfrm flipH="1">
                <a:off x="8856720" y="3025440"/>
                <a:ext cx="1400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500"/>
                    </a:solidFill>
                    <a:latin typeface="微软雅黑"/>
                    <a:ea typeface="微软雅黑"/>
                  </a:rPr>
                  <a:t>可以在这里找到我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组合 98"/>
            <p:cNvGrpSpPr/>
            <p:nvPr/>
          </p:nvGrpSpPr>
          <p:grpSpPr>
            <a:xfrm>
              <a:off x="8817120" y="4145760"/>
              <a:ext cx="2116800" cy="412200"/>
              <a:chOff x="8817120" y="4145760"/>
              <a:chExt cx="2116800" cy="412200"/>
            </a:xfrm>
          </p:grpSpPr>
          <p:sp>
            <p:nvSpPr>
              <p:cNvPr id="346" name="矩形 105"/>
              <p:cNvSpPr/>
              <p:nvPr/>
            </p:nvSpPr>
            <p:spPr>
              <a:xfrm flipH="1">
                <a:off x="8816760" y="4159080"/>
                <a:ext cx="147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杨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不是超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组合 106"/>
              <p:cNvGrpSpPr/>
              <p:nvPr/>
            </p:nvGrpSpPr>
            <p:grpSpPr>
              <a:xfrm>
                <a:off x="10486800" y="4145760"/>
                <a:ext cx="447120" cy="391320"/>
                <a:chOff x="10486800" y="4145760"/>
                <a:chExt cx="447120" cy="391320"/>
              </a:xfrm>
            </p:grpSpPr>
            <p:sp>
              <p:nvSpPr>
                <p:cNvPr id="348" name="Oval 14"/>
                <p:cNvSpPr/>
                <p:nvPr/>
              </p:nvSpPr>
              <p:spPr>
                <a:xfrm>
                  <a:off x="10509480" y="4330800"/>
                  <a:ext cx="299160" cy="186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5"/>
                <p:cNvSpPr/>
                <p:nvPr/>
              </p:nvSpPr>
              <p:spPr>
                <a:xfrm>
                  <a:off x="10486800" y="4214520"/>
                  <a:ext cx="38592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16"/>
                <p:cNvSpPr/>
                <p:nvPr/>
              </p:nvSpPr>
              <p:spPr>
                <a:xfrm>
                  <a:off x="10770840" y="4145760"/>
                  <a:ext cx="163080" cy="172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17"/>
                <p:cNvSpPr/>
                <p:nvPr/>
              </p:nvSpPr>
              <p:spPr>
                <a:xfrm>
                  <a:off x="10785240" y="4208760"/>
                  <a:ext cx="85320" cy="88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" name="组合 99"/>
            <p:cNvGrpSpPr/>
            <p:nvPr/>
          </p:nvGrpSpPr>
          <p:grpSpPr>
            <a:xfrm>
              <a:off x="8634240" y="4709160"/>
              <a:ext cx="2178360" cy="421560"/>
              <a:chOff x="8634240" y="4709160"/>
              <a:chExt cx="2178360" cy="421560"/>
            </a:xfrm>
          </p:grpSpPr>
          <p:sp>
            <p:nvSpPr>
              <p:cNvPr id="353" name="Freeform 22"/>
              <p:cNvSpPr/>
              <p:nvPr/>
            </p:nvSpPr>
            <p:spPr>
              <a:xfrm>
                <a:off x="10561680" y="4709160"/>
                <a:ext cx="250920" cy="42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54"/>
              <p:cNvSpPr/>
              <p:nvPr/>
            </p:nvSpPr>
            <p:spPr>
              <a:xfrm flipH="1">
                <a:off x="8634240" y="4737240"/>
                <a:ext cx="184896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336846214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组合 100"/>
            <p:cNvGrpSpPr/>
            <p:nvPr/>
          </p:nvGrpSpPr>
          <p:grpSpPr>
            <a:xfrm>
              <a:off x="8606520" y="3601800"/>
              <a:ext cx="2280240" cy="444960"/>
              <a:chOff x="8606520" y="3601800"/>
              <a:chExt cx="2280240" cy="444960"/>
            </a:xfrm>
          </p:grpSpPr>
          <p:sp>
            <p:nvSpPr>
              <p:cNvPr id="356" name="Text Box 54"/>
              <p:cNvSpPr/>
              <p:nvPr/>
            </p:nvSpPr>
            <p:spPr>
              <a:xfrm flipH="1">
                <a:off x="8606520" y="3692160"/>
                <a:ext cx="184896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64338174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7" name="图片 102" descr=""/>
              <p:cNvPicPr/>
              <p:nvPr/>
            </p:nvPicPr>
            <p:blipFill>
              <a:blip r:embed="rId2"/>
              <a:stretch/>
            </p:blipFill>
            <p:spPr>
              <a:xfrm>
                <a:off x="10487520" y="3601800"/>
                <a:ext cx="399240" cy="44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58" name="组合 121"/>
          <p:cNvGrpSpPr/>
          <p:nvPr/>
        </p:nvGrpSpPr>
        <p:grpSpPr>
          <a:xfrm>
            <a:off x="1373040" y="1596960"/>
            <a:ext cx="9572760" cy="3654360"/>
            <a:chOff x="1373040" y="1596960"/>
            <a:chExt cx="9572760" cy="3654360"/>
          </a:xfrm>
        </p:grpSpPr>
        <p:grpSp>
          <p:nvGrpSpPr>
            <p:cNvPr id="359" name="组合 122"/>
            <p:cNvGrpSpPr/>
            <p:nvPr/>
          </p:nvGrpSpPr>
          <p:grpSpPr>
            <a:xfrm>
              <a:off x="1373040" y="1874880"/>
              <a:ext cx="3610080" cy="3299760"/>
              <a:chOff x="1373040" y="1874880"/>
              <a:chExt cx="3610080" cy="3299760"/>
            </a:xfrm>
          </p:grpSpPr>
          <p:sp>
            <p:nvSpPr>
              <p:cNvPr id="360" name="文本框 145"/>
              <p:cNvSpPr/>
              <p:nvPr/>
            </p:nvSpPr>
            <p:spPr>
              <a:xfrm>
                <a:off x="1373040" y="1874880"/>
                <a:ext cx="12873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爱发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爱睡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爱闷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…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文本框 146"/>
              <p:cNvSpPr/>
              <p:nvPr/>
            </p:nvSpPr>
            <p:spPr>
              <a:xfrm>
                <a:off x="1380960" y="3423600"/>
                <a:ext cx="2882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做不成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Flying m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也要做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Fighting m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文本框 147"/>
              <p:cNvSpPr/>
              <p:nvPr/>
            </p:nvSpPr>
            <p:spPr>
              <a:xfrm>
                <a:off x="1373040" y="4349160"/>
                <a:ext cx="3610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我是杨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希望成为您的朋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组合 123"/>
            <p:cNvGrpSpPr/>
            <p:nvPr/>
          </p:nvGrpSpPr>
          <p:grpSpPr>
            <a:xfrm>
              <a:off x="4201920" y="1596960"/>
              <a:ext cx="3905280" cy="3038040"/>
              <a:chOff x="4201920" y="1596960"/>
              <a:chExt cx="3905280" cy="3038040"/>
            </a:xfrm>
          </p:grpSpPr>
          <p:grpSp>
            <p:nvGrpSpPr>
              <p:cNvPr id="364" name="组合 141"/>
              <p:cNvGrpSpPr/>
              <p:nvPr/>
            </p:nvGrpSpPr>
            <p:grpSpPr>
              <a:xfrm>
                <a:off x="4201920" y="1596960"/>
                <a:ext cx="3905280" cy="3038040"/>
                <a:chOff x="4201920" y="1596960"/>
                <a:chExt cx="3905280" cy="3038040"/>
              </a:xfrm>
            </p:grpSpPr>
            <p:sp>
              <p:nvSpPr>
                <p:cNvPr id="365" name="任意多边形 143"/>
                <p:cNvSpPr/>
                <p:nvPr/>
              </p:nvSpPr>
              <p:spPr>
                <a:xfrm>
                  <a:off x="4404600" y="1736640"/>
                  <a:ext cx="3550320" cy="2761920"/>
                </a:xfrm>
                <a:prstGeom prst="pie">
                  <a:avLst/>
                </a:prstGeom>
                <a:solidFill>
                  <a:srgbClr val="fff500"/>
                </a:solidFill>
                <a:ln w="12600">
                  <a:solidFill>
                    <a:srgbClr val="d429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任意多边形 144"/>
                <p:cNvSpPr/>
                <p:nvPr/>
              </p:nvSpPr>
              <p:spPr>
                <a:xfrm>
                  <a:off x="4201920" y="1596960"/>
                  <a:ext cx="3905280" cy="3038040"/>
                </a:xfrm>
                <a:prstGeom prst="pie">
                  <a:avLst/>
                </a:prstGeom>
                <a:solidFill>
                  <a:srgbClr val="d4291a"/>
                </a:solidFill>
                <a:ln w="12600">
                  <a:solidFill>
                    <a:srgbClr val="d429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Text Box 54"/>
              <p:cNvSpPr/>
              <p:nvPr/>
            </p:nvSpPr>
            <p:spPr>
              <a:xfrm>
                <a:off x="5165640" y="2629800"/>
                <a:ext cx="1866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4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900" spc="-1" strike="noStrike">
                    <a:solidFill>
                      <a:srgbClr val="d4291a"/>
                    </a:solidFill>
                    <a:latin typeface="Charlemagne Std"/>
                    <a:ea typeface="微软雅黑"/>
                  </a:rPr>
                  <a:t>F</a:t>
                </a:r>
                <a:endParaRPr b="0" lang="en-US" sz="19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矩形 124"/>
            <p:cNvSpPr/>
            <p:nvPr/>
          </p:nvSpPr>
          <p:spPr>
            <a:xfrm>
              <a:off x="4652280" y="4669920"/>
              <a:ext cx="289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4291a"/>
                  </a:solidFill>
                  <a:latin typeface="Californian FB"/>
                  <a:ea typeface="华康俪金黑W8(P)"/>
                </a:rPr>
                <a:t>Fighting m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组合 125"/>
            <p:cNvGrpSpPr/>
            <p:nvPr/>
          </p:nvGrpSpPr>
          <p:grpSpPr>
            <a:xfrm>
              <a:off x="8324640" y="2851200"/>
              <a:ext cx="2621160" cy="700200"/>
              <a:chOff x="8324640" y="2851200"/>
              <a:chExt cx="2621160" cy="700200"/>
            </a:xfrm>
          </p:grpSpPr>
          <p:sp>
            <p:nvSpPr>
              <p:cNvPr id="370" name="任意多边形 139"/>
              <p:cNvSpPr/>
              <p:nvPr/>
            </p:nvSpPr>
            <p:spPr>
              <a:xfrm>
                <a:off x="8324640" y="2851200"/>
                <a:ext cx="2621160" cy="700200"/>
              </a:xfrm>
              <a:prstGeom prst="pie">
                <a:avLst/>
              </a:prstGeom>
              <a:solidFill>
                <a:srgbClr val="d4291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矩形 140"/>
              <p:cNvSpPr/>
              <p:nvPr/>
            </p:nvSpPr>
            <p:spPr>
              <a:xfrm flipH="1">
                <a:off x="8856720" y="3022200"/>
                <a:ext cx="1400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500"/>
                    </a:solidFill>
                    <a:latin typeface="微软雅黑"/>
                    <a:ea typeface="微软雅黑"/>
                  </a:rPr>
                  <a:t>可以在这里找到我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组合 126"/>
            <p:cNvGrpSpPr/>
            <p:nvPr/>
          </p:nvGrpSpPr>
          <p:grpSpPr>
            <a:xfrm>
              <a:off x="8817120" y="4142520"/>
              <a:ext cx="2116800" cy="412200"/>
              <a:chOff x="8817120" y="4142520"/>
              <a:chExt cx="2116800" cy="412200"/>
            </a:xfrm>
          </p:grpSpPr>
          <p:sp>
            <p:nvSpPr>
              <p:cNvPr id="373" name="矩形 133"/>
              <p:cNvSpPr/>
              <p:nvPr/>
            </p:nvSpPr>
            <p:spPr>
              <a:xfrm flipH="1">
                <a:off x="8816760" y="4155840"/>
                <a:ext cx="147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杨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不是超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" name="组合 134"/>
              <p:cNvGrpSpPr/>
              <p:nvPr/>
            </p:nvGrpSpPr>
            <p:grpSpPr>
              <a:xfrm>
                <a:off x="10486800" y="4142520"/>
                <a:ext cx="447120" cy="391320"/>
                <a:chOff x="10486800" y="4142520"/>
                <a:chExt cx="447120" cy="391320"/>
              </a:xfrm>
            </p:grpSpPr>
            <p:sp>
              <p:nvSpPr>
                <p:cNvPr id="375" name="Oval 14"/>
                <p:cNvSpPr/>
                <p:nvPr/>
              </p:nvSpPr>
              <p:spPr>
                <a:xfrm>
                  <a:off x="10509480" y="4327560"/>
                  <a:ext cx="299160" cy="186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5"/>
                <p:cNvSpPr/>
                <p:nvPr/>
              </p:nvSpPr>
              <p:spPr>
                <a:xfrm>
                  <a:off x="10486800" y="4211280"/>
                  <a:ext cx="38592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16"/>
                <p:cNvSpPr/>
                <p:nvPr/>
              </p:nvSpPr>
              <p:spPr>
                <a:xfrm>
                  <a:off x="10770840" y="4142520"/>
                  <a:ext cx="163080" cy="172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17"/>
                <p:cNvSpPr/>
                <p:nvPr/>
              </p:nvSpPr>
              <p:spPr>
                <a:xfrm>
                  <a:off x="10785240" y="4205520"/>
                  <a:ext cx="85320" cy="88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9" name="组合 127"/>
            <p:cNvGrpSpPr/>
            <p:nvPr/>
          </p:nvGrpSpPr>
          <p:grpSpPr>
            <a:xfrm>
              <a:off x="8634240" y="4705920"/>
              <a:ext cx="2178360" cy="421560"/>
              <a:chOff x="8634240" y="4705920"/>
              <a:chExt cx="2178360" cy="421560"/>
            </a:xfrm>
          </p:grpSpPr>
          <p:sp>
            <p:nvSpPr>
              <p:cNvPr id="380" name="Freeform 22"/>
              <p:cNvSpPr/>
              <p:nvPr/>
            </p:nvSpPr>
            <p:spPr>
              <a:xfrm>
                <a:off x="10561680" y="4705920"/>
                <a:ext cx="250920" cy="42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54"/>
              <p:cNvSpPr/>
              <p:nvPr/>
            </p:nvSpPr>
            <p:spPr>
              <a:xfrm flipH="1">
                <a:off x="8634240" y="4734000"/>
                <a:ext cx="184896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336846214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组合 128"/>
            <p:cNvGrpSpPr/>
            <p:nvPr/>
          </p:nvGrpSpPr>
          <p:grpSpPr>
            <a:xfrm>
              <a:off x="8606520" y="3598560"/>
              <a:ext cx="2280240" cy="444960"/>
              <a:chOff x="8606520" y="3598560"/>
              <a:chExt cx="2280240" cy="444960"/>
            </a:xfrm>
          </p:grpSpPr>
          <p:sp>
            <p:nvSpPr>
              <p:cNvPr id="383" name="Text Box 54"/>
              <p:cNvSpPr/>
              <p:nvPr/>
            </p:nvSpPr>
            <p:spPr>
              <a:xfrm flipH="1">
                <a:off x="8606520" y="3688920"/>
                <a:ext cx="184896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64338174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4" name="图片 1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0487520" y="3598560"/>
                <a:ext cx="399240" cy="44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5T05:41:00Z</dcterms:created>
  <dc:creator>guodao1988</dc:creator>
  <dc:description/>
  <dc:language>en-US</dc:language>
  <cp:lastModifiedBy>YANGS2015</cp:lastModifiedBy>
  <dcterms:modified xsi:type="dcterms:W3CDTF">2015-08-03T12:35:09Z</dcterms:modified>
  <cp:revision>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