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79F-1E2A-41C8-B115-C03BE8A8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DD6-F28B-47A1-8E0B-DF7CB74C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B88-F2D0-4D32-AECE-5430AEC5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BED-6197-4B4C-865E-E1ECAF78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E01-7126-4C33-A7DD-F0D268E4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8B7-0E8E-4F1B-978C-EA386EE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651-B410-4204-94F2-13FBF70B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29A-2943-4ADE-9E55-4999666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A15-F12D-485F-B718-4112EF42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882-F9D1-4E70-A6B9-F68EA94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374-1603-4DC3-AF0A-4F5E0D5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FCD-C452-4A08-892B-7AA4382E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E691-E927-49CA-9E83-73EB43A7DC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1375-9344-4E26-B3CB-EFE805DA78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4600">
            <a:off x="-3308400" y="30272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 rot="1764600">
            <a:off x="-12600" y="-25538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44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8d8d8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0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2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44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5040" y="8515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12400" y="81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求职简历商务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040" y="2624040"/>
            <a:ext cx="1158840" cy="2097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9000" y="2624040"/>
            <a:ext cx="1157400" cy="1605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840" y="2624040"/>
            <a:ext cx="1157400" cy="282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6000" y="2624040"/>
            <a:ext cx="1157400" cy="209736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7160" y="2624040"/>
            <a:ext cx="1157400" cy="39481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040" y="2624040"/>
            <a:ext cx="5887800" cy="46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44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59820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d8d8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20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880" y="2584440"/>
            <a:ext cx="20160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404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1560" y="521028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3640" y="5210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276228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281304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5229360" y="2266920"/>
            <a:ext cx="171108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280120" y="4286160"/>
            <a:ext cx="160956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80120" y="5043600"/>
            <a:ext cx="160956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9"/>
          <p:cNvSpPr/>
          <p:nvPr/>
        </p:nvSpPr>
        <p:spPr>
          <a:xfrm>
            <a:off x="768672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773748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16"/>
          <p:cNvSpPr/>
          <p:nvPr/>
        </p:nvSpPr>
        <p:spPr>
          <a:xfrm flipV="1">
            <a:off x="59580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2470320" y="3279600"/>
            <a:ext cx="204768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5072040" y="3279600"/>
            <a:ext cx="20480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707240" y="3279600"/>
            <a:ext cx="20462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1320" y="3368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1320" y="4324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132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1320" y="4788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400" y="4803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0AD-FB21-4CB9-868D-A8EAF460DA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7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0Z</dcterms:created>
  <dc:creator>www.pptbz.com</dc:creator>
  <dc:description/>
  <dc:language>en-US</dc:language>
  <cp:lastModifiedBy>a</cp:lastModifiedBy>
  <dcterms:modified xsi:type="dcterms:W3CDTF">2015-08-03T12:31:14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