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F3E-59DD-4C57-A484-9A83B6D3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6F4F-D6EB-45EC-8F04-2C89770E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D93-A41A-4C5E-A4CC-D12D9BCB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791-111A-477B-9C7D-575AC1C5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A47-C3BA-41FA-A8A5-302FAD8D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CC4-78AC-4221-BF5C-348AB0AB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85C-EC17-4AD2-BF10-5C8984CF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E25-4C16-4290-A504-54EDD757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A7C-D881-4542-A79F-D57E8B6F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483-70D4-41B8-BF49-F975C1B6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FEB-47F0-42A5-B771-E8DB23B6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3C0-00DE-4A2E-B080-2B25B4BD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2A1F-78FB-4FBF-A0CA-DE75FD11A57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3A60-BF0E-4BA0-9AF1-E301F66D0F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 rot="21420000">
            <a:off x="272880" y="1674720"/>
            <a:ext cx="8739360" cy="390384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7221600" y="2355840"/>
            <a:ext cx="1871640" cy="2325600"/>
          </a:xfrm>
          <a:prstGeom prst="rect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354440" y="3935520"/>
            <a:ext cx="17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a7ba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a7ba"/>
                </a:solidFill>
                <a:latin typeface="微软雅黑"/>
                <a:ea typeface="微软雅黑"/>
              </a:rPr>
              <a:t>2011</a:t>
            </a:r>
            <a:r>
              <a:rPr b="1" lang="zh-CN" sz="1800" spc="-1" strike="noStrike">
                <a:solidFill>
                  <a:srgbClr val="5ca7ba"/>
                </a:solidFill>
                <a:latin typeface="微软雅黑"/>
                <a:ea typeface="微软雅黑"/>
              </a:rPr>
              <a:t>年</a:t>
            </a:r>
            <a:r>
              <a:rPr b="1" lang="en-US" sz="1800" spc="-1" strike="noStrike">
                <a:solidFill>
                  <a:srgbClr val="5ca7ba"/>
                </a:solidFill>
                <a:latin typeface="微软雅黑"/>
                <a:ea typeface="微软雅黑"/>
              </a:rPr>
              <a:t>7</a:t>
            </a:r>
            <a:r>
              <a:rPr b="1" lang="zh-CN" sz="1800" spc="-1" strike="noStrike">
                <a:solidFill>
                  <a:srgbClr val="5ca7ba"/>
                </a:solidFill>
                <a:latin typeface="微软雅黑"/>
                <a:ea typeface="微软雅黑"/>
              </a:rPr>
              <a:t>月</a:t>
            </a:r>
            <a:r>
              <a:rPr b="1" lang="en-US" sz="1800" spc="-1" strike="noStrike">
                <a:solidFill>
                  <a:srgbClr val="5ca7ba"/>
                </a:solidFill>
                <a:latin typeface="微软雅黑"/>
                <a:ea typeface="微软雅黑"/>
              </a:rPr>
              <a:t>22</a:t>
            </a:r>
            <a:r>
              <a:rPr b="1" lang="zh-CN" sz="1800" spc="-1" strike="noStrike">
                <a:solidFill>
                  <a:srgbClr val="5ca7ba"/>
                </a:solidFill>
                <a:latin typeface="微软雅黑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 rot="236400">
            <a:off x="1044360" y="2421000"/>
            <a:ext cx="767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425d"/>
                </a:solidFill>
                <a:latin typeface="微软雅黑"/>
                <a:ea typeface="微软雅黑"/>
              </a:rPr>
              <a:t>大学支队工作总结——立体动态</a:t>
            </a:r>
            <a:r>
              <a:rPr b="1" lang="zh-CN" sz="4000" spc="-1" strike="noStrike">
                <a:solidFill>
                  <a:srgbClr val="ff425d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425d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协会、学生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 rot="20949000">
            <a:off x="1144080" y="5283000"/>
            <a:ext cx="2675160" cy="792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 rot="21002400">
            <a:off x="3373200" y="1816200"/>
            <a:ext cx="4023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迎新联欢晚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主题演讲比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锅庄晚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英语角”学习兴趣小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水利电力学院学生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4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425d"/>
                </a:solidFill>
                <a:latin typeface="微软雅黑"/>
                <a:ea typeface="微软雅黑"/>
              </a:rPr>
              <a:t>安利“彩虹计划”活动资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 rot="20849400">
            <a:off x="3371400" y="2273400"/>
            <a:ext cx="4291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校友会网站建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《</a:t>
            </a: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昆仑情</a:t>
            </a:r>
            <a:r>
              <a:rPr b="1" lang="en-US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》——</a:t>
            </a: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校友访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百年校庆主题论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百年校庆主题晚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7"/>
          <p:cNvGrpSpPr/>
          <p:nvPr/>
        </p:nvGrpSpPr>
        <p:grpSpPr>
          <a:xfrm>
            <a:off x="-1706400" y="7750080"/>
            <a:ext cx="2374560" cy="2752920"/>
            <a:chOff x="-1706400" y="7750080"/>
            <a:chExt cx="2374560" cy="2752920"/>
          </a:xfrm>
        </p:grpSpPr>
        <p:pic>
          <p:nvPicPr>
            <p:cNvPr id="129" name="Picture 5" descr=""/>
            <p:cNvPicPr/>
            <p:nvPr/>
          </p:nvPicPr>
          <p:blipFill>
            <a:blip r:embed="rId1"/>
            <a:srcRect l="27074" t="6614" r="27714" b="9071"/>
            <a:stretch/>
          </p:blipFill>
          <p:spPr>
            <a:xfrm>
              <a:off x="-1657080" y="7788600"/>
              <a:ext cx="2283840" cy="26676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30" name="矩形 9"/>
            <p:cNvSpPr/>
            <p:nvPr/>
          </p:nvSpPr>
          <p:spPr>
            <a:xfrm>
              <a:off x="-1706400" y="7750080"/>
              <a:ext cx="2374560" cy="2752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10"/>
          <p:cNvGrpSpPr/>
          <p:nvPr/>
        </p:nvGrpSpPr>
        <p:grpSpPr>
          <a:xfrm>
            <a:off x="1616040" y="8217000"/>
            <a:ext cx="2374920" cy="2754360"/>
            <a:chOff x="1616040" y="8217000"/>
            <a:chExt cx="2374920" cy="2754360"/>
          </a:xfrm>
        </p:grpSpPr>
        <p:pic>
          <p:nvPicPr>
            <p:cNvPr id="132" name="Picture 4" descr=""/>
            <p:cNvPicPr/>
            <p:nvPr/>
          </p:nvPicPr>
          <p:blipFill>
            <a:blip r:embed="rId2"/>
            <a:srcRect l="26831" t="6943" r="28160" b="7574"/>
            <a:stretch/>
          </p:blipFill>
          <p:spPr>
            <a:xfrm>
              <a:off x="1673640" y="8246520"/>
              <a:ext cx="2260440" cy="26899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33" name="矩形 12"/>
            <p:cNvSpPr/>
            <p:nvPr/>
          </p:nvSpPr>
          <p:spPr>
            <a:xfrm>
              <a:off x="1616040" y="8217000"/>
              <a:ext cx="2374920" cy="2754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13"/>
          <p:cNvGrpSpPr/>
          <p:nvPr/>
        </p:nvGrpSpPr>
        <p:grpSpPr>
          <a:xfrm>
            <a:off x="4794120" y="8182080"/>
            <a:ext cx="2374920" cy="2752560"/>
            <a:chOff x="4794120" y="8182080"/>
            <a:chExt cx="2374920" cy="2752560"/>
          </a:xfrm>
        </p:grpSpPr>
        <p:pic>
          <p:nvPicPr>
            <p:cNvPr id="135" name="Picture 3" descr=""/>
            <p:cNvPicPr/>
            <p:nvPr/>
          </p:nvPicPr>
          <p:blipFill>
            <a:blip r:embed="rId3"/>
            <a:srcRect l="26604" t="7654" r="26852" b="4879"/>
            <a:stretch/>
          </p:blipFill>
          <p:spPr>
            <a:xfrm>
              <a:off x="4842720" y="8218080"/>
              <a:ext cx="2284560" cy="26881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36" name="矩形 15"/>
            <p:cNvSpPr/>
            <p:nvPr/>
          </p:nvSpPr>
          <p:spPr>
            <a:xfrm>
              <a:off x="4794120" y="8182080"/>
              <a:ext cx="2374920" cy="2752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2" descr=""/>
          <p:cNvPicPr/>
          <p:nvPr/>
        </p:nvPicPr>
        <p:blipFill>
          <a:blip r:embed="rId4"/>
          <a:srcRect l="36327" t="21929" r="35078" b="11329"/>
          <a:stretch/>
        </p:blipFill>
        <p:spPr>
          <a:xfrm>
            <a:off x="1568520" y="9118440"/>
            <a:ext cx="2365200" cy="3313440"/>
          </a:xfrm>
          <a:prstGeom prst="rect">
            <a:avLst/>
          </a:prstGeom>
          <a:ln w="0">
            <a:noFill/>
          </a:ln>
        </p:spPr>
      </p:pic>
      <p:sp>
        <p:nvSpPr>
          <p:cNvPr id="138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友会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104 -0.19028 L -0.43802 -0.79977 E">
                                      <p:cBhvr>
                                        <p:cTn id="409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802 -0.79977 L -0.47709 -1.08264 E">
                                      <p:cBhvr>
                                        <p:cTn id="413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9 -0.12732 L 0.27292 -0.73681 E">
                                      <p:cBhvr>
                                        <p:cTn id="418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292 -0.7368 L 0.23385 -1.01967 E">
                                      <p:cBhvr>
                                        <p:cTn id="422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-0.19561 L -0.09045 -0.8051 E">
                                      <p:cBhvr>
                                        <p:cTn id="42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36759 L -0.0849 -0.97708 E">
                                      <p:cBhvr>
                                        <p:cTn id="434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8051 L -0.12951 -1.08797 E">
                                      <p:cBhvr>
                                        <p:cTn id="436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489 -0.97708 L -0.12396 -1.25995 E">
                                      <p:cBhvr>
                                        <p:cTn id="446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省委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 rot="20849400">
            <a:off x="3940560" y="2889000"/>
            <a:ext cx="315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日常工作汇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安利彩虹”计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4720" y="260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3DEC-011B-49AD-B3D7-660AB9D654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原底板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数字板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感谢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右侧底板"/>
          <p:cNvSpPr/>
          <p:nvPr/>
        </p:nvSpPr>
        <p:spPr>
          <a:xfrm>
            <a:off x="3276720" y="2219400"/>
            <a:ext cx="6048360" cy="4005360"/>
          </a:xfrm>
          <a:prstGeom prst="rect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左板遮板"/>
          <p:cNvSpPr/>
          <p:nvPr/>
        </p:nvSpPr>
        <p:spPr>
          <a:xfrm>
            <a:off x="514440" y="2205000"/>
            <a:ext cx="2587680" cy="400356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左板"/>
          <p:cNvSpPr/>
          <p:nvPr/>
        </p:nvSpPr>
        <p:spPr>
          <a:xfrm>
            <a:off x="514440" y="2205000"/>
            <a:ext cx="1131840" cy="400356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9" descr=""/>
          <p:cNvPicPr/>
          <p:nvPr/>
        </p:nvPicPr>
        <p:blipFill>
          <a:blip r:embed="rId1"/>
          <a:stretch/>
        </p:blipFill>
        <p:spPr>
          <a:xfrm>
            <a:off x="2593800" y="2749680"/>
            <a:ext cx="4604040" cy="31035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4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4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xit" presetID="22" presetSubtype="1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600000">
                                      <p:cBhvr>
                                        <p:cTn id="4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5E-006 7.40741E-007 L -0.15712 -0.0044 E">
                                      <p:cBhvr>
                                        <p:cTn id="495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xit" presetID="22" presetSubtype="2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50"/>
                            </p:stCondLst>
                            <p:childTnLst>
                              <p:par>
                                <p:cTn id="5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7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"/>
          <p:cNvSpPr/>
          <p:nvPr/>
        </p:nvSpPr>
        <p:spPr>
          <a:xfrm rot="20949000">
            <a:off x="2077920" y="1260360"/>
            <a:ext cx="4567320" cy="72072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政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 rot="20949000">
            <a:off x="2698920" y="1976040"/>
            <a:ext cx="4568760" cy="72252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院系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 rot="20949000">
            <a:off x="3230640" y="2715840"/>
            <a:ext cx="4568760" cy="72216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协会、学生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 rot="20949000">
            <a:off x="2670120" y="3663720"/>
            <a:ext cx="4568760" cy="72216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友会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 rot="20949000">
            <a:off x="2133360" y="4701960"/>
            <a:ext cx="4568760" cy="72072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省委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1265400" y="1817640"/>
            <a:ext cx="699840" cy="70020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3"/>
          <p:cNvSpPr/>
          <p:nvPr/>
        </p:nvSpPr>
        <p:spPr>
          <a:xfrm>
            <a:off x="1913040" y="2575080"/>
            <a:ext cx="701640" cy="70164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4"/>
          <p:cNvSpPr/>
          <p:nvPr/>
        </p:nvSpPr>
        <p:spPr>
          <a:xfrm>
            <a:off x="2470320" y="3282840"/>
            <a:ext cx="701640" cy="70020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5"/>
          <p:cNvSpPr/>
          <p:nvPr/>
        </p:nvSpPr>
        <p:spPr>
          <a:xfrm>
            <a:off x="1893960" y="4203720"/>
            <a:ext cx="701640" cy="70020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6"/>
          <p:cNvSpPr/>
          <p:nvPr/>
        </p:nvSpPr>
        <p:spPr>
          <a:xfrm>
            <a:off x="1336680" y="5202360"/>
            <a:ext cx="701640" cy="69984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政工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 rot="20949000">
            <a:off x="1144080" y="5283000"/>
            <a:ext cx="2675160" cy="792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口支援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5" descr=""/>
          <p:cNvPicPr/>
          <p:nvPr/>
        </p:nvPicPr>
        <p:blipFill>
          <a:blip r:embed="rId1"/>
          <a:stretch/>
        </p:blipFill>
        <p:spPr>
          <a:xfrm rot="21180000">
            <a:off x="2426760" y="3517560"/>
            <a:ext cx="5780160" cy="1363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17"/>
          <p:cNvSpPr/>
          <p:nvPr/>
        </p:nvSpPr>
        <p:spPr>
          <a:xfrm rot="20719800">
            <a:off x="3783240" y="22464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ca7ba"/>
                </a:solidFill>
                <a:latin typeface="微软雅黑"/>
                <a:ea typeface="微软雅黑"/>
              </a:rPr>
              <a:t>对口支援图片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7" descr=""/>
          <p:cNvPicPr/>
          <p:nvPr/>
        </p:nvPicPr>
        <p:blipFill>
          <a:blip r:embed="rId2"/>
          <a:stretch/>
        </p:blipFill>
        <p:spPr>
          <a:xfrm>
            <a:off x="3943440" y="1700280"/>
            <a:ext cx="2724120" cy="38527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8" descr=""/>
          <p:cNvPicPr/>
          <p:nvPr/>
        </p:nvPicPr>
        <p:blipFill>
          <a:blip r:embed="rId3"/>
          <a:stretch/>
        </p:blipFill>
        <p:spPr>
          <a:xfrm>
            <a:off x="3943440" y="1700280"/>
            <a:ext cx="2724120" cy="38527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9" descr=""/>
          <p:cNvPicPr/>
          <p:nvPr/>
        </p:nvPicPr>
        <p:blipFill>
          <a:blip r:embed="rId4"/>
          <a:stretch/>
        </p:blipFill>
        <p:spPr>
          <a:xfrm>
            <a:off x="3943440" y="1700280"/>
            <a:ext cx="2724120" cy="38527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0" descr=""/>
          <p:cNvPicPr/>
          <p:nvPr/>
        </p:nvPicPr>
        <p:blipFill>
          <a:blip r:embed="rId5"/>
          <a:stretch/>
        </p:blipFill>
        <p:spPr>
          <a:xfrm>
            <a:off x="3943440" y="1700280"/>
            <a:ext cx="2724120" cy="38527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1" descr=""/>
          <p:cNvPicPr/>
          <p:nvPr/>
        </p:nvPicPr>
        <p:blipFill>
          <a:blip r:embed="rId6"/>
          <a:stretch/>
        </p:blipFill>
        <p:spPr>
          <a:xfrm>
            <a:off x="3943440" y="1700280"/>
            <a:ext cx="2724120" cy="38527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2" descr=""/>
          <p:cNvPicPr/>
          <p:nvPr/>
        </p:nvPicPr>
        <p:blipFill>
          <a:blip r:embed="rId7"/>
          <a:stretch/>
        </p:blipFill>
        <p:spPr>
          <a:xfrm>
            <a:off x="3943440" y="1700280"/>
            <a:ext cx="27241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"/>
                            </p:stCondLst>
                            <p:childTnLst>
                              <p:par>
                                <p:cTn id="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政工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 rot="20949000">
            <a:off x="1144080" y="5283000"/>
            <a:ext cx="2675160" cy="792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办公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 rot="20719800">
            <a:off x="3589920" y="2310120"/>
            <a:ext cx="342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5ca7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ca7ba"/>
                </a:solidFill>
                <a:latin typeface="微软雅黑"/>
                <a:ea typeface="微软雅黑"/>
              </a:rPr>
              <a:t>工作规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5ca7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ca7ba"/>
                </a:solidFill>
                <a:latin typeface="微软雅黑"/>
                <a:ea typeface="微软雅黑"/>
              </a:rPr>
              <a:t>办公自动化建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5ca7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ca7ba"/>
                </a:solidFill>
                <a:latin typeface="微软雅黑"/>
                <a:ea typeface="微软雅黑"/>
              </a:rPr>
              <a:t>年鉴修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政工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 rot="20949000">
            <a:off x="1144080" y="5283000"/>
            <a:ext cx="2675160" cy="792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务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6"/>
          <p:cNvGrpSpPr/>
          <p:nvPr/>
        </p:nvGrpSpPr>
        <p:grpSpPr>
          <a:xfrm>
            <a:off x="3275640" y="2883960"/>
            <a:ext cx="1760760" cy="1506600"/>
            <a:chOff x="3275640" y="2883960"/>
            <a:chExt cx="1760760" cy="1506600"/>
          </a:xfrm>
        </p:grpSpPr>
        <p:sp>
          <p:nvSpPr>
            <p:cNvPr id="78" name="直接连接符 7"/>
            <p:cNvSpPr/>
            <p:nvPr/>
          </p:nvSpPr>
          <p:spPr>
            <a:xfrm flipH="1" flipV="1">
              <a:off x="3284640" y="3216600"/>
              <a:ext cx="490680" cy="375480"/>
            </a:xfrm>
            <a:prstGeom prst="line">
              <a:avLst/>
            </a:prstGeom>
            <a:ln w="28440">
              <a:solidFill>
                <a:srgbClr val="5ca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8"/>
            <p:cNvSpPr/>
            <p:nvPr/>
          </p:nvSpPr>
          <p:spPr>
            <a:xfrm flipH="1">
              <a:off x="3275640" y="2883960"/>
              <a:ext cx="1097280" cy="335160"/>
            </a:xfrm>
            <a:prstGeom prst="line">
              <a:avLst/>
            </a:prstGeom>
            <a:ln w="28440">
              <a:solidFill>
                <a:srgbClr val="5ca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9"/>
            <p:cNvSpPr/>
            <p:nvPr/>
          </p:nvSpPr>
          <p:spPr>
            <a:xfrm flipH="1" flipV="1">
              <a:off x="4365000" y="2886480"/>
              <a:ext cx="491040" cy="375480"/>
            </a:xfrm>
            <a:prstGeom prst="line">
              <a:avLst/>
            </a:prstGeom>
            <a:ln w="28440">
              <a:solidFill>
                <a:srgbClr val="5ca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10"/>
            <p:cNvSpPr/>
            <p:nvPr/>
          </p:nvSpPr>
          <p:spPr>
            <a:xfrm flipH="1">
              <a:off x="3569040" y="3593520"/>
              <a:ext cx="196920" cy="585720"/>
            </a:xfrm>
            <a:prstGeom prst="line">
              <a:avLst/>
            </a:prstGeom>
            <a:ln w="28440">
              <a:solidFill>
                <a:srgbClr val="5ca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11"/>
            <p:cNvSpPr/>
            <p:nvPr/>
          </p:nvSpPr>
          <p:spPr>
            <a:xfrm flipH="1">
              <a:off x="3572640" y="3842640"/>
              <a:ext cx="1097280" cy="335520"/>
            </a:xfrm>
            <a:prstGeom prst="line">
              <a:avLst/>
            </a:prstGeom>
            <a:ln w="28440">
              <a:solidFill>
                <a:srgbClr val="5ca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12"/>
            <p:cNvSpPr/>
            <p:nvPr/>
          </p:nvSpPr>
          <p:spPr>
            <a:xfrm flipH="1">
              <a:off x="4652640" y="3242520"/>
              <a:ext cx="197280" cy="585720"/>
            </a:xfrm>
            <a:prstGeom prst="line">
              <a:avLst/>
            </a:prstGeom>
            <a:ln w="28440">
              <a:solidFill>
                <a:srgbClr val="5ca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3"/>
            <p:cNvSpPr/>
            <p:nvPr/>
          </p:nvSpPr>
          <p:spPr>
            <a:xfrm rot="20581200">
              <a:off x="3585600" y="4068360"/>
              <a:ext cx="1238040" cy="144000"/>
            </a:xfrm>
            <a:prstGeom prst="rect">
              <a:avLst/>
            </a:prstGeom>
            <a:solidFill>
              <a:srgbClr val="5ca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2"/>
            <p:cNvSpPr/>
            <p:nvPr/>
          </p:nvSpPr>
          <p:spPr>
            <a:xfrm rot="17341200">
              <a:off x="4520160" y="3605040"/>
              <a:ext cx="676440" cy="143640"/>
            </a:xfrm>
            <a:prstGeom prst="pie">
              <a:avLst/>
            </a:prstGeom>
            <a:solidFill>
              <a:srgbClr val="5ca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101760" y="3644640"/>
            <a:ext cx="673200" cy="52200"/>
            <a:chOff x="3101760" y="3644640"/>
            <a:chExt cx="673200" cy="52200"/>
          </a:xfrm>
        </p:grpSpPr>
        <p:sp>
          <p:nvSpPr>
            <p:cNvPr id="87" name="Line 300"/>
            <p:cNvSpPr/>
            <p:nvPr/>
          </p:nvSpPr>
          <p:spPr>
            <a:xfrm flipV="1">
              <a:off x="3102120" y="3644640"/>
              <a:ext cx="672840" cy="52200"/>
            </a:xfrm>
            <a:prstGeom prst="line">
              <a:avLst/>
            </a:prstGeom>
            <a:ln cap="rnd" w="28440">
              <a:solidFill>
                <a:srgbClr val="5ca7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 rot="10800000">
              <a:off x="3101760" y="3644640"/>
              <a:ext cx="672840" cy="5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16"/>
          <p:cNvSpPr/>
          <p:nvPr/>
        </p:nvSpPr>
        <p:spPr>
          <a:xfrm rot="20719800">
            <a:off x="4671720" y="2314800"/>
            <a:ext cx="3393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5ca7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排课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5ca7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1165/12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ff425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425d"/>
                </a:solidFill>
                <a:latin typeface="微软雅黑"/>
                <a:ea typeface="微软雅黑"/>
              </a:rPr>
              <a:t>9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"/>
                            </p:stCondLst>
                            <p:childTnLst>
                              <p:par>
                                <p:cTn id="1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50"/>
                            </p:stCondLst>
                            <p:childTnLst>
                              <p:par>
                                <p:cTn id="1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250"/>
                            </p:stCondLst>
                            <p:childTnLst>
                              <p:par>
                                <p:cTn id="19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750"/>
                            </p:stCondLst>
                            <p:childTnLst>
                              <p:par>
                                <p:cTn id="19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政工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 rot="20949000">
            <a:off x="1144080" y="5283000"/>
            <a:ext cx="2675160" cy="792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务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 rot="21187800">
            <a:off x="3704760" y="4914720"/>
            <a:ext cx="2619000" cy="70344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综合教务管理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 rot="20750400">
            <a:off x="3524400" y="2774520"/>
            <a:ext cx="27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5ca7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a7ba"/>
                </a:solidFill>
                <a:latin typeface="微软雅黑"/>
                <a:ea typeface="微软雅黑"/>
              </a:rPr>
              <a:t>批量生成准考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5ca7b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a7ba"/>
                </a:solidFill>
                <a:latin typeface="微软雅黑"/>
                <a:ea typeface="微软雅黑"/>
              </a:rPr>
              <a:t>四、六级网上报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 rot="20982600">
            <a:off x="9358200" y="1633320"/>
            <a:ext cx="3246480" cy="3251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 rot="20982600">
            <a:off x="9396000" y="1633320"/>
            <a:ext cx="3170160" cy="3251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 rot="20982600">
            <a:off x="9394560" y="1633320"/>
            <a:ext cx="3171600" cy="325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4"/>
          <a:stretch/>
        </p:blipFill>
        <p:spPr>
          <a:xfrm rot="20982600">
            <a:off x="9321480" y="1928520"/>
            <a:ext cx="317016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-0.60608 0.05486 E">
                                      <p:cBhvr>
                                        <p:cTn id="220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608 0.05486 L -0.87379 0.08634 E">
                                      <p:cBhvr>
                                        <p:cTn id="224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-0.60608 0.05486 E">
                                      <p:cBhvr>
                                        <p:cTn id="231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608 0.05486 L -0.87379 0.08634 E">
                                      <p:cBhvr>
                                        <p:cTn id="235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-0.60608 0.05486 E">
                                      <p:cBhvr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608 0.05486 L -0.87379 0.08634 E">
                                      <p:cBhvr>
                                        <p:cTn id="246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院系工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 rot="20849400">
            <a:off x="3769200" y="2119320"/>
            <a:ext cx="349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a7ba"/>
                </a:solidFill>
                <a:latin typeface="微软雅黑"/>
                <a:ea typeface="微软雅黑"/>
              </a:rPr>
              <a:t>综合英语四、六级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a7ba"/>
                </a:solidFill>
                <a:latin typeface="微软雅黑"/>
                <a:ea typeface="微软雅黑"/>
              </a:rPr>
              <a:t>计算机程序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a7ba"/>
                </a:solidFill>
                <a:latin typeface="微软雅黑"/>
                <a:ea typeface="微软雅黑"/>
              </a:rPr>
              <a:t>数据库及其他课程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a7ba"/>
                </a:solidFill>
                <a:latin typeface="微软雅黑"/>
                <a:ea typeface="微软雅黑"/>
              </a:rPr>
              <a:t>前沿讲座及第二课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ca7ba"/>
                </a:solidFill>
                <a:latin typeface="微软雅黑"/>
                <a:ea typeface="微软雅黑"/>
              </a:rPr>
              <a:t>项目管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英语四级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  <a:ea typeface="Calibri"/>
              </a:rPr>
              <a:t>89.7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前沿讲座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eb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程基础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互联网产品设计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项目管理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网站自助搭建平台系统的研究与实现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FIEA 2010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录用，被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I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STP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索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 rot="20949000">
            <a:off x="1144080" y="5283000"/>
            <a:ext cx="2675160" cy="792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辅助教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20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院系工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 rot="20849400">
            <a:off x="4378680" y="2273400"/>
            <a:ext cx="2276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实验室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班主任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学生组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党建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算机系运动会入场式、青海大学迎建党九十周年文艺汇演、合唱比赛彩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 rot="20949000">
            <a:off x="1144080" y="5283000"/>
            <a:ext cx="2675160" cy="792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辅助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e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3102120" y="757080"/>
            <a:ext cx="5759280" cy="5508720"/>
          </a:xfrm>
          <a:prstGeom prst="pie">
            <a:avLst/>
          </a:prstGeom>
          <a:solidFill>
            <a:srgbClr val="c7e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"/>
          <p:cNvSpPr/>
          <p:nvPr/>
        </p:nvSpPr>
        <p:spPr>
          <a:xfrm>
            <a:off x="596880" y="2205000"/>
            <a:ext cx="2822760" cy="3745080"/>
          </a:xfrm>
          <a:prstGeom prst="rect">
            <a:avLst/>
          </a:prstGeom>
          <a:solidFill>
            <a:srgbClr val="5ca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"/>
          <p:cNvSpPr/>
          <p:nvPr/>
        </p:nvSpPr>
        <p:spPr>
          <a:xfrm rot="772200">
            <a:off x="171000" y="1153800"/>
            <a:ext cx="2951280" cy="900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协会、学生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 rot="20949000">
            <a:off x="1144080" y="5283000"/>
            <a:ext cx="2675160" cy="792000"/>
          </a:xfrm>
          <a:prstGeom prst="rect">
            <a:avLst/>
          </a:prstGeom>
          <a:solidFill>
            <a:srgbClr val="ff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协会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 rot="20849400">
            <a:off x="3522960" y="1965240"/>
            <a:ext cx="3984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同伴教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校内无偿献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专业急救培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ca7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“</a:t>
            </a:r>
            <a:r>
              <a:rPr b="1" lang="en-US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12</a:t>
            </a: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•</a:t>
            </a:r>
            <a:r>
              <a:rPr b="1" lang="en-US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”</a:t>
            </a:r>
            <a:r>
              <a:rPr b="1" lang="zh-CN" sz="4000" spc="-1" strike="noStrike">
                <a:solidFill>
                  <a:srgbClr val="5ca7ba"/>
                </a:solidFill>
                <a:latin typeface="微软雅黑"/>
                <a:ea typeface="微软雅黑"/>
              </a:rPr>
              <a:t>世界艾滋病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42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425d"/>
                </a:solidFill>
                <a:latin typeface="微软雅黑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ff425d"/>
                </a:solidFill>
                <a:latin typeface="微软雅黑"/>
                <a:ea typeface="微软雅黑"/>
              </a:rPr>
              <a:t>优秀志愿者团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8:49:00Z</dcterms:created>
  <dc:creator>TITAN</dc:creator>
  <dc:description/>
  <dc:language>en-US</dc:language>
  <cp:lastModifiedBy>SUNNY-PC</cp:lastModifiedBy>
  <dcterms:modified xsi:type="dcterms:W3CDTF">2015-08-03T12:32:0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