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161-C5DF-49E4-BC2F-F9AE9A2D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82C-CCF8-4CF7-84F6-C1DEE348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273-41D2-40C4-AAEE-B56D55A1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2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40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2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40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AC2-C88D-4FD7-B766-D40933DC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BF0-3A5C-42AC-B80F-ED1707CC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CBE-1A14-4502-8ACD-BBF8953D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EDB-812C-42C5-94FD-0A43D62B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501-F152-4F9B-BC57-174D8A61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BAE-FA0C-4E7B-AE7A-27FDB371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453-78C3-4D44-98FD-1EAC61BB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1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58C-3A41-4073-8F74-4E42DBA8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1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B7D-D590-4493-A9E9-E1E76538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C4AD-E1CA-4B25-AF7B-39110E3C62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1676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Ink the Deal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8195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Presentatio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1960" y="333360"/>
            <a:ext cx="76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钢笔头论文课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Point Here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 Point Her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24382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i="1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1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i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726-D05D-4974-9B6F-C16F325B9F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power_point\ink_the_deal\pen.png"/>
          <p:cNvPicPr/>
          <p:nvPr/>
        </p:nvPicPr>
        <p:blipFill>
          <a:blip r:embed="rId1"/>
          <a:stretch/>
        </p:blipFill>
        <p:spPr>
          <a:xfrm>
            <a:off x="457200" y="380880"/>
            <a:ext cx="1625760" cy="609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power_point\ink_the_deal\ink_the_deal_qx.jpg"/>
          <p:cNvPicPr/>
          <p:nvPr/>
        </p:nvPicPr>
        <p:blipFill>
          <a:blip r:embed="rId2"/>
          <a:stretch/>
        </p:blipFill>
        <p:spPr>
          <a:xfrm>
            <a:off x="1981080" y="3733920"/>
            <a:ext cx="2895840" cy="231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power_point\ink_the_deal\ink_the_deal_prt.jpg"/>
          <p:cNvPicPr/>
          <p:nvPr/>
        </p:nvPicPr>
        <p:blipFill>
          <a:blip r:embed="rId3"/>
          <a:stretch/>
        </p:blipFill>
        <p:spPr>
          <a:xfrm>
            <a:off x="4952880" y="3733920"/>
            <a:ext cx="2895840" cy="231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power_point\ink_the_deal\ink_the_deal_sld.jpg"/>
          <p:cNvPicPr/>
          <p:nvPr/>
        </p:nvPicPr>
        <p:blipFill>
          <a:blip r:embed="rId4"/>
          <a:stretch/>
        </p:blipFill>
        <p:spPr>
          <a:xfrm>
            <a:off x="1981080" y="1295280"/>
            <a:ext cx="2895840" cy="231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power_point\ink_the_deal\ink_the_deal_trs3.jpg"/>
          <p:cNvPicPr/>
          <p:nvPr/>
        </p:nvPicPr>
        <p:blipFill>
          <a:blip r:embed="rId5"/>
          <a:stretch/>
        </p:blipFill>
        <p:spPr>
          <a:xfrm>
            <a:off x="4952880" y="1295280"/>
            <a:ext cx="2895840" cy="2316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752480" y="1522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Elements P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02:48:00Z</dcterms:created>
  <dc:creator>微软中国</dc:creator>
  <dc:description/>
  <dc:language>en-US</dc:language>
  <cp:lastModifiedBy>微软中国</cp:lastModifiedBy>
  <dcterms:modified xsi:type="dcterms:W3CDTF">2015-08-03T12:35:24Z</dcterms:modified>
  <cp:revision>1</cp:revision>
  <dc:subject/>
  <dc:title>Ink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