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D3A-9FE6-46DE-8FD3-4413B47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12B-763A-4D2B-971B-20832B0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C74-8655-4825-939B-D2DCCDB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D28-F107-4121-9A8D-454E05A9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517-1101-4E36-B3A3-221688CF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846-268A-41A4-BFB1-22A47BA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7FC-B445-4FAA-957A-26262D0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A48-CEB3-46A4-AF46-FFD499E3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661-0BB0-4FB2-86C8-B215651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A3D-B6FC-47FC-A6E7-90C2CE6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09F-4F8A-4F3D-A9AA-B739FA9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10D-C66A-4C37-AF81-92AA9EF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A14-4461-4170-ABAA-31BE955164D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F4AE-3C57-4A60-BAB5-53406C98214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1"/>
          <p:cNvPicPr/>
          <p:nvPr/>
        </p:nvPicPr>
        <p:blipFill>
          <a:blip r:embed="rId1"/>
          <a:stretch/>
        </p:blipFill>
        <p:spPr>
          <a:xfrm>
            <a:off x="-1440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27160" y="60436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36720" y="82404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革命时期海报元素中国式年终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1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59E-2A2A-4A87-88B1-162972CE0D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幻灯片1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9960" y="1260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幻灯片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幻灯片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9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9:20:00Z</dcterms:created>
  <dc:creator>admin</dc:creator>
  <dc:description/>
  <dc:language>en-US</dc:language>
  <cp:lastModifiedBy>admin</cp:lastModifiedBy>
  <dcterms:modified xsi:type="dcterms:W3CDTF">2015-08-03T12:35:2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