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E81-82CD-476C-95F3-9146D50C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BC1-ABD6-4703-AFC0-D4BEF745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E7A-DA83-41C8-A7BE-210B8A7B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10F-C536-43F0-ABCE-BB1F6C64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E11-9C18-4B57-A730-D5A74B42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D66-051F-4A7C-8D9A-32FE0566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7D6-56CF-410C-9053-A5FC8D68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F63-F8C7-4C48-A790-FBBA905A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200-0F07-4957-BB57-C5A6E05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91F-B80E-494D-B62E-A772826C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BDB-3281-4E23-887E-6F1FD0E5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C2F-894A-41C9-B9A5-DCF7AB5D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838-3CBF-44E3-9CCC-3141BD7F67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BEA8-971A-4926-A199-104F67004A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dongtai/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582480" y="566640"/>
            <a:ext cx="7848720" cy="5688000"/>
          </a:xfrm>
          <a:prstGeom prst="pie">
            <a:avLst/>
          </a:prstGeom>
          <a:noFill/>
          <a:ln w="1908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474840" y="476280"/>
            <a:ext cx="8064360" cy="5867280"/>
          </a:xfrm>
          <a:prstGeom prst="pie">
            <a:avLst/>
          </a:prstGeom>
          <a:noFill/>
          <a:ln w="381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82720" y="2540160"/>
            <a:ext cx="728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       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为表彰你在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2011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年在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PPT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推广领域做出的贡献，特别颁发“   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      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”杯</a:t>
            </a: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PPT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大奖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       </a:t>
            </a:r>
            <a:r>
              <a:rPr b="0" lang="zh-CN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特颁此证，以资鼓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c372e"/>
                </a:solidFill>
                <a:latin typeface="隶书"/>
                <a:ea typeface="隶书"/>
              </a:rPr>
              <a:t>中华美女联合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372e"/>
                </a:solidFill>
                <a:latin typeface="宋体"/>
              </a:rPr>
              <a:t>2011.1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060720" y="1028880"/>
            <a:ext cx="30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荣誉证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882720" y="2317680"/>
            <a:ext cx="1834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838080" y="16956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叶根友刀锋黑草"/>
                <a:ea typeface="叶根友刀锋黑草"/>
              </a:rPr>
              <a:t>秋叶</a:t>
            </a:r>
            <a:r>
              <a:rPr b="0" lang="zh-CN" sz="32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同志</a:t>
            </a: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yinzhang8.com.cn/seal/index.php?name=%E4%B8%AD%E5%8D%8E%E7%BE%8E%E5%A5%B3%E8%81%94%E5%90%88%E4%BC%9A&amp;str=&amp;type=1"/>
          <p:cNvPicPr/>
          <p:nvPr/>
        </p:nvPicPr>
        <p:blipFill>
          <a:blip r:embed="rId1"/>
          <a:srcRect l="0" t="0" r="0" b="9131"/>
          <a:stretch/>
        </p:blipFill>
        <p:spPr>
          <a:xfrm>
            <a:off x="5994360" y="3606840"/>
            <a:ext cx="1866960" cy="1771560"/>
          </a:xfrm>
          <a:prstGeom prst="rect">
            <a:avLst/>
          </a:prstGeom>
          <a:ln w="0">
            <a:noFill/>
          </a:ln>
        </p:spPr>
      </p:pic>
      <p:sp>
        <p:nvSpPr>
          <p:cNvPr id="48" name="矩形 10"/>
          <p:cNvSpPr/>
          <p:nvPr/>
        </p:nvSpPr>
        <p:spPr>
          <a:xfrm rot="10800000">
            <a:off x="4211640" y="294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i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3440" y="773280"/>
            <a:ext cx="52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表彰荣誉证书式年终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/>
          <p:cNvSpPr/>
          <p:nvPr/>
        </p:nvSpPr>
        <p:spPr>
          <a:xfrm>
            <a:off x="3460680" y="280656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感恩致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任意多边形 2"/>
          <p:cNvSpPr/>
          <p:nvPr/>
        </p:nvSpPr>
        <p:spPr>
          <a:xfrm>
            <a:off x="3274920" y="1465200"/>
            <a:ext cx="14400" cy="48276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3"/>
          <p:cNvSpPr/>
          <p:nvPr/>
        </p:nvSpPr>
        <p:spPr>
          <a:xfrm>
            <a:off x="3274920" y="2506680"/>
            <a:ext cx="241560" cy="109224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4"/>
          <p:cNvSpPr/>
          <p:nvPr/>
        </p:nvSpPr>
        <p:spPr>
          <a:xfrm>
            <a:off x="3033720" y="3941640"/>
            <a:ext cx="1157400" cy="21463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5"/>
          <p:cNvSpPr/>
          <p:nvPr/>
        </p:nvSpPr>
        <p:spPr>
          <a:xfrm>
            <a:off x="5218200" y="1935000"/>
            <a:ext cx="42840" cy="81288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6"/>
          <p:cNvSpPr/>
          <p:nvPr/>
        </p:nvSpPr>
        <p:spPr>
          <a:xfrm>
            <a:off x="4392720" y="3446640"/>
            <a:ext cx="660240" cy="83808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7"/>
          <p:cNvSpPr/>
          <p:nvPr/>
        </p:nvSpPr>
        <p:spPr>
          <a:xfrm>
            <a:off x="4357800" y="4881600"/>
            <a:ext cx="1225440" cy="12193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85c4fbaajw1dly3ef9037j"/>
          <p:cNvPicPr/>
          <p:nvPr/>
        </p:nvPicPr>
        <p:blipFill>
          <a:blip r:embed="rId1"/>
          <a:srcRect l="19554" t="9055" r="59200" b="87932"/>
          <a:stretch/>
        </p:blipFill>
        <p:spPr>
          <a:xfrm>
            <a:off x="2436840" y="1801800"/>
            <a:ext cx="1311120" cy="862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9"/>
          <p:cNvSpPr/>
          <p:nvPr/>
        </p:nvSpPr>
        <p:spPr>
          <a:xfrm>
            <a:off x="4392720" y="717480"/>
            <a:ext cx="382428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感恩的时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要感谢领导，感谢国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方正粗宋简体"/>
                <a:ea typeface="方正粗宋简体"/>
              </a:rPr>
              <a:t>还要感谢你们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2011</a:t>
            </a:r>
            <a:r>
              <a:rPr b="0" lang="zh-CN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，携手同行，</a:t>
            </a:r>
            <a:r>
              <a:rPr b="0" lang="en-US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2012</a:t>
            </a:r>
            <a:r>
              <a:rPr b="0" lang="zh-CN" sz="12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，开创新路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85c4fbaajw1dly3ef9037j"/>
          <p:cNvPicPr/>
          <p:nvPr/>
        </p:nvPicPr>
        <p:blipFill>
          <a:blip r:embed="rId2"/>
          <a:srcRect l="56878" t="12413" r="29499" b="85084"/>
          <a:stretch/>
        </p:blipFill>
        <p:spPr>
          <a:xfrm>
            <a:off x="4741920" y="2759040"/>
            <a:ext cx="841320" cy="71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85c4fbaajw1dly3ef9037j"/>
          <p:cNvPicPr/>
          <p:nvPr/>
        </p:nvPicPr>
        <p:blipFill>
          <a:blip r:embed="rId3"/>
          <a:srcRect l="29714" t="14861" r="55644" b="83137"/>
          <a:stretch/>
        </p:blipFill>
        <p:spPr>
          <a:xfrm>
            <a:off x="3029040" y="3438360"/>
            <a:ext cx="904680" cy="57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85c4fbaajw1dly3ef9037j"/>
          <p:cNvPicPr/>
          <p:nvPr/>
        </p:nvPicPr>
        <p:blipFill>
          <a:blip r:embed="rId4"/>
          <a:srcRect l="46920" t="17877" r="36559" b="80274"/>
          <a:stretch/>
        </p:blipFill>
        <p:spPr>
          <a:xfrm>
            <a:off x="4205160" y="4164120"/>
            <a:ext cx="1020960" cy="528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3"/>
          <p:cNvSpPr/>
          <p:nvPr/>
        </p:nvSpPr>
        <p:spPr>
          <a:xfrm>
            <a:off x="471600" y="262080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出差一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看过城市的风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963720" y="394164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睡在宾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想念家里的那张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510080" y="468000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老婆</a:t>
            </a:r>
            <a:r>
              <a:rPr b="0" lang="en-US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,</a:t>
            </a: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谢谢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在我加班时泡的好咖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5119560" y="343548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宝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这次我一定陪你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85c4fbaajw1dly3ef9037j"/>
          <p:cNvPicPr/>
          <p:nvPr/>
        </p:nvPicPr>
        <p:blipFill>
          <a:blip r:embed="rId1"/>
          <a:srcRect l="14092" t="42191" r="70474" b="55361"/>
          <a:stretch/>
        </p:blipFill>
        <p:spPr>
          <a:xfrm>
            <a:off x="2349360" y="1339920"/>
            <a:ext cx="1022400" cy="844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8"/>
          <p:cNvSpPr/>
          <p:nvPr/>
        </p:nvSpPr>
        <p:spPr>
          <a:xfrm>
            <a:off x="2749680" y="2984400"/>
            <a:ext cx="382428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我深爱着你们，却不善于表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这一次，让我用行动说话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19"/>
          <p:cNvSpPr/>
          <p:nvPr/>
        </p:nvSpPr>
        <p:spPr>
          <a:xfrm>
            <a:off x="3071880" y="1886040"/>
            <a:ext cx="1157400" cy="97164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0"/>
          <p:cNvSpPr/>
          <p:nvPr/>
        </p:nvSpPr>
        <p:spPr>
          <a:xfrm>
            <a:off x="4257720" y="1000080"/>
            <a:ext cx="1200240" cy="10573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21"/>
          <p:cNvSpPr/>
          <p:nvPr/>
        </p:nvSpPr>
        <p:spPr>
          <a:xfrm>
            <a:off x="6029280" y="1185840"/>
            <a:ext cx="730440" cy="284328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2"/>
          <p:cNvSpPr/>
          <p:nvPr/>
        </p:nvSpPr>
        <p:spPr>
          <a:xfrm>
            <a:off x="2050920" y="2057400"/>
            <a:ext cx="1135080" cy="26431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3"/>
          <p:cNvSpPr/>
          <p:nvPr/>
        </p:nvSpPr>
        <p:spPr>
          <a:xfrm>
            <a:off x="3871800" y="5243400"/>
            <a:ext cx="843120" cy="135756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24"/>
          <p:cNvSpPr/>
          <p:nvPr/>
        </p:nvSpPr>
        <p:spPr>
          <a:xfrm>
            <a:off x="4714920" y="4600440"/>
            <a:ext cx="871560" cy="19717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85c4fbaajw1dly3ef9037j"/>
          <p:cNvPicPr/>
          <p:nvPr/>
        </p:nvPicPr>
        <p:blipFill>
          <a:blip r:embed="rId2"/>
          <a:srcRect l="61079" t="39870" r="24158" b="58198"/>
          <a:stretch/>
        </p:blipFill>
        <p:spPr>
          <a:xfrm>
            <a:off x="5505480" y="495360"/>
            <a:ext cx="9777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85c4fbaajw1dly3ef9037j"/>
          <p:cNvPicPr/>
          <p:nvPr/>
        </p:nvPicPr>
        <p:blipFill>
          <a:blip r:embed="rId3"/>
          <a:srcRect l="15434" t="51988" r="59737" b="46468"/>
          <a:stretch/>
        </p:blipFill>
        <p:spPr>
          <a:xfrm>
            <a:off x="2349360" y="4762440"/>
            <a:ext cx="1644840" cy="53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85c4fbaajw1dly3ef9037j"/>
          <p:cNvPicPr/>
          <p:nvPr/>
        </p:nvPicPr>
        <p:blipFill>
          <a:blip r:embed="rId4"/>
          <a:srcRect l="61750" t="49667" r="21474" b="48273"/>
          <a:stretch/>
        </p:blipFill>
        <p:spPr>
          <a:xfrm>
            <a:off x="5505480" y="3917880"/>
            <a:ext cx="1111320" cy="711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8"/>
          <p:cNvSpPr/>
          <p:nvPr/>
        </p:nvSpPr>
        <p:spPr>
          <a:xfrm>
            <a:off x="2349360" y="85104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要送你一束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天天开在你的心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3432240" y="125100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明天放学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去接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1"/>
          <p:cNvSpPr/>
          <p:nvPr/>
        </p:nvSpPr>
        <p:spPr>
          <a:xfrm>
            <a:off x="1060560" y="534024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很久没有看电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已经买了三张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2"/>
          <p:cNvSpPr/>
          <p:nvPr/>
        </p:nvSpPr>
        <p:spPr>
          <a:xfrm>
            <a:off x="5505480" y="4718160"/>
            <a:ext cx="27846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这个元旦血拼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保证好好给你拎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280" y="324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359-A2FC-4514-BD2B-F2EAF92EC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8"/>
          <p:cNvSpPr/>
          <p:nvPr/>
        </p:nvSpPr>
        <p:spPr>
          <a:xfrm>
            <a:off x="2631960" y="584280"/>
            <a:ext cx="27846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春天，我们去森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早起跑步，让每个毛孔流汗，不呼吸城市里的毒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5388120" y="169560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父母老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们就是他们的拐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3727440" y="5251320"/>
            <a:ext cx="30672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在咖啡馆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们还有几个能谈谈诗歌的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5372280" y="3828960"/>
            <a:ext cx="27842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这个元旦血拼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c372e"/>
                </a:solidFill>
                <a:latin typeface="方正粗宋简体"/>
                <a:ea typeface="方正粗宋简体"/>
              </a:rPr>
              <a:t>我保证好好给你拎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85c4fbaajw1dly3ef9037j"/>
          <p:cNvPicPr/>
          <p:nvPr/>
        </p:nvPicPr>
        <p:blipFill>
          <a:blip r:embed="rId1"/>
          <a:srcRect l="14844" t="73889" r="70970" b="21655"/>
          <a:stretch/>
        </p:blipFill>
        <p:spPr>
          <a:xfrm>
            <a:off x="1771560" y="450720"/>
            <a:ext cx="9781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任意多边形 36"/>
          <p:cNvSpPr/>
          <p:nvPr/>
        </p:nvSpPr>
        <p:spPr>
          <a:xfrm>
            <a:off x="4871880" y="2286000"/>
            <a:ext cx="238320" cy="151452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37"/>
          <p:cNvSpPr/>
          <p:nvPr/>
        </p:nvSpPr>
        <p:spPr>
          <a:xfrm>
            <a:off x="3757680" y="4414680"/>
            <a:ext cx="914400" cy="54324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39"/>
          <p:cNvSpPr/>
          <p:nvPr/>
        </p:nvSpPr>
        <p:spPr>
          <a:xfrm>
            <a:off x="2700360" y="1376280"/>
            <a:ext cx="2085840" cy="79560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0"/>
          <p:cNvSpPr/>
          <p:nvPr/>
        </p:nvSpPr>
        <p:spPr>
          <a:xfrm>
            <a:off x="1149480" y="2765520"/>
            <a:ext cx="38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如果生活只是活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粗宋简体"/>
                <a:ea typeface="方正粗宋简体"/>
              </a:rPr>
              <a:t>这些愿望，我会陪你们做到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85c4fbaajw1dly3ef9037j"/>
          <p:cNvPicPr/>
          <p:nvPr/>
        </p:nvPicPr>
        <p:blipFill>
          <a:blip r:embed="rId2"/>
          <a:srcRect l="15488" t="86517" r="56784" b="10391"/>
          <a:stretch/>
        </p:blipFill>
        <p:spPr>
          <a:xfrm>
            <a:off x="1816200" y="4984920"/>
            <a:ext cx="1911240" cy="111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85c4fbaajw1dly3ef9037j"/>
          <p:cNvPicPr/>
          <p:nvPr/>
        </p:nvPicPr>
        <p:blipFill>
          <a:blip r:embed="rId3"/>
          <a:srcRect l="59361" t="75622" r="28385" b="22524"/>
          <a:stretch/>
        </p:blipFill>
        <p:spPr>
          <a:xfrm>
            <a:off x="4794120" y="1117440"/>
            <a:ext cx="844560" cy="66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85c4fbaajw1dly3ef9037j"/>
          <p:cNvPicPr/>
          <p:nvPr/>
        </p:nvPicPr>
        <p:blipFill>
          <a:blip r:embed="rId4"/>
          <a:srcRect l="59361" t="75622" r="32908" b="21037"/>
          <a:stretch/>
        </p:blipFill>
        <p:spPr>
          <a:xfrm>
            <a:off x="4794120" y="1117440"/>
            <a:ext cx="53352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85c4fbaajw1dly3ef9037j"/>
          <p:cNvPicPr/>
          <p:nvPr/>
        </p:nvPicPr>
        <p:blipFill>
          <a:blip r:embed="rId5"/>
          <a:srcRect l="56784" t="83051" r="32264" b="14225"/>
          <a:stretch/>
        </p:blipFill>
        <p:spPr>
          <a:xfrm>
            <a:off x="4660920" y="3740040"/>
            <a:ext cx="755640" cy="978120"/>
          </a:xfrm>
          <a:prstGeom prst="rect">
            <a:avLst/>
          </a:prstGeom>
          <a:ln w="0">
            <a:noFill/>
          </a:ln>
        </p:spPr>
      </p:pic>
      <p:sp>
        <p:nvSpPr>
          <p:cNvPr id="99" name="任意多边形 29"/>
          <p:cNvSpPr/>
          <p:nvPr/>
        </p:nvSpPr>
        <p:spPr>
          <a:xfrm>
            <a:off x="3157560" y="5986440"/>
            <a:ext cx="928800" cy="700200"/>
          </a:xfrm>
          <a:prstGeom prst="pie">
            <a:avLst/>
          </a:prstGeom>
          <a:noFill/>
          <a:ln w="9360">
            <a:solidFill>
              <a:srgbClr val="494429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3:39:00Z</dcterms:created>
  <dc:creator>USER</dc:creator>
  <dc:description/>
  <dc:language>en-US</dc:language>
  <cp:lastModifiedBy>Think</cp:lastModifiedBy>
  <dcterms:modified xsi:type="dcterms:W3CDTF">2015-08-03T12:30:35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