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42B-F717-4AD4-A6D7-F8F7AB1A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E2F-EA7B-495A-9B19-C1454B49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B0D-DFBF-4180-A53D-E5EB7F75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12E-77BB-4DE8-9A32-61DB25A8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FD92-D799-4DE7-8EE5-8FA49458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C606-D4EA-425B-83BD-63454682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E237-ADFE-4B57-A3BB-4703326B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9C6-EFE2-450F-8290-E339A012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3501-020A-47E4-8EC0-6B70E641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09E4-D2F0-42B0-B6B2-06544BDB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9A32-4055-4CF9-BDD2-DFB87676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B3B-A100-4F9F-A5AB-64EDFF7A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AA82-B440-4B85-ADFC-3371A01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B769-5A05-42C2-9C5A-7B6913E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CB0E-2604-4F35-B09F-F5498BF2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FF27-EF7E-4D34-AA90-D5E60C6B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71DA-AA67-4522-8473-0D97E1CF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574-5ACF-4B10-8F09-0316B2C8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ACF-A861-4565-B9F6-63885E9E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BAB-12A9-4D4C-9A13-29E9F195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A7B-DF3E-4481-9EB0-1D86B2BA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EA6-703B-4043-9884-34FA9EE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E6B-969C-42F9-A4D9-1F1B0AC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971-227A-4845-920D-2079B48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65160" y="1449360"/>
            <a:ext cx="9007560" cy="15271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9840" y="1397160"/>
            <a:ext cx="9004320" cy="1206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71280" y="2976480"/>
            <a:ext cx="9010800" cy="11124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822240" indent="-228600">
              <a:spcBef>
                <a:spcPts val="575"/>
              </a:spcBef>
              <a:buClr>
                <a:srgbClr val="aec7d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228600">
              <a:spcBef>
                <a:spcPts val="575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371600" indent="-228600">
              <a:spcBef>
                <a:spcPts val="575"/>
              </a:spcBef>
              <a:buClr>
                <a:srgbClr val="c32d2e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7dec9"/>
                </a:solidFill>
                <a:latin typeface="Corbe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EC39-7788-4F7B-A461-EE9CC50BB6A1}" type="datetime">
              <a:rPr b="0" lang="zh-CN" sz="1400" spc="-1" strike="noStrike">
                <a:solidFill>
                  <a:srgbClr val="e7dec9"/>
                </a:solidFill>
                <a:latin typeface="Corbel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F217-C572-4989-B652-9F0859EA5E02}" type="slidenum">
              <a:rPr b="0" lang="en-US" sz="18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822240" indent="-228600">
              <a:spcBef>
                <a:spcPts val="575"/>
              </a:spcBef>
              <a:buClr>
                <a:srgbClr val="aec7d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228600">
              <a:spcBef>
                <a:spcPts val="575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371600" indent="-228600">
              <a:spcBef>
                <a:spcPts val="575"/>
              </a:spcBef>
              <a:buClr>
                <a:srgbClr val="c32d2e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7dec9"/>
                </a:solidFill>
                <a:latin typeface="Corbe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B661-C80A-4D7A-9D13-3D99938B1A45}" type="datetime">
              <a:rPr b="0" lang="zh-CN" sz="1400" spc="-1" strike="noStrike">
                <a:solidFill>
                  <a:srgbClr val="e7dec9"/>
                </a:solidFill>
                <a:latin typeface="Corbel"/>
                <a:ea typeface="楷体_GB2312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745D-B63E-4F9E-8F2C-56EF364006EB}" type="slidenum">
              <a:rPr b="0" lang="zh-CN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e7dec9"/>
                </a:solidFill>
                <a:latin typeface="Corbel"/>
                <a:ea typeface="楷体_GB2312"/>
              </a:rPr>
              <a:t>公司名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3244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67160" y="19051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公司会议幻灯片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主要支出领域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10" name="Diagram 3" descr=""/>
          <p:cNvPicPr/>
          <p:nvPr/>
        </p:nvPicPr>
        <p:blipFill>
          <a:blip r:embed="rId1"/>
          <a:stretch/>
        </p:blipFill>
        <p:spPr>
          <a:xfrm>
            <a:off x="895320" y="1444680"/>
            <a:ext cx="78105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总人数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目标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结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048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下一阶段的目标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15" name="Diagram 3" descr=""/>
          <p:cNvPicPr/>
          <p:nvPr/>
        </p:nvPicPr>
        <p:blipFill>
          <a:blip r:embed="rId1"/>
          <a:stretch/>
        </p:blipFill>
        <p:spPr>
          <a:xfrm>
            <a:off x="835200" y="1444680"/>
            <a:ext cx="78944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</a:rPr>
              <a:t>使用规范说明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orbe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EAFF-3E4F-4AE9-837A-1729C0EC4D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总结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总结关键成功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/</a:t>
            </a: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挑战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重申关键目标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感谢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议程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审查关键目标和关键成功因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我们如何做？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组织概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公司面临的最重要问题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对前期目标的审查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目标进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收入和利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主要支出领域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总人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下一阶段的目标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dec9"/>
                </a:solidFill>
                <a:latin typeface="Corbel"/>
                <a:ea typeface="楷体_GB2312"/>
              </a:rPr>
              <a:t>审查关键目标</a:t>
            </a:r>
            <a:br>
              <a:rPr sz="3600"/>
            </a:br>
            <a:r>
              <a:rPr b="0" lang="zh-CN" sz="3600" spc="-1" strike="noStrike">
                <a:solidFill>
                  <a:srgbClr val="e7dec9"/>
                </a:solidFill>
                <a:latin typeface="Corbel"/>
                <a:ea typeface="楷体_GB2312"/>
              </a:rPr>
              <a:t>和关键成功因素</a:t>
            </a:r>
            <a:endParaRPr b="0" lang="en-US" sz="36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95" name="Diagram 3" descr=""/>
          <p:cNvPicPr/>
          <p:nvPr/>
        </p:nvPicPr>
        <p:blipFill>
          <a:blip r:embed="rId1"/>
          <a:stretch/>
        </p:blipFill>
        <p:spPr>
          <a:xfrm>
            <a:off x="907920" y="1347840"/>
            <a:ext cx="778536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我们做得如何？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针对每个目标简要概述工作成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组织概述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99" name="Diagram 3" descr=""/>
          <p:cNvPicPr/>
          <p:nvPr/>
        </p:nvPicPr>
        <p:blipFill>
          <a:blip r:embed="rId1"/>
          <a:stretch/>
        </p:blipFill>
        <p:spPr>
          <a:xfrm>
            <a:off x="817560" y="1444680"/>
            <a:ext cx="7924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公司面临的最重要问题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解决任何突出问题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对前几个目标的审查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03" name="Diagram 3" descr=""/>
          <p:cNvPicPr/>
          <p:nvPr/>
        </p:nvPicPr>
        <p:blipFill>
          <a:blip r:embed="rId1"/>
          <a:stretch/>
        </p:blipFill>
        <p:spPr>
          <a:xfrm>
            <a:off x="907920" y="1352520"/>
            <a:ext cx="77853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目标进度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关键财务结果概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收入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利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主要支出领域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总人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收入和利润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07" name="Diagram 3" descr=""/>
          <p:cNvPicPr/>
          <p:nvPr/>
        </p:nvPicPr>
        <p:blipFill>
          <a:blip r:embed="rId1"/>
          <a:stretch/>
        </p:blipFill>
        <p:spPr>
          <a:xfrm>
            <a:off x="907920" y="1352520"/>
            <a:ext cx="7785360" cy="468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3:15Z</dcterms:created>
  <dc:creator>ppt宝藏</dc:creator>
  <dc:description/>
  <dc:language>en-US</dc:language>
  <cp:lastModifiedBy/>
  <dcterms:modified xsi:type="dcterms:W3CDTF">2015-08-03T12:30:56Z</dcterms:modified>
  <cp:revision>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1671212052</vt:lpwstr>
  </property>
</Properties>
</file>