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819-F35B-445C-BC2D-B4F14C6D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4488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615-54B7-4CF3-86EC-6B51A5D9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88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A70-E4EF-45A1-B376-90025343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664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800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664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7800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3D8-826A-4B21-8A4E-F41BC4B6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CDB-7FB7-416A-AE18-AA0B251D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64C-8A51-4B25-90F0-9395A129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425-99DB-4CFA-8D63-460384A2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CAE-B4DA-45A2-9ABE-3C176929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93A-03F2-42FF-AAA0-746A943E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43D-AEE6-4CF9-997F-CB074F5E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88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E19-A898-47D5-B8EF-A81C8FD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4488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F23-25F2-4AEF-8287-D82F1377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4e5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8383a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8383a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DD6-F4CE-4012-B662-B3AC2F6FD9FE}" type="slidenum">
              <a:rPr b="0" lang="zh-CN" sz="1400" spc="-1" strike="noStrike">
                <a:solidFill>
                  <a:srgbClr val="374e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74e5f"/>
                </a:solidFill>
                <a:latin typeface="宋体"/>
              </a:rPr>
              <a:t>公司会议</a:t>
            </a:r>
            <a:r>
              <a:rPr b="0" lang="en-US" sz="4000" spc="-1" strike="noStrike">
                <a:solidFill>
                  <a:srgbClr val="374e5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374e5f"/>
                </a:solidFill>
                <a:latin typeface="宋体"/>
              </a:rPr>
              <a:t>模板免费在线下载</a:t>
            </a:r>
            <a:endParaRPr b="0" lang="en-US" sz="40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4e5f"/>
                </a:solidFill>
                <a:latin typeface="宋体"/>
              </a:rPr>
              <a:t>演说者</a:t>
            </a:r>
            <a:endParaRPr b="0" lang="en-US" sz="2800" spc="-1" strike="noStrike">
              <a:solidFill>
                <a:srgbClr val="374e5f"/>
              </a:solidFill>
              <a:latin typeface="宋体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宋体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37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主要支出领域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研究与开发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销售与营销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常规和管理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改进领域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需要关注</a:t>
            </a: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/</a:t>
            </a: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注意的领域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总人数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结果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下一阶段的目标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策略性措施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财务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其他关键努力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使用规范说明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宋体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0" lang="en-US" sz="15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5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宋体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0" lang="en-US" sz="15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74e5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383a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637-C2CB-4C5D-A449-CB3EEDD779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总结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总结关键成功</a:t>
            </a: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/</a:t>
            </a: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挑战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重申关键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感谢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议程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审阅关键目标和关键成功因素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我们如何做？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组织概述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公司面临的最重要问题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根据前几个目标进行审查和比较进度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收入和利润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主要支出领域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总人数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下一阶段的目标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对关键目标</a:t>
            </a:r>
            <a:br>
              <a:rPr sz="3600"/>
            </a:b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与重要成功因素的审阅 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怎样可让公司做到独一无二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怎样可使公司取得成功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共享远景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审阅去年的关键措施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我们做得如何？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针对每个目标简要概述工作成果 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组织概述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每个组织的简介和主要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任何更改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组织结构图在此处可能很有效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公司面临的最重要问题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解决任何突出问题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对前几个目标的审查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财务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竞争情况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进度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目标进度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关键财务结果概述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收入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利润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主要支出领域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总人数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收入和利润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预测与实际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总利润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重要趋势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比较公司与剩余市场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使用多张幻灯片来展示有意义的详细信息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37:37Z</dcterms:created>
  <dc:creator>ppt宝藏</dc:creator>
  <dc:description/>
  <dc:language>en-US</dc:language>
  <cp:lastModifiedBy>Windows 用户</cp:lastModifiedBy>
  <dcterms:modified xsi:type="dcterms:W3CDTF">2015-08-03T12:30:55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062561642052</vt:lpwstr>
  </property>
</Properties>
</file>