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F37D-8F53-488B-92F4-8E41D38F6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F411-DE1B-46CE-A706-55E1DBB7E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F504-2FD9-48E3-BE69-9AD11608F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120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364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2876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120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364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2B19-A50D-44FC-9826-D99981F42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F80C7-594A-4D0C-83F2-E923F5C18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75570-A4BA-4FBC-B4DA-AF4A0B371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F804B-3B22-473E-AA2E-98DC163D7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CD378-0EA5-4940-980E-0E193DF0F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B46B1-B2C3-48DF-A532-098470130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15800" y="94464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70BD8-2E94-4D59-8CFA-03057D17C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1D8CD-968A-4A68-A952-984E2D3CA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6809-E0A3-4336-996E-EAA9C37DA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17670-7BE9-4255-BAE4-C989345E9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E8FDD-D641-4D09-B173-3EB471557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9FF7E-34CF-4418-A588-CAE65EED0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19024-0F7F-42FE-A34F-E55849AAD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1120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364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2876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1120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364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77AF3-F23B-401B-8C74-BEF4E7BC7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EEF4-41A7-40BE-ADDA-8958F747B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B9E7-082C-4BAA-BAA1-CC4C1DC6F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A8B0-F62F-4B6E-95BC-F689D19BB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5800" y="94464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A5C8-DD47-4D94-8C45-0EAF81E6D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9B31-833F-4CD6-B665-C321D4672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6319-5CB1-49CA-961C-7FB14C331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72FF-D3B0-4479-8177-C16101C66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B0D06-07F4-4B75-B587-FA2902BFEE31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图片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Text Box 11"/>
          <p:cNvSpPr/>
          <p:nvPr/>
        </p:nvSpPr>
        <p:spPr>
          <a:xfrm>
            <a:off x="4221000" y="6419880"/>
            <a:ext cx="70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2CFB2-A54D-4B18-BF35-5A00FE2E5EA0}" type="slidenum">
              <a:rPr b="1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图片2"/>
          <p:cNvPicPr/>
          <p:nvPr/>
        </p:nvPicPr>
        <p:blipFill>
          <a:blip r:embed="rId2"/>
          <a:stretch/>
        </p:blipFill>
        <p:spPr>
          <a:xfrm>
            <a:off x="-15840" y="0"/>
            <a:ext cx="9159840" cy="68706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11"/>
          <p:cNvSpPr/>
          <p:nvPr/>
        </p:nvSpPr>
        <p:spPr>
          <a:xfrm>
            <a:off x="4221000" y="6419880"/>
            <a:ext cx="70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D4438-F2F4-4F6C-BA5F-ED6945C42EEB}" type="slidenum">
              <a:rPr b="1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96F4F-A0C3-458D-A32B-3D23E2FE1193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6575D-E87F-494A-96EF-39977BA8CBCD}" type="slidenum"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WordArt 12"/>
          <p:cNvSpPr txBox="1"/>
          <p:nvPr/>
        </p:nvSpPr>
        <p:spPr>
          <a:xfrm>
            <a:off x="1633680" y="1697040"/>
            <a:ext cx="6067440" cy="143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3c8c93"/>
                </a:solidFill>
                <a:latin typeface="汉仪长美黑简"/>
              </a:rPr>
              <a:t>昭通分公司服务提升</a:t>
            </a:r>
            <a:endParaRPr b="1" lang="en-US" sz="1400" spc="1" strike="noStrike">
              <a:ln w="19080">
                <a:solidFill>
                  <a:srgbClr val="0000ff"/>
                </a:solidFill>
                <a:miter/>
              </a:ln>
              <a:solidFill>
                <a:srgbClr val="3c8c93"/>
              </a:solidFill>
              <a:latin typeface="汉仪长美黑简"/>
              <a:ea typeface="汉仪长美黑简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3c8c93"/>
                </a:solidFill>
                <a:latin typeface="汉仪长美黑简"/>
              </a:rPr>
              <a:t>汇报材料</a:t>
            </a:r>
            <a:endParaRPr b="1" lang="en-US" sz="1400" spc="1" strike="noStrike">
              <a:ln w="19080">
                <a:solidFill>
                  <a:srgbClr val="0000ff"/>
                </a:solidFill>
                <a:miter/>
              </a:ln>
              <a:solidFill>
                <a:srgbClr val="3c8c93"/>
              </a:solidFill>
              <a:latin typeface="汉仪长美黑简"/>
              <a:ea typeface="汉仪长美黑简"/>
            </a:endParaRPr>
          </a:p>
        </p:txBody>
      </p:sp>
      <p:sp>
        <p:nvSpPr>
          <p:cNvPr id="88" name=""/>
          <p:cNvSpPr/>
          <p:nvPr/>
        </p:nvSpPr>
        <p:spPr>
          <a:xfrm>
            <a:off x="36360" y="6454800"/>
            <a:ext cx="50785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414160" y="604800"/>
            <a:ext cx="4458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工作汇报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0A6C1-8D1F-42A6-9AB7-DAAFFB279F66}" type="slidenum"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10"/>
          <p:cNvGrpSpPr/>
          <p:nvPr/>
        </p:nvGrpSpPr>
        <p:grpSpPr>
          <a:xfrm>
            <a:off x="487440" y="2662200"/>
            <a:ext cx="4008240" cy="890640"/>
            <a:chOff x="487440" y="2662200"/>
            <a:chExt cx="4008240" cy="890640"/>
          </a:xfrm>
        </p:grpSpPr>
        <p:sp>
          <p:nvSpPr>
            <p:cNvPr id="246" name="AutoShape 11"/>
            <p:cNvSpPr/>
            <p:nvPr/>
          </p:nvSpPr>
          <p:spPr>
            <a:xfrm>
              <a:off x="487440" y="2662200"/>
              <a:ext cx="4008240" cy="8906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f2f2f2"/>
                </a:gs>
                <a:gs pos="50000">
                  <a:srgbClr val="dddddd"/>
                </a:gs>
                <a:gs pos="100000">
                  <a:srgbClr val="f2f2f2"/>
                </a:gs>
              </a:gsLst>
              <a:lin ang="81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7" name="Group 12"/>
            <p:cNvGrpSpPr/>
            <p:nvPr/>
          </p:nvGrpSpPr>
          <p:grpSpPr>
            <a:xfrm>
              <a:off x="574920" y="2743920"/>
              <a:ext cx="772560" cy="728640"/>
              <a:chOff x="574920" y="2743920"/>
              <a:chExt cx="772560" cy="728640"/>
            </a:xfrm>
          </p:grpSpPr>
          <p:sp>
            <p:nvSpPr>
              <p:cNvPr id="248" name="AutoShape 13"/>
              <p:cNvSpPr/>
              <p:nvPr/>
            </p:nvSpPr>
            <p:spPr>
              <a:xfrm>
                <a:off x="574920" y="2743920"/>
                <a:ext cx="772560" cy="72864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ff4646"/>
                  </a:gs>
                  <a:gs pos="100000">
                    <a:srgbClr val="ff0000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14"/>
              <p:cNvSpPr/>
              <p:nvPr/>
            </p:nvSpPr>
            <p:spPr>
              <a:xfrm>
                <a:off x="623160" y="2790720"/>
                <a:ext cx="385200" cy="36396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0000">
                      <a:alpha val="0"/>
                    </a:srgbClr>
                  </a:gs>
                  <a:gs pos="100000">
                    <a:srgbClr val="ff939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Text Box 15"/>
              <p:cNvSpPr/>
              <p:nvPr/>
            </p:nvSpPr>
            <p:spPr>
              <a:xfrm>
                <a:off x="783720" y="2941920"/>
                <a:ext cx="338040" cy="46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0280" rIns="80280" tIns="39960" bIns="3996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801720"/>
                    <a:tab algn="l" pos="1603440"/>
                    <a:tab algn="l" pos="2405160"/>
                    <a:tab algn="l" pos="3206880"/>
                    <a:tab algn="l" pos="4008600"/>
                    <a:tab algn="l" pos="4809960"/>
                    <a:tab algn="l" pos="5611680"/>
                    <a:tab algn="l" pos="6413400"/>
                    <a:tab algn="l" pos="7215120"/>
                    <a:tab algn="l" pos="8016840"/>
                    <a:tab algn="l" pos="8818560"/>
                    <a:tab algn="l" pos="9620280"/>
                    <a:tab algn="l" pos="10422000"/>
                  </a:tabLst>
                </a:pPr>
                <a:r>
                  <a:rPr b="1" lang="en-US" sz="25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1</a:t>
                </a:r>
                <a:endParaRPr b="1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1" name="Text Box 16"/>
            <p:cNvSpPr/>
            <p:nvPr/>
          </p:nvSpPr>
          <p:spPr>
            <a:xfrm>
              <a:off x="1452240" y="2786040"/>
              <a:ext cx="2946600" cy="44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280" rIns="80280" tIns="39960" bIns="39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zh-CN" sz="1200" spc="-1" strike="noStrike">
                  <a:solidFill>
                    <a:srgbClr val="0000ff"/>
                  </a:solidFill>
                  <a:latin typeface="Arial"/>
                </a:rPr>
                <a:t>按月下发市场部各专业口业务培训文档，继续推进按月培训制度并将各区县公司上报完成情况纳入</a:t>
              </a:r>
              <a:r>
                <a:rPr b="1" lang="en-US" sz="1200" spc="-1" strike="noStrike">
                  <a:solidFill>
                    <a:srgbClr val="0000ff"/>
                  </a:solidFill>
                  <a:latin typeface="Arial"/>
                </a:rPr>
                <a:t>KPI</a:t>
              </a:r>
              <a:r>
                <a:rPr b="1" lang="zh-CN" sz="1200" spc="-1" strike="noStrike">
                  <a:solidFill>
                    <a:srgbClr val="0000ff"/>
                  </a:solidFill>
                  <a:latin typeface="Arial"/>
                </a:rPr>
                <a:t>考核。 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17"/>
          <p:cNvGrpSpPr/>
          <p:nvPr/>
        </p:nvGrpSpPr>
        <p:grpSpPr>
          <a:xfrm>
            <a:off x="504720" y="3836880"/>
            <a:ext cx="4008600" cy="889200"/>
            <a:chOff x="504720" y="3836880"/>
            <a:chExt cx="4008600" cy="889200"/>
          </a:xfrm>
        </p:grpSpPr>
        <p:sp>
          <p:nvSpPr>
            <p:cNvPr id="253" name="AutoShape 18"/>
            <p:cNvSpPr/>
            <p:nvPr/>
          </p:nvSpPr>
          <p:spPr>
            <a:xfrm>
              <a:off x="504720" y="3836880"/>
              <a:ext cx="4008600" cy="88920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50000">
                  <a:srgbClr val="dddddd"/>
                </a:gs>
                <a:gs pos="100000">
                  <a:srgbClr val="eeeeee"/>
                </a:gs>
              </a:gsLst>
              <a:lin ang="81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4" name="Group 19"/>
            <p:cNvGrpSpPr/>
            <p:nvPr/>
          </p:nvGrpSpPr>
          <p:grpSpPr>
            <a:xfrm>
              <a:off x="592200" y="3918600"/>
              <a:ext cx="772560" cy="727200"/>
              <a:chOff x="592200" y="3918600"/>
              <a:chExt cx="772560" cy="727200"/>
            </a:xfrm>
          </p:grpSpPr>
          <p:sp>
            <p:nvSpPr>
              <p:cNvPr id="255" name="AutoShape 20"/>
              <p:cNvSpPr/>
              <p:nvPr/>
            </p:nvSpPr>
            <p:spPr>
              <a:xfrm>
                <a:off x="592200" y="3918600"/>
                <a:ext cx="772560" cy="7272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5d5dff"/>
                  </a:gs>
                  <a:gs pos="100000">
                    <a:srgbClr val="0000ff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21"/>
              <p:cNvSpPr/>
              <p:nvPr/>
            </p:nvSpPr>
            <p:spPr>
              <a:xfrm>
                <a:off x="640440" y="3965400"/>
                <a:ext cx="385200" cy="3632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>
                      <a:alpha val="0"/>
                    </a:srgbClr>
                  </a:gs>
                  <a:gs pos="100000">
                    <a:srgbClr val="8383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Text Box 22"/>
              <p:cNvSpPr/>
              <p:nvPr/>
            </p:nvSpPr>
            <p:spPr>
              <a:xfrm>
                <a:off x="801000" y="4117320"/>
                <a:ext cx="338040" cy="46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0280" rIns="80280" tIns="39960" bIns="3996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801720"/>
                    <a:tab algn="l" pos="1603440"/>
                    <a:tab algn="l" pos="2405160"/>
                    <a:tab algn="l" pos="3206880"/>
                    <a:tab algn="l" pos="4008600"/>
                    <a:tab algn="l" pos="4809960"/>
                    <a:tab algn="l" pos="5611680"/>
                    <a:tab algn="l" pos="6413400"/>
                    <a:tab algn="l" pos="7215120"/>
                    <a:tab algn="l" pos="8016840"/>
                    <a:tab algn="l" pos="8818560"/>
                    <a:tab algn="l" pos="9620280"/>
                    <a:tab algn="l" pos="10422000"/>
                  </a:tabLst>
                </a:pPr>
                <a:r>
                  <a:rPr b="1" lang="en-US" sz="25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2</a:t>
                </a:r>
                <a:endParaRPr b="1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8" name="Text Box 23"/>
            <p:cNvSpPr/>
            <p:nvPr/>
          </p:nvSpPr>
          <p:spPr>
            <a:xfrm>
              <a:off x="1469520" y="3958560"/>
              <a:ext cx="2946960" cy="26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280" rIns="80280" tIns="39960" bIns="39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zh-CN" sz="1200" spc="-1" strike="noStrike">
                  <a:solidFill>
                    <a:srgbClr val="0000ff"/>
                  </a:solidFill>
                  <a:latin typeface="Arial"/>
                </a:rPr>
                <a:t>对每月服务质量综合指标排名全市后三、全省后二的县公司，由市场部人员到现场进行调研，进行现场帮扶指导。 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Group 24"/>
          <p:cNvGrpSpPr/>
          <p:nvPr/>
        </p:nvGrpSpPr>
        <p:grpSpPr>
          <a:xfrm>
            <a:off x="4707000" y="2189160"/>
            <a:ext cx="4008240" cy="888840"/>
            <a:chOff x="4707000" y="2189160"/>
            <a:chExt cx="4008240" cy="888840"/>
          </a:xfrm>
        </p:grpSpPr>
        <p:sp>
          <p:nvSpPr>
            <p:cNvPr id="260" name="AutoShape 25"/>
            <p:cNvSpPr/>
            <p:nvPr/>
          </p:nvSpPr>
          <p:spPr>
            <a:xfrm>
              <a:off x="4707000" y="2189160"/>
              <a:ext cx="4008240" cy="8888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f3f3f3"/>
                </a:gs>
                <a:gs pos="50000">
                  <a:srgbClr val="dddddd"/>
                </a:gs>
                <a:gs pos="100000">
                  <a:srgbClr val="f3f3f3"/>
                </a:gs>
              </a:gsLst>
              <a:lin ang="81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1" name="Group 26"/>
            <p:cNvGrpSpPr/>
            <p:nvPr/>
          </p:nvGrpSpPr>
          <p:grpSpPr>
            <a:xfrm>
              <a:off x="4794480" y="2270880"/>
              <a:ext cx="772560" cy="726840"/>
              <a:chOff x="4794480" y="2270880"/>
              <a:chExt cx="772560" cy="726840"/>
            </a:xfrm>
          </p:grpSpPr>
          <p:sp>
            <p:nvSpPr>
              <p:cNvPr id="262" name="AutoShape 27"/>
              <p:cNvSpPr/>
              <p:nvPr/>
            </p:nvSpPr>
            <p:spPr>
              <a:xfrm>
                <a:off x="4794480" y="2270880"/>
                <a:ext cx="772560" cy="72684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bbe0e3"/>
                  </a:gs>
                  <a:gs pos="100000">
                    <a:srgbClr val="839c9e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28"/>
              <p:cNvSpPr/>
              <p:nvPr/>
            </p:nvSpPr>
            <p:spPr>
              <a:xfrm>
                <a:off x="4842720" y="2317680"/>
                <a:ext cx="385200" cy="3632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be0e3">
                      <a:alpha val="0"/>
                    </a:srgbClr>
                  </a:gs>
                  <a:gs pos="50000">
                    <a:srgbClr val="daeef0"/>
                  </a:gs>
                  <a:gs pos="100000">
                    <a:srgbClr val="bbe0e3">
                      <a:alpha val="0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29"/>
              <p:cNvSpPr/>
              <p:nvPr/>
            </p:nvSpPr>
            <p:spPr>
              <a:xfrm>
                <a:off x="5003280" y="2469600"/>
                <a:ext cx="338040" cy="46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0280" rIns="80280" tIns="39960" bIns="3996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801720"/>
                    <a:tab algn="l" pos="1603440"/>
                    <a:tab algn="l" pos="2405160"/>
                    <a:tab algn="l" pos="3206880"/>
                    <a:tab algn="l" pos="4008600"/>
                    <a:tab algn="l" pos="4809960"/>
                    <a:tab algn="l" pos="5611680"/>
                    <a:tab algn="l" pos="6413400"/>
                    <a:tab algn="l" pos="7215120"/>
                    <a:tab algn="l" pos="8016840"/>
                    <a:tab algn="l" pos="8818560"/>
                    <a:tab algn="l" pos="9620280"/>
                    <a:tab algn="l" pos="10422000"/>
                  </a:tabLst>
                </a:pPr>
                <a:r>
                  <a:rPr b="1" lang="en-US" sz="25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3</a:t>
                </a:r>
                <a:endParaRPr b="1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Text Box 30"/>
            <p:cNvSpPr/>
            <p:nvPr/>
          </p:nvSpPr>
          <p:spPr>
            <a:xfrm>
              <a:off x="5671800" y="2327400"/>
              <a:ext cx="2946600" cy="29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280" rIns="80280" tIns="39960" bIns="39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zh-CN" sz="1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服务质量内部横向管理，由服务主管监督、协调前后台的支撑与管理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Group 31"/>
          <p:cNvGrpSpPr/>
          <p:nvPr/>
        </p:nvGrpSpPr>
        <p:grpSpPr>
          <a:xfrm>
            <a:off x="4707000" y="3359160"/>
            <a:ext cx="4008240" cy="890640"/>
            <a:chOff x="4707000" y="3359160"/>
            <a:chExt cx="4008240" cy="890640"/>
          </a:xfrm>
        </p:grpSpPr>
        <p:sp>
          <p:nvSpPr>
            <p:cNvPr id="267" name="AutoShape 32"/>
            <p:cNvSpPr/>
            <p:nvPr/>
          </p:nvSpPr>
          <p:spPr>
            <a:xfrm>
              <a:off x="4707000" y="3359160"/>
              <a:ext cx="4008240" cy="8906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f2f2f2"/>
                </a:gs>
                <a:gs pos="50000">
                  <a:srgbClr val="dddddd"/>
                </a:gs>
                <a:gs pos="100000">
                  <a:srgbClr val="f2f2f2"/>
                </a:gs>
              </a:gsLst>
              <a:lin ang="81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8" name="Group 33"/>
            <p:cNvGrpSpPr/>
            <p:nvPr/>
          </p:nvGrpSpPr>
          <p:grpSpPr>
            <a:xfrm>
              <a:off x="4794480" y="3440880"/>
              <a:ext cx="772560" cy="728280"/>
              <a:chOff x="4794480" y="3440880"/>
              <a:chExt cx="772560" cy="728280"/>
            </a:xfrm>
          </p:grpSpPr>
          <p:sp>
            <p:nvSpPr>
              <p:cNvPr id="269" name="AutoShape 34"/>
              <p:cNvSpPr/>
              <p:nvPr/>
            </p:nvSpPr>
            <p:spPr>
              <a:xfrm>
                <a:off x="4794480" y="3440880"/>
                <a:ext cx="772560" cy="7282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ff4646"/>
                  </a:gs>
                  <a:gs pos="100000">
                    <a:srgbClr val="ff0000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35"/>
              <p:cNvSpPr/>
              <p:nvPr/>
            </p:nvSpPr>
            <p:spPr>
              <a:xfrm>
                <a:off x="4842720" y="3487680"/>
                <a:ext cx="385200" cy="36396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0000">
                      <a:alpha val="0"/>
                    </a:srgbClr>
                  </a:gs>
                  <a:gs pos="100000">
                    <a:srgbClr val="ff939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Text Box 36"/>
              <p:cNvSpPr/>
              <p:nvPr/>
            </p:nvSpPr>
            <p:spPr>
              <a:xfrm>
                <a:off x="5003280" y="3638880"/>
                <a:ext cx="338040" cy="46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0280" rIns="80280" tIns="39960" bIns="3996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801720"/>
                    <a:tab algn="l" pos="1603440"/>
                    <a:tab algn="l" pos="2405160"/>
                    <a:tab algn="l" pos="3206880"/>
                    <a:tab algn="l" pos="4008600"/>
                    <a:tab algn="l" pos="4809960"/>
                    <a:tab algn="l" pos="5611680"/>
                    <a:tab algn="l" pos="6413400"/>
                    <a:tab algn="l" pos="7215120"/>
                    <a:tab algn="l" pos="8016840"/>
                    <a:tab algn="l" pos="8818560"/>
                    <a:tab algn="l" pos="9620280"/>
                    <a:tab algn="l" pos="10422000"/>
                  </a:tabLst>
                </a:pPr>
                <a:r>
                  <a:rPr b="1" lang="en-US" sz="25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4</a:t>
                </a:r>
                <a:endParaRPr b="1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" name="Text Box 37"/>
            <p:cNvSpPr/>
            <p:nvPr/>
          </p:nvSpPr>
          <p:spPr>
            <a:xfrm>
              <a:off x="5671800" y="3483000"/>
              <a:ext cx="2946600" cy="26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280" rIns="80280" tIns="39960" bIns="39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zh-CN" sz="12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服务补救：对</a:t>
              </a:r>
              <a:r>
                <a:rPr b="1" lang="en-US" sz="12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100867000</a:t>
              </a:r>
              <a:r>
                <a:rPr b="1" lang="zh-CN" sz="12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客户短信评价不满意客户进行回访，安抚客户，征询客户意见，按周通报回访情况及客户意见，对不满意员工进行通报考核。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Group 38"/>
          <p:cNvGrpSpPr/>
          <p:nvPr/>
        </p:nvGrpSpPr>
        <p:grpSpPr>
          <a:xfrm>
            <a:off x="4724280" y="4533840"/>
            <a:ext cx="4008600" cy="889200"/>
            <a:chOff x="4724280" y="4533840"/>
            <a:chExt cx="4008600" cy="889200"/>
          </a:xfrm>
        </p:grpSpPr>
        <p:sp>
          <p:nvSpPr>
            <p:cNvPr id="274" name="AutoShape 39"/>
            <p:cNvSpPr/>
            <p:nvPr/>
          </p:nvSpPr>
          <p:spPr>
            <a:xfrm>
              <a:off x="4724280" y="4533840"/>
              <a:ext cx="4008600" cy="88920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50000">
                  <a:srgbClr val="dddddd"/>
                </a:gs>
                <a:gs pos="100000">
                  <a:srgbClr val="eeeeee"/>
                </a:gs>
              </a:gsLst>
              <a:lin ang="81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5" name="Group 40"/>
            <p:cNvGrpSpPr/>
            <p:nvPr/>
          </p:nvGrpSpPr>
          <p:grpSpPr>
            <a:xfrm>
              <a:off x="4811760" y="4615560"/>
              <a:ext cx="772560" cy="727200"/>
              <a:chOff x="4811760" y="4615560"/>
              <a:chExt cx="772560" cy="727200"/>
            </a:xfrm>
          </p:grpSpPr>
          <p:sp>
            <p:nvSpPr>
              <p:cNvPr id="276" name="AutoShape 41"/>
              <p:cNvSpPr/>
              <p:nvPr/>
            </p:nvSpPr>
            <p:spPr>
              <a:xfrm>
                <a:off x="4811760" y="4615560"/>
                <a:ext cx="772560" cy="7272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5d5dff"/>
                  </a:gs>
                  <a:gs pos="100000">
                    <a:srgbClr val="0000ff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42"/>
              <p:cNvSpPr/>
              <p:nvPr/>
            </p:nvSpPr>
            <p:spPr>
              <a:xfrm>
                <a:off x="4860000" y="4662360"/>
                <a:ext cx="385200" cy="3632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>
                      <a:alpha val="0"/>
                    </a:srgbClr>
                  </a:gs>
                  <a:gs pos="100000">
                    <a:srgbClr val="8383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Text Box 43"/>
              <p:cNvSpPr/>
              <p:nvPr/>
            </p:nvSpPr>
            <p:spPr>
              <a:xfrm>
                <a:off x="5020560" y="4814280"/>
                <a:ext cx="338040" cy="46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0280" rIns="80280" tIns="39960" bIns="3996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801720"/>
                    <a:tab algn="l" pos="1603440"/>
                    <a:tab algn="l" pos="2405160"/>
                    <a:tab algn="l" pos="3206880"/>
                    <a:tab algn="l" pos="4008600"/>
                    <a:tab algn="l" pos="4809960"/>
                    <a:tab algn="l" pos="5611680"/>
                    <a:tab algn="l" pos="6413400"/>
                    <a:tab algn="l" pos="7215120"/>
                    <a:tab algn="l" pos="8016840"/>
                    <a:tab algn="l" pos="8818560"/>
                    <a:tab algn="l" pos="9620280"/>
                    <a:tab algn="l" pos="10422000"/>
                  </a:tabLst>
                </a:pPr>
                <a:r>
                  <a:rPr b="1" lang="en-US" sz="25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5</a:t>
                </a:r>
                <a:endParaRPr b="1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Text Box 44"/>
            <p:cNvSpPr/>
            <p:nvPr/>
          </p:nvSpPr>
          <p:spPr>
            <a:xfrm>
              <a:off x="5689080" y="4655520"/>
              <a:ext cx="2946960" cy="29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280" rIns="80280" tIns="39960" bIns="39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zh-CN" sz="1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市场部加强与区县公司服务管理人员的沟通，听取来自一线的意见和建议，共同为提升服务而努力。 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Text Box 45"/>
          <p:cNvSpPr/>
          <p:nvPr/>
        </p:nvSpPr>
        <p:spPr>
          <a:xfrm>
            <a:off x="1506600" y="297000"/>
            <a:ext cx="36734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下阶段工作计划及措施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46"/>
          <p:cNvSpPr/>
          <p:nvPr/>
        </p:nvSpPr>
        <p:spPr>
          <a:xfrm>
            <a:off x="1515960" y="1452960"/>
            <a:ext cx="637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宋体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继续严格实施服务质量问责机制：对服务质量排名后十的区县公司相关人员进行问责考核，对服务态度表现恶劣人员进行待岗处理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78C0-19C6-4ECA-A094-800F77C0C2C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10B25-E0C9-4E54-ABDA-1F740BCF6841}" type="slidenum"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2" descr="001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3"/>
          <p:cNvSpPr/>
          <p:nvPr/>
        </p:nvSpPr>
        <p:spPr>
          <a:xfrm>
            <a:off x="1857240" y="3645000"/>
            <a:ext cx="59058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不妥之处 请批评指正</a:t>
            </a:r>
            <a:br>
              <a:rPr sz="4000"/>
            </a:br>
            <a:br>
              <a:rPr sz="1600"/>
            </a:b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谢  谢！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5"/>
          <p:cNvSpPr/>
          <p:nvPr/>
        </p:nvSpPr>
        <p:spPr>
          <a:xfrm>
            <a:off x="1808280" y="3897720"/>
            <a:ext cx="600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相信在省公司的正确领导下和关心帮助下，昭通分公司的服务质量定能上一个崭新的台阶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15">
                                  <p:stCondLst>
                                    <p:cond delay="3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35" dur="10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450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CC9AE-3610-49D7-A2F9-E88AF2C06CD2}" type="slidenum"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52"/>
          <p:cNvGrpSpPr/>
          <p:nvPr/>
        </p:nvGrpSpPr>
        <p:grpSpPr>
          <a:xfrm>
            <a:off x="2063880" y="1679400"/>
            <a:ext cx="4819680" cy="917640"/>
            <a:chOff x="2063880" y="1679400"/>
            <a:chExt cx="4819680" cy="917640"/>
          </a:xfrm>
        </p:grpSpPr>
        <p:sp>
          <p:nvSpPr>
            <p:cNvPr id="92" name="AutoShape 31"/>
            <p:cNvSpPr/>
            <p:nvPr/>
          </p:nvSpPr>
          <p:spPr>
            <a:xfrm>
              <a:off x="2149560" y="1838160"/>
              <a:ext cx="4734000" cy="612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d4d4e9"/>
                </a:gs>
                <a:gs pos="100000">
                  <a:srgbClr val="3333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utoShape 32"/>
            <p:cNvSpPr/>
            <p:nvPr/>
          </p:nvSpPr>
          <p:spPr>
            <a:xfrm>
              <a:off x="2063880" y="1679400"/>
              <a:ext cx="992160" cy="917640"/>
            </a:xfrm>
            <a:prstGeom prst="diamond">
              <a:avLst/>
            </a:prstGeom>
            <a:solidFill>
              <a:srgbClr val="33339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33"/>
            <p:cNvSpPr/>
            <p:nvPr/>
          </p:nvSpPr>
          <p:spPr>
            <a:xfrm>
              <a:off x="2632320" y="1912680"/>
              <a:ext cx="422892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280" rIns="80280" tIns="39960" bIns="399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   </a:t>
              </a: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二季度服务提升工作短板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34"/>
            <p:cNvSpPr/>
            <p:nvPr/>
          </p:nvSpPr>
          <p:spPr>
            <a:xfrm>
              <a:off x="2337120" y="1831680"/>
              <a:ext cx="423360" cy="6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280" rIns="80280" tIns="39960" bIns="399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ntique Olive Compact"/>
                  <a:ea typeface="黑体"/>
                </a:rPr>
                <a:t>1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53"/>
          <p:cNvGrpSpPr/>
          <p:nvPr/>
        </p:nvGrpSpPr>
        <p:grpSpPr>
          <a:xfrm>
            <a:off x="2065320" y="2765520"/>
            <a:ext cx="4819680" cy="917640"/>
            <a:chOff x="2065320" y="2765520"/>
            <a:chExt cx="4819680" cy="917640"/>
          </a:xfrm>
        </p:grpSpPr>
        <p:sp>
          <p:nvSpPr>
            <p:cNvPr id="97" name="AutoShape 54"/>
            <p:cNvSpPr/>
            <p:nvPr/>
          </p:nvSpPr>
          <p:spPr>
            <a:xfrm>
              <a:off x="2151000" y="2924280"/>
              <a:ext cx="4734000" cy="612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99ff"/>
                </a:gs>
                <a:gs pos="50000">
                  <a:srgbClr val="c9e9ff"/>
                </a:gs>
                <a:gs pos="100000">
                  <a:srgbClr val="0099ff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AutoShape 55"/>
            <p:cNvSpPr/>
            <p:nvPr/>
          </p:nvSpPr>
          <p:spPr>
            <a:xfrm>
              <a:off x="2065320" y="2765520"/>
              <a:ext cx="992160" cy="917640"/>
            </a:xfrm>
            <a:prstGeom prst="diamond">
              <a:avLst/>
            </a:prstGeom>
            <a:solidFill>
              <a:srgbClr val="33339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56"/>
            <p:cNvSpPr/>
            <p:nvPr/>
          </p:nvSpPr>
          <p:spPr>
            <a:xfrm>
              <a:off x="2633760" y="2998800"/>
              <a:ext cx="422892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280" rIns="80280" tIns="39960" bIns="39960" anchor="t">
              <a:sp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原  因  分  析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57"/>
            <p:cNvSpPr/>
            <p:nvPr/>
          </p:nvSpPr>
          <p:spPr>
            <a:xfrm>
              <a:off x="2337840" y="2917800"/>
              <a:ext cx="423360" cy="6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280" rIns="80280" tIns="39960" bIns="399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ntique Olive Compact"/>
                  <a:ea typeface="黑体"/>
                </a:rPr>
                <a:t>2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58"/>
          <p:cNvGrpSpPr/>
          <p:nvPr/>
        </p:nvGrpSpPr>
        <p:grpSpPr>
          <a:xfrm>
            <a:off x="2077920" y="3822840"/>
            <a:ext cx="4819680" cy="917280"/>
            <a:chOff x="2077920" y="3822840"/>
            <a:chExt cx="4819680" cy="917280"/>
          </a:xfrm>
        </p:grpSpPr>
        <p:sp>
          <p:nvSpPr>
            <p:cNvPr id="102" name="AutoShape 59"/>
            <p:cNvSpPr/>
            <p:nvPr/>
          </p:nvSpPr>
          <p:spPr>
            <a:xfrm>
              <a:off x="2163600" y="3981240"/>
              <a:ext cx="4734000" cy="61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00"/>
                </a:gs>
                <a:gs pos="50000">
                  <a:srgbClr val="fff4c9"/>
                </a:gs>
                <a:gs pos="100000">
                  <a:srgbClr val="ffcc0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AutoShape 60"/>
            <p:cNvSpPr/>
            <p:nvPr/>
          </p:nvSpPr>
          <p:spPr>
            <a:xfrm>
              <a:off x="2077920" y="3822840"/>
              <a:ext cx="992160" cy="917280"/>
            </a:xfrm>
            <a:prstGeom prst="diamond">
              <a:avLst/>
            </a:prstGeom>
            <a:solidFill>
              <a:srgbClr val="33339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61"/>
            <p:cNvSpPr/>
            <p:nvPr/>
          </p:nvSpPr>
          <p:spPr>
            <a:xfrm>
              <a:off x="2646360" y="4055760"/>
              <a:ext cx="422892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280" rIns="80280" tIns="39960" bIns="399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下阶段工作计划及措施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62"/>
            <p:cNvSpPr/>
            <p:nvPr/>
          </p:nvSpPr>
          <p:spPr>
            <a:xfrm>
              <a:off x="2350440" y="3974760"/>
              <a:ext cx="423360" cy="6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280" rIns="80280" tIns="39960" bIns="399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ntique Olive Compact"/>
                  <a:ea typeface="黑体"/>
                </a:rPr>
                <a:t>3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灯片编号占位符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193BD-225C-46F8-9D42-52FD89D824DC}" type="slidenum"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7"/>
          <p:cNvSpPr/>
          <p:nvPr/>
        </p:nvSpPr>
        <p:spPr>
          <a:xfrm>
            <a:off x="3097080" y="1413360"/>
            <a:ext cx="562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宋体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二季度昭通公司服务提升专项评优各项指标完成情况表现欠佳，排名全省倒数，对昭通分公司来说，是重磅一击。昭通分公司就服务提升工作存在问题汇报如下：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Object 20" descr=""/>
          <p:cNvPicPr/>
          <p:nvPr/>
        </p:nvPicPr>
        <p:blipFill>
          <a:blip r:embed="rId1"/>
          <a:stretch/>
        </p:blipFill>
        <p:spPr>
          <a:xfrm>
            <a:off x="2592360" y="2674800"/>
            <a:ext cx="6313680" cy="384840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44"/>
          <p:cNvSpPr/>
          <p:nvPr/>
        </p:nvSpPr>
        <p:spPr>
          <a:xfrm>
            <a:off x="318960" y="1927080"/>
            <a:ext cx="2459160" cy="3430800"/>
          </a:xfrm>
          <a:custGeom>
            <a:avLst/>
            <a:gdLst>
              <a:gd name="textAreaLeft" fmla="*/ 68040 w 2459160"/>
              <a:gd name="textAreaRight" fmla="*/ 2391120 w 2459160"/>
              <a:gd name="textAreaTop" fmla="*/ 68040 h 3430800"/>
              <a:gd name="textAreaBottom" fmla="*/ 3362760 h 3430800"/>
            </a:gdLst>
            <a:ahLst/>
            <a:rect l="textAreaLeft" t="textAreaTop" r="textAreaRight" b="textAreaBottom"/>
            <a:pathLst>
              <a:path w="21600" h="30133">
                <a:moveTo>
                  <a:pt x="2048" y="0"/>
                </a:moveTo>
                <a:arcTo wR="2048" hR="2048" stAng="16200000" swAng="-5400000"/>
                <a:lnTo>
                  <a:pt x="0" y="28085"/>
                </a:lnTo>
                <a:arcTo wR="2048" hR="2048" stAng="10800000" swAng="-5400000"/>
                <a:lnTo>
                  <a:pt x="19552" y="30133"/>
                </a:lnTo>
                <a:arcTo wR="2048" hR="2048" stAng="5400000" swAng="-5400000"/>
                <a:lnTo>
                  <a:pt x="21600" y="2048"/>
                </a:lnTo>
                <a:arcTo wR="2048" hR="2048" stAng="0" swAng="-5400000"/>
                <a:close/>
              </a:path>
            </a:pathLst>
          </a:custGeom>
          <a:gradFill rotWithShape="0">
            <a:gsLst>
              <a:gs pos="0">
                <a:srgbClr val="dfdfdf"/>
              </a:gs>
              <a:gs pos="50000">
                <a:srgbClr val="f7f7f7"/>
              </a:gs>
              <a:gs pos="100000">
                <a:srgbClr val="dfdfdf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45"/>
          <p:cNvSpPr/>
          <p:nvPr/>
        </p:nvSpPr>
        <p:spPr>
          <a:xfrm rot="16200000">
            <a:off x="-564840" y="3238200"/>
            <a:ext cx="2685960" cy="4986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46"/>
          <p:cNvSpPr/>
          <p:nvPr/>
        </p:nvSpPr>
        <p:spPr>
          <a:xfrm rot="16200000">
            <a:off x="200880" y="3238920"/>
            <a:ext cx="2687400" cy="4986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47"/>
          <p:cNvSpPr/>
          <p:nvPr/>
        </p:nvSpPr>
        <p:spPr>
          <a:xfrm rot="16200000">
            <a:off x="947160" y="3238920"/>
            <a:ext cx="2687400" cy="4986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49"/>
          <p:cNvGrpSpPr/>
          <p:nvPr/>
        </p:nvGrpSpPr>
        <p:grpSpPr>
          <a:xfrm>
            <a:off x="565200" y="2530440"/>
            <a:ext cx="423720" cy="2273040"/>
            <a:chOff x="565200" y="2530440"/>
            <a:chExt cx="423720" cy="2273040"/>
          </a:xfrm>
        </p:grpSpPr>
        <p:sp>
          <p:nvSpPr>
            <p:cNvPr id="114" name="AutoShape 50"/>
            <p:cNvSpPr/>
            <p:nvPr/>
          </p:nvSpPr>
          <p:spPr>
            <a:xfrm rot="16200000">
              <a:off x="-359280" y="3454920"/>
              <a:ext cx="2273040" cy="42372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AutoShape 51"/>
            <p:cNvSpPr/>
            <p:nvPr/>
          </p:nvSpPr>
          <p:spPr>
            <a:xfrm rot="16200000">
              <a:off x="-264960" y="3511080"/>
              <a:ext cx="2183040" cy="299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52"/>
          <p:cNvGrpSpPr/>
          <p:nvPr/>
        </p:nvGrpSpPr>
        <p:grpSpPr>
          <a:xfrm>
            <a:off x="1333440" y="2468520"/>
            <a:ext cx="423720" cy="2328480"/>
            <a:chOff x="1333440" y="2468520"/>
            <a:chExt cx="423720" cy="2328480"/>
          </a:xfrm>
        </p:grpSpPr>
        <p:sp>
          <p:nvSpPr>
            <p:cNvPr id="117" name="AutoShape 53"/>
            <p:cNvSpPr/>
            <p:nvPr/>
          </p:nvSpPr>
          <p:spPr>
            <a:xfrm rot="16200000">
              <a:off x="380880" y="3420720"/>
              <a:ext cx="2328480" cy="423720"/>
            </a:xfrm>
            <a:prstGeom prst="roundRect">
              <a:avLst>
                <a:gd name="adj" fmla="val 50000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54"/>
            <p:cNvSpPr/>
            <p:nvPr/>
          </p:nvSpPr>
          <p:spPr>
            <a:xfrm rot="16200000">
              <a:off x="476280" y="3476880"/>
              <a:ext cx="2236320" cy="299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Group 55"/>
          <p:cNvGrpSpPr/>
          <p:nvPr/>
        </p:nvGrpSpPr>
        <p:grpSpPr>
          <a:xfrm>
            <a:off x="2081160" y="2647440"/>
            <a:ext cx="423720" cy="2152440"/>
            <a:chOff x="2081160" y="2647440"/>
            <a:chExt cx="423720" cy="2152440"/>
          </a:xfrm>
        </p:grpSpPr>
        <p:sp>
          <p:nvSpPr>
            <p:cNvPr id="120" name="AutoShape 56"/>
            <p:cNvSpPr/>
            <p:nvPr/>
          </p:nvSpPr>
          <p:spPr>
            <a:xfrm rot="16200000">
              <a:off x="1216800" y="3511800"/>
              <a:ext cx="2152440" cy="423720"/>
            </a:xfrm>
            <a:prstGeom prst="roundRect">
              <a:avLst>
                <a:gd name="adj" fmla="val 50000"/>
              </a:avLst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utoShape 57"/>
            <p:cNvSpPr/>
            <p:nvPr/>
          </p:nvSpPr>
          <p:spPr>
            <a:xfrm rot="16200000">
              <a:off x="1308600" y="3568320"/>
              <a:ext cx="2067120" cy="299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33399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Text Box 61"/>
          <p:cNvSpPr/>
          <p:nvPr/>
        </p:nvSpPr>
        <p:spPr>
          <a:xfrm>
            <a:off x="601560" y="4853160"/>
            <a:ext cx="20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4        5        6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2"/>
          <p:cNvSpPr/>
          <p:nvPr/>
        </p:nvSpPr>
        <p:spPr>
          <a:xfrm>
            <a:off x="444960" y="230508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91.1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3"/>
          <p:cNvSpPr/>
          <p:nvPr/>
        </p:nvSpPr>
        <p:spPr>
          <a:xfrm>
            <a:off x="1959480" y="2295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89.9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5"/>
          <p:cNvSpPr/>
          <p:nvPr/>
        </p:nvSpPr>
        <p:spPr>
          <a:xfrm>
            <a:off x="1240200" y="220680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91.5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90"/>
          <p:cNvSpPr/>
          <p:nvPr/>
        </p:nvSpPr>
        <p:spPr>
          <a:xfrm>
            <a:off x="392040" y="1058760"/>
            <a:ext cx="23083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30"/>
          <p:cNvSpPr/>
          <p:nvPr/>
        </p:nvSpPr>
        <p:spPr>
          <a:xfrm>
            <a:off x="1038960" y="1147680"/>
            <a:ext cx="10951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满意率小计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7E01D-BDE9-488D-9502-CE3BECFBD8C6}" type="slidenum"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8"/>
          <p:cNvSpPr/>
          <p:nvPr/>
        </p:nvSpPr>
        <p:spPr>
          <a:xfrm>
            <a:off x="2043000" y="1290600"/>
            <a:ext cx="28879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2"/>
          <p:cNvSpPr/>
          <p:nvPr/>
        </p:nvSpPr>
        <p:spPr>
          <a:xfrm>
            <a:off x="811080" y="1278000"/>
            <a:ext cx="7520040" cy="4438440"/>
          </a:xfrm>
          <a:prstGeom prst="roundRect">
            <a:avLst>
              <a:gd name="adj" fmla="val 2014"/>
            </a:avLst>
          </a:prstGeom>
          <a:gradFill rotWithShape="0">
            <a:gsLst>
              <a:gs pos="0">
                <a:srgbClr val="b4c9d6"/>
              </a:gs>
              <a:gs pos="100000">
                <a:srgbClr val="d2dee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957240" y="1711440"/>
            <a:ext cx="7238880" cy="3778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53753" dir="2700000" blurRad="0" rotWithShape="0">
              <a:srgbClr val="8c8c8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809640" y="1130400"/>
            <a:ext cx="7527960" cy="79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4c9d6"/>
              </a:gs>
              <a:gs pos="50000">
                <a:srgbClr val="d2dee6"/>
              </a:gs>
              <a:gs pos="100000">
                <a:srgbClr val="b4c9d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5"/>
          <p:cNvGrpSpPr/>
          <p:nvPr/>
        </p:nvGrpSpPr>
        <p:grpSpPr>
          <a:xfrm>
            <a:off x="8197560" y="1230120"/>
            <a:ext cx="110520" cy="561600"/>
            <a:chOff x="8197560" y="1230120"/>
            <a:chExt cx="110520" cy="561600"/>
          </a:xfrm>
        </p:grpSpPr>
        <p:sp>
          <p:nvSpPr>
            <p:cNvPr id="134" name="Rectangle 6"/>
            <p:cNvSpPr/>
            <p:nvPr/>
          </p:nvSpPr>
          <p:spPr>
            <a:xfrm flipH="1" flipV="1">
              <a:off x="8267040" y="1747800"/>
              <a:ext cx="40680" cy="4356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  <a:effectLst>
              <a:outerShdw dist="153753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7"/>
            <p:cNvSpPr/>
            <p:nvPr/>
          </p:nvSpPr>
          <p:spPr>
            <a:xfrm flipH="1" flipV="1">
              <a:off x="8197200" y="1747800"/>
              <a:ext cx="40680" cy="4356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  <a:effectLst>
              <a:outerShdw dist="153753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8"/>
            <p:cNvSpPr/>
            <p:nvPr/>
          </p:nvSpPr>
          <p:spPr>
            <a:xfrm flipH="1" flipV="1">
              <a:off x="8267040" y="1668240"/>
              <a:ext cx="40680" cy="4356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  <a:effectLst>
              <a:outerShdw dist="153753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9"/>
            <p:cNvSpPr/>
            <p:nvPr/>
          </p:nvSpPr>
          <p:spPr>
            <a:xfrm flipH="1" flipV="1">
              <a:off x="8267040" y="1229760"/>
              <a:ext cx="40680" cy="4356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  <a:effectLst>
              <a:outerShdw dist="153753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10"/>
            <p:cNvSpPr/>
            <p:nvPr/>
          </p:nvSpPr>
          <p:spPr>
            <a:xfrm flipH="1" flipV="1">
              <a:off x="8200080" y="1229760"/>
              <a:ext cx="40680" cy="4356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  <a:effectLst>
              <a:outerShdw dist="153753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1"/>
            <p:cNvSpPr/>
            <p:nvPr/>
          </p:nvSpPr>
          <p:spPr>
            <a:xfrm flipH="1" flipV="1">
              <a:off x="8267040" y="1307520"/>
              <a:ext cx="40680" cy="4356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  <a:effectLst>
              <a:outerShdw dist="153753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12"/>
          <p:cNvGrpSpPr/>
          <p:nvPr/>
        </p:nvGrpSpPr>
        <p:grpSpPr>
          <a:xfrm>
            <a:off x="1209600" y="1243080"/>
            <a:ext cx="6675840" cy="554040"/>
            <a:chOff x="1209600" y="1243080"/>
            <a:chExt cx="6675840" cy="554040"/>
          </a:xfrm>
        </p:grpSpPr>
        <p:sp>
          <p:nvSpPr>
            <p:cNvPr id="141" name="AutoShape 13"/>
            <p:cNvSpPr/>
            <p:nvPr/>
          </p:nvSpPr>
          <p:spPr>
            <a:xfrm>
              <a:off x="1209600" y="1243080"/>
              <a:ext cx="6668640" cy="55404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272774"/>
                </a:gs>
                <a:gs pos="100000">
                  <a:srgbClr val="333399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61511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AutoShape 14"/>
            <p:cNvSpPr/>
            <p:nvPr/>
          </p:nvSpPr>
          <p:spPr>
            <a:xfrm>
              <a:off x="1215360" y="1244880"/>
              <a:ext cx="6670080" cy="22140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333399"/>
                </a:gs>
                <a:gs pos="100000">
                  <a:srgbClr val="6464b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Text Box 15"/>
          <p:cNvSpPr/>
          <p:nvPr/>
        </p:nvSpPr>
        <p:spPr>
          <a:xfrm>
            <a:off x="1560600" y="1263600"/>
            <a:ext cx="60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二季度服务提升工作短板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16"/>
          <p:cNvGrpSpPr/>
          <p:nvPr/>
        </p:nvGrpSpPr>
        <p:grpSpPr>
          <a:xfrm>
            <a:off x="902160" y="1211040"/>
            <a:ext cx="109080" cy="561600"/>
            <a:chOff x="902160" y="1211040"/>
            <a:chExt cx="109080" cy="561600"/>
          </a:xfrm>
        </p:grpSpPr>
        <p:sp>
          <p:nvSpPr>
            <p:cNvPr id="145" name="Rectangle 17"/>
            <p:cNvSpPr/>
            <p:nvPr/>
          </p:nvSpPr>
          <p:spPr>
            <a:xfrm flipV="1">
              <a:off x="902160" y="1728720"/>
              <a:ext cx="40320" cy="4356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  <a:effectLst>
              <a:outerShdw dist="153753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18"/>
            <p:cNvSpPr/>
            <p:nvPr/>
          </p:nvSpPr>
          <p:spPr>
            <a:xfrm flipV="1">
              <a:off x="970920" y="1728720"/>
              <a:ext cx="40320" cy="4356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  <a:effectLst>
              <a:outerShdw dist="153753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19"/>
            <p:cNvSpPr/>
            <p:nvPr/>
          </p:nvSpPr>
          <p:spPr>
            <a:xfrm flipV="1">
              <a:off x="902160" y="1649160"/>
              <a:ext cx="40320" cy="4356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  <a:effectLst>
              <a:outerShdw dist="153753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20"/>
            <p:cNvSpPr/>
            <p:nvPr/>
          </p:nvSpPr>
          <p:spPr>
            <a:xfrm flipV="1">
              <a:off x="902160" y="1210680"/>
              <a:ext cx="40320" cy="4356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  <a:effectLst>
              <a:outerShdw dist="153753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21"/>
            <p:cNvSpPr/>
            <p:nvPr/>
          </p:nvSpPr>
          <p:spPr>
            <a:xfrm flipV="1">
              <a:off x="968040" y="1210680"/>
              <a:ext cx="40320" cy="4356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  <a:effectLst>
              <a:outerShdw dist="153753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22"/>
            <p:cNvSpPr/>
            <p:nvPr/>
          </p:nvSpPr>
          <p:spPr>
            <a:xfrm flipV="1">
              <a:off x="902160" y="1288440"/>
              <a:ext cx="40320" cy="4356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  <a:effectLst>
              <a:outerShdw dist="153753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Rectangle 41"/>
          <p:cNvSpPr/>
          <p:nvPr/>
        </p:nvSpPr>
        <p:spPr>
          <a:xfrm>
            <a:off x="1157400" y="2640600"/>
            <a:ext cx="7051680" cy="21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宋体"/>
                <a:ea typeface="宋体"/>
              </a:rPr>
              <a:t>    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  <a:ea typeface="宋体"/>
              </a:rPr>
              <a:t>每月重点提升措施完成率较差，完成率仅为</a:t>
            </a:r>
            <a:r>
              <a:rPr b="1" lang="en-US" sz="1800" spc="-1" strike="noStrike">
                <a:solidFill>
                  <a:srgbClr val="0000ff"/>
                </a:solidFill>
                <a:latin typeface="宋体"/>
                <a:ea typeface="宋体"/>
              </a:rPr>
              <a:t>85.19,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  <a:ea typeface="宋体"/>
              </a:rPr>
              <a:t>得分</a:t>
            </a:r>
            <a:r>
              <a:rPr b="1" lang="en-US" sz="1800" spc="-1" strike="noStrike">
                <a:solidFill>
                  <a:srgbClr val="0000ff"/>
                </a:solidFill>
                <a:latin typeface="宋体"/>
                <a:ea typeface="宋体"/>
              </a:rPr>
              <a:t>7.26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  <a:ea typeface="宋体"/>
              </a:rPr>
              <a:t>分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宋体"/>
                <a:ea typeface="宋体"/>
              </a:rPr>
              <a:t>    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  <a:ea typeface="宋体"/>
              </a:rPr>
              <a:t>服务人员主动服务能力欠缺，业务咨询解答能力差，综合表现为业务技能不扎实；服务主动性差，缺乏服务意识，工作积极性不高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宋体"/>
                <a:ea typeface="宋体"/>
              </a:rPr>
              <a:t>    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  <a:ea typeface="宋体"/>
              </a:rPr>
              <a:t>营业厅秩序混乱，未有效执行电子渠道业务分流指导意见，基本上保持厅内分流到自助终端，“流动收费箱”措施未有效执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宋体"/>
                <a:ea typeface="宋体"/>
              </a:rPr>
              <a:t>    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  <a:ea typeface="宋体"/>
              </a:rPr>
              <a:t>各区县分公司对排队等候关键措施落实情况较差，片区经理及相关服务管理人员对服务提升工作缺乏重视，对服务提升关键举措没有安排布置，导致管理脱节，市公司安排的工作执行较差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5"/>
          <p:cNvSpPr/>
          <p:nvPr/>
        </p:nvSpPr>
        <p:spPr>
          <a:xfrm>
            <a:off x="1125360" y="2432160"/>
            <a:ext cx="6956640" cy="144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5"/>
          <p:cNvSpPr/>
          <p:nvPr/>
        </p:nvSpPr>
        <p:spPr>
          <a:xfrm>
            <a:off x="1138320" y="3605040"/>
            <a:ext cx="6956280" cy="180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5"/>
          <p:cNvSpPr/>
          <p:nvPr/>
        </p:nvSpPr>
        <p:spPr>
          <a:xfrm>
            <a:off x="1122480" y="4403880"/>
            <a:ext cx="6956280" cy="144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96760" y="669960"/>
            <a:ext cx="5037480" cy="4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ppt模板网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7548C-A18C-4E24-8575-60FB9FA00A7E}" type="slidenum"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7"/>
          <p:cNvSpPr/>
          <p:nvPr/>
        </p:nvSpPr>
        <p:spPr>
          <a:xfrm>
            <a:off x="3583080" y="808200"/>
            <a:ext cx="16682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原因分析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9"/>
          <p:cNvSpPr/>
          <p:nvPr/>
        </p:nvSpPr>
        <p:spPr>
          <a:xfrm>
            <a:off x="1374840" y="1611360"/>
            <a:ext cx="6575400" cy="828720"/>
          </a:xfrm>
          <a:prstGeom prst="flowChartAlternateProcess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20"/>
          <p:cNvSpPr/>
          <p:nvPr/>
        </p:nvSpPr>
        <p:spPr>
          <a:xfrm>
            <a:off x="1387440" y="2611440"/>
            <a:ext cx="6575400" cy="1452600"/>
          </a:xfrm>
          <a:prstGeom prst="flowChartAlternateProcess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22"/>
          <p:cNvSpPr/>
          <p:nvPr/>
        </p:nvSpPr>
        <p:spPr>
          <a:xfrm>
            <a:off x="1401840" y="4105440"/>
            <a:ext cx="6575400" cy="1452240"/>
          </a:xfrm>
          <a:prstGeom prst="flowChartAlternateProcess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8"/>
          <p:cNvSpPr/>
          <p:nvPr/>
        </p:nvSpPr>
        <p:spPr>
          <a:xfrm>
            <a:off x="1500120" y="2300040"/>
            <a:ext cx="6399360" cy="23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宋体"/>
                <a:ea typeface="宋体"/>
              </a:rPr>
              <a:t>    </a:t>
            </a:r>
            <a:r>
              <a:rPr b="1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区县公司以劳动竞赛指标及</a:t>
            </a:r>
            <a:r>
              <a:rPr b="1" lang="en-US" sz="1800" spc="-1" strike="noStrike">
                <a:solidFill>
                  <a:srgbClr val="ffffff"/>
                </a:solidFill>
                <a:latin typeface="宋体"/>
                <a:ea typeface="宋体"/>
              </a:rPr>
              <a:t>KPI</a:t>
            </a:r>
            <a:r>
              <a:rPr b="1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指标为导向，忽视了客户服务工作的重要性，区县公司领导对服务工作缺乏重视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    </a:t>
            </a:r>
            <a:r>
              <a:rPr b="1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营销活动开展频繁，且大部分仅能在自有营业厅办理，在人员不足的情况下，营业员压力较大，营销经理无暇顾及现场管理，忙于业务办理，导致营业厅秩序混乱，业务分流不到位，客户等候时间长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    </a:t>
            </a:r>
            <a:r>
              <a:rPr b="1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上半年营业人员流动频繁，招聘的新员工业务技能掌握不全面，往往是新进几个月的员工又带新员工，综合服务技能较差，服务缺乏规范性。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631D1-33DE-44B8-832D-D6A7E9009F93}" type="slidenum"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"/>
          <p:cNvSpPr/>
          <p:nvPr/>
        </p:nvSpPr>
        <p:spPr>
          <a:xfrm>
            <a:off x="3583080" y="808200"/>
            <a:ext cx="16682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原因分析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3"/>
          <p:cNvSpPr/>
          <p:nvPr/>
        </p:nvSpPr>
        <p:spPr>
          <a:xfrm>
            <a:off x="1374840" y="1706400"/>
            <a:ext cx="6575400" cy="1133640"/>
          </a:xfrm>
          <a:prstGeom prst="flowChartAlternateProcess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4"/>
          <p:cNvSpPr/>
          <p:nvPr/>
        </p:nvSpPr>
        <p:spPr>
          <a:xfrm>
            <a:off x="1387440" y="3000240"/>
            <a:ext cx="6575400" cy="1206720"/>
          </a:xfrm>
          <a:prstGeom prst="flowChartAlternateProcess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5"/>
          <p:cNvSpPr/>
          <p:nvPr/>
        </p:nvSpPr>
        <p:spPr>
          <a:xfrm>
            <a:off x="1401840" y="4376880"/>
            <a:ext cx="6575400" cy="769680"/>
          </a:xfrm>
          <a:prstGeom prst="flowChartAlternateProcess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1500120" y="2228760"/>
            <a:ext cx="6399360" cy="23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宋体"/>
                <a:ea typeface="宋体"/>
              </a:rPr>
              <a:t>    </a:t>
            </a:r>
            <a:r>
              <a:rPr b="1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以发展为核心，新业务发展、营销活动的开展以指标为导向，在新业务发展及营销活动开展中未全面顾忌客户对服务感知，导致客户投诉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    </a:t>
            </a:r>
            <a:r>
              <a:rPr b="1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营业厅人员流动较大，部分区县公司部门之间人员调换频繁，部分营销经理属赶鸭子上架，缺乏管理意识，管理能力较差，营业厅管理人员后备缺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    </a:t>
            </a:r>
            <a:r>
              <a:rPr b="1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市场部对区县公司监管及督促工作不够，导致部分区县公司工作执行脱节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8EF1C-50E6-42B1-920C-761831FBDE87}" type="slidenum"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圆角矩形 4"/>
          <p:cNvSpPr/>
          <p:nvPr/>
        </p:nvSpPr>
        <p:spPr>
          <a:xfrm>
            <a:off x="376200" y="1312920"/>
            <a:ext cx="8572680" cy="4645080"/>
          </a:xfrm>
          <a:prstGeom prst="roundRect">
            <a:avLst>
              <a:gd name="adj" fmla="val 5083"/>
            </a:avLst>
          </a:prstGeom>
          <a:gradFill rotWithShape="0">
            <a:gsLst>
              <a:gs pos="0">
                <a:srgbClr val="bfbfbf"/>
              </a:gs>
              <a:gs pos="100000">
                <a:srgbClr val="effafb"/>
              </a:gs>
            </a:gsLst>
            <a:lin ang="5400000"/>
          </a:gradFill>
          <a:ln w="2232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组合 16"/>
          <p:cNvGrpSpPr/>
          <p:nvPr/>
        </p:nvGrpSpPr>
        <p:grpSpPr>
          <a:xfrm>
            <a:off x="681120" y="976320"/>
            <a:ext cx="2819160" cy="714240"/>
            <a:chOff x="681120" y="976320"/>
            <a:chExt cx="2819160" cy="714240"/>
          </a:xfrm>
        </p:grpSpPr>
        <p:grpSp>
          <p:nvGrpSpPr>
            <p:cNvPr id="171" name="五边形 5"/>
            <p:cNvGrpSpPr/>
            <p:nvPr/>
          </p:nvGrpSpPr>
          <p:grpSpPr>
            <a:xfrm>
              <a:off x="681120" y="976320"/>
              <a:ext cx="2819160" cy="714240"/>
              <a:chOff x="681120" y="976320"/>
              <a:chExt cx="2819160" cy="714240"/>
            </a:xfrm>
          </p:grpSpPr>
          <p:pic>
            <p:nvPicPr>
              <p:cNvPr id="172" name="五边形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81120" y="976320"/>
                <a:ext cx="281916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" name="Text Box 25"/>
              <p:cNvSpPr/>
              <p:nvPr/>
            </p:nvSpPr>
            <p:spPr>
              <a:xfrm>
                <a:off x="848160" y="1091520"/>
                <a:ext cx="2332440" cy="46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" name="TextBox 18"/>
            <p:cNvSpPr/>
            <p:nvPr/>
          </p:nvSpPr>
          <p:spPr>
            <a:xfrm>
              <a:off x="1101600" y="1106280"/>
              <a:ext cx="173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600" spc="-1" strike="noStrike">
                  <a:solidFill>
                    <a:srgbClr val="ffffff"/>
                  </a:solidFill>
                  <a:latin typeface="Arial"/>
                </a:rPr>
                <a:t>下阶段工作计划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Oval 49"/>
          <p:cNvSpPr/>
          <p:nvPr/>
        </p:nvSpPr>
        <p:spPr>
          <a:xfrm>
            <a:off x="3535200" y="2516040"/>
            <a:ext cx="2459160" cy="2459160"/>
          </a:xfrm>
          <a:prstGeom prst="ellipse">
            <a:avLst/>
          </a:prstGeom>
          <a:solidFill>
            <a:srgbClr val="40404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49"/>
          <p:cNvSpPr/>
          <p:nvPr/>
        </p:nvSpPr>
        <p:spPr>
          <a:xfrm>
            <a:off x="3227400" y="2208240"/>
            <a:ext cx="3075120" cy="3075120"/>
          </a:xfrm>
          <a:prstGeom prst="ellipse">
            <a:avLst/>
          </a:prstGeom>
          <a:solidFill>
            <a:srgbClr val="0d0d0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Freeform 45"/>
          <p:cNvGrpSpPr/>
          <p:nvPr/>
        </p:nvGrpSpPr>
        <p:grpSpPr>
          <a:xfrm>
            <a:off x="1773360" y="1722600"/>
            <a:ext cx="2992320" cy="1987560"/>
            <a:chOff x="1773360" y="1722600"/>
            <a:chExt cx="2992320" cy="1987560"/>
          </a:xfrm>
        </p:grpSpPr>
        <p:pic>
          <p:nvPicPr>
            <p:cNvPr id="178" name="Freeform 45" descr=""/>
            <p:cNvPicPr/>
            <p:nvPr/>
          </p:nvPicPr>
          <p:blipFill>
            <a:blip r:embed="rId2"/>
            <a:stretch/>
          </p:blipFill>
          <p:spPr>
            <a:xfrm>
              <a:off x="1773360" y="1722600"/>
              <a:ext cx="299232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Text Box 8"/>
            <p:cNvSpPr/>
            <p:nvPr/>
          </p:nvSpPr>
          <p:spPr>
            <a:xfrm>
              <a:off x="1825920" y="1773360"/>
              <a:ext cx="2846160" cy="184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Freeform 46"/>
          <p:cNvGrpSpPr/>
          <p:nvPr/>
        </p:nvGrpSpPr>
        <p:grpSpPr>
          <a:xfrm>
            <a:off x="4802040" y="1722600"/>
            <a:ext cx="2994120" cy="1987560"/>
            <a:chOff x="4802040" y="1722600"/>
            <a:chExt cx="2994120" cy="1987560"/>
          </a:xfrm>
        </p:grpSpPr>
        <p:pic>
          <p:nvPicPr>
            <p:cNvPr id="181" name="Freeform 46" descr=""/>
            <p:cNvPicPr/>
            <p:nvPr/>
          </p:nvPicPr>
          <p:blipFill>
            <a:blip r:embed="rId3"/>
            <a:stretch/>
          </p:blipFill>
          <p:spPr>
            <a:xfrm>
              <a:off x="4802040" y="1722600"/>
              <a:ext cx="299412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Text Box 11"/>
            <p:cNvSpPr/>
            <p:nvPr/>
          </p:nvSpPr>
          <p:spPr>
            <a:xfrm>
              <a:off x="4856040" y="1773360"/>
              <a:ext cx="2846520" cy="184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Freeform 47"/>
          <p:cNvGrpSpPr/>
          <p:nvPr/>
        </p:nvGrpSpPr>
        <p:grpSpPr>
          <a:xfrm>
            <a:off x="1773360" y="3776760"/>
            <a:ext cx="2992320" cy="1993680"/>
            <a:chOff x="1773360" y="3776760"/>
            <a:chExt cx="2992320" cy="1993680"/>
          </a:xfrm>
        </p:grpSpPr>
        <p:pic>
          <p:nvPicPr>
            <p:cNvPr id="184" name="Freeform 47" descr=""/>
            <p:cNvPicPr/>
            <p:nvPr/>
          </p:nvPicPr>
          <p:blipFill>
            <a:blip r:embed="rId4"/>
            <a:stretch/>
          </p:blipFill>
          <p:spPr>
            <a:xfrm>
              <a:off x="1773360" y="3776760"/>
              <a:ext cx="2992320" cy="19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Text Box 14"/>
            <p:cNvSpPr/>
            <p:nvPr/>
          </p:nvSpPr>
          <p:spPr>
            <a:xfrm>
              <a:off x="1825920" y="3828960"/>
              <a:ext cx="2846160" cy="184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Freeform 48"/>
          <p:cNvGrpSpPr/>
          <p:nvPr/>
        </p:nvGrpSpPr>
        <p:grpSpPr>
          <a:xfrm>
            <a:off x="4802040" y="3776760"/>
            <a:ext cx="2994120" cy="1993680"/>
            <a:chOff x="4802040" y="3776760"/>
            <a:chExt cx="2994120" cy="1993680"/>
          </a:xfrm>
        </p:grpSpPr>
        <p:pic>
          <p:nvPicPr>
            <p:cNvPr id="187" name="Freeform 48" descr=""/>
            <p:cNvPicPr/>
            <p:nvPr/>
          </p:nvPicPr>
          <p:blipFill>
            <a:blip r:embed="rId5"/>
            <a:stretch/>
          </p:blipFill>
          <p:spPr>
            <a:xfrm>
              <a:off x="4802040" y="3776760"/>
              <a:ext cx="2994120" cy="19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Text Box 17"/>
            <p:cNvSpPr/>
            <p:nvPr/>
          </p:nvSpPr>
          <p:spPr>
            <a:xfrm>
              <a:off x="4856040" y="3828960"/>
              <a:ext cx="2846520" cy="184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Text Box 50"/>
          <p:cNvSpPr/>
          <p:nvPr/>
        </p:nvSpPr>
        <p:spPr>
          <a:xfrm>
            <a:off x="2124000" y="2124000"/>
            <a:ext cx="24480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以客户为导向，加强与各部门之间的横向沟通，各横向部门形成合力，共同提升服务质量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72"/>
          <p:cNvSpPr/>
          <p:nvPr/>
        </p:nvSpPr>
        <p:spPr>
          <a:xfrm>
            <a:off x="5054760" y="1998720"/>
            <a:ext cx="256032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宋体"/>
                <a:ea typeface="宋体"/>
              </a:rPr>
              <a:t>加强对各区县服务提升工作的监控力度及检测，二季度已完成</a:t>
            </a:r>
            <a:r>
              <a:rPr b="1" lang="en-US" sz="1200" spc="-1" strike="noStrike">
                <a:solidFill>
                  <a:srgbClr val="ffffff"/>
                </a:solidFill>
                <a:latin typeface="宋体"/>
                <a:ea typeface="宋体"/>
              </a:rPr>
              <a:t>5</a:t>
            </a:r>
            <a:r>
              <a:rPr b="1" lang="zh-CN" sz="1200" spc="-1" strike="noStrike">
                <a:solidFill>
                  <a:srgbClr val="ffffff"/>
                </a:solidFill>
                <a:latin typeface="宋体"/>
                <a:ea typeface="宋体"/>
              </a:rPr>
              <a:t>各区县公司的服务检查指导工作，三季度继续分批到其余</a:t>
            </a:r>
            <a:r>
              <a:rPr b="1" lang="en-US" sz="1200" spc="-1" strike="noStrike">
                <a:solidFill>
                  <a:srgbClr val="ffffff"/>
                </a:solidFill>
                <a:latin typeface="宋体"/>
                <a:ea typeface="宋体"/>
              </a:rPr>
              <a:t>6</a:t>
            </a:r>
            <a:r>
              <a:rPr b="1" lang="zh-CN" sz="1200" spc="-1" strike="noStrike">
                <a:solidFill>
                  <a:srgbClr val="ffffff"/>
                </a:solidFill>
                <a:latin typeface="宋体"/>
                <a:ea typeface="宋体"/>
              </a:rPr>
              <a:t>个县指导检查，以帮助提升服务工作。并将检查情况纳入区县公司考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73"/>
          <p:cNvSpPr/>
          <p:nvPr/>
        </p:nvSpPr>
        <p:spPr>
          <a:xfrm>
            <a:off x="1909800" y="3919680"/>
            <a:ext cx="27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宋体"/>
                <a:ea typeface="宋体"/>
              </a:rPr>
              <a:t>拟定三季度服务提升工作奖惩办法实施细则，把服务人员业务培训要求、投诉处理、基于服务提升的相关工作落实纳入考核和奖励，对落实不力，未按市公司要求完成的，对区县经理、服务主管、直接责任人进行相关考核，加强区县公司对服务提升的重视，对服务提升工作用心部署，执行较好的公司进行奖励。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74"/>
          <p:cNvSpPr/>
          <p:nvPr/>
        </p:nvSpPr>
        <p:spPr>
          <a:xfrm>
            <a:off x="5114880" y="4086360"/>
            <a:ext cx="244800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规范全市沟通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厅基础服务规范及服务主动性，下发指导意见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除市公司外，组织区县公司定期召开服务分析例会，通过服务分析例会制度的实施，推动服务质量的提升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49"/>
          <p:cNvSpPr/>
          <p:nvPr/>
        </p:nvSpPr>
        <p:spPr>
          <a:xfrm>
            <a:off x="4187880" y="3170160"/>
            <a:ext cx="1152360" cy="11509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组合 16"/>
          <p:cNvGrpSpPr/>
          <p:nvPr/>
        </p:nvGrpSpPr>
        <p:grpSpPr>
          <a:xfrm>
            <a:off x="5938560" y="976320"/>
            <a:ext cx="2819160" cy="714240"/>
            <a:chOff x="5938560" y="976320"/>
            <a:chExt cx="2819160" cy="714240"/>
          </a:xfrm>
        </p:grpSpPr>
        <p:grpSp>
          <p:nvGrpSpPr>
            <p:cNvPr id="195" name="五边形 5"/>
            <p:cNvGrpSpPr/>
            <p:nvPr/>
          </p:nvGrpSpPr>
          <p:grpSpPr>
            <a:xfrm>
              <a:off x="5938560" y="976320"/>
              <a:ext cx="2819160" cy="714240"/>
              <a:chOff x="5938560" y="976320"/>
              <a:chExt cx="2819160" cy="714240"/>
            </a:xfrm>
          </p:grpSpPr>
          <p:pic>
            <p:nvPicPr>
              <p:cNvPr id="196" name="五边形 5" descr=""/>
              <p:cNvPicPr/>
              <p:nvPr/>
            </p:nvPicPr>
            <p:blipFill>
              <a:blip r:embed="rId6"/>
              <a:stretch/>
            </p:blipFill>
            <p:spPr>
              <a:xfrm flipH="1">
                <a:off x="5938560" y="976320"/>
                <a:ext cx="281916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7" name="Text Box 25"/>
              <p:cNvSpPr/>
              <p:nvPr/>
            </p:nvSpPr>
            <p:spPr>
              <a:xfrm flipH="1">
                <a:off x="6257880" y="1091520"/>
                <a:ext cx="2332440" cy="46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" name="TextBox 18"/>
            <p:cNvSpPr/>
            <p:nvPr/>
          </p:nvSpPr>
          <p:spPr>
            <a:xfrm flipH="1">
              <a:off x="6607080" y="1106280"/>
              <a:ext cx="173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600" spc="-1" strike="noStrike">
                  <a:solidFill>
                    <a:srgbClr val="ffffff"/>
                  </a:solidFill>
                  <a:latin typeface="Arial"/>
                </a:rPr>
                <a:t>下阶段工作措施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Text Box 33"/>
          <p:cNvSpPr/>
          <p:nvPr/>
        </p:nvSpPr>
        <p:spPr>
          <a:xfrm>
            <a:off x="1506600" y="297000"/>
            <a:ext cx="36734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下阶段工作计划及措施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500"/>
                            </p:stCondLst>
                            <p:childTnLst>
                              <p:par>
                                <p:cTn id="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2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8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1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6000"/>
                            </p:stCondLst>
                            <p:childTnLst>
                              <p:par>
                                <p:cTn id="113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3" presetSubtype="16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AF7F6-AC67-4B17-B09C-C15296A03A0B}" type="slidenum"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1506600" y="297000"/>
            <a:ext cx="36734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下阶段工作计划及措施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1536840" y="1633680"/>
            <a:ext cx="602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宋体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推进市公司排班指导意见的实施，通过合理排班，有效利用人力资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3"/>
          <p:cNvSpPr/>
          <p:nvPr/>
        </p:nvSpPr>
        <p:spPr>
          <a:xfrm>
            <a:off x="5159520" y="2857680"/>
            <a:ext cx="2622240" cy="2574720"/>
          </a:xfrm>
          <a:custGeom>
            <a:avLst/>
            <a:gdLst>
              <a:gd name="textAreaLeft" fmla="*/ 0 w 2622240"/>
              <a:gd name="textAreaRight" fmla="*/ 2622600 w 2622240"/>
              <a:gd name="textAreaTop" fmla="*/ 0 h 2574720"/>
              <a:gd name="textAreaBottom" fmla="*/ 2575080 h 257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6f6f6"/>
              </a:gs>
            </a:gsLst>
            <a:lin ang="81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4"/>
          <p:cNvSpPr/>
          <p:nvPr/>
        </p:nvSpPr>
        <p:spPr>
          <a:xfrm>
            <a:off x="3122640" y="2859120"/>
            <a:ext cx="2809800" cy="2574720"/>
          </a:xfrm>
          <a:custGeom>
            <a:avLst/>
            <a:gdLst>
              <a:gd name="textAreaLeft" fmla="*/ 0 w 2809800"/>
              <a:gd name="textAreaRight" fmla="*/ 2810160 w 2809800"/>
              <a:gd name="textAreaTop" fmla="*/ 0 h 2574720"/>
              <a:gd name="textAreaBottom" fmla="*/ 2575080 h 257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5"/>
          <p:cNvSpPr/>
          <p:nvPr/>
        </p:nvSpPr>
        <p:spPr>
          <a:xfrm>
            <a:off x="2913120" y="2558880"/>
            <a:ext cx="4349520" cy="517680"/>
          </a:xfrm>
          <a:custGeom>
            <a:avLst/>
            <a:gdLst>
              <a:gd name="textAreaLeft" fmla="*/ 0 w 4349520"/>
              <a:gd name="textAreaRight" fmla="*/ 4349880 w 4349520"/>
              <a:gd name="textAreaTop" fmla="*/ 0 h 517680"/>
              <a:gd name="textAreaBottom" fmla="*/ 518040 h 517680"/>
            </a:gdLst>
            <a:ahLst/>
            <a:rect l="textAreaLeft" t="textAreaTop" r="textAreaRight" b="textAreaBottom"/>
            <a:pathLst>
              <a:path w="3454" h="267">
                <a:moveTo>
                  <a:pt x="0" y="0"/>
                </a:moveTo>
                <a:lnTo>
                  <a:pt x="87" y="267"/>
                </a:lnTo>
                <a:lnTo>
                  <a:pt x="3454" y="267"/>
                </a:lnTo>
                <a:lnTo>
                  <a:pt x="3292" y="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1818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6"/>
          <p:cNvSpPr/>
          <p:nvPr/>
        </p:nvSpPr>
        <p:spPr>
          <a:xfrm>
            <a:off x="1662120" y="2557440"/>
            <a:ext cx="2400120" cy="2895480"/>
          </a:xfrm>
          <a:custGeom>
            <a:avLst/>
            <a:gdLst>
              <a:gd name="textAreaLeft" fmla="*/ 0 w 2400120"/>
              <a:gd name="textAreaRight" fmla="*/ 2400480 w 240012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d5c5d"/>
              </a:gs>
              <a:gs pos="100000">
                <a:srgbClr val="bbe0e3"/>
              </a:gs>
            </a:gsLst>
            <a:lin ang="81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897200" y="3521160"/>
            <a:ext cx="154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黑体"/>
              </a:rPr>
              <a:t>自下而上及自上而下流程穿越活动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8"/>
          <p:cNvSpPr/>
          <p:nvPr/>
        </p:nvSpPr>
        <p:spPr>
          <a:xfrm>
            <a:off x="3600360" y="2585880"/>
            <a:ext cx="349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以客户为导向提升客户满意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9"/>
          <p:cNvSpPr/>
          <p:nvPr/>
        </p:nvSpPr>
        <p:spPr>
          <a:xfrm>
            <a:off x="6172200" y="3552840"/>
            <a:ext cx="106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黑体"/>
              </a:rPr>
              <a:t>对问题及时进行改进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1"/>
          <p:cNvSpPr/>
          <p:nvPr/>
        </p:nvSpPr>
        <p:spPr>
          <a:xfrm>
            <a:off x="4138560" y="3321000"/>
            <a:ext cx="129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黑体"/>
              </a:rPr>
              <a:t>通过体验发现客户服务中存在的问题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4C562-8EE3-41D1-ACC3-B9FC61D63919}" type="slidenum"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3"/>
          <p:cNvGrpSpPr/>
          <p:nvPr/>
        </p:nvGrpSpPr>
        <p:grpSpPr>
          <a:xfrm>
            <a:off x="1219320" y="1787400"/>
            <a:ext cx="6781320" cy="4266720"/>
            <a:chOff x="1219320" y="1787400"/>
            <a:chExt cx="6781320" cy="4266720"/>
          </a:xfrm>
        </p:grpSpPr>
        <p:sp>
          <p:nvSpPr>
            <p:cNvPr id="213" name="AutoShape 4"/>
            <p:cNvSpPr/>
            <p:nvPr/>
          </p:nvSpPr>
          <p:spPr>
            <a:xfrm>
              <a:off x="2127960" y="2475720"/>
              <a:ext cx="5074200" cy="2477880"/>
            </a:xfrm>
            <a:prstGeom prst="upArrow">
              <a:avLst>
                <a:gd name="adj1" fmla="val 57824"/>
                <a:gd name="adj2" fmla="val 54398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AutoShape 5"/>
            <p:cNvSpPr/>
            <p:nvPr/>
          </p:nvSpPr>
          <p:spPr>
            <a:xfrm>
              <a:off x="1918440" y="1787400"/>
              <a:ext cx="5312880" cy="518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5b5b"/>
                </a:gs>
                <a:gs pos="50000">
                  <a:srgbClr val="ff0000"/>
                </a:gs>
                <a:gs pos="100000">
                  <a:srgbClr val="ff5b5b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0280" rIns="80280" tIns="39960" bIns="39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客户等候时长改善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6"/>
            <p:cNvSpPr/>
            <p:nvPr/>
          </p:nvSpPr>
          <p:spPr>
            <a:xfrm>
              <a:off x="4004640" y="3011760"/>
              <a:ext cx="1121400" cy="6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280" rIns="80280" tIns="39960" bIns="399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认真组织进行业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务流程简化梳理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6" name="Group 7"/>
            <p:cNvGrpSpPr/>
            <p:nvPr/>
          </p:nvGrpSpPr>
          <p:grpSpPr>
            <a:xfrm>
              <a:off x="1219320" y="4167720"/>
              <a:ext cx="1363320" cy="1796400"/>
              <a:chOff x="1219320" y="4167720"/>
              <a:chExt cx="1363320" cy="1796400"/>
            </a:xfrm>
          </p:grpSpPr>
          <p:grpSp>
            <p:nvGrpSpPr>
              <p:cNvPr id="217" name="Group 8"/>
              <p:cNvGrpSpPr/>
              <p:nvPr/>
            </p:nvGrpSpPr>
            <p:grpSpPr>
              <a:xfrm>
                <a:off x="1219320" y="4167720"/>
                <a:ext cx="1363320" cy="1368000"/>
                <a:chOff x="1219320" y="4167720"/>
                <a:chExt cx="1363320" cy="1368000"/>
              </a:xfrm>
            </p:grpSpPr>
            <p:grpSp>
              <p:nvGrpSpPr>
                <p:cNvPr id="218" name="Group 9"/>
                <p:cNvGrpSpPr/>
                <p:nvPr/>
              </p:nvGrpSpPr>
              <p:grpSpPr>
                <a:xfrm>
                  <a:off x="1219320" y="4167720"/>
                  <a:ext cx="1363320" cy="1368000"/>
                  <a:chOff x="1219320" y="4167720"/>
                  <a:chExt cx="1363320" cy="1368000"/>
                </a:xfrm>
              </p:grpSpPr>
              <p:sp>
                <p:nvSpPr>
                  <p:cNvPr id="219" name="Oval 10"/>
                  <p:cNvSpPr/>
                  <p:nvPr/>
                </p:nvSpPr>
                <p:spPr>
                  <a:xfrm>
                    <a:off x="1219320" y="4167720"/>
                    <a:ext cx="1363320" cy="1368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33399"/>
                      </a:gs>
                      <a:gs pos="100000">
                        <a:srgbClr val="202061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Freeform 11"/>
                  <p:cNvSpPr/>
                  <p:nvPr/>
                </p:nvSpPr>
                <p:spPr>
                  <a:xfrm>
                    <a:off x="1375200" y="4190400"/>
                    <a:ext cx="1051560" cy="51624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333399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1" name="Text Box 12"/>
                <p:cNvSpPr/>
                <p:nvPr/>
              </p:nvSpPr>
              <p:spPr>
                <a:xfrm>
                  <a:off x="1632240" y="4902120"/>
                  <a:ext cx="527040" cy="5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0280" rIns="80280" tIns="39960" bIns="3996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801720"/>
                      <a:tab algn="l" pos="1603440"/>
                      <a:tab algn="l" pos="2405160"/>
                      <a:tab algn="l" pos="3206880"/>
                      <a:tab algn="l" pos="4008600"/>
                      <a:tab algn="l" pos="4809960"/>
                      <a:tab algn="l" pos="5611680"/>
                      <a:tab algn="l" pos="6413400"/>
                      <a:tab algn="l" pos="7215120"/>
                      <a:tab algn="l" pos="8016840"/>
                      <a:tab algn="l" pos="8818560"/>
                      <a:tab algn="l" pos="9620280"/>
                      <a:tab algn="l" pos="10422000"/>
                    </a:tabLst>
                  </a:pPr>
                  <a:r>
                    <a:rPr b="1" lang="zh-CN" sz="1400" spc="-1" strike="noStrike">
                      <a:solidFill>
                        <a:srgbClr val="ffffff"/>
                      </a:solidFill>
                      <a:latin typeface="Arial"/>
                    </a:rPr>
                    <a:t>业务技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801720"/>
                      <a:tab algn="l" pos="1603440"/>
                      <a:tab algn="l" pos="2405160"/>
                      <a:tab algn="l" pos="3206880"/>
                      <a:tab algn="l" pos="4008600"/>
                      <a:tab algn="l" pos="4809960"/>
                      <a:tab algn="l" pos="5611680"/>
                      <a:tab algn="l" pos="6413400"/>
                      <a:tab algn="l" pos="7215120"/>
                      <a:tab algn="l" pos="8016840"/>
                      <a:tab algn="l" pos="8818560"/>
                      <a:tab algn="l" pos="9620280"/>
                      <a:tab algn="l" pos="10422000"/>
                    </a:tabLst>
                  </a:pPr>
                  <a:r>
                    <a:rPr b="1" lang="zh-CN" sz="1400" spc="-1" strike="noStrike">
                      <a:solidFill>
                        <a:srgbClr val="ffffff"/>
                      </a:solidFill>
                      <a:latin typeface="Arial"/>
                    </a:rPr>
                    <a:t>能加强</a:t>
                  </a:r>
                  <a:r>
                    <a:rPr b="1" lang="zh-CN" sz="14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2" name="Oval 13"/>
              <p:cNvSpPr/>
              <p:nvPr/>
            </p:nvSpPr>
            <p:spPr>
              <a:xfrm>
                <a:off x="1359000" y="5613120"/>
                <a:ext cx="1107000" cy="351000"/>
              </a:xfrm>
              <a:prstGeom prst="ellipse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3" name="Group 14"/>
            <p:cNvGrpSpPr/>
            <p:nvPr/>
          </p:nvGrpSpPr>
          <p:grpSpPr>
            <a:xfrm>
              <a:off x="6602400" y="4127760"/>
              <a:ext cx="1398240" cy="1866240"/>
              <a:chOff x="6602400" y="4127760"/>
              <a:chExt cx="1398240" cy="1866240"/>
            </a:xfrm>
          </p:grpSpPr>
          <p:grpSp>
            <p:nvGrpSpPr>
              <p:cNvPr id="224" name="Group 15"/>
              <p:cNvGrpSpPr/>
              <p:nvPr/>
            </p:nvGrpSpPr>
            <p:grpSpPr>
              <a:xfrm>
                <a:off x="6602400" y="4127760"/>
                <a:ext cx="1398240" cy="1383120"/>
                <a:chOff x="6602400" y="4127760"/>
                <a:chExt cx="1398240" cy="1383120"/>
              </a:xfrm>
            </p:grpSpPr>
            <p:grpSp>
              <p:nvGrpSpPr>
                <p:cNvPr id="225" name="Group 16"/>
                <p:cNvGrpSpPr/>
                <p:nvPr/>
              </p:nvGrpSpPr>
              <p:grpSpPr>
                <a:xfrm>
                  <a:off x="6602400" y="4127760"/>
                  <a:ext cx="1398240" cy="1383120"/>
                  <a:chOff x="6602400" y="4127760"/>
                  <a:chExt cx="1398240" cy="1383120"/>
                </a:xfrm>
              </p:grpSpPr>
              <p:sp>
                <p:nvSpPr>
                  <p:cNvPr id="226" name="Oval 17"/>
                  <p:cNvSpPr/>
                  <p:nvPr/>
                </p:nvSpPr>
                <p:spPr>
                  <a:xfrm>
                    <a:off x="6602400" y="4127760"/>
                    <a:ext cx="1398240" cy="1383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ff"/>
                      </a:gs>
                      <a:gs pos="100000">
                        <a:srgbClr val="00003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Freeform 18"/>
                  <p:cNvSpPr/>
                  <p:nvPr/>
                </p:nvSpPr>
                <p:spPr>
                  <a:xfrm>
                    <a:off x="6762240" y="4150440"/>
                    <a:ext cx="1078560" cy="52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0000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8" name="Text Box 19"/>
                <p:cNvSpPr/>
                <p:nvPr/>
              </p:nvSpPr>
              <p:spPr>
                <a:xfrm>
                  <a:off x="6990840" y="4810680"/>
                  <a:ext cx="587880" cy="5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0280" rIns="80280" tIns="39960" bIns="3996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801720"/>
                      <a:tab algn="l" pos="1603440"/>
                      <a:tab algn="l" pos="2405160"/>
                      <a:tab algn="l" pos="3206880"/>
                      <a:tab algn="l" pos="4008600"/>
                      <a:tab algn="l" pos="4809960"/>
                      <a:tab algn="l" pos="5611680"/>
                      <a:tab algn="l" pos="6413400"/>
                      <a:tab algn="l" pos="7215120"/>
                      <a:tab algn="l" pos="8016840"/>
                      <a:tab algn="l" pos="8818560"/>
                      <a:tab algn="l" pos="9620280"/>
                      <a:tab algn="l" pos="10422000"/>
                    </a:tabLst>
                  </a:pPr>
                  <a:r>
                    <a:rPr b="1" lang="zh-CN" sz="14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电子渠道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801720"/>
                      <a:tab algn="l" pos="1603440"/>
                      <a:tab algn="l" pos="2405160"/>
                      <a:tab algn="l" pos="3206880"/>
                      <a:tab algn="l" pos="4008600"/>
                      <a:tab algn="l" pos="4809960"/>
                      <a:tab algn="l" pos="5611680"/>
                      <a:tab algn="l" pos="6413400"/>
                      <a:tab algn="l" pos="7215120"/>
                      <a:tab algn="l" pos="8016840"/>
                      <a:tab algn="l" pos="8818560"/>
                      <a:tab algn="l" pos="9620280"/>
                      <a:tab algn="l" pos="10422000"/>
                    </a:tabLst>
                  </a:pPr>
                  <a:r>
                    <a:rPr b="1" lang="zh-CN" sz="14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业务分流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9" name="Oval 20"/>
              <p:cNvSpPr/>
              <p:nvPr/>
            </p:nvSpPr>
            <p:spPr>
              <a:xfrm>
                <a:off x="6641640" y="5554440"/>
                <a:ext cx="1335600" cy="439560"/>
              </a:xfrm>
              <a:prstGeom prst="ellipse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" name="Group 21"/>
            <p:cNvGrpSpPr/>
            <p:nvPr/>
          </p:nvGrpSpPr>
          <p:grpSpPr>
            <a:xfrm>
              <a:off x="2967120" y="4167720"/>
              <a:ext cx="1397880" cy="1886400"/>
              <a:chOff x="2967120" y="4167720"/>
              <a:chExt cx="1397880" cy="1886400"/>
            </a:xfrm>
          </p:grpSpPr>
          <p:grpSp>
            <p:nvGrpSpPr>
              <p:cNvPr id="231" name="Group 22"/>
              <p:cNvGrpSpPr/>
              <p:nvPr/>
            </p:nvGrpSpPr>
            <p:grpSpPr>
              <a:xfrm>
                <a:off x="2967120" y="4167720"/>
                <a:ext cx="1397880" cy="1373400"/>
                <a:chOff x="2967120" y="4167720"/>
                <a:chExt cx="1397880" cy="1373400"/>
              </a:xfrm>
            </p:grpSpPr>
            <p:sp>
              <p:nvSpPr>
                <p:cNvPr id="232" name="Oval 23"/>
                <p:cNvSpPr/>
                <p:nvPr/>
              </p:nvSpPr>
              <p:spPr>
                <a:xfrm>
                  <a:off x="2967120" y="4167720"/>
                  <a:ext cx="1397880" cy="137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00"/>
                    </a:gs>
                    <a:gs pos="100000">
                      <a:srgbClr val="83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Freeform 24"/>
                <p:cNvSpPr/>
                <p:nvPr/>
              </p:nvSpPr>
              <p:spPr>
                <a:xfrm>
                  <a:off x="3126960" y="4190400"/>
                  <a:ext cx="1078200" cy="5184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4" name="Text Box 25"/>
              <p:cNvSpPr/>
              <p:nvPr/>
            </p:nvSpPr>
            <p:spPr>
              <a:xfrm>
                <a:off x="3036960" y="4826880"/>
                <a:ext cx="1258200" cy="50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0280" rIns="80280" tIns="39960" bIns="3996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801720"/>
                    <a:tab algn="l" pos="1603440"/>
                    <a:tab algn="l" pos="2405160"/>
                    <a:tab algn="l" pos="3206880"/>
                    <a:tab algn="l" pos="4008600"/>
                    <a:tab algn="l" pos="4809960"/>
                    <a:tab algn="l" pos="5611680"/>
                    <a:tab algn="l" pos="6413400"/>
                    <a:tab algn="l" pos="7215120"/>
                    <a:tab algn="l" pos="8016840"/>
                    <a:tab algn="l" pos="8818560"/>
                    <a:tab algn="l" pos="9620280"/>
                    <a:tab algn="l" pos="1042200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排队等候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801720"/>
                    <a:tab algn="l" pos="1603440"/>
                    <a:tab algn="l" pos="2405160"/>
                    <a:tab algn="l" pos="3206880"/>
                    <a:tab algn="l" pos="4008600"/>
                    <a:tab algn="l" pos="4809960"/>
                    <a:tab algn="l" pos="5611680"/>
                    <a:tab algn="l" pos="6413400"/>
                    <a:tab algn="l" pos="7215120"/>
                    <a:tab algn="l" pos="8016840"/>
                    <a:tab algn="l" pos="8818560"/>
                    <a:tab algn="l" pos="9620280"/>
                    <a:tab algn="l" pos="1042200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措施落实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Oval 26"/>
              <p:cNvSpPr/>
              <p:nvPr/>
            </p:nvSpPr>
            <p:spPr>
              <a:xfrm>
                <a:off x="2967120" y="5612760"/>
                <a:ext cx="1333800" cy="441360"/>
              </a:xfrm>
              <a:prstGeom prst="ellipse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6" name="Group 27"/>
            <p:cNvGrpSpPr/>
            <p:nvPr/>
          </p:nvGrpSpPr>
          <p:grpSpPr>
            <a:xfrm>
              <a:off x="4854600" y="4127760"/>
              <a:ext cx="1397880" cy="1886400"/>
              <a:chOff x="4854600" y="4127760"/>
              <a:chExt cx="1397880" cy="1886400"/>
            </a:xfrm>
          </p:grpSpPr>
          <p:grpSp>
            <p:nvGrpSpPr>
              <p:cNvPr id="237" name="Group 28"/>
              <p:cNvGrpSpPr/>
              <p:nvPr/>
            </p:nvGrpSpPr>
            <p:grpSpPr>
              <a:xfrm>
                <a:off x="4854600" y="4127760"/>
                <a:ext cx="1397880" cy="1373400"/>
                <a:chOff x="4854600" y="4127760"/>
                <a:chExt cx="1397880" cy="1373400"/>
              </a:xfrm>
            </p:grpSpPr>
            <p:sp>
              <p:nvSpPr>
                <p:cNvPr id="238" name="Oval 29"/>
                <p:cNvSpPr/>
                <p:nvPr/>
              </p:nvSpPr>
              <p:spPr>
                <a:xfrm>
                  <a:off x="4854600" y="4127760"/>
                  <a:ext cx="1397880" cy="137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60737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Freeform 30"/>
                <p:cNvSpPr/>
                <p:nvPr/>
              </p:nvSpPr>
              <p:spPr>
                <a:xfrm>
                  <a:off x="5014440" y="4150440"/>
                  <a:ext cx="1078200" cy="5184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bbe0e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0" name="Text Box 31"/>
              <p:cNvSpPr/>
              <p:nvPr/>
            </p:nvSpPr>
            <p:spPr>
              <a:xfrm>
                <a:off x="4924440" y="4786920"/>
                <a:ext cx="1258200" cy="29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0280" rIns="80280" tIns="39960" bIns="3996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801720"/>
                    <a:tab algn="l" pos="1603440"/>
                    <a:tab algn="l" pos="2405160"/>
                    <a:tab algn="l" pos="3206880"/>
                    <a:tab algn="l" pos="4008600"/>
                    <a:tab algn="l" pos="4809960"/>
                    <a:tab algn="l" pos="5611680"/>
                    <a:tab algn="l" pos="6413400"/>
                    <a:tab algn="l" pos="7215120"/>
                    <a:tab algn="l" pos="8016840"/>
                    <a:tab algn="l" pos="8818560"/>
                    <a:tab algn="l" pos="9620280"/>
                    <a:tab algn="l" pos="1042200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现场管理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Oval 32"/>
              <p:cNvSpPr/>
              <p:nvPr/>
            </p:nvSpPr>
            <p:spPr>
              <a:xfrm>
                <a:off x="4854600" y="5572800"/>
                <a:ext cx="1333800" cy="441360"/>
              </a:xfrm>
              <a:prstGeom prst="ellipse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Text Box 33"/>
          <p:cNvSpPr/>
          <p:nvPr/>
        </p:nvSpPr>
        <p:spPr>
          <a:xfrm>
            <a:off x="1506600" y="297000"/>
            <a:ext cx="36734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下阶段工作计划及措施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55640" y="981000"/>
            <a:ext cx="5037120" cy="4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ppt模板网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2T15:56:23Z</dcterms:created>
  <dc:creator>pc</dc:creator>
  <dc:description/>
  <dc:language>en-US</dc:language>
  <cp:lastModifiedBy>jccook</cp:lastModifiedBy>
  <dcterms:modified xsi:type="dcterms:W3CDTF">2015-08-03T12:32:14Z</dcterms:modified>
  <cp:revision>609</cp:revision>
  <dc:subject/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