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07D-7DA0-453B-837C-DBB8AC5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10515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82800" y="3740040"/>
            <a:ext cx="10515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DD7-F573-41CB-8E48-AF2D4F2F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280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128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73A-1886-4C3E-A703-1FE94EA1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8160" y="12542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93880" y="12542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82800" y="37400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8160" y="37400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93880" y="3740040"/>
            <a:ext cx="338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BCA-7DFE-4184-8F65-0DA722E6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CEB-978E-4440-989F-6702C7F1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E5E-1632-4E1F-8500-E07E5C6B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969-8466-41F6-9FE7-97449FBA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521-A140-45C2-9376-9EE0A6A9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2800" y="-360"/>
            <a:ext cx="105156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AE0-6696-4666-8307-855C1978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8280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0D5-AD7A-4CB0-8791-7271CA8A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1280" y="37400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8CF-97A7-4A55-9746-8BD34ED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1280" y="1254240"/>
            <a:ext cx="51314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82800" y="3740040"/>
            <a:ext cx="10515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C61-101A-4E31-A067-5F909F9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24976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1051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F881-F6F9-45AE-8B99-15538B59BD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B2F-B4A9-46D5-AA88-407C38F7BB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任意多边形 7"/>
          <p:cNvSpPr/>
          <p:nvPr/>
        </p:nvSpPr>
        <p:spPr>
          <a:xfrm rot="5400000">
            <a:off x="276480" y="194400"/>
            <a:ext cx="612720" cy="6109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8"/>
          <p:cNvSpPr/>
          <p:nvPr/>
        </p:nvSpPr>
        <p:spPr>
          <a:xfrm flipH="1">
            <a:off x="982800" y="770040"/>
            <a:ext cx="937872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1"/>
          <a:srcRect l="0" t="24976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任意多边形 6"/>
          <p:cNvSpPr/>
          <p:nvPr/>
        </p:nvSpPr>
        <p:spPr>
          <a:xfrm>
            <a:off x="10274400" y="2674800"/>
            <a:ext cx="1079280" cy="10810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38080" y="2552760"/>
            <a:ext cx="1051560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838080" y="3692520"/>
            <a:ext cx="9379080" cy="5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1600" y="244908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工作总结</a:t>
            </a: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模板打包下载</a:t>
            </a:r>
            <a:endParaRPr b="0" lang="en-US" sz="40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092-B01C-4634-BC36-8B14679CB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0" y="9360"/>
            <a:ext cx="10515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 Light"/>
              </a:rPr>
              <a:t>此处添加标题</a:t>
            </a:r>
            <a:endParaRPr b="0" lang="en-US" sz="3600" spc="-1" strike="noStrike">
              <a:solidFill>
                <a:srgbClr val="ff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82800" y="1254240"/>
            <a:ext cx="10515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393920" y="24541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4:58:00Z</dcterms:created>
  <dc:creator>邹恩栋</dc:creator>
  <dc:description/>
  <cp:keywords>XS-宽屏 16：9;SC-淡红色;BG-浅色;DH-静态</cp:keywords>
  <dc:language>en-US</dc:language>
  <cp:lastModifiedBy>YANGS</cp:lastModifiedBy>
  <dcterms:modified xsi:type="dcterms:W3CDTF">2015-08-03T12:32:14Z</dcterms:modified>
  <cp:revision>10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